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2F50-6AAA-4426-93A2-A0E55CDD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2006-23E7-46B9-AC90-9C162F84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7C6F-4131-4296-841B-8C9C7D4BB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8314-14B6-4A55-B434-D4E4AE0A8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498B-1C3C-4157-B58C-A16E36147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4938-B019-4002-A6C9-C2AAD9DF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D39A-0B7E-4A86-B0BC-715CB86D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36C2-0885-49AF-926B-153454FF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70CE-2FA6-4A1E-9269-55B462FA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A092-0B9F-407E-8FB8-3501A45C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1CDB-FE28-423E-B688-A7D6216D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C2EF-E0D6-4C55-8B53-156CBC22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B40B-9938-4F10-9F52-1E8A5622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81D1-4608-44D7-975E-F3B79E54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4026-0516-4AA0-BA89-14A5DD1A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1F78-002B-4603-BE1A-AE90CBB3A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9784-90ED-4EE9-9D8F-3756F99F9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B099-B4B5-438B-BF55-9434D5AF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6552-EA2F-41CD-96BE-33D39FDF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E7AB-E4F9-426D-98CF-65441404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69EB-C381-4B3E-8395-A3F46A31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557C-734B-4767-8298-273CD229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B96E-C0B7-470E-A8BE-E36A3CD8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D6D6-DAA9-4D87-8FE2-5B5B6BD3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ECF5-1AC8-46DA-9E9B-E1E0277E281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2CCC-6FFF-465C-8C1C-316DB43A7CD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71200" y="129960"/>
            <a:ext cx="8163000" cy="149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           </a:t>
            </a: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XML 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 Middleware Mechanism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Times New Roman"/>
              </a:rPr>
              <a:t>Content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iddleware - CORB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teroperabilty Requireme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Does Middleware Provid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XML for Component Integr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vantages and Disadvantag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ynerg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9154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XML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ith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 CORB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XML – Struc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RBA – Infrastructu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XML – Metadata Interchan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XML Interfaces – Components accepting/emitting XML docume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.g. Exchange of UML Models Between Design Tool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9154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nclus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XML 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ructured Docum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n-the-fly Docum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ight-weight Applic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ateless Transac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rchiv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RBA : better suited for complex enterprise applicatio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9154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at is Middleware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lue for Compone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ts Between OS and Applic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tributed Object Servi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RBA, COM, DCE, Java/RMI …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XML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154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RBA - Objectiv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S Independ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nguage Independ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mote Metho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tic/Dynamic Invoca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tributed Servi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nteroperability Requiremen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ndardization of –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inary Formats : in-mem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PI’s : Programming Suppor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DL, Type Libraries, File Forma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ata Representation – CDR/ND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ransfer Protoc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9154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at Does CORBA Provide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397836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The PRO’s 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D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ub-skeleton generato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rvices API’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D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IO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57600" y="2057040"/>
            <a:ext cx="3813120" cy="404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And The CON’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lex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ersion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stly for large volum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ehavior mashall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154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ow can XML do it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ndardized Tags for Request/Respon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rsers and DTD’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TTP / SMT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.g. XML-RPC, SOA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Geek’s Pleasure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9154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dvantag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mplest Data Represent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ardware/Language/Vendor Neutr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mple and Human-readab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yping Flexibil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rewall Issu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154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dvantages…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tensib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omain Standar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amespac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ateway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XML Transform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rvices will be available…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154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n Why Not XML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tribution Suppor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source location, control and manag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rvices – Transactions, Events, Security et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rror Handl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n-text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Quality of Service – Reliabil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fficienc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7T12:53:37Z</dcterms:created>
  <dc:creator>Unmesh Kulkarni</dc:creator>
  <dc:description/>
  <dc:language>en-US</dc:language>
  <cp:lastModifiedBy>Unmesh Kulkarni</cp:lastModifiedBy>
  <dcterms:modified xsi:type="dcterms:W3CDTF">2000-09-27T14:56:13Z</dcterms:modified>
  <cp:revision>34</cp:revision>
  <dc:subject/>
  <dc:title>            XML as  Middleware Mechanism</dc:title>
</cp:coreProperties>
</file>