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4CD-A7C7-4AB0-93CD-0DF89EE0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837-3D8D-4D77-8C3F-FD3CB480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8E3-12B5-49C1-878D-7A28DEAC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478-DD28-468B-8673-2BC7512D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BCDD-FFFF-4549-A330-45098BF0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891-6721-4EF2-BE92-43C75623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7979-1C7C-424E-BB4D-79F77690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CCA-8584-4114-9EBF-A07CE734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AA76-F05D-4AC2-8636-38ED5CC5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9CA9-AF08-431B-933D-1C72D65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4FE0-77B7-490E-B6DD-47F5500D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D48-A65E-4E4B-BB6A-E04DF66F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F13-03A3-4554-8D38-078A39F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DB06-4D0C-435E-8CF5-94310E4D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F743-2BFE-46F7-B02F-A935C9C8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C916-12E2-4A29-A170-62F30949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265D-63A7-4F7C-9B18-B7D27BCE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D84-EDA2-4AE0-947A-8E633F4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035-3450-4481-AF29-0DB691A7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AD7-E6F2-4E69-93F6-84389D63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D6F-A64A-4B58-B3C9-9743579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A3D-8BE6-4620-936D-CEBC871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93B-0436-4911-896E-70AFF985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27324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10B-73CE-4FA9-AD55-ED5C729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esoSideBarWithLogo120x660" descr=""/>
          <p:cNvPicPr/>
          <p:nvPr/>
        </p:nvPicPr>
        <p:blipFill>
          <a:blip r:embed="rId2"/>
          <a:stretch/>
        </p:blipFill>
        <p:spPr>
          <a:xfrm>
            <a:off x="0" y="838080"/>
            <a:ext cx="1149480" cy="6019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8217" r="0" b="0"/>
          <a:stretch/>
        </p:blipFill>
        <p:spPr>
          <a:xfrm>
            <a:off x="0" y="0"/>
            <a:ext cx="9144000" cy="84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371600" y="6400800"/>
            <a:ext cx="19051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AD06-E8D6-4F0C-AB06-B611537AE64C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97180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99DA-A0EF-4121-992E-75B9F4B1104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8217" r="0" b="0"/>
          <a:stretch/>
        </p:blipFill>
        <p:spPr>
          <a:xfrm>
            <a:off x="0" y="0"/>
            <a:ext cx="9144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0" b="9449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52280" y="6172200"/>
            <a:ext cx="19051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5AE0-C8D6-4548-9405-7981671D8FCD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047760" y="6172200"/>
            <a:ext cx="289548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86600" y="6172200"/>
            <a:ext cx="19051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CEC-156E-482E-BF36-DF6D76E1559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455840"/>
            <a:ext cx="3886200" cy="3878280"/>
            <a:chOff x="685800" y="1455840"/>
            <a:chExt cx="3886200" cy="3878280"/>
          </a:xfrm>
        </p:grpSpPr>
        <p:pic>
          <p:nvPicPr>
            <p:cNvPr id="50" name="" descr=""/>
            <p:cNvPicPr/>
            <p:nvPr/>
          </p:nvPicPr>
          <p:blipFill>
            <a:blip r:embed="rId4"/>
            <a:stretch/>
          </p:blipFill>
          <p:spPr>
            <a:xfrm>
              <a:off x="685800" y="1455840"/>
              <a:ext cx="3886200" cy="38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90720" y="1752480"/>
              <a:ext cx="3276360" cy="32767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OblixLogoWebSafe200x210" descr=""/>
          <p:cNvPicPr/>
          <p:nvPr/>
        </p:nvPicPr>
        <p:blipFill>
          <a:blip r:embed="rId5"/>
          <a:stretch/>
        </p:blipFill>
        <p:spPr>
          <a:xfrm>
            <a:off x="6108840" y="3952800"/>
            <a:ext cx="1506240" cy="1581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aresh@pspl.co.in" TargetMode="External"/><Relationship Id="rId2" Type="http://schemas.openxmlformats.org/officeDocument/2006/relationships/hyperlink" Target="mailto:paresh@pspl.co.in" TargetMode="External"/><Relationship Id="rId3" Type="http://schemas.openxmlformats.org/officeDocument/2006/relationships/hyperlink" Target="mailto:paresh@pspl.co.in" TargetMode="External"/><Relationship Id="rId4" Type="http://schemas.openxmlformats.org/officeDocument/2006/relationships/hyperlink" Target="mailto:paresh@pspl.co.in" TargetMode="External"/><Relationship Id="rId5" Type="http://schemas.openxmlformats.org/officeDocument/2006/relationships/hyperlink" Target="mailto:harsh@pspl.co.in" TargetMode="External"/><Relationship Id="rId6" Type="http://schemas.openxmlformats.org/officeDocument/2006/relationships/hyperlink" Target="mailto:harsh@pspl.co.in" TargetMode="External"/><Relationship Id="rId7" Type="http://schemas.openxmlformats.org/officeDocument/2006/relationships/hyperlink" Target="mailto:harsh@pspl.co.in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XML in Us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47960" y="1244160"/>
            <a:ext cx="40510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NetPoint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 Narrow"/>
              </a:rPr>
              <a:t>TM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: A Case Study of XML in Us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"/>
          <p:cNvSpPr/>
          <p:nvPr/>
        </p:nvSpPr>
        <p:spPr>
          <a:xfrm>
            <a:off x="4762440" y="3048120"/>
            <a:ext cx="4203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aresh Borkar (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1"/>
              </a:rPr>
              <a:t>paresh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3"/>
              </a:rPr>
              <a:t>pspl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4"/>
              </a:rPr>
              <a:t>.co.i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arshdeep Jawanda (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5"/>
              </a:rPr>
              <a:t>harsh@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6"/>
              </a:rPr>
              <a:t>pspl</a:t>
            </a:r>
            <a:r>
              <a:rPr b="0" lang="en-US" sz="2000" spc="-1" strike="noStrike" u="sng">
                <a:solidFill>
                  <a:srgbClr val="fac01c"/>
                </a:solidFill>
                <a:uFillTx/>
                <a:latin typeface="Arial Narrow"/>
                <a:hlinkClick r:id="rId7"/>
              </a:rPr>
              <a:t>.co.i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70080" y="1104840"/>
            <a:ext cx="7657920" cy="504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Data exchange in XML across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input (using the NIS API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Use HTTP requests with payload of XML (SOAP/ XML-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output from the product is input to hook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API usage example: Adding a new user triggers an external process for assigning email address to user based on company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NetPoint Integration Services (NIS) API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1F-ACD8-49D3-AE47-FAC9A3EDB6F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1C88F-8E7B-41C8-A44D-F427B5FE67E7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70080" y="1104840"/>
            <a:ext cx="7543800" cy="524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NetPoint benefits from the use of XML in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Customizability: e.g.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Extensibility: e.g. Pre &amp; Post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652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Interoperability: e.g. NetPoint Integration Services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0e94"/>
                </a:solidFill>
                <a:latin typeface="Arial Narrow"/>
              </a:rPr>
              <a:t>Thank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XML in Oblix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Happier Customer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87A-8E6E-4743-93DA-7006DFDEC5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07CBB-F5FA-4EE1-A90F-63067C97E222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verview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NetPoint overview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in use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Improving Customizability Using X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eparating Information and its Repres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Different Views for the Same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Regis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as the Medium for Information Exchan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NetPoint Integration Services AP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umming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2E8-DB66-4824-891C-32E5F94D78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8BE17-CEC6-4E69-B889-8B174BA119AB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oduct introduc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31920" y="96480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Oblix is the leading provider of e-user management solutions providing access control, personalization, trusted delegation, and self-service for extranet and intranet applications</a:t>
            </a:r>
            <a:endParaRPr b="1" lang="en-US" sz="3200" spc="-1" strike="noStrike">
              <a:solidFill>
                <a:srgbClr val="040e94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7591320" y="4927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col_depts" descr=""/>
          <p:cNvPicPr/>
          <p:nvPr/>
        </p:nvPicPr>
        <p:blipFill>
          <a:blip r:embed="rId1"/>
          <a:srcRect l="0" t="0" r="0" b="69959"/>
          <a:stretch/>
        </p:blipFill>
        <p:spPr>
          <a:xfrm>
            <a:off x="6972480" y="4114800"/>
            <a:ext cx="1643040" cy="1335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214760" y="40122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DAP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34040" y="4648320"/>
            <a:ext cx="927000" cy="457200"/>
          </a:xfrm>
          <a:prstGeom prst="leftRightArrow">
            <a:avLst>
              <a:gd name="adj1" fmla="val 50000"/>
              <a:gd name="adj2" fmla="val 40363"/>
            </a:avLst>
          </a:prstGeom>
          <a:solidFill>
            <a:srgbClr val="fac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435560" y="4005360"/>
          <a:ext cx="1695240" cy="189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35560" y="4005360"/>
                    <a:ext cx="169524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4470480" y="402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58080" y="40258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0480" y="5892840"/>
            <a:ext cx="158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4920" y="35676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col_admins" descr=""/>
          <p:cNvPicPr/>
          <p:nvPr/>
        </p:nvPicPr>
        <p:blipFill>
          <a:blip r:embed="rId4"/>
          <a:srcRect l="0" t="0" r="0" b="63981"/>
          <a:stretch/>
        </p:blipFill>
        <p:spPr>
          <a:xfrm>
            <a:off x="1625760" y="4229280"/>
            <a:ext cx="1369800" cy="1218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73320" y="4508640"/>
            <a:ext cx="1346400" cy="241200"/>
          </a:xfrm>
          <a:prstGeom prst="rightArrow">
            <a:avLst>
              <a:gd name="adj1" fmla="val 50000"/>
              <a:gd name="adj2" fmla="val 139552"/>
            </a:avLst>
          </a:prstGeom>
          <a:solidFill>
            <a:srgbClr val="fac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60720" y="5054760"/>
            <a:ext cx="1333440" cy="241200"/>
          </a:xfrm>
          <a:prstGeom prst="leftArrow">
            <a:avLst>
              <a:gd name="adj1" fmla="val 50000"/>
              <a:gd name="adj2" fmla="val 138209"/>
            </a:avLst>
          </a:prstGeom>
          <a:solidFill>
            <a:srgbClr val="fac0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55400" y="429156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40520" y="5162760"/>
            <a:ext cx="87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 HTML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63920" y="387252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Web Brow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938-9E81-4987-BB45-5A76742B8F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47BB3-CC42-49A5-8046-2A53A711FB62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mproving Customizability Using XM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/XSL-based output enables fully customizable presentation logic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SL style sheets allow user to completely define how directory data is presented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erver-side XML/XSL processor merges structured data with presentation logic into HTML to browser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Oblix functionality can be tightly and seamlessly integrated into e-business portals and extranets</a:t>
            </a: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0e94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33F-B29B-403A-B25A-3F97108BC4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FCDB1-0E23-49AF-B208-384CD338A9C0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520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parating Information and its Represent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06668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No 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Typical code snipp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Page samplePage  = new Pag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samplePage-&gt;addHTMLObject(new B(“hello, world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samplePage-&gt;emitToBrowser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Representation logic is hardwired in the code, hampers UI customiz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With 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&lt;XML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&lt;GreetingsMessage&gt;hello, world&lt;/Greetings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&lt;/XMLP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0e94"/>
                </a:solidFill>
                <a:latin typeface="Arial Narrow"/>
              </a:rPr>
              <a:t>Use stylesheets to decide the 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1B6-299B-478F-877A-0C2D66E7BCF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2E448E-C608-430C-B774-D3F8B01214D6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fferent Views for the Same Dat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34960" y="1828800"/>
            <a:ext cx="7226280" cy="4610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359000" y="1015920"/>
            <a:ext cx="730224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First (vertical) view of Person data provided by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F70-1C77-4CB2-95D1-2E316F5C96B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6E60D-EC5C-48D8-B4E7-D95385B5682A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fferent Views for the Same Dat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1359000" y="1015920"/>
            <a:ext cx="730224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econd (horizontal) view of Person data provided by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1943280"/>
            <a:ext cx="742932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906-85AB-4DE6-80EB-A2E2D34C662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410C4-DB85-4012-AE85-6026F2342C0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XML Registry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06668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regist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Concept of modules/applications in the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XML provides for hierarchical organiz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ample registry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&lt;RegEntry Event=“GenerateUserPage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&lt;Stylesheet name=“userpage.xsl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&lt;DTD name=“userpage.dtd”/&gt;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&lt;/RegEnt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5D6C-6423-48FC-8B5F-80E5DEE8BE4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DCDF6-A1E7-475D-9AA9-2FBF04D65CE1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XML as the Medium for Information Exchang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106668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Concept of events in Net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Processing hooks for events (PP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Pre-processing h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Post-processing h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ample hook: password validation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Why XM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Minimal coupling between NetPoint and extern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ac01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0e94"/>
                </a:solidFill>
                <a:latin typeface="Arial Narrow"/>
              </a:rPr>
              <a:t>Standard vs. Propri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6E1-A1E5-4FE0-BA0A-3EC651A29F8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7DEF2-F14B-4B77-ACBF-513F069DB21E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00:45:56Z</dcterms:created>
  <dc:creator>Nand Mulchandani</dc:creator>
  <dc:description>Last date October 25, 1999</dc:description>
  <dc:language>en-US</dc:language>
  <cp:lastModifiedBy>PSPL</cp:lastModifiedBy>
  <cp:lastPrinted>1999-10-25T23:21:26Z</cp:lastPrinted>
  <dcterms:modified xsi:type="dcterms:W3CDTF">2000-09-29T06:42:00Z</dcterms:modified>
  <cp:revision>903</cp:revision>
  <dc:subject>Oblix 4.0 Presentation</dc:subject>
  <dc:title>Oblix 4.0 Presentation</dc:title>
</cp:coreProperties>
</file>