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A79-4862-4794-9ACF-82B7A7D6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02C-4DC7-4301-9F59-0F740BE1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F31-4326-4127-A90D-506A573F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5F2-A4B8-4856-8D81-F9C0DFEC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1D90-4BB8-4D5A-A3AF-30644F0C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F703-E106-427B-B15C-682CD9AB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2BB-CB96-4FB8-A5FB-7EBADDD4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5689-642D-4159-93BF-503CE843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4129-263A-4A48-8A26-F18CB544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F7A-423A-41F4-A31D-F01C0979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92BD-7F52-4DF2-B4A3-F5616F9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3AD-DA09-4CCD-B549-8A421C0B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BFBA-12BB-4E28-99F6-748BA5A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0E01-1F06-4B2C-B4F2-4C7EE36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6B8-2AA5-468D-B745-014CCF7E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AC3-D214-44E6-89ED-80CCC64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3BA9-0D2F-45FA-A908-6F6B6BB4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F51-5D69-449A-8614-0DEB6D8D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DBD-5594-47C4-8F23-2D2121C6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3A2-78D2-4FED-87F7-F289F781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3D2-9739-4BDD-8555-51E1A388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690-C696-4582-BBD2-2708158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83D-66B9-4262-AF2E-62D186C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DC-A3A5-4B60-B221-9946325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75A1-17D4-4F6B-8C69-E560A2384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3CE3-264C-49D4-A929-9E9A3A753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XML and Databa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iddhesh Bho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ersistent eBusiness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Generating XML from relational dat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1 : Set up the databas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Create an instance of the JDBC driver so that it h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a chance to register itsel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ss.forName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n.jdbc.odbc.JdbcOdbcDriv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.newInstanc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Create a new database conn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nection con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iverManager.getConnection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jdbc:odbc:myDat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“”, “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// Create a statement object that we can execute queries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ement stmt = con.createStateme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Generating XML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2 : Execute the JDBC qu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ring query = “Select Name, Age from Customers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ultSet rs = stmt.executeQuery(quer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Generating XML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3 : Create the XM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ringBuffer xml = “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?xml version=‘1.0’?&gt;&lt;myDatabase&gt;&lt;customers&gt;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while (rs.next()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“&lt;custRec&gt;&lt;custName&gt;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rs.getString(“Name”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“&lt;/custName&gt;&lt;custAge&gt;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rs.getInt(“Age”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“&lt;/custAge&gt;&lt;/custRec&gt;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xml.append(“&lt;/customers&gt;&lt;/myDatabase&gt;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oring XML in relational tabl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1 : Set up the par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ringReader stringReader = new StringReader(xml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putSource inputSource = new InputSource(stringReader)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MParser domParser = new DOMPars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mParser.parse(inputSourc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ocument document = domParser.getDocume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oring XML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2 : Read values from parsed XML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deList nameList = doc.getElementsByTagName(“custNam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deList ageList = doc.getElementsByTagName(“custAge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oring XML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3 : Set up database conn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lass.forName(sun.jdbc.odbc.JdbcOdbcDriver).newInstanc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onnection con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riverManager.getConnection(jdbc:odbc:myDataBase, “”, “”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atement stmt = con.createStateme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oring XML (cont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tep 4 : Insert data using appropriate JDBC update qu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tring sql = “INSERT INTO Customers (Name, Age) VALUES (?,?)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dStatement pstmt = conn.prepareStatement(sq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nt size = nameList.getLength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stmt. setString(1, nameList.item(i).getFirstChild().getNodeValu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stmt.setInt(2, ageList.item(i).getFirstChild().getNodeValue())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stmt.executeUpdate(sq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on the Web (Servlet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ublic void doGet(HttpServletRequest req, HttpServletResponse res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p.setContentType("text/xml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ntWriter out = new PrintWriter(resp.getOutputStream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…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erate XML here, as before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ut.println(xmlGenerat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ut.flush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ut.clos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priate XSL can be inserted for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 of the tal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in IE 5.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676520"/>
          <a:ext cx="7486560" cy="496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486560" cy="49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et’s insert the XSL…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?xml version=“1.0” ?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Courier New"/>
              </a:rPr>
              <a:t>&lt;?xml-stylesheet type="text/xsl" href="http://myServer/Customer.xsl"?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myDataba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ome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Name type=“String”&gt;Robert Roberts&lt;/custNam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Age type=“Integer”&gt;25&lt;/custAg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other records here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custome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myDataba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with XSL in IE 5.0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89200" y="1981080"/>
          <a:ext cx="556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1981080"/>
                    <a:ext cx="556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support in Orac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acle8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Parsers and XSL Processors (Java, C, C++, and PL/SQ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Class Generators (Java and C++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ML SQL Utility for Jav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SQL Servl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racle8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i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nd </a:t>
            </a:r>
            <a:r>
              <a:rPr b="0" i="1" lang="en-US" sz="3600" spc="-1" strike="noStrike">
                <a:solidFill>
                  <a:srgbClr val="ffcc66"/>
                </a:solidFill>
                <a:latin typeface="Arial"/>
              </a:rPr>
              <a:t>inter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edia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Oracle XML components and applications inside the database using JServer - Oracle8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's built-in J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 Text allows queries such as find "Oracle WITHIN title" where "title" is a section of the XML docu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Parsers in Orac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xmlparsers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66908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Class Generator for Java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xmlclassgen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54200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SQL Utility for Java</a:t>
            </a:r>
            <a:br>
              <a:rPr sz="36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(Generating XML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sql_util_read_db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183280" cy="30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SQL Utility for Java</a:t>
            </a:r>
            <a:br>
              <a:rPr sz="36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(Inserting XML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7" name="sql_util_write_db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577692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SQL Servlet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9" name="xsql_servlet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34200" cy="49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API for databases</a:t>
            </a:r>
            <a:br>
              <a:rPr sz="36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mnivas Laddad, JavaWorld, Feb 2000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end the power of a database with the features of XM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XML tools work with the SAX or DOM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 the same APIs directly over a database, enabling XML tools to treat databases as if they were XML documents. That way, we can obviate the need of converting a databa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XML API with databas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5" name="jw-01-dbxml1_sml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331040" cy="32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to relational data is easy (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ts of tools, support for XML in databases emerging… research, as well as commercial!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ere are still a lot of unresolved issues… we’ll look at them in XML and Challe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databas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can model the database with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ocument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its associa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lement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?xml version=“1.0” ?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yData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ble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ble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able</a:t>
            </a:r>
            <a:r>
              <a:rPr b="0" i="1" lang="en-US" sz="2400" spc="-1" strike="noStrike" baseline="-30000">
                <a:solidFill>
                  <a:srgbClr val="ffffff"/>
                </a:solidFill>
                <a:latin typeface="Times New Roman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myData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der of tables is im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table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table of the database is represented by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lement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records as its childre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recor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om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ain, order of the records is immaterial, since the relational data model defines no ordering on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recor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cord is also represented by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lement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with its fields as childre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Re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eld</a:t>
            </a:r>
            <a:r>
              <a:rPr b="0" i="1" lang="en-US" sz="2800" spc="-1" strike="noStrike" baseline="-30000">
                <a:solidFill>
                  <a:srgbClr val="ffffff"/>
                </a:solidFill>
                <a:latin typeface="Times New Roman"/>
              </a:rPr>
              <a:t>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Re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rbitrary, since the relational data model doesn't define a name for a record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he field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ield is represented as an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lement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ata nod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its only child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ype="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"&gt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ustName&gt;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omitted, it means the value of the fields is the empty str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alue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dicates the type of the valu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?xml version=“1.0” ?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myDataba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ome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Name type=“String”&gt;Robert Roberts&lt;/custNam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Age type=“Integer”&gt;25&lt;/custAg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Name type=“String”&gt;John Doe&lt;/custName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custAge type=“Integer”&gt;32&lt;/custAg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custRec&g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customers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&lt;/myDatabas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ping XML into rel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Generating XML using Java and JDB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ing 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on the 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support in Ora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ML API for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6:34:02Z</dcterms:created>
  <dc:creator>Siddhesh Bhobe</dc:creator>
  <dc:description/>
  <dc:language>en-US</dc:language>
  <cp:lastModifiedBy>Siddhesh Bhobe</cp:lastModifiedBy>
  <dcterms:modified xsi:type="dcterms:W3CDTF">2000-09-28T11:11:37Z</dcterms:modified>
  <cp:revision>45</cp:revision>
  <dc:subject/>
  <dc:title>XML and Databases</dc:title>
</cp:coreProperties>
</file>