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0CA-0EAD-4999-B445-FF061C55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13E-3899-40A0-B156-E8F0BB89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A9F-456A-4ACD-9BD5-862FB60A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98A-594D-4433-8929-AF61003E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3428-D080-4F48-9620-5ADFE218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18D4-49ED-45B9-8855-43741C59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BB3E-DC5B-44F8-B0C7-E2364655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185D-50D6-4262-A4E6-EECFC047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44DE-97C5-4B80-A44A-91AE8F58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1E63-79BD-40BC-9986-A54E3979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45C3-DF34-4FDD-AAAB-C932532B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BBA4-8624-44D6-9049-07B8954F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3BA2-A290-4B76-B2A1-495BB02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53BE-F42D-4C2C-830C-284D57C7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38F3-11FF-4FD7-AB0E-6D5AA118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F0FB-C89B-47ED-9796-5F3DEC93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CAA1-F7CD-4F16-A207-EDA7273E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2C47-F5AB-4CC3-AAD9-F9C889B3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D3F-B160-4E91-B746-8348F5BF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428-FAF4-454C-BA6C-3309C522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5C5-540C-4533-B167-BD8001EF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CBB-9FC7-4C54-9777-569E8BEC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42D-50D3-410D-AC95-A54F255A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326-D491-4B11-930E-5CBFB7B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82B9-7852-4972-B1E0-229B38A016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9E8C-16C4-458F-89F0-12156BDEAC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Tahoma"/>
              </a:rPr>
              <a:t>SOAP</a:t>
            </a: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120" y="3352680"/>
            <a:ext cx="5334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shish V. Tendulka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y Database integration grou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(www.eusersolutions.com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sistent Systems Pvt. Ltd.  Pun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ahoma"/>
              </a:rPr>
              <a:t>(www.pspl.co.in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3790800"/>
          <a:ext cx="1247760" cy="12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90800"/>
                    <a:ext cx="124776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Black"/>
              </a:rPr>
              <a:t>Uses of SOAP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AP greatly simplifies data exchange in B2B application over ex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ables web sit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rate services from other s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ote scripting more prevalent with SO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-browser client could seamlessly access a service across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Example Message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T /string_server/Object17 HTTP/1.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st: 209.110.197.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ent-Type: text/xm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ent-Length: 15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APMethodName: urn:strings-com:IString#rever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Envelope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ody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m:reverse xmlns:m='urn:strings-com:IString'&gt;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heString&gt;Hello, World&lt;/theString&gt;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m:reverse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Body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Envelope&gt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Black"/>
              </a:rPr>
              <a:t>Example Response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00 OK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ent-Type: text/xm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tent-Length: 16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Envelope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Body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m:reverseResponse xmlns:m='urn:strings- com:IString'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result&gt;dlroW ,olleH&lt;/result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m:reverseResponse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Body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/Envelope&gt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Black"/>
              </a:rPr>
              <a:t>Conclusion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AP is platform independent, language neutra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AP does not replace COM and COR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AP works in place of DCOM and II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AP does not pose huge security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pports interoperation between different vendor specific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 Black"/>
              </a:rPr>
              <a:t>Outline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problem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XM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HTT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ML+HTTP = SO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AP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s of SO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Black"/>
              </a:rPr>
              <a:t>The problem..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124080"/>
            <a:ext cx="914400" cy="914400"/>
          </a:xfrm>
          <a:prstGeom prst="rect">
            <a:avLst/>
          </a:prstGeom>
          <a:solidFill>
            <a:srgbClr val="ffcccc"/>
          </a:solidFill>
          <a:ln w="63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260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lient Ap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743200"/>
            <a:ext cx="990720" cy="1676520"/>
          </a:xfrm>
          <a:prstGeom prst="rect">
            <a:avLst/>
          </a:prstGeom>
          <a:solidFill>
            <a:srgbClr val="dddddd"/>
          </a:soli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18456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xy Serve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3505320"/>
            <a:ext cx="4572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743200"/>
            <a:ext cx="990360" cy="1676520"/>
          </a:xfrm>
          <a:prstGeom prst="rect">
            <a:avLst/>
          </a:prstGeom>
          <a:solidFill>
            <a:srgbClr val="dddddd"/>
          </a:solidFill>
          <a:ln w="63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31845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rve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2590920"/>
            <a:ext cx="1143000" cy="2209680"/>
          </a:xfrm>
          <a:prstGeom prst="rect">
            <a:avLst/>
          </a:prstGeom>
          <a:solidFill>
            <a:srgbClr val="ffcccc"/>
          </a:solidFill>
          <a:ln w="63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40384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ppl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3200400"/>
            <a:ext cx="76176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12408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276360" y="3809880"/>
            <a:ext cx="297180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38880" y="3429000"/>
            <a:ext cx="3812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2666880"/>
            <a:ext cx="152640" cy="1600200"/>
          </a:xfrm>
          <a:custGeom>
            <a:avLst/>
            <a:gdLst>
              <a:gd name="textAreaLeft" fmla="*/ 0 w 152640"/>
              <a:gd name="textAreaRight" fmla="*/ 153000 w 15264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666880"/>
            <a:ext cx="152280" cy="1600200"/>
          </a:xfrm>
          <a:custGeom>
            <a:avLst/>
            <a:gdLst>
              <a:gd name="textAreaLeft" fmla="*/ 0 w 152280"/>
              <a:gd name="textAreaRight" fmla="*/ 152640 w 15228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86400" y="4266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962520" y="426672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724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rew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Black"/>
              </a:rPr>
              <a:t>Implications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886040"/>
            <a:ext cx="83311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ustry not shifted completely to either 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dor specifi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ck of interoper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quire high-tech runtim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Black"/>
              </a:rPr>
              <a:t>Why XML?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mple text markup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tform, language and vendor agnosti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sily exten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pable of solving interoperability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Black"/>
              </a:rPr>
              <a:t>Why HTTP?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biquit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ported by every web browser and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ive technology for transferring text, graphics and other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Black"/>
              </a:rPr>
              <a:t>XML + HTTP = SOAP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TTP is used for 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ML as en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dpoint HTTP based URL for the targ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 mapping: implementation specif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Black"/>
              </a:rPr>
              <a:t>SOAP call anatomy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pic>
        <p:nvPicPr>
          <p:cNvPr id="120" name="kbfig2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43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 Black"/>
              </a:rPr>
              <a:t>SOAP Component</a:t>
            </a:r>
            <a:endParaRPr b="0" lang="en-US" sz="4000" spc="-1" strike="noStrike">
              <a:solidFill>
                <a:srgbClr val="8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82880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838080"/>
            <a:ext cx="2133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828800"/>
            <a:ext cx="3048120" cy="4876920"/>
            <a:chOff x="914400" y="1828800"/>
            <a:chExt cx="3048120" cy="4876920"/>
          </a:xfrm>
        </p:grpSpPr>
        <p:sp>
          <p:nvSpPr>
            <p:cNvPr id="125" name=""/>
            <p:cNvSpPr/>
            <p:nvPr/>
          </p:nvSpPr>
          <p:spPr>
            <a:xfrm>
              <a:off x="914400" y="1828800"/>
              <a:ext cx="2743200" cy="48769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4400" y="2286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14400" y="289548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14400" y="350532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43000" y="4114800"/>
              <a:ext cx="2209680" cy="7621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5029200"/>
              <a:ext cx="2209680" cy="129528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5486400"/>
              <a:ext cx="1600200" cy="68580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19051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HTTP Head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243828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OAP method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3000" y="3581280"/>
              <a:ext cx="259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OAP 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19320" y="426708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OAP Hea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502920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OAP Bo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371600" y="5638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ll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657240" y="19810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657240" y="25146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352680" y="44197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048120" y="5791320"/>
            <a:ext cx="1676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1752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Endpoin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2286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/Interface 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4191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nsion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562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02:39:46Z</dcterms:created>
  <dc:creator>Ashish Vijay Tendulkar</dc:creator>
  <dc:description/>
  <dc:language>en-US</dc:language>
  <cp:lastModifiedBy>Ashish Vijay Tendulkar</cp:lastModifiedBy>
  <dcterms:modified xsi:type="dcterms:W3CDTF">2000-09-28T13:09:08Z</dcterms:modified>
  <cp:revision>49</cp:revision>
  <dc:subject/>
  <dc:title>Acknowledgements</dc:title>
</cp:coreProperties>
</file>