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6012-4E31-46A7-9699-EC7D273C6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sources in mozilla jargon represent a collection of RDF statements. Can be an XML document. Provides the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UL is an XML definition of the UI. Templates define how to show data from the datasou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two,  mozilla renders a UI with data from the datasource and look and feel defined by XUL. When the data changes, a similar view will be generated with the new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as model-view-controller paradigm. Controller not shown here and not discus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aggre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zilla is not the browser - it is a framework for building cross platform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XML gives a very big advant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Any application server, or data source that supports XML can be made to serve RDF (and even XUL). So the data is immediately grokked by mozi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Schema still needs to be standardize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 XML document not compliant to RDF cannot be processed by mozi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UI components can be picked up by mozilla from remote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dden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templates only static UI is possible. One XUL doc giving the same UI every time. Templates bring in dynamism. Will see in greater detail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ozi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be talked about in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ozi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be talked about in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ozi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be talked about in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XML document is rendered by mozilla as a graphical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XML elements (or nodes the XML tree) correspond to widgets in the UI. Attributes correspond to properties of widg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UL defines various elements for all the common UI widgets. Creating a plain UI is as simple as writing an XML doc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XML document is rendered by mozilla as a graphical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XML elements (or nodes the XML tree) correspond to widgets in the UI. Attributes correspond to properties of widg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UL defines various elements for all the common UI widgets. Creating a plain UI is as simple as writing an XML doc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RDF is a </a:t>
            </a:r>
            <a:r>
              <a:rPr b="0" i="1" lang="en-US" sz="1200" spc="-1" strike="noStrike">
                <a:solidFill>
                  <a:srgbClr val="cc0000"/>
                </a:solidFill>
                <a:latin typeface="Times New Roman"/>
              </a:rPr>
              <a:t>data model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suited for a particular kind of information. It is different from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F is a mechanism of describing resources typically used to specify metadata. For e.g., metadata about a web-page could be author, date, related pag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urces can be anything identified by a URI (e.g. web-sites, documents, parts of documents and even persons, objects etc).  Property is a specific attribute of a resource. Statements are the essence of RDF. A statement is a triple consisting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subject (a resour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predicate (a proper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n object (a literal or another resour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There is an XML serialization syntax for RD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cover RDF in detail but just see how it fits into the mozilla archite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F data model is used internally by mozilla. All data within mozilla is represented as an RDF graph. Note it may or may not come from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RDF data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s and ovals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ls :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es: lit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s: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tatements made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colour of Tintin’s hair is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intin has a pet Sn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intin has friends Haddock, Thomson, and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statement shows ‘objects’ in a statement can be resource. They again may have their own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F container in third stat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These statements can be serialized in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RDF data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s and ovals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ls :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es: lit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s: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tatements made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colour of Tintin’s hair is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intin has a pet Sn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intin has friends Haddock, Thomson, and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statement shows ‘objects’ in a statement can be resource. They again may have their own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F container in third stat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These statements can be serialized in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E103-4973-498C-97D6-B9B9B628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E155-B0AF-466F-BA4B-A7644909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F59-3531-43A6-B5F6-E7A8C7D9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2B38-9524-4322-80CE-1CF52EF9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55FA-397D-44D8-BA7C-526C40C1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7FA4-B825-4E33-8A43-AE9505C9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2590-E537-4090-9385-D49FBCF4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E0B9-1967-4E20-AB43-8F8F233D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BB41-3195-4A4B-9B1B-1679A507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66BC-311D-411B-BDC7-3A4BDC71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85E6-BA8B-4B7B-BB80-D8A997E9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B92-C60B-4E32-818C-AFDDCAC8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0DC3-D82F-4B8E-A6BA-6995E845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0375-6FE6-469E-8DD8-69E2232E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3CD1-CD5B-4A27-A3FD-07EB6BF7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F5BB-1E90-4CC8-B74C-84872AC9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F7EC-188A-411B-9798-3A7C8C90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F430-F053-413C-AD94-4BE4BA62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7DA-714B-4232-AE44-0C9B0229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A86-D46B-4DE8-9CD2-CBCFB26F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067-E707-4900-976E-00D8D31F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459-33EC-4753-B542-3E10D80F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F7D-547C-4DD8-988E-4CC22503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DDFB-A754-427C-8C2A-9321A6D2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43FB-CCCE-46F9-B701-21A77F0DD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A67F-0C9D-4BAB-A924-66D2B7A09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-720" y="0"/>
            <a:ext cx="1064520" cy="6858000"/>
            <a:chOff x="-720" y="0"/>
            <a:chExt cx="1064520" cy="6858000"/>
          </a:xfrm>
        </p:grpSpPr>
        <p:grpSp>
          <p:nvGrpSpPr>
            <p:cNvPr id="69" name=""/>
            <p:cNvGrpSpPr/>
            <p:nvPr/>
          </p:nvGrpSpPr>
          <p:grpSpPr>
            <a:xfrm>
              <a:off x="41400" y="0"/>
              <a:ext cx="1012680" cy="6857640"/>
              <a:chOff x="41400" y="0"/>
              <a:chExt cx="1012680" cy="6857640"/>
            </a:xfrm>
          </p:grpSpPr>
          <p:sp>
            <p:nvSpPr>
              <p:cNvPr id="70" name=""/>
              <p:cNvSpPr/>
              <p:nvPr/>
            </p:nvSpPr>
            <p:spPr>
              <a:xfrm flipH="1">
                <a:off x="50760" y="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50760" y="169740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50760" y="129168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0760" y="15372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50760" y="989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50760" y="68472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50400" y="37692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42840" y="394416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42840" y="3538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42840" y="239976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42840" y="323496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42840" y="293112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42480" y="262260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50760" y="497520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50760" y="456912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42840" y="567720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6200000">
                <a:off x="364320" y="618840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42840" y="620928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42120" y="589968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H="1" rot="16200000">
              <a:off x="-3102840" y="310176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6200000">
              <a:off x="-2514240" y="327780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978560" y="685800"/>
            <a:ext cx="62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ML in the Mozilla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74400" y="4495680"/>
            <a:ext cx="344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labh Chaturv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Systems Pvt L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labh@pspl.co.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352320" y="609480"/>
            <a:ext cx="31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1981080"/>
            <a:ext cx="2667240" cy="9144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llection of rdf stat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10080" y="1981080"/>
            <a:ext cx="2667240" cy="9144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ith templa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3657600"/>
            <a:ext cx="2057400" cy="68580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z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5181480"/>
            <a:ext cx="365760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2971800"/>
            <a:ext cx="1752480" cy="533520"/>
          </a:xfrm>
          <a:prstGeom prst="line">
            <a:avLst/>
          </a:prstGeom>
          <a:ln w="442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105520" y="2971800"/>
            <a:ext cx="1752480" cy="533520"/>
          </a:xfrm>
          <a:prstGeom prst="line">
            <a:avLst/>
          </a:prstGeom>
          <a:ln w="4428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4572000"/>
            <a:ext cx="5331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968-D72C-47DA-86C6-5D7467A0B2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733920" y="609480"/>
            <a:ext cx="31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UL Tem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2666880"/>
            <a:ext cx="35053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ru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ondition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c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99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99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Courier New"/>
              </a:rPr>
              <a:t>C </a:t>
            </a:r>
            <a:r>
              <a:rPr b="1" i="1" lang="en-US" sz="1600" spc="-1" strike="noStrike">
                <a:solidFill>
                  <a:srgbClr val="0099cc"/>
                </a:solidFill>
                <a:latin typeface="Courier New"/>
              </a:rPr>
              <a:t>uri=“?x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2666880"/>
            <a:ext cx="323208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99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99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99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Courier New"/>
              </a:rPr>
              <a:t>C </a:t>
            </a:r>
            <a:r>
              <a:rPr b="1" i="1" lang="en-US" sz="1800" spc="-1" strike="noStrike">
                <a:solidFill>
                  <a:srgbClr val="0099cc"/>
                </a:solidFill>
                <a:latin typeface="Courier New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99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Courier New"/>
              </a:rPr>
              <a:t>C </a:t>
            </a:r>
            <a:r>
              <a:rPr b="1" i="1" lang="en-US" sz="1800" spc="-1" strike="noStrike">
                <a:solidFill>
                  <a:srgbClr val="0099cc"/>
                </a:solidFill>
                <a:latin typeface="Courier New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99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Courier New"/>
              </a:rPr>
              <a:t>C </a:t>
            </a:r>
            <a:r>
              <a:rPr b="1" i="1" lang="en-US" sz="1800" spc="-1" strike="noStrike">
                <a:solidFill>
                  <a:srgbClr val="0099cc"/>
                </a:solidFill>
                <a:latin typeface="Courier New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99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12560" y="205596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3680" y="205740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2240" y="5886360"/>
            <a:ext cx="44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XUL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0A9-5157-4A86-98BF-2A2D491285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819520" y="609480"/>
            <a:ext cx="46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UL Template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1295280"/>
            <a:ext cx="7086600" cy="490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99cc"/>
                </a:solidFill>
                <a:latin typeface="Courier New"/>
              </a:rPr>
              <a:t>&lt;menu datasources="tintin.rdf" ref="urn:tinti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339966"/>
                </a:solidFill>
                <a:latin typeface="Courier New"/>
              </a:rPr>
              <a:t>&lt;ru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ndition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ntent uri="?uri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riple subject="?uri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edicate="http://my.homepage.com/tintin#hasFriends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bject="?friends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mber container="?friends" child=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</a:rPr>
              <a:t>?fri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triple subject=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</a:rPr>
              <a:t>?frien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edicate="http://my.homepage.com/tintin#nam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bject=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</a:rPr>
              <a:t>?nam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condition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a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99cc"/>
                </a:solidFill>
                <a:latin typeface="Courier New"/>
              </a:rPr>
              <a:t>&lt;menupopu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c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99cc"/>
                </a:solidFill>
                <a:latin typeface="Courier New"/>
              </a:rPr>
              <a:t>&lt;menuitem uri</a:t>
            </a:r>
            <a:r>
              <a:rPr b="0" lang="en-US" sz="1200" spc="-1" strike="noStrike">
                <a:solidFill>
                  <a:srgbClr val="0099cc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</a:rPr>
              <a:t>?friend</a:t>
            </a:r>
            <a:r>
              <a:rPr b="0" lang="en-US" sz="1200" spc="-1" strike="noStrike">
                <a:solidFill>
                  <a:srgbClr val="0099cc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0099cc"/>
                </a:solidFill>
                <a:latin typeface="Courier New"/>
              </a:rPr>
              <a:t>value</a:t>
            </a:r>
            <a:r>
              <a:rPr b="0" lang="en-US" sz="1200" spc="-1" strike="noStrike">
                <a:solidFill>
                  <a:srgbClr val="0099cc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</a:rPr>
              <a:t>?name</a:t>
            </a:r>
            <a:r>
              <a:rPr b="0" lang="en-US" sz="1200" spc="-1" strike="noStrike">
                <a:solidFill>
                  <a:srgbClr val="0099cc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0099cc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cc"/>
                </a:solidFill>
                <a:latin typeface="Courier New"/>
              </a:rPr>
              <a:t>          </a:t>
            </a:r>
            <a:r>
              <a:rPr b="1" lang="en-US" sz="1200" spc="-1" strike="noStrike">
                <a:solidFill>
                  <a:srgbClr val="0099cc"/>
                </a:solidFill>
                <a:latin typeface="Courier New"/>
              </a:rPr>
              <a:t>&lt;/menupopu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a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339966"/>
                </a:solidFill>
                <a:latin typeface="Courier New"/>
              </a:rPr>
              <a:t>&lt;/ru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nu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05120" y="129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1AF-7B12-4335-A782-E170A6DE99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581640" y="609480"/>
            <a:ext cx="25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1676520"/>
            <a:ext cx="601992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platform distribut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The big XML advantage - </a:t>
            </a:r>
            <a:r>
              <a:rPr b="0" i="1" lang="en-US" sz="2000" spc="-1" strike="noStrike">
                <a:solidFill>
                  <a:srgbClr val="0099cc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existing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zilla web browser, mail client, 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Term (termi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zInvaders (space invaders g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peStudio (management conso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ny mor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688-3311-4324-AB9F-5FAB729473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734280" y="60948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79160" y="1523880"/>
            <a:ext cx="5663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zilla an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ozilla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moz.org/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search for ‘XUL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ozdev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ozilla.org/doc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ozilla.org/xpfe/xulre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mozilla.org/rdf/doc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entwickler.com/mozine/doc/rdf-slid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D109-63F0-428A-A5A5-C41397FFBB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505320" y="60948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F-XML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28800" y="1828800"/>
            <a:ext cx="6781680" cy="438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rdf:RD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mlns:rdf="http://www.w3.org/1999/02/22-rdf-syntax-ns#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mlns:my="http://my.homepage.com/tintin#”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rdf:Description about="urn:tinti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y:hasFriend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rdf:Seq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rdf:li&gt;&lt;rdf:Description my:name=”Capt Haddock" /&gt;&lt;/rdf:li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rdf:li&gt;&lt;rdf:Description my:name=”Thomson" /&gt;&lt;/rdf:li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rdf:li&gt;&lt;rdf:Description my:name=”Prof Calculus" /&gt;&lt;/rdf:li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rdf:Seq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nc:hasFriend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rdf:Descrip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rdf:RD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331-5AA1-4339-A25B-DF91EA94566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428280" y="609480"/>
            <a:ext cx="32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about X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743200" y="2438280"/>
            <a:ext cx="464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fast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ptable using 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lat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ynamic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BL for exten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1729-9EBA-4785-BA4F-1F381FD4C7A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62520" y="609480"/>
            <a:ext cx="15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2362320"/>
            <a:ext cx="541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Mozill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UL (XML Based User Interface Langu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F (Resource Description Form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UL Templates - Mixing XUL and RD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7DC-1D9F-4435-AFD1-77251D4569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733920" y="45720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zilla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057400"/>
            <a:ext cx="533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133720"/>
            <a:ext cx="228600" cy="10666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3276720"/>
            <a:ext cx="228600" cy="10666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4419720"/>
            <a:ext cx="228600" cy="10666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3200400"/>
            <a:ext cx="533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4343400"/>
            <a:ext cx="533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905120" y="2286000"/>
            <a:ext cx="3153960" cy="337320"/>
            <a:chOff x="1905120" y="2286000"/>
            <a:chExt cx="3153960" cy="337320"/>
          </a:xfrm>
        </p:grpSpPr>
        <p:sp>
          <p:nvSpPr>
            <p:cNvPr id="147" name=""/>
            <p:cNvSpPr/>
            <p:nvPr/>
          </p:nvSpPr>
          <p:spPr>
            <a:xfrm flipH="1">
              <a:off x="1905120" y="2514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4640" y="2286000"/>
              <a:ext cx="231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scape opens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905120" y="2819520"/>
            <a:ext cx="2363400" cy="337320"/>
            <a:chOff x="1905120" y="2819520"/>
            <a:chExt cx="2363400" cy="337320"/>
          </a:xfrm>
        </p:grpSpPr>
        <p:sp>
          <p:nvSpPr>
            <p:cNvPr id="150" name=""/>
            <p:cNvSpPr/>
            <p:nvPr/>
          </p:nvSpPr>
          <p:spPr>
            <a:xfrm flipH="1">
              <a:off x="1905120" y="30481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5000" y="2819520"/>
              <a:ext cx="152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jor re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905120" y="1828800"/>
            <a:ext cx="6705360" cy="3505320"/>
            <a:chOff x="1905120" y="1828800"/>
            <a:chExt cx="6705360" cy="3505320"/>
          </a:xfrm>
        </p:grpSpPr>
        <p:sp>
          <p:nvSpPr>
            <p:cNvPr id="153" name=""/>
            <p:cNvSpPr/>
            <p:nvPr/>
          </p:nvSpPr>
          <p:spPr>
            <a:xfrm>
              <a:off x="5638680" y="213372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5120" y="518148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943600" y="1828800"/>
              <a:ext cx="2666880" cy="3505320"/>
              <a:chOff x="5943600" y="1828800"/>
              <a:chExt cx="2666880" cy="3505320"/>
            </a:xfrm>
          </p:grpSpPr>
          <p:sp>
            <p:nvSpPr>
              <p:cNvPr id="156" name=""/>
              <p:cNvSpPr/>
              <p:nvPr/>
            </p:nvSpPr>
            <p:spPr>
              <a:xfrm>
                <a:off x="5943600" y="2286000"/>
                <a:ext cx="2666880" cy="1752480"/>
              </a:xfrm>
              <a:prstGeom prst="rect">
                <a:avLst/>
              </a:prstGeom>
              <a:solidFill>
                <a:srgbClr val="f8fbdd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935760" y="1828800"/>
                <a:ext cx="74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Toda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943600" y="4114800"/>
                <a:ext cx="2666880" cy="1219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Mozill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ff"/>
                    </a:solidFill>
                    <a:latin typeface="Arial"/>
                  </a:rPr>
                  <a:t>framework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for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uilding applicatio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324480" y="3048120"/>
                <a:ext cx="381240" cy="9144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58000" y="3048120"/>
                <a:ext cx="380880" cy="9144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391520" y="3048120"/>
                <a:ext cx="380880" cy="9144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924680" y="3048120"/>
                <a:ext cx="381240" cy="9144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019920" y="2362320"/>
                <a:ext cx="2514600" cy="8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browser, mail client..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A23-3076-4E03-BD5B-B4AA1F8C10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428640" y="457200"/>
            <a:ext cx="300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zilla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1240" y="1371600"/>
            <a:ext cx="25444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 end or Chr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n using GUI toolk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tform 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moz-browser-snap" descr=""/>
          <p:cNvPicPr/>
          <p:nvPr/>
        </p:nvPicPr>
        <p:blipFill>
          <a:blip r:embed="rId1"/>
          <a:stretch/>
        </p:blipFill>
        <p:spPr>
          <a:xfrm>
            <a:off x="1981080" y="1496880"/>
            <a:ext cx="2667240" cy="1919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H="1">
            <a:off x="3886200" y="2716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886200" y="1649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6280" y="2438280"/>
            <a:ext cx="2565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n by a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layout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7120" y="34290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eb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8080" y="411480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ter truth: maintaining front ends on multiple platforms is pain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88080" y="4800600"/>
            <a:ext cx="637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could be writt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ly o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GUIs could be as simple as web pa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yout engine also rendered the chrom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255-71A8-4046-ABAB-70EE02364B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71600" y="2057400"/>
            <a:ext cx="2514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ation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ser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53352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XU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3581280"/>
            <a:ext cx="2057400" cy="68580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c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moz-mail-client-snap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514600" cy="1676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666880" y="3276720"/>
            <a:ext cx="990720" cy="60948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0" y="0"/>
                </a:moveTo>
                <a:cubicBezTo>
                  <a:pt x="8" y="152"/>
                  <a:pt x="16" y="304"/>
                  <a:pt x="96" y="384"/>
                </a:cubicBezTo>
                <a:cubicBezTo>
                  <a:pt x="176" y="464"/>
                  <a:pt x="328" y="472"/>
                  <a:pt x="480" y="480"/>
                </a:cubicBezTo>
              </a:path>
            </a:pathLst>
          </a:custGeom>
          <a:noFill/>
          <a:ln w="85680">
            <a:solidFill>
              <a:srgbClr val="0099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rot="16200000">
            <a:off x="6553080" y="3657600"/>
            <a:ext cx="533520" cy="9907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0" y="0"/>
                </a:moveTo>
                <a:cubicBezTo>
                  <a:pt x="8" y="152"/>
                  <a:pt x="16" y="304"/>
                  <a:pt x="96" y="384"/>
                </a:cubicBezTo>
                <a:cubicBezTo>
                  <a:pt x="176" y="464"/>
                  <a:pt x="328" y="472"/>
                  <a:pt x="480" y="480"/>
                </a:cubicBezTo>
              </a:path>
            </a:pathLst>
          </a:custGeom>
          <a:noFill/>
          <a:ln w="85680">
            <a:solidFill>
              <a:srgbClr val="0099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5486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aphical 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425600" y="1981080"/>
            <a:ext cx="7413480" cy="1219320"/>
            <a:chOff x="1425600" y="1981080"/>
            <a:chExt cx="7413480" cy="1219320"/>
          </a:xfrm>
        </p:grpSpPr>
        <p:sp>
          <p:nvSpPr>
            <p:cNvPr id="181" name=""/>
            <p:cNvSpPr/>
            <p:nvPr/>
          </p:nvSpPr>
          <p:spPr>
            <a:xfrm>
              <a:off x="1425600" y="2085840"/>
              <a:ext cx="2460600" cy="111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?xml version=“1.0” ?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window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menubar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&lt;menu item=“File”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Courier New"/>
                </a:rPr>
                <a:t>&lt;!-- an XML document --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48320" y="1981080"/>
              <a:ext cx="419076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 XML Document defining the 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X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ML Based 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U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ser Interface 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L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ngu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96216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952880" y="5715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43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yout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CC9-F910-4F0E-BA6B-A2262D341D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582000" y="53352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U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16002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lt;menubar&gt;, &lt;menu&gt;, &lt;menupopup&gt;, &lt;menuite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menu-widgets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1752840" cy="1562400"/>
          </a:xfrm>
          <a:prstGeom prst="rect">
            <a:avLst/>
          </a:prstGeom>
          <a:ln w="0">
            <a:noFill/>
          </a:ln>
        </p:spPr>
      </p:pic>
      <p:pic>
        <p:nvPicPr>
          <p:cNvPr id="189" name="tab-widgets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1447920" cy="1414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600200" y="32004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lt;tabcontrol&gt;, &lt;tab&gt;, &lt;tabpanel&gt;, &lt;tabbox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5029200"/>
            <a:ext cx="6400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 exist for all common UI wid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and feel can be changed using C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et a W3C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9040" y="4343400"/>
            <a:ext cx="170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ny mor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13C-41D9-4983-89AC-3EEADBBC59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420440" y="6094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1430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ource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cription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1240" y="2362320"/>
            <a:ext cx="5536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a data model for describ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ed to particular kind of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erialization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0C2-62CD-49F0-8456-7D7AB77A41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580560" y="533520"/>
            <a:ext cx="32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DF Data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2590920"/>
            <a:ext cx="1828800" cy="609480"/>
          </a:xfrm>
          <a:prstGeom prst="ellipse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n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3480" y="144792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statements about a resource ‘Tinti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4114800"/>
            <a:ext cx="1067040" cy="380880"/>
          </a:xfrm>
          <a:prstGeom prst="ellipse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3276720"/>
            <a:ext cx="1828800" cy="609480"/>
          </a:xfrm>
          <a:prstGeom prst="ellipse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5257800"/>
            <a:ext cx="1523880" cy="609480"/>
          </a:xfrm>
          <a:prstGeom prst="ellipse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 Hadd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5638680"/>
            <a:ext cx="1371600" cy="609840"/>
          </a:xfrm>
          <a:prstGeom prst="ellipse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om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5257800"/>
            <a:ext cx="1371600" cy="609480"/>
          </a:xfrm>
          <a:prstGeom prst="ellipse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 Calc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27672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4419720"/>
            <a:ext cx="83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733560" y="441972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32004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0" y="297180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cc"/>
                </a:solidFill>
                <a:latin typeface="Arial"/>
              </a:rPr>
              <a:t>hasP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46480" y="396252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cc"/>
                </a:solidFill>
                <a:latin typeface="Arial"/>
              </a:rPr>
              <a:t>rdf: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6600" y="34290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cc"/>
                </a:solidFill>
                <a:latin typeface="Arial"/>
              </a:rPr>
              <a:t>hasFri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4038480"/>
            <a:ext cx="1066680" cy="533520"/>
          </a:xfrm>
          <a:prstGeom prst="ellipse">
            <a:avLst/>
          </a:prstGeom>
          <a:noFill/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f:s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96080" y="2971800"/>
            <a:ext cx="1200240" cy="398880"/>
          </a:xfrm>
          <a:prstGeom prst="rect">
            <a:avLst/>
          </a:prstGeom>
          <a:noFill/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289548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4720" y="2666880"/>
            <a:ext cx="13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99cc"/>
                </a:solidFill>
                <a:latin typeface="Arial"/>
              </a:rPr>
              <a:t>colourOfH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970-E2F4-4253-880E-D80F2271BD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12440" y="609480"/>
            <a:ext cx="50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bining XUL and R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34200" y="2133720"/>
            <a:ext cx="618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sour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llection of RDF stat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mozilla all data is represented as RDF data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002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DF in Moz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30600" y="32767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9160" y="46483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UL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31320" y="3733920"/>
            <a:ext cx="29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the 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9080" y="510552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 data from RDF datasources into XUL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XUL elements dynam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2E0-130E-42D0-80A7-12E6471553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6T11:48:13Z</dcterms:created>
  <dc:creator>Shalabh Chaturvedi</dc:creator>
  <dc:description/>
  <dc:language>en-US</dc:language>
  <cp:lastModifiedBy>Shalabh Chaturvedi</cp:lastModifiedBy>
  <dcterms:modified xsi:type="dcterms:W3CDTF">2000-09-29T05:09:07Z</dcterms:modified>
  <cp:revision>175</cp:revision>
  <dc:subject/>
  <dc:title>No Slide Title</dc:title>
</cp:coreProperties>
</file>