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882-FB46-4FFB-B32E-C7C9E11A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89A-47C5-4209-B9EF-3876B0C2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BC1-2F85-417B-8AC4-7EF66402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D04E-C68E-4DB8-8FD2-F29913A0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88A-827A-4902-B2E8-EE72084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9F4-86AC-41FD-A0AF-D648721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C1F-3926-4614-A9F1-572AC205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11BD-6C28-4635-92E2-728EFC5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899A-1492-495F-AE0B-DEFE906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E18-E9D2-44ED-A734-405E45E7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3A6-EC0F-4B1E-BAA0-2CB66957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D22-73D8-42FC-B7A9-C0B0A6F3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8DA4-04A5-4B83-BED9-6FBF599C9411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the LIMS-CD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export/import modules multiple mapping issues ari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terms from one system to the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considerable domain and system expert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lationships between terms in different systems may 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 that are 1:N in one system may turn out to be M:N in other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port/import modules necessarily need configuration information in additional to the XML interfa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is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data for the XML (e.g. DTD ver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for minimal data entry by the user. The data is already present in one system. We need to tell the export module where to pick it up f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ovide seed information for the export and import. Seed information includes information to initialize running nu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some data that controls the behavior of the export/import modules. E.g. Information to control if the file needs to contain checksum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for mapping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ide for file transfer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signature Issues (21 CFR Part 1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s need to be protected against tampering. Additional checksum information is required with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name and timestamps need to be in the fi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possible to provide ‘signed’ files in case of background export/import proces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not possible to stamp approvals from one system to another unless usernames and statuses (e.g. reviewed, peer reviewed, approved) are synchron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izing the 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a very long time for the DTD to be final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prove that the DTD/XML are necessary and sufficie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unintended variants may be derived from the D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nary Data Trans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abs need to transfer binary data like chromatograms. As of today, there is no support for Binary Data Transfer. (There is a pending proposal for XML-MIME, XMTP, base6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data can be transferred, but there is no support for raster/bitmap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there is no support for markup within mark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QA/QC Lab Environ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ypical QA/QC Pharmaceutical Lab consists of a LIMS, CDS, Instruments, Storage Chambers, and Samples (in various batches and lot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QA/QC lab, samples are taken from assembly lines and checked for constituents and pu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S: A LIMS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boratory Information Management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re all sample data is stored, managed and queri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S: A CDS i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romatography Data Syst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interfaces with chromatography instruments like GC/LC and is used for analyzing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LIMS is central repository of data in the Lab, it needs to get input about the chromatography results from the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S needs to send sample data to the CDS and receive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the interface using a D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S Export/CDS Im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MS Export module runs in two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 Mode: V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-line mode: CP mac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rity Import module is written in VB/VC and uses ADO/MSXM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S Export/LIMS Im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DS Export module is written in VB/VC and uses ADO/MS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MS Import module is written in C++ and uses the (Apache-IBM) Xerces par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Che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signatur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izing the DT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Data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and Data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ay to specify data type in DTD/XML other than PCDATA and C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ting XML data can take one of the 2 approa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data type information in the DT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the XML more strin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mbiguity in data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type checking logic in the import/export modu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is no more self-co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ime &amp; effort spent by the develo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LL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LL values in the database need to be handled careful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ty elements or attributes are NOT NULL. They are blank/empty str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ng elements or attributes indicate NULL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express data constraints in a D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constrai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specify allowable values for an attribute, but not for an e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ossible to define domain sets for both attributes and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12:33:20Z</dcterms:created>
  <dc:creator>Shirish</dc:creator>
  <dc:description/>
  <dc:language>en-US</dc:language>
  <cp:lastModifiedBy>Anand Deshpande</cp:lastModifiedBy>
  <dcterms:modified xsi:type="dcterms:W3CDTF">2000-09-28T12:37:43Z</dcterms:modified>
  <cp:revision>59</cp:revision>
  <dc:subject/>
  <dc:title>XML and the LIMS-CDS Interface</dc:title>
</cp:coreProperties>
</file>