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8600" y="40384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0000" y="13716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28600" y="40384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0000" y="40384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65840" y="13716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02720" y="13716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28600" y="40384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65840" y="40384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02720" y="40384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3716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3716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0384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0000" y="13716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0000" y="40384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0000" y="13716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40384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8600" y="40384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0000" y="13716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8600" y="40384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80000" y="40384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165840" y="13716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02720" y="137160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8600" y="40384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165840" y="40384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02720" y="4038480"/>
            <a:ext cx="27968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3716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6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384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39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3716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0000" y="403848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371600"/>
            <a:ext cx="4239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4038480"/>
            <a:ext cx="8686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0" name=""/>
          <p:cNvSpPr/>
          <p:nvPr/>
        </p:nvSpPr>
        <p:spPr>
          <a:xfrm>
            <a:off x="152280" y="658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Comic Sans MS"/>
              </a:rPr>
              <a:t>Copyright @ PSPL, 2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6400800" y="655308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Comic Sans MS"/>
              </a:rPr>
              <a:t>XML Workshop, IIT Powai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124080" y="6583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Comic Sans MS"/>
              </a:rPr>
              <a:t>30th Sept., 2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ffffcc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lvl="4" marL="1828800" algn="ctr">
              <a:spcBef>
                <a:spcPts val="451"/>
              </a:spcBef>
              <a:buClr>
                <a:srgbClr val="ffffcc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cc"/>
              </a:solidFill>
              <a:latin typeface="Comic Sans MS"/>
            </a:endParaRPr>
          </a:p>
          <a:p>
            <a:pPr lvl="5" marL="1828800">
              <a:spcBef>
                <a:spcPts val="451"/>
              </a:spcBef>
              <a:buClr>
                <a:srgbClr val="ffff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cc"/>
              </a:solidFill>
              <a:latin typeface="Comic Sans MS"/>
            </a:endParaRPr>
          </a:p>
          <a:p>
            <a:pPr lvl="6" marL="1828800">
              <a:spcBef>
                <a:spcPts val="451"/>
              </a:spcBef>
              <a:buClr>
                <a:srgbClr val="ffffcc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Universal Plug and Play (UPnP) and XML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Shridhar Bhat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bhat@pspl.co.in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Control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Uses Simple Object Access Protocol (SOAP)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Control points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Comic Sans MS"/>
              </a:rPr>
              <a:t>fetch the URL for control</a:t>
            </a:r>
            <a:endParaRPr b="0" lang="en-US" sz="26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Comic Sans MS"/>
              </a:rPr>
              <a:t>construct requests (RPC calls) using SOAP</a:t>
            </a:r>
            <a:endParaRPr b="0" lang="en-US" sz="26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Comic Sans MS"/>
              </a:rPr>
              <a:t>send the requests over HTTP</a:t>
            </a:r>
            <a:endParaRPr b="0" lang="en-US" sz="26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Comic Sans MS"/>
              </a:rPr>
              <a:t>wait for the SOAP responses from devices</a:t>
            </a:r>
            <a:endParaRPr b="0" lang="en-US" sz="26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Devices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Comic Sans MS"/>
              </a:rPr>
              <a:t>parse the  SOAP requests</a:t>
            </a:r>
            <a:endParaRPr b="0" lang="en-US" sz="26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Comic Sans MS"/>
              </a:rPr>
              <a:t>carry out the required action and return responses in SOAP messages</a:t>
            </a:r>
            <a:endParaRPr b="0" lang="en-US" sz="26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XML in UPnP: SOAP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Uses XML and HTTP for RPC calls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SOAP request</a:t>
            </a:r>
            <a:br>
              <a:rPr sz="1400"/>
            </a:br>
            <a:br>
              <a:rPr sz="14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POST 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path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of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control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URL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HTTP/1.1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HOST: 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host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of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co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n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trol 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URL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: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port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of 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control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URL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CONTENT-LENGTH: 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bytes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in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body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CONTENT-TYPE: text/xml; charset="utf-8"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SOAPACTION: "urn: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schemas-upnp-org:service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: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serviceType:v#actionName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”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lt;s:Envelope xmlns: s=“http://schemas.xmlsoap.org/soap/envelope”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s:encodingStyle=“http://schemas.xmlsoap.org/soap/encoding”&gt;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lt;s:Body&gt;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 &lt;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u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: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actionName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xmlns:u="urn: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schemas-upnp-org:service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: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serviceType:v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"&gt;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     &lt;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argumentName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in arg value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lt;/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argumentName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    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other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in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args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and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their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values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go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here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, 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if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any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&lt;/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u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: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actionName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lt;/s:Body&gt;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lt;/s:Envelope&gt;</a:t>
            </a:r>
            <a:endParaRPr b="0" lang="en-US" sz="16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Eventing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Device publishes a list of events for which control points can subscribe and get notifications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Control points subscribe with the devices for the events published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Event notifications by the devices over TCP to control points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XML in UPnP: Event Notification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50292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1030320"/>
            <a:ext cx="69343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NOTIFY 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delivery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path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HTTP/1.1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HOST: 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delivery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host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: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delivery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port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CONTENT-TYPE: text/xml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CONTENT-LENGTH: 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Bytes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in 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body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NT: 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upnp:event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NTS: 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upnp:propchange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SID: uuid: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subscription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-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UUID</a:t>
            </a:r>
            <a:br>
              <a:rPr sz="1600"/>
            </a:b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SEQ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: 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event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key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lt;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e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: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propertyset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xmlns: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e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="urn: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schemas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-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upnp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-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org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: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event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-1-0"&gt;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 &lt;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e:property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     &lt;variableName&gt;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new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value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lt;/variableName&gt;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 &lt;/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e:property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Other variable names and values (if any) go here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.</a:t>
            </a:r>
            <a:br>
              <a:rPr sz="1600"/>
            </a:b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&lt;/e:propertyset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</a:t>
            </a:r>
            <a:br>
              <a:rPr sz="1600"/>
            </a:b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Why XML?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Platform independence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Communication over HTTP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Comic Sans MS"/>
              </a:rPr>
              <a:t>penetrates the firewalls without extra efforts</a:t>
            </a:r>
            <a:endParaRPr b="0" lang="en-US" sz="26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Comic Sans MS"/>
              </a:rPr>
              <a:t>no need to run services on special ports</a:t>
            </a:r>
            <a:endParaRPr b="0" lang="en-US" sz="26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Provides the level of expressiveness and extensibility needed to describe devices and their services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forgiving technology :-)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Challenges Ahead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No consideration for security in the UPnP specification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IP over electric distribution network??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Scarcity of IP addresses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Comic Sans MS"/>
              </a:rPr>
              <a:t>IPv6</a:t>
            </a:r>
            <a:endParaRPr b="0" lang="en-US" sz="26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Competing technology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Jini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Comic Sans MS"/>
              </a:rPr>
              <a:t>uses Java interfaces instead of XML</a:t>
            </a:r>
            <a:endParaRPr b="0" lang="en-US" sz="26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Comic Sans MS"/>
              </a:rPr>
              <a:t>enjoys benefits of object oriented programming</a:t>
            </a:r>
            <a:endParaRPr b="0" lang="en-US" sz="26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Comic Sans MS"/>
              </a:rPr>
              <a:t>works at higher level of abstraction</a:t>
            </a:r>
            <a:endParaRPr b="0" lang="en-US" sz="26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Comic Sans MS"/>
              </a:rPr>
              <a:t>easier to define interfaces than protocols</a:t>
            </a:r>
            <a:endParaRPr b="0" lang="en-US" sz="26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Comic Sans MS"/>
              </a:rPr>
              <a:t>needs JVM, Object serialization and RMI APIs on the devices and control points</a:t>
            </a:r>
            <a:endParaRPr b="0" lang="en-US" sz="26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Conclusion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XML can be useful in defining application level protocol communication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XML allows a light-weight implementation for UPnP devices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References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Universal Plug and Play forum, http;//www.upnp.org</a:t>
            </a:r>
            <a:endParaRPr b="0" lang="en-US" sz="1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UPnP architecture, http://www.upnp.org/UPnPDevice_Architecture_1.0.htm</a:t>
            </a:r>
            <a:endParaRPr b="0" lang="en-US" sz="1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Intel’s UPnP SDK for Linux, http://developer.intel.com/ial/upnp/</a:t>
            </a:r>
            <a:endParaRPr b="0" lang="en-US" sz="1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Simple object access protocol, http://www.w3.org/TR/SOAP/</a:t>
            </a:r>
            <a:endParaRPr b="0" lang="en-US" sz="18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IETF draft on ‘Multicast and Unicast UDP HTTP Messages’,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Comic Sans MS"/>
              </a:rPr>
              <a:t>http://www.ics.uci.edu/pub/ietf/http/draft-goland-http-udp-01.txt</a:t>
            </a:r>
            <a:endParaRPr b="0" lang="en-US" sz="18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604600" y="2666160"/>
            <a:ext cx="282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Questions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Motivation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2053440"/>
            <a:ext cx="632484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XML can be used in innovative ways to achieve platform independent and flexible application-layer protocol communi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621520" y="2202480"/>
            <a:ext cx="2791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Thank you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Comic Sans MS"/>
              </a:rPr>
              <a:t>:-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UPnP Architecture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762120" y="990720"/>
            <a:ext cx="7772400" cy="3483360"/>
            <a:chOff x="762120" y="990720"/>
            <a:chExt cx="7772400" cy="3483360"/>
          </a:xfrm>
        </p:grpSpPr>
        <p:grpSp>
          <p:nvGrpSpPr>
            <p:cNvPr id="101" name=""/>
            <p:cNvGrpSpPr/>
            <p:nvPr/>
          </p:nvGrpSpPr>
          <p:grpSpPr>
            <a:xfrm>
              <a:off x="762120" y="990720"/>
              <a:ext cx="7772400" cy="2743200"/>
              <a:chOff x="762120" y="990720"/>
              <a:chExt cx="7772400" cy="2743200"/>
            </a:xfrm>
          </p:grpSpPr>
          <p:sp>
            <p:nvSpPr>
              <p:cNvPr id="102" name=""/>
              <p:cNvSpPr/>
              <p:nvPr/>
            </p:nvSpPr>
            <p:spPr>
              <a:xfrm>
                <a:off x="3352680" y="2514600"/>
                <a:ext cx="2514600" cy="1219320"/>
              </a:xfrm>
              <a:prstGeom prst="ellipse">
                <a:avLst/>
              </a:prstGeom>
              <a:noFill/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Comic Sans MS"/>
                  </a:rPr>
                  <a:t>Internet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477120" y="2590920"/>
                <a:ext cx="1981080" cy="914400"/>
              </a:xfrm>
              <a:prstGeom prst="ellipse">
                <a:avLst/>
              </a:prstGeom>
              <a:noFill/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Comic Sans MS"/>
                  </a:rPr>
                  <a:t>Network2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2120" y="2667240"/>
                <a:ext cx="1981080" cy="914400"/>
              </a:xfrm>
              <a:prstGeom prst="ellipse">
                <a:avLst/>
              </a:prstGeom>
              <a:noFill/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cc"/>
                    </a:solidFill>
                    <a:latin typeface="Comic Sans MS"/>
                  </a:rPr>
                  <a:t>Network1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676520" y="1828800"/>
                <a:ext cx="0" cy="838440"/>
              </a:xfrm>
              <a:prstGeom prst="line">
                <a:avLst/>
              </a:prstGeom>
              <a:ln w="19080">
                <a:solidFill>
                  <a:srgbClr val="ff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066680" y="990720"/>
                <a:ext cx="1371600" cy="8380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cc"/>
                    </a:solidFill>
                    <a:latin typeface="Comic Sans MS"/>
                  </a:rPr>
                  <a:t>Control Point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cc"/>
                    </a:solidFill>
                    <a:latin typeface="Comic Sans MS"/>
                  </a:rPr>
                  <a:t>(Manager)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2742840" y="3124440"/>
                <a:ext cx="609480" cy="0"/>
              </a:xfrm>
              <a:prstGeom prst="line">
                <a:avLst/>
              </a:prstGeom>
              <a:ln w="19080">
                <a:solidFill>
                  <a:srgbClr val="ff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324480" y="1371600"/>
                <a:ext cx="1067040" cy="5335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cc"/>
                    </a:solidFill>
                    <a:latin typeface="Comic Sans MS"/>
                  </a:rPr>
                  <a:t>Device1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858000" y="1905120"/>
                <a:ext cx="0" cy="762120"/>
              </a:xfrm>
              <a:prstGeom prst="line">
                <a:avLst/>
              </a:prstGeom>
              <a:ln w="19080">
                <a:solidFill>
                  <a:srgbClr val="ff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5867280" y="3048120"/>
                <a:ext cx="609840" cy="0"/>
              </a:xfrm>
              <a:prstGeom prst="line">
                <a:avLst/>
              </a:prstGeom>
              <a:ln w="19080">
                <a:solidFill>
                  <a:srgbClr val="ff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467480" y="1371600"/>
                <a:ext cx="1067040" cy="5335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cc"/>
                    </a:solidFill>
                    <a:latin typeface="Comic Sans MS"/>
                  </a:rPr>
                  <a:t>Device2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001000" y="1905120"/>
                <a:ext cx="0" cy="762120"/>
              </a:xfrm>
              <a:prstGeom prst="line">
                <a:avLst/>
              </a:prstGeom>
              <a:ln w="19080">
                <a:solidFill>
                  <a:srgbClr val="ff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1014480" y="4136760"/>
              <a:ext cx="561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cc"/>
                  </a:solidFill>
                  <a:latin typeface="Comic Sans MS"/>
                </a:rPr>
                <a:t>Fig.1: Typical Universal Plug and Play system architecture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UPnP Terminology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Addressing 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ff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IP address binding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Discovery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ff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advertisements by the devices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ff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search requests from the control points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Description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ff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stuff to be advertised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Control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ff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requests for actions from the control points to the devices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Eventing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ff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subscription for events by the control points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ff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notification of events by the device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Presentation (control point)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ff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Comic Sans MS"/>
              </a:rPr>
              <a:t>GUI to the user by the control point</a:t>
            </a:r>
            <a:endParaRPr b="0" lang="en-US" sz="20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380880" y="2971800"/>
            <a:ext cx="7925040" cy="3200400"/>
            <a:chOff x="380880" y="2971800"/>
            <a:chExt cx="7925040" cy="3200400"/>
          </a:xfrm>
        </p:grpSpPr>
        <p:grpSp>
          <p:nvGrpSpPr>
            <p:cNvPr id="117" name=""/>
            <p:cNvGrpSpPr/>
            <p:nvPr/>
          </p:nvGrpSpPr>
          <p:grpSpPr>
            <a:xfrm>
              <a:off x="762120" y="2971800"/>
              <a:ext cx="1371600" cy="2819520"/>
              <a:chOff x="762120" y="2971800"/>
              <a:chExt cx="1371600" cy="2819520"/>
            </a:xfrm>
          </p:grpSpPr>
          <p:sp>
            <p:nvSpPr>
              <p:cNvPr id="118" name=""/>
              <p:cNvSpPr/>
              <p:nvPr/>
            </p:nvSpPr>
            <p:spPr>
              <a:xfrm>
                <a:off x="1447920" y="4559400"/>
                <a:ext cx="0" cy="12319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762120" y="2971800"/>
                <a:ext cx="1371600" cy="1587600"/>
                <a:chOff x="762120" y="2971800"/>
                <a:chExt cx="1371600" cy="158760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914400" y="2971800"/>
                  <a:ext cx="1143000" cy="555480"/>
                </a:xfrm>
                <a:prstGeom prst="rect">
                  <a:avLst/>
                </a:prstGeom>
                <a:noFill/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Comic Sans MS"/>
                    </a:rPr>
                    <a:t>Addressing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762120" y="3765600"/>
                  <a:ext cx="609480" cy="396720"/>
                </a:xfrm>
                <a:prstGeom prst="rect">
                  <a:avLst/>
                </a:prstGeom>
                <a:noFill/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Comic Sans MS"/>
                    </a:rPr>
                    <a:t>DHCP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523880" y="3765600"/>
                  <a:ext cx="609840" cy="396720"/>
                </a:xfrm>
                <a:prstGeom prst="rect">
                  <a:avLst/>
                </a:prstGeom>
                <a:noFill/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Comic Sans MS"/>
                    </a:rPr>
                    <a:t>Auto-IP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143000" y="3527280"/>
                  <a:ext cx="0" cy="23832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752480" y="3527280"/>
                  <a:ext cx="0" cy="23832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066680" y="4559400"/>
                  <a:ext cx="762120" cy="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828800" y="4162320"/>
                  <a:ext cx="0" cy="39708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V="1">
                  <a:off x="1066680" y="4161960"/>
                  <a:ext cx="0" cy="39708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" name=""/>
            <p:cNvSpPr/>
            <p:nvPr/>
          </p:nvSpPr>
          <p:spPr>
            <a:xfrm>
              <a:off x="380880" y="5562720"/>
              <a:ext cx="7925040" cy="609480"/>
            </a:xfrm>
            <a:prstGeom prst="leftRightArrow">
              <a:avLst>
                <a:gd name="adj1" fmla="val 31944"/>
                <a:gd name="adj2" fmla="val 90539"/>
              </a:avLst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mic Sans MS"/>
                </a:rPr>
                <a:t>          </a:t>
              </a:r>
              <a:r>
                <a:rPr b="0" lang="en-US" sz="1200" spc="-1" strike="noStrike">
                  <a:solidFill>
                    <a:srgbClr val="ffffcc"/>
                  </a:solidFill>
                  <a:latin typeface="Comic Sans MS"/>
                </a:rPr>
                <a:t>Network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838080" y="1600200"/>
            <a:ext cx="7162920" cy="1828800"/>
            <a:chOff x="838080" y="1600200"/>
            <a:chExt cx="7162920" cy="1828800"/>
          </a:xfrm>
        </p:grpSpPr>
        <p:sp>
          <p:nvSpPr>
            <p:cNvPr id="130" name=""/>
            <p:cNvSpPr/>
            <p:nvPr/>
          </p:nvSpPr>
          <p:spPr>
            <a:xfrm>
              <a:off x="838080" y="1600200"/>
              <a:ext cx="7162920" cy="45720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mic Sans MS"/>
                </a:rPr>
                <a:t>Device code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819520" y="2057400"/>
              <a:ext cx="990360" cy="1371600"/>
              <a:chOff x="2819520" y="2057400"/>
              <a:chExt cx="990360" cy="1371600"/>
            </a:xfrm>
          </p:grpSpPr>
          <p:sp>
            <p:nvSpPr>
              <p:cNvPr id="132" name=""/>
              <p:cNvSpPr/>
              <p:nvPr/>
            </p:nvSpPr>
            <p:spPr>
              <a:xfrm>
                <a:off x="2819520" y="2971800"/>
                <a:ext cx="990360" cy="457200"/>
              </a:xfrm>
              <a:prstGeom prst="rect">
                <a:avLst/>
              </a:prstGeom>
              <a:noFill/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cc"/>
                    </a:solidFill>
                    <a:latin typeface="Comic Sans MS"/>
                  </a:rPr>
                  <a:t>Description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352680" y="2057400"/>
                <a:ext cx="0" cy="9144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" name=""/>
          <p:cNvGrpSpPr/>
          <p:nvPr/>
        </p:nvGrpSpPr>
        <p:grpSpPr>
          <a:xfrm>
            <a:off x="6934320" y="2057400"/>
            <a:ext cx="1726200" cy="3733920"/>
            <a:chOff x="6934320" y="2057400"/>
            <a:chExt cx="1726200" cy="3733920"/>
          </a:xfrm>
        </p:grpSpPr>
        <p:sp>
          <p:nvSpPr>
            <p:cNvPr id="135" name=""/>
            <p:cNvSpPr/>
            <p:nvPr/>
          </p:nvSpPr>
          <p:spPr>
            <a:xfrm>
              <a:off x="7162920" y="4267080"/>
              <a:ext cx="0" cy="15242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934320" y="2057400"/>
              <a:ext cx="0" cy="17524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37560" y="2817000"/>
              <a:ext cx="147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mic Sans MS"/>
                </a:rPr>
                <a:t>Events generated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mic Sans MS"/>
                </a:rPr>
                <a:t>by the device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55360" y="4631400"/>
              <a:ext cx="1505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mic Sans MS"/>
                </a:rPr>
                <a:t>Events notification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5719320" y="3809880"/>
            <a:ext cx="1748160" cy="1981440"/>
            <a:chOff x="5719320" y="3809880"/>
            <a:chExt cx="1748160" cy="1981440"/>
          </a:xfrm>
        </p:grpSpPr>
        <p:sp>
          <p:nvSpPr>
            <p:cNvPr id="140" name=""/>
            <p:cNvSpPr/>
            <p:nvPr/>
          </p:nvSpPr>
          <p:spPr>
            <a:xfrm>
              <a:off x="6477120" y="3809880"/>
              <a:ext cx="990360" cy="45720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mic Sans MS"/>
                </a:rPr>
                <a:t>Eventing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705720" y="4267080"/>
              <a:ext cx="0" cy="15242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19320" y="4509000"/>
              <a:ext cx="106776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mic Sans MS"/>
                </a:rPr>
                <a:t>Event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mic Sans MS"/>
                </a:rPr>
                <a:t>subscription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109760" y="3809880"/>
            <a:ext cx="1376640" cy="1981440"/>
            <a:chOff x="4109760" y="3809880"/>
            <a:chExt cx="1376640" cy="1981440"/>
          </a:xfrm>
        </p:grpSpPr>
        <p:grpSp>
          <p:nvGrpSpPr>
            <p:cNvPr id="144" name=""/>
            <p:cNvGrpSpPr/>
            <p:nvPr/>
          </p:nvGrpSpPr>
          <p:grpSpPr>
            <a:xfrm>
              <a:off x="4495680" y="3809880"/>
              <a:ext cx="990720" cy="1981440"/>
              <a:chOff x="4495680" y="3809880"/>
              <a:chExt cx="990720" cy="1981440"/>
            </a:xfrm>
          </p:grpSpPr>
          <p:sp>
            <p:nvSpPr>
              <p:cNvPr id="145" name=""/>
              <p:cNvSpPr/>
              <p:nvPr/>
            </p:nvSpPr>
            <p:spPr>
              <a:xfrm>
                <a:off x="4495680" y="3809880"/>
                <a:ext cx="990720" cy="457200"/>
              </a:xfrm>
              <a:prstGeom prst="rect">
                <a:avLst/>
              </a:prstGeom>
              <a:noFill/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cc"/>
                    </a:solidFill>
                    <a:latin typeface="Comic Sans MS"/>
                  </a:rPr>
                  <a:t>Control</a:t>
                </a:r>
                <a:endParaRPr b="0" lang="en-US" sz="1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4800600" y="4267080"/>
                <a:ext cx="0" cy="152424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4109760" y="4417200"/>
              <a:ext cx="762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mic Sans MS"/>
                </a:rPr>
                <a:t>Control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mic Sans MS"/>
                </a:rPr>
                <a:t>Request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033440" y="2057400"/>
            <a:ext cx="2038320" cy="3733920"/>
            <a:chOff x="4033440" y="2057400"/>
            <a:chExt cx="2038320" cy="3733920"/>
          </a:xfrm>
        </p:grpSpPr>
        <p:sp>
          <p:nvSpPr>
            <p:cNvPr id="149" name=""/>
            <p:cNvSpPr/>
            <p:nvPr/>
          </p:nvSpPr>
          <p:spPr>
            <a:xfrm>
              <a:off x="5181480" y="4267080"/>
              <a:ext cx="0" cy="152424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800600" y="2057400"/>
              <a:ext cx="0" cy="17524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81480" y="2057400"/>
              <a:ext cx="0" cy="17524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97680" y="5026680"/>
              <a:ext cx="8740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mic Sans MS"/>
                </a:rPr>
                <a:t>Control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mic Sans MS"/>
                </a:rPr>
                <a:t>Response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33440" y="2359800"/>
              <a:ext cx="762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mic Sans MS"/>
                </a:rPr>
                <a:t>Action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mic Sans MS"/>
                </a:rPr>
                <a:t>Request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97680" y="2588400"/>
              <a:ext cx="8740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mic Sans MS"/>
                </a:rPr>
                <a:t>Action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mic Sans MS"/>
                </a:rPr>
                <a:t>Response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553400" y="3429000"/>
            <a:ext cx="2256480" cy="2438280"/>
            <a:chOff x="1553400" y="3429000"/>
            <a:chExt cx="2256480" cy="2438280"/>
          </a:xfrm>
        </p:grpSpPr>
        <p:sp>
          <p:nvSpPr>
            <p:cNvPr id="156" name=""/>
            <p:cNvSpPr/>
            <p:nvPr/>
          </p:nvSpPr>
          <p:spPr>
            <a:xfrm>
              <a:off x="2743200" y="5867280"/>
              <a:ext cx="1066680" cy="0"/>
            </a:xfrm>
            <a:prstGeom prst="line">
              <a:avLst/>
            </a:prstGeom>
            <a:ln w="57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19520" y="3809880"/>
              <a:ext cx="990360" cy="45720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mic Sans MS"/>
                </a:rPr>
                <a:t>Discovery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48120" y="4267080"/>
              <a:ext cx="0" cy="160020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276720" y="3429000"/>
              <a:ext cx="0" cy="3808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53400" y="4583880"/>
              <a:ext cx="151740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mic Sans MS"/>
                </a:rPr>
                <a:t>Device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mic Sans MS"/>
                </a:rPr>
                <a:t>Advertisements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mic Sans MS"/>
                </a:rPr>
                <a:t>over SSDP channel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525120" y="4266720"/>
            <a:ext cx="874080" cy="1600200"/>
            <a:chOff x="3525120" y="4266720"/>
            <a:chExt cx="874080" cy="1600200"/>
          </a:xfrm>
        </p:grpSpPr>
        <p:sp>
          <p:nvSpPr>
            <p:cNvPr id="162" name=""/>
            <p:cNvSpPr/>
            <p:nvPr/>
          </p:nvSpPr>
          <p:spPr>
            <a:xfrm flipV="1">
              <a:off x="3581280" y="4266720"/>
              <a:ext cx="0" cy="160020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25120" y="5103000"/>
              <a:ext cx="8740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mic Sans MS"/>
                </a:rPr>
                <a:t>Discovery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mic Sans MS"/>
                </a:rPr>
                <a:t>Search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756800" y="456120"/>
            <a:ext cx="52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Device side of the UPnP Subsyst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289880" y="456120"/>
            <a:ext cx="615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</a:rPr>
              <a:t>Control Point side of the UPnP Subsyst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80880" y="2971800"/>
            <a:ext cx="7925040" cy="3200400"/>
            <a:chOff x="380880" y="2971800"/>
            <a:chExt cx="7925040" cy="3200400"/>
          </a:xfrm>
        </p:grpSpPr>
        <p:grpSp>
          <p:nvGrpSpPr>
            <p:cNvPr id="167" name=""/>
            <p:cNvGrpSpPr/>
            <p:nvPr/>
          </p:nvGrpSpPr>
          <p:grpSpPr>
            <a:xfrm>
              <a:off x="762120" y="2971800"/>
              <a:ext cx="1371600" cy="2819520"/>
              <a:chOff x="762120" y="2971800"/>
              <a:chExt cx="1371600" cy="2819520"/>
            </a:xfrm>
          </p:grpSpPr>
          <p:sp>
            <p:nvSpPr>
              <p:cNvPr id="168" name=""/>
              <p:cNvSpPr/>
              <p:nvPr/>
            </p:nvSpPr>
            <p:spPr>
              <a:xfrm>
                <a:off x="1447920" y="4559400"/>
                <a:ext cx="0" cy="12319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762120" y="2971800"/>
                <a:ext cx="1371600" cy="1587600"/>
                <a:chOff x="762120" y="2971800"/>
                <a:chExt cx="1371600" cy="158760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914400" y="2971800"/>
                  <a:ext cx="1143000" cy="555480"/>
                </a:xfrm>
                <a:prstGeom prst="rect">
                  <a:avLst/>
                </a:prstGeom>
                <a:noFill/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Comic Sans MS"/>
                    </a:rPr>
                    <a:t>Addressing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62120" y="3765600"/>
                  <a:ext cx="609480" cy="396720"/>
                </a:xfrm>
                <a:prstGeom prst="rect">
                  <a:avLst/>
                </a:prstGeom>
                <a:noFill/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Comic Sans MS"/>
                    </a:rPr>
                    <a:t>DHCP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523880" y="3765600"/>
                  <a:ext cx="609840" cy="396720"/>
                </a:xfrm>
                <a:prstGeom prst="rect">
                  <a:avLst/>
                </a:prstGeom>
                <a:noFill/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Comic Sans MS"/>
                    </a:rPr>
                    <a:t>Auto-IP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143000" y="3527280"/>
                  <a:ext cx="0" cy="23832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752480" y="3527280"/>
                  <a:ext cx="0" cy="23832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066680" y="4559400"/>
                  <a:ext cx="762120" cy="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828800" y="4162320"/>
                  <a:ext cx="0" cy="39708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V="1">
                  <a:off x="1066680" y="4161960"/>
                  <a:ext cx="0" cy="39708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8" name=""/>
            <p:cNvSpPr/>
            <p:nvPr/>
          </p:nvSpPr>
          <p:spPr>
            <a:xfrm>
              <a:off x="380880" y="5562720"/>
              <a:ext cx="7925040" cy="609480"/>
            </a:xfrm>
            <a:prstGeom prst="leftRightArrow">
              <a:avLst>
                <a:gd name="adj1" fmla="val 31944"/>
                <a:gd name="adj2" fmla="val 90539"/>
              </a:avLst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mic Sans MS"/>
                </a:rPr>
                <a:t>          </a:t>
              </a:r>
              <a:r>
                <a:rPr b="0" lang="en-US" sz="1200" spc="-1" strike="noStrike">
                  <a:solidFill>
                    <a:srgbClr val="ffffcc"/>
                  </a:solidFill>
                  <a:latin typeface="Comic Sans MS"/>
                </a:rPr>
                <a:t>Network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7581960" y="29559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193120" y="2971800"/>
            <a:ext cx="2206080" cy="2895480"/>
            <a:chOff x="2193120" y="2971800"/>
            <a:chExt cx="2206080" cy="2895480"/>
          </a:xfrm>
        </p:grpSpPr>
        <p:sp>
          <p:nvSpPr>
            <p:cNvPr id="181" name=""/>
            <p:cNvSpPr/>
            <p:nvPr/>
          </p:nvSpPr>
          <p:spPr>
            <a:xfrm>
              <a:off x="2743200" y="5867280"/>
              <a:ext cx="1066680" cy="0"/>
            </a:xfrm>
            <a:prstGeom prst="line">
              <a:avLst/>
            </a:prstGeom>
            <a:ln w="572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93120" y="4723560"/>
              <a:ext cx="8740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mic Sans MS"/>
                </a:rPr>
                <a:t>Discovery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mic Sans MS"/>
                </a:rPr>
                <a:t>Search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581280" y="3504960"/>
              <a:ext cx="0" cy="236196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25120" y="5103000"/>
              <a:ext cx="8740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mic Sans MS"/>
                </a:rPr>
                <a:t>Discovery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mic Sans MS"/>
                </a:rPr>
                <a:t>Response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19520" y="2971800"/>
              <a:ext cx="990360" cy="53352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mic Sans MS"/>
                </a:rPr>
                <a:t>Discovery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8120" y="3505320"/>
              <a:ext cx="0" cy="236196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109760" y="2285640"/>
            <a:ext cx="1376640" cy="3468960"/>
            <a:chOff x="4109760" y="2285640"/>
            <a:chExt cx="1376640" cy="3468960"/>
          </a:xfrm>
        </p:grpSpPr>
        <p:sp>
          <p:nvSpPr>
            <p:cNvPr id="188" name=""/>
            <p:cNvSpPr/>
            <p:nvPr/>
          </p:nvSpPr>
          <p:spPr>
            <a:xfrm>
              <a:off x="4109760" y="4417200"/>
              <a:ext cx="762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mic Sans MS"/>
                </a:rPr>
                <a:t>Control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mic Sans MS"/>
                </a:rPr>
                <a:t>Request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95680" y="2971800"/>
              <a:ext cx="990720" cy="53352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mic Sans MS"/>
                </a:rPr>
                <a:t>Control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029200" y="2285640"/>
              <a:ext cx="0" cy="6858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800600" y="3505320"/>
              <a:ext cx="0" cy="224928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719320" y="2286000"/>
            <a:ext cx="1748160" cy="3468600"/>
            <a:chOff x="5719320" y="2286000"/>
            <a:chExt cx="1748160" cy="3468600"/>
          </a:xfrm>
        </p:grpSpPr>
        <p:sp>
          <p:nvSpPr>
            <p:cNvPr id="193" name=""/>
            <p:cNvSpPr/>
            <p:nvPr/>
          </p:nvSpPr>
          <p:spPr>
            <a:xfrm>
              <a:off x="6477120" y="2971800"/>
              <a:ext cx="990360" cy="53352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mic Sans MS"/>
                </a:rPr>
                <a:t>Eventing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719320" y="4509000"/>
              <a:ext cx="106776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mic Sans MS"/>
                </a:rPr>
                <a:t>Event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mic Sans MS"/>
                </a:rPr>
                <a:t>subscription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34320" y="2286000"/>
              <a:ext cx="0" cy="6858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705720" y="3505320"/>
              <a:ext cx="0" cy="22492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7155360" y="3505320"/>
            <a:ext cx="1505160" cy="2249280"/>
            <a:chOff x="7155360" y="3505320"/>
            <a:chExt cx="1505160" cy="2249280"/>
          </a:xfrm>
        </p:grpSpPr>
        <p:sp>
          <p:nvSpPr>
            <p:cNvPr id="198" name=""/>
            <p:cNvSpPr/>
            <p:nvPr/>
          </p:nvSpPr>
          <p:spPr>
            <a:xfrm>
              <a:off x="7155360" y="4631400"/>
              <a:ext cx="1505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mic Sans MS"/>
                </a:rPr>
                <a:t>Events notification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62920" y="3505320"/>
              <a:ext cx="0" cy="22492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181480" y="3505320"/>
            <a:ext cx="890280" cy="2249280"/>
            <a:chOff x="5181480" y="3505320"/>
            <a:chExt cx="890280" cy="2249280"/>
          </a:xfrm>
        </p:grpSpPr>
        <p:sp>
          <p:nvSpPr>
            <p:cNvPr id="201" name=""/>
            <p:cNvSpPr/>
            <p:nvPr/>
          </p:nvSpPr>
          <p:spPr>
            <a:xfrm>
              <a:off x="5181480" y="3505320"/>
              <a:ext cx="0" cy="224928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97680" y="5026680"/>
              <a:ext cx="8740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mic Sans MS"/>
                </a:rPr>
                <a:t>Control 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mic Sans MS"/>
                </a:rPr>
                <a:t>Response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743200" y="1142280"/>
            <a:ext cx="4495680" cy="1829160"/>
            <a:chOff x="2743200" y="1142280"/>
            <a:chExt cx="4495680" cy="1829160"/>
          </a:xfrm>
        </p:grpSpPr>
        <p:sp>
          <p:nvSpPr>
            <p:cNvPr id="204" name=""/>
            <p:cNvSpPr/>
            <p:nvPr/>
          </p:nvSpPr>
          <p:spPr>
            <a:xfrm flipV="1">
              <a:off x="3276720" y="2285640"/>
              <a:ext cx="0" cy="6858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43200" y="1752480"/>
              <a:ext cx="4495680" cy="53352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mic Sans MS"/>
                </a:rPr>
                <a:t>Presentation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4952880" y="1447920"/>
              <a:ext cx="0" cy="3045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73840" y="1142280"/>
              <a:ext cx="148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Comic Sans MS"/>
                </a:rPr>
                <a:t>Control point user</a:t>
              </a:r>
              <a:endParaRPr b="0" lang="en-US" sz="1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Description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Device Description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Comic Sans MS"/>
              </a:rPr>
              <a:t>defines logical devices e.g. VCR </a:t>
            </a:r>
            <a:endParaRPr b="0" lang="en-US" sz="26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Comic Sans MS"/>
              </a:rPr>
              <a:t>contains URLs for service description, control, eventing and presentation</a:t>
            </a:r>
            <a:endParaRPr b="0" lang="en-US" sz="26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Comic Sans MS"/>
              </a:rPr>
              <a:t>provided during the advertisements</a:t>
            </a:r>
            <a:endParaRPr b="0" lang="en-US" sz="2600" spc="-1" strike="noStrike">
              <a:solidFill>
                <a:srgbClr val="ffff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Services descriptions</a:t>
            </a:r>
            <a:endParaRPr b="0" lang="en-US" sz="28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Comic Sans MS"/>
              </a:rPr>
              <a:t>e.g. play, rewind, stop etc.</a:t>
            </a:r>
            <a:endParaRPr b="0" lang="en-US" sz="26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Comic Sans MS"/>
              </a:rPr>
              <a:t>tells how to form a request for a service</a:t>
            </a:r>
            <a:endParaRPr b="0" lang="en-US" sz="26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Comic Sans MS"/>
              </a:rPr>
              <a:t>events that can be subscribed to by control points</a:t>
            </a:r>
            <a:endParaRPr b="0" lang="en-US" sz="2600" spc="-1" strike="noStrike">
              <a:solidFill>
                <a:srgbClr val="ffffcc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Comic Sans MS"/>
              </a:rPr>
              <a:t>fetched using HTTP GET</a:t>
            </a:r>
            <a:endParaRPr b="0" lang="en-US" sz="2600" spc="-1" strike="noStrike">
              <a:solidFill>
                <a:srgbClr val="ffff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-15228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XML in UPnP: Device Description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573120"/>
            <a:ext cx="8381880" cy="59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lt;xml version="1.0"?&gt;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lt;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root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xmlns="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urn:schemas-upnp-org:device-1-0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"&gt;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 &lt;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specVersion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 &lt;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major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1&lt;/major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 &lt;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minor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0&lt;/minor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 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&lt;/specVersion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 &lt;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device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     &lt;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serviceList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         &lt;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service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             &lt;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serviceType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urn: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schemas-upnp-org:service: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serviceType:v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&lt;/serviceType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             &lt;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serviceId&gt;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urn: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upnp-org:serviceId: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serviceID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&lt;/serviceId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             &lt;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SCPDURL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URL to service description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&lt;/SCPDURL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             &lt;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controlURL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 URL for control 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&lt;/controlURL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             &lt;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eventSubURL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 URL for eventing 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&lt;/eventSubURL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         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&lt;/service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         Declarations for other services defined by a UPnP Forum (if any) go here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         Declarations for other services added by UPnP vendor (if any) go here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     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&lt;/serviceList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     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&lt;deviceList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         Description of embedded devices defined by a UPnP Forum (if any) go here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         Description of embedded devices added by UPnP vendor (if any) go here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     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&lt;/deviceList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     &lt;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presentationURL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URL for presentation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&lt;/presentationURL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&lt;/device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&lt;/root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-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Comic Sans MS"/>
              </a:rPr>
              <a:t>XML in UPnP: Service Description</a:t>
            </a:r>
            <a:endParaRPr b="0" lang="en-US" sz="3600" spc="-1" strike="noStrike">
              <a:solidFill>
                <a:srgbClr val="ffcc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653040"/>
            <a:ext cx="89154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lt;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scpd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xmlns="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urn:schemas-upnp-org:service-1-0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"&gt;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lt;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actionList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 &lt;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action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 &lt;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name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 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actionName 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&lt;/name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     &lt;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argumentList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         &lt;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argument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             &lt;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name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formalParameterName 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&lt;/name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  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             &lt;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direction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 in or out 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&lt;/direction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             &lt;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relatedStateVariable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 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stateVariableName 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lt;/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relatedStateVariable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         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&lt;/argument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     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&lt;/argumentList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&lt;/action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&lt;/actionList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lt;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serviceStateTable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 &lt;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stateVariable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sendEvents="yes"&gt;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     &lt;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name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variableName 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&lt;/name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     &lt;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dataType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 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variable data type 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&lt;/dataType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     &lt;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defaultValue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default value 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&lt;/defaultValue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     &lt;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allowedValueList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         &lt;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allowedValue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 </a:t>
            </a:r>
            <a:r>
              <a:rPr b="0" i="1" lang="en-US" sz="1600" spc="-1" strike="noStrike">
                <a:solidFill>
                  <a:srgbClr val="ffffcc"/>
                </a:solidFill>
                <a:latin typeface="Comic Sans MS"/>
              </a:rPr>
              <a:t>enumerated value 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&lt;/allowedValue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     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&lt;/allowedValueList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&lt;/stateVariable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&lt;/serviceStateTable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</a:t>
            </a:r>
            <a:br>
              <a:rPr sz="1600"/>
            </a:br>
            <a:r>
              <a:rPr b="0" lang="en-US" sz="1600" spc="-1" strike="noStrike">
                <a:solidFill>
                  <a:srgbClr val="00ff99"/>
                </a:solidFill>
                <a:latin typeface="Comic Sans MS"/>
              </a:rPr>
              <a:t>&lt;/scpd</a:t>
            </a: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&gt;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5T06:48:26Z</dcterms:created>
  <dc:creator>penguin</dc:creator>
  <dc:description/>
  <dc:language>en-US</dc:language>
  <cp:lastModifiedBy>penguin</cp:lastModifiedBy>
  <cp:lastPrinted>2000-09-29T06:27:39Z</cp:lastPrinted>
  <dcterms:modified xsi:type="dcterms:W3CDTF">2000-09-29T06:34:46Z</dcterms:modified>
  <cp:revision>75</cp:revision>
  <dc:subject/>
  <dc:title>Universal Plug and Play (UPnP) and XML</dc:title>
</cp:coreProperties>
</file>