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7A1E-D95B-4002-B4B1-309D3E0AE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fferent u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, uses DS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ture of DSML and Dir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LD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ptimal         : Optimized for read, Resembles real data, LDAP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granular        : Access to attribut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igh level of security : Security restriction down to attribut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platform for eCommerce : Optimal for sharing information while maintaining the level of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ization in terms of schema for storing a type of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tocol for directories to communicat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representation of directory data and not directory data sto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con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DAP provides a means for accessing info while DSML provides a means for reading and understanding that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between two disparate sources. Give an example of database data and directory data both required in third format to an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E6B-9BF0-4918-8D50-9866E4BF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7C3-3C49-4F43-91BD-4FF9EBEA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39C-6C9E-43AB-A9B7-1225DA5F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A39-2BDD-4913-AEF8-E49ACFB2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B2AF-2733-4137-B4F9-09B9EF13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B74D-F4F2-47B6-AF1B-9C533828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8FE4-B55D-42CE-9FFC-9C26FA95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E7A3-4846-4BD1-8336-75ECC193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D211-0764-470F-854B-F849A2AC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1CB9-8685-4C6E-A1F6-3B9B0CEA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CA41-0687-4839-904C-07F4FC9C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21A4-5177-4E94-82DD-B48081D5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4DB4-1DBA-44C5-975D-AF8D364C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3B0F-4247-4DEA-82C4-FFCAF3DE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6743-744A-4499-AF94-A0C652A7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82CF-7AA0-475B-B212-7A390D50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0821-9F08-44E1-88F4-7D411FF3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E07-49BA-4700-8D27-185B64BB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4DE1-0158-4C6B-9B8F-99B5A18F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242-1F40-4E9E-9028-446F8B91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F15-51A6-4DF4-ADFA-EB514520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5CD-477D-48C7-9F98-FCEB426C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2126-DDB1-4006-A7FF-16E3A998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C73-E7B3-4AC5-B727-FCBF640D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8C25-B1C8-4913-8625-515AB77760FD}" type="datetime">
              <a:rPr b="0" lang="en-US" sz="1400" spc="-1" strike="noStrike">
                <a:solidFill>
                  <a:srgbClr val="5e574e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F72A-D72D-4429-928C-502CC653B0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CA1A-6BEC-4316-B6A0-A516D4F1FDDD}" type="datetime">
              <a:rPr b="0" lang="en-US" sz="1400" spc="-1" strike="noStrike">
                <a:solidFill>
                  <a:srgbClr val="5e574e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E92F-633D-4D6B-B705-BCDDA86F75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sml.org/" TargetMode="External"/><Relationship Id="rId2" Type="http://schemas.openxmlformats.org/officeDocument/2006/relationships/hyperlink" Target="http://www.dsml.org/" TargetMode="External"/><Relationship Id="rId3" Type="http://schemas.openxmlformats.org/officeDocument/2006/relationships/hyperlink" Target="http://www.dsml.org/" TargetMode="External"/><Relationship Id="rId4" Type="http://schemas.openxmlformats.org/officeDocument/2006/relationships/hyperlink" Target="http://www.oasis-open.org/cover/dsml.org/" TargetMode="External"/><Relationship Id="rId5" Type="http://schemas.openxmlformats.org/officeDocument/2006/relationships/hyperlink" Target="http://www.sunworld.com/sunworldonline/swol-03-2000/swol-03-connectivity.html/" TargetMode="External"/><Relationship Id="rId6" Type="http://schemas.openxmlformats.org/officeDocument/2006/relationships/hyperlink" Target="http://www.novell.com/products/nds/dirxml/" TargetMode="External"/><Relationship Id="rId7" Type="http://schemas.openxmlformats.org/officeDocument/2006/relationships/hyperlink" Target="http://www.oasis-open.org/cover/novell19990712.html/" TargetMode="External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XML &amp; Directori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742840" y="4266720"/>
            <a:ext cx="6095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Kamal Satish 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rsistent Systems Pvt. Ltd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un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7989-79F7-4762-A53F-FCE7C04B65D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6C0731D-E238-4889-B588-25C40487A2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SML: Limitation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ry handling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mechanism of translating error messages between direct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indication of how Distinguished Names of directories will be handled across different director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6A6-8AE8-4B77-BC7E-D8CB550484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45874-C5FA-4EE5-8FAC-DDBAD1E341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XM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vell's data-sharing and synchronization solution, automatically distributes new and updated information across every designated application and directory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XML to communicate with every directory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XSLT to transform data of one directory format to another directory's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942F-90C5-4B5A-AD7B-AAECD64CFE3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236A3-2B9F-4B32-A809-FB7727EE7EC1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XML: Under the hoo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DirXML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6019920" cy="4648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867280" y="5562720"/>
            <a:ext cx="2971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Novell DirXML web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E14-715D-40C1-AA02-BB29FC1C950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0794A-A3B8-4670-A759-5B2D339711B5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future!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981080"/>
            <a:ext cx="5410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of the directory server vendors will start supporting D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version of DSML will address most of the issues mentioned in its lim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ies will see more use in the eCommerce and internet sector because of D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d05584_" descr=""/>
          <p:cNvPicPr/>
          <p:nvPr/>
        </p:nvPicPr>
        <p:blipFill>
          <a:blip r:embed="rId1"/>
          <a:stretch/>
        </p:blipFill>
        <p:spPr>
          <a:xfrm>
            <a:off x="5943600" y="1905120"/>
            <a:ext cx="2589120" cy="34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6E6-FB60-47F7-8202-AAC9E9CDCCB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1BBFC-ACBC-4761-A3CC-C39F466B78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c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752480"/>
            <a:ext cx="86108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S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dsml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4"/>
              </a:rPr>
              <a:t>http://www.oasis-open.org/cover/dsml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5"/>
              </a:rPr>
              <a:t>http://www.sunworld.com/sunworldonline/swol-03-2000/swol-03-connectivity.htm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XM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6"/>
              </a:rPr>
              <a:t>http://www.novell.com/products/nds/dirxm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imes New Roman"/>
                <a:hlinkClick r:id="rId7"/>
              </a:rPr>
              <a:t>http://www.oasis-open.org/cover/novell19990712.htm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ECC-314C-433D-B8A1-48F28F7F160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9F37F-BF4A-4B03-97F6-F3534AE429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pics of Discus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ories: An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ory Services Markup  Language(DSM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X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utur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4ACA-D84D-426B-B0FF-CAA72A32DF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E2923-3DCE-4997-B87F-A53A64A72440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ories: An overvie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they ar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Stores having hierarchica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timized for read op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a standard protocol (LDAP) for accessing their contents, over the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92C-27BD-4DBC-BE1F-8275D6A0D9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EBAA1-104D-415A-A560-3DCABD4982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ories: An overvie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y they ar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ories Provi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al way of naming, describing and finding information an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ar A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Independ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re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tform for e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A14-46D8-4258-B59E-F201C845A36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330EF-B149-4D24-BFDF-DB92546BAF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rectories: An overvie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they don’t have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981080"/>
            <a:ext cx="7848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ies provide an ideal storage medium, but they lack in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ation of the information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e of sharing directory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lot of coding to access and manipulate directo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not web en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B20E-7996-4134-94A7-B9D5EF58451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1B0EE-9CA4-4664-B8F8-97081A20F23C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SM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rectory Services Markup Languag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ed Internet standard for sharing directory services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SML is an XML-Schema for representing Directory Services content and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906-BBF6-45BA-9714-FBBA69E8D9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A451A-0F12-4B48-9AD3-34E4283CAA79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SML: Use case scenari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eComApp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5638680"/>
            <a:ext cx="5105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Slide from the Bowstreet’s presentation  on DSML 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12, 1999 pres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9A5-60F4-440E-AC23-E64B29E3F92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1DF73-C71C-455B-BD4E-C03111C0DE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SML: Sample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600200"/>
            <a:ext cx="80773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 sample directory entry information represented in DSM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dsml:dsml xmlns:dsml="http://www.dsml.org/DSML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dsml:entry dn="o=IMC, c=US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dsml:objectclas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dsml:oc-value&gt;top&lt;/dsml:oc-valu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dsml:oc-value&gt;organization&lt;/dsml:oc-valu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dsml:objectclas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dsml:attr name="o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dsml:value&gt;IMC&lt;/dsml:valu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dsml:at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dsml:entr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/dsml:ds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DF6-4624-4FFC-8A6F-66E448F9EFE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50D9F-D5CB-4EDA-8BC1-F5D0EED5D2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SML: The benefit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a standard way to share and combine directory information over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ML leverages LD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n open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can be written to make use of DSML and capture the scalability,                 replication, security and management strengths of director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DE9-9B69-421C-BA6B-7BAA4C943C2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42CCF-3B65-4418-B4D4-5AD308A1EFA1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mal Satish M</cp:lastModifiedBy>
  <dcterms:modified xsi:type="dcterms:W3CDTF">2000-09-29T06:31:18Z</dcterms:modified>
  <cp:revision>25</cp:revision>
  <dc:subject/>
  <dc:title>PowerPoint Presentation</dc:title>
</cp:coreProperties>
</file>