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76F3-A8F6-40E2-9AE6-DBC4E0046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41BB-F630-472E-8C79-CEE4CA402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F0B1-48FA-4F06-9B6B-957031541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26F0-011A-4E53-8AAB-F7157B679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964BD-A217-4095-BE64-F8CF8ADDC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D8769-7FC6-4F36-8919-B2076F6EA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33E7D-C058-453D-8524-F0BFB8053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2356D-D8D3-436D-AF8F-885D0C979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840E3-61F4-4CC0-926A-15B791245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F0863-6E6D-4F74-B58F-A95C7695C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6BA64-35F8-4E37-BDD9-35966108D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ADE0-5B9F-4FF9-93B4-8CC51A0AF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6EE0F-12C8-4ED7-938E-0A0055AFD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FBD2E-D012-4A14-89E1-D4F67FC45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C7F90-6946-4FD7-8978-559066496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D1132-2059-471B-8BDE-D5E2D0585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C4DEB-C069-4165-972C-775DA7EBA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9B6B-ED5B-49AD-81D3-B8CF2DCFB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AEC3-37CB-452D-BE01-CBE8DA24F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1F7D-2D79-4E36-B3CB-8403E4DD2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DC2C-A741-4DAA-BE63-59FE20960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D65F-A168-41F9-971B-2D9E90AAF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DEE8-78C0-488E-A0F6-46756D668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09ED-1741-406D-8513-DF37A86B4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0C12B-05C0-4D9E-99F9-C68F6E2592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629F4-4E38-449A-878B-C75593BE23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hallenges in XML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219320" y="1447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’s good… but is it good enough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108240" y="3317760"/>
            <a:ext cx="428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438280" y="4800600"/>
            <a:ext cx="4267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Siddhesh Bhob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Persistent eBusiness Solu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toring XML (Cont.)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ore in database tables, but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XML to relational data conversion is very expensive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urrent set of tools handle only regular XML document structu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Ex. XML-DBM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XML in Oracle 8i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ore XML document as a single, intact object with its tags in a CLOB or BLOB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ore the XML document as data and distribute it untagged across object-relational tabl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bine XML documents and data using view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cessing XML is costly!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XML needs to be parsed… and that is not efficient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ols available today are not easy to use. Need better on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xt processing is always a performance h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 NOT use XML for passing parameters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No data types in XML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 data type support… all XML data is tex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mited options for binary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XML Schema Part 2: Datatypes ( W3C Working Draft, 22 September 2000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poses facilities for defining datatypes in XM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ncoding Binary Dat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Courier New"/>
              </a:rPr>
              <a:t>&lt;image &gt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Courier New"/>
              </a:rPr>
              <a:t>&lt;width&gt;2048&lt;/&gt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Courier New"/>
              </a:rPr>
              <a:t>&lt;height&gt;2500&lt;/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Courier New"/>
              </a:rPr>
              <a:t>&lt;pixels&gt; ... &lt;/&gt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Courier New"/>
              </a:rPr>
              <a:t>&lt;/image&gt;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Courier New"/>
              </a:rPr>
              <a:t>The PIXELS element would contain the binary data encoded in some notation like Base64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Multipart/related MIME type </a:t>
            </a: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(RFC 2112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ME is used for e-mail messages that are not just ASCII text, but include different "types" of inform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multipart/related MIME type was developed to represent compound documents. Individual parts represent individual streams in the compound document.</a:t>
            </a: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xample…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Courier New"/>
              </a:rPr>
              <a:t>Content-Type: multipart/rela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Courier New"/>
              </a:rPr>
              <a:t>--xxxxxxxxx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Courier New"/>
              </a:rPr>
              <a:t>Content-Type: application/binary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Courier New"/>
              </a:rPr>
              <a:t>Content-Transfer-Encoding: Little-Endia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Courier New"/>
              </a:rPr>
              <a:t>Content-ID: Pixel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Courier New"/>
              </a:rPr>
              <a:t>Content-Length: 524288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Courier New"/>
              </a:rPr>
              <a:t>.…encoded binary data here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Courier New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Courier New"/>
              </a:rPr>
              <a:t>--xxxxxxxxxx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XML is great as a data exchange format, but…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ed compressio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ed better storage techniqu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ed fast and easy to use pars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ed data type suppo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XML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 XML shall be straightforwardly usable over the Internet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 XML shall support a wide variety of application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. XML shall be compatible with SGML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. It shall be easy to write programs which process XML document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. The number of optional features in XML is to be kept to the absolute minimum, ideally zero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XML goals (Cont.)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6. XML documents should be human-legible and reasonably clear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7. The XML design should be prepared quickly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8. The design of XML shall be formal and concise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9. XML documents shall be easy to create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0. Terseness in XML markup is of minimal importan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XML has been successful!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XML is emerging as a standard for Document Exchan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gnificant momentum in the market place and industry consort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merce O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setta N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iztal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B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304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ut… is it good enough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XML is verbos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lumn1|Column2|………. ColumnN|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co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&lt;Row&gt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&lt;Column&gt;value1&lt;/Column&gt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&lt;Column&gt;value2&lt;/Column&gt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&lt;Column&gt;valueN&lt;/Column&gt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&lt;/Row&gt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o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re storage sp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re network transmission ti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ata exchange on the net will be very expensive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Anything positive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nds itself very well to compression in case of structured data (like web log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grated non-XML data gives better compression than the original dat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Xmill, paper at SIGMOD 2000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toring XML is difficult!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ore as text, but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ossible to query… no indexing possible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ditional cost of creating blocks… limit on size of text that can be stored in databa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n be updated only by replacing the entire XML document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21T04:45:49Z</dcterms:created>
  <dc:creator>Siddhesh Bhobe</dc:creator>
  <dc:description/>
  <dc:language>en-US</dc:language>
  <cp:lastModifiedBy>Siddhesh Bhobe</cp:lastModifiedBy>
  <dcterms:modified xsi:type="dcterms:W3CDTF">2000-09-28T11:22:54Z</dcterms:modified>
  <cp:revision>8</cp:revision>
  <dc:subject/>
  <dc:title>Challenges in XML</dc:title>
</cp:coreProperties>
</file>