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773600" y="5638680"/>
            <a:ext cx="4365360" cy="1219320"/>
            <a:chOff x="4773600" y="5638680"/>
            <a:chExt cx="4365360" cy="121932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943760" y="5638680"/>
              <a:ext cx="1195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773600" y="6509520"/>
              <a:ext cx="333324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The World Leader in Making Software Work Together ™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44800" y="65214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44E2-895A-4124-8693-74991CB115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0040" y="655308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IONA Technologies 1998-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BA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 for bridging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 for rich communication patterns between clients and servers, and peer-pe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, messaging, events, notific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vides transactions, security,  object location, system management, 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-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J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 Java specif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adds a strong view of com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ment, assembly, deploy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BA and EJB go well togeth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ild EJB on CORB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MG is defining “CORBA Components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similar strong view of components, but programming language independen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- perform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 careful about the performance of IDL interfa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tribution is transparent, but networks are still slo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- PO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A is comple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t it adds the flexibility you need to build truely performant and scalable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adds a lot of support for persistent ob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3520" y="7596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- CORBA and Datab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se need each oth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y CORBA servers need persist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y database applications will benefit from CORBA’s abi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ridging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ch communic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ght weight cli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- Relat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teps 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lement OO to Rel (or VV) mapp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ad objects as requir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 caching and transac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de generation for some or all of th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fu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t be very very careful to have a proper business layer in the server  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0T18:00:39Z</dcterms:created>
  <dc:creator>clewis</dc:creator>
  <dc:description/>
  <dc:language>en-US</dc:language>
  <cp:lastModifiedBy>Sean Baker</cp:lastModifiedBy>
  <cp:lastPrinted>1999-08-03T08:31:45Z</cp:lastPrinted>
  <dcterms:modified xsi:type="dcterms:W3CDTF">1999-09-08T10:25:13Z</dcterms:modified>
  <cp:revision>199</cp:revision>
  <dc:subject/>
  <dc:title>No Slide Title</dc:title>
</cp:coreProperties>
</file>