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4960" y="937224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EA14-C248-41E5-9A81-83A85FF52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046160" y="915840"/>
            <a:ext cx="2868480" cy="21513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87040" y="4689360"/>
            <a:ext cx="4886280" cy="4152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7440" bIns="37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IMATED SLI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jor point: the role of IDL, insulates callers from implementations in a standard wa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DL interface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IDL is what  enables this bus - it’s a standard language for defining interfaces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oal: give all users of an object a consistent view of that object, regardless of where they’re calling fro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ultiple caller languages: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y caller gets a ‘native’ view of the object - C++ caller thinks it’s a C++ object, Java sees a Java object etc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ultiple implementation languages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Can replace the implementation not only with new code, but with code in completely different languag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65160" y="873000"/>
            <a:ext cx="3189240" cy="23925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85600" y="4689000"/>
            <a:ext cx="4887720" cy="4437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mphasise: IDL is only thing that client and server developers need to shar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DL is the key to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anaging distributed system complexit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 It hides details of different parts of the system, but provides the common linkage which allows them to communicate - hence allowing independent development of different component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pport code is produced by an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DL compile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which is appropriate to the target languag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ents and servers are built by combining IDL generated support code with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pplication logic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- BLUE: JAV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- GREEN: C+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**NOTE: Gary says that the server and client labels should build first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65160" y="873000"/>
            <a:ext cx="3189240" cy="23925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85600" y="4689000"/>
            <a:ext cx="4887720" cy="4437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w does the magic of p-&gt;height() really work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ent is really calling on a  local object, that abstracts the hard stuff of network hassle. This is called a proxy object, an instance (for example in C++) of a proxy class (meaning representative) for the remote target objec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rid proxy class is generated by IDL compiler, proxy is created automatically by the ORB whenever the client obtains a remote reference (e.g. _bind or from the Name service.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ent programmer can think in terms of a direct pointer to the grid implementation on the server, ORB will manage all the networking and proxy creatio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ving seen the detail of the client operation we will now go over the server side briefl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774960" y="6480"/>
            <a:ext cx="2887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74960" y="9393120"/>
            <a:ext cx="288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-1440" y="9393120"/>
            <a:ext cx="288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-1440" y="6480"/>
            <a:ext cx="28875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31840" y="1000080"/>
            <a:ext cx="2849760" cy="2138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774960" y="6480"/>
            <a:ext cx="2887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74960" y="9393120"/>
            <a:ext cx="288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-1440" y="9393120"/>
            <a:ext cx="288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-1440" y="6480"/>
            <a:ext cx="28875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31840" y="1000080"/>
            <a:ext cx="2849760" cy="2138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0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361480" y="5638680"/>
            <a:ext cx="3777480" cy="1219320"/>
            <a:chOff x="5361480" y="5638680"/>
            <a:chExt cx="3777480" cy="121932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943400" y="5638680"/>
              <a:ext cx="11955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5361480" y="6509520"/>
              <a:ext cx="215496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Making Software Work Together ™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44800" y="65214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12D2-CD5A-4894-AC79-22ABDC46CF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0040" y="655308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IONA Technologies 1998-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9.wmf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69120" y="3533760"/>
            <a:ext cx="478476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6cf00"/>
                </a:solidFill>
                <a:latin typeface="Times New Roman"/>
              </a:rPr>
              <a:t>Seán  Bak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6cf00"/>
                </a:solidFill>
                <a:latin typeface="Times New Roman"/>
              </a:rPr>
              <a:t>Chief Scientific Offi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6cf00"/>
                </a:solidFill>
                <a:latin typeface="Times New Roman"/>
              </a:rPr>
              <a:t>IONA Technologies PLC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8560" y="97488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 database centri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update on CORB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910560" y="2330280"/>
            <a:ext cx="1215720" cy="329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9520" y="5627520"/>
            <a:ext cx="1216080" cy="66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9520" y="3892680"/>
            <a:ext cx="1216080" cy="666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405160"/>
            <a:ext cx="1216080" cy="666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063880"/>
            <a:ext cx="1216080" cy="1533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037120"/>
            <a:ext cx="1216080" cy="1533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976560"/>
            <a:ext cx="1216080" cy="666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Language, Operating System, Network Boundar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0480" y="2225520"/>
            <a:ext cx="60984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83120" y="5700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0480" y="4064040"/>
            <a:ext cx="60984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83120" y="244476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656240"/>
            <a:ext cx="60948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16920" y="2598840"/>
            <a:ext cx="60948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83120" y="398448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0480" y="2976480"/>
            <a:ext cx="60984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0480" y="5916600"/>
            <a:ext cx="60984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0480" y="5165640"/>
            <a:ext cx="60984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4840" y="1622520"/>
            <a:ext cx="7703640" cy="4048920"/>
            <a:chOff x="384840" y="1622520"/>
            <a:chExt cx="7703640" cy="4048920"/>
          </a:xfrm>
        </p:grpSpPr>
        <p:sp>
          <p:nvSpPr>
            <p:cNvPr id="106" name=""/>
            <p:cNvSpPr/>
            <p:nvPr/>
          </p:nvSpPr>
          <p:spPr>
            <a:xfrm>
              <a:off x="384840" y="1622520"/>
              <a:ext cx="2113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W95 and W98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720" y="3571920"/>
              <a:ext cx="622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NT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800" y="4606920"/>
              <a:ext cx="86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Palm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16640" y="1968480"/>
              <a:ext cx="1098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Solari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15200" y="3459240"/>
              <a:ext cx="622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NT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14480" y="5181480"/>
              <a:ext cx="1192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HP-U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94360" y="1833480"/>
              <a:ext cx="1194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OS/390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63120" y="2184480"/>
            <a:ext cx="7718760" cy="4274640"/>
            <a:chOff x="1563120" y="2184480"/>
            <a:chExt cx="7718760" cy="4274640"/>
          </a:xfrm>
        </p:grpSpPr>
        <p:sp>
          <p:nvSpPr>
            <p:cNvPr id="114" name=""/>
            <p:cNvSpPr/>
            <p:nvPr/>
          </p:nvSpPr>
          <p:spPr>
            <a:xfrm>
              <a:off x="1563120" y="218448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6cf00"/>
                  </a:solidFill>
                  <a:latin typeface="Times New Roman"/>
                </a:rPr>
                <a:t>VB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63120" y="3041640"/>
              <a:ext cx="76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6cf00"/>
                  </a:solidFill>
                  <a:latin typeface="Times New Roman"/>
                </a:rPr>
                <a:t>Jav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3480" y="4041720"/>
              <a:ext cx="773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6cf00"/>
                  </a:solidFill>
                  <a:latin typeface="Times New Roman"/>
                </a:rPr>
                <a:t>C++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3120" y="5127480"/>
              <a:ext cx="76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6cf00"/>
                  </a:solidFill>
                  <a:latin typeface="Times New Roman"/>
                </a:rPr>
                <a:t>Jav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3480" y="5969160"/>
              <a:ext cx="4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6cf00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60440" y="2482920"/>
              <a:ext cx="773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6cf00"/>
                  </a:solidFill>
                  <a:latin typeface="Times New Roman"/>
                </a:rPr>
                <a:t>C++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60440" y="4008600"/>
              <a:ext cx="76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6cf00"/>
                  </a:solidFill>
                  <a:latin typeface="Times New Roman"/>
                </a:rPr>
                <a:t>Jav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60440" y="5662440"/>
              <a:ext cx="773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6cf00"/>
                  </a:solidFill>
                  <a:latin typeface="Times New Roman"/>
                </a:rPr>
                <a:t>C++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70840" y="253368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6cf00"/>
                  </a:solidFill>
                  <a:latin typeface="Times New Roman"/>
                </a:rPr>
                <a:t>COB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21240" y="4641840"/>
              <a:ext cx="76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6cf00"/>
                  </a:solidFill>
                  <a:latin typeface="Times New Roman"/>
                </a:rPr>
                <a:t>PL/I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5800" y="2168640"/>
            <a:ext cx="42876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55800" y="3708360"/>
            <a:ext cx="42876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095880" y="4572000"/>
            <a:ext cx="4287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048360" y="2362320"/>
            <a:ext cx="42876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743200" y="5181480"/>
            <a:ext cx="42876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Each Boundary Creates Software Island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1000" y="3657600"/>
            <a:ext cx="2979720" cy="1909800"/>
            <a:chOff x="81000" y="3657600"/>
            <a:chExt cx="2979720" cy="1909800"/>
          </a:xfrm>
        </p:grpSpPr>
        <p:graphicFrame>
          <p:nvGraphicFramePr>
            <p:cNvPr id="131" name=""/>
            <p:cNvGraphicFramePr/>
            <p:nvPr/>
          </p:nvGraphicFramePr>
          <p:xfrm>
            <a:off x="81000" y="3657600"/>
            <a:ext cx="2979720" cy="190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000" y="3657600"/>
                      <a:ext cx="2979720" cy="19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1157040" y="4441680"/>
              <a:ext cx="942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C+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012000" y="3657600"/>
            <a:ext cx="2979720" cy="1909800"/>
            <a:chOff x="6012000" y="3657600"/>
            <a:chExt cx="2979720" cy="1909800"/>
          </a:xfrm>
        </p:grpSpPr>
        <p:graphicFrame>
          <p:nvGraphicFramePr>
            <p:cNvPr id="135" name=""/>
            <p:cNvGraphicFramePr/>
            <p:nvPr/>
          </p:nvGraphicFramePr>
          <p:xfrm>
            <a:off x="6012000" y="3657600"/>
            <a:ext cx="2979720" cy="190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2000" y="3657600"/>
                      <a:ext cx="2979720" cy="19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6737760" y="4441680"/>
              <a:ext cx="165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COBO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052800" y="3657600"/>
            <a:ext cx="2979720" cy="1909800"/>
            <a:chOff x="3052800" y="3657600"/>
            <a:chExt cx="2979720" cy="1909800"/>
          </a:xfrm>
        </p:grpSpPr>
        <p:graphicFrame>
          <p:nvGraphicFramePr>
            <p:cNvPr id="139" name=""/>
            <p:cNvGraphicFramePr/>
            <p:nvPr/>
          </p:nvGraphicFramePr>
          <p:xfrm>
            <a:off x="3052800" y="3657600"/>
            <a:ext cx="2979720" cy="190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52800" y="3657600"/>
                      <a:ext cx="2979720" cy="19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4126680" y="4441680"/>
              <a:ext cx="1001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Jav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17960" y="2057400"/>
            <a:ext cx="78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example, different programming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910560" y="1851120"/>
            <a:ext cx="1215720" cy="3295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19520" y="5148360"/>
            <a:ext cx="1216080" cy="666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9520" y="3413160"/>
            <a:ext cx="1216080" cy="666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19520" y="1925640"/>
            <a:ext cx="1216080" cy="666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he Internet Boundar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83120" y="5221440"/>
            <a:ext cx="60948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83120" y="196524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16920" y="417672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16920" y="211932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3120" y="3505320"/>
            <a:ext cx="60948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7360" y="1143000"/>
            <a:ext cx="7609320" cy="4048920"/>
            <a:chOff x="387360" y="1143000"/>
            <a:chExt cx="7609320" cy="4048920"/>
          </a:xfrm>
        </p:grpSpPr>
        <p:sp>
          <p:nvSpPr>
            <p:cNvPr id="154" name=""/>
            <p:cNvSpPr/>
            <p:nvPr/>
          </p:nvSpPr>
          <p:spPr>
            <a:xfrm>
              <a:off x="387360" y="1143000"/>
              <a:ext cx="184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7360" y="3092400"/>
              <a:ext cx="184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7360" y="4127400"/>
              <a:ext cx="184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6640" y="1488960"/>
              <a:ext cx="1098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Solari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5200" y="2979720"/>
              <a:ext cx="622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NT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14480" y="4701960"/>
              <a:ext cx="1192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HP-UX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94000" y="1353960"/>
              <a:ext cx="1102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ff00"/>
                  </a:solidFill>
                  <a:latin typeface="Times New Roman"/>
                </a:rPr>
                <a:t>OS390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74320" y="1707120"/>
            <a:ext cx="16736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6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800" spc="-1" strike="noStrike">
                <a:solidFill>
                  <a:srgbClr val="f6cf00"/>
                </a:solidFill>
                <a:latin typeface="Times New Roman"/>
              </a:rPr>
              <a:t>W W W</a:t>
            </a:r>
            <a:endParaRPr b="0" lang="en-US" sz="9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flipV="1">
            <a:off x="1881360" y="2091600"/>
            <a:ext cx="1380240" cy="752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32080" y="1835280"/>
            <a:ext cx="428760" cy="863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47080" y="1165320"/>
            <a:ext cx="128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ff00"/>
                </a:solidFill>
                <a:latin typeface="Times New Roman"/>
              </a:rPr>
              <a:t>Secur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flipV="1">
            <a:off x="1825560" y="3625200"/>
            <a:ext cx="1380240" cy="752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76640" y="3368520"/>
            <a:ext cx="428400" cy="863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07920" y="2835360"/>
            <a:ext cx="18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ff00"/>
                </a:solidFill>
                <a:latin typeface="Times New Roman"/>
              </a:rPr>
              <a:t>Connec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 flipV="1">
            <a:off x="1810800" y="5225400"/>
            <a:ext cx="1380600" cy="752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262240" y="4968720"/>
            <a:ext cx="428400" cy="863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00440" y="4344840"/>
            <a:ext cx="186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ff00"/>
                </a:solidFill>
                <a:latin typeface="Times New Roman"/>
              </a:rPr>
              <a:t>Transac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Organisational Boundar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73360" y="2963880"/>
            <a:ext cx="1324080" cy="1411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752480"/>
            <a:ext cx="3263760" cy="31244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1752480"/>
            <a:ext cx="3263760" cy="31244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565200" cy="1139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7400" y="1182600"/>
            <a:ext cx="289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00"/>
                </a:solidFill>
                <a:latin typeface="Times New Roman"/>
              </a:rPr>
              <a:t>Your Org. or Dep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7320" y="1182600"/>
            <a:ext cx="263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00"/>
                </a:solidFill>
                <a:latin typeface="Times New Roman"/>
              </a:rPr>
              <a:t>My Org. or</a:t>
            </a:r>
            <a:r>
              <a:rPr b="1" lang="en-GB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ff00"/>
                </a:solidFill>
                <a:latin typeface="Times New Roman"/>
              </a:rPr>
              <a:t>Dep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5181480"/>
            <a:ext cx="7848720" cy="1105200"/>
          </a:xfrm>
          <a:prstGeom prst="wedgeRoundRectCallout">
            <a:avLst>
              <a:gd name="adj1" fmla="val 42069"/>
              <a:gd name="adj2" fmla="val -103592"/>
              <a:gd name="adj3" fmla="val 16667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, I won’t export my database schema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ut I will export a high level inter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71560" y="2340000"/>
            <a:ext cx="1430280" cy="1768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186520" y="2104920"/>
            <a:ext cx="30193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Conclusion: Many Boundar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3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ssag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gac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ra/Extra/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onent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ganis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89600" y="1600200"/>
            <a:ext cx="314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Some Challenges in MSW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imes New Roman"/>
              </a:rPr>
              <a:t>Bridging Software Bound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different programming langu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different operat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leg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administr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data paradigm (relational, OO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imes New Roman"/>
              </a:rPr>
              <a:t>Ease-of-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MSWT is not just for rocket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E.g., Internet = millions of users, da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imes New Roman"/>
              </a:rPr>
              <a:t>Ag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you want a lot of flexibility -- not a straight-jack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275600" y="1523880"/>
            <a:ext cx="1688760" cy="2003400"/>
            <a:chOff x="7275600" y="1523880"/>
            <a:chExt cx="1688760" cy="2003400"/>
          </a:xfrm>
        </p:grpSpPr>
        <p:sp>
          <p:nvSpPr>
            <p:cNvPr id="187" name=""/>
            <p:cNvSpPr/>
            <p:nvPr/>
          </p:nvSpPr>
          <p:spPr>
            <a:xfrm>
              <a:off x="8732160" y="2437200"/>
              <a:ext cx="232200" cy="241560"/>
            </a:xfrm>
            <a:prstGeom prst="ellipse">
              <a:avLst/>
            </a:prstGeom>
            <a:gradFill rotWithShape="0">
              <a:gsLst>
                <a:gs pos="0">
                  <a:srgbClr val="b10023"/>
                </a:gs>
                <a:gs pos="100000">
                  <a:srgbClr val="ff0033"/>
                </a:gs>
              </a:gsLst>
              <a:lin ang="10800000"/>
            </a:gradFill>
            <a:ln w="12600">
              <a:solidFill>
                <a:srgbClr val="f6cf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69640" y="1631160"/>
              <a:ext cx="1283400" cy="776880"/>
            </a:xfrm>
            <a:prstGeom prst="line">
              <a:avLst/>
            </a:prstGeom>
            <a:ln w="12600">
              <a:solidFill>
                <a:srgbClr val="f6c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480" y="1977120"/>
              <a:ext cx="1221840" cy="505080"/>
            </a:xfrm>
            <a:prstGeom prst="line">
              <a:avLst/>
            </a:prstGeom>
            <a:ln w="12600">
              <a:solidFill>
                <a:srgbClr val="f6c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79000" y="2296800"/>
              <a:ext cx="1195560" cy="259560"/>
            </a:xfrm>
            <a:prstGeom prst="line">
              <a:avLst/>
            </a:prstGeom>
            <a:ln w="12600">
              <a:solidFill>
                <a:srgbClr val="f6c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89080" y="2603880"/>
              <a:ext cx="1191600" cy="19440"/>
            </a:xfrm>
            <a:prstGeom prst="line">
              <a:avLst/>
            </a:prstGeom>
            <a:ln w="12600">
              <a:solidFill>
                <a:srgbClr val="f6c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476840" y="2681640"/>
              <a:ext cx="1223640" cy="277920"/>
            </a:xfrm>
            <a:prstGeom prst="line">
              <a:avLst/>
            </a:prstGeom>
            <a:ln w="12600">
              <a:solidFill>
                <a:srgbClr val="f6c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75600" y="1523880"/>
              <a:ext cx="232560" cy="241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f6cf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75600" y="1850400"/>
              <a:ext cx="232560" cy="241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6cf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75600" y="2175840"/>
              <a:ext cx="232560" cy="241560"/>
            </a:xfrm>
            <a:prstGeom prst="ellipse">
              <a:avLst/>
            </a:prstGeom>
            <a:gradFill rotWithShape="0">
              <a:gsLst>
                <a:gs pos="0">
                  <a:srgbClr val="b10023"/>
                </a:gs>
                <a:gs pos="100000">
                  <a:srgbClr val="ff0033"/>
                </a:gs>
              </a:gsLst>
              <a:lin ang="10800000"/>
            </a:gradFill>
            <a:ln w="12600">
              <a:solidFill>
                <a:srgbClr val="f6cf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75600" y="2502720"/>
              <a:ext cx="232560" cy="241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6cf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75600" y="2859480"/>
              <a:ext cx="232560" cy="241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6cf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75600" y="3285000"/>
              <a:ext cx="232560" cy="24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6cf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499880" y="2733480"/>
              <a:ext cx="1239840" cy="623880"/>
            </a:xfrm>
            <a:prstGeom prst="line">
              <a:avLst/>
            </a:prstGeom>
            <a:ln w="12600">
              <a:solidFill>
                <a:srgbClr val="f6c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523200" y="1539720"/>
            <a:ext cx="4474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6cf00"/>
                </a:solidFill>
                <a:latin typeface="New York"/>
              </a:rPr>
              <a:t>C+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3200" y="1860480"/>
            <a:ext cx="8334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cf00"/>
                </a:solidFill>
                <a:latin typeface="New York"/>
              </a:rPr>
              <a:t>Smalltal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23200" y="2249640"/>
            <a:ext cx="5252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6cf00"/>
                </a:solidFill>
                <a:latin typeface="New York"/>
              </a:rPr>
              <a:t>Jav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81440" y="2496960"/>
            <a:ext cx="94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6cf00"/>
                </a:solidFill>
                <a:latin typeface="New York"/>
              </a:rPr>
              <a:t>Active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6cf00"/>
                </a:solidFill>
                <a:latin typeface="New York"/>
              </a:rPr>
              <a:t>   </a:t>
            </a:r>
            <a:r>
              <a:rPr b="0" lang="en-US" sz="500" spc="-1" strike="noStrike">
                <a:solidFill>
                  <a:srgbClr val="f6cf00"/>
                </a:solidFill>
                <a:latin typeface="New York"/>
              </a:rPr>
              <a:t>(Visual Basic,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6cf00"/>
                </a:solidFill>
                <a:latin typeface="New York"/>
              </a:rPr>
              <a:t>     </a:t>
            </a:r>
            <a:r>
              <a:rPr b="0" lang="en-US" sz="500" spc="-1" strike="noStrike">
                <a:solidFill>
                  <a:srgbClr val="f6cf00"/>
                </a:solidFill>
                <a:latin typeface="New York"/>
              </a:rPr>
              <a:t>Delphi, Power Builder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7720" y="2909880"/>
            <a:ext cx="6102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cf00"/>
                </a:solidFill>
                <a:latin typeface="New York"/>
              </a:rPr>
              <a:t>CO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2120" y="3300480"/>
            <a:ext cx="4165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cf00"/>
                </a:solidFill>
                <a:latin typeface="New York"/>
              </a:rPr>
              <a:t>PL/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66240" y="52560"/>
            <a:ext cx="28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aking software work togeth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ome Types of MSW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things must “work together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In-house and Custom-built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In-house and Custom-built applications (legacy, herit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aged applications (COTS Packages) -  e.g.,  ERP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b and Internet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Top 10 list: Why MSW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55000" y="5961240"/>
            <a:ext cx="48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ource: Soundview Technology Group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102960" y="971640"/>
            <a:ext cx="96296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Comic Sans MS"/>
              </a:rPr>
              <a:t>Business/technical reason for wanting to</a:t>
            </a:r>
            <a:r>
              <a:rPr b="0" lang="en-GB" sz="2400" spc="-1" strike="noStrike">
                <a:solidFill>
                  <a:srgbClr val="f6c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Arial"/>
              </a:rPr>
              <a:t>Weigh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6cf00"/>
                </a:solidFill>
                <a:latin typeface="Comic Sans MS"/>
              </a:rPr>
              <a:t>Make Software Work Together</a:t>
            </a:r>
            <a:r>
              <a:rPr b="0" lang="en-GB" sz="2400" spc="-1" strike="noStrike">
                <a:solidFill>
                  <a:srgbClr val="f6c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1.  External Web access to "internal" applications 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2.  Shorter "cycle times" and the need to improve service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3.  Corporate initiatives such as "supply-chain integration" 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4.  Specific end-user requests 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5.  Mergers and acquisitions 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6.  Links to customers and suppliers for e-commerce 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7.  Consolidation of systems into centralized management 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8.  Pressure on IT costs 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9.  Growth in the "reuse" of existing applications 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10. Major implementation of SAP or similar enterprise package 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6cf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CORB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Key Architecture for Making Software Work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CORBA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BA is a standard controlled by the Object Management Group (OM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MG Formed 1989 (10th Anniversa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w 1000+ members (Q1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omg-logo" descr=""/>
          <p:cNvPicPr/>
          <p:nvPr/>
        </p:nvPicPr>
        <p:blipFill>
          <a:blip r:embed="rId1"/>
          <a:stretch/>
        </p:blipFill>
        <p:spPr>
          <a:xfrm>
            <a:off x="4933800" y="1905120"/>
            <a:ext cx="3170520" cy="1485720"/>
          </a:xfrm>
          <a:prstGeom prst="rect">
            <a:avLst/>
          </a:prstGeom>
          <a:ln w="0">
            <a:noFill/>
          </a:ln>
        </p:spPr>
      </p:pic>
      <p:pic>
        <p:nvPicPr>
          <p:cNvPr id="217" name="corbhor1" descr=""/>
          <p:cNvPicPr/>
          <p:nvPr/>
        </p:nvPicPr>
        <p:blipFill>
          <a:blip r:embed="rId2"/>
          <a:stretch/>
        </p:blipFill>
        <p:spPr>
          <a:xfrm>
            <a:off x="4933800" y="4514760"/>
            <a:ext cx="3246480" cy="6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74520"/>
            <a:ext cx="879768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  -  CORBA and EJ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dging Boundaries - the reason for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 to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BA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standards:  POA in par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   - CORBA and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First Key To CORBA - Interface Definition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51080" y="1843200"/>
            <a:ext cx="60948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51080" y="2620800"/>
            <a:ext cx="609480" cy="533520"/>
          </a:xfrm>
          <a:prstGeom prst="ellipse">
            <a:avLst/>
          </a:prstGeom>
          <a:gradFill rotWithShape="0">
            <a:gsLst>
              <a:gs pos="0">
                <a:srgbClr val="d5f3f3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51080" y="3432240"/>
            <a:ext cx="609480" cy="533160"/>
          </a:xfrm>
          <a:prstGeom prst="ellipse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51080" y="4278240"/>
            <a:ext cx="609480" cy="533520"/>
          </a:xfrm>
          <a:prstGeom prst="ellipse">
            <a:avLst/>
          </a:prstGeom>
          <a:gradFill rotWithShape="0">
            <a:gsLst>
              <a:gs pos="0">
                <a:srgbClr val="cbfecb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51080" y="508788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78480" y="3360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75040" y="2205000"/>
            <a:ext cx="2998440" cy="1146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2833560"/>
            <a:ext cx="2874960" cy="635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075040" y="3790800"/>
            <a:ext cx="2944800" cy="758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75040" y="3908520"/>
            <a:ext cx="3085920" cy="1411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3560" y="17287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3560" y="2604960"/>
            <a:ext cx="79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2120" y="3375000"/>
            <a:ext cx="84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3560" y="424980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2840" y="5124600"/>
            <a:ext cx="77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A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251320" y="3449520"/>
            <a:ext cx="270000" cy="387360"/>
            <a:chOff x="5251320" y="3449520"/>
            <a:chExt cx="270000" cy="387360"/>
          </a:xfrm>
        </p:grpSpPr>
        <p:sp>
          <p:nvSpPr>
            <p:cNvPr id="235" name=""/>
            <p:cNvSpPr/>
            <p:nvPr/>
          </p:nvSpPr>
          <p:spPr>
            <a:xfrm>
              <a:off x="5275440" y="3632040"/>
              <a:ext cx="245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1320" y="3449520"/>
              <a:ext cx="0" cy="387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715000" y="2133720"/>
            <a:ext cx="342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Implementation is Hidden behind interf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26160" y="46846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ervice or Contract-oriented 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365760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429000" y="403848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403848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he Second Key to CORBA: II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2895480"/>
            <a:ext cx="5638680" cy="1447920"/>
          </a:xfrm>
          <a:prstGeom prst="leftRightArrow">
            <a:avLst>
              <a:gd name="adj1" fmla="val 50000"/>
              <a:gd name="adj2" fmla="val 77526"/>
            </a:avLst>
          </a:prstGeom>
          <a:solidFill>
            <a:srgbClr val="3366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457200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1905120"/>
            <a:ext cx="60948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905120"/>
            <a:ext cx="60948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4572000"/>
            <a:ext cx="60984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243828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243828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403848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457200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95920" y="342792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RBA Software 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8840" y="5262840"/>
            <a:ext cx="94716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43280" y="5262840"/>
            <a:ext cx="121104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B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10200" y="5262840"/>
            <a:ext cx="135252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mall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666880"/>
            <a:ext cx="53352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666880"/>
            <a:ext cx="53316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4267080"/>
            <a:ext cx="53352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4267080"/>
            <a:ext cx="53352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4267080"/>
            <a:ext cx="53352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60480" y="4846320"/>
            <a:ext cx="15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terface Definitio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286000" y="4343040"/>
            <a:ext cx="91440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562360" y="2508120"/>
            <a:ext cx="1253880" cy="92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7520" y="1812600"/>
            <a:ext cx="23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tocol for communication: II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895480" y="434340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434340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he Third Key to CORBA:</a:t>
            </a:r>
            <a:r>
              <a:rPr b="1" i="1" lang="en-GB" sz="4400" spc="-1" strike="noStrike">
                <a:solidFill>
                  <a:srgbClr val="ffcc00"/>
                </a:solidFill>
                <a:latin typeface="Times New Roman"/>
              </a:rPr>
              <a:t> Servi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200400"/>
            <a:ext cx="5105520" cy="1447920"/>
          </a:xfrm>
          <a:prstGeom prst="leftRightArrow">
            <a:avLst>
              <a:gd name="adj1" fmla="val 50000"/>
              <a:gd name="adj2" fmla="val 70196"/>
            </a:avLst>
          </a:prstGeom>
          <a:solidFill>
            <a:srgbClr val="3366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2209680"/>
            <a:ext cx="60948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2209680"/>
            <a:ext cx="609840" cy="53352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4876920"/>
            <a:ext cx="60948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74320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274320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434340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4876920"/>
            <a:ext cx="609840" cy="533160"/>
          </a:xfrm>
          <a:prstGeom prst="ellipse">
            <a:avLst/>
          </a:prstGeom>
          <a:gradFill rotWithShape="0">
            <a:gsLst>
              <a:gs pos="0">
                <a:srgbClr val="e4cbe4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62400" y="373284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RBA Software 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2480" y="556164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3800" y="17514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8320" y="5561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B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52840" y="55616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mall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19360" y="1751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2209680"/>
            <a:ext cx="609480" cy="533520"/>
          </a:xfrm>
          <a:prstGeom prst="ellipse">
            <a:avLst/>
          </a:prstGeom>
          <a:gradFill rotWithShape="0">
            <a:gsLst>
              <a:gs pos="0">
                <a:srgbClr val="fecbcb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74320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8440" y="17514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a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19800" y="1774440"/>
            <a:ext cx="14637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Na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ransa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ra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No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Persist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62720" y="22860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495680"/>
            <a:ext cx="53352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495680"/>
            <a:ext cx="53352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4495680"/>
            <a:ext cx="53352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2971800"/>
            <a:ext cx="53352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2971800"/>
            <a:ext cx="53352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2971800"/>
            <a:ext cx="53316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360" y="1793520"/>
            <a:ext cx="15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tandard IDL for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50960" y="2365200"/>
            <a:ext cx="3208320" cy="495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2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hat about CORBA and OS/390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2880" y="1905120"/>
            <a:ext cx="817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frame can be made a first class citiz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access components on other mach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machines can access components running on OS/3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s can be moved from or to the main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ve, USS or C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, Java, COBOL or PL/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CORBA: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ure, deployed and sca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 momentum continues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en foundation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king Software Work Togeth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lps deliver on our 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World Without Software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3 : Containers, Components &amp; Conne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A view of current trends in the component and middleware industri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304920"/>
            <a:ext cx="23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 1 (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rossing Boundaries - Making Software Work Toge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igh rate of development of new techn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need a greater emphasis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on a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frame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600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 which you can plug new technologies as you adopt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600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which can work with current and legac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framework must be a stand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can persist as </a:t>
            </a:r>
            <a:r>
              <a:rPr b="1" lang="en-GB" sz="2800" spc="-1" strike="noStrike">
                <a:solidFill>
                  <a:srgbClr val="99ff33"/>
                </a:solidFill>
                <a:latin typeface="Times New Roman"/>
              </a:rPr>
              <a:t>Technologies</a:t>
            </a:r>
            <a:r>
              <a:rPr b="0" lang="en-GB" sz="28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99ff33"/>
                </a:solidFill>
                <a:latin typeface="Times New Roman"/>
              </a:rPr>
              <a:t>Business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99ff33"/>
                </a:solidFill>
                <a:latin typeface="Times New Roman"/>
              </a:rPr>
              <a:t>Application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 flipH="1">
            <a:off x="2190240" y="3414600"/>
            <a:ext cx="1576440" cy="2041560"/>
          </a:xfrm>
          <a:prstGeom prst="line">
            <a:avLst/>
          </a:prstGeom>
          <a:ln w="38160">
            <a:solidFill>
              <a:srgbClr val="f6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240" y="3681360"/>
            <a:ext cx="112680" cy="2389320"/>
          </a:xfrm>
          <a:prstGeom prst="line">
            <a:avLst/>
          </a:prstGeom>
          <a:ln w="38160">
            <a:solidFill>
              <a:srgbClr val="f6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89600" y="3459240"/>
            <a:ext cx="1136520" cy="1969920"/>
          </a:xfrm>
          <a:prstGeom prst="line">
            <a:avLst/>
          </a:prstGeom>
          <a:ln w="38160">
            <a:solidFill>
              <a:srgbClr val="f6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3 Archite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9" name="c3container" descr=""/>
          <p:cNvPicPr/>
          <p:nvPr/>
        </p:nvPicPr>
        <p:blipFill>
          <a:blip r:embed="rId1"/>
          <a:stretch/>
        </p:blipFill>
        <p:spPr>
          <a:xfrm>
            <a:off x="1739880" y="2033640"/>
            <a:ext cx="5897520" cy="3252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306520" y="1270080"/>
            <a:ext cx="4773960" cy="398880"/>
          </a:xfrm>
          <a:prstGeom prst="rect">
            <a:avLst/>
          </a:prstGeom>
          <a:noFill/>
          <a:ln w="9360">
            <a:solidFill>
              <a:srgbClr val="f6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cf00"/>
                </a:solidFill>
                <a:latin typeface="Arial"/>
              </a:rPr>
              <a:t>COMPONENT DEVELOPMENT 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3040" y="16527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cf00"/>
                </a:solidFill>
                <a:latin typeface="Arial"/>
              </a:rPr>
              <a:t>CONTAI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51800" y="561024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cf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92920" y="61293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cf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65800" y="5599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cf00"/>
                </a:solidFill>
                <a:latin typeface="Arial"/>
              </a:rPr>
              <a:t>ERP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178160" y="2502000"/>
            <a:ext cx="851040" cy="927000"/>
            <a:chOff x="4178160" y="2502000"/>
            <a:chExt cx="851040" cy="927000"/>
          </a:xfrm>
        </p:grpSpPr>
        <p:sp>
          <p:nvSpPr>
            <p:cNvPr id="316" name=""/>
            <p:cNvSpPr/>
            <p:nvPr/>
          </p:nvSpPr>
          <p:spPr>
            <a:xfrm>
              <a:off x="4178160" y="2502000"/>
              <a:ext cx="851040" cy="9270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6960" y="2782800"/>
              <a:ext cx="61344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076560" y="2050920"/>
            <a:ext cx="851040" cy="927360"/>
          </a:xfrm>
          <a:prstGeom prst="ellipse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07520" y="2332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3800" y="43578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cf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6120" y="4734000"/>
            <a:ext cx="830520" cy="209520"/>
          </a:xfrm>
          <a:prstGeom prst="line">
            <a:avLst/>
          </a:prstGeom>
          <a:ln w="28440">
            <a:solidFill>
              <a:srgbClr val="f6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362400" y="4530600"/>
            <a:ext cx="203040" cy="387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034720" y="3279600"/>
            <a:ext cx="368280" cy="190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43760" y="4435560"/>
            <a:ext cx="209520" cy="330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TRANSACT" descr=""/>
          <p:cNvPicPr/>
          <p:nvPr/>
        </p:nvPicPr>
        <p:blipFill>
          <a:blip r:embed="rId2"/>
          <a:stretch/>
        </p:blipFill>
        <p:spPr>
          <a:xfrm>
            <a:off x="2230560" y="3440160"/>
            <a:ext cx="1106280" cy="1305000"/>
          </a:xfrm>
          <a:prstGeom prst="rect">
            <a:avLst/>
          </a:prstGeom>
          <a:ln w="0">
            <a:noFill/>
          </a:ln>
        </p:spPr>
      </p:pic>
      <p:pic>
        <p:nvPicPr>
          <p:cNvPr id="326" name="MESSAGE" descr=""/>
          <p:cNvPicPr/>
          <p:nvPr/>
        </p:nvPicPr>
        <p:blipFill>
          <a:blip r:embed="rId3"/>
          <a:stretch/>
        </p:blipFill>
        <p:spPr>
          <a:xfrm>
            <a:off x="6386400" y="3498840"/>
            <a:ext cx="822600" cy="1084320"/>
          </a:xfrm>
          <a:prstGeom prst="rect">
            <a:avLst/>
          </a:prstGeom>
          <a:ln w="0">
            <a:noFill/>
          </a:ln>
        </p:spPr>
      </p:pic>
      <p:pic>
        <p:nvPicPr>
          <p:cNvPr id="327" name="DATABASE" descr=""/>
          <p:cNvPicPr/>
          <p:nvPr/>
        </p:nvPicPr>
        <p:blipFill>
          <a:blip r:embed="rId4"/>
          <a:stretch/>
        </p:blipFill>
        <p:spPr>
          <a:xfrm>
            <a:off x="3548160" y="4714920"/>
            <a:ext cx="1047600" cy="452520"/>
          </a:xfrm>
          <a:prstGeom prst="rect">
            <a:avLst/>
          </a:prstGeom>
          <a:ln w="0">
            <a:noFill/>
          </a:ln>
        </p:spPr>
      </p:pic>
      <p:pic>
        <p:nvPicPr>
          <p:cNvPr id="328" name="MANAGE" descr=""/>
          <p:cNvPicPr/>
          <p:nvPr/>
        </p:nvPicPr>
        <p:blipFill>
          <a:blip r:embed="rId5"/>
          <a:stretch/>
        </p:blipFill>
        <p:spPr>
          <a:xfrm>
            <a:off x="4753080" y="4602240"/>
            <a:ext cx="1430280" cy="558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4716360" y="4836960"/>
            <a:ext cx="0" cy="459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1160" y="3314880"/>
            <a:ext cx="396720" cy="172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SECURITY" descr=""/>
          <p:cNvPicPr/>
          <p:nvPr/>
        </p:nvPicPr>
        <p:blipFill>
          <a:blip r:embed="rId6"/>
          <a:stretch/>
        </p:blipFill>
        <p:spPr>
          <a:xfrm>
            <a:off x="1836720" y="2187720"/>
            <a:ext cx="365040" cy="981000"/>
          </a:xfrm>
          <a:prstGeom prst="rect">
            <a:avLst/>
          </a:prstGeom>
          <a:ln w="0">
            <a:noFill/>
          </a:ln>
        </p:spPr>
      </p:pic>
      <p:pic>
        <p:nvPicPr>
          <p:cNvPr id="332" name="NAMING" descr=""/>
          <p:cNvPicPr/>
          <p:nvPr/>
        </p:nvPicPr>
        <p:blipFill>
          <a:blip r:embed="rId7"/>
          <a:stretch/>
        </p:blipFill>
        <p:spPr>
          <a:xfrm>
            <a:off x="7253280" y="2249640"/>
            <a:ext cx="330120" cy="85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257800" y="2057400"/>
            <a:ext cx="851040" cy="9270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0600" y="23083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rter than your averag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ware of underlying container infra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automatically managed, transactional, secure, Internet-enabled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se can be chosen 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ploymen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pable to alternative Component Frame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BA, EJB, Microsoft,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 so on as they emer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on this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ontain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 runtime environment in which components are deploy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prise Platform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, Persistence, Security, Transactions, Naming, load balancing, connection management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it easier to </a:t>
            </a:r>
            <a:r>
              <a:rPr b="0" i="1" lang="en-US" sz="3200" spc="-1" strike="noStrike">
                <a:solidFill>
                  <a:srgbClr val="99ff33"/>
                </a:solidFill>
                <a:latin typeface="Times New Roman"/>
              </a:rPr>
              <a:t>bridge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guages, platforms, models, OSs, legacy, 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onent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sentially defines a component’s view of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er in which it will be run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defines standards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ckag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loy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pha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mphasis will be on CORBA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ORBA + Database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not on Database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OO to relational, or vice ver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ontainers - my belie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hould be standards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building to proprietary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hould be build on top of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en, powerful,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be able to support many component model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hould be ext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by 3rd pa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hould support system components (as well as application compon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- for example - we could change protocols, or other system leve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onne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rs cannot exist in iso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live with alternative infrastructures (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bounda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should be no “technology islands”  (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no ugly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bab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dging should be as rich a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extend to include transaction, security, naming models, rich communications, management, 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 of IONA Connector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bixCOM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sktop  (MTS integration plann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ridge into and out of Microsoft’s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IC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S Adap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connect to mainframe TX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lec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nectors            built for individual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ORBA and EJ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2800" y="603360"/>
            <a:ext cx="87012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hese have many common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finition, packaging and deployment of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ORBA has always been component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JB ideas are being extended and incorporated into CORB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JB is like CORBA without language in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 Java-based CORBA will then be the best EJ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 EJB flavor on the richness of COR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JB mandates CORBA interop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nd many EJB services are very close derivatives of their CORBA forerunn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hy is this so import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ecause more component frameworks will emerge over tim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5486400"/>
            <a:ext cx="55404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 C3 technical archite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89120" y="1571760"/>
            <a:ext cx="5884920" cy="4143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2568600"/>
            <a:ext cx="5897520" cy="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685880" y="4632480"/>
            <a:ext cx="5888160" cy="2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68680" y="3616200"/>
            <a:ext cx="0" cy="1038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71320" y="378792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03880" y="272736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ONENT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37040" y="4854600"/>
            <a:ext cx="45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B,  with async com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39560" y="1752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S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56600" y="375588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O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06400" y="3641760"/>
            <a:ext cx="5897880" cy="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ree layers of Ease of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990720"/>
            <a:ext cx="77724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interfaces and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s services (Security, Transactions, …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S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a component framework to support the separation of application and container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llows you to choose OTM features using a GU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1232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C3 Summary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onents offer a useful extension to 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onent development, assembly and deplo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B is the underlying integration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RB + OTM + Broker is the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UI layers for ease of use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511280" y="3809880"/>
            <a:ext cx="3213000" cy="2397240"/>
            <a:chOff x="1511280" y="3809880"/>
            <a:chExt cx="3213000" cy="2397240"/>
          </a:xfrm>
        </p:grpSpPr>
        <p:sp>
          <p:nvSpPr>
            <p:cNvPr id="362" name=""/>
            <p:cNvSpPr/>
            <p:nvPr/>
          </p:nvSpPr>
          <p:spPr>
            <a:xfrm>
              <a:off x="1519200" y="3809880"/>
              <a:ext cx="3190680" cy="2397240"/>
            </a:xfrm>
            <a:prstGeom prst="rect">
              <a:avLst/>
            </a:prstGeom>
            <a:noFill/>
            <a:ln w="38160">
              <a:solidFill>
                <a:srgbClr val="f6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11280" y="4386240"/>
              <a:ext cx="3208320" cy="0"/>
            </a:xfrm>
            <a:prstGeom prst="line">
              <a:avLst/>
            </a:prstGeom>
            <a:ln w="38160">
              <a:solidFill>
                <a:srgbClr val="f6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23880" y="4981320"/>
              <a:ext cx="3182760" cy="0"/>
            </a:xfrm>
            <a:prstGeom prst="line">
              <a:avLst/>
            </a:prstGeom>
            <a:ln w="38160">
              <a:solidFill>
                <a:srgbClr val="f6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15960" y="5581440"/>
              <a:ext cx="3208320" cy="0"/>
            </a:xfrm>
            <a:prstGeom prst="line">
              <a:avLst/>
            </a:prstGeom>
            <a:ln w="38160">
              <a:solidFill>
                <a:srgbClr val="f6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27320" y="4992480"/>
              <a:ext cx="0" cy="600120"/>
            </a:xfrm>
            <a:prstGeom prst="line">
              <a:avLst/>
            </a:prstGeom>
            <a:ln w="38160">
              <a:solidFill>
                <a:srgbClr val="f6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88720" y="51498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6cf00"/>
                  </a:solidFill>
                  <a:latin typeface="Arial"/>
                </a:rPr>
                <a:t>OT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5320" y="4537080"/>
              <a:ext cx="29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6cf00"/>
                  </a:solidFill>
                  <a:latin typeface="Arial"/>
                </a:rPr>
                <a:t>COMPONENT FRAME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0160" y="578628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6cf00"/>
                  </a:solidFill>
                  <a:latin typeface="Arial"/>
                </a:rPr>
                <a:t>O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880" y="392580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6cf00"/>
                  </a:solidFill>
                  <a:latin typeface="Arial"/>
                </a:rPr>
                <a:t>G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9920" y="513216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6cf00"/>
                  </a:solidFill>
                  <a:latin typeface="Arial"/>
                </a:rPr>
                <a:t>BROK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Generation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1371600"/>
            <a:ext cx="4038480" cy="2362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minute demo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14600" y="3997440"/>
          <a:ext cx="1477800" cy="13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997440"/>
                    <a:ext cx="147780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152280" y="990720"/>
            <a:ext cx="23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 1 (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Gen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84520" y="2927520"/>
            <a:ext cx="1598400" cy="1417320"/>
          </a:xfrm>
          <a:custGeom>
            <a:avLst/>
            <a:gdLst/>
            <a:ahLst/>
            <a:rect l="l" t="t" r="r" b="b"/>
            <a:pathLst>
              <a:path w="1082" h="853">
                <a:moveTo>
                  <a:pt x="57" y="853"/>
                </a:moveTo>
                <a:lnTo>
                  <a:pt x="1024" y="853"/>
                </a:lnTo>
                <a:lnTo>
                  <a:pt x="1040" y="852"/>
                </a:lnTo>
                <a:lnTo>
                  <a:pt x="1053" y="846"/>
                </a:lnTo>
                <a:lnTo>
                  <a:pt x="1065" y="837"/>
                </a:lnTo>
                <a:lnTo>
                  <a:pt x="1073" y="825"/>
                </a:lnTo>
                <a:lnTo>
                  <a:pt x="1079" y="811"/>
                </a:lnTo>
                <a:lnTo>
                  <a:pt x="1082" y="796"/>
                </a:lnTo>
                <a:lnTo>
                  <a:pt x="1082" y="57"/>
                </a:lnTo>
                <a:lnTo>
                  <a:pt x="1079" y="42"/>
                </a:lnTo>
                <a:lnTo>
                  <a:pt x="1073" y="28"/>
                </a:lnTo>
                <a:lnTo>
                  <a:pt x="1065" y="17"/>
                </a:lnTo>
                <a:lnTo>
                  <a:pt x="1053" y="7"/>
                </a:lnTo>
                <a:lnTo>
                  <a:pt x="1040" y="1"/>
                </a:lnTo>
                <a:lnTo>
                  <a:pt x="1024" y="0"/>
                </a:lnTo>
                <a:lnTo>
                  <a:pt x="57" y="0"/>
                </a:lnTo>
                <a:lnTo>
                  <a:pt x="43" y="1"/>
                </a:lnTo>
                <a:lnTo>
                  <a:pt x="29" y="7"/>
                </a:lnTo>
                <a:lnTo>
                  <a:pt x="17" y="17"/>
                </a:lnTo>
                <a:lnTo>
                  <a:pt x="8" y="28"/>
                </a:lnTo>
                <a:lnTo>
                  <a:pt x="3" y="42"/>
                </a:lnTo>
                <a:lnTo>
                  <a:pt x="0" y="57"/>
                </a:lnTo>
                <a:lnTo>
                  <a:pt x="0" y="796"/>
                </a:lnTo>
                <a:lnTo>
                  <a:pt x="3" y="811"/>
                </a:lnTo>
                <a:lnTo>
                  <a:pt x="8" y="825"/>
                </a:lnTo>
                <a:lnTo>
                  <a:pt x="17" y="837"/>
                </a:lnTo>
                <a:lnTo>
                  <a:pt x="29" y="846"/>
                </a:lnTo>
                <a:lnTo>
                  <a:pt x="43" y="852"/>
                </a:lnTo>
                <a:lnTo>
                  <a:pt x="57" y="8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84520" y="2927520"/>
            <a:ext cx="1598400" cy="1417320"/>
          </a:xfrm>
          <a:custGeom>
            <a:avLst/>
            <a:gdLst/>
            <a:ahLst/>
            <a:rect l="l" t="t" r="r" b="b"/>
            <a:pathLst>
              <a:path w="1082" h="853">
                <a:moveTo>
                  <a:pt x="57" y="853"/>
                </a:moveTo>
                <a:lnTo>
                  <a:pt x="1024" y="853"/>
                </a:lnTo>
                <a:lnTo>
                  <a:pt x="1040" y="852"/>
                </a:lnTo>
                <a:lnTo>
                  <a:pt x="1053" y="846"/>
                </a:lnTo>
                <a:lnTo>
                  <a:pt x="1065" y="837"/>
                </a:lnTo>
                <a:lnTo>
                  <a:pt x="1073" y="825"/>
                </a:lnTo>
                <a:lnTo>
                  <a:pt x="1079" y="811"/>
                </a:lnTo>
                <a:lnTo>
                  <a:pt x="1082" y="796"/>
                </a:lnTo>
                <a:lnTo>
                  <a:pt x="1082" y="57"/>
                </a:lnTo>
                <a:lnTo>
                  <a:pt x="1079" y="42"/>
                </a:lnTo>
                <a:lnTo>
                  <a:pt x="1073" y="28"/>
                </a:lnTo>
                <a:lnTo>
                  <a:pt x="1065" y="17"/>
                </a:lnTo>
                <a:lnTo>
                  <a:pt x="1053" y="7"/>
                </a:lnTo>
                <a:lnTo>
                  <a:pt x="1040" y="1"/>
                </a:lnTo>
                <a:lnTo>
                  <a:pt x="1024" y="0"/>
                </a:lnTo>
                <a:lnTo>
                  <a:pt x="57" y="0"/>
                </a:lnTo>
                <a:lnTo>
                  <a:pt x="43" y="1"/>
                </a:lnTo>
                <a:lnTo>
                  <a:pt x="29" y="7"/>
                </a:lnTo>
                <a:lnTo>
                  <a:pt x="17" y="17"/>
                </a:lnTo>
                <a:lnTo>
                  <a:pt x="8" y="28"/>
                </a:lnTo>
                <a:lnTo>
                  <a:pt x="3" y="42"/>
                </a:lnTo>
                <a:lnTo>
                  <a:pt x="0" y="57"/>
                </a:lnTo>
                <a:lnTo>
                  <a:pt x="0" y="796"/>
                </a:lnTo>
                <a:lnTo>
                  <a:pt x="3" y="811"/>
                </a:lnTo>
                <a:lnTo>
                  <a:pt x="8" y="825"/>
                </a:lnTo>
                <a:lnTo>
                  <a:pt x="17" y="837"/>
                </a:lnTo>
                <a:lnTo>
                  <a:pt x="29" y="846"/>
                </a:lnTo>
                <a:lnTo>
                  <a:pt x="43" y="852"/>
                </a:lnTo>
                <a:lnTo>
                  <a:pt x="57" y="85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31840" y="3164040"/>
            <a:ext cx="838080" cy="944280"/>
          </a:xfrm>
          <a:custGeom>
            <a:avLst/>
            <a:gdLst/>
            <a:ahLst/>
            <a:rect l="l" t="t" r="r" b="b"/>
            <a:pathLst>
              <a:path w="568" h="569">
                <a:moveTo>
                  <a:pt x="0" y="91"/>
                </a:moveTo>
                <a:lnTo>
                  <a:pt x="90" y="0"/>
                </a:lnTo>
                <a:lnTo>
                  <a:pt x="90" y="91"/>
                </a:lnTo>
                <a:lnTo>
                  <a:pt x="0" y="91"/>
                </a:lnTo>
                <a:close/>
                <a:moveTo>
                  <a:pt x="0" y="91"/>
                </a:moveTo>
                <a:lnTo>
                  <a:pt x="90" y="91"/>
                </a:lnTo>
                <a:lnTo>
                  <a:pt x="90" y="0"/>
                </a:lnTo>
                <a:lnTo>
                  <a:pt x="568" y="0"/>
                </a:lnTo>
                <a:lnTo>
                  <a:pt x="568" y="569"/>
                </a:lnTo>
                <a:lnTo>
                  <a:pt x="0" y="569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2040" y="3510000"/>
            <a:ext cx="595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id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16360" y="3164040"/>
            <a:ext cx="1071360" cy="473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92040" y="3273480"/>
            <a:ext cx="6454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DLge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16360" y="3754440"/>
            <a:ext cx="1071360" cy="353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6840" y="3807000"/>
            <a:ext cx="9439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++ Geni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755880" y="2997360"/>
            <a:ext cx="495360" cy="473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911840" y="2690640"/>
            <a:ext cx="1469880" cy="473400"/>
          </a:xfrm>
          <a:custGeom>
            <a:avLst/>
            <a:gdLst/>
            <a:ahLst/>
            <a:rect l="l" t="t" r="r" b="b"/>
            <a:pathLst>
              <a:path w="996" h="284">
                <a:moveTo>
                  <a:pt x="0" y="90"/>
                </a:moveTo>
                <a:lnTo>
                  <a:pt x="91" y="0"/>
                </a:lnTo>
                <a:lnTo>
                  <a:pt x="91" y="90"/>
                </a:lnTo>
                <a:lnTo>
                  <a:pt x="0" y="90"/>
                </a:lnTo>
                <a:close/>
                <a:moveTo>
                  <a:pt x="0" y="90"/>
                </a:moveTo>
                <a:lnTo>
                  <a:pt x="91" y="90"/>
                </a:lnTo>
                <a:lnTo>
                  <a:pt x="91" y="0"/>
                </a:lnTo>
                <a:lnTo>
                  <a:pt x="996" y="0"/>
                </a:lnTo>
                <a:lnTo>
                  <a:pt x="996" y="284"/>
                </a:lnTo>
                <a:lnTo>
                  <a:pt x="0" y="284"/>
                </a:ln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11840" y="3398760"/>
            <a:ext cx="1469880" cy="473040"/>
          </a:xfrm>
          <a:custGeom>
            <a:avLst/>
            <a:gdLst/>
            <a:ahLst/>
            <a:rect l="l" t="t" r="r" b="b"/>
            <a:pathLst>
              <a:path w="996" h="285">
                <a:moveTo>
                  <a:pt x="0" y="91"/>
                </a:moveTo>
                <a:lnTo>
                  <a:pt x="91" y="0"/>
                </a:lnTo>
                <a:lnTo>
                  <a:pt x="91" y="91"/>
                </a:lnTo>
                <a:lnTo>
                  <a:pt x="0" y="91"/>
                </a:lnTo>
                <a:close/>
                <a:moveTo>
                  <a:pt x="0" y="91"/>
                </a:moveTo>
                <a:lnTo>
                  <a:pt x="91" y="91"/>
                </a:lnTo>
                <a:lnTo>
                  <a:pt x="91" y="0"/>
                </a:lnTo>
                <a:lnTo>
                  <a:pt x="996" y="0"/>
                </a:lnTo>
                <a:lnTo>
                  <a:pt x="996" y="285"/>
                </a:lnTo>
                <a:lnTo>
                  <a:pt x="0" y="285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7240" y="3510000"/>
            <a:ext cx="9241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irline_i.h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11840" y="4108320"/>
            <a:ext cx="1469880" cy="473040"/>
          </a:xfrm>
          <a:custGeom>
            <a:avLst/>
            <a:gdLst/>
            <a:ahLst/>
            <a:rect l="l" t="t" r="r" b="b"/>
            <a:pathLst>
              <a:path w="996" h="285">
                <a:moveTo>
                  <a:pt x="0" y="90"/>
                </a:moveTo>
                <a:lnTo>
                  <a:pt x="91" y="0"/>
                </a:lnTo>
                <a:lnTo>
                  <a:pt x="91" y="90"/>
                </a:lnTo>
                <a:lnTo>
                  <a:pt x="0" y="90"/>
                </a:lnTo>
                <a:close/>
                <a:moveTo>
                  <a:pt x="0" y="90"/>
                </a:moveTo>
                <a:lnTo>
                  <a:pt x="91" y="90"/>
                </a:lnTo>
                <a:lnTo>
                  <a:pt x="91" y="0"/>
                </a:lnTo>
                <a:lnTo>
                  <a:pt x="996" y="0"/>
                </a:lnTo>
                <a:lnTo>
                  <a:pt x="996" y="285"/>
                </a:lnTo>
                <a:lnTo>
                  <a:pt x="0" y="285"/>
                </a:ln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0760" y="4218120"/>
            <a:ext cx="11466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irline_i.cpp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11840" y="4818240"/>
            <a:ext cx="1469880" cy="473040"/>
          </a:xfrm>
          <a:custGeom>
            <a:avLst/>
            <a:gdLst/>
            <a:ahLst/>
            <a:rect l="l" t="t" r="r" b="b"/>
            <a:pathLst>
              <a:path w="996" h="285">
                <a:moveTo>
                  <a:pt x="0" y="91"/>
                </a:moveTo>
                <a:lnTo>
                  <a:pt x="91" y="0"/>
                </a:lnTo>
                <a:lnTo>
                  <a:pt x="91" y="91"/>
                </a:lnTo>
                <a:lnTo>
                  <a:pt x="0" y="91"/>
                </a:lnTo>
                <a:close/>
                <a:moveTo>
                  <a:pt x="0" y="91"/>
                </a:moveTo>
                <a:lnTo>
                  <a:pt x="91" y="91"/>
                </a:lnTo>
                <a:lnTo>
                  <a:pt x="91" y="0"/>
                </a:lnTo>
                <a:lnTo>
                  <a:pt x="996" y="0"/>
                </a:lnTo>
                <a:lnTo>
                  <a:pt x="996" y="285"/>
                </a:lnTo>
                <a:lnTo>
                  <a:pt x="0" y="285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11840" y="5527800"/>
            <a:ext cx="1469880" cy="471240"/>
          </a:xfrm>
          <a:custGeom>
            <a:avLst/>
            <a:gdLst/>
            <a:ahLst/>
            <a:rect l="l" t="t" r="r" b="b"/>
            <a:pathLst>
              <a:path w="996" h="284">
                <a:moveTo>
                  <a:pt x="0" y="90"/>
                </a:moveTo>
                <a:lnTo>
                  <a:pt x="91" y="0"/>
                </a:lnTo>
                <a:lnTo>
                  <a:pt x="91" y="90"/>
                </a:lnTo>
                <a:lnTo>
                  <a:pt x="0" y="90"/>
                </a:lnTo>
                <a:close/>
                <a:moveTo>
                  <a:pt x="0" y="90"/>
                </a:moveTo>
                <a:lnTo>
                  <a:pt x="91" y="90"/>
                </a:lnTo>
                <a:lnTo>
                  <a:pt x="91" y="0"/>
                </a:lnTo>
                <a:lnTo>
                  <a:pt x="996" y="0"/>
                </a:lnTo>
                <a:lnTo>
                  <a:pt x="996" y="284"/>
                </a:lnTo>
                <a:lnTo>
                  <a:pt x="0" y="284"/>
                </a:ln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11840" y="1979640"/>
            <a:ext cx="1469880" cy="476280"/>
          </a:xfrm>
          <a:custGeom>
            <a:avLst/>
            <a:gdLst/>
            <a:ahLst/>
            <a:rect l="l" t="t" r="r" b="b"/>
            <a:pathLst>
              <a:path w="996" h="286">
                <a:moveTo>
                  <a:pt x="0" y="91"/>
                </a:moveTo>
                <a:lnTo>
                  <a:pt x="91" y="0"/>
                </a:lnTo>
                <a:lnTo>
                  <a:pt x="91" y="91"/>
                </a:lnTo>
                <a:lnTo>
                  <a:pt x="0" y="91"/>
                </a:lnTo>
                <a:close/>
                <a:moveTo>
                  <a:pt x="0" y="91"/>
                </a:moveTo>
                <a:lnTo>
                  <a:pt x="91" y="91"/>
                </a:lnTo>
                <a:lnTo>
                  <a:pt x="91" y="0"/>
                </a:lnTo>
                <a:lnTo>
                  <a:pt x="996" y="0"/>
                </a:lnTo>
                <a:lnTo>
                  <a:pt x="996" y="286"/>
                </a:lnTo>
                <a:lnTo>
                  <a:pt x="0" y="286"/>
                </a:lnTo>
                <a:lnTo>
                  <a:pt x="0" y="91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64920" y="2092320"/>
            <a:ext cx="8924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ent.cpp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11840" y="1273320"/>
            <a:ext cx="1469880" cy="471240"/>
          </a:xfrm>
          <a:custGeom>
            <a:avLst/>
            <a:gdLst/>
            <a:ahLst/>
            <a:rect l="l" t="t" r="r" b="b"/>
            <a:pathLst>
              <a:path w="996" h="284">
                <a:moveTo>
                  <a:pt x="0" y="90"/>
                </a:moveTo>
                <a:lnTo>
                  <a:pt x="91" y="0"/>
                </a:lnTo>
                <a:lnTo>
                  <a:pt x="91" y="90"/>
                </a:lnTo>
                <a:lnTo>
                  <a:pt x="0" y="90"/>
                </a:lnTo>
                <a:close/>
                <a:moveTo>
                  <a:pt x="0" y="90"/>
                </a:moveTo>
                <a:lnTo>
                  <a:pt x="91" y="90"/>
                </a:lnTo>
                <a:lnTo>
                  <a:pt x="91" y="0"/>
                </a:lnTo>
                <a:lnTo>
                  <a:pt x="996" y="0"/>
                </a:lnTo>
                <a:lnTo>
                  <a:pt x="996" y="284"/>
                </a:lnTo>
                <a:lnTo>
                  <a:pt x="0" y="284"/>
                </a:lnTo>
                <a:lnTo>
                  <a:pt x="0" y="90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8640" y="1382760"/>
            <a:ext cx="7567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kefi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8800" y="220968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cf00"/>
                </a:solidFill>
                <a:latin typeface="Times New Roman"/>
              </a:rPr>
              <a:t>IDLgen</a:t>
            </a:r>
            <a:r>
              <a:rPr b="0" lang="en-US" sz="20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cf00"/>
                </a:solidFill>
                <a:latin typeface="Times New Roman"/>
              </a:rPr>
              <a:t>- the code generation eng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324320" y="1754280"/>
            <a:ext cx="566640" cy="119700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324320" y="2392200"/>
            <a:ext cx="566640" cy="7970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324320" y="3110040"/>
            <a:ext cx="566640" cy="3981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324320" y="3747960"/>
            <a:ext cx="5666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4324320" y="3987720"/>
            <a:ext cx="566640" cy="23832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4324320" y="4226040"/>
            <a:ext cx="566640" cy="55872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4324320" y="4465800"/>
            <a:ext cx="566640" cy="111600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055960" y="3668760"/>
            <a:ext cx="5666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24560" y="1981080"/>
            <a:ext cx="20541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cf00"/>
                </a:solidFill>
                <a:latin typeface="Times New Roman"/>
              </a:rPr>
              <a:t>This calls all of the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24560" y="3747960"/>
            <a:ext cx="2719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cf00"/>
                </a:solidFill>
                <a:latin typeface="Times New Roman"/>
              </a:rPr>
              <a:t>Prints its arguments and returns random 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7920" y="495288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cf00"/>
                </a:solidFill>
                <a:uFillTx/>
                <a:latin typeface="Times New Roman"/>
              </a:rPr>
              <a:t>Gen</a:t>
            </a:r>
            <a:r>
              <a:rPr b="0" lang="en-US" sz="2000" spc="-1" strike="noStrike">
                <a:solidFill>
                  <a:srgbClr val="f6cf00"/>
                </a:solidFill>
                <a:latin typeface="Times New Roman"/>
              </a:rPr>
              <a:t>ie</a:t>
            </a:r>
            <a:r>
              <a:rPr b="0" lang="en-US" sz="20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cf00"/>
                </a:solidFill>
                <a:latin typeface="Times New Roman"/>
              </a:rPr>
              <a:t>- tells IDLgen what to gener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c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6cf00"/>
                </a:solidFill>
                <a:latin typeface="Times New Roman"/>
              </a:rPr>
              <a:t>- you can write your own Gen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66880" y="2666880"/>
            <a:ext cx="457200" cy="53352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819160" y="4114800"/>
            <a:ext cx="533160" cy="9144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96920" y="1530360"/>
            <a:ext cx="4178160" cy="44830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16280" y="1530360"/>
            <a:ext cx="4094280" cy="44830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19080" anchor="b">
            <a:noAutofit/>
          </a:bodyPr>
          <a:p>
            <a:pPr indent="0" algn="ctr">
              <a:buNone/>
              <a:tabLst>
                <a:tab algn="l" pos="0"/>
                <a:tab algn="l" pos="674640"/>
                <a:tab algn="l" pos="1349280"/>
                <a:tab algn="l" pos="202392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 Of the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21280" y="1219320"/>
            <a:ext cx="749160" cy="1212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21080" y="2368440"/>
            <a:ext cx="1358640" cy="8254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530360" y="3816360"/>
            <a:ext cx="444600" cy="444600"/>
            <a:chOff x="1530360" y="3816360"/>
            <a:chExt cx="444600" cy="444600"/>
          </a:xfrm>
        </p:grpSpPr>
        <p:sp>
          <p:nvSpPr>
            <p:cNvPr id="418" name=""/>
            <p:cNvSpPr/>
            <p:nvPr/>
          </p:nvSpPr>
          <p:spPr>
            <a:xfrm>
              <a:off x="1530360" y="38163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38862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39625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4038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41148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00200" y="41911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216160" y="3816360"/>
            <a:ext cx="444600" cy="444600"/>
            <a:chOff x="2216160" y="3816360"/>
            <a:chExt cx="444600" cy="444600"/>
          </a:xfrm>
        </p:grpSpPr>
        <p:sp>
          <p:nvSpPr>
            <p:cNvPr id="425" name=""/>
            <p:cNvSpPr/>
            <p:nvPr/>
          </p:nvSpPr>
          <p:spPr>
            <a:xfrm>
              <a:off x="2216160" y="381636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6000" y="38862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0" y="39625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4038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86000" y="41148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86000" y="41911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057400" y="3740040"/>
            <a:ext cx="984240" cy="5968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2700000">
            <a:off x="2476080" y="3162240"/>
            <a:ext cx="228600" cy="609480"/>
          </a:xfrm>
          <a:prstGeom prst="downArrow">
            <a:avLst>
              <a:gd name="adj1" fmla="val 50000"/>
              <a:gd name="adj2" fmla="val 1333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2700000">
            <a:off x="3695400" y="1866960"/>
            <a:ext cx="228600" cy="609480"/>
          </a:xfrm>
          <a:prstGeom prst="downArrow">
            <a:avLst>
              <a:gd name="adj1" fmla="val 50000"/>
              <a:gd name="adj2" fmla="val 13331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10040" y="3800520"/>
            <a:ext cx="96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b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454800" y="3816360"/>
            <a:ext cx="444600" cy="444600"/>
            <a:chOff x="6454800" y="3816360"/>
            <a:chExt cx="444600" cy="444600"/>
          </a:xfrm>
        </p:grpSpPr>
        <p:sp>
          <p:nvSpPr>
            <p:cNvPr id="436" name=""/>
            <p:cNvSpPr/>
            <p:nvPr/>
          </p:nvSpPr>
          <p:spPr>
            <a:xfrm>
              <a:off x="6454800" y="3816360"/>
              <a:ext cx="444600" cy="4446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24640" y="38862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24640" y="39625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24640" y="4038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24640" y="41148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24640" y="41911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140600" y="3816360"/>
            <a:ext cx="444600" cy="444600"/>
            <a:chOff x="7140600" y="3816360"/>
            <a:chExt cx="444600" cy="444600"/>
          </a:xfrm>
        </p:grpSpPr>
        <p:sp>
          <p:nvSpPr>
            <p:cNvPr id="443" name=""/>
            <p:cNvSpPr/>
            <p:nvPr/>
          </p:nvSpPr>
          <p:spPr>
            <a:xfrm>
              <a:off x="7140600" y="3816360"/>
              <a:ext cx="444600" cy="4446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10440" y="38862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10440" y="39625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10440" y="4038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10440" y="41148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10440" y="41911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073920" y="3740040"/>
            <a:ext cx="936360" cy="5968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87960" y="2368440"/>
            <a:ext cx="1359000" cy="8254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rot="18900000">
            <a:off x="5076360" y="1866960"/>
            <a:ext cx="228600" cy="609480"/>
          </a:xfrm>
          <a:prstGeom prst="downArrow">
            <a:avLst>
              <a:gd name="adj1" fmla="val 50000"/>
              <a:gd name="adj2" fmla="val 133319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rot="18900000">
            <a:off x="6409800" y="3161880"/>
            <a:ext cx="228600" cy="609840"/>
          </a:xfrm>
          <a:prstGeom prst="downArrow">
            <a:avLst>
              <a:gd name="adj1" fmla="val 50000"/>
              <a:gd name="adj2" fmla="val 133398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99360" y="3824280"/>
            <a:ext cx="152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let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762120" y="2424240"/>
          <a:ext cx="868320" cy="81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424240"/>
                    <a:ext cx="8683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900000" y="1508040"/>
            <a:ext cx="238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 devel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18900000">
            <a:off x="1318680" y="3161880"/>
            <a:ext cx="228600" cy="609840"/>
          </a:xfrm>
          <a:prstGeom prst="downArrow">
            <a:avLst>
              <a:gd name="adj1" fmla="val 50000"/>
              <a:gd name="adj2" fmla="val 133398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073160" y="4381560"/>
            <a:ext cx="2044800" cy="1479600"/>
            <a:chOff x="1073160" y="4381560"/>
            <a:chExt cx="2044800" cy="1479600"/>
          </a:xfrm>
        </p:grpSpPr>
        <p:sp>
          <p:nvSpPr>
            <p:cNvPr id="459" name=""/>
            <p:cNvSpPr/>
            <p:nvPr/>
          </p:nvSpPr>
          <p:spPr>
            <a:xfrm flipH="1">
              <a:off x="1980360" y="4381560"/>
              <a:ext cx="228600" cy="609480"/>
            </a:xfrm>
            <a:prstGeom prst="downArrow">
              <a:avLst>
                <a:gd name="adj1" fmla="val 50000"/>
                <a:gd name="adj2" fmla="val 133319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73160" y="5035680"/>
              <a:ext cx="2044800" cy="8254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634360" y="1508040"/>
            <a:ext cx="250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 devel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2700000">
            <a:off x="7585200" y="3161880"/>
            <a:ext cx="228600" cy="609840"/>
          </a:xfrm>
          <a:prstGeom prst="downArrow">
            <a:avLst>
              <a:gd name="adj1" fmla="val 50000"/>
              <a:gd name="adj2" fmla="val 133398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7513560" y="2347920"/>
          <a:ext cx="868320" cy="819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13560" y="2347920"/>
                    <a:ext cx="8683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 flipH="1">
            <a:off x="6904800" y="4381560"/>
            <a:ext cx="228600" cy="609480"/>
          </a:xfrm>
          <a:prstGeom prst="downArrow">
            <a:avLst>
              <a:gd name="adj1" fmla="val 50000"/>
              <a:gd name="adj2" fmla="val 133319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07000" y="5035680"/>
            <a:ext cx="2435400" cy="82548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54280" y="5195880"/>
            <a:ext cx="660960" cy="504720"/>
            <a:chOff x="6254280" y="5195880"/>
            <a:chExt cx="660960" cy="504720"/>
          </a:xfrm>
        </p:grpSpPr>
        <p:sp>
          <p:nvSpPr>
            <p:cNvPr id="468" name=""/>
            <p:cNvSpPr/>
            <p:nvPr/>
          </p:nvSpPr>
          <p:spPr>
            <a:xfrm flipH="1">
              <a:off x="6254280" y="5448240"/>
              <a:ext cx="212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29240" y="5195880"/>
              <a:ext cx="486000" cy="50472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256440" y="5342040"/>
              <a:ext cx="0" cy="210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7451640" y="464832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81360" y="5448240"/>
            <a:ext cx="335268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9400" y="46483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434960" y="2171880"/>
            <a:ext cx="2540160" cy="20984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11360" y="2319480"/>
            <a:ext cx="423720" cy="479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9b0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09680" y="1828800"/>
            <a:ext cx="304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-&gt;reserveSea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29400" y="1873080"/>
            <a:ext cx="2863800" cy="275292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6880" y="1407960"/>
            <a:ext cx="579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8680" y="3560760"/>
            <a:ext cx="58546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8680" y="4371840"/>
            <a:ext cx="2719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3840" y="220968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19080" anchor="b">
            <a:noAutofit/>
          </a:bodyPr>
          <a:p>
            <a:pPr indent="0" algn="ctr">
              <a:buNone/>
              <a:tabLst>
                <a:tab algn="l" pos="0"/>
                <a:tab algn="l" pos="674640"/>
                <a:tab algn="l" pos="1349280"/>
                <a:tab algn="l" pos="202392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95880" y="2362320"/>
            <a:ext cx="1879560" cy="1382760"/>
            <a:chOff x="6095880" y="2362320"/>
            <a:chExt cx="1879560" cy="1382760"/>
          </a:xfrm>
        </p:grpSpPr>
        <p:grpSp>
          <p:nvGrpSpPr>
            <p:cNvPr id="484" name=""/>
            <p:cNvGrpSpPr/>
            <p:nvPr/>
          </p:nvGrpSpPr>
          <p:grpSpPr>
            <a:xfrm>
              <a:off x="6095880" y="2819520"/>
              <a:ext cx="457200" cy="457200"/>
              <a:chOff x="6095880" y="2819520"/>
              <a:chExt cx="457200" cy="457200"/>
            </a:xfrm>
          </p:grpSpPr>
          <p:sp>
            <p:nvSpPr>
              <p:cNvPr id="485" name=""/>
              <p:cNvSpPr/>
              <p:nvPr/>
            </p:nvSpPr>
            <p:spPr>
              <a:xfrm>
                <a:off x="6095880" y="3048120"/>
                <a:ext cx="4572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095880" y="281952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6477120" y="2362320"/>
              <a:ext cx="1498320" cy="1382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715000" y="137160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74960" y="3343320"/>
            <a:ext cx="839880" cy="7729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16a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87320" y="2590920"/>
            <a:ext cx="2450880" cy="17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53" swAng="5404453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53" swAng="5404453"/>
              </a:path>
            </a:pathLst>
          </a:custGeom>
          <a:noFill/>
          <a:ln cap="rnd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10800000">
            <a:off x="380880" y="3886200"/>
            <a:ext cx="2743200" cy="1587600"/>
          </a:xfrm>
          <a:custGeom>
            <a:avLst/>
            <a:gdLst>
              <a:gd name="textAreaLeft" fmla="*/ 101520 w 2743200"/>
              <a:gd name="textAreaRight" fmla="*/ 2641680 w 2743200"/>
              <a:gd name="textAreaTop" fmla="*/ 58680 h 1587600"/>
              <a:gd name="textAreaBottom" fmla="*/ 1267920 h 15876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l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xy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cal C++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4800" y="3657600"/>
            <a:ext cx="1501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BA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375000" y="3048120"/>
            <a:ext cx="2644920" cy="64296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7520" y="2666880"/>
            <a:ext cx="1029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324480" y="3809880"/>
            <a:ext cx="914400" cy="673200"/>
            <a:chOff x="6324480" y="3809880"/>
            <a:chExt cx="914400" cy="673200"/>
          </a:xfrm>
        </p:grpSpPr>
        <p:grpSp>
          <p:nvGrpSpPr>
            <p:cNvPr id="496" name=""/>
            <p:cNvGrpSpPr/>
            <p:nvPr/>
          </p:nvGrpSpPr>
          <p:grpSpPr>
            <a:xfrm>
              <a:off x="6324480" y="4032360"/>
              <a:ext cx="222120" cy="222480"/>
              <a:chOff x="6324480" y="4032360"/>
              <a:chExt cx="222120" cy="222480"/>
            </a:xfrm>
          </p:grpSpPr>
          <p:sp>
            <p:nvSpPr>
              <p:cNvPr id="497" name=""/>
              <p:cNvSpPr/>
              <p:nvPr/>
            </p:nvSpPr>
            <p:spPr>
              <a:xfrm>
                <a:off x="6324480" y="4143600"/>
                <a:ext cx="2221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324480" y="4032360"/>
                <a:ext cx="0" cy="2224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509880" y="3809880"/>
              <a:ext cx="729000" cy="673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095880" y="3505320"/>
            <a:ext cx="380880" cy="280800"/>
            <a:chOff x="6095880" y="3505320"/>
            <a:chExt cx="380880" cy="280800"/>
          </a:xfrm>
        </p:grpSpPr>
        <p:grpSp>
          <p:nvGrpSpPr>
            <p:cNvPr id="501" name=""/>
            <p:cNvGrpSpPr/>
            <p:nvPr/>
          </p:nvGrpSpPr>
          <p:grpSpPr>
            <a:xfrm>
              <a:off x="6095880" y="3598200"/>
              <a:ext cx="92520" cy="92880"/>
              <a:chOff x="6095880" y="3598200"/>
              <a:chExt cx="92520" cy="92880"/>
            </a:xfrm>
          </p:grpSpPr>
          <p:sp>
            <p:nvSpPr>
              <p:cNvPr id="502" name=""/>
              <p:cNvSpPr/>
              <p:nvPr/>
            </p:nvSpPr>
            <p:spPr>
              <a:xfrm>
                <a:off x="6095880" y="3644640"/>
                <a:ext cx="925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95880" y="3598200"/>
                <a:ext cx="0" cy="928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6172920" y="3505320"/>
              <a:ext cx="303840" cy="2808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729560" y="3733920"/>
            <a:ext cx="728640" cy="672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72400" y="2057400"/>
            <a:ext cx="271440" cy="250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01000" y="2286000"/>
            <a:ext cx="271440" cy="250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1 (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RBA and EJ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Servi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73560" y="609480"/>
            <a:ext cx="24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 1 (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65160" y="3635280"/>
            <a:ext cx="537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et of services that help you to build appl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533520" y="714240"/>
            <a:ext cx="387936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m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look up names to get references to ob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end msgs to multiple receive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nsac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wo phase commi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ur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who can call what objec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nd objects given a constraint str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fecyc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actories for objects; moving objec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get time of day; and periodic cal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cens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who can run wha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ifica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lter messages &amp; Qo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sistent Sta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rch. for persisten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31840" y="809640"/>
            <a:ext cx="4150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ti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ttach properties to objec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relationships between objec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ery collections of objec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urrency Contr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lock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iz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writing objects to byte strea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ection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ets, bags, …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5240" y="4718160"/>
            <a:ext cx="290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stem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 Str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80080" y="3654360"/>
            <a:ext cx="415908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These are not of equal importanc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The 8 most important 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 York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New York"/>
              </a:rPr>
              <a:t>NNESS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RBA Servi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ant to find a cinema object with the name “Odien Lond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 that name to the Naming Service, and receive back an object re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erver must have previously registered that name and and object reference with the Naming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407720" y="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New York"/>
              </a:rPr>
              <a:t>P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New York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NESS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924200" y="3048120"/>
            <a:ext cx="5181480" cy="15429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ing Serv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38920" y="228600"/>
            <a:ext cx="1600200" cy="1333440"/>
          </a:xfrm>
          <a:prstGeom prst="rect">
            <a:avLst/>
          </a:prstGeom>
          <a:solidFill>
            <a:srgbClr val="6c95fa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96080" y="819000"/>
            <a:ext cx="533520" cy="49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1200" y="266760"/>
            <a:ext cx="1600200" cy="1333440"/>
          </a:xfrm>
          <a:prstGeom prst="rect">
            <a:avLst/>
          </a:prstGeom>
          <a:solidFill>
            <a:srgbClr val="f63c02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1371600"/>
            <a:ext cx="1162080" cy="2019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505120" y="1409760"/>
            <a:ext cx="1562040" cy="2000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84960" y="2179800"/>
            <a:ext cx="27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d the name and object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4120" y="4952880"/>
            <a:ext cx="8475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c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cf00"/>
                </a:solidFill>
                <a:latin typeface="Arial"/>
              </a:rPr>
              <a:t>To manage names, we create Naming Contexts (directories/folders) within the Naming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2122560"/>
            <a:ext cx="203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lve the name, to get the object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613320" y="3943440"/>
            <a:ext cx="2835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014560" y="176040"/>
            <a:ext cx="5300640" cy="58608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19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Events Servic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7239240" y="2672640"/>
            <a:ext cx="17701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120" y="2895480"/>
            <a:ext cx="680760" cy="74952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517760" y="2437920"/>
            <a:ext cx="1301760" cy="830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05000" y="1752480"/>
            <a:ext cx="2571840" cy="243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903400" y="2133720"/>
            <a:ext cx="1058760" cy="477720"/>
            <a:chOff x="2903400" y="2133720"/>
            <a:chExt cx="1058760" cy="477720"/>
          </a:xfrm>
        </p:grpSpPr>
        <p:sp>
          <p:nvSpPr>
            <p:cNvPr id="535" name=""/>
            <p:cNvSpPr/>
            <p:nvPr/>
          </p:nvSpPr>
          <p:spPr>
            <a:xfrm>
              <a:off x="2957400" y="223848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03200" y="223848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47920" y="223848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393720" y="223848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38440" y="223848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84240" y="223848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28600" y="2238480"/>
              <a:ext cx="1335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03400" y="2133720"/>
              <a:ext cx="63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65840" y="2286000"/>
            <a:ext cx="1501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Produ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86600" y="2590920"/>
            <a:ext cx="681120" cy="749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70560" y="3389400"/>
            <a:ext cx="682560" cy="750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38480" y="2514600"/>
            <a:ext cx="2532240" cy="1030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04120" y="1835280"/>
            <a:ext cx="682560" cy="74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68920" y="3430440"/>
            <a:ext cx="682920" cy="749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70560" y="1793880"/>
            <a:ext cx="682560" cy="749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903400" y="2743200"/>
            <a:ext cx="1058760" cy="477720"/>
            <a:chOff x="2903400" y="2743200"/>
            <a:chExt cx="1058760" cy="477720"/>
          </a:xfrm>
        </p:grpSpPr>
        <p:sp>
          <p:nvSpPr>
            <p:cNvPr id="551" name=""/>
            <p:cNvSpPr/>
            <p:nvPr/>
          </p:nvSpPr>
          <p:spPr>
            <a:xfrm>
              <a:off x="2957400" y="284796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03200" y="284796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47920" y="284796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393720" y="284796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38440" y="284796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84240" y="284796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28600" y="2847960"/>
              <a:ext cx="1335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03400" y="2743200"/>
              <a:ext cx="63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903400" y="3352680"/>
            <a:ext cx="1058760" cy="477720"/>
            <a:chOff x="2903400" y="3352680"/>
            <a:chExt cx="1058760" cy="477720"/>
          </a:xfrm>
        </p:grpSpPr>
        <p:sp>
          <p:nvSpPr>
            <p:cNvPr id="560" name=""/>
            <p:cNvSpPr/>
            <p:nvPr/>
          </p:nvSpPr>
          <p:spPr>
            <a:xfrm>
              <a:off x="2957400" y="345744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03200" y="345744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47920" y="345744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93720" y="345744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38440" y="345744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84240" y="345744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8600" y="3457440"/>
              <a:ext cx="1335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03400" y="3352680"/>
              <a:ext cx="63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4038480" y="2362320"/>
            <a:ext cx="2514600" cy="736560"/>
          </a:xfrm>
          <a:custGeom>
            <a:avLst/>
            <a:gdLst/>
            <a:ahLst/>
            <a:rect l="l" t="t" r="r" b="b"/>
            <a:pathLst>
              <a:path w="1584" h="464">
                <a:moveTo>
                  <a:pt x="0" y="0"/>
                </a:moveTo>
                <a:cubicBezTo>
                  <a:pt x="372" y="200"/>
                  <a:pt x="744" y="400"/>
                  <a:pt x="1008" y="432"/>
                </a:cubicBezTo>
                <a:cubicBezTo>
                  <a:pt x="1272" y="464"/>
                  <a:pt x="1428" y="328"/>
                  <a:pt x="158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19960" y="4689360"/>
            <a:ext cx="82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“publish and subscribe” paradig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ful where the set of recipients is not kn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where the “sender” and “receiver” must work independen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07720" y="0"/>
            <a:ext cx="17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New York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NN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New York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SS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613320" y="3943440"/>
            <a:ext cx="2835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14560" y="176040"/>
            <a:ext cx="5300640" cy="58608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19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Notification Servic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16200000">
            <a:off x="7239240" y="2672640"/>
            <a:ext cx="17701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120" y="2895480"/>
            <a:ext cx="680760" cy="74952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517760" y="2971440"/>
            <a:ext cx="1301760" cy="297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05000" y="1752480"/>
            <a:ext cx="2571840" cy="243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903400" y="2133720"/>
            <a:ext cx="1058760" cy="477720"/>
            <a:chOff x="2903400" y="2133720"/>
            <a:chExt cx="1058760" cy="477720"/>
          </a:xfrm>
        </p:grpSpPr>
        <p:sp>
          <p:nvSpPr>
            <p:cNvPr id="578" name=""/>
            <p:cNvSpPr/>
            <p:nvPr/>
          </p:nvSpPr>
          <p:spPr>
            <a:xfrm>
              <a:off x="2957400" y="223848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03200" y="223848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47920" y="223848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93720" y="223848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38440" y="223848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84240" y="223848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28600" y="2238480"/>
              <a:ext cx="1335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03400" y="2133720"/>
              <a:ext cx="63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465840" y="2286000"/>
            <a:ext cx="1501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Produ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86600" y="2590920"/>
            <a:ext cx="681120" cy="749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70560" y="3389400"/>
            <a:ext cx="682560" cy="750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48320" y="3200400"/>
            <a:ext cx="236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04120" y="1835280"/>
            <a:ext cx="682560" cy="74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68920" y="3430440"/>
            <a:ext cx="682920" cy="749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70560" y="1793880"/>
            <a:ext cx="682560" cy="749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903400" y="2743200"/>
            <a:ext cx="1058760" cy="477720"/>
            <a:chOff x="2903400" y="2743200"/>
            <a:chExt cx="1058760" cy="477720"/>
          </a:xfrm>
        </p:grpSpPr>
        <p:sp>
          <p:nvSpPr>
            <p:cNvPr id="594" name=""/>
            <p:cNvSpPr/>
            <p:nvPr/>
          </p:nvSpPr>
          <p:spPr>
            <a:xfrm>
              <a:off x="2957400" y="284796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03200" y="284796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47920" y="284796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93720" y="284796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38440" y="284796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84240" y="284796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28600" y="2847960"/>
              <a:ext cx="1335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03400" y="2743200"/>
              <a:ext cx="63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2903400" y="3352680"/>
            <a:ext cx="1058760" cy="477720"/>
            <a:chOff x="2903400" y="3352680"/>
            <a:chExt cx="1058760" cy="477720"/>
          </a:xfrm>
        </p:grpSpPr>
        <p:sp>
          <p:nvSpPr>
            <p:cNvPr id="603" name=""/>
            <p:cNvSpPr/>
            <p:nvPr/>
          </p:nvSpPr>
          <p:spPr>
            <a:xfrm>
              <a:off x="2957400" y="345744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03200" y="345744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47920" y="345744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93720" y="345744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38440" y="3457440"/>
              <a:ext cx="13320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84240" y="3457440"/>
              <a:ext cx="1317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28600" y="3457440"/>
              <a:ext cx="133560" cy="3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3400" y="3352680"/>
              <a:ext cx="63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842760" y="4543560"/>
            <a:ext cx="651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consumer can specify a filter on the chann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of Service can also be specifi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ering of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ou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297180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243828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648320" y="2437920"/>
            <a:ext cx="76176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962160" y="266688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3962160" y="312408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07720" y="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New York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N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New York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ESS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ding Ser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85840" y="1047240"/>
            <a:ext cx="8858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don’t know the name of the cinema that I want to communicate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 would like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ding Servi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find a cinema for me that fulfills som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tra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,  - find a cin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is showing “Men in Black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how must start between 8pm and 9pm to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it must be within 10 km of some specified t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ader will give me a sequence of one or more object references to choose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407720" y="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New York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NNESS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New York"/>
              </a:rPr>
              <a:t>T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943280" y="4324320"/>
            <a:ext cx="5181480" cy="15429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aintains a database of off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1200" y="1104840"/>
            <a:ext cx="1600200" cy="1333440"/>
          </a:xfrm>
          <a:prstGeom prst="rect">
            <a:avLst/>
          </a:prstGeom>
          <a:solidFill>
            <a:srgbClr val="f63c02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76520" y="2209680"/>
            <a:ext cx="1371600" cy="23828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5315040" y="2247840"/>
            <a:ext cx="1752480" cy="22449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46360" y="2103480"/>
            <a:ext cx="3178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cf00"/>
                </a:solidFill>
                <a:latin typeface="Arial"/>
              </a:rPr>
              <a:t>Each makes an offer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6c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cf00"/>
                </a:solidFill>
                <a:latin typeface="Arial"/>
              </a:rPr>
              <a:t>service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6c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cf00"/>
                </a:solidFill>
                <a:latin typeface="Arial"/>
              </a:rPr>
              <a:t>set of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315200" y="1028880"/>
            <a:ext cx="1600200" cy="1333440"/>
            <a:chOff x="7315200" y="1028880"/>
            <a:chExt cx="1600200" cy="1333440"/>
          </a:xfrm>
        </p:grpSpPr>
        <p:sp>
          <p:nvSpPr>
            <p:cNvPr id="627" name=""/>
            <p:cNvSpPr/>
            <p:nvPr/>
          </p:nvSpPr>
          <p:spPr>
            <a:xfrm>
              <a:off x="7315200" y="1028880"/>
              <a:ext cx="1600200" cy="1333440"/>
            </a:xfrm>
            <a:prstGeom prst="rect">
              <a:avLst/>
            </a:prstGeom>
            <a:solidFill>
              <a:srgbClr val="6c95fa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72360" y="1619280"/>
              <a:ext cx="533520" cy="49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6896160" y="647640"/>
            <a:ext cx="1600200" cy="1333440"/>
            <a:chOff x="6896160" y="647640"/>
            <a:chExt cx="1600200" cy="1333440"/>
          </a:xfrm>
        </p:grpSpPr>
        <p:sp>
          <p:nvSpPr>
            <p:cNvPr id="630" name=""/>
            <p:cNvSpPr/>
            <p:nvPr/>
          </p:nvSpPr>
          <p:spPr>
            <a:xfrm>
              <a:off x="6896160" y="647640"/>
              <a:ext cx="1600200" cy="1333440"/>
            </a:xfrm>
            <a:prstGeom prst="rect">
              <a:avLst/>
            </a:prstGeom>
            <a:solidFill>
              <a:srgbClr val="6c95fa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53320" y="1238040"/>
              <a:ext cx="533520" cy="49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77120" y="266760"/>
            <a:ext cx="1600200" cy="1333440"/>
            <a:chOff x="6477120" y="266760"/>
            <a:chExt cx="1600200" cy="1333440"/>
          </a:xfrm>
        </p:grpSpPr>
        <p:sp>
          <p:nvSpPr>
            <p:cNvPr id="633" name=""/>
            <p:cNvSpPr/>
            <p:nvPr/>
          </p:nvSpPr>
          <p:spPr>
            <a:xfrm>
              <a:off x="6477120" y="266760"/>
              <a:ext cx="1600200" cy="1333440"/>
            </a:xfrm>
            <a:prstGeom prst="rect">
              <a:avLst/>
            </a:prstGeom>
            <a:solidFill>
              <a:srgbClr val="6c95fa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34280" y="857160"/>
              <a:ext cx="533520" cy="49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0" y="2979720"/>
            <a:ext cx="3178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cf00"/>
                </a:solidFill>
                <a:latin typeface="Arial"/>
              </a:rPr>
              <a:t>Send a query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6c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cf00"/>
                </a:solidFill>
                <a:latin typeface="Arial"/>
              </a:rPr>
              <a:t>service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6c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cf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66400" y="95040"/>
            <a:ext cx="88772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S - Object Transaction Ser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90400" y="1104480"/>
            <a:ext cx="85536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lient may use several servers, each of which may update a 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must be sure t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servers’ databases are updated (committ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not be committed then it would be best for the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lled ba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ly don’t want some to commit and others to roll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07720" y="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New York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NNESST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New York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534000" y="257040"/>
            <a:ext cx="749520" cy="749520"/>
          </a:xfrm>
          <a:prstGeom prst="ellipse">
            <a:avLst/>
          </a:prstGeom>
          <a:solidFill>
            <a:srgbClr val="ff66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51600" y="1954080"/>
            <a:ext cx="749160" cy="749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86120" y="3648240"/>
            <a:ext cx="749520" cy="749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47880" y="1574640"/>
            <a:ext cx="749160" cy="749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5320" y="692280"/>
            <a:ext cx="4579920" cy="1257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36800" y="2108160"/>
            <a:ext cx="3073320" cy="179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60400" y="2308320"/>
            <a:ext cx="1974960" cy="1434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97480" y="4022640"/>
            <a:ext cx="566640" cy="45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26240" y="2387520"/>
            <a:ext cx="566640" cy="45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72280" y="752400"/>
            <a:ext cx="566640" cy="45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417760" y="1219320"/>
            <a:ext cx="358920" cy="4215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9900"/>
            </a:solidFill>
            <a:miter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13120" y="1898640"/>
            <a:ext cx="358920" cy="4215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9900"/>
            </a:solidFill>
            <a:miter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89280" y="2592360"/>
            <a:ext cx="358920" cy="4215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9900"/>
            </a:solidFill>
            <a:miter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89000" y="2552760"/>
            <a:ext cx="358920" cy="4215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9900"/>
            </a:solidFill>
            <a:miter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3816360" y="4757400"/>
            <a:ext cx="217440" cy="793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906720" y="4800600"/>
            <a:ext cx="451080" cy="735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079880" y="4875120"/>
            <a:ext cx="49536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716960" y="988920"/>
            <a:ext cx="823680" cy="652680"/>
            <a:chOff x="7716960" y="988920"/>
            <a:chExt cx="823680" cy="652680"/>
          </a:xfrm>
        </p:grpSpPr>
        <p:sp>
          <p:nvSpPr>
            <p:cNvPr id="657" name=""/>
            <p:cNvSpPr/>
            <p:nvPr/>
          </p:nvSpPr>
          <p:spPr>
            <a:xfrm>
              <a:off x="7718400" y="988920"/>
              <a:ext cx="820800" cy="24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18400" y="1395360"/>
              <a:ext cx="820800" cy="24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16960" y="1111320"/>
              <a:ext cx="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40640" y="1114560"/>
              <a:ext cx="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729560" y="1360440"/>
              <a:ext cx="8017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0" y="3679920"/>
            <a:ext cx="129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om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request to O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95320" y="5543640"/>
            <a:ext cx="6896160" cy="666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71520" y="3165480"/>
            <a:ext cx="0" cy="261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57280" y="4479840"/>
            <a:ext cx="181620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Instructions to com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New York"/>
              </a:rPr>
              <a:t>atom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9840" y="5086440"/>
            <a:ext cx="358920" cy="4215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9900"/>
            </a:solidFill>
            <a:miter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6400800" y="2590920"/>
            <a:ext cx="823680" cy="651960"/>
            <a:chOff x="6400800" y="2590920"/>
            <a:chExt cx="823680" cy="651960"/>
          </a:xfrm>
        </p:grpSpPr>
        <p:sp>
          <p:nvSpPr>
            <p:cNvPr id="668" name=""/>
            <p:cNvSpPr/>
            <p:nvPr/>
          </p:nvSpPr>
          <p:spPr>
            <a:xfrm>
              <a:off x="6402240" y="2590920"/>
              <a:ext cx="820800" cy="245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02240" y="2997000"/>
              <a:ext cx="820800" cy="245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00800" y="2712960"/>
              <a:ext cx="0" cy="40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224480" y="2716200"/>
              <a:ext cx="0" cy="40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13400" y="2962080"/>
              <a:ext cx="8017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084640" y="4192560"/>
            <a:ext cx="823680" cy="651960"/>
            <a:chOff x="5084640" y="4192560"/>
            <a:chExt cx="823680" cy="651960"/>
          </a:xfrm>
        </p:grpSpPr>
        <p:sp>
          <p:nvSpPr>
            <p:cNvPr id="674" name=""/>
            <p:cNvSpPr/>
            <p:nvPr/>
          </p:nvSpPr>
          <p:spPr>
            <a:xfrm>
              <a:off x="5086080" y="4192560"/>
              <a:ext cx="820800" cy="245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86080" y="4598640"/>
              <a:ext cx="820800" cy="245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84640" y="4314600"/>
              <a:ext cx="0" cy="40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08320" y="4317840"/>
              <a:ext cx="0" cy="40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97240" y="4563720"/>
              <a:ext cx="8017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oftware without Boundar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Bridging Islands of Techn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36600" y="974880"/>
            <a:ext cx="83628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mechanisms to support each of the follow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1905120"/>
            <a:ext cx="88455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2840" bIns="42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46520" y="3230640"/>
            <a:ext cx="1862280" cy="9334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46520" y="4861080"/>
            <a:ext cx="1862280" cy="9302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9480" y="3695760"/>
            <a:ext cx="652680" cy="1630440"/>
          </a:xfrm>
          <a:custGeom>
            <a:avLst/>
            <a:gdLst/>
            <a:ahLst/>
            <a:rect l="l" t="t" r="r" b="b"/>
            <a:pathLst>
              <a:path w="411" h="1027">
                <a:moveTo>
                  <a:pt x="206" y="1027"/>
                </a:moveTo>
                <a:lnTo>
                  <a:pt x="411" y="822"/>
                </a:lnTo>
                <a:lnTo>
                  <a:pt x="275" y="822"/>
                </a:lnTo>
                <a:lnTo>
                  <a:pt x="275" y="0"/>
                </a:lnTo>
                <a:lnTo>
                  <a:pt x="136" y="0"/>
                </a:lnTo>
                <a:lnTo>
                  <a:pt x="136" y="822"/>
                </a:lnTo>
                <a:lnTo>
                  <a:pt x="0" y="822"/>
                </a:lnTo>
                <a:lnTo>
                  <a:pt x="206" y="1027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16200000">
            <a:off x="3780000" y="4410000"/>
            <a:ext cx="132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propag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07400" y="3695760"/>
            <a:ext cx="1861920" cy="9334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07080" y="3463920"/>
            <a:ext cx="488880" cy="466560"/>
          </a:xfrm>
          <a:custGeom>
            <a:avLst/>
            <a:gdLst/>
            <a:ahLst/>
            <a:rect l="l" t="t" r="r" b="b"/>
            <a:pathLst>
              <a:path w="308" h="294">
                <a:moveTo>
                  <a:pt x="154" y="0"/>
                </a:moveTo>
                <a:lnTo>
                  <a:pt x="0" y="113"/>
                </a:lnTo>
                <a:lnTo>
                  <a:pt x="58" y="294"/>
                </a:lnTo>
                <a:lnTo>
                  <a:pt x="250" y="294"/>
                </a:lnTo>
                <a:lnTo>
                  <a:pt x="308" y="113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98960" y="357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8040" y="3700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07080" y="5094360"/>
            <a:ext cx="488880" cy="465120"/>
          </a:xfrm>
          <a:custGeom>
            <a:avLst/>
            <a:gdLst/>
            <a:ahLst/>
            <a:rect l="l" t="t" r="r" b="b"/>
            <a:pathLst>
              <a:path w="308" h="293">
                <a:moveTo>
                  <a:pt x="154" y="0"/>
                </a:moveTo>
                <a:lnTo>
                  <a:pt x="0" y="112"/>
                </a:lnTo>
                <a:lnTo>
                  <a:pt x="58" y="293"/>
                </a:lnTo>
                <a:lnTo>
                  <a:pt x="250" y="293"/>
                </a:lnTo>
                <a:lnTo>
                  <a:pt x="308" y="112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98960" y="520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108040" y="5330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693200" y="3930480"/>
            <a:ext cx="490320" cy="465480"/>
          </a:xfrm>
          <a:custGeom>
            <a:avLst/>
            <a:gdLst/>
            <a:ahLst/>
            <a:rect l="l" t="t" r="r" b="b"/>
            <a:pathLst>
              <a:path w="309" h="293">
                <a:moveTo>
                  <a:pt x="154" y="0"/>
                </a:moveTo>
                <a:lnTo>
                  <a:pt x="0" y="112"/>
                </a:lnTo>
                <a:lnTo>
                  <a:pt x="60" y="293"/>
                </a:lnTo>
                <a:lnTo>
                  <a:pt x="250" y="293"/>
                </a:lnTo>
                <a:lnTo>
                  <a:pt x="309" y="112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85080" y="404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994160" y="416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172360" y="5037120"/>
            <a:ext cx="930240" cy="522360"/>
          </a:xfrm>
          <a:custGeom>
            <a:avLst/>
            <a:gdLst/>
            <a:ahLst/>
            <a:rect l="l" t="t" r="r" b="b"/>
            <a:pathLst>
              <a:path w="586" h="329">
                <a:moveTo>
                  <a:pt x="0" y="293"/>
                </a:moveTo>
                <a:lnTo>
                  <a:pt x="0" y="36"/>
                </a:lnTo>
                <a:lnTo>
                  <a:pt x="72" y="20"/>
                </a:lnTo>
                <a:lnTo>
                  <a:pt x="145" y="8"/>
                </a:lnTo>
                <a:lnTo>
                  <a:pt x="218" y="1"/>
                </a:lnTo>
                <a:lnTo>
                  <a:pt x="293" y="0"/>
                </a:lnTo>
                <a:lnTo>
                  <a:pt x="366" y="1"/>
                </a:lnTo>
                <a:lnTo>
                  <a:pt x="441" y="8"/>
                </a:lnTo>
                <a:lnTo>
                  <a:pt x="514" y="20"/>
                </a:lnTo>
                <a:lnTo>
                  <a:pt x="586" y="36"/>
                </a:lnTo>
                <a:lnTo>
                  <a:pt x="586" y="293"/>
                </a:lnTo>
                <a:lnTo>
                  <a:pt x="514" y="309"/>
                </a:lnTo>
                <a:lnTo>
                  <a:pt x="441" y="320"/>
                </a:lnTo>
                <a:lnTo>
                  <a:pt x="366" y="328"/>
                </a:lnTo>
                <a:lnTo>
                  <a:pt x="293" y="329"/>
                </a:lnTo>
                <a:lnTo>
                  <a:pt x="218" y="328"/>
                </a:lnTo>
                <a:lnTo>
                  <a:pt x="145" y="320"/>
                </a:lnTo>
                <a:lnTo>
                  <a:pt x="72" y="309"/>
                </a:lnTo>
                <a:lnTo>
                  <a:pt x="0" y="29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172360" y="5094360"/>
            <a:ext cx="930240" cy="58680"/>
          </a:xfrm>
          <a:custGeom>
            <a:avLst/>
            <a:gdLst/>
            <a:ahLst/>
            <a:rect l="l" t="t" r="r" b="b"/>
            <a:pathLst>
              <a:path w="586" h="37">
                <a:moveTo>
                  <a:pt x="0" y="0"/>
                </a:moveTo>
                <a:lnTo>
                  <a:pt x="72" y="16"/>
                </a:lnTo>
                <a:lnTo>
                  <a:pt x="145" y="27"/>
                </a:lnTo>
                <a:lnTo>
                  <a:pt x="218" y="35"/>
                </a:lnTo>
                <a:lnTo>
                  <a:pt x="293" y="37"/>
                </a:lnTo>
                <a:lnTo>
                  <a:pt x="366" y="35"/>
                </a:lnTo>
                <a:lnTo>
                  <a:pt x="441" y="27"/>
                </a:lnTo>
                <a:lnTo>
                  <a:pt x="514" y="16"/>
                </a:lnTo>
                <a:lnTo>
                  <a:pt x="586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73760" y="5037120"/>
            <a:ext cx="930240" cy="522360"/>
          </a:xfrm>
          <a:custGeom>
            <a:avLst/>
            <a:gdLst/>
            <a:ahLst/>
            <a:rect l="l" t="t" r="r" b="b"/>
            <a:pathLst>
              <a:path w="586" h="329">
                <a:moveTo>
                  <a:pt x="0" y="293"/>
                </a:moveTo>
                <a:lnTo>
                  <a:pt x="0" y="36"/>
                </a:lnTo>
                <a:lnTo>
                  <a:pt x="72" y="20"/>
                </a:lnTo>
                <a:lnTo>
                  <a:pt x="146" y="8"/>
                </a:lnTo>
                <a:lnTo>
                  <a:pt x="219" y="1"/>
                </a:lnTo>
                <a:lnTo>
                  <a:pt x="293" y="0"/>
                </a:lnTo>
                <a:lnTo>
                  <a:pt x="368" y="1"/>
                </a:lnTo>
                <a:lnTo>
                  <a:pt x="441" y="8"/>
                </a:lnTo>
                <a:lnTo>
                  <a:pt x="514" y="20"/>
                </a:lnTo>
                <a:lnTo>
                  <a:pt x="586" y="36"/>
                </a:lnTo>
                <a:lnTo>
                  <a:pt x="586" y="293"/>
                </a:lnTo>
                <a:lnTo>
                  <a:pt x="514" y="309"/>
                </a:lnTo>
                <a:lnTo>
                  <a:pt x="441" y="320"/>
                </a:lnTo>
                <a:lnTo>
                  <a:pt x="368" y="328"/>
                </a:lnTo>
                <a:lnTo>
                  <a:pt x="293" y="329"/>
                </a:lnTo>
                <a:lnTo>
                  <a:pt x="219" y="328"/>
                </a:lnTo>
                <a:lnTo>
                  <a:pt x="146" y="320"/>
                </a:lnTo>
                <a:lnTo>
                  <a:pt x="72" y="309"/>
                </a:lnTo>
                <a:lnTo>
                  <a:pt x="0" y="29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773760" y="5094360"/>
            <a:ext cx="930240" cy="58680"/>
          </a:xfrm>
          <a:custGeom>
            <a:avLst/>
            <a:gdLst/>
            <a:ahLst/>
            <a:rect l="l" t="t" r="r" b="b"/>
            <a:pathLst>
              <a:path w="586" h="37">
                <a:moveTo>
                  <a:pt x="0" y="0"/>
                </a:moveTo>
                <a:lnTo>
                  <a:pt x="72" y="16"/>
                </a:lnTo>
                <a:lnTo>
                  <a:pt x="146" y="27"/>
                </a:lnTo>
                <a:lnTo>
                  <a:pt x="219" y="35"/>
                </a:lnTo>
                <a:lnTo>
                  <a:pt x="293" y="37"/>
                </a:lnTo>
                <a:lnTo>
                  <a:pt x="368" y="35"/>
                </a:lnTo>
                <a:lnTo>
                  <a:pt x="441" y="27"/>
                </a:lnTo>
                <a:lnTo>
                  <a:pt x="514" y="16"/>
                </a:lnTo>
                <a:lnTo>
                  <a:pt x="586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300800" y="4395960"/>
            <a:ext cx="487440" cy="569880"/>
          </a:xfrm>
          <a:prstGeom prst="line">
            <a:avLst/>
          </a:prstGeom>
          <a:ln w="14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089920" y="4395960"/>
            <a:ext cx="485640" cy="569880"/>
          </a:xfrm>
          <a:prstGeom prst="line">
            <a:avLst/>
          </a:prstGeom>
          <a:ln w="14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153560" y="5222880"/>
            <a:ext cx="25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550360" y="5222880"/>
            <a:ext cx="25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2556000"/>
            <a:ext cx="123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67280" y="2830680"/>
            <a:ext cx="132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278120" y="269388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PC protoc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34920" y="2706840"/>
            <a:ext cx="17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95400" y="2556000"/>
            <a:ext cx="123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06840" y="2830680"/>
            <a:ext cx="140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74400" y="2706840"/>
            <a:ext cx="17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089360" y="4043520"/>
            <a:ext cx="109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gin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86840" y="43196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88640" y="45957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86840" y="48704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089000" y="514656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mmi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52560" y="3695760"/>
            <a:ext cx="1398600" cy="1863720"/>
          </a:xfrm>
          <a:custGeom>
            <a:avLst/>
            <a:gdLst/>
            <a:ahLst/>
            <a:rect l="l" t="t" r="r" b="b"/>
            <a:pathLst>
              <a:path w="881" h="1174">
                <a:moveTo>
                  <a:pt x="0" y="0"/>
                </a:moveTo>
                <a:lnTo>
                  <a:pt x="881" y="0"/>
                </a:lnTo>
                <a:lnTo>
                  <a:pt x="881" y="1174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0720" y="3930480"/>
            <a:ext cx="1630440" cy="1629000"/>
          </a:xfrm>
          <a:custGeom>
            <a:avLst/>
            <a:gdLst/>
            <a:ahLst/>
            <a:rect l="l" t="t" r="r" b="b"/>
            <a:pathLst>
              <a:path w="1027" h="1026">
                <a:moveTo>
                  <a:pt x="1027" y="1026"/>
                </a:moveTo>
                <a:lnTo>
                  <a:pt x="0" y="102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720720" y="3695760"/>
            <a:ext cx="231840" cy="234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720720" y="3930480"/>
            <a:ext cx="23184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52560" y="3695760"/>
            <a:ext cx="1440" cy="234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gmenting IIOP with SSL.  This provi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hentication  (security certificates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Priv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BA Security standard, ad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and authentication of princip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horization and access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aud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repu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07720" y="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New York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NNE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New York"/>
              </a:rPr>
              <a:t>S</a:t>
            </a:r>
            <a:r>
              <a:rPr b="1" lang="en-US" sz="2400" spc="-1" strike="noStrike">
                <a:solidFill>
                  <a:srgbClr val="ffff00"/>
                </a:solidFill>
                <a:latin typeface="New York"/>
              </a:rPr>
              <a:t>S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3429000" y="1752480"/>
            <a:ext cx="4495680" cy="4419720"/>
            <a:chOff x="3429000" y="1752480"/>
            <a:chExt cx="4495680" cy="4419720"/>
          </a:xfrm>
        </p:grpSpPr>
        <p:sp>
          <p:nvSpPr>
            <p:cNvPr id="725" name=""/>
            <p:cNvSpPr/>
            <p:nvPr/>
          </p:nvSpPr>
          <p:spPr>
            <a:xfrm>
              <a:off x="3429000" y="1752480"/>
              <a:ext cx="4495680" cy="44197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11560" y="3047760"/>
              <a:ext cx="22928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 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SL Secur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rewall Secur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a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457200" y="20574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roduct bun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bject Transaction Monitor (OTM)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 the transaction monitor for object syste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vices :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t of services that you would have to write yourself if they weren’t avai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e aspects of distributed computing built on top of IDL and the point to point communication provided by the base OR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mi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he Key Driver - Chan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rything is changing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r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siness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O 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ign Information Systems to Business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creasingly difficult, as rate of change incre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67000" y="2022480"/>
            <a:ext cx="132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5840" y="2401920"/>
            <a:ext cx="9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01200" y="4255920"/>
            <a:ext cx="102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A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11600" y="3124080"/>
            <a:ext cx="91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58640" y="5334120"/>
            <a:ext cx="73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EJ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6320" y="3505320"/>
            <a:ext cx="9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M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59280" y="2163600"/>
            <a:ext cx="89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99760" y="2971800"/>
            <a:ext cx="102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JD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7800" y="3957480"/>
            <a:ext cx="70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J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98520" y="1990800"/>
            <a:ext cx="93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3600" y="4910040"/>
            <a:ext cx="96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II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00920" y="3505320"/>
            <a:ext cx="74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SS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6920" y="5207040"/>
            <a:ext cx="102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echnology Velocit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27320" y="571500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34040" y="4267080"/>
            <a:ext cx="217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App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20" y="609480"/>
            <a:ext cx="915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O Mission 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ign Information Systems to Business Go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creasingly difficult, as rate of change in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048120" y="1676520"/>
            <a:ext cx="3446280" cy="4910040"/>
            <a:chOff x="3048120" y="1676520"/>
            <a:chExt cx="3446280" cy="4910040"/>
          </a:xfrm>
        </p:grpSpPr>
        <p:graphicFrame>
          <p:nvGraphicFramePr>
            <p:cNvPr id="80" name=""/>
            <p:cNvGraphicFramePr/>
            <p:nvPr/>
          </p:nvGraphicFramePr>
          <p:xfrm>
            <a:off x="3048120" y="1676520"/>
            <a:ext cx="3446280" cy="491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1676520"/>
                      <a:ext cx="3446280" cy="49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4808520" y="316692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9200" y="759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ll this new technology creates Technology </a:t>
            </a:r>
            <a:r>
              <a:rPr b="1" i="1" lang="en-GB" sz="4400" spc="-1" strike="noStrike">
                <a:solidFill>
                  <a:srgbClr val="ffcc00"/>
                </a:solidFill>
                <a:latin typeface="Times New Roman"/>
              </a:rPr>
              <a:t>Boundar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will the new technology work with what I hav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will what’s new </a:t>
            </a:r>
            <a:r>
              <a:rPr b="0" i="1" lang="en-GB" sz="2800" spc="-1" strike="noStrike">
                <a:solidFill>
                  <a:srgbClr val="00ff00"/>
                </a:solidFill>
                <a:latin typeface="Times New Roman"/>
              </a:rPr>
              <a:t>toda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ork with what’s new </a:t>
            </a:r>
            <a:r>
              <a:rPr b="0" i="1" lang="en-GB" sz="2800" spc="-1" strike="noStrike">
                <a:solidFill>
                  <a:srgbClr val="00ff00"/>
                </a:solidFill>
                <a:latin typeface="Times New Roman"/>
              </a:rPr>
              <a:t>tomorro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next year, next decad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84880" y="1676520"/>
            <a:ext cx="23335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What kind of boundaries stand in our wa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18:00:39Z</dcterms:created>
  <dc:creator>clewis</dc:creator>
  <dc:description/>
  <dc:language>en-US</dc:language>
  <cp:lastModifiedBy>Sean Baker</cp:lastModifiedBy>
  <cp:lastPrinted>1999-08-03T09:01:05Z</cp:lastPrinted>
  <dcterms:modified xsi:type="dcterms:W3CDTF">1999-09-08T10:07:32Z</dcterms:modified>
  <cp:revision>153</cp:revision>
  <dc:subject/>
  <dc:title>No Slide Title</dc:title>
</cp:coreProperties>
</file>