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6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76992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6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769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769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6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769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769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769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6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6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6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6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6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769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6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769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6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6992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4773600" y="5638680"/>
            <a:ext cx="4365360" cy="1219320"/>
            <a:chOff x="4773600" y="5638680"/>
            <a:chExt cx="4365360" cy="1219320"/>
          </a:xfrm>
        </p:grpSpPr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943760" y="5638680"/>
              <a:ext cx="11952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4773600" y="6509520"/>
              <a:ext cx="3333240" cy="2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aeaea"/>
                  </a:solidFill>
                  <a:latin typeface="Arial"/>
                </a:rPr>
                <a:t>The World Leader in Making Software Work Together ™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-244800" y="652140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5227A-479F-4612-8521-29F3486BFC4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0040" y="6553080"/>
            <a:ext cx="263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 IONA Technologies 1998-199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image" Target="../media/image4.png"/><Relationship Id="rId3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image" Target="../media/image4.png"/><Relationship Id="rId3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erformance Consider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1 (E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solution that will perform well for this usage patter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interface FrontOffice {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// ...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Booking getBookingByOwner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(in Name owner);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};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ich objects become CORBA object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ot all objects can be made into CORBA objec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verhead of the CORBA objects themselves and associated tab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ncourages usage patterns that will not perform wel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me objects shouldn’t be exported for security / modularity reason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RBA objects have a strong service aspect  --- they are strong on behavior, not just dat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sider Book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hould we hav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639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interface FrontOffice {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39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typedef long BookingID;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39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BookingID makeBooking (.....);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39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};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39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interface Booking {.....};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39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interface FrontOffice {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39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Booking makeBooking (.....);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39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};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581280" y="3025800"/>
            <a:ext cx="5562720" cy="1089360"/>
          </a:xfrm>
          <a:prstGeom prst="wedgeRoundRectCallout">
            <a:avLst>
              <a:gd name="adj1" fmla="val -35791"/>
              <a:gd name="adj2" fmla="val 82569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 prefer this, but I won’t go as far as making Name a CORBA object.  I’d represent it as a string or as a struct in ID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atabase implic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304920" y="761760"/>
            <a:ext cx="86868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urier New"/>
              </a:rPr>
              <a:t>BookingID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means that our server does not have to have </a:t>
            </a:r>
            <a:r>
              <a:rPr b="0" lang="en-US" sz="3200" spc="-1" strike="noStrike">
                <a:solidFill>
                  <a:srgbClr val="ffff00"/>
                </a:solidFill>
                <a:latin typeface="Courier New"/>
              </a:rPr>
              <a:t>Booking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objec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problem with </a:t>
            </a:r>
            <a:r>
              <a:rPr b="0" lang="en-US" sz="3200" spc="-1" strike="noStrike">
                <a:solidFill>
                  <a:srgbClr val="ffff00"/>
                </a:solidFill>
                <a:latin typeface="Courier New"/>
              </a:rPr>
              <a:t>Booking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objects is that there may be too many to load (incarnate) on server startup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U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may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nt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use </a:t>
            </a:r>
            <a:r>
              <a:rPr b="0" lang="en-US" sz="3200" spc="-1" strike="noStrike">
                <a:solidFill>
                  <a:srgbClr val="ffff00"/>
                </a:solidFill>
                <a:latin typeface="Courier New"/>
              </a:rPr>
              <a:t>Bookin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57200" y="4419720"/>
            <a:ext cx="8229600" cy="1945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’ll see how to use Booking but not have to load all of the objects on server start 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r even to never have Booking objects in the serv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erformance Consider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ot all IDL will perform wel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You need to remember that network communication may be require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683280" indent="-26280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transparency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is good as to way to make programming easier, but the network can’t be ignored completely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usual considerations ar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number of reques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size of messag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complexity of the data transmitte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 ID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interface Booking {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readonly attribute Name owner;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readonly attribute Date when;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void cancel();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};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interface FrontOffice {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Booking makeBooking (....);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};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 of poor IDL / usage patter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4582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interface FrontOffice {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// ... As before, but add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typedef sequence&lt;Booking&gt; BookingSeq;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BookingSeq getBookings ();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};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46280" y="4800600"/>
            <a:ext cx="611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w lets us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getBooking(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o find the booking made by “John Poole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5715000" y="2003400"/>
            <a:ext cx="2895120" cy="3254400"/>
            <a:chOff x="5715000" y="2003400"/>
            <a:chExt cx="2895120" cy="3254400"/>
          </a:xfrm>
        </p:grpSpPr>
        <p:sp>
          <p:nvSpPr>
            <p:cNvPr id="53" name=""/>
            <p:cNvSpPr/>
            <p:nvPr/>
          </p:nvSpPr>
          <p:spPr>
            <a:xfrm>
              <a:off x="5729400" y="2504880"/>
              <a:ext cx="2863800" cy="27529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2003400"/>
              <a:ext cx="1082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erv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6095880" y="2994120"/>
              <a:ext cx="1676160" cy="1233360"/>
              <a:chOff x="6095880" y="2994120"/>
              <a:chExt cx="1676160" cy="1233360"/>
            </a:xfrm>
          </p:grpSpPr>
          <p:grpSp>
            <p:nvGrpSpPr>
              <p:cNvPr id="56" name=""/>
              <p:cNvGrpSpPr/>
              <p:nvPr/>
            </p:nvGrpSpPr>
            <p:grpSpPr>
              <a:xfrm>
                <a:off x="6095880" y="2994120"/>
                <a:ext cx="1676160" cy="1233360"/>
                <a:chOff x="6095880" y="2994120"/>
                <a:chExt cx="1676160" cy="1233360"/>
              </a:xfrm>
            </p:grpSpPr>
            <p:grpSp>
              <p:nvGrpSpPr>
                <p:cNvPr id="57" name=""/>
                <p:cNvGrpSpPr/>
                <p:nvPr/>
              </p:nvGrpSpPr>
              <p:grpSpPr>
                <a:xfrm>
                  <a:off x="6095880" y="3401640"/>
                  <a:ext cx="407520" cy="407520"/>
                  <a:chOff x="6095880" y="3401640"/>
                  <a:chExt cx="407520" cy="4075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>
                    <a:off x="6095880" y="3605400"/>
                    <a:ext cx="407520" cy="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6095880" y="3401640"/>
                    <a:ext cx="0" cy="40752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" name=""/>
                <p:cNvSpPr/>
                <p:nvPr/>
              </p:nvSpPr>
              <p:spPr>
                <a:xfrm>
                  <a:off x="6435720" y="2994120"/>
                  <a:ext cx="1336320" cy="1233360"/>
                </a:xfrm>
                <a:prstGeom prst="ellipse">
                  <a:avLst/>
                </a:prstGeom>
                <a:blipFill rotWithShape="0">
                  <a:blip r:embed="rId1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" name=""/>
              <p:cNvSpPr/>
              <p:nvPr/>
            </p:nvSpPr>
            <p:spPr>
              <a:xfrm>
                <a:off x="6628320" y="3222720"/>
                <a:ext cx="982080" cy="75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Front</a:t>
                </a:r>
                <a:br>
                  <a:rPr sz="2400"/>
                </a:b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Offic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7315200" y="3984480"/>
              <a:ext cx="1218960" cy="966960"/>
              <a:chOff x="7315200" y="3984480"/>
              <a:chExt cx="1218960" cy="966960"/>
            </a:xfrm>
          </p:grpSpPr>
          <p:grpSp>
            <p:nvGrpSpPr>
              <p:cNvPr id="63" name=""/>
              <p:cNvGrpSpPr/>
              <p:nvPr/>
            </p:nvGrpSpPr>
            <p:grpSpPr>
              <a:xfrm>
                <a:off x="7315200" y="4213080"/>
                <a:ext cx="380880" cy="281160"/>
                <a:chOff x="7315200" y="4213080"/>
                <a:chExt cx="380880" cy="281160"/>
              </a:xfrm>
            </p:grpSpPr>
            <p:grpSp>
              <p:nvGrpSpPr>
                <p:cNvPr id="64" name=""/>
                <p:cNvGrpSpPr/>
                <p:nvPr/>
              </p:nvGrpSpPr>
              <p:grpSpPr>
                <a:xfrm>
                  <a:off x="7315200" y="4305960"/>
                  <a:ext cx="92520" cy="92880"/>
                  <a:chOff x="7315200" y="4305960"/>
                  <a:chExt cx="92520" cy="92880"/>
                </a:xfrm>
              </p:grpSpPr>
              <p:sp>
                <p:nvSpPr>
                  <p:cNvPr id="65" name=""/>
                  <p:cNvSpPr/>
                  <p:nvPr/>
                </p:nvSpPr>
                <p:spPr>
                  <a:xfrm>
                    <a:off x="7315200" y="4352400"/>
                    <a:ext cx="92520" cy="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" name=""/>
                  <p:cNvSpPr/>
                  <p:nvPr/>
                </p:nvSpPr>
                <p:spPr>
                  <a:xfrm>
                    <a:off x="7315200" y="4305960"/>
                    <a:ext cx="0" cy="9288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7" name=""/>
                <p:cNvSpPr/>
                <p:nvPr/>
              </p:nvSpPr>
              <p:spPr>
                <a:xfrm>
                  <a:off x="7392240" y="4213080"/>
                  <a:ext cx="303840" cy="281160"/>
                </a:xfrm>
                <a:prstGeom prst="ellipse">
                  <a:avLst/>
                </a:prstGeom>
                <a:blipFill rotWithShape="0">
                  <a:blip r:embed="rId2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7467480" y="4365720"/>
                <a:ext cx="380880" cy="280800"/>
                <a:chOff x="7467480" y="4365720"/>
                <a:chExt cx="380880" cy="280800"/>
              </a:xfrm>
            </p:grpSpPr>
            <p:grpSp>
              <p:nvGrpSpPr>
                <p:cNvPr id="69" name=""/>
                <p:cNvGrpSpPr/>
                <p:nvPr/>
              </p:nvGrpSpPr>
              <p:grpSpPr>
                <a:xfrm>
                  <a:off x="7467480" y="4458600"/>
                  <a:ext cx="92520" cy="92880"/>
                  <a:chOff x="7467480" y="4458600"/>
                  <a:chExt cx="92520" cy="9288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>
                    <a:off x="7467480" y="4505040"/>
                    <a:ext cx="92520" cy="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467480" y="4458600"/>
                    <a:ext cx="0" cy="9288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2" name=""/>
                <p:cNvSpPr/>
                <p:nvPr/>
              </p:nvSpPr>
              <p:spPr>
                <a:xfrm>
                  <a:off x="7544520" y="4365720"/>
                  <a:ext cx="303840" cy="280800"/>
                </a:xfrm>
                <a:prstGeom prst="ellipse">
                  <a:avLst/>
                </a:prstGeom>
                <a:blipFill rotWithShape="0">
                  <a:blip r:embed="rId3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7620120" y="4518000"/>
                <a:ext cx="380880" cy="281160"/>
                <a:chOff x="7620120" y="4518000"/>
                <a:chExt cx="380880" cy="281160"/>
              </a:xfrm>
            </p:grpSpPr>
            <p:grpSp>
              <p:nvGrpSpPr>
                <p:cNvPr id="74" name=""/>
                <p:cNvGrpSpPr/>
                <p:nvPr/>
              </p:nvGrpSpPr>
              <p:grpSpPr>
                <a:xfrm>
                  <a:off x="7620120" y="4610880"/>
                  <a:ext cx="92520" cy="92880"/>
                  <a:chOff x="7620120" y="4610880"/>
                  <a:chExt cx="92520" cy="92880"/>
                </a:xfrm>
              </p:grpSpPr>
              <p:sp>
                <p:nvSpPr>
                  <p:cNvPr id="75" name=""/>
                  <p:cNvSpPr/>
                  <p:nvPr/>
                </p:nvSpPr>
                <p:spPr>
                  <a:xfrm>
                    <a:off x="7620120" y="4657320"/>
                    <a:ext cx="92520" cy="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20120" y="4610880"/>
                    <a:ext cx="0" cy="9288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7" name=""/>
                <p:cNvSpPr/>
                <p:nvPr/>
              </p:nvSpPr>
              <p:spPr>
                <a:xfrm>
                  <a:off x="7697160" y="4518000"/>
                  <a:ext cx="303840" cy="281160"/>
                </a:xfrm>
                <a:prstGeom prst="ellipse">
                  <a:avLst/>
                </a:prstGeom>
                <a:blipFill rotWithShape="0">
                  <a:blip r:embed="rId4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7772400" y="4670280"/>
                <a:ext cx="380880" cy="281160"/>
                <a:chOff x="7772400" y="4670280"/>
                <a:chExt cx="380880" cy="281160"/>
              </a:xfrm>
            </p:grpSpPr>
            <p:grpSp>
              <p:nvGrpSpPr>
                <p:cNvPr id="79" name=""/>
                <p:cNvGrpSpPr/>
                <p:nvPr/>
              </p:nvGrpSpPr>
              <p:grpSpPr>
                <a:xfrm>
                  <a:off x="7772400" y="4763160"/>
                  <a:ext cx="92520" cy="92880"/>
                  <a:chOff x="7772400" y="4763160"/>
                  <a:chExt cx="92520" cy="92880"/>
                </a:xfrm>
              </p:grpSpPr>
              <p:sp>
                <p:nvSpPr>
                  <p:cNvPr id="80" name=""/>
                  <p:cNvSpPr/>
                  <p:nvPr/>
                </p:nvSpPr>
                <p:spPr>
                  <a:xfrm>
                    <a:off x="7772400" y="4809600"/>
                    <a:ext cx="92520" cy="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772400" y="4763160"/>
                    <a:ext cx="0" cy="9288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2" name=""/>
                <p:cNvSpPr/>
                <p:nvPr/>
              </p:nvSpPr>
              <p:spPr>
                <a:xfrm>
                  <a:off x="7849440" y="4670280"/>
                  <a:ext cx="303840" cy="281160"/>
                </a:xfrm>
                <a:prstGeom prst="ellipse">
                  <a:avLst/>
                </a:prstGeom>
                <a:blipFill rotWithShape="0">
                  <a:blip r:embed="rId5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7696080" y="3984480"/>
                <a:ext cx="380880" cy="281160"/>
                <a:chOff x="7696080" y="3984480"/>
                <a:chExt cx="380880" cy="281160"/>
              </a:xfrm>
            </p:grpSpPr>
            <p:grpSp>
              <p:nvGrpSpPr>
                <p:cNvPr id="84" name=""/>
                <p:cNvGrpSpPr/>
                <p:nvPr/>
              </p:nvGrpSpPr>
              <p:grpSpPr>
                <a:xfrm>
                  <a:off x="7696080" y="4077360"/>
                  <a:ext cx="92520" cy="92880"/>
                  <a:chOff x="7696080" y="4077360"/>
                  <a:chExt cx="92520" cy="92880"/>
                </a:xfrm>
              </p:grpSpPr>
              <p:sp>
                <p:nvSpPr>
                  <p:cNvPr id="85" name=""/>
                  <p:cNvSpPr/>
                  <p:nvPr/>
                </p:nvSpPr>
                <p:spPr>
                  <a:xfrm>
                    <a:off x="7696080" y="4123800"/>
                    <a:ext cx="92520" cy="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696080" y="4077360"/>
                    <a:ext cx="0" cy="9288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7" name=""/>
                <p:cNvSpPr/>
                <p:nvPr/>
              </p:nvSpPr>
              <p:spPr>
                <a:xfrm>
                  <a:off x="7773120" y="3984480"/>
                  <a:ext cx="303840" cy="281160"/>
                </a:xfrm>
                <a:prstGeom prst="ellipse">
                  <a:avLst/>
                </a:prstGeom>
                <a:blipFill rotWithShape="0">
                  <a:blip r:embed="rId6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7848720" y="4137120"/>
                <a:ext cx="380880" cy="280800"/>
                <a:chOff x="7848720" y="4137120"/>
                <a:chExt cx="380880" cy="280800"/>
              </a:xfrm>
            </p:grpSpPr>
            <p:grpSp>
              <p:nvGrpSpPr>
                <p:cNvPr id="89" name=""/>
                <p:cNvGrpSpPr/>
                <p:nvPr/>
              </p:nvGrpSpPr>
              <p:grpSpPr>
                <a:xfrm>
                  <a:off x="7848720" y="4230000"/>
                  <a:ext cx="92520" cy="92880"/>
                  <a:chOff x="7848720" y="4230000"/>
                  <a:chExt cx="92520" cy="9288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>
                    <a:off x="7848720" y="4276440"/>
                    <a:ext cx="92520" cy="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848720" y="4230000"/>
                    <a:ext cx="0" cy="9288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2" name=""/>
                <p:cNvSpPr/>
                <p:nvPr/>
              </p:nvSpPr>
              <p:spPr>
                <a:xfrm>
                  <a:off x="7925760" y="4137120"/>
                  <a:ext cx="303840" cy="280800"/>
                </a:xfrm>
                <a:prstGeom prst="ellipse">
                  <a:avLst/>
                </a:prstGeom>
                <a:blipFill rotWithShape="0">
                  <a:blip r:embed="rId7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8001000" y="4289400"/>
                <a:ext cx="380880" cy="281160"/>
                <a:chOff x="8001000" y="4289400"/>
                <a:chExt cx="380880" cy="281160"/>
              </a:xfrm>
            </p:grpSpPr>
            <p:grpSp>
              <p:nvGrpSpPr>
                <p:cNvPr id="94" name=""/>
                <p:cNvGrpSpPr/>
                <p:nvPr/>
              </p:nvGrpSpPr>
              <p:grpSpPr>
                <a:xfrm>
                  <a:off x="8001000" y="4382280"/>
                  <a:ext cx="92520" cy="92880"/>
                  <a:chOff x="8001000" y="4382280"/>
                  <a:chExt cx="92520" cy="92880"/>
                </a:xfrm>
              </p:grpSpPr>
              <p:sp>
                <p:nvSpPr>
                  <p:cNvPr id="95" name=""/>
                  <p:cNvSpPr/>
                  <p:nvPr/>
                </p:nvSpPr>
                <p:spPr>
                  <a:xfrm>
                    <a:off x="8001000" y="4428720"/>
                    <a:ext cx="92520" cy="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8001000" y="4382280"/>
                    <a:ext cx="0" cy="9288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7" name=""/>
                <p:cNvSpPr/>
                <p:nvPr/>
              </p:nvSpPr>
              <p:spPr>
                <a:xfrm>
                  <a:off x="8078040" y="4289400"/>
                  <a:ext cx="303840" cy="281160"/>
                </a:xfrm>
                <a:prstGeom prst="ellipse">
                  <a:avLst/>
                </a:prstGeom>
                <a:blipFill rotWithShape="0">
                  <a:blip r:embed="rId8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8153280" y="4441680"/>
                <a:ext cx="380880" cy="281160"/>
                <a:chOff x="8153280" y="4441680"/>
                <a:chExt cx="380880" cy="281160"/>
              </a:xfrm>
            </p:grpSpPr>
            <p:grpSp>
              <p:nvGrpSpPr>
                <p:cNvPr id="99" name=""/>
                <p:cNvGrpSpPr/>
                <p:nvPr/>
              </p:nvGrpSpPr>
              <p:grpSpPr>
                <a:xfrm>
                  <a:off x="8153280" y="4534560"/>
                  <a:ext cx="92520" cy="92880"/>
                  <a:chOff x="8153280" y="4534560"/>
                  <a:chExt cx="92520" cy="92880"/>
                </a:xfrm>
              </p:grpSpPr>
              <p:sp>
                <p:nvSpPr>
                  <p:cNvPr id="100" name=""/>
                  <p:cNvSpPr/>
                  <p:nvPr/>
                </p:nvSpPr>
                <p:spPr>
                  <a:xfrm>
                    <a:off x="8153280" y="4581000"/>
                    <a:ext cx="92520" cy="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8153280" y="4534560"/>
                    <a:ext cx="0" cy="9288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2" name=""/>
                <p:cNvSpPr/>
                <p:nvPr/>
              </p:nvSpPr>
              <p:spPr>
                <a:xfrm>
                  <a:off x="8230320" y="4441680"/>
                  <a:ext cx="303840" cy="281160"/>
                </a:xfrm>
                <a:prstGeom prst="ellipse">
                  <a:avLst/>
                </a:prstGeom>
                <a:blipFill rotWithShape="0">
                  <a:blip r:embed="rId9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3" name=""/>
            <p:cNvGrpSpPr/>
            <p:nvPr/>
          </p:nvGrpSpPr>
          <p:grpSpPr>
            <a:xfrm>
              <a:off x="7391520" y="2536920"/>
              <a:ext cx="1218600" cy="966240"/>
              <a:chOff x="7391520" y="2536920"/>
              <a:chExt cx="1218600" cy="966240"/>
            </a:xfrm>
          </p:grpSpPr>
          <p:grpSp>
            <p:nvGrpSpPr>
              <p:cNvPr id="104" name=""/>
              <p:cNvGrpSpPr/>
              <p:nvPr/>
            </p:nvGrpSpPr>
            <p:grpSpPr>
              <a:xfrm>
                <a:off x="7391520" y="2765160"/>
                <a:ext cx="380520" cy="280800"/>
                <a:chOff x="7391520" y="2765160"/>
                <a:chExt cx="380520" cy="280800"/>
              </a:xfrm>
            </p:grpSpPr>
            <p:grpSp>
              <p:nvGrpSpPr>
                <p:cNvPr id="105" name=""/>
                <p:cNvGrpSpPr/>
                <p:nvPr/>
              </p:nvGrpSpPr>
              <p:grpSpPr>
                <a:xfrm>
                  <a:off x="7391520" y="2858040"/>
                  <a:ext cx="92520" cy="92880"/>
                  <a:chOff x="7391520" y="2858040"/>
                  <a:chExt cx="92520" cy="92880"/>
                </a:xfrm>
              </p:grpSpPr>
              <p:sp>
                <p:nvSpPr>
                  <p:cNvPr id="106" name=""/>
                  <p:cNvSpPr/>
                  <p:nvPr/>
                </p:nvSpPr>
                <p:spPr>
                  <a:xfrm>
                    <a:off x="7391520" y="2904480"/>
                    <a:ext cx="92520" cy="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7391520" y="2858040"/>
                    <a:ext cx="0" cy="9288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8" name=""/>
                <p:cNvSpPr/>
                <p:nvPr/>
              </p:nvSpPr>
              <p:spPr>
                <a:xfrm>
                  <a:off x="7468560" y="2765160"/>
                  <a:ext cx="303480" cy="280800"/>
                </a:xfrm>
                <a:prstGeom prst="ellipse">
                  <a:avLst/>
                </a:prstGeom>
                <a:blipFill rotWithShape="0">
                  <a:blip r:embed="rId10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7543440" y="2917800"/>
                <a:ext cx="380880" cy="280440"/>
                <a:chOff x="7543440" y="2917800"/>
                <a:chExt cx="380880" cy="280440"/>
              </a:xfrm>
            </p:grpSpPr>
            <p:grpSp>
              <p:nvGrpSpPr>
                <p:cNvPr id="110" name=""/>
                <p:cNvGrpSpPr/>
                <p:nvPr/>
              </p:nvGrpSpPr>
              <p:grpSpPr>
                <a:xfrm>
                  <a:off x="7543440" y="3010320"/>
                  <a:ext cx="92520" cy="92520"/>
                  <a:chOff x="7543440" y="3010320"/>
                  <a:chExt cx="92520" cy="9252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>
                    <a:off x="7543440" y="3056400"/>
                    <a:ext cx="92520" cy="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7543440" y="3010320"/>
                    <a:ext cx="0" cy="9252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3" name=""/>
                <p:cNvSpPr/>
                <p:nvPr/>
              </p:nvSpPr>
              <p:spPr>
                <a:xfrm>
                  <a:off x="7620480" y="2917800"/>
                  <a:ext cx="303840" cy="280440"/>
                </a:xfrm>
                <a:prstGeom prst="ellipse">
                  <a:avLst/>
                </a:prstGeom>
                <a:blipFill rotWithShape="0">
                  <a:blip r:embed="rId11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7696080" y="3070080"/>
                <a:ext cx="380520" cy="280800"/>
                <a:chOff x="7696080" y="3070080"/>
                <a:chExt cx="380520" cy="280800"/>
              </a:xfrm>
            </p:grpSpPr>
            <p:grpSp>
              <p:nvGrpSpPr>
                <p:cNvPr id="115" name=""/>
                <p:cNvGrpSpPr/>
                <p:nvPr/>
              </p:nvGrpSpPr>
              <p:grpSpPr>
                <a:xfrm>
                  <a:off x="7696080" y="3162960"/>
                  <a:ext cx="92520" cy="92880"/>
                  <a:chOff x="7696080" y="3162960"/>
                  <a:chExt cx="92520" cy="92880"/>
                </a:xfrm>
              </p:grpSpPr>
              <p:sp>
                <p:nvSpPr>
                  <p:cNvPr id="116" name=""/>
                  <p:cNvSpPr/>
                  <p:nvPr/>
                </p:nvSpPr>
                <p:spPr>
                  <a:xfrm>
                    <a:off x="7696080" y="3209400"/>
                    <a:ext cx="92520" cy="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7696080" y="3162960"/>
                    <a:ext cx="0" cy="9288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8" name=""/>
                <p:cNvSpPr/>
                <p:nvPr/>
              </p:nvSpPr>
              <p:spPr>
                <a:xfrm>
                  <a:off x="7773120" y="3070080"/>
                  <a:ext cx="303480" cy="280800"/>
                </a:xfrm>
                <a:prstGeom prst="ellipse">
                  <a:avLst/>
                </a:prstGeom>
                <a:blipFill rotWithShape="0">
                  <a:blip r:embed="rId12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7848360" y="3222360"/>
                <a:ext cx="380520" cy="280800"/>
                <a:chOff x="7848360" y="3222360"/>
                <a:chExt cx="380520" cy="280800"/>
              </a:xfrm>
            </p:grpSpPr>
            <p:grpSp>
              <p:nvGrpSpPr>
                <p:cNvPr id="120" name=""/>
                <p:cNvGrpSpPr/>
                <p:nvPr/>
              </p:nvGrpSpPr>
              <p:grpSpPr>
                <a:xfrm>
                  <a:off x="7848360" y="3315240"/>
                  <a:ext cx="92520" cy="92880"/>
                  <a:chOff x="7848360" y="3315240"/>
                  <a:chExt cx="92520" cy="92880"/>
                </a:xfrm>
              </p:grpSpPr>
              <p:sp>
                <p:nvSpPr>
                  <p:cNvPr id="121" name=""/>
                  <p:cNvSpPr/>
                  <p:nvPr/>
                </p:nvSpPr>
                <p:spPr>
                  <a:xfrm>
                    <a:off x="7848360" y="3361680"/>
                    <a:ext cx="92520" cy="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7848360" y="3315240"/>
                    <a:ext cx="0" cy="9288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3" name=""/>
                <p:cNvSpPr/>
                <p:nvPr/>
              </p:nvSpPr>
              <p:spPr>
                <a:xfrm>
                  <a:off x="7925400" y="3222360"/>
                  <a:ext cx="303480" cy="280800"/>
                </a:xfrm>
                <a:prstGeom prst="ellipse">
                  <a:avLst/>
                </a:prstGeom>
                <a:blipFill rotWithShape="0">
                  <a:blip r:embed="rId13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7772040" y="2536920"/>
                <a:ext cx="380880" cy="280800"/>
                <a:chOff x="7772040" y="2536920"/>
                <a:chExt cx="380880" cy="280800"/>
              </a:xfrm>
            </p:grpSpPr>
            <p:grpSp>
              <p:nvGrpSpPr>
                <p:cNvPr id="125" name=""/>
                <p:cNvGrpSpPr/>
                <p:nvPr/>
              </p:nvGrpSpPr>
              <p:grpSpPr>
                <a:xfrm>
                  <a:off x="7772040" y="2629800"/>
                  <a:ext cx="92520" cy="92880"/>
                  <a:chOff x="7772040" y="2629800"/>
                  <a:chExt cx="92520" cy="92880"/>
                </a:xfrm>
              </p:grpSpPr>
              <p:sp>
                <p:nvSpPr>
                  <p:cNvPr id="126" name=""/>
                  <p:cNvSpPr/>
                  <p:nvPr/>
                </p:nvSpPr>
                <p:spPr>
                  <a:xfrm>
                    <a:off x="7772040" y="2676240"/>
                    <a:ext cx="92520" cy="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7772040" y="2629800"/>
                    <a:ext cx="0" cy="9288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8" name=""/>
                <p:cNvSpPr/>
                <p:nvPr/>
              </p:nvSpPr>
              <p:spPr>
                <a:xfrm>
                  <a:off x="7849080" y="2536920"/>
                  <a:ext cx="303840" cy="280800"/>
                </a:xfrm>
                <a:prstGeom prst="ellipse">
                  <a:avLst/>
                </a:prstGeom>
                <a:blipFill rotWithShape="0">
                  <a:blip r:embed="rId14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7924680" y="2689200"/>
                <a:ext cx="380520" cy="280440"/>
                <a:chOff x="7924680" y="2689200"/>
                <a:chExt cx="380520" cy="280440"/>
              </a:xfrm>
            </p:grpSpPr>
            <p:grpSp>
              <p:nvGrpSpPr>
                <p:cNvPr id="130" name=""/>
                <p:cNvGrpSpPr/>
                <p:nvPr/>
              </p:nvGrpSpPr>
              <p:grpSpPr>
                <a:xfrm>
                  <a:off x="7924680" y="2781720"/>
                  <a:ext cx="92520" cy="92520"/>
                  <a:chOff x="7924680" y="2781720"/>
                  <a:chExt cx="92520" cy="9252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>
                    <a:off x="7924680" y="2827800"/>
                    <a:ext cx="92520" cy="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7924680" y="2781720"/>
                    <a:ext cx="0" cy="9252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3" name=""/>
                <p:cNvSpPr/>
                <p:nvPr/>
              </p:nvSpPr>
              <p:spPr>
                <a:xfrm>
                  <a:off x="8001720" y="2689200"/>
                  <a:ext cx="303480" cy="280440"/>
                </a:xfrm>
                <a:prstGeom prst="ellipse">
                  <a:avLst/>
                </a:prstGeom>
                <a:blipFill rotWithShape="0">
                  <a:blip r:embed="rId15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8076960" y="2841480"/>
                <a:ext cx="380520" cy="280800"/>
                <a:chOff x="8076960" y="2841480"/>
                <a:chExt cx="380520" cy="280800"/>
              </a:xfrm>
            </p:grpSpPr>
            <p:grpSp>
              <p:nvGrpSpPr>
                <p:cNvPr id="135" name=""/>
                <p:cNvGrpSpPr/>
                <p:nvPr/>
              </p:nvGrpSpPr>
              <p:grpSpPr>
                <a:xfrm>
                  <a:off x="8076960" y="2934360"/>
                  <a:ext cx="92520" cy="92880"/>
                  <a:chOff x="8076960" y="2934360"/>
                  <a:chExt cx="92520" cy="92880"/>
                </a:xfrm>
              </p:grpSpPr>
              <p:sp>
                <p:nvSpPr>
                  <p:cNvPr id="136" name=""/>
                  <p:cNvSpPr/>
                  <p:nvPr/>
                </p:nvSpPr>
                <p:spPr>
                  <a:xfrm>
                    <a:off x="8076960" y="2980800"/>
                    <a:ext cx="92520" cy="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8076960" y="2934360"/>
                    <a:ext cx="0" cy="9288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8" name=""/>
                <p:cNvSpPr/>
                <p:nvPr/>
              </p:nvSpPr>
              <p:spPr>
                <a:xfrm>
                  <a:off x="8154000" y="2841480"/>
                  <a:ext cx="303480" cy="280800"/>
                </a:xfrm>
                <a:prstGeom prst="ellipse">
                  <a:avLst/>
                </a:prstGeom>
                <a:blipFill rotWithShape="0">
                  <a:blip r:embed="rId16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8229240" y="2993760"/>
                <a:ext cx="380880" cy="280800"/>
                <a:chOff x="8229240" y="2993760"/>
                <a:chExt cx="380880" cy="280800"/>
              </a:xfrm>
            </p:grpSpPr>
            <p:grpSp>
              <p:nvGrpSpPr>
                <p:cNvPr id="140" name=""/>
                <p:cNvGrpSpPr/>
                <p:nvPr/>
              </p:nvGrpSpPr>
              <p:grpSpPr>
                <a:xfrm>
                  <a:off x="8229240" y="3086640"/>
                  <a:ext cx="92520" cy="92880"/>
                  <a:chOff x="8229240" y="3086640"/>
                  <a:chExt cx="92520" cy="92880"/>
                </a:xfrm>
              </p:grpSpPr>
              <p:sp>
                <p:nvSpPr>
                  <p:cNvPr id="141" name=""/>
                  <p:cNvSpPr/>
                  <p:nvPr/>
                </p:nvSpPr>
                <p:spPr>
                  <a:xfrm>
                    <a:off x="8229240" y="3133080"/>
                    <a:ext cx="92520" cy="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8229240" y="3086640"/>
                    <a:ext cx="0" cy="9288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3" name=""/>
                <p:cNvSpPr/>
                <p:nvPr/>
              </p:nvSpPr>
              <p:spPr>
                <a:xfrm>
                  <a:off x="8306280" y="2993760"/>
                  <a:ext cx="303840" cy="280800"/>
                </a:xfrm>
                <a:prstGeom prst="ellipse">
                  <a:avLst/>
                </a:prstGeom>
                <a:blipFill rotWithShape="0">
                  <a:blip r:embed="rId17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... many remote calls ... and many proxies creat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03840" y="2232000"/>
            <a:ext cx="1448640" cy="2631960"/>
            <a:chOff x="303840" y="2232000"/>
            <a:chExt cx="1448640" cy="2631960"/>
          </a:xfrm>
        </p:grpSpPr>
        <p:sp>
          <p:nvSpPr>
            <p:cNvPr id="146" name=""/>
            <p:cNvSpPr/>
            <p:nvPr/>
          </p:nvSpPr>
          <p:spPr>
            <a:xfrm>
              <a:off x="457200" y="2765520"/>
              <a:ext cx="1295280" cy="20984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03840" y="2232000"/>
              <a:ext cx="1032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i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1523880" y="3984480"/>
            <a:ext cx="6096240" cy="15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4137120"/>
            <a:ext cx="609588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28800" y="4289400"/>
            <a:ext cx="609588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81080" y="4441680"/>
            <a:ext cx="6096240" cy="15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4213080"/>
            <a:ext cx="6095880" cy="15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371600" y="4365720"/>
            <a:ext cx="609588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23880" y="4518000"/>
            <a:ext cx="609624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6520" y="4670280"/>
            <a:ext cx="6095880" cy="15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23880" y="3603600"/>
            <a:ext cx="4496040" cy="7632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1600200" y="2688840"/>
            <a:ext cx="61722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1600200" y="2841480"/>
            <a:ext cx="6324480" cy="15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76520" y="2993760"/>
            <a:ext cx="640080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1752480" y="3146040"/>
            <a:ext cx="647712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371600" y="2917440"/>
            <a:ext cx="609588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1447920" y="3070080"/>
            <a:ext cx="6172200" cy="15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1752480" y="3222360"/>
            <a:ext cx="601992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1752480" y="3375000"/>
            <a:ext cx="617220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838080" y="2994120"/>
            <a:ext cx="838440" cy="1655280"/>
            <a:chOff x="838080" y="2994120"/>
            <a:chExt cx="838440" cy="1655280"/>
          </a:xfrm>
        </p:grpSpPr>
        <p:grpSp>
          <p:nvGrpSpPr>
            <p:cNvPr id="166" name=""/>
            <p:cNvGrpSpPr/>
            <p:nvPr/>
          </p:nvGrpSpPr>
          <p:grpSpPr>
            <a:xfrm>
              <a:off x="838080" y="3984480"/>
              <a:ext cx="838440" cy="664920"/>
              <a:chOff x="838080" y="3984480"/>
              <a:chExt cx="838440" cy="66492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838080" y="4141440"/>
                <a:ext cx="261720" cy="193320"/>
                <a:chOff x="838080" y="4141440"/>
                <a:chExt cx="261720" cy="193320"/>
              </a:xfrm>
            </p:grpSpPr>
            <p:grpSp>
              <p:nvGrpSpPr>
                <p:cNvPr id="168" name=""/>
                <p:cNvGrpSpPr/>
                <p:nvPr/>
              </p:nvGrpSpPr>
              <p:grpSpPr>
                <a:xfrm>
                  <a:off x="838080" y="4205160"/>
                  <a:ext cx="63720" cy="63720"/>
                  <a:chOff x="838080" y="4205160"/>
                  <a:chExt cx="63720" cy="6372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>
                    <a:off x="838080" y="4236840"/>
                    <a:ext cx="63720" cy="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838080" y="4205160"/>
                    <a:ext cx="0" cy="6372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1" name=""/>
                <p:cNvSpPr/>
                <p:nvPr/>
              </p:nvSpPr>
              <p:spPr>
                <a:xfrm>
                  <a:off x="891000" y="4141440"/>
                  <a:ext cx="208800" cy="193320"/>
                </a:xfrm>
                <a:prstGeom prst="ellipse">
                  <a:avLst/>
                </a:prstGeom>
                <a:blipFill rotWithShape="0">
                  <a:blip r:embed="rId18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942480" y="4246560"/>
                <a:ext cx="262080" cy="192960"/>
                <a:chOff x="942480" y="4246560"/>
                <a:chExt cx="262080" cy="192960"/>
              </a:xfrm>
            </p:grpSpPr>
            <p:grpSp>
              <p:nvGrpSpPr>
                <p:cNvPr id="173" name=""/>
                <p:cNvGrpSpPr/>
                <p:nvPr/>
              </p:nvGrpSpPr>
              <p:grpSpPr>
                <a:xfrm>
                  <a:off x="942480" y="4310280"/>
                  <a:ext cx="63720" cy="63720"/>
                  <a:chOff x="942480" y="4310280"/>
                  <a:chExt cx="63720" cy="63720"/>
                </a:xfrm>
              </p:grpSpPr>
              <p:sp>
                <p:nvSpPr>
                  <p:cNvPr id="174" name=""/>
                  <p:cNvSpPr/>
                  <p:nvPr/>
                </p:nvSpPr>
                <p:spPr>
                  <a:xfrm>
                    <a:off x="942480" y="4341960"/>
                    <a:ext cx="63720" cy="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>
                    <a:off x="942480" y="4310280"/>
                    <a:ext cx="0" cy="6372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6" name=""/>
                <p:cNvSpPr/>
                <p:nvPr/>
              </p:nvSpPr>
              <p:spPr>
                <a:xfrm>
                  <a:off x="995400" y="4246560"/>
                  <a:ext cx="209160" cy="192960"/>
                </a:xfrm>
                <a:prstGeom prst="ellipse">
                  <a:avLst/>
                </a:prstGeom>
                <a:blipFill rotWithShape="0">
                  <a:blip r:embed="rId19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1047600" y="4351320"/>
                <a:ext cx="261720" cy="193320"/>
                <a:chOff x="1047600" y="4351320"/>
                <a:chExt cx="261720" cy="19332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1047600" y="4415040"/>
                  <a:ext cx="63720" cy="63720"/>
                  <a:chOff x="1047600" y="4415040"/>
                  <a:chExt cx="63720" cy="6372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1047600" y="4446720"/>
                    <a:ext cx="63720" cy="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1047600" y="4415040"/>
                    <a:ext cx="0" cy="6372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1" name=""/>
                <p:cNvSpPr/>
                <p:nvPr/>
              </p:nvSpPr>
              <p:spPr>
                <a:xfrm>
                  <a:off x="1100520" y="4351320"/>
                  <a:ext cx="208800" cy="193320"/>
                </a:xfrm>
                <a:prstGeom prst="ellipse">
                  <a:avLst/>
                </a:prstGeom>
                <a:blipFill rotWithShape="0">
                  <a:blip r:embed="rId20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1152360" y="4456080"/>
                <a:ext cx="261720" cy="193320"/>
                <a:chOff x="1152360" y="4456080"/>
                <a:chExt cx="261720" cy="193320"/>
              </a:xfrm>
            </p:grpSpPr>
            <p:grpSp>
              <p:nvGrpSpPr>
                <p:cNvPr id="183" name=""/>
                <p:cNvGrpSpPr/>
                <p:nvPr/>
              </p:nvGrpSpPr>
              <p:grpSpPr>
                <a:xfrm>
                  <a:off x="1152360" y="4519800"/>
                  <a:ext cx="63720" cy="63720"/>
                  <a:chOff x="1152360" y="4519800"/>
                  <a:chExt cx="63720" cy="63720"/>
                </a:xfrm>
              </p:grpSpPr>
              <p:sp>
                <p:nvSpPr>
                  <p:cNvPr id="184" name=""/>
                  <p:cNvSpPr/>
                  <p:nvPr/>
                </p:nvSpPr>
                <p:spPr>
                  <a:xfrm>
                    <a:off x="1152360" y="4551480"/>
                    <a:ext cx="63720" cy="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1152360" y="4519800"/>
                    <a:ext cx="0" cy="6372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6" name=""/>
                <p:cNvSpPr/>
                <p:nvPr/>
              </p:nvSpPr>
              <p:spPr>
                <a:xfrm>
                  <a:off x="1205280" y="4456080"/>
                  <a:ext cx="208800" cy="193320"/>
                </a:xfrm>
                <a:prstGeom prst="ellipse">
                  <a:avLst/>
                </a:prstGeom>
                <a:blipFill rotWithShape="0">
                  <a:blip r:embed="rId21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1099800" y="3984480"/>
                <a:ext cx="262080" cy="193320"/>
                <a:chOff x="1099800" y="3984480"/>
                <a:chExt cx="262080" cy="193320"/>
              </a:xfrm>
            </p:grpSpPr>
            <p:grpSp>
              <p:nvGrpSpPr>
                <p:cNvPr id="188" name=""/>
                <p:cNvGrpSpPr/>
                <p:nvPr/>
              </p:nvGrpSpPr>
              <p:grpSpPr>
                <a:xfrm>
                  <a:off x="1099800" y="4048200"/>
                  <a:ext cx="63720" cy="63720"/>
                  <a:chOff x="1099800" y="4048200"/>
                  <a:chExt cx="63720" cy="6372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>
                    <a:off x="1099800" y="4079880"/>
                    <a:ext cx="63720" cy="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1099800" y="4048200"/>
                    <a:ext cx="0" cy="6372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1" name=""/>
                <p:cNvSpPr/>
                <p:nvPr/>
              </p:nvSpPr>
              <p:spPr>
                <a:xfrm>
                  <a:off x="1152720" y="3984480"/>
                  <a:ext cx="209160" cy="193320"/>
                </a:xfrm>
                <a:prstGeom prst="ellipse">
                  <a:avLst/>
                </a:prstGeom>
                <a:blipFill rotWithShape="0">
                  <a:blip r:embed="rId22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1204920" y="4089240"/>
                <a:ext cx="261720" cy="192960"/>
                <a:chOff x="1204920" y="4089240"/>
                <a:chExt cx="261720" cy="192960"/>
              </a:xfrm>
            </p:grpSpPr>
            <p:grpSp>
              <p:nvGrpSpPr>
                <p:cNvPr id="193" name=""/>
                <p:cNvGrpSpPr/>
                <p:nvPr/>
              </p:nvGrpSpPr>
              <p:grpSpPr>
                <a:xfrm>
                  <a:off x="1204920" y="4152960"/>
                  <a:ext cx="63720" cy="63720"/>
                  <a:chOff x="1204920" y="4152960"/>
                  <a:chExt cx="63720" cy="63720"/>
                </a:xfrm>
              </p:grpSpPr>
              <p:sp>
                <p:nvSpPr>
                  <p:cNvPr id="194" name=""/>
                  <p:cNvSpPr/>
                  <p:nvPr/>
                </p:nvSpPr>
                <p:spPr>
                  <a:xfrm>
                    <a:off x="1204920" y="4184640"/>
                    <a:ext cx="63720" cy="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1204920" y="4152960"/>
                    <a:ext cx="0" cy="6372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6" name=""/>
                <p:cNvSpPr/>
                <p:nvPr/>
              </p:nvSpPr>
              <p:spPr>
                <a:xfrm>
                  <a:off x="1257840" y="4089240"/>
                  <a:ext cx="208800" cy="192960"/>
                </a:xfrm>
                <a:prstGeom prst="ellipse">
                  <a:avLst/>
                </a:prstGeom>
                <a:blipFill rotWithShape="0">
                  <a:blip r:embed="rId23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1309680" y="4194000"/>
                <a:ext cx="261720" cy="193320"/>
                <a:chOff x="1309680" y="4194000"/>
                <a:chExt cx="261720" cy="193320"/>
              </a:xfrm>
            </p:grpSpPr>
            <p:grpSp>
              <p:nvGrpSpPr>
                <p:cNvPr id="198" name=""/>
                <p:cNvGrpSpPr/>
                <p:nvPr/>
              </p:nvGrpSpPr>
              <p:grpSpPr>
                <a:xfrm>
                  <a:off x="1309680" y="4257720"/>
                  <a:ext cx="63720" cy="63720"/>
                  <a:chOff x="1309680" y="4257720"/>
                  <a:chExt cx="63720" cy="63720"/>
                </a:xfrm>
              </p:grpSpPr>
              <p:sp>
                <p:nvSpPr>
                  <p:cNvPr id="199" name=""/>
                  <p:cNvSpPr/>
                  <p:nvPr/>
                </p:nvSpPr>
                <p:spPr>
                  <a:xfrm>
                    <a:off x="1309680" y="4289400"/>
                    <a:ext cx="63720" cy="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1309680" y="4257720"/>
                    <a:ext cx="0" cy="6372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1" name=""/>
                <p:cNvSpPr/>
                <p:nvPr/>
              </p:nvSpPr>
              <p:spPr>
                <a:xfrm>
                  <a:off x="1362600" y="4194000"/>
                  <a:ext cx="208800" cy="193320"/>
                </a:xfrm>
                <a:prstGeom prst="ellipse">
                  <a:avLst/>
                </a:prstGeom>
                <a:blipFill rotWithShape="0">
                  <a:blip r:embed="rId24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1414440" y="4298760"/>
                <a:ext cx="262080" cy="193320"/>
                <a:chOff x="1414440" y="4298760"/>
                <a:chExt cx="262080" cy="193320"/>
              </a:xfrm>
            </p:grpSpPr>
            <p:grpSp>
              <p:nvGrpSpPr>
                <p:cNvPr id="203" name=""/>
                <p:cNvGrpSpPr/>
                <p:nvPr/>
              </p:nvGrpSpPr>
              <p:grpSpPr>
                <a:xfrm>
                  <a:off x="1414440" y="4362480"/>
                  <a:ext cx="63720" cy="63720"/>
                  <a:chOff x="1414440" y="4362480"/>
                  <a:chExt cx="63720" cy="6372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>
                    <a:off x="1414440" y="4394160"/>
                    <a:ext cx="63720" cy="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1414440" y="4362480"/>
                    <a:ext cx="0" cy="6372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6" name=""/>
                <p:cNvSpPr/>
                <p:nvPr/>
              </p:nvSpPr>
              <p:spPr>
                <a:xfrm>
                  <a:off x="1467360" y="4298760"/>
                  <a:ext cx="209160" cy="193320"/>
                </a:xfrm>
                <a:prstGeom prst="ellipse">
                  <a:avLst/>
                </a:prstGeom>
                <a:blipFill rotWithShape="0">
                  <a:blip r:embed="rId25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7" name=""/>
            <p:cNvGrpSpPr/>
            <p:nvPr/>
          </p:nvGrpSpPr>
          <p:grpSpPr>
            <a:xfrm>
              <a:off x="838080" y="2994120"/>
              <a:ext cx="838440" cy="664920"/>
              <a:chOff x="838080" y="2994120"/>
              <a:chExt cx="838440" cy="664920"/>
            </a:xfrm>
          </p:grpSpPr>
          <p:grpSp>
            <p:nvGrpSpPr>
              <p:cNvPr id="208" name=""/>
              <p:cNvGrpSpPr/>
              <p:nvPr/>
            </p:nvGrpSpPr>
            <p:grpSpPr>
              <a:xfrm>
                <a:off x="838080" y="3151080"/>
                <a:ext cx="261720" cy="193320"/>
                <a:chOff x="838080" y="3151080"/>
                <a:chExt cx="261720" cy="193320"/>
              </a:xfrm>
            </p:grpSpPr>
            <p:grpSp>
              <p:nvGrpSpPr>
                <p:cNvPr id="209" name=""/>
                <p:cNvGrpSpPr/>
                <p:nvPr/>
              </p:nvGrpSpPr>
              <p:grpSpPr>
                <a:xfrm>
                  <a:off x="838080" y="3214800"/>
                  <a:ext cx="63720" cy="63720"/>
                  <a:chOff x="838080" y="3214800"/>
                  <a:chExt cx="63720" cy="6372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>
                    <a:off x="838080" y="3246480"/>
                    <a:ext cx="63720" cy="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838080" y="3214800"/>
                    <a:ext cx="0" cy="6372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2" name=""/>
                <p:cNvSpPr/>
                <p:nvPr/>
              </p:nvSpPr>
              <p:spPr>
                <a:xfrm>
                  <a:off x="891000" y="3151080"/>
                  <a:ext cx="208800" cy="193320"/>
                </a:xfrm>
                <a:prstGeom prst="ellipse">
                  <a:avLst/>
                </a:prstGeom>
                <a:blipFill rotWithShape="0">
                  <a:blip r:embed="rId26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942480" y="3256200"/>
                <a:ext cx="262080" cy="192960"/>
                <a:chOff x="942480" y="3256200"/>
                <a:chExt cx="262080" cy="192960"/>
              </a:xfrm>
            </p:grpSpPr>
            <p:grpSp>
              <p:nvGrpSpPr>
                <p:cNvPr id="214" name=""/>
                <p:cNvGrpSpPr/>
                <p:nvPr/>
              </p:nvGrpSpPr>
              <p:grpSpPr>
                <a:xfrm>
                  <a:off x="942480" y="3319920"/>
                  <a:ext cx="63720" cy="63720"/>
                  <a:chOff x="942480" y="3319920"/>
                  <a:chExt cx="63720" cy="63720"/>
                </a:xfrm>
              </p:grpSpPr>
              <p:sp>
                <p:nvSpPr>
                  <p:cNvPr id="215" name=""/>
                  <p:cNvSpPr/>
                  <p:nvPr/>
                </p:nvSpPr>
                <p:spPr>
                  <a:xfrm>
                    <a:off x="942480" y="3351600"/>
                    <a:ext cx="63720" cy="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942480" y="3319920"/>
                    <a:ext cx="0" cy="6372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7" name=""/>
                <p:cNvSpPr/>
                <p:nvPr/>
              </p:nvSpPr>
              <p:spPr>
                <a:xfrm>
                  <a:off x="995400" y="3256200"/>
                  <a:ext cx="209160" cy="192960"/>
                </a:xfrm>
                <a:prstGeom prst="ellipse">
                  <a:avLst/>
                </a:prstGeom>
                <a:blipFill rotWithShape="0">
                  <a:blip r:embed="rId27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1047600" y="3360960"/>
                <a:ext cx="261720" cy="193320"/>
                <a:chOff x="1047600" y="3360960"/>
                <a:chExt cx="261720" cy="193320"/>
              </a:xfrm>
            </p:grpSpPr>
            <p:grpSp>
              <p:nvGrpSpPr>
                <p:cNvPr id="219" name=""/>
                <p:cNvGrpSpPr/>
                <p:nvPr/>
              </p:nvGrpSpPr>
              <p:grpSpPr>
                <a:xfrm>
                  <a:off x="1047600" y="3424680"/>
                  <a:ext cx="63720" cy="63720"/>
                  <a:chOff x="1047600" y="3424680"/>
                  <a:chExt cx="63720" cy="6372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>
                    <a:off x="1047600" y="3456360"/>
                    <a:ext cx="63720" cy="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1047600" y="3424680"/>
                    <a:ext cx="0" cy="6372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2" name=""/>
                <p:cNvSpPr/>
                <p:nvPr/>
              </p:nvSpPr>
              <p:spPr>
                <a:xfrm>
                  <a:off x="1100520" y="3360960"/>
                  <a:ext cx="208800" cy="193320"/>
                </a:xfrm>
                <a:prstGeom prst="ellipse">
                  <a:avLst/>
                </a:prstGeom>
                <a:blipFill rotWithShape="0">
                  <a:blip r:embed="rId28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1152360" y="3465720"/>
                <a:ext cx="261720" cy="193320"/>
                <a:chOff x="1152360" y="3465720"/>
                <a:chExt cx="261720" cy="193320"/>
              </a:xfrm>
            </p:grpSpPr>
            <p:grpSp>
              <p:nvGrpSpPr>
                <p:cNvPr id="224" name=""/>
                <p:cNvGrpSpPr/>
                <p:nvPr/>
              </p:nvGrpSpPr>
              <p:grpSpPr>
                <a:xfrm>
                  <a:off x="1152360" y="3529440"/>
                  <a:ext cx="63720" cy="63720"/>
                  <a:chOff x="1152360" y="3529440"/>
                  <a:chExt cx="63720" cy="6372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>
                    <a:off x="1152360" y="3561120"/>
                    <a:ext cx="63720" cy="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1152360" y="3529440"/>
                    <a:ext cx="0" cy="6372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7" name=""/>
                <p:cNvSpPr/>
                <p:nvPr/>
              </p:nvSpPr>
              <p:spPr>
                <a:xfrm>
                  <a:off x="1205280" y="3465720"/>
                  <a:ext cx="208800" cy="193320"/>
                </a:xfrm>
                <a:prstGeom prst="ellipse">
                  <a:avLst/>
                </a:prstGeom>
                <a:blipFill rotWithShape="0">
                  <a:blip r:embed="rId29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1099800" y="2994120"/>
                <a:ext cx="262080" cy="193320"/>
                <a:chOff x="1099800" y="2994120"/>
                <a:chExt cx="262080" cy="193320"/>
              </a:xfrm>
            </p:grpSpPr>
            <p:grpSp>
              <p:nvGrpSpPr>
                <p:cNvPr id="229" name=""/>
                <p:cNvGrpSpPr/>
                <p:nvPr/>
              </p:nvGrpSpPr>
              <p:grpSpPr>
                <a:xfrm>
                  <a:off x="1099800" y="3057840"/>
                  <a:ext cx="63720" cy="63720"/>
                  <a:chOff x="1099800" y="3057840"/>
                  <a:chExt cx="63720" cy="6372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>
                    <a:off x="1099800" y="3089520"/>
                    <a:ext cx="63720" cy="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1099800" y="3057840"/>
                    <a:ext cx="0" cy="6372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2" name=""/>
                <p:cNvSpPr/>
                <p:nvPr/>
              </p:nvSpPr>
              <p:spPr>
                <a:xfrm>
                  <a:off x="1152720" y="2994120"/>
                  <a:ext cx="209160" cy="193320"/>
                </a:xfrm>
                <a:prstGeom prst="ellipse">
                  <a:avLst/>
                </a:prstGeom>
                <a:blipFill rotWithShape="0">
                  <a:blip r:embed="rId30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1204920" y="3098880"/>
                <a:ext cx="261720" cy="192960"/>
                <a:chOff x="1204920" y="3098880"/>
                <a:chExt cx="261720" cy="192960"/>
              </a:xfrm>
            </p:grpSpPr>
            <p:grpSp>
              <p:nvGrpSpPr>
                <p:cNvPr id="234" name=""/>
                <p:cNvGrpSpPr/>
                <p:nvPr/>
              </p:nvGrpSpPr>
              <p:grpSpPr>
                <a:xfrm>
                  <a:off x="1204920" y="3162600"/>
                  <a:ext cx="63720" cy="63720"/>
                  <a:chOff x="1204920" y="3162600"/>
                  <a:chExt cx="63720" cy="63720"/>
                </a:xfrm>
              </p:grpSpPr>
              <p:sp>
                <p:nvSpPr>
                  <p:cNvPr id="235" name=""/>
                  <p:cNvSpPr/>
                  <p:nvPr/>
                </p:nvSpPr>
                <p:spPr>
                  <a:xfrm>
                    <a:off x="1204920" y="3194280"/>
                    <a:ext cx="63720" cy="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1204920" y="3162600"/>
                    <a:ext cx="0" cy="6372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7" name=""/>
                <p:cNvSpPr/>
                <p:nvPr/>
              </p:nvSpPr>
              <p:spPr>
                <a:xfrm>
                  <a:off x="1257840" y="3098880"/>
                  <a:ext cx="208800" cy="192960"/>
                </a:xfrm>
                <a:prstGeom prst="ellipse">
                  <a:avLst/>
                </a:prstGeom>
                <a:blipFill rotWithShape="0">
                  <a:blip r:embed="rId31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1309680" y="3203640"/>
                <a:ext cx="261720" cy="193320"/>
                <a:chOff x="1309680" y="3203640"/>
                <a:chExt cx="261720" cy="193320"/>
              </a:xfrm>
            </p:grpSpPr>
            <p:grpSp>
              <p:nvGrpSpPr>
                <p:cNvPr id="239" name=""/>
                <p:cNvGrpSpPr/>
                <p:nvPr/>
              </p:nvGrpSpPr>
              <p:grpSpPr>
                <a:xfrm>
                  <a:off x="1309680" y="3267360"/>
                  <a:ext cx="63720" cy="63720"/>
                  <a:chOff x="1309680" y="3267360"/>
                  <a:chExt cx="63720" cy="63720"/>
                </a:xfrm>
              </p:grpSpPr>
              <p:sp>
                <p:nvSpPr>
                  <p:cNvPr id="240" name=""/>
                  <p:cNvSpPr/>
                  <p:nvPr/>
                </p:nvSpPr>
                <p:spPr>
                  <a:xfrm>
                    <a:off x="1309680" y="3299040"/>
                    <a:ext cx="63720" cy="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1309680" y="3267360"/>
                    <a:ext cx="0" cy="6372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2" name=""/>
                <p:cNvSpPr/>
                <p:nvPr/>
              </p:nvSpPr>
              <p:spPr>
                <a:xfrm>
                  <a:off x="1362600" y="3203640"/>
                  <a:ext cx="208800" cy="193320"/>
                </a:xfrm>
                <a:prstGeom prst="ellipse">
                  <a:avLst/>
                </a:prstGeom>
                <a:blipFill rotWithShape="0">
                  <a:blip r:embed="rId32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1414440" y="3308400"/>
                <a:ext cx="262080" cy="193320"/>
                <a:chOff x="1414440" y="3308400"/>
                <a:chExt cx="262080" cy="193320"/>
              </a:xfrm>
            </p:grpSpPr>
            <p:grpSp>
              <p:nvGrpSpPr>
                <p:cNvPr id="244" name=""/>
                <p:cNvGrpSpPr/>
                <p:nvPr/>
              </p:nvGrpSpPr>
              <p:grpSpPr>
                <a:xfrm>
                  <a:off x="1414440" y="3372120"/>
                  <a:ext cx="63720" cy="63720"/>
                  <a:chOff x="1414440" y="3372120"/>
                  <a:chExt cx="63720" cy="63720"/>
                </a:xfrm>
              </p:grpSpPr>
              <p:sp>
                <p:nvSpPr>
                  <p:cNvPr id="245" name=""/>
                  <p:cNvSpPr/>
                  <p:nvPr/>
                </p:nvSpPr>
                <p:spPr>
                  <a:xfrm>
                    <a:off x="1414440" y="3403800"/>
                    <a:ext cx="63720" cy="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1414440" y="3372120"/>
                    <a:ext cx="0" cy="6372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1467360" y="3308400"/>
                  <a:ext cx="209160" cy="193320"/>
                </a:xfrm>
                <a:prstGeom prst="ellipse">
                  <a:avLst/>
                </a:prstGeom>
                <a:blipFill rotWithShape="0">
                  <a:blip r:embed="rId33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 improve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interface FrontOffice {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struct BookingAndOwner {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Booking theBooking;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Name owner;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};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typedef sequence&lt;BookingAndOwner&gt;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BookingAndOwnerSeq;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BookingAndOwnerSeq getBookingsInfo ();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};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"/>
          <p:cNvGrpSpPr/>
          <p:nvPr/>
        </p:nvGrpSpPr>
        <p:grpSpPr>
          <a:xfrm>
            <a:off x="5715000" y="2003400"/>
            <a:ext cx="2895120" cy="3254400"/>
            <a:chOff x="5715000" y="2003400"/>
            <a:chExt cx="2895120" cy="3254400"/>
          </a:xfrm>
        </p:grpSpPr>
        <p:sp>
          <p:nvSpPr>
            <p:cNvPr id="251" name=""/>
            <p:cNvSpPr/>
            <p:nvPr/>
          </p:nvSpPr>
          <p:spPr>
            <a:xfrm>
              <a:off x="5729400" y="2504880"/>
              <a:ext cx="2863800" cy="27529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15000" y="2003400"/>
              <a:ext cx="1082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erv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6095880" y="2994120"/>
              <a:ext cx="1676160" cy="1233360"/>
              <a:chOff x="6095880" y="2994120"/>
              <a:chExt cx="1676160" cy="1233360"/>
            </a:xfrm>
          </p:grpSpPr>
          <p:grpSp>
            <p:nvGrpSpPr>
              <p:cNvPr id="254" name=""/>
              <p:cNvGrpSpPr/>
              <p:nvPr/>
            </p:nvGrpSpPr>
            <p:grpSpPr>
              <a:xfrm>
                <a:off x="6095880" y="2994120"/>
                <a:ext cx="1676160" cy="1233360"/>
                <a:chOff x="6095880" y="2994120"/>
                <a:chExt cx="1676160" cy="1233360"/>
              </a:xfrm>
            </p:grpSpPr>
            <p:grpSp>
              <p:nvGrpSpPr>
                <p:cNvPr id="255" name=""/>
                <p:cNvGrpSpPr/>
                <p:nvPr/>
              </p:nvGrpSpPr>
              <p:grpSpPr>
                <a:xfrm>
                  <a:off x="6095880" y="3401640"/>
                  <a:ext cx="407520" cy="407520"/>
                  <a:chOff x="6095880" y="3401640"/>
                  <a:chExt cx="407520" cy="407520"/>
                </a:xfrm>
              </p:grpSpPr>
              <p:sp>
                <p:nvSpPr>
                  <p:cNvPr id="256" name=""/>
                  <p:cNvSpPr/>
                  <p:nvPr/>
                </p:nvSpPr>
                <p:spPr>
                  <a:xfrm>
                    <a:off x="6095880" y="3605400"/>
                    <a:ext cx="407520" cy="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6095880" y="3401640"/>
                    <a:ext cx="0" cy="40752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6435720" y="2994120"/>
                  <a:ext cx="1336320" cy="1233360"/>
                </a:xfrm>
                <a:prstGeom prst="ellipse">
                  <a:avLst/>
                </a:prstGeom>
                <a:blipFill rotWithShape="0">
                  <a:blip r:embed="rId1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9" name=""/>
              <p:cNvSpPr/>
              <p:nvPr/>
            </p:nvSpPr>
            <p:spPr>
              <a:xfrm>
                <a:off x="6628320" y="3222720"/>
                <a:ext cx="982080" cy="75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Front</a:t>
                </a:r>
                <a:br>
                  <a:rPr sz="2400"/>
                </a:b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Offic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7315200" y="3984480"/>
              <a:ext cx="1218960" cy="966960"/>
              <a:chOff x="7315200" y="3984480"/>
              <a:chExt cx="1218960" cy="966960"/>
            </a:xfrm>
          </p:grpSpPr>
          <p:grpSp>
            <p:nvGrpSpPr>
              <p:cNvPr id="261" name=""/>
              <p:cNvGrpSpPr/>
              <p:nvPr/>
            </p:nvGrpSpPr>
            <p:grpSpPr>
              <a:xfrm>
                <a:off x="7315200" y="4213080"/>
                <a:ext cx="380880" cy="281160"/>
                <a:chOff x="7315200" y="4213080"/>
                <a:chExt cx="380880" cy="281160"/>
              </a:xfrm>
            </p:grpSpPr>
            <p:grpSp>
              <p:nvGrpSpPr>
                <p:cNvPr id="262" name=""/>
                <p:cNvGrpSpPr/>
                <p:nvPr/>
              </p:nvGrpSpPr>
              <p:grpSpPr>
                <a:xfrm>
                  <a:off x="7315200" y="4305960"/>
                  <a:ext cx="92520" cy="92880"/>
                  <a:chOff x="7315200" y="4305960"/>
                  <a:chExt cx="92520" cy="92880"/>
                </a:xfrm>
              </p:grpSpPr>
              <p:sp>
                <p:nvSpPr>
                  <p:cNvPr id="263" name=""/>
                  <p:cNvSpPr/>
                  <p:nvPr/>
                </p:nvSpPr>
                <p:spPr>
                  <a:xfrm>
                    <a:off x="7315200" y="4352400"/>
                    <a:ext cx="92520" cy="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7315200" y="4305960"/>
                    <a:ext cx="0" cy="9288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5" name=""/>
                <p:cNvSpPr/>
                <p:nvPr/>
              </p:nvSpPr>
              <p:spPr>
                <a:xfrm>
                  <a:off x="7392240" y="4213080"/>
                  <a:ext cx="303840" cy="281160"/>
                </a:xfrm>
                <a:prstGeom prst="ellipse">
                  <a:avLst/>
                </a:prstGeom>
                <a:blipFill rotWithShape="0">
                  <a:blip r:embed="rId2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7467480" y="4365720"/>
                <a:ext cx="380880" cy="280800"/>
                <a:chOff x="7467480" y="4365720"/>
                <a:chExt cx="380880" cy="2808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7467480" y="4458600"/>
                  <a:ext cx="92520" cy="92880"/>
                  <a:chOff x="7467480" y="4458600"/>
                  <a:chExt cx="92520" cy="9288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7467480" y="4505040"/>
                    <a:ext cx="92520" cy="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7467480" y="4458600"/>
                    <a:ext cx="0" cy="9288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7544520" y="4365720"/>
                  <a:ext cx="303840" cy="280800"/>
                </a:xfrm>
                <a:prstGeom prst="ellipse">
                  <a:avLst/>
                </a:prstGeom>
                <a:blipFill rotWithShape="0">
                  <a:blip r:embed="rId3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" name=""/>
              <p:cNvGrpSpPr/>
              <p:nvPr/>
            </p:nvGrpSpPr>
            <p:grpSpPr>
              <a:xfrm>
                <a:off x="7620120" y="4518000"/>
                <a:ext cx="380880" cy="281160"/>
                <a:chOff x="7620120" y="4518000"/>
                <a:chExt cx="380880" cy="281160"/>
              </a:xfrm>
            </p:grpSpPr>
            <p:grpSp>
              <p:nvGrpSpPr>
                <p:cNvPr id="272" name=""/>
                <p:cNvGrpSpPr/>
                <p:nvPr/>
              </p:nvGrpSpPr>
              <p:grpSpPr>
                <a:xfrm>
                  <a:off x="7620120" y="4610880"/>
                  <a:ext cx="92520" cy="92880"/>
                  <a:chOff x="7620120" y="4610880"/>
                  <a:chExt cx="92520" cy="92880"/>
                </a:xfrm>
              </p:grpSpPr>
              <p:sp>
                <p:nvSpPr>
                  <p:cNvPr id="273" name=""/>
                  <p:cNvSpPr/>
                  <p:nvPr/>
                </p:nvSpPr>
                <p:spPr>
                  <a:xfrm>
                    <a:off x="7620120" y="4657320"/>
                    <a:ext cx="92520" cy="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7620120" y="4610880"/>
                    <a:ext cx="0" cy="9288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5" name=""/>
                <p:cNvSpPr/>
                <p:nvPr/>
              </p:nvSpPr>
              <p:spPr>
                <a:xfrm>
                  <a:off x="7697160" y="4518000"/>
                  <a:ext cx="303840" cy="281160"/>
                </a:xfrm>
                <a:prstGeom prst="ellipse">
                  <a:avLst/>
                </a:prstGeom>
                <a:blipFill rotWithShape="0">
                  <a:blip r:embed="rId4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7772400" y="4670280"/>
                <a:ext cx="380880" cy="281160"/>
                <a:chOff x="7772400" y="4670280"/>
                <a:chExt cx="380880" cy="281160"/>
              </a:xfrm>
            </p:grpSpPr>
            <p:grpSp>
              <p:nvGrpSpPr>
                <p:cNvPr id="277" name=""/>
                <p:cNvGrpSpPr/>
                <p:nvPr/>
              </p:nvGrpSpPr>
              <p:grpSpPr>
                <a:xfrm>
                  <a:off x="7772400" y="4763160"/>
                  <a:ext cx="92520" cy="92880"/>
                  <a:chOff x="7772400" y="4763160"/>
                  <a:chExt cx="92520" cy="92880"/>
                </a:xfrm>
              </p:grpSpPr>
              <p:sp>
                <p:nvSpPr>
                  <p:cNvPr id="278" name=""/>
                  <p:cNvSpPr/>
                  <p:nvPr/>
                </p:nvSpPr>
                <p:spPr>
                  <a:xfrm>
                    <a:off x="7772400" y="4809600"/>
                    <a:ext cx="92520" cy="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7772400" y="4763160"/>
                    <a:ext cx="0" cy="9288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7849440" y="4670280"/>
                  <a:ext cx="303840" cy="281160"/>
                </a:xfrm>
                <a:prstGeom prst="ellipse">
                  <a:avLst/>
                </a:prstGeom>
                <a:blipFill rotWithShape="0">
                  <a:blip r:embed="rId5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7696080" y="3984480"/>
                <a:ext cx="380880" cy="281160"/>
                <a:chOff x="7696080" y="3984480"/>
                <a:chExt cx="380880" cy="281160"/>
              </a:xfrm>
            </p:grpSpPr>
            <p:grpSp>
              <p:nvGrpSpPr>
                <p:cNvPr id="282" name=""/>
                <p:cNvGrpSpPr/>
                <p:nvPr/>
              </p:nvGrpSpPr>
              <p:grpSpPr>
                <a:xfrm>
                  <a:off x="7696080" y="4077360"/>
                  <a:ext cx="92520" cy="92880"/>
                  <a:chOff x="7696080" y="4077360"/>
                  <a:chExt cx="92520" cy="92880"/>
                </a:xfrm>
              </p:grpSpPr>
              <p:sp>
                <p:nvSpPr>
                  <p:cNvPr id="283" name=""/>
                  <p:cNvSpPr/>
                  <p:nvPr/>
                </p:nvSpPr>
                <p:spPr>
                  <a:xfrm>
                    <a:off x="7696080" y="4123800"/>
                    <a:ext cx="92520" cy="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7696080" y="4077360"/>
                    <a:ext cx="0" cy="9288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5" name=""/>
                <p:cNvSpPr/>
                <p:nvPr/>
              </p:nvSpPr>
              <p:spPr>
                <a:xfrm>
                  <a:off x="7773120" y="3984480"/>
                  <a:ext cx="303840" cy="281160"/>
                </a:xfrm>
                <a:prstGeom prst="ellipse">
                  <a:avLst/>
                </a:prstGeom>
                <a:blipFill rotWithShape="0">
                  <a:blip r:embed="rId6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7848720" y="4137120"/>
                <a:ext cx="380880" cy="280800"/>
                <a:chOff x="7848720" y="4137120"/>
                <a:chExt cx="380880" cy="28080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7848720" y="4230000"/>
                  <a:ext cx="92520" cy="92880"/>
                  <a:chOff x="7848720" y="4230000"/>
                  <a:chExt cx="92520" cy="9288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7848720" y="4276440"/>
                    <a:ext cx="92520" cy="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7848720" y="4230000"/>
                    <a:ext cx="0" cy="9288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0" name=""/>
                <p:cNvSpPr/>
                <p:nvPr/>
              </p:nvSpPr>
              <p:spPr>
                <a:xfrm>
                  <a:off x="7925760" y="4137120"/>
                  <a:ext cx="303840" cy="280800"/>
                </a:xfrm>
                <a:prstGeom prst="ellipse">
                  <a:avLst/>
                </a:prstGeom>
                <a:blipFill rotWithShape="0">
                  <a:blip r:embed="rId7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8001000" y="4289400"/>
                <a:ext cx="380880" cy="281160"/>
                <a:chOff x="8001000" y="4289400"/>
                <a:chExt cx="380880" cy="281160"/>
              </a:xfrm>
            </p:grpSpPr>
            <p:grpSp>
              <p:nvGrpSpPr>
                <p:cNvPr id="292" name=""/>
                <p:cNvGrpSpPr/>
                <p:nvPr/>
              </p:nvGrpSpPr>
              <p:grpSpPr>
                <a:xfrm>
                  <a:off x="8001000" y="4382280"/>
                  <a:ext cx="92520" cy="92880"/>
                  <a:chOff x="8001000" y="4382280"/>
                  <a:chExt cx="92520" cy="92880"/>
                </a:xfrm>
              </p:grpSpPr>
              <p:sp>
                <p:nvSpPr>
                  <p:cNvPr id="293" name=""/>
                  <p:cNvSpPr/>
                  <p:nvPr/>
                </p:nvSpPr>
                <p:spPr>
                  <a:xfrm>
                    <a:off x="8001000" y="4428720"/>
                    <a:ext cx="92520" cy="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8001000" y="4382280"/>
                    <a:ext cx="0" cy="9288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8078040" y="4289400"/>
                  <a:ext cx="303840" cy="281160"/>
                </a:xfrm>
                <a:prstGeom prst="ellipse">
                  <a:avLst/>
                </a:prstGeom>
                <a:blipFill rotWithShape="0">
                  <a:blip r:embed="rId8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8153280" y="4441680"/>
                <a:ext cx="380880" cy="281160"/>
                <a:chOff x="8153280" y="4441680"/>
                <a:chExt cx="380880" cy="281160"/>
              </a:xfrm>
            </p:grpSpPr>
            <p:grpSp>
              <p:nvGrpSpPr>
                <p:cNvPr id="297" name=""/>
                <p:cNvGrpSpPr/>
                <p:nvPr/>
              </p:nvGrpSpPr>
              <p:grpSpPr>
                <a:xfrm>
                  <a:off x="8153280" y="4534560"/>
                  <a:ext cx="92520" cy="92880"/>
                  <a:chOff x="8153280" y="4534560"/>
                  <a:chExt cx="92520" cy="92880"/>
                </a:xfrm>
              </p:grpSpPr>
              <p:sp>
                <p:nvSpPr>
                  <p:cNvPr id="298" name=""/>
                  <p:cNvSpPr/>
                  <p:nvPr/>
                </p:nvSpPr>
                <p:spPr>
                  <a:xfrm>
                    <a:off x="8153280" y="4581000"/>
                    <a:ext cx="92520" cy="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8153280" y="4534560"/>
                    <a:ext cx="0" cy="9288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00" name=""/>
                <p:cNvSpPr/>
                <p:nvPr/>
              </p:nvSpPr>
              <p:spPr>
                <a:xfrm>
                  <a:off x="8230320" y="4441680"/>
                  <a:ext cx="303840" cy="281160"/>
                </a:xfrm>
                <a:prstGeom prst="ellipse">
                  <a:avLst/>
                </a:prstGeom>
                <a:blipFill rotWithShape="0">
                  <a:blip r:embed="rId9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1" name=""/>
            <p:cNvGrpSpPr/>
            <p:nvPr/>
          </p:nvGrpSpPr>
          <p:grpSpPr>
            <a:xfrm>
              <a:off x="7391520" y="2536920"/>
              <a:ext cx="1218600" cy="966240"/>
              <a:chOff x="7391520" y="2536920"/>
              <a:chExt cx="1218600" cy="966240"/>
            </a:xfrm>
          </p:grpSpPr>
          <p:grpSp>
            <p:nvGrpSpPr>
              <p:cNvPr id="302" name=""/>
              <p:cNvGrpSpPr/>
              <p:nvPr/>
            </p:nvGrpSpPr>
            <p:grpSpPr>
              <a:xfrm>
                <a:off x="7391520" y="2765160"/>
                <a:ext cx="380520" cy="280800"/>
                <a:chOff x="7391520" y="2765160"/>
                <a:chExt cx="380520" cy="280800"/>
              </a:xfrm>
            </p:grpSpPr>
            <p:grpSp>
              <p:nvGrpSpPr>
                <p:cNvPr id="303" name=""/>
                <p:cNvGrpSpPr/>
                <p:nvPr/>
              </p:nvGrpSpPr>
              <p:grpSpPr>
                <a:xfrm>
                  <a:off x="7391520" y="2858040"/>
                  <a:ext cx="92520" cy="92880"/>
                  <a:chOff x="7391520" y="2858040"/>
                  <a:chExt cx="92520" cy="92880"/>
                </a:xfrm>
              </p:grpSpPr>
              <p:sp>
                <p:nvSpPr>
                  <p:cNvPr id="304" name=""/>
                  <p:cNvSpPr/>
                  <p:nvPr/>
                </p:nvSpPr>
                <p:spPr>
                  <a:xfrm>
                    <a:off x="7391520" y="2904480"/>
                    <a:ext cx="92520" cy="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7391520" y="2858040"/>
                    <a:ext cx="0" cy="9288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06" name=""/>
                <p:cNvSpPr/>
                <p:nvPr/>
              </p:nvSpPr>
              <p:spPr>
                <a:xfrm>
                  <a:off x="7468560" y="2765160"/>
                  <a:ext cx="303480" cy="280800"/>
                </a:xfrm>
                <a:prstGeom prst="ellipse">
                  <a:avLst/>
                </a:prstGeom>
                <a:blipFill rotWithShape="0">
                  <a:blip r:embed="rId10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7543440" y="2917800"/>
                <a:ext cx="380880" cy="280440"/>
                <a:chOff x="7543440" y="2917800"/>
                <a:chExt cx="380880" cy="280440"/>
              </a:xfrm>
            </p:grpSpPr>
            <p:grpSp>
              <p:nvGrpSpPr>
                <p:cNvPr id="308" name=""/>
                <p:cNvGrpSpPr/>
                <p:nvPr/>
              </p:nvGrpSpPr>
              <p:grpSpPr>
                <a:xfrm>
                  <a:off x="7543440" y="3010320"/>
                  <a:ext cx="92520" cy="92520"/>
                  <a:chOff x="7543440" y="3010320"/>
                  <a:chExt cx="92520" cy="92520"/>
                </a:xfrm>
              </p:grpSpPr>
              <p:sp>
                <p:nvSpPr>
                  <p:cNvPr id="309" name=""/>
                  <p:cNvSpPr/>
                  <p:nvPr/>
                </p:nvSpPr>
                <p:spPr>
                  <a:xfrm>
                    <a:off x="7543440" y="3056400"/>
                    <a:ext cx="92520" cy="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7543440" y="3010320"/>
                    <a:ext cx="0" cy="9252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1" name=""/>
                <p:cNvSpPr/>
                <p:nvPr/>
              </p:nvSpPr>
              <p:spPr>
                <a:xfrm>
                  <a:off x="7620480" y="2917800"/>
                  <a:ext cx="303840" cy="280440"/>
                </a:xfrm>
                <a:prstGeom prst="ellipse">
                  <a:avLst/>
                </a:prstGeom>
                <a:blipFill rotWithShape="0">
                  <a:blip r:embed="rId11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7696080" y="3070080"/>
                <a:ext cx="380520" cy="280800"/>
                <a:chOff x="7696080" y="3070080"/>
                <a:chExt cx="380520" cy="280800"/>
              </a:xfrm>
            </p:grpSpPr>
            <p:grpSp>
              <p:nvGrpSpPr>
                <p:cNvPr id="313" name=""/>
                <p:cNvGrpSpPr/>
                <p:nvPr/>
              </p:nvGrpSpPr>
              <p:grpSpPr>
                <a:xfrm>
                  <a:off x="7696080" y="3162960"/>
                  <a:ext cx="92520" cy="92880"/>
                  <a:chOff x="7696080" y="3162960"/>
                  <a:chExt cx="92520" cy="92880"/>
                </a:xfrm>
              </p:grpSpPr>
              <p:sp>
                <p:nvSpPr>
                  <p:cNvPr id="314" name=""/>
                  <p:cNvSpPr/>
                  <p:nvPr/>
                </p:nvSpPr>
                <p:spPr>
                  <a:xfrm>
                    <a:off x="7696080" y="3209400"/>
                    <a:ext cx="92520" cy="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7696080" y="3162960"/>
                    <a:ext cx="0" cy="9288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6" name=""/>
                <p:cNvSpPr/>
                <p:nvPr/>
              </p:nvSpPr>
              <p:spPr>
                <a:xfrm>
                  <a:off x="7773120" y="3070080"/>
                  <a:ext cx="303480" cy="280800"/>
                </a:xfrm>
                <a:prstGeom prst="ellipse">
                  <a:avLst/>
                </a:prstGeom>
                <a:blipFill rotWithShape="0">
                  <a:blip r:embed="rId12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7848360" y="3222360"/>
                <a:ext cx="380520" cy="280800"/>
                <a:chOff x="7848360" y="3222360"/>
                <a:chExt cx="380520" cy="280800"/>
              </a:xfrm>
            </p:grpSpPr>
            <p:grpSp>
              <p:nvGrpSpPr>
                <p:cNvPr id="318" name=""/>
                <p:cNvGrpSpPr/>
                <p:nvPr/>
              </p:nvGrpSpPr>
              <p:grpSpPr>
                <a:xfrm>
                  <a:off x="7848360" y="3315240"/>
                  <a:ext cx="92520" cy="92880"/>
                  <a:chOff x="7848360" y="3315240"/>
                  <a:chExt cx="92520" cy="92880"/>
                </a:xfrm>
              </p:grpSpPr>
              <p:sp>
                <p:nvSpPr>
                  <p:cNvPr id="319" name=""/>
                  <p:cNvSpPr/>
                  <p:nvPr/>
                </p:nvSpPr>
                <p:spPr>
                  <a:xfrm>
                    <a:off x="7848360" y="3361680"/>
                    <a:ext cx="92520" cy="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7848360" y="3315240"/>
                    <a:ext cx="0" cy="9288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1" name=""/>
                <p:cNvSpPr/>
                <p:nvPr/>
              </p:nvSpPr>
              <p:spPr>
                <a:xfrm>
                  <a:off x="7925400" y="3222360"/>
                  <a:ext cx="303480" cy="280800"/>
                </a:xfrm>
                <a:prstGeom prst="ellipse">
                  <a:avLst/>
                </a:prstGeom>
                <a:blipFill rotWithShape="0">
                  <a:blip r:embed="rId13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7772040" y="2536920"/>
                <a:ext cx="380880" cy="280800"/>
                <a:chOff x="7772040" y="2536920"/>
                <a:chExt cx="380880" cy="280800"/>
              </a:xfrm>
            </p:grpSpPr>
            <p:grpSp>
              <p:nvGrpSpPr>
                <p:cNvPr id="323" name=""/>
                <p:cNvGrpSpPr/>
                <p:nvPr/>
              </p:nvGrpSpPr>
              <p:grpSpPr>
                <a:xfrm>
                  <a:off x="7772040" y="2629800"/>
                  <a:ext cx="92520" cy="92880"/>
                  <a:chOff x="7772040" y="2629800"/>
                  <a:chExt cx="92520" cy="92880"/>
                </a:xfrm>
              </p:grpSpPr>
              <p:sp>
                <p:nvSpPr>
                  <p:cNvPr id="324" name=""/>
                  <p:cNvSpPr/>
                  <p:nvPr/>
                </p:nvSpPr>
                <p:spPr>
                  <a:xfrm>
                    <a:off x="7772040" y="2676240"/>
                    <a:ext cx="92520" cy="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>
                    <a:off x="7772040" y="2629800"/>
                    <a:ext cx="0" cy="9288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6" name=""/>
                <p:cNvSpPr/>
                <p:nvPr/>
              </p:nvSpPr>
              <p:spPr>
                <a:xfrm>
                  <a:off x="7849080" y="2536920"/>
                  <a:ext cx="303840" cy="280800"/>
                </a:xfrm>
                <a:prstGeom prst="ellipse">
                  <a:avLst/>
                </a:prstGeom>
                <a:blipFill rotWithShape="0">
                  <a:blip r:embed="rId14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7924680" y="2689200"/>
                <a:ext cx="380520" cy="280440"/>
                <a:chOff x="7924680" y="2689200"/>
                <a:chExt cx="380520" cy="280440"/>
              </a:xfrm>
            </p:grpSpPr>
            <p:grpSp>
              <p:nvGrpSpPr>
                <p:cNvPr id="328" name=""/>
                <p:cNvGrpSpPr/>
                <p:nvPr/>
              </p:nvGrpSpPr>
              <p:grpSpPr>
                <a:xfrm>
                  <a:off x="7924680" y="2781720"/>
                  <a:ext cx="92520" cy="92520"/>
                  <a:chOff x="7924680" y="2781720"/>
                  <a:chExt cx="92520" cy="92520"/>
                </a:xfrm>
              </p:grpSpPr>
              <p:sp>
                <p:nvSpPr>
                  <p:cNvPr id="329" name=""/>
                  <p:cNvSpPr/>
                  <p:nvPr/>
                </p:nvSpPr>
                <p:spPr>
                  <a:xfrm>
                    <a:off x="7924680" y="2827800"/>
                    <a:ext cx="92520" cy="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7924680" y="2781720"/>
                    <a:ext cx="0" cy="9252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1" name=""/>
                <p:cNvSpPr/>
                <p:nvPr/>
              </p:nvSpPr>
              <p:spPr>
                <a:xfrm>
                  <a:off x="8001720" y="2689200"/>
                  <a:ext cx="303480" cy="280440"/>
                </a:xfrm>
                <a:prstGeom prst="ellipse">
                  <a:avLst/>
                </a:prstGeom>
                <a:blipFill rotWithShape="0">
                  <a:blip r:embed="rId15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8076960" y="2841480"/>
                <a:ext cx="380520" cy="280800"/>
                <a:chOff x="8076960" y="2841480"/>
                <a:chExt cx="380520" cy="280800"/>
              </a:xfrm>
            </p:grpSpPr>
            <p:grpSp>
              <p:nvGrpSpPr>
                <p:cNvPr id="333" name=""/>
                <p:cNvGrpSpPr/>
                <p:nvPr/>
              </p:nvGrpSpPr>
              <p:grpSpPr>
                <a:xfrm>
                  <a:off x="8076960" y="2934360"/>
                  <a:ext cx="92520" cy="92880"/>
                  <a:chOff x="8076960" y="2934360"/>
                  <a:chExt cx="92520" cy="92880"/>
                </a:xfrm>
              </p:grpSpPr>
              <p:sp>
                <p:nvSpPr>
                  <p:cNvPr id="334" name=""/>
                  <p:cNvSpPr/>
                  <p:nvPr/>
                </p:nvSpPr>
                <p:spPr>
                  <a:xfrm>
                    <a:off x="8076960" y="2980800"/>
                    <a:ext cx="92520" cy="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8076960" y="2934360"/>
                    <a:ext cx="0" cy="9288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6" name=""/>
                <p:cNvSpPr/>
                <p:nvPr/>
              </p:nvSpPr>
              <p:spPr>
                <a:xfrm>
                  <a:off x="8154000" y="2841480"/>
                  <a:ext cx="303480" cy="280800"/>
                </a:xfrm>
                <a:prstGeom prst="ellipse">
                  <a:avLst/>
                </a:prstGeom>
                <a:blipFill rotWithShape="0">
                  <a:blip r:embed="rId16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" name=""/>
              <p:cNvGrpSpPr/>
              <p:nvPr/>
            </p:nvGrpSpPr>
            <p:grpSpPr>
              <a:xfrm>
                <a:off x="8229240" y="2993760"/>
                <a:ext cx="380880" cy="280800"/>
                <a:chOff x="8229240" y="2993760"/>
                <a:chExt cx="380880" cy="280800"/>
              </a:xfrm>
            </p:grpSpPr>
            <p:grpSp>
              <p:nvGrpSpPr>
                <p:cNvPr id="338" name=""/>
                <p:cNvGrpSpPr/>
                <p:nvPr/>
              </p:nvGrpSpPr>
              <p:grpSpPr>
                <a:xfrm>
                  <a:off x="8229240" y="3086640"/>
                  <a:ext cx="92520" cy="92880"/>
                  <a:chOff x="8229240" y="3086640"/>
                  <a:chExt cx="92520" cy="928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8229240" y="3133080"/>
                    <a:ext cx="92520" cy="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8229240" y="3086640"/>
                    <a:ext cx="0" cy="9288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1" name=""/>
                <p:cNvSpPr/>
                <p:nvPr/>
              </p:nvSpPr>
              <p:spPr>
                <a:xfrm>
                  <a:off x="8306280" y="2993760"/>
                  <a:ext cx="303840" cy="280800"/>
                </a:xfrm>
                <a:prstGeom prst="ellipse">
                  <a:avLst/>
                </a:prstGeom>
                <a:blipFill rotWithShape="0">
                  <a:blip r:embed="rId17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... One remote call ... But many proxies creat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3840" y="2232000"/>
            <a:ext cx="1448640" cy="2631960"/>
            <a:chOff x="303840" y="2232000"/>
            <a:chExt cx="1448640" cy="2631960"/>
          </a:xfrm>
        </p:grpSpPr>
        <p:sp>
          <p:nvSpPr>
            <p:cNvPr id="344" name=""/>
            <p:cNvSpPr/>
            <p:nvPr/>
          </p:nvSpPr>
          <p:spPr>
            <a:xfrm>
              <a:off x="457200" y="2765520"/>
              <a:ext cx="1295280" cy="20984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03840" y="2232000"/>
              <a:ext cx="1032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i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1523880" y="3603600"/>
            <a:ext cx="4496040" cy="7632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838080" y="2994120"/>
            <a:ext cx="838440" cy="1654200"/>
            <a:chOff x="838080" y="2994120"/>
            <a:chExt cx="838440" cy="1654200"/>
          </a:xfrm>
        </p:grpSpPr>
        <p:grpSp>
          <p:nvGrpSpPr>
            <p:cNvPr id="348" name=""/>
            <p:cNvGrpSpPr/>
            <p:nvPr/>
          </p:nvGrpSpPr>
          <p:grpSpPr>
            <a:xfrm>
              <a:off x="838080" y="2994120"/>
              <a:ext cx="838440" cy="664920"/>
              <a:chOff x="838080" y="2994120"/>
              <a:chExt cx="838440" cy="664920"/>
            </a:xfrm>
          </p:grpSpPr>
          <p:grpSp>
            <p:nvGrpSpPr>
              <p:cNvPr id="349" name=""/>
              <p:cNvGrpSpPr/>
              <p:nvPr/>
            </p:nvGrpSpPr>
            <p:grpSpPr>
              <a:xfrm>
                <a:off x="838080" y="3151080"/>
                <a:ext cx="261720" cy="193320"/>
                <a:chOff x="838080" y="3151080"/>
                <a:chExt cx="261720" cy="193320"/>
              </a:xfrm>
            </p:grpSpPr>
            <p:grpSp>
              <p:nvGrpSpPr>
                <p:cNvPr id="350" name=""/>
                <p:cNvGrpSpPr/>
                <p:nvPr/>
              </p:nvGrpSpPr>
              <p:grpSpPr>
                <a:xfrm>
                  <a:off x="838080" y="3214800"/>
                  <a:ext cx="63720" cy="63720"/>
                  <a:chOff x="838080" y="3214800"/>
                  <a:chExt cx="63720" cy="6372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838080" y="3246480"/>
                    <a:ext cx="63720" cy="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838080" y="3214800"/>
                    <a:ext cx="0" cy="6372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3" name=""/>
                <p:cNvSpPr/>
                <p:nvPr/>
              </p:nvSpPr>
              <p:spPr>
                <a:xfrm>
                  <a:off x="891000" y="3151080"/>
                  <a:ext cx="208800" cy="193320"/>
                </a:xfrm>
                <a:prstGeom prst="ellipse">
                  <a:avLst/>
                </a:prstGeom>
                <a:blipFill rotWithShape="0">
                  <a:blip r:embed="rId18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942480" y="3256200"/>
                <a:ext cx="262080" cy="192960"/>
                <a:chOff x="942480" y="3256200"/>
                <a:chExt cx="262080" cy="192960"/>
              </a:xfrm>
            </p:grpSpPr>
            <p:grpSp>
              <p:nvGrpSpPr>
                <p:cNvPr id="355" name=""/>
                <p:cNvGrpSpPr/>
                <p:nvPr/>
              </p:nvGrpSpPr>
              <p:grpSpPr>
                <a:xfrm>
                  <a:off x="942480" y="3319920"/>
                  <a:ext cx="63720" cy="63720"/>
                  <a:chOff x="942480" y="3319920"/>
                  <a:chExt cx="63720" cy="63720"/>
                </a:xfrm>
              </p:grpSpPr>
              <p:sp>
                <p:nvSpPr>
                  <p:cNvPr id="356" name=""/>
                  <p:cNvSpPr/>
                  <p:nvPr/>
                </p:nvSpPr>
                <p:spPr>
                  <a:xfrm>
                    <a:off x="942480" y="3351600"/>
                    <a:ext cx="63720" cy="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942480" y="3319920"/>
                    <a:ext cx="0" cy="6372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8" name=""/>
                <p:cNvSpPr/>
                <p:nvPr/>
              </p:nvSpPr>
              <p:spPr>
                <a:xfrm>
                  <a:off x="995400" y="3256200"/>
                  <a:ext cx="209160" cy="192960"/>
                </a:xfrm>
                <a:prstGeom prst="ellipse">
                  <a:avLst/>
                </a:prstGeom>
                <a:blipFill rotWithShape="0">
                  <a:blip r:embed="rId19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"/>
              <p:cNvGrpSpPr/>
              <p:nvPr/>
            </p:nvGrpSpPr>
            <p:grpSpPr>
              <a:xfrm>
                <a:off x="1047600" y="3360960"/>
                <a:ext cx="261720" cy="193320"/>
                <a:chOff x="1047600" y="3360960"/>
                <a:chExt cx="261720" cy="193320"/>
              </a:xfrm>
            </p:grpSpPr>
            <p:grpSp>
              <p:nvGrpSpPr>
                <p:cNvPr id="360" name=""/>
                <p:cNvGrpSpPr/>
                <p:nvPr/>
              </p:nvGrpSpPr>
              <p:grpSpPr>
                <a:xfrm>
                  <a:off x="1047600" y="3424680"/>
                  <a:ext cx="63720" cy="63720"/>
                  <a:chOff x="1047600" y="3424680"/>
                  <a:chExt cx="63720" cy="63720"/>
                </a:xfrm>
              </p:grpSpPr>
              <p:sp>
                <p:nvSpPr>
                  <p:cNvPr id="361" name=""/>
                  <p:cNvSpPr/>
                  <p:nvPr/>
                </p:nvSpPr>
                <p:spPr>
                  <a:xfrm>
                    <a:off x="1047600" y="3456360"/>
                    <a:ext cx="63720" cy="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1047600" y="3424680"/>
                    <a:ext cx="0" cy="6372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3" name=""/>
                <p:cNvSpPr/>
                <p:nvPr/>
              </p:nvSpPr>
              <p:spPr>
                <a:xfrm>
                  <a:off x="1100520" y="3360960"/>
                  <a:ext cx="208800" cy="193320"/>
                </a:xfrm>
                <a:prstGeom prst="ellipse">
                  <a:avLst/>
                </a:prstGeom>
                <a:blipFill rotWithShape="0">
                  <a:blip r:embed="rId20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1152360" y="3465720"/>
                <a:ext cx="261720" cy="193320"/>
                <a:chOff x="1152360" y="3465720"/>
                <a:chExt cx="261720" cy="193320"/>
              </a:xfrm>
            </p:grpSpPr>
            <p:grpSp>
              <p:nvGrpSpPr>
                <p:cNvPr id="365" name=""/>
                <p:cNvGrpSpPr/>
                <p:nvPr/>
              </p:nvGrpSpPr>
              <p:grpSpPr>
                <a:xfrm>
                  <a:off x="1152360" y="3529440"/>
                  <a:ext cx="63720" cy="63720"/>
                  <a:chOff x="1152360" y="3529440"/>
                  <a:chExt cx="63720" cy="637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1152360" y="3561120"/>
                    <a:ext cx="63720" cy="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1152360" y="3529440"/>
                    <a:ext cx="0" cy="6372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8" name=""/>
                <p:cNvSpPr/>
                <p:nvPr/>
              </p:nvSpPr>
              <p:spPr>
                <a:xfrm>
                  <a:off x="1205280" y="3465720"/>
                  <a:ext cx="208800" cy="193320"/>
                </a:xfrm>
                <a:prstGeom prst="ellipse">
                  <a:avLst/>
                </a:prstGeom>
                <a:blipFill rotWithShape="0">
                  <a:blip r:embed="rId21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1099800" y="2994120"/>
                <a:ext cx="262080" cy="193320"/>
                <a:chOff x="1099800" y="2994120"/>
                <a:chExt cx="262080" cy="193320"/>
              </a:xfrm>
            </p:grpSpPr>
            <p:grpSp>
              <p:nvGrpSpPr>
                <p:cNvPr id="370" name=""/>
                <p:cNvGrpSpPr/>
                <p:nvPr/>
              </p:nvGrpSpPr>
              <p:grpSpPr>
                <a:xfrm>
                  <a:off x="1099800" y="3057840"/>
                  <a:ext cx="63720" cy="63720"/>
                  <a:chOff x="1099800" y="3057840"/>
                  <a:chExt cx="63720" cy="63720"/>
                </a:xfrm>
              </p:grpSpPr>
              <p:sp>
                <p:nvSpPr>
                  <p:cNvPr id="371" name=""/>
                  <p:cNvSpPr/>
                  <p:nvPr/>
                </p:nvSpPr>
                <p:spPr>
                  <a:xfrm>
                    <a:off x="1099800" y="3089520"/>
                    <a:ext cx="63720" cy="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1099800" y="3057840"/>
                    <a:ext cx="0" cy="6372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3" name=""/>
                <p:cNvSpPr/>
                <p:nvPr/>
              </p:nvSpPr>
              <p:spPr>
                <a:xfrm>
                  <a:off x="1152720" y="2994120"/>
                  <a:ext cx="209160" cy="193320"/>
                </a:xfrm>
                <a:prstGeom prst="ellipse">
                  <a:avLst/>
                </a:prstGeom>
                <a:blipFill rotWithShape="0">
                  <a:blip r:embed="rId22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1204920" y="3098880"/>
                <a:ext cx="261720" cy="192960"/>
                <a:chOff x="1204920" y="3098880"/>
                <a:chExt cx="261720" cy="192960"/>
              </a:xfrm>
            </p:grpSpPr>
            <p:grpSp>
              <p:nvGrpSpPr>
                <p:cNvPr id="375" name=""/>
                <p:cNvGrpSpPr/>
                <p:nvPr/>
              </p:nvGrpSpPr>
              <p:grpSpPr>
                <a:xfrm>
                  <a:off x="1204920" y="3162600"/>
                  <a:ext cx="63720" cy="63720"/>
                  <a:chOff x="1204920" y="3162600"/>
                  <a:chExt cx="63720" cy="63720"/>
                </a:xfrm>
              </p:grpSpPr>
              <p:sp>
                <p:nvSpPr>
                  <p:cNvPr id="376" name=""/>
                  <p:cNvSpPr/>
                  <p:nvPr/>
                </p:nvSpPr>
                <p:spPr>
                  <a:xfrm>
                    <a:off x="1204920" y="3194280"/>
                    <a:ext cx="63720" cy="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1204920" y="3162600"/>
                    <a:ext cx="0" cy="6372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8" name=""/>
                <p:cNvSpPr/>
                <p:nvPr/>
              </p:nvSpPr>
              <p:spPr>
                <a:xfrm>
                  <a:off x="1257840" y="3098880"/>
                  <a:ext cx="208800" cy="192960"/>
                </a:xfrm>
                <a:prstGeom prst="ellipse">
                  <a:avLst/>
                </a:prstGeom>
                <a:blipFill rotWithShape="0">
                  <a:blip r:embed="rId23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1309680" y="3203640"/>
                <a:ext cx="261720" cy="193320"/>
                <a:chOff x="1309680" y="3203640"/>
                <a:chExt cx="261720" cy="193320"/>
              </a:xfrm>
            </p:grpSpPr>
            <p:grpSp>
              <p:nvGrpSpPr>
                <p:cNvPr id="380" name=""/>
                <p:cNvGrpSpPr/>
                <p:nvPr/>
              </p:nvGrpSpPr>
              <p:grpSpPr>
                <a:xfrm>
                  <a:off x="1309680" y="3267360"/>
                  <a:ext cx="63720" cy="63720"/>
                  <a:chOff x="1309680" y="3267360"/>
                  <a:chExt cx="63720" cy="63720"/>
                </a:xfrm>
              </p:grpSpPr>
              <p:sp>
                <p:nvSpPr>
                  <p:cNvPr id="381" name=""/>
                  <p:cNvSpPr/>
                  <p:nvPr/>
                </p:nvSpPr>
                <p:spPr>
                  <a:xfrm>
                    <a:off x="1309680" y="3299040"/>
                    <a:ext cx="63720" cy="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1309680" y="3267360"/>
                    <a:ext cx="0" cy="6372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83" name=""/>
                <p:cNvSpPr/>
                <p:nvPr/>
              </p:nvSpPr>
              <p:spPr>
                <a:xfrm>
                  <a:off x="1362600" y="3203640"/>
                  <a:ext cx="208800" cy="193320"/>
                </a:xfrm>
                <a:prstGeom prst="ellipse">
                  <a:avLst/>
                </a:prstGeom>
                <a:blipFill rotWithShape="0">
                  <a:blip r:embed="rId24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1414440" y="3308400"/>
                <a:ext cx="262080" cy="193320"/>
                <a:chOff x="1414440" y="3308400"/>
                <a:chExt cx="262080" cy="19332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1414440" y="3372120"/>
                  <a:ext cx="63720" cy="63720"/>
                  <a:chOff x="1414440" y="3372120"/>
                  <a:chExt cx="63720" cy="63720"/>
                </a:xfrm>
              </p:grpSpPr>
              <p:sp>
                <p:nvSpPr>
                  <p:cNvPr id="386" name=""/>
                  <p:cNvSpPr/>
                  <p:nvPr/>
                </p:nvSpPr>
                <p:spPr>
                  <a:xfrm>
                    <a:off x="1414440" y="3403800"/>
                    <a:ext cx="63720" cy="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1414440" y="3372120"/>
                    <a:ext cx="0" cy="6372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88" name=""/>
                <p:cNvSpPr/>
                <p:nvPr/>
              </p:nvSpPr>
              <p:spPr>
                <a:xfrm>
                  <a:off x="1467360" y="3308400"/>
                  <a:ext cx="209160" cy="193320"/>
                </a:xfrm>
                <a:prstGeom prst="ellipse">
                  <a:avLst/>
                </a:prstGeom>
                <a:blipFill rotWithShape="0">
                  <a:blip r:embed="rId25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9" name=""/>
            <p:cNvGrpSpPr/>
            <p:nvPr/>
          </p:nvGrpSpPr>
          <p:grpSpPr>
            <a:xfrm>
              <a:off x="838080" y="3984480"/>
              <a:ext cx="838440" cy="663840"/>
              <a:chOff x="838080" y="3984480"/>
              <a:chExt cx="838440" cy="663840"/>
            </a:xfrm>
          </p:grpSpPr>
          <p:grpSp>
            <p:nvGrpSpPr>
              <p:cNvPr id="390" name=""/>
              <p:cNvGrpSpPr/>
              <p:nvPr/>
            </p:nvGrpSpPr>
            <p:grpSpPr>
              <a:xfrm>
                <a:off x="838080" y="4141800"/>
                <a:ext cx="262080" cy="193680"/>
                <a:chOff x="838080" y="4141800"/>
                <a:chExt cx="262080" cy="193680"/>
              </a:xfrm>
            </p:grpSpPr>
            <p:grpSp>
              <p:nvGrpSpPr>
                <p:cNvPr id="391" name=""/>
                <p:cNvGrpSpPr/>
                <p:nvPr/>
              </p:nvGrpSpPr>
              <p:grpSpPr>
                <a:xfrm>
                  <a:off x="838080" y="4205880"/>
                  <a:ext cx="63720" cy="64080"/>
                  <a:chOff x="838080" y="4205880"/>
                  <a:chExt cx="63720" cy="64080"/>
                </a:xfrm>
              </p:grpSpPr>
              <p:sp>
                <p:nvSpPr>
                  <p:cNvPr id="392" name=""/>
                  <p:cNvSpPr/>
                  <p:nvPr/>
                </p:nvSpPr>
                <p:spPr>
                  <a:xfrm>
                    <a:off x="838080" y="4237920"/>
                    <a:ext cx="63720" cy="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838080" y="4205880"/>
                    <a:ext cx="0" cy="6408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94" name=""/>
                <p:cNvSpPr/>
                <p:nvPr/>
              </p:nvSpPr>
              <p:spPr>
                <a:xfrm>
                  <a:off x="891000" y="4141800"/>
                  <a:ext cx="209160" cy="193680"/>
                </a:xfrm>
                <a:prstGeom prst="ellipse">
                  <a:avLst/>
                </a:prstGeom>
                <a:blipFill rotWithShape="0">
                  <a:blip r:embed="rId26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5" name=""/>
              <p:cNvGrpSpPr/>
              <p:nvPr/>
            </p:nvGrpSpPr>
            <p:grpSpPr>
              <a:xfrm>
                <a:off x="942840" y="4246560"/>
                <a:ext cx="262080" cy="193680"/>
                <a:chOff x="942840" y="4246560"/>
                <a:chExt cx="262080" cy="193680"/>
              </a:xfrm>
            </p:grpSpPr>
            <p:grpSp>
              <p:nvGrpSpPr>
                <p:cNvPr id="396" name=""/>
                <p:cNvGrpSpPr/>
                <p:nvPr/>
              </p:nvGrpSpPr>
              <p:grpSpPr>
                <a:xfrm>
                  <a:off x="942840" y="4310640"/>
                  <a:ext cx="63720" cy="64080"/>
                  <a:chOff x="942840" y="4310640"/>
                  <a:chExt cx="63720" cy="64080"/>
                </a:xfrm>
              </p:grpSpPr>
              <p:sp>
                <p:nvSpPr>
                  <p:cNvPr id="397" name=""/>
                  <p:cNvSpPr/>
                  <p:nvPr/>
                </p:nvSpPr>
                <p:spPr>
                  <a:xfrm>
                    <a:off x="942840" y="4342680"/>
                    <a:ext cx="63720" cy="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942840" y="4310640"/>
                    <a:ext cx="0" cy="6408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99" name=""/>
                <p:cNvSpPr/>
                <p:nvPr/>
              </p:nvSpPr>
              <p:spPr>
                <a:xfrm>
                  <a:off x="995760" y="4246560"/>
                  <a:ext cx="209160" cy="193680"/>
                </a:xfrm>
                <a:prstGeom prst="ellipse">
                  <a:avLst/>
                </a:prstGeom>
                <a:blipFill rotWithShape="0">
                  <a:blip r:embed="rId27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1047600" y="4351320"/>
                <a:ext cx="262080" cy="193680"/>
                <a:chOff x="1047600" y="4351320"/>
                <a:chExt cx="262080" cy="193680"/>
              </a:xfrm>
            </p:grpSpPr>
            <p:grpSp>
              <p:nvGrpSpPr>
                <p:cNvPr id="401" name=""/>
                <p:cNvGrpSpPr/>
                <p:nvPr/>
              </p:nvGrpSpPr>
              <p:grpSpPr>
                <a:xfrm>
                  <a:off x="1047600" y="4415400"/>
                  <a:ext cx="63720" cy="64080"/>
                  <a:chOff x="1047600" y="4415400"/>
                  <a:chExt cx="63720" cy="64080"/>
                </a:xfrm>
              </p:grpSpPr>
              <p:sp>
                <p:nvSpPr>
                  <p:cNvPr id="402" name=""/>
                  <p:cNvSpPr/>
                  <p:nvPr/>
                </p:nvSpPr>
                <p:spPr>
                  <a:xfrm>
                    <a:off x="1047600" y="4447440"/>
                    <a:ext cx="63720" cy="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1047600" y="4415400"/>
                    <a:ext cx="0" cy="6408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04" name=""/>
                <p:cNvSpPr/>
                <p:nvPr/>
              </p:nvSpPr>
              <p:spPr>
                <a:xfrm>
                  <a:off x="1100520" y="4351320"/>
                  <a:ext cx="209160" cy="193680"/>
                </a:xfrm>
                <a:prstGeom prst="ellipse">
                  <a:avLst/>
                </a:prstGeom>
                <a:blipFill rotWithShape="0">
                  <a:blip r:embed="rId28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1100160" y="3984480"/>
                <a:ext cx="262080" cy="193680"/>
                <a:chOff x="1100160" y="3984480"/>
                <a:chExt cx="262080" cy="193680"/>
              </a:xfrm>
            </p:grpSpPr>
            <p:grpSp>
              <p:nvGrpSpPr>
                <p:cNvPr id="406" name=""/>
                <p:cNvGrpSpPr/>
                <p:nvPr/>
              </p:nvGrpSpPr>
              <p:grpSpPr>
                <a:xfrm>
                  <a:off x="1100160" y="4048560"/>
                  <a:ext cx="63720" cy="64080"/>
                  <a:chOff x="1100160" y="4048560"/>
                  <a:chExt cx="63720" cy="64080"/>
                </a:xfrm>
              </p:grpSpPr>
              <p:sp>
                <p:nvSpPr>
                  <p:cNvPr id="407" name=""/>
                  <p:cNvSpPr/>
                  <p:nvPr/>
                </p:nvSpPr>
                <p:spPr>
                  <a:xfrm>
                    <a:off x="1100160" y="4080600"/>
                    <a:ext cx="63720" cy="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1100160" y="4048560"/>
                    <a:ext cx="0" cy="6408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09" name=""/>
                <p:cNvSpPr/>
                <p:nvPr/>
              </p:nvSpPr>
              <p:spPr>
                <a:xfrm>
                  <a:off x="1153080" y="3984480"/>
                  <a:ext cx="209160" cy="193680"/>
                </a:xfrm>
                <a:prstGeom prst="ellipse">
                  <a:avLst/>
                </a:prstGeom>
                <a:blipFill rotWithShape="0">
                  <a:blip r:embed="rId29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" name=""/>
              <p:cNvGrpSpPr/>
              <p:nvPr/>
            </p:nvGrpSpPr>
            <p:grpSpPr>
              <a:xfrm>
                <a:off x="1204920" y="4089240"/>
                <a:ext cx="262080" cy="193680"/>
                <a:chOff x="1204920" y="4089240"/>
                <a:chExt cx="262080" cy="193680"/>
              </a:xfrm>
            </p:grpSpPr>
            <p:grpSp>
              <p:nvGrpSpPr>
                <p:cNvPr id="411" name=""/>
                <p:cNvGrpSpPr/>
                <p:nvPr/>
              </p:nvGrpSpPr>
              <p:grpSpPr>
                <a:xfrm>
                  <a:off x="1204920" y="4153320"/>
                  <a:ext cx="63720" cy="64080"/>
                  <a:chOff x="1204920" y="4153320"/>
                  <a:chExt cx="63720" cy="64080"/>
                </a:xfrm>
              </p:grpSpPr>
              <p:sp>
                <p:nvSpPr>
                  <p:cNvPr id="412" name=""/>
                  <p:cNvSpPr/>
                  <p:nvPr/>
                </p:nvSpPr>
                <p:spPr>
                  <a:xfrm>
                    <a:off x="1204920" y="4185360"/>
                    <a:ext cx="63720" cy="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1204920" y="4153320"/>
                    <a:ext cx="0" cy="6408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14" name=""/>
                <p:cNvSpPr/>
                <p:nvPr/>
              </p:nvSpPr>
              <p:spPr>
                <a:xfrm>
                  <a:off x="1257840" y="4089240"/>
                  <a:ext cx="209160" cy="193680"/>
                </a:xfrm>
                <a:prstGeom prst="ellipse">
                  <a:avLst/>
                </a:prstGeom>
                <a:blipFill rotWithShape="0">
                  <a:blip r:embed="rId30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1309680" y="4194000"/>
                <a:ext cx="262080" cy="193680"/>
                <a:chOff x="1309680" y="4194000"/>
                <a:chExt cx="262080" cy="193680"/>
              </a:xfrm>
            </p:grpSpPr>
            <p:grpSp>
              <p:nvGrpSpPr>
                <p:cNvPr id="416" name=""/>
                <p:cNvGrpSpPr/>
                <p:nvPr/>
              </p:nvGrpSpPr>
              <p:grpSpPr>
                <a:xfrm>
                  <a:off x="1309680" y="4258080"/>
                  <a:ext cx="63720" cy="64080"/>
                  <a:chOff x="1309680" y="4258080"/>
                  <a:chExt cx="63720" cy="64080"/>
                </a:xfrm>
              </p:grpSpPr>
              <p:sp>
                <p:nvSpPr>
                  <p:cNvPr id="417" name=""/>
                  <p:cNvSpPr/>
                  <p:nvPr/>
                </p:nvSpPr>
                <p:spPr>
                  <a:xfrm>
                    <a:off x="1309680" y="4290120"/>
                    <a:ext cx="63720" cy="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1309680" y="4258080"/>
                    <a:ext cx="0" cy="6408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19" name=""/>
                <p:cNvSpPr/>
                <p:nvPr/>
              </p:nvSpPr>
              <p:spPr>
                <a:xfrm>
                  <a:off x="1362600" y="4194000"/>
                  <a:ext cx="209160" cy="193680"/>
                </a:xfrm>
                <a:prstGeom prst="ellipse">
                  <a:avLst/>
                </a:prstGeom>
                <a:blipFill rotWithShape="0">
                  <a:blip r:embed="rId31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0" name=""/>
              <p:cNvGrpSpPr/>
              <p:nvPr/>
            </p:nvGrpSpPr>
            <p:grpSpPr>
              <a:xfrm>
                <a:off x="1414440" y="4299120"/>
                <a:ext cx="262080" cy="193680"/>
                <a:chOff x="1414440" y="4299120"/>
                <a:chExt cx="262080" cy="193680"/>
              </a:xfrm>
            </p:grpSpPr>
            <p:grpSp>
              <p:nvGrpSpPr>
                <p:cNvPr id="421" name=""/>
                <p:cNvGrpSpPr/>
                <p:nvPr/>
              </p:nvGrpSpPr>
              <p:grpSpPr>
                <a:xfrm>
                  <a:off x="1414440" y="4363200"/>
                  <a:ext cx="63720" cy="64080"/>
                  <a:chOff x="1414440" y="4363200"/>
                  <a:chExt cx="63720" cy="64080"/>
                </a:xfrm>
              </p:grpSpPr>
              <p:sp>
                <p:nvSpPr>
                  <p:cNvPr id="422" name=""/>
                  <p:cNvSpPr/>
                  <p:nvPr/>
                </p:nvSpPr>
                <p:spPr>
                  <a:xfrm>
                    <a:off x="1414440" y="4395240"/>
                    <a:ext cx="63720" cy="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1414440" y="4363200"/>
                    <a:ext cx="0" cy="6408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24" name=""/>
                <p:cNvSpPr/>
                <p:nvPr/>
              </p:nvSpPr>
              <p:spPr>
                <a:xfrm>
                  <a:off x="1467360" y="4299120"/>
                  <a:ext cx="209160" cy="193680"/>
                </a:xfrm>
                <a:prstGeom prst="ellipse">
                  <a:avLst/>
                </a:prstGeom>
                <a:blipFill rotWithShape="0">
                  <a:blip r:embed="rId32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5" name=""/>
              <p:cNvGrpSpPr/>
              <p:nvPr/>
            </p:nvGrpSpPr>
            <p:grpSpPr>
              <a:xfrm>
                <a:off x="1185840" y="4454640"/>
                <a:ext cx="262080" cy="193680"/>
                <a:chOff x="1185840" y="4454640"/>
                <a:chExt cx="262080" cy="193680"/>
              </a:xfrm>
            </p:grpSpPr>
            <p:grpSp>
              <p:nvGrpSpPr>
                <p:cNvPr id="426" name=""/>
                <p:cNvGrpSpPr/>
                <p:nvPr/>
              </p:nvGrpSpPr>
              <p:grpSpPr>
                <a:xfrm>
                  <a:off x="1185840" y="4518720"/>
                  <a:ext cx="63720" cy="64080"/>
                  <a:chOff x="1185840" y="4518720"/>
                  <a:chExt cx="63720" cy="64080"/>
                </a:xfrm>
              </p:grpSpPr>
              <p:sp>
                <p:nvSpPr>
                  <p:cNvPr id="427" name=""/>
                  <p:cNvSpPr/>
                  <p:nvPr/>
                </p:nvSpPr>
                <p:spPr>
                  <a:xfrm>
                    <a:off x="1185840" y="4550760"/>
                    <a:ext cx="63720" cy="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1185840" y="4518720"/>
                    <a:ext cx="0" cy="6408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29" name=""/>
                <p:cNvSpPr/>
                <p:nvPr/>
              </p:nvSpPr>
              <p:spPr>
                <a:xfrm>
                  <a:off x="1238760" y="4454640"/>
                  <a:ext cx="209160" cy="193680"/>
                </a:xfrm>
                <a:prstGeom prst="ellipse">
                  <a:avLst/>
                </a:prstGeom>
                <a:blipFill rotWithShape="0">
                  <a:blip r:embed="rId33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further improve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28240" y="68580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interface FrontOffice {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typedef long BookingID;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struct IDAndOwner {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BookingID theBookingID;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Name owner;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9160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};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typedef sequence&lt;IDAndOwner&gt;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IDAndOwnerSeq;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IDAndOwnerSeq getBookingsInfo ();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Booking getBookingByID (.....);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9160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};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2" name=""/>
          <p:cNvGrpSpPr/>
          <p:nvPr/>
        </p:nvGrpSpPr>
        <p:grpSpPr>
          <a:xfrm>
            <a:off x="5715000" y="2003400"/>
            <a:ext cx="2895120" cy="3254400"/>
            <a:chOff x="5715000" y="2003400"/>
            <a:chExt cx="2895120" cy="3254400"/>
          </a:xfrm>
        </p:grpSpPr>
        <p:sp>
          <p:nvSpPr>
            <p:cNvPr id="433" name=""/>
            <p:cNvSpPr/>
            <p:nvPr/>
          </p:nvSpPr>
          <p:spPr>
            <a:xfrm>
              <a:off x="5729400" y="2504880"/>
              <a:ext cx="2863800" cy="27529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715000" y="2003400"/>
              <a:ext cx="1082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erv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6095880" y="2994120"/>
              <a:ext cx="1676160" cy="1233360"/>
              <a:chOff x="6095880" y="2994120"/>
              <a:chExt cx="1676160" cy="1233360"/>
            </a:xfrm>
          </p:grpSpPr>
          <p:grpSp>
            <p:nvGrpSpPr>
              <p:cNvPr id="436" name=""/>
              <p:cNvGrpSpPr/>
              <p:nvPr/>
            </p:nvGrpSpPr>
            <p:grpSpPr>
              <a:xfrm>
                <a:off x="6095880" y="2994120"/>
                <a:ext cx="1676160" cy="1233360"/>
                <a:chOff x="6095880" y="2994120"/>
                <a:chExt cx="1676160" cy="1233360"/>
              </a:xfrm>
            </p:grpSpPr>
            <p:grpSp>
              <p:nvGrpSpPr>
                <p:cNvPr id="437" name=""/>
                <p:cNvGrpSpPr/>
                <p:nvPr/>
              </p:nvGrpSpPr>
              <p:grpSpPr>
                <a:xfrm>
                  <a:off x="6095880" y="3401640"/>
                  <a:ext cx="407520" cy="407520"/>
                  <a:chOff x="6095880" y="3401640"/>
                  <a:chExt cx="407520" cy="407520"/>
                </a:xfrm>
              </p:grpSpPr>
              <p:sp>
                <p:nvSpPr>
                  <p:cNvPr id="438" name=""/>
                  <p:cNvSpPr/>
                  <p:nvPr/>
                </p:nvSpPr>
                <p:spPr>
                  <a:xfrm>
                    <a:off x="6095880" y="3605400"/>
                    <a:ext cx="407520" cy="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6095880" y="3401640"/>
                    <a:ext cx="0" cy="40752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0" name=""/>
                <p:cNvSpPr/>
                <p:nvPr/>
              </p:nvSpPr>
              <p:spPr>
                <a:xfrm>
                  <a:off x="6435720" y="2994120"/>
                  <a:ext cx="1336320" cy="1233360"/>
                </a:xfrm>
                <a:prstGeom prst="ellipse">
                  <a:avLst/>
                </a:prstGeom>
                <a:blipFill rotWithShape="0">
                  <a:blip r:embed="rId1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1" name=""/>
              <p:cNvSpPr/>
              <p:nvPr/>
            </p:nvSpPr>
            <p:spPr>
              <a:xfrm>
                <a:off x="6628320" y="3222720"/>
                <a:ext cx="982080" cy="75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Front</a:t>
                </a:r>
                <a:br>
                  <a:rPr sz="2400"/>
                </a:b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Offic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7315200" y="3984480"/>
              <a:ext cx="1218960" cy="966960"/>
              <a:chOff x="7315200" y="3984480"/>
              <a:chExt cx="1218960" cy="96696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7315200" y="4213080"/>
                <a:ext cx="380880" cy="281160"/>
                <a:chOff x="7315200" y="4213080"/>
                <a:chExt cx="380880" cy="281160"/>
              </a:xfrm>
            </p:grpSpPr>
            <p:grpSp>
              <p:nvGrpSpPr>
                <p:cNvPr id="444" name=""/>
                <p:cNvGrpSpPr/>
                <p:nvPr/>
              </p:nvGrpSpPr>
              <p:grpSpPr>
                <a:xfrm>
                  <a:off x="7315200" y="4305960"/>
                  <a:ext cx="92520" cy="92880"/>
                  <a:chOff x="7315200" y="4305960"/>
                  <a:chExt cx="92520" cy="92880"/>
                </a:xfrm>
              </p:grpSpPr>
              <p:sp>
                <p:nvSpPr>
                  <p:cNvPr id="445" name=""/>
                  <p:cNvSpPr/>
                  <p:nvPr/>
                </p:nvSpPr>
                <p:spPr>
                  <a:xfrm>
                    <a:off x="7315200" y="4352400"/>
                    <a:ext cx="92520" cy="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7315200" y="4305960"/>
                    <a:ext cx="0" cy="9288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7" name=""/>
                <p:cNvSpPr/>
                <p:nvPr/>
              </p:nvSpPr>
              <p:spPr>
                <a:xfrm>
                  <a:off x="7392240" y="4213080"/>
                  <a:ext cx="303840" cy="281160"/>
                </a:xfrm>
                <a:prstGeom prst="ellipse">
                  <a:avLst/>
                </a:prstGeom>
                <a:blipFill rotWithShape="0">
                  <a:blip r:embed="rId2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8" name=""/>
              <p:cNvGrpSpPr/>
              <p:nvPr/>
            </p:nvGrpSpPr>
            <p:grpSpPr>
              <a:xfrm>
                <a:off x="7467480" y="4365720"/>
                <a:ext cx="380880" cy="280800"/>
                <a:chOff x="7467480" y="4365720"/>
                <a:chExt cx="380880" cy="280800"/>
              </a:xfrm>
            </p:grpSpPr>
            <p:grpSp>
              <p:nvGrpSpPr>
                <p:cNvPr id="449" name=""/>
                <p:cNvGrpSpPr/>
                <p:nvPr/>
              </p:nvGrpSpPr>
              <p:grpSpPr>
                <a:xfrm>
                  <a:off x="7467480" y="4458600"/>
                  <a:ext cx="92520" cy="92880"/>
                  <a:chOff x="7467480" y="4458600"/>
                  <a:chExt cx="92520" cy="92880"/>
                </a:xfrm>
              </p:grpSpPr>
              <p:sp>
                <p:nvSpPr>
                  <p:cNvPr id="450" name=""/>
                  <p:cNvSpPr/>
                  <p:nvPr/>
                </p:nvSpPr>
                <p:spPr>
                  <a:xfrm>
                    <a:off x="7467480" y="4505040"/>
                    <a:ext cx="92520" cy="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7467480" y="4458600"/>
                    <a:ext cx="0" cy="9288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2" name=""/>
                <p:cNvSpPr/>
                <p:nvPr/>
              </p:nvSpPr>
              <p:spPr>
                <a:xfrm>
                  <a:off x="7544520" y="4365720"/>
                  <a:ext cx="303840" cy="280800"/>
                </a:xfrm>
                <a:prstGeom prst="ellipse">
                  <a:avLst/>
                </a:prstGeom>
                <a:blipFill rotWithShape="0">
                  <a:blip r:embed="rId3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3" name=""/>
              <p:cNvGrpSpPr/>
              <p:nvPr/>
            </p:nvGrpSpPr>
            <p:grpSpPr>
              <a:xfrm>
                <a:off x="7620120" y="4518000"/>
                <a:ext cx="380880" cy="281160"/>
                <a:chOff x="7620120" y="4518000"/>
                <a:chExt cx="380880" cy="281160"/>
              </a:xfrm>
            </p:grpSpPr>
            <p:grpSp>
              <p:nvGrpSpPr>
                <p:cNvPr id="454" name=""/>
                <p:cNvGrpSpPr/>
                <p:nvPr/>
              </p:nvGrpSpPr>
              <p:grpSpPr>
                <a:xfrm>
                  <a:off x="7620120" y="4610880"/>
                  <a:ext cx="92520" cy="92880"/>
                  <a:chOff x="7620120" y="4610880"/>
                  <a:chExt cx="92520" cy="92880"/>
                </a:xfrm>
              </p:grpSpPr>
              <p:sp>
                <p:nvSpPr>
                  <p:cNvPr id="455" name=""/>
                  <p:cNvSpPr/>
                  <p:nvPr/>
                </p:nvSpPr>
                <p:spPr>
                  <a:xfrm>
                    <a:off x="7620120" y="4657320"/>
                    <a:ext cx="92520" cy="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7620120" y="4610880"/>
                    <a:ext cx="0" cy="9288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7" name=""/>
                <p:cNvSpPr/>
                <p:nvPr/>
              </p:nvSpPr>
              <p:spPr>
                <a:xfrm>
                  <a:off x="7697160" y="4518000"/>
                  <a:ext cx="303840" cy="281160"/>
                </a:xfrm>
                <a:prstGeom prst="ellipse">
                  <a:avLst/>
                </a:prstGeom>
                <a:blipFill rotWithShape="0">
                  <a:blip r:embed="rId4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7772400" y="4670280"/>
                <a:ext cx="380880" cy="281160"/>
                <a:chOff x="7772400" y="4670280"/>
                <a:chExt cx="380880" cy="281160"/>
              </a:xfrm>
            </p:grpSpPr>
            <p:grpSp>
              <p:nvGrpSpPr>
                <p:cNvPr id="459" name=""/>
                <p:cNvGrpSpPr/>
                <p:nvPr/>
              </p:nvGrpSpPr>
              <p:grpSpPr>
                <a:xfrm>
                  <a:off x="7772400" y="4763160"/>
                  <a:ext cx="92520" cy="92880"/>
                  <a:chOff x="7772400" y="4763160"/>
                  <a:chExt cx="92520" cy="92880"/>
                </a:xfrm>
              </p:grpSpPr>
              <p:sp>
                <p:nvSpPr>
                  <p:cNvPr id="460" name=""/>
                  <p:cNvSpPr/>
                  <p:nvPr/>
                </p:nvSpPr>
                <p:spPr>
                  <a:xfrm>
                    <a:off x="7772400" y="4809600"/>
                    <a:ext cx="92520" cy="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7772400" y="4763160"/>
                    <a:ext cx="0" cy="9288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2" name=""/>
                <p:cNvSpPr/>
                <p:nvPr/>
              </p:nvSpPr>
              <p:spPr>
                <a:xfrm>
                  <a:off x="7849440" y="4670280"/>
                  <a:ext cx="303840" cy="281160"/>
                </a:xfrm>
                <a:prstGeom prst="ellipse">
                  <a:avLst/>
                </a:prstGeom>
                <a:blipFill rotWithShape="0">
                  <a:blip r:embed="rId5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3" name=""/>
              <p:cNvGrpSpPr/>
              <p:nvPr/>
            </p:nvGrpSpPr>
            <p:grpSpPr>
              <a:xfrm>
                <a:off x="7696080" y="3984480"/>
                <a:ext cx="380880" cy="281160"/>
                <a:chOff x="7696080" y="3984480"/>
                <a:chExt cx="380880" cy="281160"/>
              </a:xfrm>
            </p:grpSpPr>
            <p:grpSp>
              <p:nvGrpSpPr>
                <p:cNvPr id="464" name=""/>
                <p:cNvGrpSpPr/>
                <p:nvPr/>
              </p:nvGrpSpPr>
              <p:grpSpPr>
                <a:xfrm>
                  <a:off x="7696080" y="4077360"/>
                  <a:ext cx="92520" cy="92880"/>
                  <a:chOff x="7696080" y="4077360"/>
                  <a:chExt cx="92520" cy="92880"/>
                </a:xfrm>
              </p:grpSpPr>
              <p:sp>
                <p:nvSpPr>
                  <p:cNvPr id="465" name=""/>
                  <p:cNvSpPr/>
                  <p:nvPr/>
                </p:nvSpPr>
                <p:spPr>
                  <a:xfrm>
                    <a:off x="7696080" y="4123800"/>
                    <a:ext cx="92520" cy="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7696080" y="4077360"/>
                    <a:ext cx="0" cy="9288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7" name=""/>
                <p:cNvSpPr/>
                <p:nvPr/>
              </p:nvSpPr>
              <p:spPr>
                <a:xfrm>
                  <a:off x="7773120" y="3984480"/>
                  <a:ext cx="303840" cy="281160"/>
                </a:xfrm>
                <a:prstGeom prst="ellipse">
                  <a:avLst/>
                </a:prstGeom>
                <a:blipFill rotWithShape="0">
                  <a:blip r:embed="rId6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8" name=""/>
              <p:cNvGrpSpPr/>
              <p:nvPr/>
            </p:nvGrpSpPr>
            <p:grpSpPr>
              <a:xfrm>
                <a:off x="7848720" y="4137120"/>
                <a:ext cx="380880" cy="280800"/>
                <a:chOff x="7848720" y="4137120"/>
                <a:chExt cx="380880" cy="280800"/>
              </a:xfrm>
            </p:grpSpPr>
            <p:grpSp>
              <p:nvGrpSpPr>
                <p:cNvPr id="469" name=""/>
                <p:cNvGrpSpPr/>
                <p:nvPr/>
              </p:nvGrpSpPr>
              <p:grpSpPr>
                <a:xfrm>
                  <a:off x="7848720" y="4230000"/>
                  <a:ext cx="92520" cy="92880"/>
                  <a:chOff x="7848720" y="4230000"/>
                  <a:chExt cx="92520" cy="92880"/>
                </a:xfrm>
              </p:grpSpPr>
              <p:sp>
                <p:nvSpPr>
                  <p:cNvPr id="470" name=""/>
                  <p:cNvSpPr/>
                  <p:nvPr/>
                </p:nvSpPr>
                <p:spPr>
                  <a:xfrm>
                    <a:off x="7848720" y="4276440"/>
                    <a:ext cx="92520" cy="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7848720" y="4230000"/>
                    <a:ext cx="0" cy="9288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2" name=""/>
                <p:cNvSpPr/>
                <p:nvPr/>
              </p:nvSpPr>
              <p:spPr>
                <a:xfrm>
                  <a:off x="7925760" y="4137120"/>
                  <a:ext cx="303840" cy="280800"/>
                </a:xfrm>
                <a:prstGeom prst="ellipse">
                  <a:avLst/>
                </a:prstGeom>
                <a:blipFill rotWithShape="0">
                  <a:blip r:embed="rId7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8001000" y="4289400"/>
                <a:ext cx="380880" cy="281160"/>
                <a:chOff x="8001000" y="4289400"/>
                <a:chExt cx="380880" cy="281160"/>
              </a:xfrm>
            </p:grpSpPr>
            <p:grpSp>
              <p:nvGrpSpPr>
                <p:cNvPr id="474" name=""/>
                <p:cNvGrpSpPr/>
                <p:nvPr/>
              </p:nvGrpSpPr>
              <p:grpSpPr>
                <a:xfrm>
                  <a:off x="8001000" y="4382280"/>
                  <a:ext cx="92520" cy="92880"/>
                  <a:chOff x="8001000" y="4382280"/>
                  <a:chExt cx="92520" cy="92880"/>
                </a:xfrm>
              </p:grpSpPr>
              <p:sp>
                <p:nvSpPr>
                  <p:cNvPr id="475" name=""/>
                  <p:cNvSpPr/>
                  <p:nvPr/>
                </p:nvSpPr>
                <p:spPr>
                  <a:xfrm>
                    <a:off x="8001000" y="4428720"/>
                    <a:ext cx="92520" cy="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8001000" y="4382280"/>
                    <a:ext cx="0" cy="9288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7" name=""/>
                <p:cNvSpPr/>
                <p:nvPr/>
              </p:nvSpPr>
              <p:spPr>
                <a:xfrm>
                  <a:off x="8078040" y="4289400"/>
                  <a:ext cx="303840" cy="281160"/>
                </a:xfrm>
                <a:prstGeom prst="ellipse">
                  <a:avLst/>
                </a:prstGeom>
                <a:blipFill rotWithShape="0">
                  <a:blip r:embed="rId8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8" name=""/>
              <p:cNvGrpSpPr/>
              <p:nvPr/>
            </p:nvGrpSpPr>
            <p:grpSpPr>
              <a:xfrm>
                <a:off x="8153280" y="4441680"/>
                <a:ext cx="380880" cy="281160"/>
                <a:chOff x="8153280" y="4441680"/>
                <a:chExt cx="380880" cy="281160"/>
              </a:xfrm>
            </p:grpSpPr>
            <p:grpSp>
              <p:nvGrpSpPr>
                <p:cNvPr id="479" name=""/>
                <p:cNvGrpSpPr/>
                <p:nvPr/>
              </p:nvGrpSpPr>
              <p:grpSpPr>
                <a:xfrm>
                  <a:off x="8153280" y="4534560"/>
                  <a:ext cx="92520" cy="92880"/>
                  <a:chOff x="8153280" y="4534560"/>
                  <a:chExt cx="92520" cy="92880"/>
                </a:xfrm>
              </p:grpSpPr>
              <p:sp>
                <p:nvSpPr>
                  <p:cNvPr id="480" name=""/>
                  <p:cNvSpPr/>
                  <p:nvPr/>
                </p:nvSpPr>
                <p:spPr>
                  <a:xfrm>
                    <a:off x="8153280" y="4581000"/>
                    <a:ext cx="92520" cy="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8153280" y="4534560"/>
                    <a:ext cx="0" cy="9288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2" name=""/>
                <p:cNvSpPr/>
                <p:nvPr/>
              </p:nvSpPr>
              <p:spPr>
                <a:xfrm>
                  <a:off x="8230320" y="4441680"/>
                  <a:ext cx="303840" cy="281160"/>
                </a:xfrm>
                <a:prstGeom prst="ellipse">
                  <a:avLst/>
                </a:prstGeom>
                <a:blipFill rotWithShape="0">
                  <a:blip r:embed="rId9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83" name=""/>
            <p:cNvGrpSpPr/>
            <p:nvPr/>
          </p:nvGrpSpPr>
          <p:grpSpPr>
            <a:xfrm>
              <a:off x="7391520" y="2536920"/>
              <a:ext cx="1218600" cy="966240"/>
              <a:chOff x="7391520" y="2536920"/>
              <a:chExt cx="1218600" cy="966240"/>
            </a:xfrm>
          </p:grpSpPr>
          <p:grpSp>
            <p:nvGrpSpPr>
              <p:cNvPr id="484" name=""/>
              <p:cNvGrpSpPr/>
              <p:nvPr/>
            </p:nvGrpSpPr>
            <p:grpSpPr>
              <a:xfrm>
                <a:off x="7391520" y="2765160"/>
                <a:ext cx="380520" cy="280800"/>
                <a:chOff x="7391520" y="2765160"/>
                <a:chExt cx="380520" cy="280800"/>
              </a:xfrm>
            </p:grpSpPr>
            <p:grpSp>
              <p:nvGrpSpPr>
                <p:cNvPr id="485" name=""/>
                <p:cNvGrpSpPr/>
                <p:nvPr/>
              </p:nvGrpSpPr>
              <p:grpSpPr>
                <a:xfrm>
                  <a:off x="7391520" y="2858040"/>
                  <a:ext cx="92520" cy="92880"/>
                  <a:chOff x="7391520" y="2858040"/>
                  <a:chExt cx="92520" cy="92880"/>
                </a:xfrm>
              </p:grpSpPr>
              <p:sp>
                <p:nvSpPr>
                  <p:cNvPr id="486" name=""/>
                  <p:cNvSpPr/>
                  <p:nvPr/>
                </p:nvSpPr>
                <p:spPr>
                  <a:xfrm>
                    <a:off x="7391520" y="2904480"/>
                    <a:ext cx="92520" cy="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7391520" y="2858040"/>
                    <a:ext cx="0" cy="9288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8" name=""/>
                <p:cNvSpPr/>
                <p:nvPr/>
              </p:nvSpPr>
              <p:spPr>
                <a:xfrm>
                  <a:off x="7468560" y="2765160"/>
                  <a:ext cx="303480" cy="280800"/>
                </a:xfrm>
                <a:prstGeom prst="ellipse">
                  <a:avLst/>
                </a:prstGeom>
                <a:blipFill rotWithShape="0">
                  <a:blip r:embed="rId10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9" name=""/>
              <p:cNvGrpSpPr/>
              <p:nvPr/>
            </p:nvGrpSpPr>
            <p:grpSpPr>
              <a:xfrm>
                <a:off x="7543440" y="2917800"/>
                <a:ext cx="380880" cy="280440"/>
                <a:chOff x="7543440" y="2917800"/>
                <a:chExt cx="380880" cy="280440"/>
              </a:xfrm>
            </p:grpSpPr>
            <p:grpSp>
              <p:nvGrpSpPr>
                <p:cNvPr id="490" name=""/>
                <p:cNvGrpSpPr/>
                <p:nvPr/>
              </p:nvGrpSpPr>
              <p:grpSpPr>
                <a:xfrm>
                  <a:off x="7543440" y="3010320"/>
                  <a:ext cx="92520" cy="92520"/>
                  <a:chOff x="7543440" y="3010320"/>
                  <a:chExt cx="92520" cy="92520"/>
                </a:xfrm>
              </p:grpSpPr>
              <p:sp>
                <p:nvSpPr>
                  <p:cNvPr id="491" name=""/>
                  <p:cNvSpPr/>
                  <p:nvPr/>
                </p:nvSpPr>
                <p:spPr>
                  <a:xfrm>
                    <a:off x="7543440" y="3056400"/>
                    <a:ext cx="92520" cy="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>
                    <a:off x="7543440" y="3010320"/>
                    <a:ext cx="0" cy="9252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3" name=""/>
                <p:cNvSpPr/>
                <p:nvPr/>
              </p:nvSpPr>
              <p:spPr>
                <a:xfrm>
                  <a:off x="7620480" y="2917800"/>
                  <a:ext cx="303840" cy="280440"/>
                </a:xfrm>
                <a:prstGeom prst="ellipse">
                  <a:avLst/>
                </a:prstGeom>
                <a:blipFill rotWithShape="0">
                  <a:blip r:embed="rId11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7696080" y="3070080"/>
                <a:ext cx="380520" cy="280800"/>
                <a:chOff x="7696080" y="3070080"/>
                <a:chExt cx="380520" cy="280800"/>
              </a:xfrm>
            </p:grpSpPr>
            <p:grpSp>
              <p:nvGrpSpPr>
                <p:cNvPr id="495" name=""/>
                <p:cNvGrpSpPr/>
                <p:nvPr/>
              </p:nvGrpSpPr>
              <p:grpSpPr>
                <a:xfrm>
                  <a:off x="7696080" y="3162960"/>
                  <a:ext cx="92520" cy="92880"/>
                  <a:chOff x="7696080" y="3162960"/>
                  <a:chExt cx="92520" cy="92880"/>
                </a:xfrm>
              </p:grpSpPr>
              <p:sp>
                <p:nvSpPr>
                  <p:cNvPr id="496" name=""/>
                  <p:cNvSpPr/>
                  <p:nvPr/>
                </p:nvSpPr>
                <p:spPr>
                  <a:xfrm>
                    <a:off x="7696080" y="3209400"/>
                    <a:ext cx="92520" cy="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>
                    <a:off x="7696080" y="3162960"/>
                    <a:ext cx="0" cy="9288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8" name=""/>
                <p:cNvSpPr/>
                <p:nvPr/>
              </p:nvSpPr>
              <p:spPr>
                <a:xfrm>
                  <a:off x="7773120" y="3070080"/>
                  <a:ext cx="303480" cy="280800"/>
                </a:xfrm>
                <a:prstGeom prst="ellipse">
                  <a:avLst/>
                </a:prstGeom>
                <a:blipFill rotWithShape="0">
                  <a:blip r:embed="rId12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9" name=""/>
              <p:cNvGrpSpPr/>
              <p:nvPr/>
            </p:nvGrpSpPr>
            <p:grpSpPr>
              <a:xfrm>
                <a:off x="7848360" y="3222360"/>
                <a:ext cx="380520" cy="280800"/>
                <a:chOff x="7848360" y="3222360"/>
                <a:chExt cx="380520" cy="280800"/>
              </a:xfrm>
            </p:grpSpPr>
            <p:grpSp>
              <p:nvGrpSpPr>
                <p:cNvPr id="500" name=""/>
                <p:cNvGrpSpPr/>
                <p:nvPr/>
              </p:nvGrpSpPr>
              <p:grpSpPr>
                <a:xfrm>
                  <a:off x="7848360" y="3315240"/>
                  <a:ext cx="92520" cy="92880"/>
                  <a:chOff x="7848360" y="3315240"/>
                  <a:chExt cx="92520" cy="92880"/>
                </a:xfrm>
              </p:grpSpPr>
              <p:sp>
                <p:nvSpPr>
                  <p:cNvPr id="501" name=""/>
                  <p:cNvSpPr/>
                  <p:nvPr/>
                </p:nvSpPr>
                <p:spPr>
                  <a:xfrm>
                    <a:off x="7848360" y="3361680"/>
                    <a:ext cx="92520" cy="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>
                    <a:off x="7848360" y="3315240"/>
                    <a:ext cx="0" cy="9288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3" name=""/>
                <p:cNvSpPr/>
                <p:nvPr/>
              </p:nvSpPr>
              <p:spPr>
                <a:xfrm>
                  <a:off x="7925400" y="3222360"/>
                  <a:ext cx="303480" cy="280800"/>
                </a:xfrm>
                <a:prstGeom prst="ellipse">
                  <a:avLst/>
                </a:prstGeom>
                <a:blipFill rotWithShape="0">
                  <a:blip r:embed="rId13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4" name=""/>
              <p:cNvGrpSpPr/>
              <p:nvPr/>
            </p:nvGrpSpPr>
            <p:grpSpPr>
              <a:xfrm>
                <a:off x="7772040" y="2536920"/>
                <a:ext cx="380880" cy="280800"/>
                <a:chOff x="7772040" y="2536920"/>
                <a:chExt cx="380880" cy="280800"/>
              </a:xfrm>
            </p:grpSpPr>
            <p:grpSp>
              <p:nvGrpSpPr>
                <p:cNvPr id="505" name=""/>
                <p:cNvGrpSpPr/>
                <p:nvPr/>
              </p:nvGrpSpPr>
              <p:grpSpPr>
                <a:xfrm>
                  <a:off x="7772040" y="2629800"/>
                  <a:ext cx="92520" cy="92880"/>
                  <a:chOff x="7772040" y="2629800"/>
                  <a:chExt cx="92520" cy="9288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>
                    <a:off x="7772040" y="2676240"/>
                    <a:ext cx="92520" cy="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>
                    <a:off x="7772040" y="2629800"/>
                    <a:ext cx="0" cy="9288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8" name=""/>
                <p:cNvSpPr/>
                <p:nvPr/>
              </p:nvSpPr>
              <p:spPr>
                <a:xfrm>
                  <a:off x="7849080" y="2536920"/>
                  <a:ext cx="303840" cy="280800"/>
                </a:xfrm>
                <a:prstGeom prst="ellipse">
                  <a:avLst/>
                </a:prstGeom>
                <a:blipFill rotWithShape="0">
                  <a:blip r:embed="rId14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7924680" y="2689200"/>
                <a:ext cx="380520" cy="280440"/>
                <a:chOff x="7924680" y="2689200"/>
                <a:chExt cx="380520" cy="280440"/>
              </a:xfrm>
            </p:grpSpPr>
            <p:grpSp>
              <p:nvGrpSpPr>
                <p:cNvPr id="510" name=""/>
                <p:cNvGrpSpPr/>
                <p:nvPr/>
              </p:nvGrpSpPr>
              <p:grpSpPr>
                <a:xfrm>
                  <a:off x="7924680" y="2781720"/>
                  <a:ext cx="92520" cy="92520"/>
                  <a:chOff x="7924680" y="2781720"/>
                  <a:chExt cx="92520" cy="92520"/>
                </a:xfrm>
              </p:grpSpPr>
              <p:sp>
                <p:nvSpPr>
                  <p:cNvPr id="511" name=""/>
                  <p:cNvSpPr/>
                  <p:nvPr/>
                </p:nvSpPr>
                <p:spPr>
                  <a:xfrm>
                    <a:off x="7924680" y="2827800"/>
                    <a:ext cx="92520" cy="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>
                    <a:off x="7924680" y="2781720"/>
                    <a:ext cx="0" cy="9252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13" name=""/>
                <p:cNvSpPr/>
                <p:nvPr/>
              </p:nvSpPr>
              <p:spPr>
                <a:xfrm>
                  <a:off x="8001720" y="2689200"/>
                  <a:ext cx="303480" cy="280440"/>
                </a:xfrm>
                <a:prstGeom prst="ellipse">
                  <a:avLst/>
                </a:prstGeom>
                <a:blipFill rotWithShape="0">
                  <a:blip r:embed="rId15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4" name=""/>
              <p:cNvGrpSpPr/>
              <p:nvPr/>
            </p:nvGrpSpPr>
            <p:grpSpPr>
              <a:xfrm>
                <a:off x="8076960" y="2841480"/>
                <a:ext cx="380520" cy="280800"/>
                <a:chOff x="8076960" y="2841480"/>
                <a:chExt cx="380520" cy="280800"/>
              </a:xfrm>
            </p:grpSpPr>
            <p:grpSp>
              <p:nvGrpSpPr>
                <p:cNvPr id="515" name=""/>
                <p:cNvGrpSpPr/>
                <p:nvPr/>
              </p:nvGrpSpPr>
              <p:grpSpPr>
                <a:xfrm>
                  <a:off x="8076960" y="2934360"/>
                  <a:ext cx="92520" cy="92880"/>
                  <a:chOff x="8076960" y="2934360"/>
                  <a:chExt cx="92520" cy="92880"/>
                </a:xfrm>
              </p:grpSpPr>
              <p:sp>
                <p:nvSpPr>
                  <p:cNvPr id="516" name=""/>
                  <p:cNvSpPr/>
                  <p:nvPr/>
                </p:nvSpPr>
                <p:spPr>
                  <a:xfrm>
                    <a:off x="8076960" y="2980800"/>
                    <a:ext cx="92520" cy="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>
                    <a:off x="8076960" y="2934360"/>
                    <a:ext cx="0" cy="9288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18" name=""/>
                <p:cNvSpPr/>
                <p:nvPr/>
              </p:nvSpPr>
              <p:spPr>
                <a:xfrm>
                  <a:off x="8154000" y="2841480"/>
                  <a:ext cx="303480" cy="280800"/>
                </a:xfrm>
                <a:prstGeom prst="ellipse">
                  <a:avLst/>
                </a:prstGeom>
                <a:blipFill rotWithShape="0">
                  <a:blip r:embed="rId16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9" name=""/>
              <p:cNvGrpSpPr/>
              <p:nvPr/>
            </p:nvGrpSpPr>
            <p:grpSpPr>
              <a:xfrm>
                <a:off x="8229240" y="2993760"/>
                <a:ext cx="380880" cy="280800"/>
                <a:chOff x="8229240" y="2993760"/>
                <a:chExt cx="380880" cy="280800"/>
              </a:xfrm>
            </p:grpSpPr>
            <p:grpSp>
              <p:nvGrpSpPr>
                <p:cNvPr id="520" name=""/>
                <p:cNvGrpSpPr/>
                <p:nvPr/>
              </p:nvGrpSpPr>
              <p:grpSpPr>
                <a:xfrm>
                  <a:off x="8229240" y="3086640"/>
                  <a:ext cx="92520" cy="92880"/>
                  <a:chOff x="8229240" y="3086640"/>
                  <a:chExt cx="92520" cy="92880"/>
                </a:xfrm>
              </p:grpSpPr>
              <p:sp>
                <p:nvSpPr>
                  <p:cNvPr id="521" name=""/>
                  <p:cNvSpPr/>
                  <p:nvPr/>
                </p:nvSpPr>
                <p:spPr>
                  <a:xfrm>
                    <a:off x="8229240" y="3133080"/>
                    <a:ext cx="92520" cy="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8229240" y="3086640"/>
                    <a:ext cx="0" cy="9288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23" name=""/>
                <p:cNvSpPr/>
                <p:nvPr/>
              </p:nvSpPr>
              <p:spPr>
                <a:xfrm>
                  <a:off x="8306280" y="2993760"/>
                  <a:ext cx="303840" cy="280800"/>
                </a:xfrm>
                <a:prstGeom prst="ellipse">
                  <a:avLst/>
                </a:prstGeom>
                <a:blipFill rotWithShape="0">
                  <a:blip r:embed="rId17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... one remote call ... and no proxies creat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57200" y="2765520"/>
            <a:ext cx="1295280" cy="2098440"/>
          </a:xfrm>
          <a:prstGeom prst="rect">
            <a:avLst/>
          </a:prstGeom>
          <a:solidFill>
            <a:srgbClr val="ff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03840" y="2232000"/>
            <a:ext cx="103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523880" y="3603600"/>
            <a:ext cx="4496040" cy="7632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80880" y="3657600"/>
            <a:ext cx="140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Booking ID and owner inform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0T18:00:39Z</dcterms:created>
  <dc:creator>clewis</dc:creator>
  <dc:description/>
  <dc:language>en-US</dc:language>
  <cp:lastModifiedBy>Sean Baker</cp:lastModifiedBy>
  <cp:lastPrinted>1999-08-03T08:31:23Z</cp:lastPrinted>
  <dcterms:modified xsi:type="dcterms:W3CDTF">1999-09-08T10:15:18Z</dcterms:modified>
  <cp:revision>171</cp:revision>
  <dc:subject/>
  <dc:title>No Slide Title</dc:title>
</cp:coreProperties>
</file>