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773600" y="5638680"/>
            <a:ext cx="4365360" cy="1219320"/>
            <a:chOff x="4773600" y="5638680"/>
            <a:chExt cx="4365360" cy="121932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943760" y="5638680"/>
              <a:ext cx="11952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4773600" y="6509520"/>
              <a:ext cx="333324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The World Leader in Making Software Work Together ™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-244800" y="65214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83C0-86E6-43EA-9920-0A3DA6D31FC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0040" y="655308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IONA Technologies 1998-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 (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BA and Databa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3505320" y="3200400"/>
            <a:ext cx="4495680" cy="2514600"/>
            <a:chOff x="3505320" y="3200400"/>
            <a:chExt cx="4495680" cy="2514600"/>
          </a:xfrm>
        </p:grpSpPr>
        <p:sp>
          <p:nvSpPr>
            <p:cNvPr id="145" name=""/>
            <p:cNvSpPr/>
            <p:nvPr/>
          </p:nvSpPr>
          <p:spPr>
            <a:xfrm>
              <a:off x="3505320" y="3200400"/>
              <a:ext cx="4495680" cy="2514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86200" y="5029200"/>
              <a:ext cx="335268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OR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86200" y="4648320"/>
              <a:ext cx="335268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O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vant Acti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rvants can be deactivated and activated without effecting their accessibility by cli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3505320"/>
            <a:ext cx="790560" cy="72864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14680" y="3602160"/>
            <a:ext cx="8420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2" name=""/>
          <p:cNvCxnSpPr/>
          <p:nvPr/>
        </p:nvCxnSpPr>
        <p:spPr>
          <a:xfrm>
            <a:off x="380520" y="5029200"/>
            <a:ext cx="4801320" cy="2160"/>
          </a:xfrm>
          <a:prstGeom prst="bentConnector4">
            <a:avLst>
              <a:gd name="adj1" fmla="val 32535"/>
              <a:gd name="adj2" fmla="val 7540000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 flipV="1">
            <a:off x="5867280" y="4114440"/>
            <a:ext cx="60984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tails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2057400"/>
            <a:ext cx="790560" cy="72864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191120" y="1752480"/>
            <a:ext cx="4267080" cy="3886200"/>
            <a:chOff x="4191120" y="1752480"/>
            <a:chExt cx="4267080" cy="3886200"/>
          </a:xfrm>
        </p:grpSpPr>
        <p:sp>
          <p:nvSpPr>
            <p:cNvPr id="157" name=""/>
            <p:cNvSpPr/>
            <p:nvPr/>
          </p:nvSpPr>
          <p:spPr>
            <a:xfrm>
              <a:off x="4191120" y="1752480"/>
              <a:ext cx="4267080" cy="3886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24280" y="4952880"/>
              <a:ext cx="3048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OR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24280" y="4572000"/>
              <a:ext cx="304812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O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95680" y="3048120"/>
              <a:ext cx="2133720" cy="457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ervant 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 flipV="1">
            <a:off x="5257800" y="3504960"/>
            <a:ext cx="4572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>
            <a:off x="685440" y="4572000"/>
            <a:ext cx="5182200" cy="381600"/>
          </a:xfrm>
          <a:prstGeom prst="bentConnector4">
            <a:avLst>
              <a:gd name="adj1" fmla="val 35292"/>
              <a:gd name="adj2" fmla="val 379508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4658400" y="38098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477120" y="2743200"/>
            <a:ext cx="685800" cy="1828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71880" y="2217600"/>
            <a:ext cx="8420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ct References, Keys and I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bjects are identified as follows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1680" y="1944720"/>
            <a:ext cx="8275320" cy="9507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84400" y="2090880"/>
            <a:ext cx="5280120" cy="6588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63960" y="2211480"/>
            <a:ext cx="3321000" cy="41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31240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 marL="54720" indent="-547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ID must be sufficient to locate the serv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800" indent="-4572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.g., in the data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800" indent="-45720"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20" indent="-547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Servant Manager can choose the 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800" indent="-4572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“object’s” key in an RDB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800" indent="-4572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object’s identifier in an ODB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800" indent="-4572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inds of th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 (B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inds of CORBA obje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ransient CORBA obje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ften their servants don’t have persistent stat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y do not outlive the server proc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955440" indent="-2008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y may even have a shorter lifespa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.g., an iterator over the result of a que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client cannot safely hold a reference for a long period of ti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ersistent CORBA obje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ents can safely hold references for long perio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y may be static in the server, or incarnated when needed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5320" y="871560"/>
            <a:ext cx="2668680" cy="642600"/>
          </a:xfrm>
          <a:prstGeom prst="borderCallout1">
            <a:avLst>
              <a:gd name="adj1" fmla="val 18750"/>
              <a:gd name="adj2" fmla="val -8333"/>
              <a:gd name="adj3" fmla="val 37569"/>
              <a:gd name="adj4" fmla="val -35212"/>
            </a:avLst>
          </a:prstGeom>
          <a:solidFill>
            <a:srgbClr val="35cbc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on’t put them in the Naming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inds of Serv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atefu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as application level st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atel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as no application level st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ut may hold a databas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 it knows what changes to make to the databa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stateless object can be removed from memory without loosing da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antages of Stateless Serv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y can easily be removed from M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database is updated during each modifying operation cal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 queries against the database will see up to date inform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6440" y="4226040"/>
            <a:ext cx="77929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isadvanta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 caching of data at the application level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We depend entirely on the DB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Database Integ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6680" y="90504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ad objects statical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se can read/modify data in the DB to initialize themselves, and/or to implement their opera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CORBA object loading another from the DB in preparation of an invocation being made on i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ading CORBA objects from the DB when invocations are made to th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5280" y="998640"/>
            <a:ext cx="295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53966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5280" y="3594240"/>
            <a:ext cx="295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53966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5280" y="5129280"/>
            <a:ext cx="295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53966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... Loading (cont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718920"/>
            <a:ext cx="7772400" cy="17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interface FrontOffice {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typedef long BookingID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BookingID makeBooking (.....)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2520" y="4932360"/>
            <a:ext cx="60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interface Booking {.....}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interface FrontOffi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Booking makeBooking (....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4620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60960" y="4869000"/>
            <a:ext cx="30830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rontOffic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- statically lo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oo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Load objects when they 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voked up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2880" y="2895480"/>
            <a:ext cx="658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interface Booking {.....}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interface FrontOffi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Booking makeBooking (.....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Booking getBookingByID (....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7847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21880" y="934920"/>
            <a:ext cx="35960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tically load the FrontOffice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24600" y="2498760"/>
            <a:ext cx="40194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rontOffic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- statically lo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oo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load objects in getBookingByI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make them transient CORBA objec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e of PO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 (C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As allow you to create high performance and scalable syste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maller systems will mak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ver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simple use of PO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ckground info on CORBA and Databa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A’s Active Object Ma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458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call the default way that objects are found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60320" y="2190600"/>
            <a:ext cx="7720200" cy="3359160"/>
            <a:chOff x="760320" y="2190600"/>
            <a:chExt cx="7720200" cy="3359160"/>
          </a:xfrm>
        </p:grpSpPr>
        <p:sp>
          <p:nvSpPr>
            <p:cNvPr id="201" name=""/>
            <p:cNvSpPr/>
            <p:nvPr/>
          </p:nvSpPr>
          <p:spPr>
            <a:xfrm>
              <a:off x="760320" y="2190600"/>
              <a:ext cx="7720200" cy="3359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39760" y="2320920"/>
              <a:ext cx="7072200" cy="2786040"/>
            </a:xfrm>
            <a:custGeom>
              <a:avLst/>
              <a:gdLst/>
              <a:ahLst/>
              <a:rect l="l" t="t" r="r" b="b"/>
              <a:pathLst>
                <a:path w="4455" h="1755">
                  <a:moveTo>
                    <a:pt x="0" y="1751"/>
                  </a:moveTo>
                  <a:lnTo>
                    <a:pt x="4455" y="1755"/>
                  </a:lnTo>
                  <a:lnTo>
                    <a:pt x="4455" y="1489"/>
                  </a:lnTo>
                  <a:lnTo>
                    <a:pt x="1966" y="1486"/>
                  </a:lnTo>
                  <a:lnTo>
                    <a:pt x="1966" y="1"/>
                  </a:lnTo>
                  <a:lnTo>
                    <a:pt x="0" y="0"/>
                  </a:lnTo>
                  <a:lnTo>
                    <a:pt x="0" y="175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38320" y="5095800"/>
              <a:ext cx="7081920" cy="365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OR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54760" y="2698920"/>
              <a:ext cx="381240" cy="3506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47280" y="2244600"/>
              <a:ext cx="9928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serva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340000" y="2682720"/>
              <a:ext cx="1752480" cy="1143000"/>
              <a:chOff x="2340000" y="2682720"/>
              <a:chExt cx="1752480" cy="1143000"/>
            </a:xfrm>
          </p:grpSpPr>
          <p:sp>
            <p:nvSpPr>
              <p:cNvPr id="207" name=""/>
              <p:cNvSpPr/>
              <p:nvPr/>
            </p:nvSpPr>
            <p:spPr>
              <a:xfrm>
                <a:off x="2340000" y="2682720"/>
                <a:ext cx="1752480" cy="228600"/>
              </a:xfrm>
              <a:prstGeom prst="rect">
                <a:avLst/>
              </a:prstGeom>
              <a:solidFill>
                <a:srgbClr val="35cbc4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340000" y="2911320"/>
                <a:ext cx="1752480" cy="228600"/>
              </a:xfrm>
              <a:prstGeom prst="rect">
                <a:avLst/>
              </a:prstGeom>
              <a:solidFill>
                <a:srgbClr val="35cbc4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340000" y="3139920"/>
                <a:ext cx="1752480" cy="228600"/>
              </a:xfrm>
              <a:prstGeom prst="rect">
                <a:avLst/>
              </a:prstGeom>
              <a:solidFill>
                <a:srgbClr val="35cbc4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340000" y="3368520"/>
                <a:ext cx="1752480" cy="228600"/>
              </a:xfrm>
              <a:prstGeom prst="rect">
                <a:avLst/>
              </a:prstGeom>
              <a:solidFill>
                <a:srgbClr val="35cbc4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340000" y="3597120"/>
                <a:ext cx="1752480" cy="228600"/>
              </a:xfrm>
              <a:prstGeom prst="rect">
                <a:avLst/>
              </a:prstGeom>
              <a:solidFill>
                <a:srgbClr val="35cbc4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7145280" y="2927520"/>
              <a:ext cx="380880" cy="3506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02480" y="3308400"/>
              <a:ext cx="380880" cy="3506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16680" y="3454560"/>
              <a:ext cx="380880" cy="3506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11760" y="2622600"/>
              <a:ext cx="381240" cy="3506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878280" y="2758680"/>
              <a:ext cx="2765520" cy="25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863880" y="2866680"/>
              <a:ext cx="3921120" cy="120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3863880" y="3124080"/>
              <a:ext cx="3235320" cy="168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3863880" y="3457080"/>
              <a:ext cx="3737160" cy="63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948120" y="3634920"/>
              <a:ext cx="2984400" cy="73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12280" y="2801880"/>
              <a:ext cx="842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Ma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03640" y="474192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O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 flipV="1">
            <a:off x="4559400" y="3757680"/>
            <a:ext cx="2466720" cy="922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4" name=""/>
          <p:cNvCxnSpPr/>
          <p:nvPr/>
        </p:nvCxnSpPr>
        <p:spPr>
          <a:xfrm flipV="1">
            <a:off x="-360" y="5100120"/>
            <a:ext cx="3947400" cy="751680"/>
          </a:xfrm>
          <a:prstGeom prst="bentConnector3">
            <a:avLst>
              <a:gd name="adj1" fmla="val 997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 rot="16200000">
            <a:off x="2350440" y="4129560"/>
            <a:ext cx="1137960" cy="593640"/>
          </a:xfrm>
          <a:custGeom>
            <a:avLst/>
            <a:gdLst>
              <a:gd name="textAreaLeft" fmla="*/ 142200 w 1137960"/>
              <a:gd name="textAreaRight" fmla="*/ 995760 w 1137960"/>
              <a:gd name="textAreaTop" fmla="*/ 148320 h 593640"/>
              <a:gd name="textAreaBottom" fmla="*/ 445320 h 593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ntroduce a Servant Manag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4960" y="1142640"/>
            <a:ext cx="887904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.. to handle object faults by activating the serva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0320" y="2190600"/>
            <a:ext cx="7720200" cy="33591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39760" y="2320920"/>
            <a:ext cx="7072200" cy="2786040"/>
          </a:xfrm>
          <a:custGeom>
            <a:avLst/>
            <a:gdLst/>
            <a:ahLst/>
            <a:rect l="l" t="t" r="r" b="b"/>
            <a:pathLst>
              <a:path w="4455" h="1755">
                <a:moveTo>
                  <a:pt x="0" y="1751"/>
                </a:moveTo>
                <a:lnTo>
                  <a:pt x="4455" y="1755"/>
                </a:lnTo>
                <a:lnTo>
                  <a:pt x="4455" y="1489"/>
                </a:lnTo>
                <a:lnTo>
                  <a:pt x="1966" y="1486"/>
                </a:lnTo>
                <a:lnTo>
                  <a:pt x="1966" y="1"/>
                </a:lnTo>
                <a:lnTo>
                  <a:pt x="0" y="0"/>
                </a:lnTo>
                <a:lnTo>
                  <a:pt x="0" y="1751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38320" y="5095800"/>
            <a:ext cx="7081920" cy="3650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R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54760" y="2698920"/>
            <a:ext cx="381240" cy="35064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47280" y="2244600"/>
            <a:ext cx="9928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rv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340000" y="2682720"/>
            <a:ext cx="1752480" cy="1143000"/>
            <a:chOff x="2340000" y="2682720"/>
            <a:chExt cx="1752480" cy="1143000"/>
          </a:xfrm>
        </p:grpSpPr>
        <p:sp>
          <p:nvSpPr>
            <p:cNvPr id="234" name=""/>
            <p:cNvSpPr/>
            <p:nvPr/>
          </p:nvSpPr>
          <p:spPr>
            <a:xfrm>
              <a:off x="2340000" y="2682720"/>
              <a:ext cx="1752480" cy="228600"/>
            </a:xfrm>
            <a:prstGeom prst="rect">
              <a:avLst/>
            </a:prstGeom>
            <a:solidFill>
              <a:srgbClr val="35cbc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40000" y="2911320"/>
              <a:ext cx="1752480" cy="228600"/>
            </a:xfrm>
            <a:prstGeom prst="rect">
              <a:avLst/>
            </a:prstGeom>
            <a:solidFill>
              <a:srgbClr val="35cbc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40000" y="3139920"/>
              <a:ext cx="1752480" cy="228600"/>
            </a:xfrm>
            <a:prstGeom prst="rect">
              <a:avLst/>
            </a:prstGeom>
            <a:solidFill>
              <a:srgbClr val="35cbc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40000" y="3368520"/>
              <a:ext cx="1752480" cy="228600"/>
            </a:xfrm>
            <a:prstGeom prst="rect">
              <a:avLst/>
            </a:prstGeom>
            <a:solidFill>
              <a:srgbClr val="35cbc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40000" y="3597120"/>
              <a:ext cx="1752480" cy="228600"/>
            </a:xfrm>
            <a:prstGeom prst="rect">
              <a:avLst/>
            </a:prstGeom>
            <a:solidFill>
              <a:srgbClr val="35cbc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7145280" y="2927520"/>
            <a:ext cx="380880" cy="35064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02480" y="3308400"/>
            <a:ext cx="380880" cy="35064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16680" y="3454560"/>
            <a:ext cx="380880" cy="35064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11760" y="2622600"/>
            <a:ext cx="381240" cy="35064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878280" y="2758680"/>
            <a:ext cx="2765520" cy="25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863880" y="2866680"/>
            <a:ext cx="3921120" cy="120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863880" y="3124080"/>
            <a:ext cx="3235320" cy="1684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863880" y="3457080"/>
            <a:ext cx="3737160" cy="63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948120" y="3634920"/>
            <a:ext cx="2984400" cy="73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12280" y="2801880"/>
            <a:ext cx="84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41600" y="47419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09920" y="3763800"/>
            <a:ext cx="2325960" cy="87336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rvant Mana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Servant Activa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67560" y="3871800"/>
            <a:ext cx="380880" cy="35100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2350440" y="4129560"/>
            <a:ext cx="1137960" cy="593640"/>
          </a:xfrm>
          <a:custGeom>
            <a:avLst/>
            <a:gdLst>
              <a:gd name="textAreaLeft" fmla="*/ 142200 w 1137960"/>
              <a:gd name="textAreaRight" fmla="*/ 995760 w 1137960"/>
              <a:gd name="textAreaTop" fmla="*/ 148320 h 593640"/>
              <a:gd name="textAreaBottom" fmla="*/ 445320 h 593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8000000">
            <a:off x="3159000" y="409860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i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336760" y="2460600"/>
            <a:ext cx="5272200" cy="1542960"/>
            <a:chOff x="2336760" y="2460600"/>
            <a:chExt cx="5272200" cy="1542960"/>
          </a:xfrm>
        </p:grpSpPr>
        <p:sp>
          <p:nvSpPr>
            <p:cNvPr id="255" name=""/>
            <p:cNvSpPr/>
            <p:nvPr/>
          </p:nvSpPr>
          <p:spPr>
            <a:xfrm>
              <a:off x="2336760" y="2460600"/>
              <a:ext cx="1752480" cy="228600"/>
            </a:xfrm>
            <a:prstGeom prst="rect">
              <a:avLst/>
            </a:prstGeom>
            <a:solidFill>
              <a:srgbClr val="35cbc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7280" y="2610000"/>
              <a:ext cx="3811680" cy="1393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257" name=""/>
          <p:cNvCxnSpPr/>
          <p:nvPr/>
        </p:nvCxnSpPr>
        <p:spPr>
          <a:xfrm flipV="1">
            <a:off x="-360" y="5100120"/>
            <a:ext cx="3947400" cy="751680"/>
          </a:xfrm>
          <a:prstGeom prst="bentConnector3">
            <a:avLst>
              <a:gd name="adj1" fmla="val 997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8" name=""/>
          <p:cNvSpPr/>
          <p:nvPr/>
        </p:nvSpPr>
        <p:spPr>
          <a:xfrm flipV="1">
            <a:off x="5041800" y="4485960"/>
            <a:ext cx="576360" cy="392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918480" y="4146480"/>
            <a:ext cx="715680" cy="627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60320" y="2190600"/>
            <a:ext cx="7720200" cy="33591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38320" y="5095800"/>
            <a:ext cx="7081920" cy="3650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R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754760" y="2698920"/>
            <a:ext cx="381240" cy="35064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47280" y="2244600"/>
            <a:ext cx="9928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rv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45280" y="2927520"/>
            <a:ext cx="380880" cy="35064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02480" y="3308400"/>
            <a:ext cx="380880" cy="35064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16680" y="3454560"/>
            <a:ext cx="380880" cy="35064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11760" y="2622600"/>
            <a:ext cx="381240" cy="35064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71440" y="2343240"/>
            <a:ext cx="4137120" cy="229392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rvant Mana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Servant Activa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38320" y="4732200"/>
            <a:ext cx="7081920" cy="365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782960" y="2758680"/>
            <a:ext cx="1860840" cy="41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816440" y="2866680"/>
            <a:ext cx="2968560" cy="136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816440" y="3124080"/>
            <a:ext cx="2282760" cy="122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832280" y="3457080"/>
            <a:ext cx="2768760" cy="17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807080" y="3634920"/>
            <a:ext cx="2125440" cy="572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34960" y="2590920"/>
            <a:ext cx="360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ervant Manager may use a table of some sort to find the servants or it may be able to find them in some other w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67560" y="3871800"/>
            <a:ext cx="380880" cy="35100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50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... But the Active Object Map may be inappropri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31760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lect a policy that removes it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9480" y="3765600"/>
            <a:ext cx="3219480" cy="2379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0" name=""/>
          <p:cNvCxnSpPr/>
          <p:nvPr/>
        </p:nvCxnSpPr>
        <p:spPr>
          <a:xfrm flipV="1">
            <a:off x="-360" y="5100120"/>
            <a:ext cx="3947400" cy="751680"/>
          </a:xfrm>
          <a:prstGeom prst="bentConnector3">
            <a:avLst>
              <a:gd name="adj1" fmla="val 997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 flipV="1">
            <a:off x="6918480" y="4146480"/>
            <a:ext cx="715680" cy="627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4242960" y="4252680"/>
            <a:ext cx="49320" cy="672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vi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rvants can be deactivated when the invocation is finishe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 they can stay activate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.. and be deactivated lat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.g., if the server is running out of memory then some servants can be chosen to be evicte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s is easier for stateless servant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ictor Patte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22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cord all of the currently loaded servant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ad a servant on dema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ut remove an existing one if you don’t have the space to load the newly required o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se some “victim selection algorithm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.g.,   fixed size pool, and LR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f the Servant Manager maintains the Object Map then it can implement the Evictor Pattern itself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f the POA maintains its Active Object Map then the servants must also be involved in the pattern implement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ld we survive with just one Serv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0476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se a “default servant” .... a catch al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0320" y="2190600"/>
            <a:ext cx="7720200" cy="33591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38320" y="5095800"/>
            <a:ext cx="7081920" cy="3650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R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50680" y="2448000"/>
            <a:ext cx="16866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fault serv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13240" y="3032280"/>
            <a:ext cx="1076400" cy="99036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38320" y="4732200"/>
            <a:ext cx="7081920" cy="365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4" name=""/>
          <p:cNvCxnSpPr/>
          <p:nvPr/>
        </p:nvCxnSpPr>
        <p:spPr>
          <a:xfrm flipV="1">
            <a:off x="-360" y="5100120"/>
            <a:ext cx="3947400" cy="751680"/>
          </a:xfrm>
          <a:prstGeom prst="bentConnector3">
            <a:avLst>
              <a:gd name="adj1" fmla="val 997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 flipH="1" flipV="1">
            <a:off x="4119120" y="3987720"/>
            <a:ext cx="173160" cy="938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90520" y="601200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A’s Active Object Map is opt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4720" y="2308320"/>
            <a:ext cx="2568600" cy="2288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default servant uses POA calls to determine the identify of the target object -- and assumes it’s identify for the duration of the call (or passes the call to another object to handle i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PO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ou can have multiple POAs per address spa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ach POA represents a grouping of objects with similar characteristic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ach POA has a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olic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at contro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39000" indent="-245520">
              <a:lnSpc>
                <a:spcPct val="6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ether an active object map is maintaine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39000" indent="-245520">
              <a:lnSpc>
                <a:spcPct val="6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rvant manager or default servant or neith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39000" indent="-245520">
              <a:lnSpc>
                <a:spcPct val="6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D management: application or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39000" indent="-245520">
              <a:lnSpc>
                <a:spcPct val="6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read allocation : single or mult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39000" indent="-245520">
              <a:lnSpc>
                <a:spcPct val="6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ansient or persistent CORBA obje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39000" indent="-245520">
              <a:lnSpc>
                <a:spcPct val="6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.g., you may have a POA per DB;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 per type;  et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 aside :      BOA ORB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milar support, but it’s proprieta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bix 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ses loaders/filters to writ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object adapt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ocate object key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andle object faul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trol transactions (if OTS isn’t us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abases not just Persistent Sto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 far, much of what we have said relates to Persistent Stores as much as it does to DBM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 DBMSs, we must add support f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ue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ansac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r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ffect the caching mechani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f we cache data in MM objects, and we don’t have exclusive access to the DB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n we need to flush the data at the end of each transac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also after each update if the server itself wants to make a query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me recent CORBA chan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A - portable object adapt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rva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rvant Manag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fault Serva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OTS (Object Transaction Service) will co-ordinate commits across multiple DB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ou can also introduce your own Resource Manager to co-ordinate rollbacks to cached da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register this with the co-ordinator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s is real rocket science stuff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integrate CORBA and Database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 (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10800" y="65160"/>
            <a:ext cx="5402520" cy="1392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BA and Databa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re are two views of why CORBA and Databases need to be integrate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the CORBA viewpoi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the Database viewpoi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rom the CORBA viewpoi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re is an obvious need to store the data of </a:t>
            </a:r>
            <a:r>
              <a:rPr b="0" lang="en-US" sz="3200" spc="-1" strike="noStrike">
                <a:solidFill>
                  <a:srgbClr val="ffff00"/>
                </a:solidFill>
                <a:latin typeface="Courier New"/>
              </a:rPr>
              <a:t>FrontOffic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objects in some databa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 that the current state of the bookings for the theater can be recorde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7920" y="3497400"/>
            <a:ext cx="355320" cy="417960"/>
          </a:xfrm>
          <a:prstGeom prst="rect">
            <a:avLst/>
          </a:prstGeom>
          <a:solidFill>
            <a:srgbClr val="fee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 York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2000" y="65160"/>
            <a:ext cx="6721560" cy="1392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om the Database viewpoi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rom the Database viewpoi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ou wish to gain the benefits of CORB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1560" indent="-2102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ase of working across operating syste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1560" indent="-2102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ase of working across programming langua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1560" indent="-2102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ase of programming distributed syste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1560" indent="-2102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essaging technolog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1560" indent="-2102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cy system integr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1560" indent="-2102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ight connection to Windows O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1560" indent="-2102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andards based distribu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1560" indent="-2102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ight-weight cli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3920" y="965160"/>
            <a:ext cx="355320" cy="417960"/>
          </a:xfrm>
          <a:prstGeom prst="rect">
            <a:avLst/>
          </a:prstGeom>
          <a:solidFill>
            <a:srgbClr val="fee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 Yor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31560" y="65160"/>
            <a:ext cx="4768920" cy="1392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ODB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860040"/>
            <a:ext cx="8458200" cy="15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me DBMSs do not support distribu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ut many d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s support for distribution is different to the CORBA mod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 fact they compliment each other very well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71720" y="3971880"/>
            <a:ext cx="41256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33480" y="3971880"/>
            <a:ext cx="41292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95600" y="3971880"/>
            <a:ext cx="41256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7720" y="3971880"/>
            <a:ext cx="41256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19480" y="3971880"/>
            <a:ext cx="41292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81600" y="3971880"/>
            <a:ext cx="41256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5486400"/>
            <a:ext cx="608040" cy="584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prstDash val="dash"/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79640" y="5486400"/>
            <a:ext cx="608040" cy="584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54520" y="5486400"/>
            <a:ext cx="608040" cy="584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prstDash val="dash"/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112920" y="4668840"/>
            <a:ext cx="141480" cy="704520"/>
            <a:chOff x="3112920" y="4668840"/>
            <a:chExt cx="141480" cy="704520"/>
          </a:xfrm>
        </p:grpSpPr>
        <p:sp>
          <p:nvSpPr>
            <p:cNvPr id="328" name=""/>
            <p:cNvSpPr/>
            <p:nvPr/>
          </p:nvSpPr>
          <p:spPr>
            <a:xfrm>
              <a:off x="3112920" y="4668840"/>
              <a:ext cx="0" cy="70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254400" y="4668840"/>
              <a:ext cx="0" cy="70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3438000" y="4897440"/>
            <a:ext cx="20804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Data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30200" y="3700440"/>
            <a:ext cx="17892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ch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873400" y="5494320"/>
            <a:ext cx="17330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chine(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3960" y="3200400"/>
            <a:ext cx="37461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Distributed Object 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766680" y="65160"/>
            <a:ext cx="1492200" cy="1392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831600"/>
            <a:ext cx="8686800" cy="560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n the clients run on small machines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ill the system scale if the data contention between clients is high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ill it run over a WAN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the complexity of the data manipulation at the client sufficient to justify the data transfer to the client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it OK to write all of the clients in the same programming language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or the few languages supported by the chosen OODBMS?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n the clients be written to closely tie-in with OLE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n we access the database from VBA in Excel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n you bridge all boundaries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stock exchange wants 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ublish an interfa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say how it is implemente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-6120" y="685800"/>
            <a:ext cx="5061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New York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0840" y="65160"/>
            <a:ext cx="8184960" cy="1392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ght-weight Clients using CORB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95520" y="2538360"/>
            <a:ext cx="41256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57280" y="2538360"/>
            <a:ext cx="41292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19400" y="2538360"/>
            <a:ext cx="41292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1520" y="2538360"/>
            <a:ext cx="41256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43280" y="2538360"/>
            <a:ext cx="41292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5400" y="2538360"/>
            <a:ext cx="41292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27120" y="4052880"/>
            <a:ext cx="609840" cy="5857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prstDash val="dash"/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02000" y="4052880"/>
            <a:ext cx="609480" cy="5857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76880" y="4052880"/>
            <a:ext cx="608040" cy="5857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prstDash val="dash"/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635280" y="3236760"/>
            <a:ext cx="142920" cy="703080"/>
            <a:chOff x="3635280" y="3236760"/>
            <a:chExt cx="142920" cy="703080"/>
          </a:xfrm>
        </p:grpSpPr>
        <p:sp>
          <p:nvSpPr>
            <p:cNvPr id="348" name=""/>
            <p:cNvSpPr/>
            <p:nvPr/>
          </p:nvSpPr>
          <p:spPr>
            <a:xfrm>
              <a:off x="3635280" y="3236760"/>
              <a:ext cx="0" cy="70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78200" y="3236760"/>
              <a:ext cx="0" cy="70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877200" y="3463920"/>
            <a:ext cx="20804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Data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14480" y="812880"/>
            <a:ext cx="17892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ch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28880" y="4130640"/>
            <a:ext cx="17330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chine(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5019840"/>
            <a:ext cx="778032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New Yor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clients send operation invo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New Yor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all of the advantages of CORBA (bridging boundaries; interfaces; msg; standards; . . .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New Yor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you are publishing interfaces, not implemen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22200" y="1143000"/>
            <a:ext cx="41436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67040" y="1143000"/>
            <a:ext cx="41436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11520" y="1143000"/>
            <a:ext cx="41256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56000" y="1143000"/>
            <a:ext cx="41256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00480" y="1143000"/>
            <a:ext cx="41292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43520" y="1143000"/>
            <a:ext cx="41436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88000" y="1143000"/>
            <a:ext cx="41436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3618000" y="1781280"/>
            <a:ext cx="141120" cy="704520"/>
            <a:chOff x="3618000" y="1781280"/>
            <a:chExt cx="141120" cy="704520"/>
          </a:xfrm>
        </p:grpSpPr>
        <p:sp>
          <p:nvSpPr>
            <p:cNvPr id="362" name=""/>
            <p:cNvSpPr/>
            <p:nvPr/>
          </p:nvSpPr>
          <p:spPr>
            <a:xfrm>
              <a:off x="3618000" y="1781280"/>
              <a:ext cx="0" cy="70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59120" y="1781280"/>
              <a:ext cx="0" cy="70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6459120" y="2435400"/>
            <a:ext cx="25772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R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- direct access to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72880" y="1889280"/>
            <a:ext cx="2339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Operation ca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47400" y="65160"/>
            <a:ext cx="4738680" cy="1392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RDB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984320" y="1501920"/>
            <a:ext cx="1937880" cy="464760"/>
            <a:chOff x="1984320" y="1501920"/>
            <a:chExt cx="1937880" cy="464760"/>
          </a:xfrm>
        </p:grpSpPr>
        <p:sp>
          <p:nvSpPr>
            <p:cNvPr id="368" name=""/>
            <p:cNvSpPr/>
            <p:nvPr/>
          </p:nvSpPr>
          <p:spPr>
            <a:xfrm>
              <a:off x="1984320" y="1501920"/>
              <a:ext cx="413280" cy="464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746440" y="1501920"/>
              <a:ext cx="413640" cy="464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08920" y="1501920"/>
              <a:ext cx="413280" cy="464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701720" y="2997360"/>
            <a:ext cx="608040" cy="5839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prstDash val="dash"/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76600" y="2997360"/>
            <a:ext cx="608040" cy="5839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651120" y="2997360"/>
            <a:ext cx="608040" cy="5839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prstDash val="dash"/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6524640" y="2158920"/>
            <a:ext cx="141120" cy="704520"/>
            <a:chOff x="6524640" y="2158920"/>
            <a:chExt cx="141120" cy="704520"/>
          </a:xfrm>
        </p:grpSpPr>
        <p:sp>
          <p:nvSpPr>
            <p:cNvPr id="375" name=""/>
            <p:cNvSpPr/>
            <p:nvPr/>
          </p:nvSpPr>
          <p:spPr>
            <a:xfrm>
              <a:off x="6524640" y="2158920"/>
              <a:ext cx="0" cy="70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65760" y="2158920"/>
              <a:ext cx="0" cy="70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107520" y="2362320"/>
            <a:ext cx="18990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SQL que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599080" y="1501920"/>
            <a:ext cx="1937880" cy="464760"/>
            <a:chOff x="5599080" y="1501920"/>
            <a:chExt cx="1937880" cy="464760"/>
          </a:xfrm>
        </p:grpSpPr>
        <p:sp>
          <p:nvSpPr>
            <p:cNvPr id="379" name=""/>
            <p:cNvSpPr/>
            <p:nvPr/>
          </p:nvSpPr>
          <p:spPr>
            <a:xfrm>
              <a:off x="5599080" y="1501920"/>
              <a:ext cx="413280" cy="464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61200" y="1501920"/>
              <a:ext cx="413640" cy="464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23680" y="1501920"/>
              <a:ext cx="413280" cy="464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5316480" y="2997360"/>
            <a:ext cx="608040" cy="5839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prstDash val="dash"/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91360" y="2997360"/>
            <a:ext cx="608040" cy="5839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265880" y="2997360"/>
            <a:ext cx="608040" cy="5839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prstDash val="dash"/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890800" y="2179800"/>
            <a:ext cx="142920" cy="704160"/>
            <a:chOff x="2890800" y="2179800"/>
            <a:chExt cx="142920" cy="704160"/>
          </a:xfrm>
        </p:grpSpPr>
        <p:sp>
          <p:nvSpPr>
            <p:cNvPr id="386" name=""/>
            <p:cNvSpPr/>
            <p:nvPr/>
          </p:nvSpPr>
          <p:spPr>
            <a:xfrm>
              <a:off x="2890800" y="2179800"/>
              <a:ext cx="0" cy="70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33720" y="2179800"/>
              <a:ext cx="0" cy="70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4480" y="1371600"/>
            <a:ext cx="18990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QL que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ecu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cl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1160" y="2362320"/>
            <a:ext cx="20804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Data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25880" y="1295280"/>
            <a:ext cx="0" cy="2605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4419720"/>
            <a:ext cx="7476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Same advantage of adding CORBA as with ODBM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New Y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bridging bound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New Y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exposing interfaces, not implemen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New Y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we are not exposing a database 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New Y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messaging technologi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New Y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01960" y="752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238880" cy="660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ght-weight Clients - summa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39840" y="3030480"/>
            <a:ext cx="41436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01960" y="3030480"/>
            <a:ext cx="41436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63720" y="3030480"/>
            <a:ext cx="41436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57240" y="4525920"/>
            <a:ext cx="608040" cy="5857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prstDash val="dash"/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32120" y="4525920"/>
            <a:ext cx="608040" cy="5857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06640" y="4525920"/>
            <a:ext cx="608040" cy="5857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prstDash val="dash"/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165400" y="3708360"/>
            <a:ext cx="141120" cy="704520"/>
            <a:chOff x="2165400" y="3708360"/>
            <a:chExt cx="141120" cy="704520"/>
          </a:xfrm>
        </p:grpSpPr>
        <p:sp>
          <p:nvSpPr>
            <p:cNvPr id="401" name=""/>
            <p:cNvSpPr/>
            <p:nvPr/>
          </p:nvSpPr>
          <p:spPr>
            <a:xfrm>
              <a:off x="2165400" y="3708360"/>
              <a:ext cx="0" cy="70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06520" y="3708360"/>
              <a:ext cx="0" cy="70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0" y="3759120"/>
            <a:ext cx="16351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 York"/>
              </a:rPr>
              <a:t>SQL queries or data trans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42800" y="1515960"/>
            <a:ext cx="3036600" cy="464760"/>
            <a:chOff x="442800" y="1515960"/>
            <a:chExt cx="3036600" cy="464760"/>
          </a:xfrm>
        </p:grpSpPr>
        <p:sp>
          <p:nvSpPr>
            <p:cNvPr id="405" name=""/>
            <p:cNvSpPr/>
            <p:nvPr/>
          </p:nvSpPr>
          <p:spPr>
            <a:xfrm>
              <a:off x="442800" y="1515960"/>
              <a:ext cx="413640" cy="464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98360" y="1515960"/>
              <a:ext cx="413640" cy="464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54280" y="1515960"/>
              <a:ext cx="413280" cy="464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10200" y="1515960"/>
              <a:ext cx="413280" cy="464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66120" y="1515960"/>
              <a:ext cx="413280" cy="464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147760" y="2254320"/>
            <a:ext cx="141480" cy="702720"/>
            <a:chOff x="2147760" y="2254320"/>
            <a:chExt cx="141480" cy="702720"/>
          </a:xfrm>
        </p:grpSpPr>
        <p:sp>
          <p:nvSpPr>
            <p:cNvPr id="411" name=""/>
            <p:cNvSpPr/>
            <p:nvPr/>
          </p:nvSpPr>
          <p:spPr>
            <a:xfrm>
              <a:off x="2147760" y="2254320"/>
              <a:ext cx="0" cy="702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89240" y="2254320"/>
              <a:ext cx="0" cy="702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4920" y="2301840"/>
            <a:ext cx="1979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 York"/>
              </a:rPr>
              <a:t>Operation ca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4840" y="838080"/>
            <a:ext cx="29232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Distributed R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66680" y="5562720"/>
            <a:ext cx="653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clients don’t even know if we are using a RDBMS or ODBMS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07040" y="762120"/>
            <a:ext cx="0" cy="43495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780080" y="3030480"/>
            <a:ext cx="1936440" cy="464760"/>
            <a:chOff x="4780080" y="3030480"/>
            <a:chExt cx="1936440" cy="464760"/>
          </a:xfrm>
        </p:grpSpPr>
        <p:sp>
          <p:nvSpPr>
            <p:cNvPr id="418" name=""/>
            <p:cNvSpPr/>
            <p:nvPr/>
          </p:nvSpPr>
          <p:spPr>
            <a:xfrm>
              <a:off x="4780080" y="3030480"/>
              <a:ext cx="413280" cy="464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41840" y="3030480"/>
              <a:ext cx="412920" cy="464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303240" y="3030480"/>
              <a:ext cx="413280" cy="464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4495680" y="4525920"/>
            <a:ext cx="608040" cy="5857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prstDash val="dash"/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70560" y="4525920"/>
            <a:ext cx="608040" cy="5857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45080" y="4525920"/>
            <a:ext cx="608040" cy="5857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prstDash val="dash"/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703840" y="3708360"/>
            <a:ext cx="141480" cy="704520"/>
            <a:chOff x="5703840" y="3708360"/>
            <a:chExt cx="141480" cy="704520"/>
          </a:xfrm>
        </p:grpSpPr>
        <p:sp>
          <p:nvSpPr>
            <p:cNvPr id="425" name=""/>
            <p:cNvSpPr/>
            <p:nvPr/>
          </p:nvSpPr>
          <p:spPr>
            <a:xfrm>
              <a:off x="5703840" y="3708360"/>
              <a:ext cx="0" cy="70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45320" y="3708360"/>
              <a:ext cx="0" cy="70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5834160" y="3936960"/>
            <a:ext cx="1606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 York"/>
              </a:rPr>
              <a:t>Data trans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513320" y="1595520"/>
            <a:ext cx="3036960" cy="464760"/>
            <a:chOff x="4513320" y="1595520"/>
            <a:chExt cx="3036960" cy="464760"/>
          </a:xfrm>
        </p:grpSpPr>
        <p:sp>
          <p:nvSpPr>
            <p:cNvPr id="429" name=""/>
            <p:cNvSpPr/>
            <p:nvPr/>
          </p:nvSpPr>
          <p:spPr>
            <a:xfrm>
              <a:off x="4513320" y="1595520"/>
              <a:ext cx="413640" cy="464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f00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68880" y="1595520"/>
              <a:ext cx="413640" cy="464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f00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24800" y="1595520"/>
              <a:ext cx="413640" cy="464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f00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80720" y="1595520"/>
              <a:ext cx="413640" cy="464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f00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36640" y="1595520"/>
              <a:ext cx="413640" cy="464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f00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5738760" y="2193840"/>
            <a:ext cx="142920" cy="704520"/>
            <a:chOff x="5738760" y="2193840"/>
            <a:chExt cx="142920" cy="704520"/>
          </a:xfrm>
        </p:grpSpPr>
        <p:sp>
          <p:nvSpPr>
            <p:cNvPr id="435" name=""/>
            <p:cNvSpPr/>
            <p:nvPr/>
          </p:nvSpPr>
          <p:spPr>
            <a:xfrm>
              <a:off x="5738760" y="2193840"/>
              <a:ext cx="0" cy="70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81680" y="2193840"/>
              <a:ext cx="0" cy="70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6091200" y="2301840"/>
            <a:ext cx="1979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 York"/>
              </a:rPr>
              <a:t>Operation ca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42760" y="838080"/>
            <a:ext cx="29718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Distributed O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936120" y="312408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RBA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849080" y="161460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269480" y="4521240"/>
            <a:ext cx="13456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achine(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44600" y="65160"/>
            <a:ext cx="8138880" cy="1392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ing objects in RDBMS : 4 tas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09720" y="845640"/>
            <a:ext cx="7797600" cy="278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cide on the mapping from OO view to relational view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mplement this mapp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ad objects on the f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f data is cashed in objects the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97520" indent="-1911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lush the cache when a transaction commi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765720" indent="-1530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discard it when a transaction abor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97520" indent="-1911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ma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have to write-through on each modification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43400" y="2209680"/>
            <a:ext cx="3809880" cy="3733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520" y="190080"/>
            <a:ext cx="55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ortable Object Adapte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4876920"/>
            <a:ext cx="304812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R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4038480"/>
            <a:ext cx="3048120" cy="838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913440" y="3186000"/>
            <a:ext cx="990720" cy="728640"/>
            <a:chOff x="6913440" y="3186000"/>
            <a:chExt cx="990720" cy="728640"/>
          </a:xfrm>
        </p:grpSpPr>
        <p:grpSp>
          <p:nvGrpSpPr>
            <p:cNvPr id="54" name=""/>
            <p:cNvGrpSpPr/>
            <p:nvPr/>
          </p:nvGrpSpPr>
          <p:grpSpPr>
            <a:xfrm>
              <a:off x="6913440" y="3426840"/>
              <a:ext cx="240840" cy="240840"/>
              <a:chOff x="6913440" y="3426840"/>
              <a:chExt cx="240840" cy="240840"/>
            </a:xfrm>
          </p:grpSpPr>
          <p:sp>
            <p:nvSpPr>
              <p:cNvPr id="55" name=""/>
              <p:cNvSpPr/>
              <p:nvPr/>
            </p:nvSpPr>
            <p:spPr>
              <a:xfrm>
                <a:off x="6913440" y="3547080"/>
                <a:ext cx="24084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913440" y="3426840"/>
                <a:ext cx="0" cy="24084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7114320" y="3186000"/>
              <a:ext cx="789840" cy="728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934320" y="2590920"/>
            <a:ext cx="457200" cy="336600"/>
            <a:chOff x="6934320" y="2590920"/>
            <a:chExt cx="457200" cy="336600"/>
          </a:xfrm>
        </p:grpSpPr>
        <p:grpSp>
          <p:nvGrpSpPr>
            <p:cNvPr id="59" name=""/>
            <p:cNvGrpSpPr/>
            <p:nvPr/>
          </p:nvGrpSpPr>
          <p:grpSpPr>
            <a:xfrm>
              <a:off x="6934320" y="2702160"/>
              <a:ext cx="111240" cy="111240"/>
              <a:chOff x="6934320" y="2702160"/>
              <a:chExt cx="111240" cy="111240"/>
            </a:xfrm>
          </p:grpSpPr>
          <p:sp>
            <p:nvSpPr>
              <p:cNvPr id="60" name=""/>
              <p:cNvSpPr/>
              <p:nvPr/>
            </p:nvSpPr>
            <p:spPr>
              <a:xfrm>
                <a:off x="6934320" y="2757600"/>
                <a:ext cx="11124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934320" y="2702160"/>
                <a:ext cx="0" cy="11124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7026840" y="2590920"/>
              <a:ext cx="364680" cy="336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257800" y="3048120"/>
            <a:ext cx="990720" cy="728640"/>
            <a:chOff x="5257800" y="3048120"/>
            <a:chExt cx="990720" cy="728640"/>
          </a:xfrm>
        </p:grpSpPr>
        <p:grpSp>
          <p:nvGrpSpPr>
            <p:cNvPr id="64" name=""/>
            <p:cNvGrpSpPr/>
            <p:nvPr/>
          </p:nvGrpSpPr>
          <p:grpSpPr>
            <a:xfrm>
              <a:off x="5257800" y="3288960"/>
              <a:ext cx="240840" cy="240840"/>
              <a:chOff x="5257800" y="3288960"/>
              <a:chExt cx="240840" cy="240840"/>
            </a:xfrm>
          </p:grpSpPr>
          <p:sp>
            <p:nvSpPr>
              <p:cNvPr id="65" name=""/>
              <p:cNvSpPr/>
              <p:nvPr/>
            </p:nvSpPr>
            <p:spPr>
              <a:xfrm>
                <a:off x="5257800" y="3409200"/>
                <a:ext cx="24084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257800" y="3288960"/>
                <a:ext cx="0" cy="24084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5458680" y="3048120"/>
              <a:ext cx="789840" cy="728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425920" y="2406600"/>
            <a:ext cx="533160" cy="392040"/>
            <a:chOff x="5425920" y="2406600"/>
            <a:chExt cx="533160" cy="392040"/>
          </a:xfrm>
        </p:grpSpPr>
        <p:grpSp>
          <p:nvGrpSpPr>
            <p:cNvPr id="69" name=""/>
            <p:cNvGrpSpPr/>
            <p:nvPr/>
          </p:nvGrpSpPr>
          <p:grpSpPr>
            <a:xfrm>
              <a:off x="5425920" y="2536200"/>
              <a:ext cx="129600" cy="129600"/>
              <a:chOff x="5425920" y="2536200"/>
              <a:chExt cx="129600" cy="129600"/>
            </a:xfrm>
          </p:grpSpPr>
          <p:sp>
            <p:nvSpPr>
              <p:cNvPr id="70" name=""/>
              <p:cNvSpPr/>
              <p:nvPr/>
            </p:nvSpPr>
            <p:spPr>
              <a:xfrm>
                <a:off x="5425920" y="2601000"/>
                <a:ext cx="12960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25920" y="2536200"/>
                <a:ext cx="0" cy="1296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5533920" y="2406600"/>
              <a:ext cx="425160" cy="392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04920" y="2209680"/>
            <a:ext cx="3809880" cy="3733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876920"/>
            <a:ext cx="304776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R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76" idx="2"/>
            <a:endCxn id="67" idx="2"/>
          </p:cNvCxnSpPr>
          <p:nvPr/>
        </p:nvCxnSpPr>
        <p:spPr>
          <a:xfrm flipH="1" flipV="1" rot="5400000">
            <a:off x="3357360" y="1920960"/>
            <a:ext cx="608760" cy="3591720"/>
          </a:xfrm>
          <a:prstGeom prst="bentConnector4">
            <a:avLst>
              <a:gd name="adj1" fmla="val -367573"/>
              <a:gd name="adj2" fmla="val 90707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447920" y="3200400"/>
            <a:ext cx="838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84920" y="260280"/>
            <a:ext cx="3259080" cy="2178000"/>
          </a:xfrm>
          <a:prstGeom prst="cloudCallout">
            <a:avLst>
              <a:gd name="adj1" fmla="val -28129"/>
              <a:gd name="adj2" fmla="val 7310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is is 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nceptual vie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f a server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.... a set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RBA obje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20760" y="1327320"/>
            <a:ext cx="469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OA : the CORBA component that is responsible for adapting CORBA’s concepts of objects to a programming language’s concept of objects (servant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de Gen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 (E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de Gen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ational schem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++ clas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DL interfa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 it by hand! “  -- no way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on’t it be nice to push a button to generate the code to go from schema to IDL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e -- but be warned that the results mightn’t be very pleas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ider the following tab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at IDL would you get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66680" y="1390680"/>
            <a:ext cx="1371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ooking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438280" y="1390680"/>
            <a:ext cx="1371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66680" y="192420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438280" y="192420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66680" y="230508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38280" y="230508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66680" y="2685960"/>
            <a:ext cx="13716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38280" y="2685960"/>
            <a:ext cx="13716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306720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438280" y="306720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066680" y="344808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344808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66680" y="3828960"/>
            <a:ext cx="13716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38280" y="3828960"/>
            <a:ext cx="13716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66680" y="421020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38280" y="421020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419720" y="1390680"/>
            <a:ext cx="1371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ooking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91320" y="1390680"/>
            <a:ext cx="1371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atN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19720" y="192420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91320" y="192420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19720" y="230508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91320" y="230508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19720" y="2685960"/>
            <a:ext cx="13716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791320" y="2685960"/>
            <a:ext cx="13716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306720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91320" y="306720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19720" y="344808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91320" y="344808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19720" y="3828960"/>
            <a:ext cx="13716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791320" y="3828960"/>
            <a:ext cx="13716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19720" y="421020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91320" y="421020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959400" y="936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oking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50240" y="9367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okingS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haps .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typedef long BookingID;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BookingDate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attribute BookingID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heBookingID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attribute Date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heDate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BookingDateMng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// operations to create and delete “rows”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BookingSeat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// definition of SeatNum;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attribute BookingID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heBookingID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atrtribute SeatNum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heSeatNum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BookingSeatMng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//operations to create and delete “rows”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at happened our Business Object layer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047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.. with operations such 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urier New"/>
              </a:rPr>
              <a:t>makeBooking( .... );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urier New"/>
              </a:rPr>
              <a:t>getBookingByName ( .... );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de generation (schema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DL) is very useful but typically the code should be encapsulated by a higher layer within the serv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 schema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++ or Java may be just as useful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RU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hema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DL automatic code generation can be useful for very simple syste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 so called CRUD interfa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re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a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pd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le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ut the interface exposed to clients will be very low level  [no usage patterns !!] and it may perform badly . . . 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30800" y="5745240"/>
            <a:ext cx="1763640" cy="814320"/>
          </a:xfrm>
          <a:custGeom>
            <a:avLst/>
            <a:gdLst>
              <a:gd name="textAreaLeft" fmla="*/ 220320 w 1763640"/>
              <a:gd name="textAreaRight" fmla="*/ 1543320 w 1763640"/>
              <a:gd name="textAreaTop" fmla="*/ 203400 h 814320"/>
              <a:gd name="textAreaBottom" fmla="*/ 610920 h 814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e over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ways be careful of “data objects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sider a table with many fiel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auto-generated IDL is likely to provide separate operations to retrieve each field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.. an order of magnitude slower than retrieving all in one call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19160" y="1905120"/>
            <a:ext cx="789120" cy="30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808280" y="1905120"/>
            <a:ext cx="787320" cy="30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19160" y="2211480"/>
            <a:ext cx="789120" cy="21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808280" y="2211480"/>
            <a:ext cx="787320" cy="21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19160" y="2430360"/>
            <a:ext cx="789120" cy="219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808280" y="2430360"/>
            <a:ext cx="787320" cy="219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19160" y="2649600"/>
            <a:ext cx="789120" cy="21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808280" y="2649600"/>
            <a:ext cx="787320" cy="21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595600" y="1905120"/>
            <a:ext cx="789120" cy="30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595600" y="2211480"/>
            <a:ext cx="789120" cy="21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595600" y="2430360"/>
            <a:ext cx="789120" cy="219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95600" y="2649600"/>
            <a:ext cx="789120" cy="21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84720" y="1905120"/>
            <a:ext cx="788760" cy="30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84720" y="2211480"/>
            <a:ext cx="788760" cy="21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84720" y="2430360"/>
            <a:ext cx="788760" cy="219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384720" y="2649600"/>
            <a:ext cx="788760" cy="21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73480" y="1905120"/>
            <a:ext cx="789120" cy="30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173480" y="2211480"/>
            <a:ext cx="789120" cy="21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173480" y="2430360"/>
            <a:ext cx="789120" cy="219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73480" y="2649600"/>
            <a:ext cx="789120" cy="21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964040" y="1905120"/>
            <a:ext cx="789120" cy="30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964040" y="2211480"/>
            <a:ext cx="789120" cy="21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964040" y="2430360"/>
            <a:ext cx="789120" cy="219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964040" y="2649600"/>
            <a:ext cx="789120" cy="21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43440" y="1905120"/>
            <a:ext cx="789120" cy="30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43440" y="2211480"/>
            <a:ext cx="789120" cy="21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43440" y="2430360"/>
            <a:ext cx="789120" cy="219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743440" y="2649600"/>
            <a:ext cx="789120" cy="21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32560" y="1905120"/>
            <a:ext cx="789120" cy="30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532560" y="2211480"/>
            <a:ext cx="789120" cy="21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32560" y="2430360"/>
            <a:ext cx="789120" cy="219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532560" y="2649600"/>
            <a:ext cx="789120" cy="21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21680" y="1905120"/>
            <a:ext cx="788760" cy="30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21680" y="2211480"/>
            <a:ext cx="788760" cy="21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321680" y="2430360"/>
            <a:ext cx="788760" cy="219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321680" y="2649600"/>
            <a:ext cx="788760" cy="21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112240" y="1905120"/>
            <a:ext cx="788760" cy="30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112240" y="2211480"/>
            <a:ext cx="788760" cy="21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112240" y="2430360"/>
            <a:ext cx="788760" cy="219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112240" y="2649600"/>
            <a:ext cx="788760" cy="21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about the other direction 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DL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relational schem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issue is that IDL doesn’t define data memb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defines operations and attributes, but attributes need not correspond to data memb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CORBA, PSS is one way to tackle this 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rsistent State Specification  - one of the CORBA service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helps you to implement servants that have persistent stat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fact that PSS is used in a server is not visible outside of the server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SS is of no concern to client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SS (cont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841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SS defines a new language, PSD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rsistent State Definition Languag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ou can specify st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017000" indent="-2034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dependent of the chosen programming languag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’s a superset of ID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017000" indent="-2034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dds syntax to specify state, keys, etc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017000" indent="-2034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 can specify the persistent state in C++ or Java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SS defines operations to flush memory, refresh a cache, load objects by key.   It supports embedded objects, references, ..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erv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a POA ORB, each CORBA object is represented by two obje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CORBA obje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servant obje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505320"/>
            <a:ext cx="4952880" cy="2514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5334120"/>
            <a:ext cx="36576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R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4952880"/>
            <a:ext cx="3657600" cy="3812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343400" y="3809880"/>
            <a:ext cx="990720" cy="728640"/>
            <a:chOff x="4343400" y="3809880"/>
            <a:chExt cx="990720" cy="728640"/>
          </a:xfrm>
        </p:grpSpPr>
        <p:grpSp>
          <p:nvGrpSpPr>
            <p:cNvPr id="85" name=""/>
            <p:cNvGrpSpPr/>
            <p:nvPr/>
          </p:nvGrpSpPr>
          <p:grpSpPr>
            <a:xfrm>
              <a:off x="4343400" y="4050720"/>
              <a:ext cx="240840" cy="240840"/>
              <a:chOff x="4343400" y="4050720"/>
              <a:chExt cx="240840" cy="240840"/>
            </a:xfrm>
          </p:grpSpPr>
          <p:sp>
            <p:nvSpPr>
              <p:cNvPr id="86" name=""/>
              <p:cNvSpPr/>
              <p:nvPr/>
            </p:nvSpPr>
            <p:spPr>
              <a:xfrm>
                <a:off x="4343400" y="4170960"/>
                <a:ext cx="24084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343400" y="4050720"/>
                <a:ext cx="0" cy="24084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4544280" y="3809880"/>
              <a:ext cx="789840" cy="728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324480" y="3809880"/>
            <a:ext cx="790560" cy="72864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0" name=""/>
          <p:cNvCxnSpPr>
            <a:endCxn id="89" idx="3"/>
          </p:cNvCxnSpPr>
          <p:nvPr/>
        </p:nvCxnSpPr>
        <p:spPr>
          <a:xfrm flipV="1">
            <a:off x="1371600" y="4431960"/>
            <a:ext cx="5069520" cy="19692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181480" y="419112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4720" y="304812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RBA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2666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19440" y="30481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rv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++/Java </a:t>
            </a: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relational sche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re are many commercial products that do th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some provide extras such as cach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se can be directly used by a CORBA applic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76720" y="5029200"/>
            <a:ext cx="3657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++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76720" y="5715000"/>
            <a:ext cx="3657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276720" y="4343400"/>
            <a:ext cx="3657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DL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867280" y="518148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72200" y="518148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77120" y="518148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6019920" y="5791320"/>
            <a:ext cx="532800" cy="399600"/>
            <a:chOff x="6019920" y="5791320"/>
            <a:chExt cx="532800" cy="399600"/>
          </a:xfrm>
        </p:grpSpPr>
        <p:sp>
          <p:nvSpPr>
            <p:cNvPr id="548" name=""/>
            <p:cNvSpPr/>
            <p:nvPr/>
          </p:nvSpPr>
          <p:spPr>
            <a:xfrm>
              <a:off x="6019920" y="5791320"/>
              <a:ext cx="266400" cy="103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86320" y="5791320"/>
              <a:ext cx="266400" cy="103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19920" y="5895000"/>
              <a:ext cx="266400" cy="7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86320" y="5895000"/>
              <a:ext cx="266400" cy="7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19920" y="5969160"/>
              <a:ext cx="266400" cy="74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86320" y="5969160"/>
              <a:ext cx="266400" cy="74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19920" y="6043320"/>
              <a:ext cx="266400" cy="7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286320" y="6043320"/>
              <a:ext cx="266400" cy="7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19920" y="6117120"/>
              <a:ext cx="266400" cy="7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286320" y="6117120"/>
              <a:ext cx="266400" cy="7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172200" y="449568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77120" y="449568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087680" y="44337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RBA obje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088040" y="51055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rv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087320" y="5805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sistence in EJ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26880" y="1143000"/>
            <a:ext cx="881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 EJB impl can automate a lot of the wor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&lt;the standard doesn’t sa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 example, a combined CORBA + EJB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359160" y="4276800"/>
            <a:ext cx="36576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9160" y="5470560"/>
            <a:ext cx="3657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359160" y="3051000"/>
            <a:ext cx="3657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DL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950080" y="442908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254640" y="442908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559560" y="442908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102360" y="5546880"/>
            <a:ext cx="533520" cy="399600"/>
            <a:chOff x="6102360" y="5546880"/>
            <a:chExt cx="533520" cy="399600"/>
          </a:xfrm>
        </p:grpSpPr>
        <p:sp>
          <p:nvSpPr>
            <p:cNvPr id="572" name=""/>
            <p:cNvSpPr/>
            <p:nvPr/>
          </p:nvSpPr>
          <p:spPr>
            <a:xfrm>
              <a:off x="6102360" y="5546880"/>
              <a:ext cx="266760" cy="103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369120" y="5546880"/>
              <a:ext cx="266760" cy="103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102360" y="5650560"/>
              <a:ext cx="266760" cy="7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369120" y="5650560"/>
              <a:ext cx="266760" cy="7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102360" y="5724720"/>
              <a:ext cx="266760" cy="74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69120" y="5724720"/>
              <a:ext cx="266760" cy="74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102360" y="5798880"/>
              <a:ext cx="266760" cy="7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369120" y="5798880"/>
              <a:ext cx="266760" cy="7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102360" y="5872680"/>
              <a:ext cx="266760" cy="7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369120" y="5872680"/>
              <a:ext cx="266760" cy="7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254640" y="320364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559560" y="320364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170120" y="314172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RBA obje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170480" y="43527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rv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169760" y="5560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517840" y="4962600"/>
            <a:ext cx="890640" cy="344520"/>
          </a:xfrm>
          <a:prstGeom prst="rightArrow">
            <a:avLst>
              <a:gd name="adj1" fmla="val 50000"/>
              <a:gd name="adj2" fmla="val 6462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517840" y="3749760"/>
            <a:ext cx="890640" cy="344520"/>
          </a:xfrm>
          <a:prstGeom prst="rightArrow">
            <a:avLst>
              <a:gd name="adj1" fmla="val 50000"/>
              <a:gd name="adj2" fmla="val 6462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4724280"/>
            <a:ext cx="236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utomatic, but may have to be enhanced by the programm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3479760"/>
            <a:ext cx="236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utomatic, just implement the business 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tomatic Mapping - 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re are many mapping techniqu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ational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++ / Jav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ational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D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SDL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Java implementation on RDB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SDL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++ implementation on RDB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ava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relational with automated support for CORBA + EJB lay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cont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85716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se these automatic code generators, but invest the freed time at the design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be prepared to augment the resul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member than none of these mapping techniques remove the need for proper IDL desig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client interface must be easy for clients to use, and it must perform well with the typical usage pattern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ne of them remove the need for a proper business object lay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BA obje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 what are the CORBA objects used f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... They must be created so that an object reference can be passed to client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y do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have to physically exist to handle a request ... they are bypassed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[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ome programmers like to use IDL interfaces rather than C++/Java/.... Interfaces between the internal components of their servers.  They will keep the CORBA objects in place to handle local calls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vants and Databa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s a very useful separation from our viewpoi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servant can go into the database, while the CORBA object need no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Prior to the POA standard within CORBA, ORBs made different server-side choices.  Some allowed this separation, while others didn’t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tails - class hiararch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886200"/>
            <a:ext cx="236196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RBA::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5410080"/>
            <a:ext cx="236196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rontOff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99480" y="1143000"/>
            <a:ext cx="230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face FrontOffi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2438280"/>
            <a:ext cx="236196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ant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886200"/>
            <a:ext cx="236196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A_FrontOff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5410080"/>
            <a:ext cx="236196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Office_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543480" y="5241960"/>
            <a:ext cx="495000" cy="473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353360" y="3733920"/>
            <a:ext cx="495360" cy="47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7315200" y="5035680"/>
          <a:ext cx="639720" cy="60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5035680"/>
                    <a:ext cx="63972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33520" y="1143000"/>
          <a:ext cx="868320" cy="81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1143000"/>
                    <a:ext cx="86832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 flipV="1">
            <a:off x="457200" y="1066320"/>
            <a:ext cx="5257800" cy="2210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720" y="25146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932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514600" y="45720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477120" y="45720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477120" y="32000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840" y="306216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RBA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3280" y="16002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rv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38080" y="3429000"/>
            <a:ext cx="6705720" cy="2514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3040" y="3560760"/>
            <a:ext cx="5402520" cy="1779480"/>
          </a:xfrm>
          <a:custGeom>
            <a:avLst/>
            <a:gdLst/>
            <a:ahLst/>
            <a:rect l="l" t="t" r="r" b="b"/>
            <a:pathLst>
              <a:path w="3403" h="1121">
                <a:moveTo>
                  <a:pt x="0" y="1121"/>
                </a:moveTo>
                <a:lnTo>
                  <a:pt x="3403" y="1121"/>
                </a:lnTo>
                <a:lnTo>
                  <a:pt x="3403" y="924"/>
                </a:lnTo>
                <a:lnTo>
                  <a:pt x="1604" y="924"/>
                </a:lnTo>
                <a:lnTo>
                  <a:pt x="1604" y="0"/>
                </a:lnTo>
                <a:lnTo>
                  <a:pt x="0" y="0"/>
                </a:lnTo>
                <a:lnTo>
                  <a:pt x="0" y="1121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ctive Object Ma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 default, a POA has an Active Object Map that records each of the servants that it mana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ps from ID to servant point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5349960"/>
            <a:ext cx="5410080" cy="3650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R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3733920"/>
            <a:ext cx="381240" cy="35064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70920" y="3935520"/>
            <a:ext cx="9928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rv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05120" y="3733920"/>
            <a:ext cx="1752480" cy="1143000"/>
            <a:chOff x="1905120" y="3733920"/>
            <a:chExt cx="1752480" cy="1143000"/>
          </a:xfrm>
        </p:grpSpPr>
        <p:sp>
          <p:nvSpPr>
            <p:cNvPr id="128" name=""/>
            <p:cNvSpPr/>
            <p:nvPr/>
          </p:nvSpPr>
          <p:spPr>
            <a:xfrm>
              <a:off x="1905120" y="3733920"/>
              <a:ext cx="1752480" cy="228600"/>
            </a:xfrm>
            <a:prstGeom prst="rect">
              <a:avLst/>
            </a:prstGeom>
            <a:solidFill>
              <a:srgbClr val="35cbc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05120" y="3962520"/>
              <a:ext cx="1752480" cy="228600"/>
            </a:xfrm>
            <a:prstGeom prst="rect">
              <a:avLst/>
            </a:prstGeom>
            <a:solidFill>
              <a:srgbClr val="35cbc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05120" y="4191120"/>
              <a:ext cx="1752480" cy="228600"/>
            </a:xfrm>
            <a:prstGeom prst="rect">
              <a:avLst/>
            </a:prstGeom>
            <a:solidFill>
              <a:srgbClr val="35cbc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1752480" cy="228600"/>
            </a:xfrm>
            <a:prstGeom prst="rect">
              <a:avLst/>
            </a:prstGeom>
            <a:solidFill>
              <a:srgbClr val="35cbc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05120" y="4648320"/>
              <a:ext cx="1752480" cy="228600"/>
            </a:xfrm>
            <a:prstGeom prst="rect">
              <a:avLst/>
            </a:prstGeom>
            <a:solidFill>
              <a:srgbClr val="35cbc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257800" y="3962520"/>
            <a:ext cx="380880" cy="35064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4343400"/>
            <a:ext cx="380880" cy="35100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4489560"/>
            <a:ext cx="380880" cy="35064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657600"/>
            <a:ext cx="381240" cy="35100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443400" y="3809520"/>
            <a:ext cx="1280880" cy="25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429000" y="3885840"/>
            <a:ext cx="2438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429000" y="4160520"/>
            <a:ext cx="1812960" cy="18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429000" y="4538160"/>
            <a:ext cx="2252520" cy="33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513240" y="4731840"/>
            <a:ext cx="1531800" cy="27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83840" y="3867120"/>
            <a:ext cx="84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43280" y="49957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0T18:00:39Z</dcterms:created>
  <dc:creator>clewis</dc:creator>
  <dc:description/>
  <dc:language>en-US</dc:language>
  <cp:lastModifiedBy>Sean Baker</cp:lastModifiedBy>
  <cp:lastPrinted>1999-08-03T08:54:27Z</cp:lastPrinted>
  <dcterms:modified xsi:type="dcterms:W3CDTF">1999-09-08T10:25:09Z</dcterms:modified>
  <cp:revision>233</cp:revision>
  <dc:subject/>
  <dc:title>No Slide Title</dc:title>
</cp:coreProperties>
</file>