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F17BC2-BD71-431D-A060-8464D2932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8920"/>
            <a:ext cx="9131400" cy="0"/>
          </a:xfrm>
          <a:prstGeom prst="line">
            <a:avLst/>
          </a:prstGeom>
          <a:ln w="38160">
            <a:solidFill>
              <a:srgbClr val="ff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632720" y="6470640"/>
            <a:ext cx="1215000" cy="152640"/>
            <a:chOff x="7632720" y="6470640"/>
            <a:chExt cx="1215000" cy="152640"/>
          </a:xfrm>
        </p:grpSpPr>
        <p:grpSp>
          <p:nvGrpSpPr>
            <p:cNvPr id="3" name=""/>
            <p:cNvGrpSpPr/>
            <p:nvPr/>
          </p:nvGrpSpPr>
          <p:grpSpPr>
            <a:xfrm>
              <a:off x="8813880" y="6472080"/>
              <a:ext cx="33840" cy="32400"/>
              <a:chOff x="8813880" y="6472080"/>
              <a:chExt cx="33840" cy="32400"/>
            </a:xfrm>
          </p:grpSpPr>
          <p:sp>
            <p:nvSpPr>
              <p:cNvPr id="4" name=""/>
              <p:cNvSpPr/>
              <p:nvPr/>
            </p:nvSpPr>
            <p:spPr>
              <a:xfrm>
                <a:off x="8813880" y="64720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w="76" h="76">
                    <a:moveTo>
                      <a:pt x="37" y="7"/>
                    </a:moveTo>
                    <a:lnTo>
                      <a:pt x="43" y="7"/>
                    </a:lnTo>
                    <a:lnTo>
                      <a:pt x="49" y="8"/>
                    </a:lnTo>
                    <a:lnTo>
                      <a:pt x="54" y="11"/>
                    </a:lnTo>
                    <a:lnTo>
                      <a:pt x="60" y="16"/>
                    </a:lnTo>
                    <a:lnTo>
                      <a:pt x="64" y="21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69" y="38"/>
                    </a:lnTo>
                    <a:lnTo>
                      <a:pt x="69" y="42"/>
                    </a:lnTo>
                    <a:lnTo>
                      <a:pt x="67" y="48"/>
                    </a:lnTo>
                    <a:lnTo>
                      <a:pt x="64" y="54"/>
                    </a:lnTo>
                    <a:lnTo>
                      <a:pt x="60" y="58"/>
                    </a:lnTo>
                    <a:lnTo>
                      <a:pt x="54" y="63"/>
                    </a:lnTo>
                    <a:lnTo>
                      <a:pt x="49" y="66"/>
                    </a:lnTo>
                    <a:lnTo>
                      <a:pt x="43" y="67"/>
                    </a:lnTo>
                    <a:lnTo>
                      <a:pt x="37" y="67"/>
                    </a:lnTo>
                    <a:lnTo>
                      <a:pt x="33" y="67"/>
                    </a:lnTo>
                    <a:lnTo>
                      <a:pt x="27" y="66"/>
                    </a:lnTo>
                    <a:lnTo>
                      <a:pt x="20" y="63"/>
                    </a:lnTo>
                    <a:lnTo>
                      <a:pt x="16" y="58"/>
                    </a:lnTo>
                    <a:lnTo>
                      <a:pt x="12" y="54"/>
                    </a:lnTo>
                    <a:lnTo>
                      <a:pt x="9" y="48"/>
                    </a:lnTo>
                    <a:lnTo>
                      <a:pt x="7" y="42"/>
                    </a:lnTo>
                    <a:lnTo>
                      <a:pt x="7" y="38"/>
                    </a:lnTo>
                    <a:lnTo>
                      <a:pt x="7" y="32"/>
                    </a:lnTo>
                    <a:lnTo>
                      <a:pt x="9" y="26"/>
                    </a:lnTo>
                    <a:lnTo>
                      <a:pt x="12" y="21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8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6" y="60"/>
                    </a:lnTo>
                    <a:lnTo>
                      <a:pt x="10" y="64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5"/>
                    </a:lnTo>
                    <a:lnTo>
                      <a:pt x="37" y="76"/>
                    </a:lnTo>
                    <a:lnTo>
                      <a:pt x="46" y="75"/>
                    </a:lnTo>
                    <a:lnTo>
                      <a:pt x="53" y="73"/>
                    </a:lnTo>
                    <a:lnTo>
                      <a:pt x="60" y="69"/>
                    </a:lnTo>
                    <a:lnTo>
                      <a:pt x="66" y="64"/>
                    </a:lnTo>
                    <a:lnTo>
                      <a:pt x="70" y="60"/>
                    </a:lnTo>
                    <a:lnTo>
                      <a:pt x="75" y="51"/>
                    </a:lnTo>
                    <a:lnTo>
                      <a:pt x="76" y="45"/>
                    </a:lnTo>
                    <a:lnTo>
                      <a:pt x="76" y="38"/>
                    </a:lnTo>
                    <a:lnTo>
                      <a:pt x="76" y="30"/>
                    </a:lnTo>
                    <a:lnTo>
                      <a:pt x="75" y="23"/>
                    </a:lnTo>
                    <a:lnTo>
                      <a:pt x="70" y="16"/>
                    </a:lnTo>
                    <a:lnTo>
                      <a:pt x="66" y="10"/>
                    </a:lnTo>
                    <a:lnTo>
                      <a:pt x="60" y="5"/>
                    </a:lnTo>
                    <a:lnTo>
                      <a:pt x="53" y="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7" y="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821800" y="647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2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9" y="5"/>
                    </a:lnTo>
                    <a:lnTo>
                      <a:pt x="65" y="10"/>
                    </a:lnTo>
                    <a:lnTo>
                      <a:pt x="69" y="17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9" y="28"/>
                    </a:lnTo>
                    <a:lnTo>
                      <a:pt x="65" y="33"/>
                    </a:lnTo>
                    <a:lnTo>
                      <a:pt x="55" y="38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72" y="72"/>
                    </a:lnTo>
                    <a:lnTo>
                      <a:pt x="51" y="72"/>
                    </a:lnTo>
                    <a:lnTo>
                      <a:pt x="31" y="43"/>
                    </a:lnTo>
                    <a:lnTo>
                      <a:pt x="16" y="43"/>
                    </a:lnTo>
                    <a:lnTo>
                      <a:pt x="16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41" y="31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5"/>
                    </a:lnTo>
                    <a:lnTo>
                      <a:pt x="41" y="12"/>
                    </a:lnTo>
                    <a:lnTo>
                      <a:pt x="34" y="10"/>
                    </a:lnTo>
                    <a:lnTo>
                      <a:pt x="24" y="10"/>
                    </a:lnTo>
                    <a:lnTo>
                      <a:pt x="1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8066160" y="6470640"/>
              <a:ext cx="219600" cy="152640"/>
            </a:xfrm>
            <a:custGeom>
              <a:avLst/>
              <a:gdLst/>
              <a:ahLst/>
              <a:rect l="0" t="0" r="r" b="b"/>
              <a:pathLst>
                <a:path w="610" h="424">
                  <a:moveTo>
                    <a:pt x="202" y="276"/>
                  </a:moveTo>
                  <a:lnTo>
                    <a:pt x="418" y="276"/>
                  </a:lnTo>
                  <a:lnTo>
                    <a:pt x="304" y="93"/>
                  </a:lnTo>
                  <a:lnTo>
                    <a:pt x="95" y="424"/>
                  </a:lnTo>
                  <a:lnTo>
                    <a:pt x="0" y="424"/>
                  </a:lnTo>
                  <a:lnTo>
                    <a:pt x="255" y="26"/>
                  </a:lnTo>
                  <a:lnTo>
                    <a:pt x="264" y="15"/>
                  </a:lnTo>
                  <a:lnTo>
                    <a:pt x="275" y="7"/>
                  </a:lnTo>
                  <a:lnTo>
                    <a:pt x="290" y="1"/>
                  </a:lnTo>
                  <a:lnTo>
                    <a:pt x="304" y="0"/>
                  </a:lnTo>
                  <a:lnTo>
                    <a:pt x="318" y="1"/>
                  </a:lnTo>
                  <a:lnTo>
                    <a:pt x="333" y="7"/>
                  </a:lnTo>
                  <a:lnTo>
                    <a:pt x="344" y="15"/>
                  </a:lnTo>
                  <a:lnTo>
                    <a:pt x="353" y="25"/>
                  </a:lnTo>
                  <a:lnTo>
                    <a:pt x="355" y="26"/>
                  </a:lnTo>
                  <a:lnTo>
                    <a:pt x="356" y="30"/>
                  </a:lnTo>
                  <a:lnTo>
                    <a:pt x="360" y="34"/>
                  </a:lnTo>
                  <a:lnTo>
                    <a:pt x="364" y="42"/>
                  </a:lnTo>
                  <a:lnTo>
                    <a:pt x="371" y="52"/>
                  </a:lnTo>
                  <a:lnTo>
                    <a:pt x="377" y="61"/>
                  </a:lnTo>
                  <a:lnTo>
                    <a:pt x="385" y="74"/>
                  </a:lnTo>
                  <a:lnTo>
                    <a:pt x="393" y="87"/>
                  </a:lnTo>
                  <a:lnTo>
                    <a:pt x="412" y="117"/>
                  </a:lnTo>
                  <a:lnTo>
                    <a:pt x="434" y="152"/>
                  </a:lnTo>
                  <a:lnTo>
                    <a:pt x="458" y="187"/>
                  </a:lnTo>
                  <a:lnTo>
                    <a:pt x="481" y="226"/>
                  </a:lnTo>
                  <a:lnTo>
                    <a:pt x="505" y="262"/>
                  </a:lnTo>
                  <a:lnTo>
                    <a:pt x="529" y="299"/>
                  </a:lnTo>
                  <a:lnTo>
                    <a:pt x="550" y="332"/>
                  </a:lnTo>
                  <a:lnTo>
                    <a:pt x="570" y="362"/>
                  </a:lnTo>
                  <a:lnTo>
                    <a:pt x="578" y="375"/>
                  </a:lnTo>
                  <a:lnTo>
                    <a:pt x="586" y="387"/>
                  </a:lnTo>
                  <a:lnTo>
                    <a:pt x="593" y="398"/>
                  </a:lnTo>
                  <a:lnTo>
                    <a:pt x="599" y="406"/>
                  </a:lnTo>
                  <a:lnTo>
                    <a:pt x="604" y="414"/>
                  </a:lnTo>
                  <a:lnTo>
                    <a:pt x="607" y="419"/>
                  </a:lnTo>
                  <a:lnTo>
                    <a:pt x="608" y="424"/>
                  </a:lnTo>
                  <a:lnTo>
                    <a:pt x="610" y="424"/>
                  </a:lnTo>
                  <a:lnTo>
                    <a:pt x="515" y="424"/>
                  </a:lnTo>
                  <a:lnTo>
                    <a:pt x="470" y="351"/>
                  </a:lnTo>
                  <a:lnTo>
                    <a:pt x="250" y="351"/>
                  </a:lnTo>
                  <a:lnTo>
                    <a:pt x="202" y="276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66120" y="6472080"/>
              <a:ext cx="163800" cy="151200"/>
            </a:xfrm>
            <a:custGeom>
              <a:avLst/>
              <a:gdLst/>
              <a:ahLst/>
              <a:rect l="0" t="0" r="r" b="b"/>
              <a:pathLst>
                <a:path w="455" h="420">
                  <a:moveTo>
                    <a:pt x="79" y="347"/>
                  </a:moveTo>
                  <a:lnTo>
                    <a:pt x="79" y="0"/>
                  </a:lnTo>
                  <a:lnTo>
                    <a:pt x="0" y="0"/>
                  </a:lnTo>
                  <a:lnTo>
                    <a:pt x="0" y="381"/>
                  </a:lnTo>
                  <a:lnTo>
                    <a:pt x="0" y="389"/>
                  </a:lnTo>
                  <a:lnTo>
                    <a:pt x="1" y="395"/>
                  </a:lnTo>
                  <a:lnTo>
                    <a:pt x="6" y="403"/>
                  </a:lnTo>
                  <a:lnTo>
                    <a:pt x="11" y="409"/>
                  </a:lnTo>
                  <a:lnTo>
                    <a:pt x="17" y="414"/>
                  </a:lnTo>
                  <a:lnTo>
                    <a:pt x="23" y="417"/>
                  </a:lnTo>
                  <a:lnTo>
                    <a:pt x="31" y="420"/>
                  </a:lnTo>
                  <a:lnTo>
                    <a:pt x="41" y="420"/>
                  </a:lnTo>
                  <a:lnTo>
                    <a:pt x="407" y="420"/>
                  </a:lnTo>
                  <a:lnTo>
                    <a:pt x="455" y="347"/>
                  </a:lnTo>
                  <a:lnTo>
                    <a:pt x="79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88320" y="6472080"/>
              <a:ext cx="176400" cy="151200"/>
            </a:xfrm>
            <a:custGeom>
              <a:avLst/>
              <a:gdLst/>
              <a:ahLst/>
              <a:rect l="0" t="0" r="r" b="b"/>
              <a:pathLst>
                <a:path w="490" h="420">
                  <a:moveTo>
                    <a:pt x="350" y="285"/>
                  </a:moveTo>
                  <a:lnTo>
                    <a:pt x="364" y="283"/>
                  </a:lnTo>
                  <a:lnTo>
                    <a:pt x="379" y="281"/>
                  </a:lnTo>
                  <a:lnTo>
                    <a:pt x="391" y="278"/>
                  </a:lnTo>
                  <a:lnTo>
                    <a:pt x="404" y="273"/>
                  </a:lnTo>
                  <a:lnTo>
                    <a:pt x="416" y="267"/>
                  </a:lnTo>
                  <a:lnTo>
                    <a:pt x="429" y="259"/>
                  </a:lnTo>
                  <a:lnTo>
                    <a:pt x="440" y="251"/>
                  </a:lnTo>
                  <a:lnTo>
                    <a:pt x="449" y="242"/>
                  </a:lnTo>
                  <a:lnTo>
                    <a:pt x="459" y="232"/>
                  </a:lnTo>
                  <a:lnTo>
                    <a:pt x="466" y="221"/>
                  </a:lnTo>
                  <a:lnTo>
                    <a:pt x="473" y="210"/>
                  </a:lnTo>
                  <a:lnTo>
                    <a:pt x="479" y="197"/>
                  </a:lnTo>
                  <a:lnTo>
                    <a:pt x="484" y="185"/>
                  </a:lnTo>
                  <a:lnTo>
                    <a:pt x="487" y="170"/>
                  </a:lnTo>
                  <a:lnTo>
                    <a:pt x="490" y="156"/>
                  </a:lnTo>
                  <a:lnTo>
                    <a:pt x="490" y="142"/>
                  </a:lnTo>
                  <a:lnTo>
                    <a:pt x="490" y="127"/>
                  </a:lnTo>
                  <a:lnTo>
                    <a:pt x="487" y="113"/>
                  </a:lnTo>
                  <a:lnTo>
                    <a:pt x="484" y="99"/>
                  </a:lnTo>
                  <a:lnTo>
                    <a:pt x="479" y="87"/>
                  </a:lnTo>
                  <a:lnTo>
                    <a:pt x="473" y="74"/>
                  </a:lnTo>
                  <a:lnTo>
                    <a:pt x="466" y="61"/>
                  </a:lnTo>
                  <a:lnTo>
                    <a:pt x="459" y="50"/>
                  </a:lnTo>
                  <a:lnTo>
                    <a:pt x="449" y="41"/>
                  </a:lnTo>
                  <a:lnTo>
                    <a:pt x="440" y="31"/>
                  </a:lnTo>
                  <a:lnTo>
                    <a:pt x="429" y="23"/>
                  </a:lnTo>
                  <a:lnTo>
                    <a:pt x="416" y="17"/>
                  </a:lnTo>
                  <a:lnTo>
                    <a:pt x="404" y="11"/>
                  </a:lnTo>
                  <a:lnTo>
                    <a:pt x="391" y="6"/>
                  </a:lnTo>
                  <a:lnTo>
                    <a:pt x="379" y="3"/>
                  </a:lnTo>
                  <a:lnTo>
                    <a:pt x="364" y="0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420"/>
                  </a:lnTo>
                  <a:lnTo>
                    <a:pt x="80" y="420"/>
                  </a:lnTo>
                  <a:lnTo>
                    <a:pt x="80" y="74"/>
                  </a:lnTo>
                  <a:lnTo>
                    <a:pt x="344" y="74"/>
                  </a:lnTo>
                  <a:lnTo>
                    <a:pt x="358" y="74"/>
                  </a:lnTo>
                  <a:lnTo>
                    <a:pt x="371" y="79"/>
                  </a:lnTo>
                  <a:lnTo>
                    <a:pt x="382" y="85"/>
                  </a:lnTo>
                  <a:lnTo>
                    <a:pt x="393" y="93"/>
                  </a:lnTo>
                  <a:lnTo>
                    <a:pt x="401" y="103"/>
                  </a:lnTo>
                  <a:lnTo>
                    <a:pt x="407" y="116"/>
                  </a:lnTo>
                  <a:lnTo>
                    <a:pt x="410" y="129"/>
                  </a:lnTo>
                  <a:lnTo>
                    <a:pt x="412" y="142"/>
                  </a:lnTo>
                  <a:lnTo>
                    <a:pt x="410" y="156"/>
                  </a:lnTo>
                  <a:lnTo>
                    <a:pt x="407" y="169"/>
                  </a:lnTo>
                  <a:lnTo>
                    <a:pt x="401" y="180"/>
                  </a:lnTo>
                  <a:lnTo>
                    <a:pt x="393" y="191"/>
                  </a:lnTo>
                  <a:lnTo>
                    <a:pt x="382" y="199"/>
                  </a:lnTo>
                  <a:lnTo>
                    <a:pt x="371" y="205"/>
                  </a:lnTo>
                  <a:lnTo>
                    <a:pt x="358" y="208"/>
                  </a:lnTo>
                  <a:lnTo>
                    <a:pt x="344" y="210"/>
                  </a:lnTo>
                  <a:lnTo>
                    <a:pt x="119" y="210"/>
                  </a:lnTo>
                  <a:lnTo>
                    <a:pt x="358" y="420"/>
                  </a:lnTo>
                  <a:lnTo>
                    <a:pt x="474" y="420"/>
                  </a:lnTo>
                  <a:lnTo>
                    <a:pt x="313" y="285"/>
                  </a:lnTo>
                  <a:lnTo>
                    <a:pt x="350" y="28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7632720" y="6472080"/>
              <a:ext cx="238320" cy="151200"/>
              <a:chOff x="7632720" y="6472080"/>
              <a:chExt cx="238320" cy="151200"/>
            </a:xfrm>
          </p:grpSpPr>
          <p:sp>
            <p:nvSpPr>
              <p:cNvPr id="10" name=""/>
              <p:cNvSpPr/>
              <p:nvPr/>
            </p:nvSpPr>
            <p:spPr>
              <a:xfrm>
                <a:off x="7745400" y="6472080"/>
                <a:ext cx="125640" cy="151200"/>
              </a:xfrm>
              <a:custGeom>
                <a:avLst/>
                <a:gdLst/>
                <a:ahLst/>
                <a:rect l="0" t="0" r="r" b="b"/>
                <a:pathLst>
                  <a:path w="349" h="420">
                    <a:moveTo>
                      <a:pt x="0" y="347"/>
                    </a:moveTo>
                    <a:lnTo>
                      <a:pt x="135" y="347"/>
                    </a:lnTo>
                    <a:lnTo>
                      <a:pt x="149" y="346"/>
                    </a:lnTo>
                    <a:lnTo>
                      <a:pt x="162" y="344"/>
                    </a:lnTo>
                    <a:lnTo>
                      <a:pt x="174" y="341"/>
                    </a:lnTo>
                    <a:lnTo>
                      <a:pt x="188" y="336"/>
                    </a:lnTo>
                    <a:lnTo>
                      <a:pt x="212" y="324"/>
                    </a:lnTo>
                    <a:lnTo>
                      <a:pt x="231" y="307"/>
                    </a:lnTo>
                    <a:lnTo>
                      <a:pt x="248" y="286"/>
                    </a:lnTo>
                    <a:lnTo>
                      <a:pt x="261" y="262"/>
                    </a:lnTo>
                    <a:lnTo>
                      <a:pt x="264" y="251"/>
                    </a:lnTo>
                    <a:lnTo>
                      <a:pt x="268" y="237"/>
                    </a:lnTo>
                    <a:lnTo>
                      <a:pt x="270" y="224"/>
                    </a:lnTo>
                    <a:lnTo>
                      <a:pt x="270" y="210"/>
                    </a:lnTo>
                    <a:lnTo>
                      <a:pt x="270" y="196"/>
                    </a:lnTo>
                    <a:lnTo>
                      <a:pt x="268" y="183"/>
                    </a:lnTo>
                    <a:lnTo>
                      <a:pt x="264" y="170"/>
                    </a:lnTo>
                    <a:lnTo>
                      <a:pt x="261" y="158"/>
                    </a:lnTo>
                    <a:lnTo>
                      <a:pt x="248" y="134"/>
                    </a:lnTo>
                    <a:lnTo>
                      <a:pt x="231" y="115"/>
                    </a:lnTo>
                    <a:lnTo>
                      <a:pt x="212" y="96"/>
                    </a:lnTo>
                    <a:lnTo>
                      <a:pt x="188" y="84"/>
                    </a:lnTo>
                    <a:lnTo>
                      <a:pt x="174" y="79"/>
                    </a:lnTo>
                    <a:lnTo>
                      <a:pt x="162" y="76"/>
                    </a:lnTo>
                    <a:lnTo>
                      <a:pt x="149" y="74"/>
                    </a:lnTo>
                    <a:lnTo>
                      <a:pt x="135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40" y="0"/>
                    </a:lnTo>
                    <a:lnTo>
                      <a:pt x="162" y="1"/>
                    </a:lnTo>
                    <a:lnTo>
                      <a:pt x="183" y="4"/>
                    </a:lnTo>
                    <a:lnTo>
                      <a:pt x="202" y="9"/>
                    </a:lnTo>
                    <a:lnTo>
                      <a:pt x="223" y="15"/>
                    </a:lnTo>
                    <a:lnTo>
                      <a:pt x="240" y="25"/>
                    </a:lnTo>
                    <a:lnTo>
                      <a:pt x="257" y="36"/>
                    </a:lnTo>
                    <a:lnTo>
                      <a:pt x="273" y="47"/>
                    </a:lnTo>
                    <a:lnTo>
                      <a:pt x="289" y="61"/>
                    </a:lnTo>
                    <a:lnTo>
                      <a:pt x="302" y="76"/>
                    </a:lnTo>
                    <a:lnTo>
                      <a:pt x="314" y="92"/>
                    </a:lnTo>
                    <a:lnTo>
                      <a:pt x="324" y="110"/>
                    </a:lnTo>
                    <a:lnTo>
                      <a:pt x="333" y="129"/>
                    </a:lnTo>
                    <a:lnTo>
                      <a:pt x="339" y="148"/>
                    </a:lnTo>
                    <a:lnTo>
                      <a:pt x="346" y="167"/>
                    </a:lnTo>
                    <a:lnTo>
                      <a:pt x="349" y="189"/>
                    </a:lnTo>
                    <a:lnTo>
                      <a:pt x="349" y="210"/>
                    </a:lnTo>
                    <a:lnTo>
                      <a:pt x="349" y="232"/>
                    </a:lnTo>
                    <a:lnTo>
                      <a:pt x="346" y="253"/>
                    </a:lnTo>
                    <a:lnTo>
                      <a:pt x="339" y="272"/>
                    </a:lnTo>
                    <a:lnTo>
                      <a:pt x="333" y="292"/>
                    </a:lnTo>
                    <a:lnTo>
                      <a:pt x="324" y="310"/>
                    </a:lnTo>
                    <a:lnTo>
                      <a:pt x="314" y="328"/>
                    </a:lnTo>
                    <a:lnTo>
                      <a:pt x="302" y="344"/>
                    </a:lnTo>
                    <a:lnTo>
                      <a:pt x="289" y="360"/>
                    </a:lnTo>
                    <a:lnTo>
                      <a:pt x="273" y="373"/>
                    </a:lnTo>
                    <a:lnTo>
                      <a:pt x="257" y="386"/>
                    </a:lnTo>
                    <a:lnTo>
                      <a:pt x="240" y="395"/>
                    </a:lnTo>
                    <a:lnTo>
                      <a:pt x="223" y="405"/>
                    </a:lnTo>
                    <a:lnTo>
                      <a:pt x="202" y="411"/>
                    </a:lnTo>
                    <a:lnTo>
                      <a:pt x="183" y="417"/>
                    </a:lnTo>
                    <a:lnTo>
                      <a:pt x="162" y="420"/>
                    </a:lnTo>
                    <a:lnTo>
                      <a:pt x="140" y="420"/>
                    </a:lnTo>
                    <a:lnTo>
                      <a:pt x="0" y="420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720" y="6472080"/>
                <a:ext cx="127440" cy="151200"/>
              </a:xfrm>
              <a:custGeom>
                <a:avLst/>
                <a:gdLst/>
                <a:ahLst/>
                <a:rect l="0" t="0" r="r" b="b"/>
                <a:pathLst>
                  <a:path w="354" h="420">
                    <a:moveTo>
                      <a:pt x="354" y="420"/>
                    </a:moveTo>
                    <a:lnTo>
                      <a:pt x="213" y="420"/>
                    </a:lnTo>
                    <a:lnTo>
                      <a:pt x="190" y="420"/>
                    </a:lnTo>
                    <a:lnTo>
                      <a:pt x="170" y="417"/>
                    </a:lnTo>
                    <a:lnTo>
                      <a:pt x="149" y="411"/>
                    </a:lnTo>
                    <a:lnTo>
                      <a:pt x="130" y="405"/>
                    </a:lnTo>
                    <a:lnTo>
                      <a:pt x="112" y="395"/>
                    </a:lnTo>
                    <a:lnTo>
                      <a:pt x="95" y="386"/>
                    </a:lnTo>
                    <a:lnTo>
                      <a:pt x="78" y="373"/>
                    </a:lnTo>
                    <a:lnTo>
                      <a:pt x="62" y="360"/>
                    </a:lnTo>
                    <a:lnTo>
                      <a:pt x="49" y="344"/>
                    </a:lnTo>
                    <a:lnTo>
                      <a:pt x="36" y="328"/>
                    </a:lnTo>
                    <a:lnTo>
                      <a:pt x="25" y="310"/>
                    </a:lnTo>
                    <a:lnTo>
                      <a:pt x="17" y="292"/>
                    </a:lnTo>
                    <a:lnTo>
                      <a:pt x="9" y="272"/>
                    </a:lnTo>
                    <a:lnTo>
                      <a:pt x="4" y="253"/>
                    </a:lnTo>
                    <a:lnTo>
                      <a:pt x="1" y="232"/>
                    </a:lnTo>
                    <a:lnTo>
                      <a:pt x="0" y="210"/>
                    </a:lnTo>
                    <a:lnTo>
                      <a:pt x="1" y="189"/>
                    </a:lnTo>
                    <a:lnTo>
                      <a:pt x="4" y="167"/>
                    </a:lnTo>
                    <a:lnTo>
                      <a:pt x="9" y="148"/>
                    </a:lnTo>
                    <a:lnTo>
                      <a:pt x="17" y="129"/>
                    </a:lnTo>
                    <a:lnTo>
                      <a:pt x="25" y="110"/>
                    </a:lnTo>
                    <a:lnTo>
                      <a:pt x="36" y="92"/>
                    </a:lnTo>
                    <a:lnTo>
                      <a:pt x="49" y="76"/>
                    </a:lnTo>
                    <a:lnTo>
                      <a:pt x="62" y="61"/>
                    </a:lnTo>
                    <a:lnTo>
                      <a:pt x="78" y="47"/>
                    </a:lnTo>
                    <a:lnTo>
                      <a:pt x="95" y="36"/>
                    </a:lnTo>
                    <a:lnTo>
                      <a:pt x="112" y="25"/>
                    </a:lnTo>
                    <a:lnTo>
                      <a:pt x="130" y="15"/>
                    </a:lnTo>
                    <a:lnTo>
                      <a:pt x="149" y="9"/>
                    </a:lnTo>
                    <a:lnTo>
                      <a:pt x="170" y="4"/>
                    </a:lnTo>
                    <a:lnTo>
                      <a:pt x="190" y="1"/>
                    </a:lnTo>
                    <a:lnTo>
                      <a:pt x="213" y="0"/>
                    </a:lnTo>
                    <a:lnTo>
                      <a:pt x="354" y="0"/>
                    </a:lnTo>
                    <a:lnTo>
                      <a:pt x="354" y="74"/>
                    </a:lnTo>
                    <a:lnTo>
                      <a:pt x="218" y="74"/>
                    </a:lnTo>
                    <a:lnTo>
                      <a:pt x="203" y="74"/>
                    </a:lnTo>
                    <a:lnTo>
                      <a:pt x="190" y="76"/>
                    </a:lnTo>
                    <a:lnTo>
                      <a:pt x="178" y="79"/>
                    </a:lnTo>
                    <a:lnTo>
                      <a:pt x="165" y="84"/>
                    </a:lnTo>
                    <a:lnTo>
                      <a:pt x="141" y="96"/>
                    </a:lnTo>
                    <a:lnTo>
                      <a:pt x="122" y="115"/>
                    </a:lnTo>
                    <a:lnTo>
                      <a:pt x="104" y="134"/>
                    </a:lnTo>
                    <a:lnTo>
                      <a:pt x="91" y="158"/>
                    </a:lnTo>
                    <a:lnTo>
                      <a:pt x="86" y="170"/>
                    </a:lnTo>
                    <a:lnTo>
                      <a:pt x="83" y="183"/>
                    </a:lnTo>
                    <a:lnTo>
                      <a:pt x="81" y="196"/>
                    </a:lnTo>
                    <a:lnTo>
                      <a:pt x="81" y="210"/>
                    </a:lnTo>
                    <a:lnTo>
                      <a:pt x="81" y="224"/>
                    </a:lnTo>
                    <a:lnTo>
                      <a:pt x="83" y="237"/>
                    </a:lnTo>
                    <a:lnTo>
                      <a:pt x="86" y="251"/>
                    </a:lnTo>
                    <a:lnTo>
                      <a:pt x="91" y="262"/>
                    </a:lnTo>
                    <a:lnTo>
                      <a:pt x="104" y="286"/>
                    </a:lnTo>
                    <a:lnTo>
                      <a:pt x="122" y="307"/>
                    </a:lnTo>
                    <a:lnTo>
                      <a:pt x="141" y="324"/>
                    </a:lnTo>
                    <a:lnTo>
                      <a:pt x="165" y="336"/>
                    </a:lnTo>
                    <a:lnTo>
                      <a:pt x="178" y="341"/>
                    </a:lnTo>
                    <a:lnTo>
                      <a:pt x="190" y="344"/>
                    </a:lnTo>
                    <a:lnTo>
                      <a:pt x="203" y="346"/>
                    </a:lnTo>
                    <a:lnTo>
                      <a:pt x="218" y="347"/>
                    </a:lnTo>
                    <a:lnTo>
                      <a:pt x="354" y="347"/>
                    </a:lnTo>
                    <a:lnTo>
                      <a:pt x="354" y="42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8271000" y="6472080"/>
              <a:ext cx="182880" cy="151200"/>
            </a:xfrm>
            <a:custGeom>
              <a:avLst/>
              <a:gdLst/>
              <a:ahLst/>
              <a:rect l="0" t="0" r="r" b="b"/>
              <a:pathLst>
                <a:path w="508" h="420">
                  <a:moveTo>
                    <a:pt x="210" y="420"/>
                  </a:moveTo>
                  <a:lnTo>
                    <a:pt x="188" y="420"/>
                  </a:lnTo>
                  <a:lnTo>
                    <a:pt x="167" y="417"/>
                  </a:lnTo>
                  <a:lnTo>
                    <a:pt x="146" y="411"/>
                  </a:lnTo>
                  <a:lnTo>
                    <a:pt x="127" y="405"/>
                  </a:lnTo>
                  <a:lnTo>
                    <a:pt x="110" y="395"/>
                  </a:lnTo>
                  <a:lnTo>
                    <a:pt x="92" y="386"/>
                  </a:lnTo>
                  <a:lnTo>
                    <a:pt x="76" y="373"/>
                  </a:lnTo>
                  <a:lnTo>
                    <a:pt x="60" y="360"/>
                  </a:lnTo>
                  <a:lnTo>
                    <a:pt x="47" y="344"/>
                  </a:lnTo>
                  <a:lnTo>
                    <a:pt x="35" y="328"/>
                  </a:lnTo>
                  <a:lnTo>
                    <a:pt x="25" y="310"/>
                  </a:lnTo>
                  <a:lnTo>
                    <a:pt x="15" y="292"/>
                  </a:lnTo>
                  <a:lnTo>
                    <a:pt x="9" y="272"/>
                  </a:lnTo>
                  <a:lnTo>
                    <a:pt x="3" y="253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0" y="189"/>
                  </a:lnTo>
                  <a:lnTo>
                    <a:pt x="3" y="167"/>
                  </a:lnTo>
                  <a:lnTo>
                    <a:pt x="9" y="148"/>
                  </a:lnTo>
                  <a:lnTo>
                    <a:pt x="15" y="129"/>
                  </a:lnTo>
                  <a:lnTo>
                    <a:pt x="25" y="110"/>
                  </a:lnTo>
                  <a:lnTo>
                    <a:pt x="35" y="92"/>
                  </a:lnTo>
                  <a:lnTo>
                    <a:pt x="47" y="76"/>
                  </a:lnTo>
                  <a:lnTo>
                    <a:pt x="60" y="61"/>
                  </a:lnTo>
                  <a:lnTo>
                    <a:pt x="76" y="47"/>
                  </a:lnTo>
                  <a:lnTo>
                    <a:pt x="92" y="36"/>
                  </a:lnTo>
                  <a:lnTo>
                    <a:pt x="110" y="25"/>
                  </a:lnTo>
                  <a:lnTo>
                    <a:pt x="127" y="15"/>
                  </a:lnTo>
                  <a:lnTo>
                    <a:pt x="146" y="9"/>
                  </a:lnTo>
                  <a:lnTo>
                    <a:pt x="167" y="4"/>
                  </a:lnTo>
                  <a:lnTo>
                    <a:pt x="188" y="1"/>
                  </a:lnTo>
                  <a:lnTo>
                    <a:pt x="210" y="0"/>
                  </a:lnTo>
                  <a:lnTo>
                    <a:pt x="501" y="0"/>
                  </a:lnTo>
                  <a:lnTo>
                    <a:pt x="453" y="74"/>
                  </a:lnTo>
                  <a:lnTo>
                    <a:pt x="215" y="74"/>
                  </a:lnTo>
                  <a:lnTo>
                    <a:pt x="200" y="74"/>
                  </a:lnTo>
                  <a:lnTo>
                    <a:pt x="188" y="76"/>
                  </a:lnTo>
                  <a:lnTo>
                    <a:pt x="175" y="79"/>
                  </a:lnTo>
                  <a:lnTo>
                    <a:pt x="162" y="84"/>
                  </a:lnTo>
                  <a:lnTo>
                    <a:pt x="138" y="96"/>
                  </a:lnTo>
                  <a:lnTo>
                    <a:pt x="119" y="115"/>
                  </a:lnTo>
                  <a:lnTo>
                    <a:pt x="102" y="134"/>
                  </a:lnTo>
                  <a:lnTo>
                    <a:pt x="89" y="158"/>
                  </a:lnTo>
                  <a:lnTo>
                    <a:pt x="84" y="170"/>
                  </a:lnTo>
                  <a:lnTo>
                    <a:pt x="81" y="183"/>
                  </a:lnTo>
                  <a:lnTo>
                    <a:pt x="79" y="196"/>
                  </a:lnTo>
                  <a:lnTo>
                    <a:pt x="79" y="210"/>
                  </a:lnTo>
                  <a:lnTo>
                    <a:pt x="79" y="224"/>
                  </a:lnTo>
                  <a:lnTo>
                    <a:pt x="81" y="237"/>
                  </a:lnTo>
                  <a:lnTo>
                    <a:pt x="84" y="251"/>
                  </a:lnTo>
                  <a:lnTo>
                    <a:pt x="89" y="262"/>
                  </a:lnTo>
                  <a:lnTo>
                    <a:pt x="102" y="286"/>
                  </a:lnTo>
                  <a:lnTo>
                    <a:pt x="119" y="307"/>
                  </a:lnTo>
                  <a:lnTo>
                    <a:pt x="138" y="324"/>
                  </a:lnTo>
                  <a:lnTo>
                    <a:pt x="162" y="336"/>
                  </a:lnTo>
                  <a:lnTo>
                    <a:pt x="175" y="341"/>
                  </a:lnTo>
                  <a:lnTo>
                    <a:pt x="188" y="344"/>
                  </a:lnTo>
                  <a:lnTo>
                    <a:pt x="200" y="346"/>
                  </a:lnTo>
                  <a:lnTo>
                    <a:pt x="215" y="347"/>
                  </a:lnTo>
                  <a:lnTo>
                    <a:pt x="508" y="347"/>
                  </a:lnTo>
                  <a:lnTo>
                    <a:pt x="461" y="420"/>
                  </a:lnTo>
                  <a:lnTo>
                    <a:pt x="210" y="42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23440" y="6472080"/>
              <a:ext cx="184680" cy="151200"/>
            </a:xfrm>
            <a:custGeom>
              <a:avLst/>
              <a:gdLst/>
              <a:ahLst/>
              <a:rect l="0" t="0" r="r" b="b"/>
              <a:pathLst>
                <a:path w="513" h="420">
                  <a:moveTo>
                    <a:pt x="217" y="347"/>
                  </a:moveTo>
                  <a:lnTo>
                    <a:pt x="195" y="344"/>
                  </a:lnTo>
                  <a:lnTo>
                    <a:pt x="172" y="339"/>
                  </a:lnTo>
                  <a:lnTo>
                    <a:pt x="153" y="330"/>
                  </a:lnTo>
                  <a:lnTo>
                    <a:pt x="134" y="319"/>
                  </a:lnTo>
                  <a:lnTo>
                    <a:pt x="117" y="304"/>
                  </a:lnTo>
                  <a:lnTo>
                    <a:pt x="104" y="286"/>
                  </a:lnTo>
                  <a:lnTo>
                    <a:pt x="93" y="267"/>
                  </a:lnTo>
                  <a:lnTo>
                    <a:pt x="84" y="246"/>
                  </a:lnTo>
                  <a:lnTo>
                    <a:pt x="434" y="246"/>
                  </a:lnTo>
                  <a:lnTo>
                    <a:pt x="483" y="173"/>
                  </a:lnTo>
                  <a:lnTo>
                    <a:pt x="84" y="173"/>
                  </a:lnTo>
                  <a:lnTo>
                    <a:pt x="93" y="153"/>
                  </a:lnTo>
                  <a:lnTo>
                    <a:pt x="104" y="134"/>
                  </a:lnTo>
                  <a:lnTo>
                    <a:pt x="117" y="116"/>
                  </a:lnTo>
                  <a:lnTo>
                    <a:pt x="134" y="101"/>
                  </a:lnTo>
                  <a:lnTo>
                    <a:pt x="153" y="90"/>
                  </a:lnTo>
                  <a:lnTo>
                    <a:pt x="172" y="80"/>
                  </a:lnTo>
                  <a:lnTo>
                    <a:pt x="195" y="76"/>
                  </a:lnTo>
                  <a:lnTo>
                    <a:pt x="217" y="74"/>
                  </a:lnTo>
                  <a:lnTo>
                    <a:pt x="459" y="74"/>
                  </a:lnTo>
                  <a:lnTo>
                    <a:pt x="505" y="0"/>
                  </a:lnTo>
                  <a:lnTo>
                    <a:pt x="212" y="0"/>
                  </a:lnTo>
                  <a:lnTo>
                    <a:pt x="190" y="1"/>
                  </a:lnTo>
                  <a:lnTo>
                    <a:pt x="169" y="4"/>
                  </a:lnTo>
                  <a:lnTo>
                    <a:pt x="150" y="9"/>
                  </a:lnTo>
                  <a:lnTo>
                    <a:pt x="129" y="15"/>
                  </a:lnTo>
                  <a:lnTo>
                    <a:pt x="110" y="25"/>
                  </a:lnTo>
                  <a:lnTo>
                    <a:pt x="93" y="36"/>
                  </a:lnTo>
                  <a:lnTo>
                    <a:pt x="76" y="47"/>
                  </a:lnTo>
                  <a:lnTo>
                    <a:pt x="60" y="61"/>
                  </a:lnTo>
                  <a:lnTo>
                    <a:pt x="48" y="76"/>
                  </a:lnTo>
                  <a:lnTo>
                    <a:pt x="35" y="92"/>
                  </a:lnTo>
                  <a:lnTo>
                    <a:pt x="25" y="110"/>
                  </a:lnTo>
                  <a:lnTo>
                    <a:pt x="16" y="129"/>
                  </a:lnTo>
                  <a:lnTo>
                    <a:pt x="9" y="148"/>
                  </a:lnTo>
                  <a:lnTo>
                    <a:pt x="3" y="167"/>
                  </a:lnTo>
                  <a:lnTo>
                    <a:pt x="0" y="18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3" y="253"/>
                  </a:lnTo>
                  <a:lnTo>
                    <a:pt x="9" y="272"/>
                  </a:lnTo>
                  <a:lnTo>
                    <a:pt x="16" y="292"/>
                  </a:lnTo>
                  <a:lnTo>
                    <a:pt x="25" y="310"/>
                  </a:lnTo>
                  <a:lnTo>
                    <a:pt x="35" y="328"/>
                  </a:lnTo>
                  <a:lnTo>
                    <a:pt x="48" y="344"/>
                  </a:lnTo>
                  <a:lnTo>
                    <a:pt x="60" y="360"/>
                  </a:lnTo>
                  <a:lnTo>
                    <a:pt x="76" y="373"/>
                  </a:lnTo>
                  <a:lnTo>
                    <a:pt x="93" y="386"/>
                  </a:lnTo>
                  <a:lnTo>
                    <a:pt x="110" y="395"/>
                  </a:lnTo>
                  <a:lnTo>
                    <a:pt x="129" y="405"/>
                  </a:lnTo>
                  <a:lnTo>
                    <a:pt x="150" y="411"/>
                  </a:lnTo>
                  <a:lnTo>
                    <a:pt x="169" y="417"/>
                  </a:lnTo>
                  <a:lnTo>
                    <a:pt x="190" y="420"/>
                  </a:lnTo>
                  <a:lnTo>
                    <a:pt x="212" y="420"/>
                  </a:lnTo>
                  <a:lnTo>
                    <a:pt x="465" y="420"/>
                  </a:lnTo>
                  <a:lnTo>
                    <a:pt x="513" y="347"/>
                  </a:lnTo>
                  <a:lnTo>
                    <a:pt x="217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971800" y="3298680"/>
            <a:ext cx="616104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906640" y="1508040"/>
            <a:ext cx="623556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lie Basu a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kehard Rohwed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86120" y="3535200"/>
            <a:ext cx="58752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Product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cl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632720" y="6470640"/>
            <a:ext cx="1215000" cy="152640"/>
            <a:chOff x="7632720" y="6470640"/>
            <a:chExt cx="1215000" cy="152640"/>
          </a:xfrm>
        </p:grpSpPr>
        <p:grpSp>
          <p:nvGrpSpPr>
            <p:cNvPr id="176" name=""/>
            <p:cNvGrpSpPr/>
            <p:nvPr/>
          </p:nvGrpSpPr>
          <p:grpSpPr>
            <a:xfrm>
              <a:off x="8813880" y="6472080"/>
              <a:ext cx="33840" cy="32400"/>
              <a:chOff x="8813880" y="6472080"/>
              <a:chExt cx="33840" cy="32400"/>
            </a:xfrm>
          </p:grpSpPr>
          <p:sp>
            <p:nvSpPr>
              <p:cNvPr id="177" name=""/>
              <p:cNvSpPr/>
              <p:nvPr/>
            </p:nvSpPr>
            <p:spPr>
              <a:xfrm>
                <a:off x="8813880" y="64720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w="76" h="76">
                    <a:moveTo>
                      <a:pt x="37" y="7"/>
                    </a:moveTo>
                    <a:lnTo>
                      <a:pt x="43" y="7"/>
                    </a:lnTo>
                    <a:lnTo>
                      <a:pt x="49" y="8"/>
                    </a:lnTo>
                    <a:lnTo>
                      <a:pt x="54" y="11"/>
                    </a:lnTo>
                    <a:lnTo>
                      <a:pt x="60" y="16"/>
                    </a:lnTo>
                    <a:lnTo>
                      <a:pt x="64" y="21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69" y="38"/>
                    </a:lnTo>
                    <a:lnTo>
                      <a:pt x="69" y="42"/>
                    </a:lnTo>
                    <a:lnTo>
                      <a:pt x="67" y="48"/>
                    </a:lnTo>
                    <a:lnTo>
                      <a:pt x="64" y="54"/>
                    </a:lnTo>
                    <a:lnTo>
                      <a:pt x="60" y="58"/>
                    </a:lnTo>
                    <a:lnTo>
                      <a:pt x="54" y="63"/>
                    </a:lnTo>
                    <a:lnTo>
                      <a:pt x="49" y="66"/>
                    </a:lnTo>
                    <a:lnTo>
                      <a:pt x="43" y="67"/>
                    </a:lnTo>
                    <a:lnTo>
                      <a:pt x="37" y="67"/>
                    </a:lnTo>
                    <a:lnTo>
                      <a:pt x="33" y="67"/>
                    </a:lnTo>
                    <a:lnTo>
                      <a:pt x="27" y="66"/>
                    </a:lnTo>
                    <a:lnTo>
                      <a:pt x="20" y="63"/>
                    </a:lnTo>
                    <a:lnTo>
                      <a:pt x="16" y="58"/>
                    </a:lnTo>
                    <a:lnTo>
                      <a:pt x="12" y="54"/>
                    </a:lnTo>
                    <a:lnTo>
                      <a:pt x="9" y="48"/>
                    </a:lnTo>
                    <a:lnTo>
                      <a:pt x="7" y="42"/>
                    </a:lnTo>
                    <a:lnTo>
                      <a:pt x="7" y="38"/>
                    </a:lnTo>
                    <a:lnTo>
                      <a:pt x="7" y="32"/>
                    </a:lnTo>
                    <a:lnTo>
                      <a:pt x="9" y="26"/>
                    </a:lnTo>
                    <a:lnTo>
                      <a:pt x="12" y="21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8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6" y="60"/>
                    </a:lnTo>
                    <a:lnTo>
                      <a:pt x="10" y="64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5"/>
                    </a:lnTo>
                    <a:lnTo>
                      <a:pt x="37" y="76"/>
                    </a:lnTo>
                    <a:lnTo>
                      <a:pt x="46" y="75"/>
                    </a:lnTo>
                    <a:lnTo>
                      <a:pt x="53" y="73"/>
                    </a:lnTo>
                    <a:lnTo>
                      <a:pt x="60" y="69"/>
                    </a:lnTo>
                    <a:lnTo>
                      <a:pt x="66" y="64"/>
                    </a:lnTo>
                    <a:lnTo>
                      <a:pt x="70" y="60"/>
                    </a:lnTo>
                    <a:lnTo>
                      <a:pt x="75" y="51"/>
                    </a:lnTo>
                    <a:lnTo>
                      <a:pt x="76" y="45"/>
                    </a:lnTo>
                    <a:lnTo>
                      <a:pt x="76" y="38"/>
                    </a:lnTo>
                    <a:lnTo>
                      <a:pt x="76" y="30"/>
                    </a:lnTo>
                    <a:lnTo>
                      <a:pt x="75" y="23"/>
                    </a:lnTo>
                    <a:lnTo>
                      <a:pt x="70" y="16"/>
                    </a:lnTo>
                    <a:lnTo>
                      <a:pt x="66" y="10"/>
                    </a:lnTo>
                    <a:lnTo>
                      <a:pt x="60" y="5"/>
                    </a:lnTo>
                    <a:lnTo>
                      <a:pt x="53" y="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7" y="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821800" y="647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2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9" y="5"/>
                    </a:lnTo>
                    <a:lnTo>
                      <a:pt x="65" y="10"/>
                    </a:lnTo>
                    <a:lnTo>
                      <a:pt x="69" y="17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9" y="28"/>
                    </a:lnTo>
                    <a:lnTo>
                      <a:pt x="65" y="33"/>
                    </a:lnTo>
                    <a:lnTo>
                      <a:pt x="55" y="38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72" y="72"/>
                    </a:lnTo>
                    <a:lnTo>
                      <a:pt x="51" y="72"/>
                    </a:lnTo>
                    <a:lnTo>
                      <a:pt x="31" y="43"/>
                    </a:lnTo>
                    <a:lnTo>
                      <a:pt x="16" y="43"/>
                    </a:lnTo>
                    <a:lnTo>
                      <a:pt x="16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41" y="31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5"/>
                    </a:lnTo>
                    <a:lnTo>
                      <a:pt x="41" y="12"/>
                    </a:lnTo>
                    <a:lnTo>
                      <a:pt x="34" y="10"/>
                    </a:lnTo>
                    <a:lnTo>
                      <a:pt x="24" y="10"/>
                    </a:lnTo>
                    <a:lnTo>
                      <a:pt x="1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8066160" y="6470640"/>
              <a:ext cx="219600" cy="152640"/>
            </a:xfrm>
            <a:custGeom>
              <a:avLst/>
              <a:gdLst/>
              <a:ahLst/>
              <a:rect l="0" t="0" r="r" b="b"/>
              <a:pathLst>
                <a:path w="610" h="424">
                  <a:moveTo>
                    <a:pt x="202" y="276"/>
                  </a:moveTo>
                  <a:lnTo>
                    <a:pt x="418" y="276"/>
                  </a:lnTo>
                  <a:lnTo>
                    <a:pt x="304" y="93"/>
                  </a:lnTo>
                  <a:lnTo>
                    <a:pt x="95" y="424"/>
                  </a:lnTo>
                  <a:lnTo>
                    <a:pt x="0" y="424"/>
                  </a:lnTo>
                  <a:lnTo>
                    <a:pt x="255" y="26"/>
                  </a:lnTo>
                  <a:lnTo>
                    <a:pt x="264" y="15"/>
                  </a:lnTo>
                  <a:lnTo>
                    <a:pt x="275" y="7"/>
                  </a:lnTo>
                  <a:lnTo>
                    <a:pt x="290" y="1"/>
                  </a:lnTo>
                  <a:lnTo>
                    <a:pt x="304" y="0"/>
                  </a:lnTo>
                  <a:lnTo>
                    <a:pt x="318" y="1"/>
                  </a:lnTo>
                  <a:lnTo>
                    <a:pt x="333" y="7"/>
                  </a:lnTo>
                  <a:lnTo>
                    <a:pt x="344" y="15"/>
                  </a:lnTo>
                  <a:lnTo>
                    <a:pt x="353" y="25"/>
                  </a:lnTo>
                  <a:lnTo>
                    <a:pt x="355" y="26"/>
                  </a:lnTo>
                  <a:lnTo>
                    <a:pt x="356" y="30"/>
                  </a:lnTo>
                  <a:lnTo>
                    <a:pt x="360" y="34"/>
                  </a:lnTo>
                  <a:lnTo>
                    <a:pt x="364" y="42"/>
                  </a:lnTo>
                  <a:lnTo>
                    <a:pt x="371" y="52"/>
                  </a:lnTo>
                  <a:lnTo>
                    <a:pt x="377" y="61"/>
                  </a:lnTo>
                  <a:lnTo>
                    <a:pt x="385" y="74"/>
                  </a:lnTo>
                  <a:lnTo>
                    <a:pt x="393" y="87"/>
                  </a:lnTo>
                  <a:lnTo>
                    <a:pt x="412" y="117"/>
                  </a:lnTo>
                  <a:lnTo>
                    <a:pt x="434" y="152"/>
                  </a:lnTo>
                  <a:lnTo>
                    <a:pt x="458" y="187"/>
                  </a:lnTo>
                  <a:lnTo>
                    <a:pt x="481" y="226"/>
                  </a:lnTo>
                  <a:lnTo>
                    <a:pt x="505" y="262"/>
                  </a:lnTo>
                  <a:lnTo>
                    <a:pt x="529" y="299"/>
                  </a:lnTo>
                  <a:lnTo>
                    <a:pt x="550" y="332"/>
                  </a:lnTo>
                  <a:lnTo>
                    <a:pt x="570" y="362"/>
                  </a:lnTo>
                  <a:lnTo>
                    <a:pt x="578" y="375"/>
                  </a:lnTo>
                  <a:lnTo>
                    <a:pt x="586" y="387"/>
                  </a:lnTo>
                  <a:lnTo>
                    <a:pt x="593" y="398"/>
                  </a:lnTo>
                  <a:lnTo>
                    <a:pt x="599" y="406"/>
                  </a:lnTo>
                  <a:lnTo>
                    <a:pt x="604" y="414"/>
                  </a:lnTo>
                  <a:lnTo>
                    <a:pt x="607" y="419"/>
                  </a:lnTo>
                  <a:lnTo>
                    <a:pt x="608" y="424"/>
                  </a:lnTo>
                  <a:lnTo>
                    <a:pt x="610" y="424"/>
                  </a:lnTo>
                  <a:lnTo>
                    <a:pt x="515" y="424"/>
                  </a:lnTo>
                  <a:lnTo>
                    <a:pt x="470" y="351"/>
                  </a:lnTo>
                  <a:lnTo>
                    <a:pt x="250" y="351"/>
                  </a:lnTo>
                  <a:lnTo>
                    <a:pt x="202" y="276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66120" y="6472080"/>
              <a:ext cx="163800" cy="151200"/>
            </a:xfrm>
            <a:custGeom>
              <a:avLst/>
              <a:gdLst/>
              <a:ahLst/>
              <a:rect l="0" t="0" r="r" b="b"/>
              <a:pathLst>
                <a:path w="455" h="420">
                  <a:moveTo>
                    <a:pt x="79" y="347"/>
                  </a:moveTo>
                  <a:lnTo>
                    <a:pt x="79" y="0"/>
                  </a:lnTo>
                  <a:lnTo>
                    <a:pt x="0" y="0"/>
                  </a:lnTo>
                  <a:lnTo>
                    <a:pt x="0" y="381"/>
                  </a:lnTo>
                  <a:lnTo>
                    <a:pt x="0" y="389"/>
                  </a:lnTo>
                  <a:lnTo>
                    <a:pt x="1" y="395"/>
                  </a:lnTo>
                  <a:lnTo>
                    <a:pt x="6" y="403"/>
                  </a:lnTo>
                  <a:lnTo>
                    <a:pt x="11" y="409"/>
                  </a:lnTo>
                  <a:lnTo>
                    <a:pt x="17" y="414"/>
                  </a:lnTo>
                  <a:lnTo>
                    <a:pt x="23" y="417"/>
                  </a:lnTo>
                  <a:lnTo>
                    <a:pt x="31" y="420"/>
                  </a:lnTo>
                  <a:lnTo>
                    <a:pt x="41" y="420"/>
                  </a:lnTo>
                  <a:lnTo>
                    <a:pt x="407" y="420"/>
                  </a:lnTo>
                  <a:lnTo>
                    <a:pt x="455" y="347"/>
                  </a:lnTo>
                  <a:lnTo>
                    <a:pt x="79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88320" y="6472080"/>
              <a:ext cx="176400" cy="151200"/>
            </a:xfrm>
            <a:custGeom>
              <a:avLst/>
              <a:gdLst/>
              <a:ahLst/>
              <a:rect l="0" t="0" r="r" b="b"/>
              <a:pathLst>
                <a:path w="490" h="420">
                  <a:moveTo>
                    <a:pt x="350" y="285"/>
                  </a:moveTo>
                  <a:lnTo>
                    <a:pt x="364" y="283"/>
                  </a:lnTo>
                  <a:lnTo>
                    <a:pt x="379" y="281"/>
                  </a:lnTo>
                  <a:lnTo>
                    <a:pt x="391" y="278"/>
                  </a:lnTo>
                  <a:lnTo>
                    <a:pt x="404" y="273"/>
                  </a:lnTo>
                  <a:lnTo>
                    <a:pt x="416" y="267"/>
                  </a:lnTo>
                  <a:lnTo>
                    <a:pt x="429" y="259"/>
                  </a:lnTo>
                  <a:lnTo>
                    <a:pt x="440" y="251"/>
                  </a:lnTo>
                  <a:lnTo>
                    <a:pt x="449" y="242"/>
                  </a:lnTo>
                  <a:lnTo>
                    <a:pt x="459" y="232"/>
                  </a:lnTo>
                  <a:lnTo>
                    <a:pt x="466" y="221"/>
                  </a:lnTo>
                  <a:lnTo>
                    <a:pt x="473" y="210"/>
                  </a:lnTo>
                  <a:lnTo>
                    <a:pt x="479" y="197"/>
                  </a:lnTo>
                  <a:lnTo>
                    <a:pt x="484" y="185"/>
                  </a:lnTo>
                  <a:lnTo>
                    <a:pt x="487" y="170"/>
                  </a:lnTo>
                  <a:lnTo>
                    <a:pt x="490" y="156"/>
                  </a:lnTo>
                  <a:lnTo>
                    <a:pt x="490" y="142"/>
                  </a:lnTo>
                  <a:lnTo>
                    <a:pt x="490" y="127"/>
                  </a:lnTo>
                  <a:lnTo>
                    <a:pt x="487" y="113"/>
                  </a:lnTo>
                  <a:lnTo>
                    <a:pt x="484" y="99"/>
                  </a:lnTo>
                  <a:lnTo>
                    <a:pt x="479" y="87"/>
                  </a:lnTo>
                  <a:lnTo>
                    <a:pt x="473" y="74"/>
                  </a:lnTo>
                  <a:lnTo>
                    <a:pt x="466" y="61"/>
                  </a:lnTo>
                  <a:lnTo>
                    <a:pt x="459" y="50"/>
                  </a:lnTo>
                  <a:lnTo>
                    <a:pt x="449" y="41"/>
                  </a:lnTo>
                  <a:lnTo>
                    <a:pt x="440" y="31"/>
                  </a:lnTo>
                  <a:lnTo>
                    <a:pt x="429" y="23"/>
                  </a:lnTo>
                  <a:lnTo>
                    <a:pt x="416" y="17"/>
                  </a:lnTo>
                  <a:lnTo>
                    <a:pt x="404" y="11"/>
                  </a:lnTo>
                  <a:lnTo>
                    <a:pt x="391" y="6"/>
                  </a:lnTo>
                  <a:lnTo>
                    <a:pt x="379" y="3"/>
                  </a:lnTo>
                  <a:lnTo>
                    <a:pt x="364" y="0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420"/>
                  </a:lnTo>
                  <a:lnTo>
                    <a:pt x="80" y="420"/>
                  </a:lnTo>
                  <a:lnTo>
                    <a:pt x="80" y="74"/>
                  </a:lnTo>
                  <a:lnTo>
                    <a:pt x="344" y="74"/>
                  </a:lnTo>
                  <a:lnTo>
                    <a:pt x="358" y="74"/>
                  </a:lnTo>
                  <a:lnTo>
                    <a:pt x="371" y="79"/>
                  </a:lnTo>
                  <a:lnTo>
                    <a:pt x="382" y="85"/>
                  </a:lnTo>
                  <a:lnTo>
                    <a:pt x="393" y="93"/>
                  </a:lnTo>
                  <a:lnTo>
                    <a:pt x="401" y="103"/>
                  </a:lnTo>
                  <a:lnTo>
                    <a:pt x="407" y="116"/>
                  </a:lnTo>
                  <a:lnTo>
                    <a:pt x="410" y="129"/>
                  </a:lnTo>
                  <a:lnTo>
                    <a:pt x="412" y="142"/>
                  </a:lnTo>
                  <a:lnTo>
                    <a:pt x="410" y="156"/>
                  </a:lnTo>
                  <a:lnTo>
                    <a:pt x="407" y="169"/>
                  </a:lnTo>
                  <a:lnTo>
                    <a:pt x="401" y="180"/>
                  </a:lnTo>
                  <a:lnTo>
                    <a:pt x="393" y="191"/>
                  </a:lnTo>
                  <a:lnTo>
                    <a:pt x="382" y="199"/>
                  </a:lnTo>
                  <a:lnTo>
                    <a:pt x="371" y="205"/>
                  </a:lnTo>
                  <a:lnTo>
                    <a:pt x="358" y="208"/>
                  </a:lnTo>
                  <a:lnTo>
                    <a:pt x="344" y="210"/>
                  </a:lnTo>
                  <a:lnTo>
                    <a:pt x="119" y="210"/>
                  </a:lnTo>
                  <a:lnTo>
                    <a:pt x="358" y="420"/>
                  </a:lnTo>
                  <a:lnTo>
                    <a:pt x="474" y="420"/>
                  </a:lnTo>
                  <a:lnTo>
                    <a:pt x="313" y="285"/>
                  </a:lnTo>
                  <a:lnTo>
                    <a:pt x="350" y="28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632720" y="6472080"/>
              <a:ext cx="238320" cy="151200"/>
              <a:chOff x="7632720" y="6472080"/>
              <a:chExt cx="238320" cy="151200"/>
            </a:xfrm>
          </p:grpSpPr>
          <p:sp>
            <p:nvSpPr>
              <p:cNvPr id="183" name=""/>
              <p:cNvSpPr/>
              <p:nvPr/>
            </p:nvSpPr>
            <p:spPr>
              <a:xfrm>
                <a:off x="7745400" y="6472080"/>
                <a:ext cx="125640" cy="151200"/>
              </a:xfrm>
              <a:custGeom>
                <a:avLst/>
                <a:gdLst/>
                <a:ahLst/>
                <a:rect l="0" t="0" r="r" b="b"/>
                <a:pathLst>
                  <a:path w="349" h="420">
                    <a:moveTo>
                      <a:pt x="0" y="347"/>
                    </a:moveTo>
                    <a:lnTo>
                      <a:pt x="135" y="347"/>
                    </a:lnTo>
                    <a:lnTo>
                      <a:pt x="149" y="346"/>
                    </a:lnTo>
                    <a:lnTo>
                      <a:pt x="162" y="344"/>
                    </a:lnTo>
                    <a:lnTo>
                      <a:pt x="174" y="341"/>
                    </a:lnTo>
                    <a:lnTo>
                      <a:pt x="188" y="336"/>
                    </a:lnTo>
                    <a:lnTo>
                      <a:pt x="212" y="324"/>
                    </a:lnTo>
                    <a:lnTo>
                      <a:pt x="231" y="307"/>
                    </a:lnTo>
                    <a:lnTo>
                      <a:pt x="248" y="286"/>
                    </a:lnTo>
                    <a:lnTo>
                      <a:pt x="261" y="262"/>
                    </a:lnTo>
                    <a:lnTo>
                      <a:pt x="264" y="251"/>
                    </a:lnTo>
                    <a:lnTo>
                      <a:pt x="268" y="237"/>
                    </a:lnTo>
                    <a:lnTo>
                      <a:pt x="270" y="224"/>
                    </a:lnTo>
                    <a:lnTo>
                      <a:pt x="270" y="210"/>
                    </a:lnTo>
                    <a:lnTo>
                      <a:pt x="270" y="196"/>
                    </a:lnTo>
                    <a:lnTo>
                      <a:pt x="268" y="183"/>
                    </a:lnTo>
                    <a:lnTo>
                      <a:pt x="264" y="170"/>
                    </a:lnTo>
                    <a:lnTo>
                      <a:pt x="261" y="158"/>
                    </a:lnTo>
                    <a:lnTo>
                      <a:pt x="248" y="134"/>
                    </a:lnTo>
                    <a:lnTo>
                      <a:pt x="231" y="115"/>
                    </a:lnTo>
                    <a:lnTo>
                      <a:pt x="212" y="96"/>
                    </a:lnTo>
                    <a:lnTo>
                      <a:pt x="188" y="84"/>
                    </a:lnTo>
                    <a:lnTo>
                      <a:pt x="174" y="79"/>
                    </a:lnTo>
                    <a:lnTo>
                      <a:pt x="162" y="76"/>
                    </a:lnTo>
                    <a:lnTo>
                      <a:pt x="149" y="74"/>
                    </a:lnTo>
                    <a:lnTo>
                      <a:pt x="135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40" y="0"/>
                    </a:lnTo>
                    <a:lnTo>
                      <a:pt x="162" y="1"/>
                    </a:lnTo>
                    <a:lnTo>
                      <a:pt x="183" y="4"/>
                    </a:lnTo>
                    <a:lnTo>
                      <a:pt x="202" y="9"/>
                    </a:lnTo>
                    <a:lnTo>
                      <a:pt x="223" y="15"/>
                    </a:lnTo>
                    <a:lnTo>
                      <a:pt x="240" y="25"/>
                    </a:lnTo>
                    <a:lnTo>
                      <a:pt x="257" y="36"/>
                    </a:lnTo>
                    <a:lnTo>
                      <a:pt x="273" y="47"/>
                    </a:lnTo>
                    <a:lnTo>
                      <a:pt x="289" y="61"/>
                    </a:lnTo>
                    <a:lnTo>
                      <a:pt x="302" y="76"/>
                    </a:lnTo>
                    <a:lnTo>
                      <a:pt x="314" y="92"/>
                    </a:lnTo>
                    <a:lnTo>
                      <a:pt x="324" y="110"/>
                    </a:lnTo>
                    <a:lnTo>
                      <a:pt x="333" y="129"/>
                    </a:lnTo>
                    <a:lnTo>
                      <a:pt x="339" y="148"/>
                    </a:lnTo>
                    <a:lnTo>
                      <a:pt x="346" y="167"/>
                    </a:lnTo>
                    <a:lnTo>
                      <a:pt x="349" y="189"/>
                    </a:lnTo>
                    <a:lnTo>
                      <a:pt x="349" y="210"/>
                    </a:lnTo>
                    <a:lnTo>
                      <a:pt x="349" y="232"/>
                    </a:lnTo>
                    <a:lnTo>
                      <a:pt x="346" y="253"/>
                    </a:lnTo>
                    <a:lnTo>
                      <a:pt x="339" y="272"/>
                    </a:lnTo>
                    <a:lnTo>
                      <a:pt x="333" y="292"/>
                    </a:lnTo>
                    <a:lnTo>
                      <a:pt x="324" y="310"/>
                    </a:lnTo>
                    <a:lnTo>
                      <a:pt x="314" y="328"/>
                    </a:lnTo>
                    <a:lnTo>
                      <a:pt x="302" y="344"/>
                    </a:lnTo>
                    <a:lnTo>
                      <a:pt x="289" y="360"/>
                    </a:lnTo>
                    <a:lnTo>
                      <a:pt x="273" y="373"/>
                    </a:lnTo>
                    <a:lnTo>
                      <a:pt x="257" y="386"/>
                    </a:lnTo>
                    <a:lnTo>
                      <a:pt x="240" y="395"/>
                    </a:lnTo>
                    <a:lnTo>
                      <a:pt x="223" y="405"/>
                    </a:lnTo>
                    <a:lnTo>
                      <a:pt x="202" y="411"/>
                    </a:lnTo>
                    <a:lnTo>
                      <a:pt x="183" y="417"/>
                    </a:lnTo>
                    <a:lnTo>
                      <a:pt x="162" y="420"/>
                    </a:lnTo>
                    <a:lnTo>
                      <a:pt x="140" y="420"/>
                    </a:lnTo>
                    <a:lnTo>
                      <a:pt x="0" y="420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32720" y="6472080"/>
                <a:ext cx="127440" cy="151200"/>
              </a:xfrm>
              <a:custGeom>
                <a:avLst/>
                <a:gdLst/>
                <a:ahLst/>
                <a:rect l="0" t="0" r="r" b="b"/>
                <a:pathLst>
                  <a:path w="354" h="420">
                    <a:moveTo>
                      <a:pt x="354" y="420"/>
                    </a:moveTo>
                    <a:lnTo>
                      <a:pt x="213" y="420"/>
                    </a:lnTo>
                    <a:lnTo>
                      <a:pt x="190" y="420"/>
                    </a:lnTo>
                    <a:lnTo>
                      <a:pt x="170" y="417"/>
                    </a:lnTo>
                    <a:lnTo>
                      <a:pt x="149" y="411"/>
                    </a:lnTo>
                    <a:lnTo>
                      <a:pt x="130" y="405"/>
                    </a:lnTo>
                    <a:lnTo>
                      <a:pt x="112" y="395"/>
                    </a:lnTo>
                    <a:lnTo>
                      <a:pt x="95" y="386"/>
                    </a:lnTo>
                    <a:lnTo>
                      <a:pt x="78" y="373"/>
                    </a:lnTo>
                    <a:lnTo>
                      <a:pt x="62" y="360"/>
                    </a:lnTo>
                    <a:lnTo>
                      <a:pt x="49" y="344"/>
                    </a:lnTo>
                    <a:lnTo>
                      <a:pt x="36" y="328"/>
                    </a:lnTo>
                    <a:lnTo>
                      <a:pt x="25" y="310"/>
                    </a:lnTo>
                    <a:lnTo>
                      <a:pt x="17" y="292"/>
                    </a:lnTo>
                    <a:lnTo>
                      <a:pt x="9" y="272"/>
                    </a:lnTo>
                    <a:lnTo>
                      <a:pt x="4" y="253"/>
                    </a:lnTo>
                    <a:lnTo>
                      <a:pt x="1" y="232"/>
                    </a:lnTo>
                    <a:lnTo>
                      <a:pt x="0" y="210"/>
                    </a:lnTo>
                    <a:lnTo>
                      <a:pt x="1" y="189"/>
                    </a:lnTo>
                    <a:lnTo>
                      <a:pt x="4" y="167"/>
                    </a:lnTo>
                    <a:lnTo>
                      <a:pt x="9" y="148"/>
                    </a:lnTo>
                    <a:lnTo>
                      <a:pt x="17" y="129"/>
                    </a:lnTo>
                    <a:lnTo>
                      <a:pt x="25" y="110"/>
                    </a:lnTo>
                    <a:lnTo>
                      <a:pt x="36" y="92"/>
                    </a:lnTo>
                    <a:lnTo>
                      <a:pt x="49" y="76"/>
                    </a:lnTo>
                    <a:lnTo>
                      <a:pt x="62" y="61"/>
                    </a:lnTo>
                    <a:lnTo>
                      <a:pt x="78" y="47"/>
                    </a:lnTo>
                    <a:lnTo>
                      <a:pt x="95" y="36"/>
                    </a:lnTo>
                    <a:lnTo>
                      <a:pt x="112" y="25"/>
                    </a:lnTo>
                    <a:lnTo>
                      <a:pt x="130" y="15"/>
                    </a:lnTo>
                    <a:lnTo>
                      <a:pt x="149" y="9"/>
                    </a:lnTo>
                    <a:lnTo>
                      <a:pt x="170" y="4"/>
                    </a:lnTo>
                    <a:lnTo>
                      <a:pt x="190" y="1"/>
                    </a:lnTo>
                    <a:lnTo>
                      <a:pt x="213" y="0"/>
                    </a:lnTo>
                    <a:lnTo>
                      <a:pt x="354" y="0"/>
                    </a:lnTo>
                    <a:lnTo>
                      <a:pt x="354" y="74"/>
                    </a:lnTo>
                    <a:lnTo>
                      <a:pt x="218" y="74"/>
                    </a:lnTo>
                    <a:lnTo>
                      <a:pt x="203" y="74"/>
                    </a:lnTo>
                    <a:lnTo>
                      <a:pt x="190" y="76"/>
                    </a:lnTo>
                    <a:lnTo>
                      <a:pt x="178" y="79"/>
                    </a:lnTo>
                    <a:lnTo>
                      <a:pt x="165" y="84"/>
                    </a:lnTo>
                    <a:lnTo>
                      <a:pt x="141" y="96"/>
                    </a:lnTo>
                    <a:lnTo>
                      <a:pt x="122" y="115"/>
                    </a:lnTo>
                    <a:lnTo>
                      <a:pt x="104" y="134"/>
                    </a:lnTo>
                    <a:lnTo>
                      <a:pt x="91" y="158"/>
                    </a:lnTo>
                    <a:lnTo>
                      <a:pt x="86" y="170"/>
                    </a:lnTo>
                    <a:lnTo>
                      <a:pt x="83" y="183"/>
                    </a:lnTo>
                    <a:lnTo>
                      <a:pt x="81" y="196"/>
                    </a:lnTo>
                    <a:lnTo>
                      <a:pt x="81" y="210"/>
                    </a:lnTo>
                    <a:lnTo>
                      <a:pt x="81" y="224"/>
                    </a:lnTo>
                    <a:lnTo>
                      <a:pt x="83" y="237"/>
                    </a:lnTo>
                    <a:lnTo>
                      <a:pt x="86" y="251"/>
                    </a:lnTo>
                    <a:lnTo>
                      <a:pt x="91" y="262"/>
                    </a:lnTo>
                    <a:lnTo>
                      <a:pt x="104" y="286"/>
                    </a:lnTo>
                    <a:lnTo>
                      <a:pt x="122" y="307"/>
                    </a:lnTo>
                    <a:lnTo>
                      <a:pt x="141" y="324"/>
                    </a:lnTo>
                    <a:lnTo>
                      <a:pt x="165" y="336"/>
                    </a:lnTo>
                    <a:lnTo>
                      <a:pt x="178" y="341"/>
                    </a:lnTo>
                    <a:lnTo>
                      <a:pt x="190" y="344"/>
                    </a:lnTo>
                    <a:lnTo>
                      <a:pt x="203" y="346"/>
                    </a:lnTo>
                    <a:lnTo>
                      <a:pt x="218" y="347"/>
                    </a:lnTo>
                    <a:lnTo>
                      <a:pt x="354" y="347"/>
                    </a:lnTo>
                    <a:lnTo>
                      <a:pt x="354" y="42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8271000" y="6472080"/>
              <a:ext cx="182880" cy="151200"/>
            </a:xfrm>
            <a:custGeom>
              <a:avLst/>
              <a:gdLst/>
              <a:ahLst/>
              <a:rect l="0" t="0" r="r" b="b"/>
              <a:pathLst>
                <a:path w="508" h="420">
                  <a:moveTo>
                    <a:pt x="210" y="420"/>
                  </a:moveTo>
                  <a:lnTo>
                    <a:pt x="188" y="420"/>
                  </a:lnTo>
                  <a:lnTo>
                    <a:pt x="167" y="417"/>
                  </a:lnTo>
                  <a:lnTo>
                    <a:pt x="146" y="411"/>
                  </a:lnTo>
                  <a:lnTo>
                    <a:pt x="127" y="405"/>
                  </a:lnTo>
                  <a:lnTo>
                    <a:pt x="110" y="395"/>
                  </a:lnTo>
                  <a:lnTo>
                    <a:pt x="92" y="386"/>
                  </a:lnTo>
                  <a:lnTo>
                    <a:pt x="76" y="373"/>
                  </a:lnTo>
                  <a:lnTo>
                    <a:pt x="60" y="360"/>
                  </a:lnTo>
                  <a:lnTo>
                    <a:pt x="47" y="344"/>
                  </a:lnTo>
                  <a:lnTo>
                    <a:pt x="35" y="328"/>
                  </a:lnTo>
                  <a:lnTo>
                    <a:pt x="25" y="310"/>
                  </a:lnTo>
                  <a:lnTo>
                    <a:pt x="15" y="292"/>
                  </a:lnTo>
                  <a:lnTo>
                    <a:pt x="9" y="272"/>
                  </a:lnTo>
                  <a:lnTo>
                    <a:pt x="3" y="253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0" y="189"/>
                  </a:lnTo>
                  <a:lnTo>
                    <a:pt x="3" y="167"/>
                  </a:lnTo>
                  <a:lnTo>
                    <a:pt x="9" y="148"/>
                  </a:lnTo>
                  <a:lnTo>
                    <a:pt x="15" y="129"/>
                  </a:lnTo>
                  <a:lnTo>
                    <a:pt x="25" y="110"/>
                  </a:lnTo>
                  <a:lnTo>
                    <a:pt x="35" y="92"/>
                  </a:lnTo>
                  <a:lnTo>
                    <a:pt x="47" y="76"/>
                  </a:lnTo>
                  <a:lnTo>
                    <a:pt x="60" y="61"/>
                  </a:lnTo>
                  <a:lnTo>
                    <a:pt x="76" y="47"/>
                  </a:lnTo>
                  <a:lnTo>
                    <a:pt x="92" y="36"/>
                  </a:lnTo>
                  <a:lnTo>
                    <a:pt x="110" y="25"/>
                  </a:lnTo>
                  <a:lnTo>
                    <a:pt x="127" y="15"/>
                  </a:lnTo>
                  <a:lnTo>
                    <a:pt x="146" y="9"/>
                  </a:lnTo>
                  <a:lnTo>
                    <a:pt x="167" y="4"/>
                  </a:lnTo>
                  <a:lnTo>
                    <a:pt x="188" y="1"/>
                  </a:lnTo>
                  <a:lnTo>
                    <a:pt x="210" y="0"/>
                  </a:lnTo>
                  <a:lnTo>
                    <a:pt x="501" y="0"/>
                  </a:lnTo>
                  <a:lnTo>
                    <a:pt x="453" y="74"/>
                  </a:lnTo>
                  <a:lnTo>
                    <a:pt x="215" y="74"/>
                  </a:lnTo>
                  <a:lnTo>
                    <a:pt x="200" y="74"/>
                  </a:lnTo>
                  <a:lnTo>
                    <a:pt x="188" y="76"/>
                  </a:lnTo>
                  <a:lnTo>
                    <a:pt x="175" y="79"/>
                  </a:lnTo>
                  <a:lnTo>
                    <a:pt x="162" y="84"/>
                  </a:lnTo>
                  <a:lnTo>
                    <a:pt x="138" y="96"/>
                  </a:lnTo>
                  <a:lnTo>
                    <a:pt x="119" y="115"/>
                  </a:lnTo>
                  <a:lnTo>
                    <a:pt x="102" y="134"/>
                  </a:lnTo>
                  <a:lnTo>
                    <a:pt x="89" y="158"/>
                  </a:lnTo>
                  <a:lnTo>
                    <a:pt x="84" y="170"/>
                  </a:lnTo>
                  <a:lnTo>
                    <a:pt x="81" y="183"/>
                  </a:lnTo>
                  <a:lnTo>
                    <a:pt x="79" y="196"/>
                  </a:lnTo>
                  <a:lnTo>
                    <a:pt x="79" y="210"/>
                  </a:lnTo>
                  <a:lnTo>
                    <a:pt x="79" y="224"/>
                  </a:lnTo>
                  <a:lnTo>
                    <a:pt x="81" y="237"/>
                  </a:lnTo>
                  <a:lnTo>
                    <a:pt x="84" y="251"/>
                  </a:lnTo>
                  <a:lnTo>
                    <a:pt x="89" y="262"/>
                  </a:lnTo>
                  <a:lnTo>
                    <a:pt x="102" y="286"/>
                  </a:lnTo>
                  <a:lnTo>
                    <a:pt x="119" y="307"/>
                  </a:lnTo>
                  <a:lnTo>
                    <a:pt x="138" y="324"/>
                  </a:lnTo>
                  <a:lnTo>
                    <a:pt x="162" y="336"/>
                  </a:lnTo>
                  <a:lnTo>
                    <a:pt x="175" y="341"/>
                  </a:lnTo>
                  <a:lnTo>
                    <a:pt x="188" y="344"/>
                  </a:lnTo>
                  <a:lnTo>
                    <a:pt x="200" y="346"/>
                  </a:lnTo>
                  <a:lnTo>
                    <a:pt x="215" y="347"/>
                  </a:lnTo>
                  <a:lnTo>
                    <a:pt x="508" y="347"/>
                  </a:lnTo>
                  <a:lnTo>
                    <a:pt x="461" y="420"/>
                  </a:lnTo>
                  <a:lnTo>
                    <a:pt x="210" y="42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23440" y="6472080"/>
              <a:ext cx="184680" cy="151200"/>
            </a:xfrm>
            <a:custGeom>
              <a:avLst/>
              <a:gdLst/>
              <a:ahLst/>
              <a:rect l="0" t="0" r="r" b="b"/>
              <a:pathLst>
                <a:path w="513" h="420">
                  <a:moveTo>
                    <a:pt x="217" y="347"/>
                  </a:moveTo>
                  <a:lnTo>
                    <a:pt x="195" y="344"/>
                  </a:lnTo>
                  <a:lnTo>
                    <a:pt x="172" y="339"/>
                  </a:lnTo>
                  <a:lnTo>
                    <a:pt x="153" y="330"/>
                  </a:lnTo>
                  <a:lnTo>
                    <a:pt x="134" y="319"/>
                  </a:lnTo>
                  <a:lnTo>
                    <a:pt x="117" y="304"/>
                  </a:lnTo>
                  <a:lnTo>
                    <a:pt x="104" y="286"/>
                  </a:lnTo>
                  <a:lnTo>
                    <a:pt x="93" y="267"/>
                  </a:lnTo>
                  <a:lnTo>
                    <a:pt x="84" y="246"/>
                  </a:lnTo>
                  <a:lnTo>
                    <a:pt x="434" y="246"/>
                  </a:lnTo>
                  <a:lnTo>
                    <a:pt x="483" y="173"/>
                  </a:lnTo>
                  <a:lnTo>
                    <a:pt x="84" y="173"/>
                  </a:lnTo>
                  <a:lnTo>
                    <a:pt x="93" y="153"/>
                  </a:lnTo>
                  <a:lnTo>
                    <a:pt x="104" y="134"/>
                  </a:lnTo>
                  <a:lnTo>
                    <a:pt x="117" y="116"/>
                  </a:lnTo>
                  <a:lnTo>
                    <a:pt x="134" y="101"/>
                  </a:lnTo>
                  <a:lnTo>
                    <a:pt x="153" y="90"/>
                  </a:lnTo>
                  <a:lnTo>
                    <a:pt x="172" y="80"/>
                  </a:lnTo>
                  <a:lnTo>
                    <a:pt x="195" y="76"/>
                  </a:lnTo>
                  <a:lnTo>
                    <a:pt x="217" y="74"/>
                  </a:lnTo>
                  <a:lnTo>
                    <a:pt x="459" y="74"/>
                  </a:lnTo>
                  <a:lnTo>
                    <a:pt x="505" y="0"/>
                  </a:lnTo>
                  <a:lnTo>
                    <a:pt x="212" y="0"/>
                  </a:lnTo>
                  <a:lnTo>
                    <a:pt x="190" y="1"/>
                  </a:lnTo>
                  <a:lnTo>
                    <a:pt x="169" y="4"/>
                  </a:lnTo>
                  <a:lnTo>
                    <a:pt x="150" y="9"/>
                  </a:lnTo>
                  <a:lnTo>
                    <a:pt x="129" y="15"/>
                  </a:lnTo>
                  <a:lnTo>
                    <a:pt x="110" y="25"/>
                  </a:lnTo>
                  <a:lnTo>
                    <a:pt x="93" y="36"/>
                  </a:lnTo>
                  <a:lnTo>
                    <a:pt x="76" y="47"/>
                  </a:lnTo>
                  <a:lnTo>
                    <a:pt x="60" y="61"/>
                  </a:lnTo>
                  <a:lnTo>
                    <a:pt x="48" y="76"/>
                  </a:lnTo>
                  <a:lnTo>
                    <a:pt x="35" y="92"/>
                  </a:lnTo>
                  <a:lnTo>
                    <a:pt x="25" y="110"/>
                  </a:lnTo>
                  <a:lnTo>
                    <a:pt x="16" y="129"/>
                  </a:lnTo>
                  <a:lnTo>
                    <a:pt x="9" y="148"/>
                  </a:lnTo>
                  <a:lnTo>
                    <a:pt x="3" y="167"/>
                  </a:lnTo>
                  <a:lnTo>
                    <a:pt x="0" y="18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3" y="253"/>
                  </a:lnTo>
                  <a:lnTo>
                    <a:pt x="9" y="272"/>
                  </a:lnTo>
                  <a:lnTo>
                    <a:pt x="16" y="292"/>
                  </a:lnTo>
                  <a:lnTo>
                    <a:pt x="25" y="310"/>
                  </a:lnTo>
                  <a:lnTo>
                    <a:pt x="35" y="328"/>
                  </a:lnTo>
                  <a:lnTo>
                    <a:pt x="48" y="344"/>
                  </a:lnTo>
                  <a:lnTo>
                    <a:pt x="60" y="360"/>
                  </a:lnTo>
                  <a:lnTo>
                    <a:pt x="76" y="373"/>
                  </a:lnTo>
                  <a:lnTo>
                    <a:pt x="93" y="386"/>
                  </a:lnTo>
                  <a:lnTo>
                    <a:pt x="110" y="395"/>
                  </a:lnTo>
                  <a:lnTo>
                    <a:pt x="129" y="405"/>
                  </a:lnTo>
                  <a:lnTo>
                    <a:pt x="150" y="411"/>
                  </a:lnTo>
                  <a:lnTo>
                    <a:pt x="169" y="417"/>
                  </a:lnTo>
                  <a:lnTo>
                    <a:pt x="190" y="420"/>
                  </a:lnTo>
                  <a:lnTo>
                    <a:pt x="212" y="420"/>
                  </a:lnTo>
                  <a:lnTo>
                    <a:pt x="465" y="420"/>
                  </a:lnTo>
                  <a:lnTo>
                    <a:pt x="513" y="347"/>
                  </a:lnTo>
                  <a:lnTo>
                    <a:pt x="217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560600" y="2666880"/>
            <a:ext cx="1334880" cy="1322280"/>
            <a:chOff x="1560600" y="2666880"/>
            <a:chExt cx="1334880" cy="1322280"/>
          </a:xfrm>
        </p:grpSpPr>
        <p:sp>
          <p:nvSpPr>
            <p:cNvPr id="188" name=""/>
            <p:cNvSpPr/>
            <p:nvPr/>
          </p:nvSpPr>
          <p:spPr>
            <a:xfrm>
              <a:off x="1565280" y="2666880"/>
              <a:ext cx="1330200" cy="132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73200" y="2855880"/>
              <a:ext cx="1310040" cy="938520"/>
            </a:xfrm>
            <a:custGeom>
              <a:avLst/>
              <a:gdLst/>
              <a:ahLst/>
              <a:rect l="0" t="0" r="r" b="b"/>
              <a:pathLst>
                <a:path w="3639" h="2607">
                  <a:moveTo>
                    <a:pt x="395" y="224"/>
                  </a:moveTo>
                  <a:lnTo>
                    <a:pt x="435" y="232"/>
                  </a:lnTo>
                  <a:lnTo>
                    <a:pt x="467" y="201"/>
                  </a:lnTo>
                  <a:lnTo>
                    <a:pt x="502" y="180"/>
                  </a:lnTo>
                  <a:lnTo>
                    <a:pt x="526" y="157"/>
                  </a:lnTo>
                  <a:lnTo>
                    <a:pt x="570" y="129"/>
                  </a:lnTo>
                  <a:lnTo>
                    <a:pt x="597" y="117"/>
                  </a:lnTo>
                  <a:lnTo>
                    <a:pt x="633" y="98"/>
                  </a:lnTo>
                  <a:lnTo>
                    <a:pt x="664" y="98"/>
                  </a:lnTo>
                  <a:lnTo>
                    <a:pt x="688" y="94"/>
                  </a:lnTo>
                  <a:lnTo>
                    <a:pt x="716" y="94"/>
                  </a:lnTo>
                  <a:lnTo>
                    <a:pt x="732" y="74"/>
                  </a:lnTo>
                  <a:lnTo>
                    <a:pt x="767" y="82"/>
                  </a:lnTo>
                  <a:lnTo>
                    <a:pt x="804" y="66"/>
                  </a:lnTo>
                  <a:lnTo>
                    <a:pt x="830" y="74"/>
                  </a:lnTo>
                  <a:lnTo>
                    <a:pt x="847" y="89"/>
                  </a:lnTo>
                  <a:lnTo>
                    <a:pt x="830" y="98"/>
                  </a:lnTo>
                  <a:lnTo>
                    <a:pt x="804" y="94"/>
                  </a:lnTo>
                  <a:lnTo>
                    <a:pt x="776" y="114"/>
                  </a:lnTo>
                  <a:lnTo>
                    <a:pt x="755" y="133"/>
                  </a:lnTo>
                  <a:lnTo>
                    <a:pt x="752" y="161"/>
                  </a:lnTo>
                  <a:lnTo>
                    <a:pt x="724" y="164"/>
                  </a:lnTo>
                  <a:lnTo>
                    <a:pt x="688" y="180"/>
                  </a:lnTo>
                  <a:lnTo>
                    <a:pt x="680" y="220"/>
                  </a:lnTo>
                  <a:lnTo>
                    <a:pt x="676" y="252"/>
                  </a:lnTo>
                  <a:lnTo>
                    <a:pt x="664" y="280"/>
                  </a:lnTo>
                  <a:lnTo>
                    <a:pt x="680" y="299"/>
                  </a:lnTo>
                  <a:lnTo>
                    <a:pt x="701" y="236"/>
                  </a:lnTo>
                  <a:lnTo>
                    <a:pt x="724" y="224"/>
                  </a:lnTo>
                  <a:lnTo>
                    <a:pt x="752" y="192"/>
                  </a:lnTo>
                  <a:lnTo>
                    <a:pt x="772" y="152"/>
                  </a:lnTo>
                  <a:lnTo>
                    <a:pt x="819" y="138"/>
                  </a:lnTo>
                  <a:lnTo>
                    <a:pt x="858" y="122"/>
                  </a:lnTo>
                  <a:lnTo>
                    <a:pt x="882" y="86"/>
                  </a:lnTo>
                  <a:lnTo>
                    <a:pt x="919" y="86"/>
                  </a:lnTo>
                  <a:lnTo>
                    <a:pt x="989" y="82"/>
                  </a:lnTo>
                  <a:lnTo>
                    <a:pt x="1069" y="66"/>
                  </a:lnTo>
                  <a:lnTo>
                    <a:pt x="1096" y="63"/>
                  </a:lnTo>
                  <a:lnTo>
                    <a:pt x="1132" y="63"/>
                  </a:lnTo>
                  <a:lnTo>
                    <a:pt x="1169" y="63"/>
                  </a:lnTo>
                  <a:lnTo>
                    <a:pt x="1199" y="74"/>
                  </a:lnTo>
                  <a:lnTo>
                    <a:pt x="1239" y="110"/>
                  </a:lnTo>
                  <a:lnTo>
                    <a:pt x="1223" y="114"/>
                  </a:lnTo>
                  <a:lnTo>
                    <a:pt x="1180" y="126"/>
                  </a:lnTo>
                  <a:lnTo>
                    <a:pt x="1183" y="161"/>
                  </a:lnTo>
                  <a:lnTo>
                    <a:pt x="1220" y="164"/>
                  </a:lnTo>
                  <a:lnTo>
                    <a:pt x="1235" y="164"/>
                  </a:lnTo>
                  <a:lnTo>
                    <a:pt x="1232" y="196"/>
                  </a:lnTo>
                  <a:lnTo>
                    <a:pt x="1183" y="232"/>
                  </a:lnTo>
                  <a:lnTo>
                    <a:pt x="1160" y="236"/>
                  </a:lnTo>
                  <a:lnTo>
                    <a:pt x="1164" y="260"/>
                  </a:lnTo>
                  <a:lnTo>
                    <a:pt x="1176" y="276"/>
                  </a:lnTo>
                  <a:lnTo>
                    <a:pt x="1160" y="299"/>
                  </a:lnTo>
                  <a:lnTo>
                    <a:pt x="1180" y="330"/>
                  </a:lnTo>
                  <a:lnTo>
                    <a:pt x="1141" y="343"/>
                  </a:lnTo>
                  <a:lnTo>
                    <a:pt x="1096" y="358"/>
                  </a:lnTo>
                  <a:lnTo>
                    <a:pt x="1092" y="402"/>
                  </a:lnTo>
                  <a:lnTo>
                    <a:pt x="1069" y="433"/>
                  </a:lnTo>
                  <a:lnTo>
                    <a:pt x="1045" y="458"/>
                  </a:lnTo>
                  <a:lnTo>
                    <a:pt x="1010" y="477"/>
                  </a:lnTo>
                  <a:lnTo>
                    <a:pt x="1092" y="477"/>
                  </a:lnTo>
                  <a:lnTo>
                    <a:pt x="1141" y="477"/>
                  </a:lnTo>
                  <a:lnTo>
                    <a:pt x="1164" y="489"/>
                  </a:lnTo>
                  <a:lnTo>
                    <a:pt x="1199" y="470"/>
                  </a:lnTo>
                  <a:lnTo>
                    <a:pt x="1220" y="505"/>
                  </a:lnTo>
                  <a:lnTo>
                    <a:pt x="1688" y="505"/>
                  </a:lnTo>
                  <a:lnTo>
                    <a:pt x="1711" y="477"/>
                  </a:lnTo>
                  <a:lnTo>
                    <a:pt x="1754" y="446"/>
                  </a:lnTo>
                  <a:lnTo>
                    <a:pt x="1782" y="395"/>
                  </a:lnTo>
                  <a:lnTo>
                    <a:pt x="1822" y="346"/>
                  </a:lnTo>
                  <a:lnTo>
                    <a:pt x="1839" y="307"/>
                  </a:lnTo>
                  <a:lnTo>
                    <a:pt x="1862" y="264"/>
                  </a:lnTo>
                  <a:lnTo>
                    <a:pt x="1895" y="252"/>
                  </a:lnTo>
                  <a:lnTo>
                    <a:pt x="1906" y="224"/>
                  </a:lnTo>
                  <a:lnTo>
                    <a:pt x="1937" y="236"/>
                  </a:lnTo>
                  <a:lnTo>
                    <a:pt x="1965" y="208"/>
                  </a:lnTo>
                  <a:lnTo>
                    <a:pt x="1986" y="232"/>
                  </a:lnTo>
                  <a:lnTo>
                    <a:pt x="2021" y="244"/>
                  </a:lnTo>
                  <a:lnTo>
                    <a:pt x="2056" y="255"/>
                  </a:lnTo>
                  <a:lnTo>
                    <a:pt x="2092" y="264"/>
                  </a:lnTo>
                  <a:lnTo>
                    <a:pt x="2117" y="252"/>
                  </a:lnTo>
                  <a:lnTo>
                    <a:pt x="2147" y="271"/>
                  </a:lnTo>
                  <a:lnTo>
                    <a:pt x="2175" y="299"/>
                  </a:lnTo>
                  <a:lnTo>
                    <a:pt x="2215" y="307"/>
                  </a:lnTo>
                  <a:lnTo>
                    <a:pt x="2222" y="343"/>
                  </a:lnTo>
                  <a:lnTo>
                    <a:pt x="2203" y="367"/>
                  </a:lnTo>
                  <a:lnTo>
                    <a:pt x="2152" y="358"/>
                  </a:lnTo>
                  <a:lnTo>
                    <a:pt x="2112" y="339"/>
                  </a:lnTo>
                  <a:lnTo>
                    <a:pt x="2108" y="370"/>
                  </a:lnTo>
                  <a:lnTo>
                    <a:pt x="2159" y="374"/>
                  </a:lnTo>
                  <a:lnTo>
                    <a:pt x="2203" y="407"/>
                  </a:lnTo>
                  <a:lnTo>
                    <a:pt x="2267" y="382"/>
                  </a:lnTo>
                  <a:lnTo>
                    <a:pt x="2283" y="335"/>
                  </a:lnTo>
                  <a:lnTo>
                    <a:pt x="2311" y="295"/>
                  </a:lnTo>
                  <a:lnTo>
                    <a:pt x="2346" y="304"/>
                  </a:lnTo>
                  <a:lnTo>
                    <a:pt x="2339" y="327"/>
                  </a:lnTo>
                  <a:lnTo>
                    <a:pt x="2318" y="343"/>
                  </a:lnTo>
                  <a:lnTo>
                    <a:pt x="2318" y="374"/>
                  </a:lnTo>
                  <a:lnTo>
                    <a:pt x="2358" y="339"/>
                  </a:lnTo>
                  <a:lnTo>
                    <a:pt x="2393" y="307"/>
                  </a:lnTo>
                  <a:lnTo>
                    <a:pt x="2449" y="299"/>
                  </a:lnTo>
                  <a:lnTo>
                    <a:pt x="2524" y="276"/>
                  </a:lnTo>
                  <a:lnTo>
                    <a:pt x="2580" y="252"/>
                  </a:lnTo>
                  <a:lnTo>
                    <a:pt x="2587" y="220"/>
                  </a:lnTo>
                  <a:lnTo>
                    <a:pt x="2544" y="224"/>
                  </a:lnTo>
                  <a:lnTo>
                    <a:pt x="2505" y="196"/>
                  </a:lnTo>
                  <a:lnTo>
                    <a:pt x="2477" y="152"/>
                  </a:lnTo>
                  <a:lnTo>
                    <a:pt x="2505" y="94"/>
                  </a:lnTo>
                  <a:lnTo>
                    <a:pt x="2547" y="54"/>
                  </a:lnTo>
                  <a:lnTo>
                    <a:pt x="2584" y="23"/>
                  </a:lnTo>
                  <a:lnTo>
                    <a:pt x="2643" y="23"/>
                  </a:lnTo>
                  <a:lnTo>
                    <a:pt x="2687" y="0"/>
                  </a:lnTo>
                  <a:lnTo>
                    <a:pt x="2683" y="26"/>
                  </a:lnTo>
                  <a:lnTo>
                    <a:pt x="2647" y="30"/>
                  </a:lnTo>
                  <a:lnTo>
                    <a:pt x="2627" y="47"/>
                  </a:lnTo>
                  <a:lnTo>
                    <a:pt x="2592" y="49"/>
                  </a:lnTo>
                  <a:lnTo>
                    <a:pt x="2575" y="82"/>
                  </a:lnTo>
                  <a:lnTo>
                    <a:pt x="2552" y="117"/>
                  </a:lnTo>
                  <a:lnTo>
                    <a:pt x="2544" y="152"/>
                  </a:lnTo>
                  <a:lnTo>
                    <a:pt x="2584" y="208"/>
                  </a:lnTo>
                  <a:lnTo>
                    <a:pt x="2650" y="241"/>
                  </a:lnTo>
                  <a:lnTo>
                    <a:pt x="2694" y="260"/>
                  </a:lnTo>
                  <a:lnTo>
                    <a:pt x="2715" y="271"/>
                  </a:lnTo>
                  <a:lnTo>
                    <a:pt x="2734" y="299"/>
                  </a:lnTo>
                  <a:lnTo>
                    <a:pt x="2755" y="295"/>
                  </a:lnTo>
                  <a:lnTo>
                    <a:pt x="2755" y="271"/>
                  </a:lnTo>
                  <a:lnTo>
                    <a:pt x="2746" y="236"/>
                  </a:lnTo>
                  <a:lnTo>
                    <a:pt x="2727" y="216"/>
                  </a:lnTo>
                  <a:lnTo>
                    <a:pt x="2722" y="192"/>
                  </a:lnTo>
                  <a:lnTo>
                    <a:pt x="2734" y="149"/>
                  </a:lnTo>
                  <a:lnTo>
                    <a:pt x="2781" y="149"/>
                  </a:lnTo>
                  <a:lnTo>
                    <a:pt x="2818" y="149"/>
                  </a:lnTo>
                  <a:lnTo>
                    <a:pt x="2837" y="164"/>
                  </a:lnTo>
                  <a:lnTo>
                    <a:pt x="2842" y="204"/>
                  </a:lnTo>
                  <a:lnTo>
                    <a:pt x="2861" y="241"/>
                  </a:lnTo>
                  <a:lnTo>
                    <a:pt x="2869" y="204"/>
                  </a:lnTo>
                  <a:lnTo>
                    <a:pt x="2900" y="180"/>
                  </a:lnTo>
                  <a:lnTo>
                    <a:pt x="2936" y="180"/>
                  </a:lnTo>
                  <a:lnTo>
                    <a:pt x="2968" y="180"/>
                  </a:lnTo>
                  <a:lnTo>
                    <a:pt x="3000" y="185"/>
                  </a:lnTo>
                  <a:lnTo>
                    <a:pt x="3000" y="149"/>
                  </a:lnTo>
                  <a:lnTo>
                    <a:pt x="3019" y="152"/>
                  </a:lnTo>
                  <a:lnTo>
                    <a:pt x="3043" y="173"/>
                  </a:lnTo>
                  <a:lnTo>
                    <a:pt x="3083" y="173"/>
                  </a:lnTo>
                  <a:lnTo>
                    <a:pt x="3118" y="161"/>
                  </a:lnTo>
                  <a:lnTo>
                    <a:pt x="3155" y="192"/>
                  </a:lnTo>
                  <a:lnTo>
                    <a:pt x="3197" y="232"/>
                  </a:lnTo>
                  <a:lnTo>
                    <a:pt x="3246" y="241"/>
                  </a:lnTo>
                  <a:lnTo>
                    <a:pt x="3309" y="264"/>
                  </a:lnTo>
                  <a:lnTo>
                    <a:pt x="3325" y="260"/>
                  </a:lnTo>
                  <a:lnTo>
                    <a:pt x="3372" y="339"/>
                  </a:lnTo>
                  <a:lnTo>
                    <a:pt x="3443" y="458"/>
                  </a:lnTo>
                  <a:lnTo>
                    <a:pt x="3487" y="536"/>
                  </a:lnTo>
                  <a:lnTo>
                    <a:pt x="3519" y="612"/>
                  </a:lnTo>
                  <a:lnTo>
                    <a:pt x="3483" y="624"/>
                  </a:lnTo>
                  <a:lnTo>
                    <a:pt x="3471" y="659"/>
                  </a:lnTo>
                  <a:lnTo>
                    <a:pt x="3483" y="714"/>
                  </a:lnTo>
                  <a:lnTo>
                    <a:pt x="3508" y="770"/>
                  </a:lnTo>
                  <a:lnTo>
                    <a:pt x="3522" y="770"/>
                  </a:lnTo>
                  <a:lnTo>
                    <a:pt x="3531" y="727"/>
                  </a:lnTo>
                  <a:lnTo>
                    <a:pt x="3555" y="714"/>
                  </a:lnTo>
                  <a:lnTo>
                    <a:pt x="3566" y="754"/>
                  </a:lnTo>
                  <a:lnTo>
                    <a:pt x="3534" y="770"/>
                  </a:lnTo>
                  <a:lnTo>
                    <a:pt x="3586" y="809"/>
                  </a:lnTo>
                  <a:lnTo>
                    <a:pt x="3550" y="856"/>
                  </a:lnTo>
                  <a:lnTo>
                    <a:pt x="3543" y="880"/>
                  </a:lnTo>
                  <a:lnTo>
                    <a:pt x="3602" y="896"/>
                  </a:lnTo>
                  <a:lnTo>
                    <a:pt x="3574" y="931"/>
                  </a:lnTo>
                  <a:lnTo>
                    <a:pt x="3547" y="940"/>
                  </a:lnTo>
                  <a:lnTo>
                    <a:pt x="3547" y="999"/>
                  </a:lnTo>
                  <a:lnTo>
                    <a:pt x="3574" y="1046"/>
                  </a:lnTo>
                  <a:lnTo>
                    <a:pt x="3547" y="1055"/>
                  </a:lnTo>
                  <a:lnTo>
                    <a:pt x="3487" y="1043"/>
                  </a:lnTo>
                  <a:lnTo>
                    <a:pt x="3515" y="1015"/>
                  </a:lnTo>
                  <a:lnTo>
                    <a:pt x="3550" y="1015"/>
                  </a:lnTo>
                  <a:lnTo>
                    <a:pt x="3550" y="956"/>
                  </a:lnTo>
                  <a:lnTo>
                    <a:pt x="3511" y="976"/>
                  </a:lnTo>
                  <a:lnTo>
                    <a:pt x="3508" y="928"/>
                  </a:lnTo>
                  <a:lnTo>
                    <a:pt x="3543" y="896"/>
                  </a:lnTo>
                  <a:lnTo>
                    <a:pt x="3550" y="865"/>
                  </a:lnTo>
                  <a:lnTo>
                    <a:pt x="3531" y="821"/>
                  </a:lnTo>
                  <a:lnTo>
                    <a:pt x="3522" y="765"/>
                  </a:lnTo>
                  <a:lnTo>
                    <a:pt x="3503" y="790"/>
                  </a:lnTo>
                  <a:lnTo>
                    <a:pt x="3475" y="829"/>
                  </a:lnTo>
                  <a:lnTo>
                    <a:pt x="3431" y="865"/>
                  </a:lnTo>
                  <a:lnTo>
                    <a:pt x="3443" y="912"/>
                  </a:lnTo>
                  <a:lnTo>
                    <a:pt x="3440" y="956"/>
                  </a:lnTo>
                  <a:lnTo>
                    <a:pt x="3440" y="980"/>
                  </a:lnTo>
                  <a:lnTo>
                    <a:pt x="3459" y="1020"/>
                  </a:lnTo>
                  <a:lnTo>
                    <a:pt x="3443" y="1039"/>
                  </a:lnTo>
                  <a:lnTo>
                    <a:pt x="3400" y="992"/>
                  </a:lnTo>
                  <a:lnTo>
                    <a:pt x="3372" y="940"/>
                  </a:lnTo>
                  <a:lnTo>
                    <a:pt x="3361" y="908"/>
                  </a:lnTo>
                  <a:lnTo>
                    <a:pt x="3337" y="884"/>
                  </a:lnTo>
                  <a:lnTo>
                    <a:pt x="3305" y="912"/>
                  </a:lnTo>
                  <a:lnTo>
                    <a:pt x="3286" y="948"/>
                  </a:lnTo>
                  <a:lnTo>
                    <a:pt x="3328" y="992"/>
                  </a:lnTo>
                  <a:lnTo>
                    <a:pt x="3352" y="1039"/>
                  </a:lnTo>
                  <a:lnTo>
                    <a:pt x="3361" y="1095"/>
                  </a:lnTo>
                  <a:lnTo>
                    <a:pt x="3356" y="1146"/>
                  </a:lnTo>
                  <a:lnTo>
                    <a:pt x="3356" y="1197"/>
                  </a:lnTo>
                  <a:lnTo>
                    <a:pt x="3377" y="1161"/>
                  </a:lnTo>
                  <a:lnTo>
                    <a:pt x="3412" y="1165"/>
                  </a:lnTo>
                  <a:lnTo>
                    <a:pt x="3428" y="1200"/>
                  </a:lnTo>
                  <a:lnTo>
                    <a:pt x="3396" y="1240"/>
                  </a:lnTo>
                  <a:lnTo>
                    <a:pt x="3365" y="1233"/>
                  </a:lnTo>
                  <a:lnTo>
                    <a:pt x="3361" y="1264"/>
                  </a:lnTo>
                  <a:lnTo>
                    <a:pt x="3389" y="1296"/>
                  </a:lnTo>
                  <a:lnTo>
                    <a:pt x="3372" y="1337"/>
                  </a:lnTo>
                  <a:lnTo>
                    <a:pt x="3408" y="1372"/>
                  </a:lnTo>
                  <a:lnTo>
                    <a:pt x="3389" y="1395"/>
                  </a:lnTo>
                  <a:lnTo>
                    <a:pt x="3416" y="1431"/>
                  </a:lnTo>
                  <a:lnTo>
                    <a:pt x="3396" y="1467"/>
                  </a:lnTo>
                  <a:lnTo>
                    <a:pt x="3436" y="1444"/>
                  </a:lnTo>
                  <a:lnTo>
                    <a:pt x="3428" y="1479"/>
                  </a:lnTo>
                  <a:lnTo>
                    <a:pt x="3494" y="1467"/>
                  </a:lnTo>
                  <a:lnTo>
                    <a:pt x="3475" y="1510"/>
                  </a:lnTo>
                  <a:lnTo>
                    <a:pt x="3428" y="1479"/>
                  </a:lnTo>
                  <a:lnTo>
                    <a:pt x="3416" y="1526"/>
                  </a:lnTo>
                  <a:lnTo>
                    <a:pt x="3487" y="1522"/>
                  </a:lnTo>
                  <a:lnTo>
                    <a:pt x="3459" y="1578"/>
                  </a:lnTo>
                  <a:lnTo>
                    <a:pt x="3412" y="1519"/>
                  </a:lnTo>
                  <a:lnTo>
                    <a:pt x="3440" y="1594"/>
                  </a:lnTo>
                  <a:lnTo>
                    <a:pt x="3494" y="1645"/>
                  </a:lnTo>
                  <a:lnTo>
                    <a:pt x="3443" y="1645"/>
                  </a:lnTo>
                  <a:lnTo>
                    <a:pt x="3412" y="1526"/>
                  </a:lnTo>
                  <a:lnTo>
                    <a:pt x="3428" y="1451"/>
                  </a:lnTo>
                  <a:lnTo>
                    <a:pt x="3389" y="1456"/>
                  </a:lnTo>
                  <a:lnTo>
                    <a:pt x="3356" y="1412"/>
                  </a:lnTo>
                  <a:lnTo>
                    <a:pt x="3389" y="1388"/>
                  </a:lnTo>
                  <a:lnTo>
                    <a:pt x="3389" y="1344"/>
                  </a:lnTo>
                  <a:lnTo>
                    <a:pt x="3365" y="1252"/>
                  </a:lnTo>
                  <a:lnTo>
                    <a:pt x="3361" y="1186"/>
                  </a:lnTo>
                  <a:lnTo>
                    <a:pt x="3352" y="1142"/>
                  </a:lnTo>
                  <a:lnTo>
                    <a:pt x="3316" y="1197"/>
                  </a:lnTo>
                  <a:lnTo>
                    <a:pt x="3253" y="1217"/>
                  </a:lnTo>
                  <a:lnTo>
                    <a:pt x="3218" y="1256"/>
                  </a:lnTo>
                  <a:lnTo>
                    <a:pt x="3234" y="1300"/>
                  </a:lnTo>
                  <a:lnTo>
                    <a:pt x="3209" y="1337"/>
                  </a:lnTo>
                  <a:lnTo>
                    <a:pt x="3166" y="1328"/>
                  </a:lnTo>
                  <a:lnTo>
                    <a:pt x="3202" y="1284"/>
                  </a:lnTo>
                  <a:lnTo>
                    <a:pt x="3178" y="1261"/>
                  </a:lnTo>
                  <a:lnTo>
                    <a:pt x="3143" y="1289"/>
                  </a:lnTo>
                  <a:lnTo>
                    <a:pt x="3143" y="1332"/>
                  </a:lnTo>
                  <a:lnTo>
                    <a:pt x="3202" y="1388"/>
                  </a:lnTo>
                  <a:lnTo>
                    <a:pt x="3218" y="1435"/>
                  </a:lnTo>
                  <a:lnTo>
                    <a:pt x="3174" y="1494"/>
                  </a:lnTo>
                  <a:lnTo>
                    <a:pt x="3174" y="1634"/>
                  </a:lnTo>
                  <a:lnTo>
                    <a:pt x="3174" y="1692"/>
                  </a:lnTo>
                  <a:lnTo>
                    <a:pt x="3183" y="1728"/>
                  </a:lnTo>
                  <a:lnTo>
                    <a:pt x="3249" y="1725"/>
                  </a:lnTo>
                  <a:lnTo>
                    <a:pt x="3293" y="1732"/>
                  </a:lnTo>
                  <a:lnTo>
                    <a:pt x="3325" y="1681"/>
                  </a:lnTo>
                  <a:lnTo>
                    <a:pt x="3361" y="1681"/>
                  </a:lnTo>
                  <a:lnTo>
                    <a:pt x="3344" y="1709"/>
                  </a:lnTo>
                  <a:lnTo>
                    <a:pt x="3389" y="1751"/>
                  </a:lnTo>
                  <a:lnTo>
                    <a:pt x="3436" y="1760"/>
                  </a:lnTo>
                  <a:lnTo>
                    <a:pt x="3431" y="1725"/>
                  </a:lnTo>
                  <a:lnTo>
                    <a:pt x="3547" y="1725"/>
                  </a:lnTo>
                  <a:lnTo>
                    <a:pt x="3508" y="1736"/>
                  </a:lnTo>
                  <a:lnTo>
                    <a:pt x="3503" y="1767"/>
                  </a:lnTo>
                  <a:lnTo>
                    <a:pt x="3555" y="1779"/>
                  </a:lnTo>
                  <a:lnTo>
                    <a:pt x="3606" y="1800"/>
                  </a:lnTo>
                  <a:lnTo>
                    <a:pt x="3630" y="1744"/>
                  </a:lnTo>
                  <a:lnTo>
                    <a:pt x="3639" y="1709"/>
                  </a:lnTo>
                  <a:lnTo>
                    <a:pt x="3602" y="1720"/>
                  </a:lnTo>
                  <a:lnTo>
                    <a:pt x="3566" y="1697"/>
                  </a:lnTo>
                  <a:lnTo>
                    <a:pt x="3547" y="1688"/>
                  </a:lnTo>
                  <a:lnTo>
                    <a:pt x="3531" y="1732"/>
                  </a:lnTo>
                  <a:lnTo>
                    <a:pt x="3531" y="1728"/>
                  </a:lnTo>
                  <a:lnTo>
                    <a:pt x="3416" y="1728"/>
                  </a:lnTo>
                  <a:lnTo>
                    <a:pt x="3396" y="1673"/>
                  </a:lnTo>
                  <a:lnTo>
                    <a:pt x="3365" y="1685"/>
                  </a:lnTo>
                  <a:lnTo>
                    <a:pt x="3328" y="1681"/>
                  </a:lnTo>
                  <a:lnTo>
                    <a:pt x="3316" y="1622"/>
                  </a:lnTo>
                  <a:lnTo>
                    <a:pt x="3297" y="1585"/>
                  </a:lnTo>
                  <a:lnTo>
                    <a:pt x="3333" y="1562"/>
                  </a:lnTo>
                  <a:lnTo>
                    <a:pt x="3333" y="1526"/>
                  </a:lnTo>
                  <a:lnTo>
                    <a:pt x="3281" y="1550"/>
                  </a:lnTo>
                  <a:lnTo>
                    <a:pt x="3246" y="1582"/>
                  </a:lnTo>
                  <a:lnTo>
                    <a:pt x="3218" y="1625"/>
                  </a:lnTo>
                  <a:lnTo>
                    <a:pt x="3174" y="1625"/>
                  </a:lnTo>
                  <a:lnTo>
                    <a:pt x="3174" y="1515"/>
                  </a:lnTo>
                  <a:lnTo>
                    <a:pt x="3150" y="1538"/>
                  </a:lnTo>
                  <a:lnTo>
                    <a:pt x="3118" y="1487"/>
                  </a:lnTo>
                  <a:lnTo>
                    <a:pt x="3080" y="1440"/>
                  </a:lnTo>
                  <a:lnTo>
                    <a:pt x="3024" y="1456"/>
                  </a:lnTo>
                  <a:lnTo>
                    <a:pt x="3019" y="1503"/>
                  </a:lnTo>
                  <a:lnTo>
                    <a:pt x="3047" y="1559"/>
                  </a:lnTo>
                  <a:lnTo>
                    <a:pt x="3047" y="1610"/>
                  </a:lnTo>
                  <a:lnTo>
                    <a:pt x="3083" y="1660"/>
                  </a:lnTo>
                  <a:lnTo>
                    <a:pt x="3103" y="1685"/>
                  </a:lnTo>
                  <a:lnTo>
                    <a:pt x="3059" y="1685"/>
                  </a:lnTo>
                  <a:lnTo>
                    <a:pt x="3036" y="1660"/>
                  </a:lnTo>
                  <a:lnTo>
                    <a:pt x="3015" y="1688"/>
                  </a:lnTo>
                  <a:lnTo>
                    <a:pt x="3075" y="1756"/>
                  </a:lnTo>
                  <a:lnTo>
                    <a:pt x="3118" y="1795"/>
                  </a:lnTo>
                  <a:lnTo>
                    <a:pt x="3158" y="1791"/>
                  </a:lnTo>
                  <a:lnTo>
                    <a:pt x="3202" y="1803"/>
                  </a:lnTo>
                  <a:lnTo>
                    <a:pt x="3261" y="1803"/>
                  </a:lnTo>
                  <a:lnTo>
                    <a:pt x="3316" y="1795"/>
                  </a:lnTo>
                  <a:lnTo>
                    <a:pt x="3365" y="1814"/>
                  </a:lnTo>
                  <a:lnTo>
                    <a:pt x="3352" y="1831"/>
                  </a:lnTo>
                  <a:lnTo>
                    <a:pt x="3297" y="1811"/>
                  </a:lnTo>
                  <a:lnTo>
                    <a:pt x="3297" y="1903"/>
                  </a:lnTo>
                  <a:lnTo>
                    <a:pt x="3337" y="1903"/>
                  </a:lnTo>
                  <a:lnTo>
                    <a:pt x="3361" y="1898"/>
                  </a:lnTo>
                  <a:lnTo>
                    <a:pt x="3365" y="1866"/>
                  </a:lnTo>
                  <a:lnTo>
                    <a:pt x="3412" y="1875"/>
                  </a:lnTo>
                  <a:lnTo>
                    <a:pt x="3471" y="1851"/>
                  </a:lnTo>
                  <a:lnTo>
                    <a:pt x="3468" y="1894"/>
                  </a:lnTo>
                  <a:lnTo>
                    <a:pt x="3483" y="1922"/>
                  </a:lnTo>
                  <a:lnTo>
                    <a:pt x="3515" y="1942"/>
                  </a:lnTo>
                  <a:lnTo>
                    <a:pt x="3547" y="1922"/>
                  </a:lnTo>
                  <a:lnTo>
                    <a:pt x="3543" y="1878"/>
                  </a:lnTo>
                  <a:lnTo>
                    <a:pt x="3547" y="1839"/>
                  </a:lnTo>
                  <a:lnTo>
                    <a:pt x="3566" y="1878"/>
                  </a:lnTo>
                  <a:lnTo>
                    <a:pt x="3574" y="1929"/>
                  </a:lnTo>
                  <a:lnTo>
                    <a:pt x="3531" y="2025"/>
                  </a:lnTo>
                  <a:lnTo>
                    <a:pt x="3483" y="2123"/>
                  </a:lnTo>
                  <a:lnTo>
                    <a:pt x="3440" y="2219"/>
                  </a:lnTo>
                  <a:lnTo>
                    <a:pt x="3389" y="2313"/>
                  </a:lnTo>
                  <a:lnTo>
                    <a:pt x="3344" y="2286"/>
                  </a:lnTo>
                  <a:lnTo>
                    <a:pt x="3297" y="2305"/>
                  </a:lnTo>
                  <a:lnTo>
                    <a:pt x="3281" y="2341"/>
                  </a:lnTo>
                  <a:lnTo>
                    <a:pt x="3246" y="2361"/>
                  </a:lnTo>
                  <a:lnTo>
                    <a:pt x="3178" y="2376"/>
                  </a:lnTo>
                  <a:lnTo>
                    <a:pt x="3139" y="2369"/>
                  </a:lnTo>
                  <a:lnTo>
                    <a:pt x="3155" y="2310"/>
                  </a:lnTo>
                  <a:lnTo>
                    <a:pt x="3150" y="2266"/>
                  </a:lnTo>
                  <a:lnTo>
                    <a:pt x="3174" y="2230"/>
                  </a:lnTo>
                  <a:lnTo>
                    <a:pt x="3166" y="2198"/>
                  </a:lnTo>
                  <a:lnTo>
                    <a:pt x="3122" y="2179"/>
                  </a:lnTo>
                  <a:lnTo>
                    <a:pt x="3127" y="2123"/>
                  </a:lnTo>
                  <a:lnTo>
                    <a:pt x="3143" y="2064"/>
                  </a:lnTo>
                  <a:lnTo>
                    <a:pt x="3190" y="2020"/>
                  </a:lnTo>
                  <a:lnTo>
                    <a:pt x="3249" y="2017"/>
                  </a:lnTo>
                  <a:lnTo>
                    <a:pt x="3258" y="1980"/>
                  </a:lnTo>
                  <a:lnTo>
                    <a:pt x="3246" y="1929"/>
                  </a:lnTo>
                  <a:lnTo>
                    <a:pt x="3281" y="1906"/>
                  </a:lnTo>
                  <a:lnTo>
                    <a:pt x="3297" y="1903"/>
                  </a:lnTo>
                  <a:lnTo>
                    <a:pt x="3297" y="1814"/>
                  </a:lnTo>
                  <a:lnTo>
                    <a:pt x="3249" y="1823"/>
                  </a:lnTo>
                  <a:lnTo>
                    <a:pt x="3202" y="1842"/>
                  </a:lnTo>
                  <a:lnTo>
                    <a:pt x="3162" y="1814"/>
                  </a:lnTo>
                  <a:lnTo>
                    <a:pt x="3115" y="1814"/>
                  </a:lnTo>
                  <a:lnTo>
                    <a:pt x="3052" y="1795"/>
                  </a:lnTo>
                  <a:lnTo>
                    <a:pt x="3015" y="1756"/>
                  </a:lnTo>
                  <a:lnTo>
                    <a:pt x="2996" y="1716"/>
                  </a:lnTo>
                  <a:lnTo>
                    <a:pt x="2964" y="1681"/>
                  </a:lnTo>
                  <a:lnTo>
                    <a:pt x="2996" y="1669"/>
                  </a:lnTo>
                  <a:lnTo>
                    <a:pt x="3015" y="1685"/>
                  </a:lnTo>
                  <a:lnTo>
                    <a:pt x="3040" y="1653"/>
                  </a:lnTo>
                  <a:lnTo>
                    <a:pt x="3024" y="1601"/>
                  </a:lnTo>
                  <a:lnTo>
                    <a:pt x="2996" y="1597"/>
                  </a:lnTo>
                  <a:lnTo>
                    <a:pt x="2975" y="1545"/>
                  </a:lnTo>
                  <a:lnTo>
                    <a:pt x="2984" y="1487"/>
                  </a:lnTo>
                  <a:lnTo>
                    <a:pt x="3015" y="1444"/>
                  </a:lnTo>
                  <a:lnTo>
                    <a:pt x="3008" y="1388"/>
                  </a:lnTo>
                  <a:lnTo>
                    <a:pt x="2984" y="1384"/>
                  </a:lnTo>
                  <a:lnTo>
                    <a:pt x="2964" y="1416"/>
                  </a:lnTo>
                  <a:lnTo>
                    <a:pt x="2961" y="1444"/>
                  </a:lnTo>
                  <a:lnTo>
                    <a:pt x="2928" y="1388"/>
                  </a:lnTo>
                  <a:lnTo>
                    <a:pt x="2877" y="1348"/>
                  </a:lnTo>
                  <a:lnTo>
                    <a:pt x="2842" y="1353"/>
                  </a:lnTo>
                  <a:lnTo>
                    <a:pt x="2806" y="1412"/>
                  </a:lnTo>
                  <a:lnTo>
                    <a:pt x="2762" y="1440"/>
                  </a:lnTo>
                  <a:lnTo>
                    <a:pt x="2762" y="1475"/>
                  </a:lnTo>
                  <a:lnTo>
                    <a:pt x="2774" y="1515"/>
                  </a:lnTo>
                  <a:lnTo>
                    <a:pt x="2769" y="1554"/>
                  </a:lnTo>
                  <a:lnTo>
                    <a:pt x="2734" y="1550"/>
                  </a:lnTo>
                  <a:lnTo>
                    <a:pt x="2711" y="1503"/>
                  </a:lnTo>
                  <a:lnTo>
                    <a:pt x="2667" y="1444"/>
                  </a:lnTo>
                  <a:lnTo>
                    <a:pt x="2624" y="1412"/>
                  </a:lnTo>
                  <a:lnTo>
                    <a:pt x="2587" y="1348"/>
                  </a:lnTo>
                  <a:lnTo>
                    <a:pt x="2556" y="1332"/>
                  </a:lnTo>
                  <a:lnTo>
                    <a:pt x="2500" y="1332"/>
                  </a:lnTo>
                  <a:lnTo>
                    <a:pt x="2449" y="1332"/>
                  </a:lnTo>
                  <a:lnTo>
                    <a:pt x="2417" y="1353"/>
                  </a:lnTo>
                  <a:lnTo>
                    <a:pt x="2390" y="1313"/>
                  </a:lnTo>
                  <a:lnTo>
                    <a:pt x="2353" y="1292"/>
                  </a:lnTo>
                  <a:lnTo>
                    <a:pt x="2302" y="1252"/>
                  </a:lnTo>
                  <a:lnTo>
                    <a:pt x="2339" y="1313"/>
                  </a:lnTo>
                  <a:lnTo>
                    <a:pt x="2393" y="1337"/>
                  </a:lnTo>
                  <a:lnTo>
                    <a:pt x="2430" y="1388"/>
                  </a:lnTo>
                  <a:lnTo>
                    <a:pt x="2414" y="1440"/>
                  </a:lnTo>
                  <a:lnTo>
                    <a:pt x="2377" y="1467"/>
                  </a:lnTo>
                  <a:lnTo>
                    <a:pt x="2322" y="1475"/>
                  </a:lnTo>
                  <a:lnTo>
                    <a:pt x="2274" y="1494"/>
                  </a:lnTo>
                  <a:lnTo>
                    <a:pt x="2247" y="1542"/>
                  </a:lnTo>
                  <a:lnTo>
                    <a:pt x="2222" y="1562"/>
                  </a:lnTo>
                  <a:lnTo>
                    <a:pt x="2215" y="1510"/>
                  </a:lnTo>
                  <a:lnTo>
                    <a:pt x="2183" y="1440"/>
                  </a:lnTo>
                  <a:lnTo>
                    <a:pt x="2147" y="1400"/>
                  </a:lnTo>
                  <a:lnTo>
                    <a:pt x="2147" y="1353"/>
                  </a:lnTo>
                  <a:lnTo>
                    <a:pt x="2117" y="1360"/>
                  </a:lnTo>
                  <a:lnTo>
                    <a:pt x="2124" y="1431"/>
                  </a:lnTo>
                  <a:lnTo>
                    <a:pt x="2156" y="1487"/>
                  </a:lnTo>
                  <a:lnTo>
                    <a:pt x="2156" y="1538"/>
                  </a:lnTo>
                  <a:lnTo>
                    <a:pt x="2203" y="1559"/>
                  </a:lnTo>
                  <a:lnTo>
                    <a:pt x="2222" y="1594"/>
                  </a:lnTo>
                  <a:lnTo>
                    <a:pt x="2271" y="1582"/>
                  </a:lnTo>
                  <a:lnTo>
                    <a:pt x="2311" y="1578"/>
                  </a:lnTo>
                  <a:lnTo>
                    <a:pt x="2362" y="1550"/>
                  </a:lnTo>
                  <a:lnTo>
                    <a:pt x="2342" y="1613"/>
                  </a:lnTo>
                  <a:lnTo>
                    <a:pt x="2302" y="1692"/>
                  </a:lnTo>
                  <a:lnTo>
                    <a:pt x="2271" y="1744"/>
                  </a:lnTo>
                  <a:lnTo>
                    <a:pt x="2231" y="1791"/>
                  </a:lnTo>
                  <a:lnTo>
                    <a:pt x="2215" y="1831"/>
                  </a:lnTo>
                  <a:lnTo>
                    <a:pt x="2199" y="1922"/>
                  </a:lnTo>
                  <a:lnTo>
                    <a:pt x="2192" y="1985"/>
                  </a:lnTo>
                  <a:lnTo>
                    <a:pt x="2196" y="2048"/>
                  </a:lnTo>
                  <a:lnTo>
                    <a:pt x="2203" y="2108"/>
                  </a:lnTo>
                  <a:lnTo>
                    <a:pt x="2203" y="2123"/>
                  </a:lnTo>
                  <a:lnTo>
                    <a:pt x="2247" y="2116"/>
                  </a:lnTo>
                  <a:lnTo>
                    <a:pt x="2255" y="2064"/>
                  </a:lnTo>
                  <a:lnTo>
                    <a:pt x="2294" y="2017"/>
                  </a:lnTo>
                  <a:lnTo>
                    <a:pt x="2339" y="1985"/>
                  </a:lnTo>
                  <a:lnTo>
                    <a:pt x="2346" y="2044"/>
                  </a:lnTo>
                  <a:lnTo>
                    <a:pt x="2342" y="2095"/>
                  </a:lnTo>
                  <a:lnTo>
                    <a:pt x="2318" y="2123"/>
                  </a:lnTo>
                  <a:lnTo>
                    <a:pt x="2322" y="2151"/>
                  </a:lnTo>
                  <a:lnTo>
                    <a:pt x="2306" y="2223"/>
                  </a:lnTo>
                  <a:lnTo>
                    <a:pt x="2299" y="2258"/>
                  </a:lnTo>
                  <a:lnTo>
                    <a:pt x="2267" y="2266"/>
                  </a:lnTo>
                  <a:lnTo>
                    <a:pt x="2234" y="2230"/>
                  </a:lnTo>
                  <a:lnTo>
                    <a:pt x="2255" y="2183"/>
                  </a:lnTo>
                  <a:lnTo>
                    <a:pt x="2262" y="2155"/>
                  </a:lnTo>
                  <a:lnTo>
                    <a:pt x="2239" y="2123"/>
                  </a:lnTo>
                  <a:lnTo>
                    <a:pt x="2199" y="2127"/>
                  </a:lnTo>
                  <a:lnTo>
                    <a:pt x="2187" y="2179"/>
                  </a:lnTo>
                  <a:lnTo>
                    <a:pt x="2131" y="2198"/>
                  </a:lnTo>
                  <a:lnTo>
                    <a:pt x="2096" y="2230"/>
                  </a:lnTo>
                  <a:lnTo>
                    <a:pt x="2105" y="2286"/>
                  </a:lnTo>
                  <a:lnTo>
                    <a:pt x="2096" y="2349"/>
                  </a:lnTo>
                  <a:lnTo>
                    <a:pt x="2080" y="2416"/>
                  </a:lnTo>
                  <a:lnTo>
                    <a:pt x="2000" y="2488"/>
                  </a:lnTo>
                  <a:lnTo>
                    <a:pt x="1965" y="2491"/>
                  </a:lnTo>
                  <a:lnTo>
                    <a:pt x="1942" y="2443"/>
                  </a:lnTo>
                  <a:lnTo>
                    <a:pt x="1895" y="2416"/>
                  </a:lnTo>
                  <a:lnTo>
                    <a:pt x="1871" y="2396"/>
                  </a:lnTo>
                  <a:lnTo>
                    <a:pt x="1827" y="2305"/>
                  </a:lnTo>
                  <a:lnTo>
                    <a:pt x="1786" y="2261"/>
                  </a:lnTo>
                  <a:lnTo>
                    <a:pt x="1754" y="2219"/>
                  </a:lnTo>
                  <a:lnTo>
                    <a:pt x="1739" y="2172"/>
                  </a:lnTo>
                  <a:lnTo>
                    <a:pt x="1730" y="2108"/>
                  </a:lnTo>
                  <a:lnTo>
                    <a:pt x="1695" y="2064"/>
                  </a:lnTo>
                  <a:lnTo>
                    <a:pt x="1683" y="2025"/>
                  </a:lnTo>
                  <a:lnTo>
                    <a:pt x="1711" y="1978"/>
                  </a:lnTo>
                  <a:lnTo>
                    <a:pt x="1711" y="1933"/>
                  </a:lnTo>
                  <a:lnTo>
                    <a:pt x="1674" y="1903"/>
                  </a:lnTo>
                  <a:lnTo>
                    <a:pt x="1616" y="1898"/>
                  </a:lnTo>
                  <a:lnTo>
                    <a:pt x="1571" y="1878"/>
                  </a:lnTo>
                  <a:lnTo>
                    <a:pt x="1548" y="1898"/>
                  </a:lnTo>
                  <a:lnTo>
                    <a:pt x="1508" y="1903"/>
                  </a:lnTo>
                  <a:lnTo>
                    <a:pt x="1473" y="1878"/>
                  </a:lnTo>
                  <a:lnTo>
                    <a:pt x="1441" y="1847"/>
                  </a:lnTo>
                  <a:lnTo>
                    <a:pt x="1398" y="1839"/>
                  </a:lnTo>
                  <a:lnTo>
                    <a:pt x="1354" y="1814"/>
                  </a:lnTo>
                  <a:lnTo>
                    <a:pt x="1311" y="1779"/>
                  </a:lnTo>
                  <a:lnTo>
                    <a:pt x="1298" y="1709"/>
                  </a:lnTo>
                  <a:lnTo>
                    <a:pt x="1295" y="1660"/>
                  </a:lnTo>
                  <a:lnTo>
                    <a:pt x="1330" y="1625"/>
                  </a:lnTo>
                  <a:lnTo>
                    <a:pt x="1326" y="1589"/>
                  </a:lnTo>
                  <a:lnTo>
                    <a:pt x="1319" y="1526"/>
                  </a:lnTo>
                  <a:lnTo>
                    <a:pt x="1323" y="1470"/>
                  </a:lnTo>
                  <a:lnTo>
                    <a:pt x="1311" y="1416"/>
                  </a:lnTo>
                  <a:lnTo>
                    <a:pt x="1354" y="1372"/>
                  </a:lnTo>
                  <a:lnTo>
                    <a:pt x="1377" y="1341"/>
                  </a:lnTo>
                  <a:lnTo>
                    <a:pt x="1414" y="1337"/>
                  </a:lnTo>
                  <a:lnTo>
                    <a:pt x="1410" y="1292"/>
                  </a:lnTo>
                  <a:lnTo>
                    <a:pt x="1433" y="1252"/>
                  </a:lnTo>
                  <a:lnTo>
                    <a:pt x="1469" y="1225"/>
                  </a:lnTo>
                  <a:lnTo>
                    <a:pt x="1513" y="1249"/>
                  </a:lnTo>
                  <a:lnTo>
                    <a:pt x="1569" y="1261"/>
                  </a:lnTo>
                  <a:lnTo>
                    <a:pt x="1627" y="1252"/>
                  </a:lnTo>
                  <a:lnTo>
                    <a:pt x="1679" y="1252"/>
                  </a:lnTo>
                  <a:lnTo>
                    <a:pt x="1702" y="1256"/>
                  </a:lnTo>
                  <a:lnTo>
                    <a:pt x="1714" y="1300"/>
                  </a:lnTo>
                  <a:lnTo>
                    <a:pt x="1763" y="1309"/>
                  </a:lnTo>
                  <a:lnTo>
                    <a:pt x="1810" y="1332"/>
                  </a:lnTo>
                  <a:lnTo>
                    <a:pt x="1839" y="1328"/>
                  </a:lnTo>
                  <a:lnTo>
                    <a:pt x="1862" y="1296"/>
                  </a:lnTo>
                  <a:lnTo>
                    <a:pt x="1874" y="1264"/>
                  </a:lnTo>
                  <a:lnTo>
                    <a:pt x="1918" y="1284"/>
                  </a:lnTo>
                  <a:lnTo>
                    <a:pt x="1970" y="1300"/>
                  </a:lnTo>
                  <a:lnTo>
                    <a:pt x="2033" y="1309"/>
                  </a:lnTo>
                  <a:lnTo>
                    <a:pt x="2072" y="1313"/>
                  </a:lnTo>
                  <a:lnTo>
                    <a:pt x="2117" y="1309"/>
                  </a:lnTo>
                  <a:lnTo>
                    <a:pt x="2147" y="1284"/>
                  </a:lnTo>
                  <a:lnTo>
                    <a:pt x="2164" y="1233"/>
                  </a:lnTo>
                  <a:lnTo>
                    <a:pt x="2183" y="1200"/>
                  </a:lnTo>
                  <a:lnTo>
                    <a:pt x="2164" y="1189"/>
                  </a:lnTo>
                  <a:lnTo>
                    <a:pt x="2143" y="1161"/>
                  </a:lnTo>
                  <a:lnTo>
                    <a:pt x="2112" y="1170"/>
                  </a:lnTo>
                  <a:lnTo>
                    <a:pt x="2061" y="1170"/>
                  </a:lnTo>
                  <a:lnTo>
                    <a:pt x="2025" y="1158"/>
                  </a:lnTo>
                  <a:lnTo>
                    <a:pt x="2021" y="1118"/>
                  </a:lnTo>
                  <a:lnTo>
                    <a:pt x="2000" y="1098"/>
                  </a:lnTo>
                  <a:lnTo>
                    <a:pt x="1986" y="1118"/>
                  </a:lnTo>
                  <a:lnTo>
                    <a:pt x="1997" y="1158"/>
                  </a:lnTo>
                  <a:lnTo>
                    <a:pt x="1977" y="1186"/>
                  </a:lnTo>
                  <a:lnTo>
                    <a:pt x="1937" y="1181"/>
                  </a:lnTo>
                  <a:lnTo>
                    <a:pt x="1914" y="1149"/>
                  </a:lnTo>
                  <a:lnTo>
                    <a:pt x="1906" y="1114"/>
                  </a:lnTo>
                  <a:lnTo>
                    <a:pt x="1906" y="1059"/>
                  </a:lnTo>
                  <a:lnTo>
                    <a:pt x="1878" y="1046"/>
                  </a:lnTo>
                  <a:lnTo>
                    <a:pt x="1867" y="1078"/>
                  </a:lnTo>
                  <a:lnTo>
                    <a:pt x="1871" y="1118"/>
                  </a:lnTo>
                  <a:lnTo>
                    <a:pt x="1890" y="1146"/>
                  </a:lnTo>
                  <a:lnTo>
                    <a:pt x="1914" y="1177"/>
                  </a:lnTo>
                  <a:lnTo>
                    <a:pt x="1890" y="1212"/>
                  </a:lnTo>
                  <a:lnTo>
                    <a:pt x="1862" y="1228"/>
                  </a:lnTo>
                  <a:lnTo>
                    <a:pt x="1822" y="1225"/>
                  </a:lnTo>
                  <a:lnTo>
                    <a:pt x="1822" y="1256"/>
                  </a:lnTo>
                  <a:lnTo>
                    <a:pt x="1794" y="1272"/>
                  </a:lnTo>
                  <a:lnTo>
                    <a:pt x="1758" y="1228"/>
                  </a:lnTo>
                  <a:lnTo>
                    <a:pt x="1763" y="1205"/>
                  </a:lnTo>
                  <a:lnTo>
                    <a:pt x="1805" y="1225"/>
                  </a:lnTo>
                  <a:lnTo>
                    <a:pt x="1834" y="1225"/>
                  </a:lnTo>
                  <a:lnTo>
                    <a:pt x="1871" y="1197"/>
                  </a:lnTo>
                  <a:lnTo>
                    <a:pt x="1862" y="1158"/>
                  </a:lnTo>
                  <a:lnTo>
                    <a:pt x="1827" y="1125"/>
                  </a:lnTo>
                  <a:lnTo>
                    <a:pt x="1794" y="1098"/>
                  </a:lnTo>
                  <a:lnTo>
                    <a:pt x="1758" y="1062"/>
                  </a:lnTo>
                  <a:lnTo>
                    <a:pt x="1719" y="1034"/>
                  </a:lnTo>
                  <a:lnTo>
                    <a:pt x="1719" y="1078"/>
                  </a:lnTo>
                  <a:lnTo>
                    <a:pt x="1746" y="1106"/>
                  </a:lnTo>
                  <a:lnTo>
                    <a:pt x="1739" y="1158"/>
                  </a:lnTo>
                  <a:lnTo>
                    <a:pt x="1739" y="1197"/>
                  </a:lnTo>
                  <a:lnTo>
                    <a:pt x="1695" y="1165"/>
                  </a:lnTo>
                  <a:lnTo>
                    <a:pt x="1688" y="1134"/>
                  </a:lnTo>
                  <a:lnTo>
                    <a:pt x="1711" y="1114"/>
                  </a:lnTo>
                  <a:lnTo>
                    <a:pt x="1702" y="1086"/>
                  </a:lnTo>
                  <a:lnTo>
                    <a:pt x="1723" y="1074"/>
                  </a:lnTo>
                  <a:lnTo>
                    <a:pt x="1723" y="1034"/>
                  </a:lnTo>
                  <a:lnTo>
                    <a:pt x="1688" y="1043"/>
                  </a:lnTo>
                  <a:lnTo>
                    <a:pt x="1663" y="1078"/>
                  </a:lnTo>
                  <a:lnTo>
                    <a:pt x="1627" y="1062"/>
                  </a:lnTo>
                  <a:lnTo>
                    <a:pt x="1571" y="1090"/>
                  </a:lnTo>
                  <a:lnTo>
                    <a:pt x="1560" y="1142"/>
                  </a:lnTo>
                  <a:lnTo>
                    <a:pt x="1520" y="1177"/>
                  </a:lnTo>
                  <a:lnTo>
                    <a:pt x="1473" y="1200"/>
                  </a:lnTo>
                  <a:lnTo>
                    <a:pt x="1429" y="1205"/>
                  </a:lnTo>
                  <a:lnTo>
                    <a:pt x="1377" y="1189"/>
                  </a:lnTo>
                  <a:lnTo>
                    <a:pt x="1358" y="1165"/>
                  </a:lnTo>
                  <a:lnTo>
                    <a:pt x="1374" y="1142"/>
                  </a:lnTo>
                  <a:lnTo>
                    <a:pt x="1358" y="1106"/>
                  </a:lnTo>
                  <a:lnTo>
                    <a:pt x="1389" y="1083"/>
                  </a:lnTo>
                  <a:lnTo>
                    <a:pt x="1394" y="1050"/>
                  </a:lnTo>
                  <a:lnTo>
                    <a:pt x="1394" y="1008"/>
                  </a:lnTo>
                  <a:lnTo>
                    <a:pt x="1433" y="968"/>
                  </a:lnTo>
                  <a:lnTo>
                    <a:pt x="1489" y="980"/>
                  </a:lnTo>
                  <a:lnTo>
                    <a:pt x="1557" y="999"/>
                  </a:lnTo>
                  <a:lnTo>
                    <a:pt x="1583" y="971"/>
                  </a:lnTo>
                  <a:lnTo>
                    <a:pt x="1583" y="928"/>
                  </a:lnTo>
                  <a:lnTo>
                    <a:pt x="1552" y="896"/>
                  </a:lnTo>
                  <a:lnTo>
                    <a:pt x="1501" y="873"/>
                  </a:lnTo>
                  <a:lnTo>
                    <a:pt x="1524" y="849"/>
                  </a:lnTo>
                  <a:lnTo>
                    <a:pt x="1576" y="833"/>
                  </a:lnTo>
                  <a:lnTo>
                    <a:pt x="1588" y="826"/>
                  </a:lnTo>
                  <a:lnTo>
                    <a:pt x="1571" y="821"/>
                  </a:lnTo>
                  <a:lnTo>
                    <a:pt x="1532" y="826"/>
                  </a:lnTo>
                  <a:lnTo>
                    <a:pt x="1489" y="833"/>
                  </a:lnTo>
                  <a:lnTo>
                    <a:pt x="1469" y="842"/>
                  </a:lnTo>
                  <a:lnTo>
                    <a:pt x="1485" y="809"/>
                  </a:lnTo>
                  <a:lnTo>
                    <a:pt x="1489" y="770"/>
                  </a:lnTo>
                  <a:lnTo>
                    <a:pt x="1508" y="751"/>
                  </a:lnTo>
                  <a:lnTo>
                    <a:pt x="1517" y="723"/>
                  </a:lnTo>
                  <a:lnTo>
                    <a:pt x="1496" y="695"/>
                  </a:lnTo>
                  <a:lnTo>
                    <a:pt x="1469" y="707"/>
                  </a:lnTo>
                  <a:lnTo>
                    <a:pt x="1473" y="742"/>
                  </a:lnTo>
                  <a:lnTo>
                    <a:pt x="1469" y="779"/>
                  </a:lnTo>
                  <a:lnTo>
                    <a:pt x="1449" y="826"/>
                  </a:lnTo>
                  <a:lnTo>
                    <a:pt x="1410" y="821"/>
                  </a:lnTo>
                  <a:lnTo>
                    <a:pt x="1398" y="779"/>
                  </a:lnTo>
                  <a:lnTo>
                    <a:pt x="1370" y="734"/>
                  </a:lnTo>
                  <a:lnTo>
                    <a:pt x="1414" y="723"/>
                  </a:lnTo>
                  <a:lnTo>
                    <a:pt x="1438" y="702"/>
                  </a:lnTo>
                  <a:lnTo>
                    <a:pt x="1454" y="699"/>
                  </a:lnTo>
                  <a:lnTo>
                    <a:pt x="1454" y="671"/>
                  </a:lnTo>
                  <a:lnTo>
                    <a:pt x="1445" y="643"/>
                  </a:lnTo>
                  <a:lnTo>
                    <a:pt x="1480" y="624"/>
                  </a:lnTo>
                  <a:lnTo>
                    <a:pt x="1517" y="599"/>
                  </a:lnTo>
                  <a:lnTo>
                    <a:pt x="1541" y="620"/>
                  </a:lnTo>
                  <a:lnTo>
                    <a:pt x="1552" y="662"/>
                  </a:lnTo>
                  <a:lnTo>
                    <a:pt x="1569" y="707"/>
                  </a:lnTo>
                  <a:lnTo>
                    <a:pt x="1592" y="739"/>
                  </a:lnTo>
                  <a:lnTo>
                    <a:pt x="1604" y="779"/>
                  </a:lnTo>
                  <a:lnTo>
                    <a:pt x="1588" y="805"/>
                  </a:lnTo>
                  <a:lnTo>
                    <a:pt x="1583" y="829"/>
                  </a:lnTo>
                  <a:lnTo>
                    <a:pt x="1616" y="821"/>
                  </a:lnTo>
                  <a:lnTo>
                    <a:pt x="1655" y="798"/>
                  </a:lnTo>
                  <a:lnTo>
                    <a:pt x="1674" y="742"/>
                  </a:lnTo>
                  <a:lnTo>
                    <a:pt x="1714" y="742"/>
                  </a:lnTo>
                  <a:lnTo>
                    <a:pt x="1730" y="734"/>
                  </a:lnTo>
                  <a:lnTo>
                    <a:pt x="1727" y="695"/>
                  </a:lnTo>
                  <a:lnTo>
                    <a:pt x="1711" y="655"/>
                  </a:lnTo>
                  <a:lnTo>
                    <a:pt x="1746" y="655"/>
                  </a:lnTo>
                  <a:lnTo>
                    <a:pt x="1786" y="695"/>
                  </a:lnTo>
                  <a:lnTo>
                    <a:pt x="1822" y="723"/>
                  </a:lnTo>
                  <a:lnTo>
                    <a:pt x="1855" y="723"/>
                  </a:lnTo>
                  <a:lnTo>
                    <a:pt x="1902" y="702"/>
                  </a:lnTo>
                  <a:lnTo>
                    <a:pt x="1930" y="659"/>
                  </a:lnTo>
                  <a:lnTo>
                    <a:pt x="1949" y="620"/>
                  </a:lnTo>
                  <a:lnTo>
                    <a:pt x="2021" y="632"/>
                  </a:lnTo>
                  <a:lnTo>
                    <a:pt x="1962" y="596"/>
                  </a:lnTo>
                  <a:lnTo>
                    <a:pt x="1914" y="599"/>
                  </a:lnTo>
                  <a:lnTo>
                    <a:pt x="1906" y="548"/>
                  </a:lnTo>
                  <a:lnTo>
                    <a:pt x="1906" y="517"/>
                  </a:lnTo>
                  <a:lnTo>
                    <a:pt x="1953" y="501"/>
                  </a:lnTo>
                  <a:lnTo>
                    <a:pt x="1965" y="470"/>
                  </a:lnTo>
                  <a:lnTo>
                    <a:pt x="1930" y="489"/>
                  </a:lnTo>
                  <a:lnTo>
                    <a:pt x="1890" y="512"/>
                  </a:lnTo>
                  <a:lnTo>
                    <a:pt x="1843" y="517"/>
                  </a:lnTo>
                  <a:lnTo>
                    <a:pt x="1867" y="573"/>
                  </a:lnTo>
                  <a:lnTo>
                    <a:pt x="1862" y="615"/>
                  </a:lnTo>
                  <a:lnTo>
                    <a:pt x="1862" y="651"/>
                  </a:lnTo>
                  <a:lnTo>
                    <a:pt x="1827" y="671"/>
                  </a:lnTo>
                  <a:lnTo>
                    <a:pt x="1791" y="683"/>
                  </a:lnTo>
                  <a:lnTo>
                    <a:pt x="1763" y="655"/>
                  </a:lnTo>
                  <a:lnTo>
                    <a:pt x="1766" y="620"/>
                  </a:lnTo>
                  <a:lnTo>
                    <a:pt x="1770" y="596"/>
                  </a:lnTo>
                  <a:lnTo>
                    <a:pt x="1730" y="615"/>
                  </a:lnTo>
                  <a:lnTo>
                    <a:pt x="1691" y="592"/>
                  </a:lnTo>
                  <a:lnTo>
                    <a:pt x="1674" y="561"/>
                  </a:lnTo>
                  <a:lnTo>
                    <a:pt x="1683" y="517"/>
                  </a:lnTo>
                  <a:lnTo>
                    <a:pt x="1679" y="512"/>
                  </a:lnTo>
                  <a:lnTo>
                    <a:pt x="1683" y="510"/>
                  </a:lnTo>
                  <a:lnTo>
                    <a:pt x="1688" y="505"/>
                  </a:lnTo>
                  <a:lnTo>
                    <a:pt x="1220" y="505"/>
                  </a:lnTo>
                  <a:lnTo>
                    <a:pt x="1195" y="536"/>
                  </a:lnTo>
                  <a:lnTo>
                    <a:pt x="1155" y="557"/>
                  </a:lnTo>
                  <a:lnTo>
                    <a:pt x="1116" y="540"/>
                  </a:lnTo>
                  <a:lnTo>
                    <a:pt x="1096" y="512"/>
                  </a:lnTo>
                  <a:lnTo>
                    <a:pt x="1096" y="485"/>
                  </a:lnTo>
                  <a:lnTo>
                    <a:pt x="1104" y="477"/>
                  </a:lnTo>
                  <a:lnTo>
                    <a:pt x="1010" y="477"/>
                  </a:lnTo>
                  <a:lnTo>
                    <a:pt x="977" y="485"/>
                  </a:lnTo>
                  <a:lnTo>
                    <a:pt x="947" y="540"/>
                  </a:lnTo>
                  <a:lnTo>
                    <a:pt x="935" y="585"/>
                  </a:lnTo>
                  <a:lnTo>
                    <a:pt x="919" y="624"/>
                  </a:lnTo>
                  <a:lnTo>
                    <a:pt x="870" y="615"/>
                  </a:lnTo>
                  <a:lnTo>
                    <a:pt x="835" y="585"/>
                  </a:lnTo>
                  <a:lnTo>
                    <a:pt x="830" y="517"/>
                  </a:lnTo>
                  <a:lnTo>
                    <a:pt x="819" y="454"/>
                  </a:lnTo>
                  <a:lnTo>
                    <a:pt x="788" y="414"/>
                  </a:lnTo>
                  <a:lnTo>
                    <a:pt x="795" y="382"/>
                  </a:lnTo>
                  <a:lnTo>
                    <a:pt x="772" y="330"/>
                  </a:lnTo>
                  <a:lnTo>
                    <a:pt x="748" y="307"/>
                  </a:lnTo>
                  <a:lnTo>
                    <a:pt x="716" y="335"/>
                  </a:lnTo>
                  <a:lnTo>
                    <a:pt x="669" y="304"/>
                  </a:lnTo>
                  <a:lnTo>
                    <a:pt x="648" y="327"/>
                  </a:lnTo>
                  <a:lnTo>
                    <a:pt x="622" y="343"/>
                  </a:lnTo>
                  <a:lnTo>
                    <a:pt x="570" y="363"/>
                  </a:lnTo>
                  <a:lnTo>
                    <a:pt x="538" y="402"/>
                  </a:lnTo>
                  <a:lnTo>
                    <a:pt x="597" y="410"/>
                  </a:lnTo>
                  <a:lnTo>
                    <a:pt x="652" y="430"/>
                  </a:lnTo>
                  <a:lnTo>
                    <a:pt x="680" y="470"/>
                  </a:lnTo>
                  <a:lnTo>
                    <a:pt x="716" y="510"/>
                  </a:lnTo>
                  <a:lnTo>
                    <a:pt x="724" y="576"/>
                  </a:lnTo>
                  <a:lnTo>
                    <a:pt x="704" y="632"/>
                  </a:lnTo>
                  <a:lnTo>
                    <a:pt x="669" y="655"/>
                  </a:lnTo>
                  <a:lnTo>
                    <a:pt x="629" y="615"/>
                  </a:lnTo>
                  <a:lnTo>
                    <a:pt x="554" y="612"/>
                  </a:lnTo>
                  <a:lnTo>
                    <a:pt x="554" y="580"/>
                  </a:lnTo>
                  <a:lnTo>
                    <a:pt x="622" y="561"/>
                  </a:lnTo>
                  <a:lnTo>
                    <a:pt x="624" y="529"/>
                  </a:lnTo>
                  <a:lnTo>
                    <a:pt x="617" y="512"/>
                  </a:lnTo>
                  <a:lnTo>
                    <a:pt x="594" y="548"/>
                  </a:lnTo>
                  <a:lnTo>
                    <a:pt x="557" y="524"/>
                  </a:lnTo>
                  <a:lnTo>
                    <a:pt x="610" y="489"/>
                  </a:lnTo>
                  <a:lnTo>
                    <a:pt x="629" y="517"/>
                  </a:lnTo>
                  <a:lnTo>
                    <a:pt x="594" y="485"/>
                  </a:lnTo>
                  <a:lnTo>
                    <a:pt x="554" y="485"/>
                  </a:lnTo>
                  <a:lnTo>
                    <a:pt x="526" y="510"/>
                  </a:lnTo>
                  <a:lnTo>
                    <a:pt x="533" y="548"/>
                  </a:lnTo>
                  <a:lnTo>
                    <a:pt x="533" y="596"/>
                  </a:lnTo>
                  <a:lnTo>
                    <a:pt x="519" y="636"/>
                  </a:lnTo>
                  <a:lnTo>
                    <a:pt x="533" y="679"/>
                  </a:lnTo>
                  <a:lnTo>
                    <a:pt x="491" y="651"/>
                  </a:lnTo>
                  <a:lnTo>
                    <a:pt x="470" y="667"/>
                  </a:lnTo>
                  <a:lnTo>
                    <a:pt x="463" y="643"/>
                  </a:lnTo>
                  <a:lnTo>
                    <a:pt x="470" y="599"/>
                  </a:lnTo>
                  <a:lnTo>
                    <a:pt x="435" y="620"/>
                  </a:lnTo>
                  <a:lnTo>
                    <a:pt x="419" y="655"/>
                  </a:lnTo>
                  <a:lnTo>
                    <a:pt x="391" y="683"/>
                  </a:lnTo>
                  <a:lnTo>
                    <a:pt x="391" y="714"/>
                  </a:lnTo>
                  <a:lnTo>
                    <a:pt x="344" y="714"/>
                  </a:lnTo>
                  <a:lnTo>
                    <a:pt x="327" y="739"/>
                  </a:lnTo>
                  <a:lnTo>
                    <a:pt x="344" y="786"/>
                  </a:lnTo>
                  <a:lnTo>
                    <a:pt x="395" y="809"/>
                  </a:lnTo>
                  <a:lnTo>
                    <a:pt x="419" y="833"/>
                  </a:lnTo>
                  <a:lnTo>
                    <a:pt x="414" y="877"/>
                  </a:lnTo>
                  <a:lnTo>
                    <a:pt x="442" y="868"/>
                  </a:lnTo>
                  <a:lnTo>
                    <a:pt x="451" y="826"/>
                  </a:lnTo>
                  <a:lnTo>
                    <a:pt x="505" y="826"/>
                  </a:lnTo>
                  <a:lnTo>
                    <a:pt x="538" y="786"/>
                  </a:lnTo>
                  <a:lnTo>
                    <a:pt x="542" y="742"/>
                  </a:lnTo>
                  <a:lnTo>
                    <a:pt x="538" y="671"/>
                  </a:lnTo>
                  <a:lnTo>
                    <a:pt x="554" y="627"/>
                  </a:lnTo>
                  <a:lnTo>
                    <a:pt x="582" y="596"/>
                  </a:lnTo>
                  <a:lnTo>
                    <a:pt x="624" y="624"/>
                  </a:lnTo>
                  <a:lnTo>
                    <a:pt x="676" y="655"/>
                  </a:lnTo>
                  <a:lnTo>
                    <a:pt x="701" y="671"/>
                  </a:lnTo>
                  <a:lnTo>
                    <a:pt x="727" y="714"/>
                  </a:lnTo>
                  <a:lnTo>
                    <a:pt x="764" y="739"/>
                  </a:lnTo>
                  <a:lnTo>
                    <a:pt x="776" y="786"/>
                  </a:lnTo>
                  <a:lnTo>
                    <a:pt x="783" y="821"/>
                  </a:lnTo>
                  <a:lnTo>
                    <a:pt x="819" y="845"/>
                  </a:lnTo>
                  <a:lnTo>
                    <a:pt x="788" y="880"/>
                  </a:lnTo>
                  <a:lnTo>
                    <a:pt x="739" y="880"/>
                  </a:lnTo>
                  <a:lnTo>
                    <a:pt x="692" y="908"/>
                  </a:lnTo>
                  <a:lnTo>
                    <a:pt x="652" y="936"/>
                  </a:lnTo>
                  <a:lnTo>
                    <a:pt x="597" y="964"/>
                  </a:lnTo>
                  <a:lnTo>
                    <a:pt x="554" y="1008"/>
                  </a:lnTo>
                  <a:lnTo>
                    <a:pt x="510" y="1043"/>
                  </a:lnTo>
                  <a:lnTo>
                    <a:pt x="505" y="1078"/>
                  </a:lnTo>
                  <a:lnTo>
                    <a:pt x="505" y="1098"/>
                  </a:lnTo>
                  <a:lnTo>
                    <a:pt x="470" y="1130"/>
                  </a:lnTo>
                  <a:lnTo>
                    <a:pt x="474" y="1161"/>
                  </a:lnTo>
                  <a:lnTo>
                    <a:pt x="439" y="1200"/>
                  </a:lnTo>
                  <a:lnTo>
                    <a:pt x="439" y="1252"/>
                  </a:lnTo>
                  <a:lnTo>
                    <a:pt x="467" y="1292"/>
                  </a:lnTo>
                  <a:lnTo>
                    <a:pt x="451" y="1316"/>
                  </a:lnTo>
                  <a:lnTo>
                    <a:pt x="414" y="1300"/>
                  </a:lnTo>
                  <a:lnTo>
                    <a:pt x="402" y="1252"/>
                  </a:lnTo>
                  <a:lnTo>
                    <a:pt x="372" y="1225"/>
                  </a:lnTo>
                  <a:lnTo>
                    <a:pt x="339" y="1228"/>
                  </a:lnTo>
                  <a:lnTo>
                    <a:pt x="323" y="1264"/>
                  </a:lnTo>
                  <a:lnTo>
                    <a:pt x="288" y="1252"/>
                  </a:lnTo>
                  <a:lnTo>
                    <a:pt x="248" y="1252"/>
                  </a:lnTo>
                  <a:lnTo>
                    <a:pt x="205" y="1289"/>
                  </a:lnTo>
                  <a:lnTo>
                    <a:pt x="197" y="1316"/>
                  </a:lnTo>
                  <a:lnTo>
                    <a:pt x="185" y="1353"/>
                  </a:lnTo>
                  <a:lnTo>
                    <a:pt x="180" y="1412"/>
                  </a:lnTo>
                  <a:lnTo>
                    <a:pt x="205" y="1444"/>
                  </a:lnTo>
                  <a:lnTo>
                    <a:pt x="241" y="1419"/>
                  </a:lnTo>
                  <a:lnTo>
                    <a:pt x="285" y="1419"/>
                  </a:lnTo>
                  <a:lnTo>
                    <a:pt x="288" y="1467"/>
                  </a:lnTo>
                  <a:lnTo>
                    <a:pt x="260" y="1503"/>
                  </a:lnTo>
                  <a:lnTo>
                    <a:pt x="308" y="1507"/>
                  </a:lnTo>
                  <a:lnTo>
                    <a:pt x="327" y="1515"/>
                  </a:lnTo>
                  <a:lnTo>
                    <a:pt x="339" y="1559"/>
                  </a:lnTo>
                  <a:lnTo>
                    <a:pt x="379" y="1582"/>
                  </a:lnTo>
                  <a:lnTo>
                    <a:pt x="427" y="1613"/>
                  </a:lnTo>
                  <a:lnTo>
                    <a:pt x="463" y="1589"/>
                  </a:lnTo>
                  <a:lnTo>
                    <a:pt x="533" y="1613"/>
                  </a:lnTo>
                  <a:lnTo>
                    <a:pt x="585" y="1622"/>
                  </a:lnTo>
                  <a:lnTo>
                    <a:pt x="664" y="1660"/>
                  </a:lnTo>
                  <a:lnTo>
                    <a:pt x="680" y="1692"/>
                  </a:lnTo>
                  <a:lnTo>
                    <a:pt x="727" y="1732"/>
                  </a:lnTo>
                  <a:lnTo>
                    <a:pt x="752" y="1791"/>
                  </a:lnTo>
                  <a:lnTo>
                    <a:pt x="807" y="1814"/>
                  </a:lnTo>
                  <a:lnTo>
                    <a:pt x="858" y="1823"/>
                  </a:lnTo>
                  <a:lnTo>
                    <a:pt x="907" y="1866"/>
                  </a:lnTo>
                  <a:lnTo>
                    <a:pt x="973" y="1866"/>
                  </a:lnTo>
                  <a:lnTo>
                    <a:pt x="977" y="1906"/>
                  </a:lnTo>
                  <a:lnTo>
                    <a:pt x="977" y="1945"/>
                  </a:lnTo>
                  <a:lnTo>
                    <a:pt x="947" y="1985"/>
                  </a:lnTo>
                  <a:lnTo>
                    <a:pt x="942" y="2041"/>
                  </a:lnTo>
                  <a:lnTo>
                    <a:pt x="935" y="2088"/>
                  </a:lnTo>
                  <a:lnTo>
                    <a:pt x="898" y="2135"/>
                  </a:lnTo>
                  <a:lnTo>
                    <a:pt x="847" y="2158"/>
                  </a:lnTo>
                  <a:lnTo>
                    <a:pt x="804" y="2172"/>
                  </a:lnTo>
                  <a:lnTo>
                    <a:pt x="823" y="2214"/>
                  </a:lnTo>
                  <a:lnTo>
                    <a:pt x="783" y="2258"/>
                  </a:lnTo>
                  <a:lnTo>
                    <a:pt x="748" y="2298"/>
                  </a:lnTo>
                  <a:lnTo>
                    <a:pt x="704" y="2321"/>
                  </a:lnTo>
                  <a:lnTo>
                    <a:pt x="669" y="2380"/>
                  </a:lnTo>
                  <a:lnTo>
                    <a:pt x="648" y="2420"/>
                  </a:lnTo>
                  <a:lnTo>
                    <a:pt x="610" y="2441"/>
                  </a:lnTo>
                  <a:lnTo>
                    <a:pt x="582" y="2476"/>
                  </a:lnTo>
                  <a:lnTo>
                    <a:pt x="557" y="2511"/>
                  </a:lnTo>
                  <a:lnTo>
                    <a:pt x="542" y="2546"/>
                  </a:lnTo>
                  <a:lnTo>
                    <a:pt x="545" y="2579"/>
                  </a:lnTo>
                  <a:lnTo>
                    <a:pt x="526" y="2607"/>
                  </a:lnTo>
                  <a:lnTo>
                    <a:pt x="498" y="2558"/>
                  </a:lnTo>
                  <a:lnTo>
                    <a:pt x="454" y="2518"/>
                  </a:lnTo>
                  <a:lnTo>
                    <a:pt x="439" y="2467"/>
                  </a:lnTo>
                  <a:lnTo>
                    <a:pt x="439" y="2420"/>
                  </a:lnTo>
                  <a:lnTo>
                    <a:pt x="435" y="2361"/>
                  </a:lnTo>
                  <a:lnTo>
                    <a:pt x="454" y="2286"/>
                  </a:lnTo>
                  <a:lnTo>
                    <a:pt x="463" y="2214"/>
                  </a:lnTo>
                  <a:lnTo>
                    <a:pt x="451" y="2144"/>
                  </a:lnTo>
                  <a:lnTo>
                    <a:pt x="435" y="2088"/>
                  </a:lnTo>
                  <a:lnTo>
                    <a:pt x="391" y="2041"/>
                  </a:lnTo>
                  <a:lnTo>
                    <a:pt x="344" y="2001"/>
                  </a:lnTo>
                  <a:lnTo>
                    <a:pt x="308" y="1942"/>
                  </a:lnTo>
                  <a:lnTo>
                    <a:pt x="299" y="1878"/>
                  </a:lnTo>
                  <a:lnTo>
                    <a:pt x="323" y="1835"/>
                  </a:lnTo>
                  <a:lnTo>
                    <a:pt x="323" y="1795"/>
                  </a:lnTo>
                  <a:lnTo>
                    <a:pt x="344" y="1728"/>
                  </a:lnTo>
                  <a:lnTo>
                    <a:pt x="376" y="1681"/>
                  </a:lnTo>
                  <a:lnTo>
                    <a:pt x="414" y="1648"/>
                  </a:lnTo>
                  <a:lnTo>
                    <a:pt x="430" y="1622"/>
                  </a:lnTo>
                  <a:lnTo>
                    <a:pt x="379" y="1601"/>
                  </a:lnTo>
                  <a:lnTo>
                    <a:pt x="348" y="1613"/>
                  </a:lnTo>
                  <a:lnTo>
                    <a:pt x="320" y="1597"/>
                  </a:lnTo>
                  <a:lnTo>
                    <a:pt x="276" y="1566"/>
                  </a:lnTo>
                  <a:lnTo>
                    <a:pt x="236" y="1538"/>
                  </a:lnTo>
                  <a:lnTo>
                    <a:pt x="217" y="1494"/>
                  </a:lnTo>
                  <a:lnTo>
                    <a:pt x="197" y="1482"/>
                  </a:lnTo>
                  <a:lnTo>
                    <a:pt x="177" y="1503"/>
                  </a:lnTo>
                  <a:lnTo>
                    <a:pt x="129" y="1475"/>
                  </a:lnTo>
                  <a:lnTo>
                    <a:pt x="105" y="1440"/>
                  </a:lnTo>
                  <a:lnTo>
                    <a:pt x="86" y="1412"/>
                  </a:lnTo>
                  <a:lnTo>
                    <a:pt x="86" y="1360"/>
                  </a:lnTo>
                  <a:lnTo>
                    <a:pt x="77" y="1337"/>
                  </a:lnTo>
                  <a:lnTo>
                    <a:pt x="42" y="1304"/>
                  </a:lnTo>
                  <a:lnTo>
                    <a:pt x="42" y="1332"/>
                  </a:lnTo>
                  <a:lnTo>
                    <a:pt x="63" y="1368"/>
                  </a:lnTo>
                  <a:lnTo>
                    <a:pt x="70" y="1400"/>
                  </a:lnTo>
                  <a:lnTo>
                    <a:pt x="35" y="1376"/>
                  </a:lnTo>
                  <a:lnTo>
                    <a:pt x="11" y="1348"/>
                  </a:lnTo>
                  <a:lnTo>
                    <a:pt x="2" y="1309"/>
                  </a:lnTo>
                  <a:lnTo>
                    <a:pt x="7" y="1249"/>
                  </a:lnTo>
                  <a:lnTo>
                    <a:pt x="0" y="1165"/>
                  </a:lnTo>
                  <a:lnTo>
                    <a:pt x="7" y="1059"/>
                  </a:lnTo>
                  <a:lnTo>
                    <a:pt x="35" y="908"/>
                  </a:lnTo>
                  <a:lnTo>
                    <a:pt x="82" y="754"/>
                  </a:lnTo>
                  <a:lnTo>
                    <a:pt x="161" y="576"/>
                  </a:lnTo>
                  <a:lnTo>
                    <a:pt x="224" y="449"/>
                  </a:lnTo>
                  <a:lnTo>
                    <a:pt x="320" y="307"/>
                  </a:lnTo>
                  <a:lnTo>
                    <a:pt x="395" y="224"/>
                  </a:lnTo>
                  <a:close/>
                </a:path>
              </a:pathLst>
            </a:custGeom>
            <a:solidFill>
              <a:srgbClr val="2144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60600" y="2843280"/>
              <a:ext cx="1292760" cy="941760"/>
            </a:xfrm>
            <a:custGeom>
              <a:avLst/>
              <a:gdLst/>
              <a:ahLst/>
              <a:rect l="0" t="0" r="r" b="b"/>
              <a:pathLst>
                <a:path w="3591" h="2616">
                  <a:moveTo>
                    <a:pt x="365" y="238"/>
                  </a:moveTo>
                  <a:lnTo>
                    <a:pt x="409" y="233"/>
                  </a:lnTo>
                  <a:lnTo>
                    <a:pt x="440" y="202"/>
                  </a:lnTo>
                  <a:lnTo>
                    <a:pt x="477" y="182"/>
                  </a:lnTo>
                  <a:lnTo>
                    <a:pt x="496" y="158"/>
                  </a:lnTo>
                  <a:lnTo>
                    <a:pt x="540" y="130"/>
                  </a:lnTo>
                  <a:lnTo>
                    <a:pt x="575" y="119"/>
                  </a:lnTo>
                  <a:lnTo>
                    <a:pt x="612" y="107"/>
                  </a:lnTo>
                  <a:lnTo>
                    <a:pt x="639" y="107"/>
                  </a:lnTo>
                  <a:lnTo>
                    <a:pt x="659" y="94"/>
                  </a:lnTo>
                  <a:lnTo>
                    <a:pt x="692" y="94"/>
                  </a:lnTo>
                  <a:lnTo>
                    <a:pt x="704" y="75"/>
                  </a:lnTo>
                  <a:lnTo>
                    <a:pt x="739" y="82"/>
                  </a:lnTo>
                  <a:lnTo>
                    <a:pt x="774" y="63"/>
                  </a:lnTo>
                  <a:lnTo>
                    <a:pt x="802" y="75"/>
                  </a:lnTo>
                  <a:lnTo>
                    <a:pt x="818" y="91"/>
                  </a:lnTo>
                  <a:lnTo>
                    <a:pt x="802" y="107"/>
                  </a:lnTo>
                  <a:lnTo>
                    <a:pt x="774" y="94"/>
                  </a:lnTo>
                  <a:lnTo>
                    <a:pt x="746" y="110"/>
                  </a:lnTo>
                  <a:lnTo>
                    <a:pt x="732" y="135"/>
                  </a:lnTo>
                  <a:lnTo>
                    <a:pt x="723" y="161"/>
                  </a:lnTo>
                  <a:lnTo>
                    <a:pt x="695" y="166"/>
                  </a:lnTo>
                  <a:lnTo>
                    <a:pt x="659" y="182"/>
                  </a:lnTo>
                  <a:lnTo>
                    <a:pt x="655" y="222"/>
                  </a:lnTo>
                  <a:lnTo>
                    <a:pt x="652" y="254"/>
                  </a:lnTo>
                  <a:lnTo>
                    <a:pt x="639" y="277"/>
                  </a:lnTo>
                  <a:lnTo>
                    <a:pt x="655" y="301"/>
                  </a:lnTo>
                  <a:lnTo>
                    <a:pt x="671" y="238"/>
                  </a:lnTo>
                  <a:lnTo>
                    <a:pt x="695" y="226"/>
                  </a:lnTo>
                  <a:lnTo>
                    <a:pt x="723" y="194"/>
                  </a:lnTo>
                  <a:lnTo>
                    <a:pt x="743" y="150"/>
                  </a:lnTo>
                  <a:lnTo>
                    <a:pt x="790" y="142"/>
                  </a:lnTo>
                  <a:lnTo>
                    <a:pt x="830" y="122"/>
                  </a:lnTo>
                  <a:lnTo>
                    <a:pt x="854" y="86"/>
                  </a:lnTo>
                  <a:lnTo>
                    <a:pt x="886" y="86"/>
                  </a:lnTo>
                  <a:lnTo>
                    <a:pt x="962" y="82"/>
                  </a:lnTo>
                  <a:lnTo>
                    <a:pt x="1042" y="63"/>
                  </a:lnTo>
                  <a:lnTo>
                    <a:pt x="1067" y="63"/>
                  </a:lnTo>
                  <a:lnTo>
                    <a:pt x="1102" y="63"/>
                  </a:lnTo>
                  <a:lnTo>
                    <a:pt x="1138" y="63"/>
                  </a:lnTo>
                  <a:lnTo>
                    <a:pt x="1170" y="75"/>
                  </a:lnTo>
                  <a:lnTo>
                    <a:pt x="1210" y="107"/>
                  </a:lnTo>
                  <a:lnTo>
                    <a:pt x="1194" y="110"/>
                  </a:lnTo>
                  <a:lnTo>
                    <a:pt x="1149" y="126"/>
                  </a:lnTo>
                  <a:lnTo>
                    <a:pt x="1154" y="161"/>
                  </a:lnTo>
                  <a:lnTo>
                    <a:pt x="1189" y="166"/>
                  </a:lnTo>
                  <a:lnTo>
                    <a:pt x="1205" y="166"/>
                  </a:lnTo>
                  <a:lnTo>
                    <a:pt x="1198" y="194"/>
                  </a:lnTo>
                  <a:lnTo>
                    <a:pt x="1154" y="233"/>
                  </a:lnTo>
                  <a:lnTo>
                    <a:pt x="1130" y="238"/>
                  </a:lnTo>
                  <a:lnTo>
                    <a:pt x="1135" y="261"/>
                  </a:lnTo>
                  <a:lnTo>
                    <a:pt x="1142" y="277"/>
                  </a:lnTo>
                  <a:lnTo>
                    <a:pt x="1130" y="301"/>
                  </a:lnTo>
                  <a:lnTo>
                    <a:pt x="1149" y="333"/>
                  </a:lnTo>
                  <a:lnTo>
                    <a:pt x="1107" y="345"/>
                  </a:lnTo>
                  <a:lnTo>
                    <a:pt x="1067" y="357"/>
                  </a:lnTo>
                  <a:lnTo>
                    <a:pt x="1062" y="401"/>
                  </a:lnTo>
                  <a:lnTo>
                    <a:pt x="1042" y="436"/>
                  </a:lnTo>
                  <a:lnTo>
                    <a:pt x="1014" y="464"/>
                  </a:lnTo>
                  <a:lnTo>
                    <a:pt x="979" y="480"/>
                  </a:lnTo>
                  <a:lnTo>
                    <a:pt x="1062" y="480"/>
                  </a:lnTo>
                  <a:lnTo>
                    <a:pt x="1107" y="480"/>
                  </a:lnTo>
                  <a:lnTo>
                    <a:pt x="1135" y="488"/>
                  </a:lnTo>
                  <a:lnTo>
                    <a:pt x="1170" y="473"/>
                  </a:lnTo>
                  <a:lnTo>
                    <a:pt x="1189" y="508"/>
                  </a:lnTo>
                  <a:lnTo>
                    <a:pt x="1655" y="508"/>
                  </a:lnTo>
                  <a:lnTo>
                    <a:pt x="1671" y="480"/>
                  </a:lnTo>
                  <a:lnTo>
                    <a:pt x="1722" y="445"/>
                  </a:lnTo>
                  <a:lnTo>
                    <a:pt x="1743" y="397"/>
                  </a:lnTo>
                  <a:lnTo>
                    <a:pt x="1783" y="350"/>
                  </a:lnTo>
                  <a:lnTo>
                    <a:pt x="1806" y="310"/>
                  </a:lnTo>
                  <a:lnTo>
                    <a:pt x="1823" y="266"/>
                  </a:lnTo>
                  <a:lnTo>
                    <a:pt x="1858" y="254"/>
                  </a:lnTo>
                  <a:lnTo>
                    <a:pt x="1870" y="226"/>
                  </a:lnTo>
                  <a:lnTo>
                    <a:pt x="1898" y="238"/>
                  </a:lnTo>
                  <a:lnTo>
                    <a:pt x="1926" y="214"/>
                  </a:lnTo>
                  <a:lnTo>
                    <a:pt x="1949" y="233"/>
                  </a:lnTo>
                  <a:lnTo>
                    <a:pt x="1986" y="250"/>
                  </a:lnTo>
                  <a:lnTo>
                    <a:pt x="2017" y="257"/>
                  </a:lnTo>
                  <a:lnTo>
                    <a:pt x="2054" y="266"/>
                  </a:lnTo>
                  <a:lnTo>
                    <a:pt x="2077" y="254"/>
                  </a:lnTo>
                  <a:lnTo>
                    <a:pt x="2108" y="270"/>
                  </a:lnTo>
                  <a:lnTo>
                    <a:pt x="2133" y="301"/>
                  </a:lnTo>
                  <a:lnTo>
                    <a:pt x="2173" y="310"/>
                  </a:lnTo>
                  <a:lnTo>
                    <a:pt x="2180" y="345"/>
                  </a:lnTo>
                  <a:lnTo>
                    <a:pt x="2169" y="369"/>
                  </a:lnTo>
                  <a:lnTo>
                    <a:pt x="2113" y="357"/>
                  </a:lnTo>
                  <a:lnTo>
                    <a:pt x="2073" y="341"/>
                  </a:lnTo>
                  <a:lnTo>
                    <a:pt x="2068" y="369"/>
                  </a:lnTo>
                  <a:lnTo>
                    <a:pt x="2124" y="377"/>
                  </a:lnTo>
                  <a:lnTo>
                    <a:pt x="2169" y="408"/>
                  </a:lnTo>
                  <a:lnTo>
                    <a:pt x="2228" y="385"/>
                  </a:lnTo>
                  <a:lnTo>
                    <a:pt x="2244" y="338"/>
                  </a:lnTo>
                  <a:lnTo>
                    <a:pt x="2272" y="297"/>
                  </a:lnTo>
                  <a:lnTo>
                    <a:pt x="2309" y="305"/>
                  </a:lnTo>
                  <a:lnTo>
                    <a:pt x="2300" y="325"/>
                  </a:lnTo>
                  <a:lnTo>
                    <a:pt x="2281" y="345"/>
                  </a:lnTo>
                  <a:lnTo>
                    <a:pt x="2281" y="377"/>
                  </a:lnTo>
                  <a:lnTo>
                    <a:pt x="2316" y="341"/>
                  </a:lnTo>
                  <a:lnTo>
                    <a:pt x="2351" y="310"/>
                  </a:lnTo>
                  <a:lnTo>
                    <a:pt x="2412" y="301"/>
                  </a:lnTo>
                  <a:lnTo>
                    <a:pt x="2482" y="277"/>
                  </a:lnTo>
                  <a:lnTo>
                    <a:pt x="2538" y="254"/>
                  </a:lnTo>
                  <a:lnTo>
                    <a:pt x="2550" y="222"/>
                  </a:lnTo>
                  <a:lnTo>
                    <a:pt x="2503" y="226"/>
                  </a:lnTo>
                  <a:lnTo>
                    <a:pt x="2463" y="194"/>
                  </a:lnTo>
                  <a:lnTo>
                    <a:pt x="2435" y="150"/>
                  </a:lnTo>
                  <a:lnTo>
                    <a:pt x="2463" y="94"/>
                  </a:lnTo>
                  <a:lnTo>
                    <a:pt x="2507" y="58"/>
                  </a:lnTo>
                  <a:lnTo>
                    <a:pt x="2543" y="19"/>
                  </a:lnTo>
                  <a:lnTo>
                    <a:pt x="2599" y="19"/>
                  </a:lnTo>
                  <a:lnTo>
                    <a:pt x="2641" y="0"/>
                  </a:lnTo>
                  <a:lnTo>
                    <a:pt x="2639" y="26"/>
                  </a:lnTo>
                  <a:lnTo>
                    <a:pt x="2602" y="35"/>
                  </a:lnTo>
                  <a:lnTo>
                    <a:pt x="2590" y="47"/>
                  </a:lnTo>
                  <a:lnTo>
                    <a:pt x="2555" y="51"/>
                  </a:lnTo>
                  <a:lnTo>
                    <a:pt x="2531" y="82"/>
                  </a:lnTo>
                  <a:lnTo>
                    <a:pt x="2515" y="119"/>
                  </a:lnTo>
                  <a:lnTo>
                    <a:pt x="2503" y="150"/>
                  </a:lnTo>
                  <a:lnTo>
                    <a:pt x="2543" y="214"/>
                  </a:lnTo>
                  <a:lnTo>
                    <a:pt x="2606" y="238"/>
                  </a:lnTo>
                  <a:lnTo>
                    <a:pt x="2650" y="261"/>
                  </a:lnTo>
                  <a:lnTo>
                    <a:pt x="2674" y="270"/>
                  </a:lnTo>
                  <a:lnTo>
                    <a:pt x="2695" y="301"/>
                  </a:lnTo>
                  <a:lnTo>
                    <a:pt x="2715" y="297"/>
                  </a:lnTo>
                  <a:lnTo>
                    <a:pt x="2715" y="270"/>
                  </a:lnTo>
                  <a:lnTo>
                    <a:pt x="2703" y="238"/>
                  </a:lnTo>
                  <a:lnTo>
                    <a:pt x="2681" y="217"/>
                  </a:lnTo>
                  <a:lnTo>
                    <a:pt x="2678" y="194"/>
                  </a:lnTo>
                  <a:lnTo>
                    <a:pt x="2695" y="150"/>
                  </a:lnTo>
                  <a:lnTo>
                    <a:pt x="2738" y="150"/>
                  </a:lnTo>
                  <a:lnTo>
                    <a:pt x="2775" y="150"/>
                  </a:lnTo>
                  <a:lnTo>
                    <a:pt x="2790" y="166"/>
                  </a:lnTo>
                  <a:lnTo>
                    <a:pt x="2803" y="205"/>
                  </a:lnTo>
                  <a:lnTo>
                    <a:pt x="2818" y="238"/>
                  </a:lnTo>
                  <a:lnTo>
                    <a:pt x="2827" y="205"/>
                  </a:lnTo>
                  <a:lnTo>
                    <a:pt x="2857" y="182"/>
                  </a:lnTo>
                  <a:lnTo>
                    <a:pt x="2894" y="182"/>
                  </a:lnTo>
                  <a:lnTo>
                    <a:pt x="2922" y="182"/>
                  </a:lnTo>
                  <a:lnTo>
                    <a:pt x="2953" y="186"/>
                  </a:lnTo>
                  <a:lnTo>
                    <a:pt x="2953" y="150"/>
                  </a:lnTo>
                  <a:lnTo>
                    <a:pt x="2981" y="150"/>
                  </a:lnTo>
                  <a:lnTo>
                    <a:pt x="2997" y="177"/>
                  </a:lnTo>
                  <a:lnTo>
                    <a:pt x="3037" y="177"/>
                  </a:lnTo>
                  <a:lnTo>
                    <a:pt x="3073" y="161"/>
                  </a:lnTo>
                  <a:lnTo>
                    <a:pt x="3109" y="194"/>
                  </a:lnTo>
                  <a:lnTo>
                    <a:pt x="3152" y="233"/>
                  </a:lnTo>
                  <a:lnTo>
                    <a:pt x="3201" y="238"/>
                  </a:lnTo>
                  <a:lnTo>
                    <a:pt x="3260" y="266"/>
                  </a:lnTo>
                  <a:lnTo>
                    <a:pt x="3280" y="261"/>
                  </a:lnTo>
                  <a:lnTo>
                    <a:pt x="3327" y="341"/>
                  </a:lnTo>
                  <a:lnTo>
                    <a:pt x="3395" y="464"/>
                  </a:lnTo>
                  <a:lnTo>
                    <a:pt x="3447" y="541"/>
                  </a:lnTo>
                  <a:lnTo>
                    <a:pt x="3470" y="611"/>
                  </a:lnTo>
                  <a:lnTo>
                    <a:pt x="3435" y="628"/>
                  </a:lnTo>
                  <a:lnTo>
                    <a:pt x="3423" y="661"/>
                  </a:lnTo>
                  <a:lnTo>
                    <a:pt x="3435" y="720"/>
                  </a:lnTo>
                  <a:lnTo>
                    <a:pt x="3458" y="776"/>
                  </a:lnTo>
                  <a:lnTo>
                    <a:pt x="3483" y="776"/>
                  </a:lnTo>
                  <a:lnTo>
                    <a:pt x="3483" y="731"/>
                  </a:lnTo>
                  <a:lnTo>
                    <a:pt x="3507" y="720"/>
                  </a:lnTo>
                  <a:lnTo>
                    <a:pt x="3523" y="759"/>
                  </a:lnTo>
                  <a:lnTo>
                    <a:pt x="3491" y="776"/>
                  </a:lnTo>
                  <a:lnTo>
                    <a:pt x="3538" y="815"/>
                  </a:lnTo>
                  <a:lnTo>
                    <a:pt x="3503" y="864"/>
                  </a:lnTo>
                  <a:lnTo>
                    <a:pt x="3495" y="887"/>
                  </a:lnTo>
                  <a:lnTo>
                    <a:pt x="3554" y="904"/>
                  </a:lnTo>
                  <a:lnTo>
                    <a:pt x="3526" y="934"/>
                  </a:lnTo>
                  <a:lnTo>
                    <a:pt x="3498" y="948"/>
                  </a:lnTo>
                  <a:lnTo>
                    <a:pt x="3498" y="1002"/>
                  </a:lnTo>
                  <a:lnTo>
                    <a:pt x="3526" y="1051"/>
                  </a:lnTo>
                  <a:lnTo>
                    <a:pt x="3498" y="1062"/>
                  </a:lnTo>
                  <a:lnTo>
                    <a:pt x="3447" y="1046"/>
                  </a:lnTo>
                  <a:lnTo>
                    <a:pt x="3467" y="1023"/>
                  </a:lnTo>
                  <a:lnTo>
                    <a:pt x="3503" y="1023"/>
                  </a:lnTo>
                  <a:lnTo>
                    <a:pt x="3503" y="959"/>
                  </a:lnTo>
                  <a:lnTo>
                    <a:pt x="3463" y="979"/>
                  </a:lnTo>
                  <a:lnTo>
                    <a:pt x="3458" y="934"/>
                  </a:lnTo>
                  <a:lnTo>
                    <a:pt x="3495" y="904"/>
                  </a:lnTo>
                  <a:lnTo>
                    <a:pt x="3503" y="867"/>
                  </a:lnTo>
                  <a:lnTo>
                    <a:pt x="3483" y="824"/>
                  </a:lnTo>
                  <a:lnTo>
                    <a:pt x="3483" y="773"/>
                  </a:lnTo>
                  <a:lnTo>
                    <a:pt x="3456" y="792"/>
                  </a:lnTo>
                  <a:lnTo>
                    <a:pt x="3428" y="831"/>
                  </a:lnTo>
                  <a:lnTo>
                    <a:pt x="3383" y="867"/>
                  </a:lnTo>
                  <a:lnTo>
                    <a:pt x="3395" y="915"/>
                  </a:lnTo>
                  <a:lnTo>
                    <a:pt x="3391" y="959"/>
                  </a:lnTo>
                  <a:lnTo>
                    <a:pt x="3391" y="987"/>
                  </a:lnTo>
                  <a:lnTo>
                    <a:pt x="3416" y="1023"/>
                  </a:lnTo>
                  <a:lnTo>
                    <a:pt x="3395" y="1043"/>
                  </a:lnTo>
                  <a:lnTo>
                    <a:pt x="3351" y="995"/>
                  </a:lnTo>
                  <a:lnTo>
                    <a:pt x="3327" y="948"/>
                  </a:lnTo>
                  <a:lnTo>
                    <a:pt x="3311" y="911"/>
                  </a:lnTo>
                  <a:lnTo>
                    <a:pt x="3292" y="895"/>
                  </a:lnTo>
                  <a:lnTo>
                    <a:pt x="3257" y="915"/>
                  </a:lnTo>
                  <a:lnTo>
                    <a:pt x="3240" y="951"/>
                  </a:lnTo>
                  <a:lnTo>
                    <a:pt x="3283" y="995"/>
                  </a:lnTo>
                  <a:lnTo>
                    <a:pt x="3308" y="1043"/>
                  </a:lnTo>
                  <a:lnTo>
                    <a:pt x="3311" y="1098"/>
                  </a:lnTo>
                  <a:lnTo>
                    <a:pt x="3308" y="1154"/>
                  </a:lnTo>
                  <a:lnTo>
                    <a:pt x="3308" y="1198"/>
                  </a:lnTo>
                  <a:lnTo>
                    <a:pt x="3332" y="1165"/>
                  </a:lnTo>
                  <a:lnTo>
                    <a:pt x="3367" y="1170"/>
                  </a:lnTo>
                  <a:lnTo>
                    <a:pt x="3379" y="1205"/>
                  </a:lnTo>
                  <a:lnTo>
                    <a:pt x="3351" y="1242"/>
                  </a:lnTo>
                  <a:lnTo>
                    <a:pt x="3320" y="1237"/>
                  </a:lnTo>
                  <a:lnTo>
                    <a:pt x="3311" y="1270"/>
                  </a:lnTo>
                  <a:lnTo>
                    <a:pt x="3339" y="1301"/>
                  </a:lnTo>
                  <a:lnTo>
                    <a:pt x="3327" y="1342"/>
                  </a:lnTo>
                  <a:lnTo>
                    <a:pt x="3363" y="1373"/>
                  </a:lnTo>
                  <a:lnTo>
                    <a:pt x="3339" y="1401"/>
                  </a:lnTo>
                  <a:lnTo>
                    <a:pt x="3376" y="1436"/>
                  </a:lnTo>
                  <a:lnTo>
                    <a:pt x="3351" y="1473"/>
                  </a:lnTo>
                  <a:lnTo>
                    <a:pt x="3391" y="1449"/>
                  </a:lnTo>
                  <a:lnTo>
                    <a:pt x="3379" y="1484"/>
                  </a:lnTo>
                  <a:lnTo>
                    <a:pt x="3451" y="1473"/>
                  </a:lnTo>
                  <a:lnTo>
                    <a:pt x="3428" y="1517"/>
                  </a:lnTo>
                  <a:lnTo>
                    <a:pt x="3379" y="1484"/>
                  </a:lnTo>
                  <a:lnTo>
                    <a:pt x="3376" y="1532"/>
                  </a:lnTo>
                  <a:lnTo>
                    <a:pt x="3447" y="1529"/>
                  </a:lnTo>
                  <a:lnTo>
                    <a:pt x="3416" y="1580"/>
                  </a:lnTo>
                  <a:lnTo>
                    <a:pt x="3367" y="1524"/>
                  </a:lnTo>
                  <a:lnTo>
                    <a:pt x="3391" y="1599"/>
                  </a:lnTo>
                  <a:lnTo>
                    <a:pt x="3451" y="1652"/>
                  </a:lnTo>
                  <a:lnTo>
                    <a:pt x="3395" y="1652"/>
                  </a:lnTo>
                  <a:lnTo>
                    <a:pt x="3367" y="1532"/>
                  </a:lnTo>
                  <a:lnTo>
                    <a:pt x="3379" y="1457"/>
                  </a:lnTo>
                  <a:lnTo>
                    <a:pt x="3339" y="1457"/>
                  </a:lnTo>
                  <a:lnTo>
                    <a:pt x="3308" y="1412"/>
                  </a:lnTo>
                  <a:lnTo>
                    <a:pt x="3339" y="1396"/>
                  </a:lnTo>
                  <a:lnTo>
                    <a:pt x="3339" y="1349"/>
                  </a:lnTo>
                  <a:lnTo>
                    <a:pt x="3320" y="1258"/>
                  </a:lnTo>
                  <a:lnTo>
                    <a:pt x="3311" y="1193"/>
                  </a:lnTo>
                  <a:lnTo>
                    <a:pt x="3308" y="1146"/>
                  </a:lnTo>
                  <a:lnTo>
                    <a:pt x="3268" y="1198"/>
                  </a:lnTo>
                  <a:lnTo>
                    <a:pt x="3208" y="1221"/>
                  </a:lnTo>
                  <a:lnTo>
                    <a:pt x="3177" y="1261"/>
                  </a:lnTo>
                  <a:lnTo>
                    <a:pt x="3189" y="1305"/>
                  </a:lnTo>
                  <a:lnTo>
                    <a:pt x="3164" y="1342"/>
                  </a:lnTo>
                  <a:lnTo>
                    <a:pt x="3124" y="1329"/>
                  </a:lnTo>
                  <a:lnTo>
                    <a:pt x="3161" y="1282"/>
                  </a:lnTo>
                  <a:lnTo>
                    <a:pt x="3133" y="1265"/>
                  </a:lnTo>
                  <a:lnTo>
                    <a:pt x="3101" y="1293"/>
                  </a:lnTo>
                  <a:lnTo>
                    <a:pt x="3101" y="1337"/>
                  </a:lnTo>
                  <a:lnTo>
                    <a:pt x="3161" y="1396"/>
                  </a:lnTo>
                  <a:lnTo>
                    <a:pt x="3177" y="1440"/>
                  </a:lnTo>
                  <a:lnTo>
                    <a:pt x="3129" y="1504"/>
                  </a:lnTo>
                  <a:lnTo>
                    <a:pt x="3129" y="1639"/>
                  </a:lnTo>
                  <a:lnTo>
                    <a:pt x="3129" y="1699"/>
                  </a:lnTo>
                  <a:lnTo>
                    <a:pt x="3136" y="1734"/>
                  </a:lnTo>
                  <a:lnTo>
                    <a:pt x="3204" y="1732"/>
                  </a:lnTo>
                  <a:lnTo>
                    <a:pt x="3248" y="1739"/>
                  </a:lnTo>
                  <a:lnTo>
                    <a:pt x="3280" y="1687"/>
                  </a:lnTo>
                  <a:lnTo>
                    <a:pt x="3311" y="1687"/>
                  </a:lnTo>
                  <a:lnTo>
                    <a:pt x="3296" y="1720"/>
                  </a:lnTo>
                  <a:lnTo>
                    <a:pt x="3339" y="1755"/>
                  </a:lnTo>
                  <a:lnTo>
                    <a:pt x="3391" y="1762"/>
                  </a:lnTo>
                  <a:lnTo>
                    <a:pt x="3383" y="1732"/>
                  </a:lnTo>
                  <a:lnTo>
                    <a:pt x="3498" y="1732"/>
                  </a:lnTo>
                  <a:lnTo>
                    <a:pt x="3458" y="1743"/>
                  </a:lnTo>
                  <a:lnTo>
                    <a:pt x="3456" y="1774"/>
                  </a:lnTo>
                  <a:lnTo>
                    <a:pt x="3507" y="1790"/>
                  </a:lnTo>
                  <a:lnTo>
                    <a:pt x="3559" y="1807"/>
                  </a:lnTo>
                  <a:lnTo>
                    <a:pt x="3582" y="1748"/>
                  </a:lnTo>
                  <a:lnTo>
                    <a:pt x="3591" y="1720"/>
                  </a:lnTo>
                  <a:lnTo>
                    <a:pt x="3554" y="1723"/>
                  </a:lnTo>
                  <a:lnTo>
                    <a:pt x="3523" y="1704"/>
                  </a:lnTo>
                  <a:lnTo>
                    <a:pt x="3498" y="1695"/>
                  </a:lnTo>
                  <a:lnTo>
                    <a:pt x="3483" y="1739"/>
                  </a:lnTo>
                  <a:lnTo>
                    <a:pt x="3483" y="1734"/>
                  </a:lnTo>
                  <a:lnTo>
                    <a:pt x="3376" y="1734"/>
                  </a:lnTo>
                  <a:lnTo>
                    <a:pt x="3351" y="1676"/>
                  </a:lnTo>
                  <a:lnTo>
                    <a:pt x="3320" y="1692"/>
                  </a:lnTo>
                  <a:lnTo>
                    <a:pt x="3283" y="1687"/>
                  </a:lnTo>
                  <a:lnTo>
                    <a:pt x="3268" y="1624"/>
                  </a:lnTo>
                  <a:lnTo>
                    <a:pt x="3252" y="1587"/>
                  </a:lnTo>
                  <a:lnTo>
                    <a:pt x="3288" y="1568"/>
                  </a:lnTo>
                  <a:lnTo>
                    <a:pt x="3288" y="1532"/>
                  </a:lnTo>
                  <a:lnTo>
                    <a:pt x="3236" y="1557"/>
                  </a:lnTo>
                  <a:lnTo>
                    <a:pt x="3201" y="1587"/>
                  </a:lnTo>
                  <a:lnTo>
                    <a:pt x="3177" y="1632"/>
                  </a:lnTo>
                  <a:lnTo>
                    <a:pt x="3129" y="1632"/>
                  </a:lnTo>
                  <a:lnTo>
                    <a:pt x="3129" y="1520"/>
                  </a:lnTo>
                  <a:lnTo>
                    <a:pt x="3105" y="1545"/>
                  </a:lnTo>
                  <a:lnTo>
                    <a:pt x="3073" y="1492"/>
                  </a:lnTo>
                  <a:lnTo>
                    <a:pt x="3033" y="1445"/>
                  </a:lnTo>
                  <a:lnTo>
                    <a:pt x="2986" y="1457"/>
                  </a:lnTo>
                  <a:lnTo>
                    <a:pt x="2981" y="1504"/>
                  </a:lnTo>
                  <a:lnTo>
                    <a:pt x="3002" y="1564"/>
                  </a:lnTo>
                  <a:lnTo>
                    <a:pt x="3002" y="1615"/>
                  </a:lnTo>
                  <a:lnTo>
                    <a:pt x="3037" y="1664"/>
                  </a:lnTo>
                  <a:lnTo>
                    <a:pt x="3061" y="1692"/>
                  </a:lnTo>
                  <a:lnTo>
                    <a:pt x="3021" y="1692"/>
                  </a:lnTo>
                  <a:lnTo>
                    <a:pt x="2990" y="1664"/>
                  </a:lnTo>
                  <a:lnTo>
                    <a:pt x="2974" y="1695"/>
                  </a:lnTo>
                  <a:lnTo>
                    <a:pt x="3030" y="1762"/>
                  </a:lnTo>
                  <a:lnTo>
                    <a:pt x="3073" y="1799"/>
                  </a:lnTo>
                  <a:lnTo>
                    <a:pt x="3112" y="1795"/>
                  </a:lnTo>
                  <a:lnTo>
                    <a:pt x="3161" y="1807"/>
                  </a:lnTo>
                  <a:lnTo>
                    <a:pt x="3217" y="1807"/>
                  </a:lnTo>
                  <a:lnTo>
                    <a:pt x="3268" y="1799"/>
                  </a:lnTo>
                  <a:lnTo>
                    <a:pt x="3320" y="1827"/>
                  </a:lnTo>
                  <a:lnTo>
                    <a:pt x="3308" y="1835"/>
                  </a:lnTo>
                  <a:lnTo>
                    <a:pt x="3252" y="1818"/>
                  </a:lnTo>
                  <a:lnTo>
                    <a:pt x="3252" y="1910"/>
                  </a:lnTo>
                  <a:lnTo>
                    <a:pt x="3292" y="1910"/>
                  </a:lnTo>
                  <a:lnTo>
                    <a:pt x="3311" y="1907"/>
                  </a:lnTo>
                  <a:lnTo>
                    <a:pt x="3320" y="1874"/>
                  </a:lnTo>
                  <a:lnTo>
                    <a:pt x="3367" y="1879"/>
                  </a:lnTo>
                  <a:lnTo>
                    <a:pt x="3423" y="1862"/>
                  </a:lnTo>
                  <a:lnTo>
                    <a:pt x="3419" y="1898"/>
                  </a:lnTo>
                  <a:lnTo>
                    <a:pt x="3435" y="1926"/>
                  </a:lnTo>
                  <a:lnTo>
                    <a:pt x="3467" y="1951"/>
                  </a:lnTo>
                  <a:lnTo>
                    <a:pt x="3498" y="1926"/>
                  </a:lnTo>
                  <a:lnTo>
                    <a:pt x="3495" y="1883"/>
                  </a:lnTo>
                  <a:lnTo>
                    <a:pt x="3498" y="1846"/>
                  </a:lnTo>
                  <a:lnTo>
                    <a:pt x="3523" y="1883"/>
                  </a:lnTo>
                  <a:lnTo>
                    <a:pt x="3526" y="1937"/>
                  </a:lnTo>
                  <a:lnTo>
                    <a:pt x="3483" y="2034"/>
                  </a:lnTo>
                  <a:lnTo>
                    <a:pt x="3435" y="2130"/>
                  </a:lnTo>
                  <a:lnTo>
                    <a:pt x="3391" y="2225"/>
                  </a:lnTo>
                  <a:lnTo>
                    <a:pt x="3339" y="2321"/>
                  </a:lnTo>
                  <a:lnTo>
                    <a:pt x="3296" y="2297"/>
                  </a:lnTo>
                  <a:lnTo>
                    <a:pt x="3252" y="2313"/>
                  </a:lnTo>
                  <a:lnTo>
                    <a:pt x="3236" y="2349"/>
                  </a:lnTo>
                  <a:lnTo>
                    <a:pt x="3201" y="2372"/>
                  </a:lnTo>
                  <a:lnTo>
                    <a:pt x="3133" y="2386"/>
                  </a:lnTo>
                  <a:lnTo>
                    <a:pt x="3093" y="2377"/>
                  </a:lnTo>
                  <a:lnTo>
                    <a:pt x="3109" y="2318"/>
                  </a:lnTo>
                  <a:lnTo>
                    <a:pt x="3105" y="2274"/>
                  </a:lnTo>
                  <a:lnTo>
                    <a:pt x="3129" y="2241"/>
                  </a:lnTo>
                  <a:lnTo>
                    <a:pt x="3124" y="2209"/>
                  </a:lnTo>
                  <a:lnTo>
                    <a:pt x="3077" y="2186"/>
                  </a:lnTo>
                  <a:lnTo>
                    <a:pt x="3081" y="2130"/>
                  </a:lnTo>
                  <a:lnTo>
                    <a:pt x="3101" y="2071"/>
                  </a:lnTo>
                  <a:lnTo>
                    <a:pt x="3145" y="2027"/>
                  </a:lnTo>
                  <a:lnTo>
                    <a:pt x="3204" y="2027"/>
                  </a:lnTo>
                  <a:lnTo>
                    <a:pt x="3212" y="1991"/>
                  </a:lnTo>
                  <a:lnTo>
                    <a:pt x="3201" y="1937"/>
                  </a:lnTo>
                  <a:lnTo>
                    <a:pt x="3236" y="1914"/>
                  </a:lnTo>
                  <a:lnTo>
                    <a:pt x="3252" y="1910"/>
                  </a:lnTo>
                  <a:lnTo>
                    <a:pt x="3252" y="1827"/>
                  </a:lnTo>
                  <a:lnTo>
                    <a:pt x="3204" y="1830"/>
                  </a:lnTo>
                  <a:lnTo>
                    <a:pt x="3161" y="1851"/>
                  </a:lnTo>
                  <a:lnTo>
                    <a:pt x="3117" y="1827"/>
                  </a:lnTo>
                  <a:lnTo>
                    <a:pt x="3070" y="1827"/>
                  </a:lnTo>
                  <a:lnTo>
                    <a:pt x="3005" y="1799"/>
                  </a:lnTo>
                  <a:lnTo>
                    <a:pt x="2974" y="1762"/>
                  </a:lnTo>
                  <a:lnTo>
                    <a:pt x="2950" y="1720"/>
                  </a:lnTo>
                  <a:lnTo>
                    <a:pt x="2918" y="1687"/>
                  </a:lnTo>
                  <a:lnTo>
                    <a:pt x="2950" y="1676"/>
                  </a:lnTo>
                  <a:lnTo>
                    <a:pt x="2974" y="1692"/>
                  </a:lnTo>
                  <a:lnTo>
                    <a:pt x="2993" y="1659"/>
                  </a:lnTo>
                  <a:lnTo>
                    <a:pt x="2986" y="1612"/>
                  </a:lnTo>
                  <a:lnTo>
                    <a:pt x="2950" y="1604"/>
                  </a:lnTo>
                  <a:lnTo>
                    <a:pt x="2934" y="1548"/>
                  </a:lnTo>
                  <a:lnTo>
                    <a:pt x="2946" y="1492"/>
                  </a:lnTo>
                  <a:lnTo>
                    <a:pt x="2974" y="1449"/>
                  </a:lnTo>
                  <a:lnTo>
                    <a:pt x="2962" y="1396"/>
                  </a:lnTo>
                  <a:lnTo>
                    <a:pt x="2946" y="1389"/>
                  </a:lnTo>
                  <a:lnTo>
                    <a:pt x="2918" y="1417"/>
                  </a:lnTo>
                  <a:lnTo>
                    <a:pt x="2913" y="1449"/>
                  </a:lnTo>
                  <a:lnTo>
                    <a:pt x="2885" y="1396"/>
                  </a:lnTo>
                  <a:lnTo>
                    <a:pt x="2830" y="1354"/>
                  </a:lnTo>
                  <a:lnTo>
                    <a:pt x="2803" y="1361"/>
                  </a:lnTo>
                  <a:lnTo>
                    <a:pt x="2766" y="1412"/>
                  </a:lnTo>
                  <a:lnTo>
                    <a:pt x="2719" y="1445"/>
                  </a:lnTo>
                  <a:lnTo>
                    <a:pt x="2719" y="1480"/>
                  </a:lnTo>
                  <a:lnTo>
                    <a:pt x="2735" y="1520"/>
                  </a:lnTo>
                  <a:lnTo>
                    <a:pt x="2731" y="1559"/>
                  </a:lnTo>
                  <a:lnTo>
                    <a:pt x="2695" y="1557"/>
                  </a:lnTo>
                  <a:lnTo>
                    <a:pt x="2669" y="1504"/>
                  </a:lnTo>
                  <a:lnTo>
                    <a:pt x="2630" y="1449"/>
                  </a:lnTo>
                  <a:lnTo>
                    <a:pt x="2587" y="1412"/>
                  </a:lnTo>
                  <a:lnTo>
                    <a:pt x="2550" y="1354"/>
                  </a:lnTo>
                  <a:lnTo>
                    <a:pt x="2519" y="1337"/>
                  </a:lnTo>
                  <a:lnTo>
                    <a:pt x="2459" y="1337"/>
                  </a:lnTo>
                  <a:lnTo>
                    <a:pt x="2412" y="1337"/>
                  </a:lnTo>
                  <a:lnTo>
                    <a:pt x="2379" y="1361"/>
                  </a:lnTo>
                  <a:lnTo>
                    <a:pt x="2348" y="1317"/>
                  </a:lnTo>
                  <a:lnTo>
                    <a:pt x="2312" y="1298"/>
                  </a:lnTo>
                  <a:lnTo>
                    <a:pt x="2264" y="1258"/>
                  </a:lnTo>
                  <a:lnTo>
                    <a:pt x="2300" y="1317"/>
                  </a:lnTo>
                  <a:lnTo>
                    <a:pt x="2351" y="1342"/>
                  </a:lnTo>
                  <a:lnTo>
                    <a:pt x="2388" y="1396"/>
                  </a:lnTo>
                  <a:lnTo>
                    <a:pt x="2375" y="1445"/>
                  </a:lnTo>
                  <a:lnTo>
                    <a:pt x="2340" y="1473"/>
                  </a:lnTo>
                  <a:lnTo>
                    <a:pt x="2284" y="1480"/>
                  </a:lnTo>
                  <a:lnTo>
                    <a:pt x="2241" y="1504"/>
                  </a:lnTo>
                  <a:lnTo>
                    <a:pt x="2208" y="1548"/>
                  </a:lnTo>
                  <a:lnTo>
                    <a:pt x="2180" y="1568"/>
                  </a:lnTo>
                  <a:lnTo>
                    <a:pt x="2173" y="1517"/>
                  </a:lnTo>
                  <a:lnTo>
                    <a:pt x="2141" y="1445"/>
                  </a:lnTo>
                  <a:lnTo>
                    <a:pt x="2108" y="1405"/>
                  </a:lnTo>
                  <a:lnTo>
                    <a:pt x="2108" y="1361"/>
                  </a:lnTo>
                  <a:lnTo>
                    <a:pt x="2077" y="1368"/>
                  </a:lnTo>
                  <a:lnTo>
                    <a:pt x="2089" y="1436"/>
                  </a:lnTo>
                  <a:lnTo>
                    <a:pt x="2122" y="1492"/>
                  </a:lnTo>
                  <a:lnTo>
                    <a:pt x="2122" y="1545"/>
                  </a:lnTo>
                  <a:lnTo>
                    <a:pt x="2169" y="1564"/>
                  </a:lnTo>
                  <a:lnTo>
                    <a:pt x="2180" y="1599"/>
                  </a:lnTo>
                  <a:lnTo>
                    <a:pt x="2232" y="1587"/>
                  </a:lnTo>
                  <a:lnTo>
                    <a:pt x="2272" y="1580"/>
                  </a:lnTo>
                  <a:lnTo>
                    <a:pt x="2323" y="1557"/>
                  </a:lnTo>
                  <a:lnTo>
                    <a:pt x="2304" y="1620"/>
                  </a:lnTo>
                  <a:lnTo>
                    <a:pt x="2264" y="1699"/>
                  </a:lnTo>
                  <a:lnTo>
                    <a:pt x="2232" y="1748"/>
                  </a:lnTo>
                  <a:lnTo>
                    <a:pt x="2197" y="1795"/>
                  </a:lnTo>
                  <a:lnTo>
                    <a:pt x="2173" y="1835"/>
                  </a:lnTo>
                  <a:lnTo>
                    <a:pt x="2164" y="1926"/>
                  </a:lnTo>
                  <a:lnTo>
                    <a:pt x="2157" y="1994"/>
                  </a:lnTo>
                  <a:lnTo>
                    <a:pt x="2161" y="2055"/>
                  </a:lnTo>
                  <a:lnTo>
                    <a:pt x="2169" y="2115"/>
                  </a:lnTo>
                  <a:lnTo>
                    <a:pt x="2169" y="2130"/>
                  </a:lnTo>
                  <a:lnTo>
                    <a:pt x="2208" y="2127"/>
                  </a:lnTo>
                  <a:lnTo>
                    <a:pt x="2213" y="2071"/>
                  </a:lnTo>
                  <a:lnTo>
                    <a:pt x="2253" y="2027"/>
                  </a:lnTo>
                  <a:lnTo>
                    <a:pt x="2300" y="1994"/>
                  </a:lnTo>
                  <a:lnTo>
                    <a:pt x="2309" y="2050"/>
                  </a:lnTo>
                  <a:lnTo>
                    <a:pt x="2304" y="2102"/>
                  </a:lnTo>
                  <a:lnTo>
                    <a:pt x="2281" y="2130"/>
                  </a:lnTo>
                  <a:lnTo>
                    <a:pt x="2284" y="2158"/>
                  </a:lnTo>
                  <a:lnTo>
                    <a:pt x="2269" y="2230"/>
                  </a:lnTo>
                  <a:lnTo>
                    <a:pt x="2256" y="2265"/>
                  </a:lnTo>
                  <a:lnTo>
                    <a:pt x="2228" y="2274"/>
                  </a:lnTo>
                  <a:lnTo>
                    <a:pt x="2201" y="2241"/>
                  </a:lnTo>
                  <a:lnTo>
                    <a:pt x="2213" y="2190"/>
                  </a:lnTo>
                  <a:lnTo>
                    <a:pt x="2220" y="2166"/>
                  </a:lnTo>
                  <a:lnTo>
                    <a:pt x="2204" y="2130"/>
                  </a:lnTo>
                  <a:lnTo>
                    <a:pt x="2164" y="2134"/>
                  </a:lnTo>
                  <a:lnTo>
                    <a:pt x="2148" y="2186"/>
                  </a:lnTo>
                  <a:lnTo>
                    <a:pt x="2094" y="2209"/>
                  </a:lnTo>
                  <a:lnTo>
                    <a:pt x="2057" y="2241"/>
                  </a:lnTo>
                  <a:lnTo>
                    <a:pt x="2066" y="2297"/>
                  </a:lnTo>
                  <a:lnTo>
                    <a:pt x="2057" y="2358"/>
                  </a:lnTo>
                  <a:lnTo>
                    <a:pt x="2042" y="2425"/>
                  </a:lnTo>
                  <a:lnTo>
                    <a:pt x="1961" y="2500"/>
                  </a:lnTo>
                  <a:lnTo>
                    <a:pt x="1926" y="2508"/>
                  </a:lnTo>
                  <a:lnTo>
                    <a:pt x="1906" y="2453"/>
                  </a:lnTo>
                  <a:lnTo>
                    <a:pt x="1858" y="2425"/>
                  </a:lnTo>
                  <a:lnTo>
                    <a:pt x="1834" y="2405"/>
                  </a:lnTo>
                  <a:lnTo>
                    <a:pt x="1787" y="2313"/>
                  </a:lnTo>
                  <a:lnTo>
                    <a:pt x="1747" y="2269"/>
                  </a:lnTo>
                  <a:lnTo>
                    <a:pt x="1722" y="2225"/>
                  </a:lnTo>
                  <a:lnTo>
                    <a:pt x="1703" y="2178"/>
                  </a:lnTo>
                  <a:lnTo>
                    <a:pt x="1699" y="2115"/>
                  </a:lnTo>
                  <a:lnTo>
                    <a:pt x="1663" y="2071"/>
                  </a:lnTo>
                  <a:lnTo>
                    <a:pt x="1652" y="2034"/>
                  </a:lnTo>
                  <a:lnTo>
                    <a:pt x="1671" y="1983"/>
                  </a:lnTo>
                  <a:lnTo>
                    <a:pt x="1671" y="1937"/>
                  </a:lnTo>
                  <a:lnTo>
                    <a:pt x="1640" y="1910"/>
                  </a:lnTo>
                  <a:lnTo>
                    <a:pt x="1584" y="1907"/>
                  </a:lnTo>
                  <a:lnTo>
                    <a:pt x="1535" y="1883"/>
                  </a:lnTo>
                  <a:lnTo>
                    <a:pt x="1516" y="1907"/>
                  </a:lnTo>
                  <a:lnTo>
                    <a:pt x="1476" y="1910"/>
                  </a:lnTo>
                  <a:lnTo>
                    <a:pt x="1441" y="1883"/>
                  </a:lnTo>
                  <a:lnTo>
                    <a:pt x="1409" y="1851"/>
                  </a:lnTo>
                  <a:lnTo>
                    <a:pt x="1364" y="1846"/>
                  </a:lnTo>
                  <a:lnTo>
                    <a:pt x="1317" y="1827"/>
                  </a:lnTo>
                  <a:lnTo>
                    <a:pt x="1278" y="1790"/>
                  </a:lnTo>
                  <a:lnTo>
                    <a:pt x="1269" y="1720"/>
                  </a:lnTo>
                  <a:lnTo>
                    <a:pt x="1266" y="1664"/>
                  </a:lnTo>
                  <a:lnTo>
                    <a:pt x="1301" y="1632"/>
                  </a:lnTo>
                  <a:lnTo>
                    <a:pt x="1297" y="1596"/>
                  </a:lnTo>
                  <a:lnTo>
                    <a:pt x="1280" y="1532"/>
                  </a:lnTo>
                  <a:lnTo>
                    <a:pt x="1294" y="1477"/>
                  </a:lnTo>
                  <a:lnTo>
                    <a:pt x="1278" y="1417"/>
                  </a:lnTo>
                  <a:lnTo>
                    <a:pt x="1317" y="1373"/>
                  </a:lnTo>
                  <a:lnTo>
                    <a:pt x="1348" y="1345"/>
                  </a:lnTo>
                  <a:lnTo>
                    <a:pt x="1385" y="1342"/>
                  </a:lnTo>
                  <a:lnTo>
                    <a:pt x="1381" y="1298"/>
                  </a:lnTo>
                  <a:lnTo>
                    <a:pt x="1401" y="1258"/>
                  </a:lnTo>
                  <a:lnTo>
                    <a:pt x="1437" y="1230"/>
                  </a:lnTo>
                  <a:lnTo>
                    <a:pt x="1481" y="1254"/>
                  </a:lnTo>
                  <a:lnTo>
                    <a:pt x="1532" y="1265"/>
                  </a:lnTo>
                  <a:lnTo>
                    <a:pt x="1596" y="1258"/>
                  </a:lnTo>
                  <a:lnTo>
                    <a:pt x="1643" y="1258"/>
                  </a:lnTo>
                  <a:lnTo>
                    <a:pt x="1668" y="1261"/>
                  </a:lnTo>
                  <a:lnTo>
                    <a:pt x="1680" y="1305"/>
                  </a:lnTo>
                  <a:lnTo>
                    <a:pt x="1731" y="1314"/>
                  </a:lnTo>
                  <a:lnTo>
                    <a:pt x="1778" y="1337"/>
                  </a:lnTo>
                  <a:lnTo>
                    <a:pt x="1806" y="1329"/>
                  </a:lnTo>
                  <a:lnTo>
                    <a:pt x="1823" y="1301"/>
                  </a:lnTo>
                  <a:lnTo>
                    <a:pt x="1839" y="1270"/>
                  </a:lnTo>
                  <a:lnTo>
                    <a:pt x="1881" y="1282"/>
                  </a:lnTo>
                  <a:lnTo>
                    <a:pt x="1934" y="1305"/>
                  </a:lnTo>
                  <a:lnTo>
                    <a:pt x="1993" y="1314"/>
                  </a:lnTo>
                  <a:lnTo>
                    <a:pt x="2033" y="1317"/>
                  </a:lnTo>
                  <a:lnTo>
                    <a:pt x="2077" y="1314"/>
                  </a:lnTo>
                  <a:lnTo>
                    <a:pt x="2108" y="1282"/>
                  </a:lnTo>
                  <a:lnTo>
                    <a:pt x="2129" y="1237"/>
                  </a:lnTo>
                  <a:lnTo>
                    <a:pt x="2141" y="1205"/>
                  </a:lnTo>
                  <a:lnTo>
                    <a:pt x="2129" y="1198"/>
                  </a:lnTo>
                  <a:lnTo>
                    <a:pt x="2101" y="1165"/>
                  </a:lnTo>
                  <a:lnTo>
                    <a:pt x="2073" y="1174"/>
                  </a:lnTo>
                  <a:lnTo>
                    <a:pt x="2026" y="1174"/>
                  </a:lnTo>
                  <a:lnTo>
                    <a:pt x="1989" y="1162"/>
                  </a:lnTo>
                  <a:lnTo>
                    <a:pt x="1986" y="1123"/>
                  </a:lnTo>
                  <a:lnTo>
                    <a:pt x="1961" y="1111"/>
                  </a:lnTo>
                  <a:lnTo>
                    <a:pt x="1949" y="1123"/>
                  </a:lnTo>
                  <a:lnTo>
                    <a:pt x="1958" y="1162"/>
                  </a:lnTo>
                  <a:lnTo>
                    <a:pt x="1942" y="1193"/>
                  </a:lnTo>
                  <a:lnTo>
                    <a:pt x="1898" y="1186"/>
                  </a:lnTo>
                  <a:lnTo>
                    <a:pt x="1878" y="1154"/>
                  </a:lnTo>
                  <a:lnTo>
                    <a:pt x="1870" y="1118"/>
                  </a:lnTo>
                  <a:lnTo>
                    <a:pt x="1870" y="1062"/>
                  </a:lnTo>
                  <a:lnTo>
                    <a:pt x="1842" y="1051"/>
                  </a:lnTo>
                  <a:lnTo>
                    <a:pt x="1827" y="1083"/>
                  </a:lnTo>
                  <a:lnTo>
                    <a:pt x="1834" y="1123"/>
                  </a:lnTo>
                  <a:lnTo>
                    <a:pt x="1855" y="1154"/>
                  </a:lnTo>
                  <a:lnTo>
                    <a:pt x="1878" y="1181"/>
                  </a:lnTo>
                  <a:lnTo>
                    <a:pt x="1855" y="1218"/>
                  </a:lnTo>
                  <a:lnTo>
                    <a:pt x="1823" y="1237"/>
                  </a:lnTo>
                  <a:lnTo>
                    <a:pt x="1783" y="1230"/>
                  </a:lnTo>
                  <a:lnTo>
                    <a:pt x="1783" y="1261"/>
                  </a:lnTo>
                  <a:lnTo>
                    <a:pt x="1759" y="1282"/>
                  </a:lnTo>
                  <a:lnTo>
                    <a:pt x="1727" y="1237"/>
                  </a:lnTo>
                  <a:lnTo>
                    <a:pt x="1731" y="1209"/>
                  </a:lnTo>
                  <a:lnTo>
                    <a:pt x="1774" y="1230"/>
                  </a:lnTo>
                  <a:lnTo>
                    <a:pt x="1799" y="1230"/>
                  </a:lnTo>
                  <a:lnTo>
                    <a:pt x="1834" y="1198"/>
                  </a:lnTo>
                  <a:lnTo>
                    <a:pt x="1823" y="1162"/>
                  </a:lnTo>
                  <a:lnTo>
                    <a:pt x="1787" y="1130"/>
                  </a:lnTo>
                  <a:lnTo>
                    <a:pt x="1759" y="1111"/>
                  </a:lnTo>
                  <a:lnTo>
                    <a:pt x="1727" y="1067"/>
                  </a:lnTo>
                  <a:lnTo>
                    <a:pt x="1687" y="1039"/>
                  </a:lnTo>
                  <a:lnTo>
                    <a:pt x="1687" y="1083"/>
                  </a:lnTo>
                  <a:lnTo>
                    <a:pt x="1708" y="1111"/>
                  </a:lnTo>
                  <a:lnTo>
                    <a:pt x="1703" y="1162"/>
                  </a:lnTo>
                  <a:lnTo>
                    <a:pt x="1703" y="1198"/>
                  </a:lnTo>
                  <a:lnTo>
                    <a:pt x="1663" y="1170"/>
                  </a:lnTo>
                  <a:lnTo>
                    <a:pt x="1655" y="1137"/>
                  </a:lnTo>
                  <a:lnTo>
                    <a:pt x="1671" y="1118"/>
                  </a:lnTo>
                  <a:lnTo>
                    <a:pt x="1668" y="1090"/>
                  </a:lnTo>
                  <a:lnTo>
                    <a:pt x="1691" y="1079"/>
                  </a:lnTo>
                  <a:lnTo>
                    <a:pt x="1691" y="1039"/>
                  </a:lnTo>
                  <a:lnTo>
                    <a:pt x="1655" y="1046"/>
                  </a:lnTo>
                  <a:lnTo>
                    <a:pt x="1628" y="1083"/>
                  </a:lnTo>
                  <a:lnTo>
                    <a:pt x="1596" y="1067"/>
                  </a:lnTo>
                  <a:lnTo>
                    <a:pt x="1535" y="1095"/>
                  </a:lnTo>
                  <a:lnTo>
                    <a:pt x="1528" y="1146"/>
                  </a:lnTo>
                  <a:lnTo>
                    <a:pt x="1488" y="1181"/>
                  </a:lnTo>
                  <a:lnTo>
                    <a:pt x="1441" y="1205"/>
                  </a:lnTo>
                  <a:lnTo>
                    <a:pt x="1392" y="1209"/>
                  </a:lnTo>
                  <a:lnTo>
                    <a:pt x="1348" y="1198"/>
                  </a:lnTo>
                  <a:lnTo>
                    <a:pt x="1320" y="1170"/>
                  </a:lnTo>
                  <a:lnTo>
                    <a:pt x="1345" y="1146"/>
                  </a:lnTo>
                  <a:lnTo>
                    <a:pt x="1320" y="1111"/>
                  </a:lnTo>
                  <a:lnTo>
                    <a:pt x="1353" y="1086"/>
                  </a:lnTo>
                  <a:lnTo>
                    <a:pt x="1357" y="1055"/>
                  </a:lnTo>
                  <a:lnTo>
                    <a:pt x="1357" y="1011"/>
                  </a:lnTo>
                  <a:lnTo>
                    <a:pt x="1401" y="971"/>
                  </a:lnTo>
                  <a:lnTo>
                    <a:pt x="1460" y="987"/>
                  </a:lnTo>
                  <a:lnTo>
                    <a:pt x="1524" y="1002"/>
                  </a:lnTo>
                  <a:lnTo>
                    <a:pt x="1551" y="979"/>
                  </a:lnTo>
                  <a:lnTo>
                    <a:pt x="1551" y="934"/>
                  </a:lnTo>
                  <a:lnTo>
                    <a:pt x="1521" y="904"/>
                  </a:lnTo>
                  <a:lnTo>
                    <a:pt x="1472" y="876"/>
                  </a:lnTo>
                  <a:lnTo>
                    <a:pt x="1493" y="859"/>
                  </a:lnTo>
                  <a:lnTo>
                    <a:pt x="1544" y="836"/>
                  </a:lnTo>
                  <a:lnTo>
                    <a:pt x="1556" y="827"/>
                  </a:lnTo>
                  <a:lnTo>
                    <a:pt x="1535" y="824"/>
                  </a:lnTo>
                  <a:lnTo>
                    <a:pt x="1496" y="827"/>
                  </a:lnTo>
                  <a:lnTo>
                    <a:pt x="1460" y="836"/>
                  </a:lnTo>
                  <a:lnTo>
                    <a:pt x="1437" y="848"/>
                  </a:lnTo>
                  <a:lnTo>
                    <a:pt x="1453" y="815"/>
                  </a:lnTo>
                  <a:lnTo>
                    <a:pt x="1460" y="776"/>
                  </a:lnTo>
                  <a:lnTo>
                    <a:pt x="1476" y="752"/>
                  </a:lnTo>
                  <a:lnTo>
                    <a:pt x="1484" y="729"/>
                  </a:lnTo>
                  <a:lnTo>
                    <a:pt x="1465" y="696"/>
                  </a:lnTo>
                  <a:lnTo>
                    <a:pt x="1437" y="717"/>
                  </a:lnTo>
                  <a:lnTo>
                    <a:pt x="1441" y="745"/>
                  </a:lnTo>
                  <a:lnTo>
                    <a:pt x="1437" y="780"/>
                  </a:lnTo>
                  <a:lnTo>
                    <a:pt x="1420" y="827"/>
                  </a:lnTo>
                  <a:lnTo>
                    <a:pt x="1381" y="824"/>
                  </a:lnTo>
                  <a:lnTo>
                    <a:pt x="1364" y="780"/>
                  </a:lnTo>
                  <a:lnTo>
                    <a:pt x="1341" y="736"/>
                  </a:lnTo>
                  <a:lnTo>
                    <a:pt x="1385" y="729"/>
                  </a:lnTo>
                  <a:lnTo>
                    <a:pt x="1404" y="705"/>
                  </a:lnTo>
                  <a:lnTo>
                    <a:pt x="1425" y="701"/>
                  </a:lnTo>
                  <a:lnTo>
                    <a:pt x="1425" y="673"/>
                  </a:lnTo>
                  <a:lnTo>
                    <a:pt x="1413" y="648"/>
                  </a:lnTo>
                  <a:lnTo>
                    <a:pt x="1448" y="628"/>
                  </a:lnTo>
                  <a:lnTo>
                    <a:pt x="1484" y="608"/>
                  </a:lnTo>
                  <a:lnTo>
                    <a:pt x="1512" y="620"/>
                  </a:lnTo>
                  <a:lnTo>
                    <a:pt x="1521" y="664"/>
                  </a:lnTo>
                  <a:lnTo>
                    <a:pt x="1532" y="717"/>
                  </a:lnTo>
                  <a:lnTo>
                    <a:pt x="1560" y="740"/>
                  </a:lnTo>
                  <a:lnTo>
                    <a:pt x="1568" y="780"/>
                  </a:lnTo>
                  <a:lnTo>
                    <a:pt x="1556" y="812"/>
                  </a:lnTo>
                  <a:lnTo>
                    <a:pt x="1551" y="831"/>
                  </a:lnTo>
                  <a:lnTo>
                    <a:pt x="1584" y="824"/>
                  </a:lnTo>
                  <a:lnTo>
                    <a:pt x="1624" y="804"/>
                  </a:lnTo>
                  <a:lnTo>
                    <a:pt x="1640" y="745"/>
                  </a:lnTo>
                  <a:lnTo>
                    <a:pt x="1680" y="745"/>
                  </a:lnTo>
                  <a:lnTo>
                    <a:pt x="1699" y="736"/>
                  </a:lnTo>
                  <a:lnTo>
                    <a:pt x="1694" y="696"/>
                  </a:lnTo>
                  <a:lnTo>
                    <a:pt x="1671" y="656"/>
                  </a:lnTo>
                  <a:lnTo>
                    <a:pt x="1708" y="656"/>
                  </a:lnTo>
                  <a:lnTo>
                    <a:pt x="1747" y="696"/>
                  </a:lnTo>
                  <a:lnTo>
                    <a:pt x="1783" y="729"/>
                  </a:lnTo>
                  <a:lnTo>
                    <a:pt x="1818" y="729"/>
                  </a:lnTo>
                  <a:lnTo>
                    <a:pt x="1862" y="705"/>
                  </a:lnTo>
                  <a:lnTo>
                    <a:pt x="1895" y="661"/>
                  </a:lnTo>
                  <a:lnTo>
                    <a:pt x="1914" y="620"/>
                  </a:lnTo>
                  <a:lnTo>
                    <a:pt x="1986" y="635"/>
                  </a:lnTo>
                  <a:lnTo>
                    <a:pt x="1921" y="600"/>
                  </a:lnTo>
                  <a:lnTo>
                    <a:pt x="1878" y="608"/>
                  </a:lnTo>
                  <a:lnTo>
                    <a:pt x="1870" y="552"/>
                  </a:lnTo>
                  <a:lnTo>
                    <a:pt x="1870" y="520"/>
                  </a:lnTo>
                  <a:lnTo>
                    <a:pt x="1918" y="500"/>
                  </a:lnTo>
                  <a:lnTo>
                    <a:pt x="1926" y="473"/>
                  </a:lnTo>
                  <a:lnTo>
                    <a:pt x="1895" y="488"/>
                  </a:lnTo>
                  <a:lnTo>
                    <a:pt x="1855" y="516"/>
                  </a:lnTo>
                  <a:lnTo>
                    <a:pt x="1811" y="520"/>
                  </a:lnTo>
                  <a:lnTo>
                    <a:pt x="1827" y="572"/>
                  </a:lnTo>
                  <a:lnTo>
                    <a:pt x="1823" y="616"/>
                  </a:lnTo>
                  <a:lnTo>
                    <a:pt x="1823" y="651"/>
                  </a:lnTo>
                  <a:lnTo>
                    <a:pt x="1787" y="673"/>
                  </a:lnTo>
                  <a:lnTo>
                    <a:pt x="1750" y="689"/>
                  </a:lnTo>
                  <a:lnTo>
                    <a:pt x="1731" y="656"/>
                  </a:lnTo>
                  <a:lnTo>
                    <a:pt x="1734" y="620"/>
                  </a:lnTo>
                  <a:lnTo>
                    <a:pt x="1739" y="600"/>
                  </a:lnTo>
                  <a:lnTo>
                    <a:pt x="1699" y="616"/>
                  </a:lnTo>
                  <a:lnTo>
                    <a:pt x="1659" y="595"/>
                  </a:lnTo>
                  <a:lnTo>
                    <a:pt x="1640" y="564"/>
                  </a:lnTo>
                  <a:lnTo>
                    <a:pt x="1652" y="520"/>
                  </a:lnTo>
                  <a:lnTo>
                    <a:pt x="1643" y="516"/>
                  </a:lnTo>
                  <a:lnTo>
                    <a:pt x="1652" y="513"/>
                  </a:lnTo>
                  <a:lnTo>
                    <a:pt x="1655" y="508"/>
                  </a:lnTo>
                  <a:lnTo>
                    <a:pt x="1189" y="508"/>
                  </a:lnTo>
                  <a:lnTo>
                    <a:pt x="1166" y="541"/>
                  </a:lnTo>
                  <a:lnTo>
                    <a:pt x="1126" y="560"/>
                  </a:lnTo>
                  <a:lnTo>
                    <a:pt x="1086" y="544"/>
                  </a:lnTo>
                  <a:lnTo>
                    <a:pt x="1067" y="516"/>
                  </a:lnTo>
                  <a:lnTo>
                    <a:pt x="1067" y="485"/>
                  </a:lnTo>
                  <a:lnTo>
                    <a:pt x="1079" y="480"/>
                  </a:lnTo>
                  <a:lnTo>
                    <a:pt x="979" y="480"/>
                  </a:lnTo>
                  <a:lnTo>
                    <a:pt x="951" y="485"/>
                  </a:lnTo>
                  <a:lnTo>
                    <a:pt x="920" y="544"/>
                  </a:lnTo>
                  <a:lnTo>
                    <a:pt x="908" y="583"/>
                  </a:lnTo>
                  <a:lnTo>
                    <a:pt x="886" y="628"/>
                  </a:lnTo>
                  <a:lnTo>
                    <a:pt x="842" y="616"/>
                  </a:lnTo>
                  <a:lnTo>
                    <a:pt x="807" y="583"/>
                  </a:lnTo>
                  <a:lnTo>
                    <a:pt x="802" y="520"/>
                  </a:lnTo>
                  <a:lnTo>
                    <a:pt x="790" y="452"/>
                  </a:lnTo>
                  <a:lnTo>
                    <a:pt x="760" y="413"/>
                  </a:lnTo>
                  <a:lnTo>
                    <a:pt x="771" y="385"/>
                  </a:lnTo>
                  <a:lnTo>
                    <a:pt x="743" y="333"/>
                  </a:lnTo>
                  <a:lnTo>
                    <a:pt x="720" y="310"/>
                  </a:lnTo>
                  <a:lnTo>
                    <a:pt x="692" y="338"/>
                  </a:lnTo>
                  <a:lnTo>
                    <a:pt x="648" y="305"/>
                  </a:lnTo>
                  <a:lnTo>
                    <a:pt x="620" y="325"/>
                  </a:lnTo>
                  <a:lnTo>
                    <a:pt x="592" y="345"/>
                  </a:lnTo>
                  <a:lnTo>
                    <a:pt x="540" y="361"/>
                  </a:lnTo>
                  <a:lnTo>
                    <a:pt x="512" y="401"/>
                  </a:lnTo>
                  <a:lnTo>
                    <a:pt x="575" y="408"/>
                  </a:lnTo>
                  <a:lnTo>
                    <a:pt x="624" y="432"/>
                  </a:lnTo>
                  <a:lnTo>
                    <a:pt x="655" y="473"/>
                  </a:lnTo>
                  <a:lnTo>
                    <a:pt x="692" y="513"/>
                  </a:lnTo>
                  <a:lnTo>
                    <a:pt x="695" y="576"/>
                  </a:lnTo>
                  <a:lnTo>
                    <a:pt x="676" y="635"/>
                  </a:lnTo>
                  <a:lnTo>
                    <a:pt x="648" y="656"/>
                  </a:lnTo>
                  <a:lnTo>
                    <a:pt x="603" y="616"/>
                  </a:lnTo>
                  <a:lnTo>
                    <a:pt x="528" y="611"/>
                  </a:lnTo>
                  <a:lnTo>
                    <a:pt x="528" y="583"/>
                  </a:lnTo>
                  <a:lnTo>
                    <a:pt x="592" y="564"/>
                  </a:lnTo>
                  <a:lnTo>
                    <a:pt x="599" y="527"/>
                  </a:lnTo>
                  <a:lnTo>
                    <a:pt x="587" y="516"/>
                  </a:lnTo>
                  <a:lnTo>
                    <a:pt x="568" y="552"/>
                  </a:lnTo>
                  <a:lnTo>
                    <a:pt x="533" y="525"/>
                  </a:lnTo>
                  <a:lnTo>
                    <a:pt x="580" y="488"/>
                  </a:lnTo>
                  <a:lnTo>
                    <a:pt x="603" y="520"/>
                  </a:lnTo>
                  <a:lnTo>
                    <a:pt x="568" y="485"/>
                  </a:lnTo>
                  <a:lnTo>
                    <a:pt x="528" y="485"/>
                  </a:lnTo>
                  <a:lnTo>
                    <a:pt x="496" y="513"/>
                  </a:lnTo>
                  <a:lnTo>
                    <a:pt x="505" y="552"/>
                  </a:lnTo>
                  <a:lnTo>
                    <a:pt x="505" y="600"/>
                  </a:lnTo>
                  <a:lnTo>
                    <a:pt x="493" y="644"/>
                  </a:lnTo>
                  <a:lnTo>
                    <a:pt x="505" y="684"/>
                  </a:lnTo>
                  <a:lnTo>
                    <a:pt x="461" y="651"/>
                  </a:lnTo>
                  <a:lnTo>
                    <a:pt x="444" y="673"/>
                  </a:lnTo>
                  <a:lnTo>
                    <a:pt x="433" y="648"/>
                  </a:lnTo>
                  <a:lnTo>
                    <a:pt x="444" y="608"/>
                  </a:lnTo>
                  <a:lnTo>
                    <a:pt x="409" y="620"/>
                  </a:lnTo>
                  <a:lnTo>
                    <a:pt x="397" y="656"/>
                  </a:lnTo>
                  <a:lnTo>
                    <a:pt x="365" y="689"/>
                  </a:lnTo>
                  <a:lnTo>
                    <a:pt x="365" y="720"/>
                  </a:lnTo>
                  <a:lnTo>
                    <a:pt x="318" y="720"/>
                  </a:lnTo>
                  <a:lnTo>
                    <a:pt x="301" y="740"/>
                  </a:lnTo>
                  <a:lnTo>
                    <a:pt x="318" y="787"/>
                  </a:lnTo>
                  <a:lnTo>
                    <a:pt x="369" y="815"/>
                  </a:lnTo>
                  <a:lnTo>
                    <a:pt x="397" y="836"/>
                  </a:lnTo>
                  <a:lnTo>
                    <a:pt x="385" y="880"/>
                  </a:lnTo>
                  <a:lnTo>
                    <a:pt x="416" y="871"/>
                  </a:lnTo>
                  <a:lnTo>
                    <a:pt x="425" y="827"/>
                  </a:lnTo>
                  <a:lnTo>
                    <a:pt x="480" y="827"/>
                  </a:lnTo>
                  <a:lnTo>
                    <a:pt x="512" y="787"/>
                  </a:lnTo>
                  <a:lnTo>
                    <a:pt x="516" y="745"/>
                  </a:lnTo>
                  <a:lnTo>
                    <a:pt x="512" y="673"/>
                  </a:lnTo>
                  <a:lnTo>
                    <a:pt x="528" y="628"/>
                  </a:lnTo>
                  <a:lnTo>
                    <a:pt x="556" y="600"/>
                  </a:lnTo>
                  <a:lnTo>
                    <a:pt x="599" y="628"/>
                  </a:lnTo>
                  <a:lnTo>
                    <a:pt x="652" y="656"/>
                  </a:lnTo>
                  <a:lnTo>
                    <a:pt x="671" y="673"/>
                  </a:lnTo>
                  <a:lnTo>
                    <a:pt x="699" y="720"/>
                  </a:lnTo>
                  <a:lnTo>
                    <a:pt x="734" y="740"/>
                  </a:lnTo>
                  <a:lnTo>
                    <a:pt x="746" y="787"/>
                  </a:lnTo>
                  <a:lnTo>
                    <a:pt x="755" y="824"/>
                  </a:lnTo>
                  <a:lnTo>
                    <a:pt x="790" y="848"/>
                  </a:lnTo>
                  <a:lnTo>
                    <a:pt x="760" y="887"/>
                  </a:lnTo>
                  <a:lnTo>
                    <a:pt x="711" y="887"/>
                  </a:lnTo>
                  <a:lnTo>
                    <a:pt x="664" y="911"/>
                  </a:lnTo>
                  <a:lnTo>
                    <a:pt x="624" y="943"/>
                  </a:lnTo>
                  <a:lnTo>
                    <a:pt x="575" y="967"/>
                  </a:lnTo>
                  <a:lnTo>
                    <a:pt x="528" y="1011"/>
                  </a:lnTo>
                  <a:lnTo>
                    <a:pt x="484" y="1046"/>
                  </a:lnTo>
                  <a:lnTo>
                    <a:pt x="480" y="1083"/>
                  </a:lnTo>
                  <a:lnTo>
                    <a:pt x="480" y="1111"/>
                  </a:lnTo>
                  <a:lnTo>
                    <a:pt x="444" y="1134"/>
                  </a:lnTo>
                  <a:lnTo>
                    <a:pt x="449" y="1165"/>
                  </a:lnTo>
                  <a:lnTo>
                    <a:pt x="412" y="1205"/>
                  </a:lnTo>
                  <a:lnTo>
                    <a:pt x="412" y="1258"/>
                  </a:lnTo>
                  <a:lnTo>
                    <a:pt x="440" y="1298"/>
                  </a:lnTo>
                  <a:lnTo>
                    <a:pt x="425" y="1329"/>
                  </a:lnTo>
                  <a:lnTo>
                    <a:pt x="385" y="1305"/>
                  </a:lnTo>
                  <a:lnTo>
                    <a:pt x="381" y="1258"/>
                  </a:lnTo>
                  <a:lnTo>
                    <a:pt x="346" y="1230"/>
                  </a:lnTo>
                  <a:lnTo>
                    <a:pt x="313" y="1237"/>
                  </a:lnTo>
                  <a:lnTo>
                    <a:pt x="301" y="1270"/>
                  </a:lnTo>
                  <a:lnTo>
                    <a:pt x="266" y="1258"/>
                  </a:lnTo>
                  <a:lnTo>
                    <a:pt x="226" y="1258"/>
                  </a:lnTo>
                  <a:lnTo>
                    <a:pt x="185" y="1293"/>
                  </a:lnTo>
                  <a:lnTo>
                    <a:pt x="170" y="1329"/>
                  </a:lnTo>
                  <a:lnTo>
                    <a:pt x="159" y="1361"/>
                  </a:lnTo>
                  <a:lnTo>
                    <a:pt x="154" y="1412"/>
                  </a:lnTo>
                  <a:lnTo>
                    <a:pt x="185" y="1449"/>
                  </a:lnTo>
                  <a:lnTo>
                    <a:pt x="222" y="1424"/>
                  </a:lnTo>
                  <a:lnTo>
                    <a:pt x="257" y="1424"/>
                  </a:lnTo>
                  <a:lnTo>
                    <a:pt x="266" y="1473"/>
                  </a:lnTo>
                  <a:lnTo>
                    <a:pt x="234" y="1504"/>
                  </a:lnTo>
                  <a:lnTo>
                    <a:pt x="281" y="1512"/>
                  </a:lnTo>
                  <a:lnTo>
                    <a:pt x="301" y="1520"/>
                  </a:lnTo>
                  <a:lnTo>
                    <a:pt x="313" y="1564"/>
                  </a:lnTo>
                  <a:lnTo>
                    <a:pt x="353" y="1587"/>
                  </a:lnTo>
                  <a:lnTo>
                    <a:pt x="400" y="1620"/>
                  </a:lnTo>
                  <a:lnTo>
                    <a:pt x="433" y="1596"/>
                  </a:lnTo>
                  <a:lnTo>
                    <a:pt x="505" y="1620"/>
                  </a:lnTo>
                  <a:lnTo>
                    <a:pt x="559" y="1624"/>
                  </a:lnTo>
                  <a:lnTo>
                    <a:pt x="639" y="1664"/>
                  </a:lnTo>
                  <a:lnTo>
                    <a:pt x="655" y="1699"/>
                  </a:lnTo>
                  <a:lnTo>
                    <a:pt x="699" y="1739"/>
                  </a:lnTo>
                  <a:lnTo>
                    <a:pt x="723" y="1795"/>
                  </a:lnTo>
                  <a:lnTo>
                    <a:pt x="779" y="1827"/>
                  </a:lnTo>
                  <a:lnTo>
                    <a:pt x="830" y="1830"/>
                  </a:lnTo>
                  <a:lnTo>
                    <a:pt x="879" y="1874"/>
                  </a:lnTo>
                  <a:lnTo>
                    <a:pt x="948" y="1874"/>
                  </a:lnTo>
                  <a:lnTo>
                    <a:pt x="951" y="1914"/>
                  </a:lnTo>
                  <a:lnTo>
                    <a:pt x="951" y="1954"/>
                  </a:lnTo>
                  <a:lnTo>
                    <a:pt x="920" y="1994"/>
                  </a:lnTo>
                  <a:lnTo>
                    <a:pt x="915" y="2047"/>
                  </a:lnTo>
                  <a:lnTo>
                    <a:pt x="908" y="2094"/>
                  </a:lnTo>
                  <a:lnTo>
                    <a:pt x="870" y="2141"/>
                  </a:lnTo>
                  <a:lnTo>
                    <a:pt x="818" y="2169"/>
                  </a:lnTo>
                  <a:lnTo>
                    <a:pt x="774" y="2178"/>
                  </a:lnTo>
                  <a:lnTo>
                    <a:pt x="795" y="2222"/>
                  </a:lnTo>
                  <a:lnTo>
                    <a:pt x="755" y="2265"/>
                  </a:lnTo>
                  <a:lnTo>
                    <a:pt x="720" y="2305"/>
                  </a:lnTo>
                  <a:lnTo>
                    <a:pt x="676" y="2333"/>
                  </a:lnTo>
                  <a:lnTo>
                    <a:pt x="648" y="2389"/>
                  </a:lnTo>
                  <a:lnTo>
                    <a:pt x="620" y="2428"/>
                  </a:lnTo>
                  <a:lnTo>
                    <a:pt x="580" y="2449"/>
                  </a:lnTo>
                  <a:lnTo>
                    <a:pt x="556" y="2484"/>
                  </a:lnTo>
                  <a:lnTo>
                    <a:pt x="533" y="2521"/>
                  </a:lnTo>
                  <a:lnTo>
                    <a:pt x="516" y="2552"/>
                  </a:lnTo>
                  <a:lnTo>
                    <a:pt x="516" y="2591"/>
                  </a:lnTo>
                  <a:lnTo>
                    <a:pt x="496" y="2616"/>
                  </a:lnTo>
                  <a:lnTo>
                    <a:pt x="472" y="2568"/>
                  </a:lnTo>
                  <a:lnTo>
                    <a:pt x="433" y="2528"/>
                  </a:lnTo>
                  <a:lnTo>
                    <a:pt x="412" y="2477"/>
                  </a:lnTo>
                  <a:lnTo>
                    <a:pt x="412" y="2428"/>
                  </a:lnTo>
                  <a:lnTo>
                    <a:pt x="409" y="2372"/>
                  </a:lnTo>
                  <a:lnTo>
                    <a:pt x="433" y="2297"/>
                  </a:lnTo>
                  <a:lnTo>
                    <a:pt x="433" y="2222"/>
                  </a:lnTo>
                  <a:lnTo>
                    <a:pt x="425" y="2150"/>
                  </a:lnTo>
                  <a:lnTo>
                    <a:pt x="409" y="2094"/>
                  </a:lnTo>
                  <a:lnTo>
                    <a:pt x="365" y="2047"/>
                  </a:lnTo>
                  <a:lnTo>
                    <a:pt x="318" y="2006"/>
                  </a:lnTo>
                  <a:lnTo>
                    <a:pt x="281" y="1951"/>
                  </a:lnTo>
                  <a:lnTo>
                    <a:pt x="273" y="1883"/>
                  </a:lnTo>
                  <a:lnTo>
                    <a:pt x="301" y="1839"/>
                  </a:lnTo>
                  <a:lnTo>
                    <a:pt x="301" y="1799"/>
                  </a:lnTo>
                  <a:lnTo>
                    <a:pt x="318" y="1734"/>
                  </a:lnTo>
                  <a:lnTo>
                    <a:pt x="349" y="1687"/>
                  </a:lnTo>
                  <a:lnTo>
                    <a:pt x="385" y="1655"/>
                  </a:lnTo>
                  <a:lnTo>
                    <a:pt x="405" y="1624"/>
                  </a:lnTo>
                  <a:lnTo>
                    <a:pt x="353" y="1612"/>
                  </a:lnTo>
                  <a:lnTo>
                    <a:pt x="325" y="1620"/>
                  </a:lnTo>
                  <a:lnTo>
                    <a:pt x="297" y="1604"/>
                  </a:lnTo>
                  <a:lnTo>
                    <a:pt x="257" y="1576"/>
                  </a:lnTo>
                  <a:lnTo>
                    <a:pt x="210" y="1545"/>
                  </a:lnTo>
                  <a:lnTo>
                    <a:pt x="190" y="1504"/>
                  </a:lnTo>
                  <a:lnTo>
                    <a:pt x="170" y="1489"/>
                  </a:lnTo>
                  <a:lnTo>
                    <a:pt x="150" y="1504"/>
                  </a:lnTo>
                  <a:lnTo>
                    <a:pt x="110" y="1480"/>
                  </a:lnTo>
                  <a:lnTo>
                    <a:pt x="82" y="1445"/>
                  </a:lnTo>
                  <a:lnTo>
                    <a:pt x="63" y="1412"/>
                  </a:lnTo>
                  <a:lnTo>
                    <a:pt x="63" y="1368"/>
                  </a:lnTo>
                  <a:lnTo>
                    <a:pt x="54" y="1342"/>
                  </a:lnTo>
                  <a:lnTo>
                    <a:pt x="19" y="1309"/>
                  </a:lnTo>
                  <a:lnTo>
                    <a:pt x="19" y="1337"/>
                  </a:lnTo>
                  <a:lnTo>
                    <a:pt x="42" y="1373"/>
                  </a:lnTo>
                  <a:lnTo>
                    <a:pt x="42" y="1405"/>
                  </a:lnTo>
                  <a:lnTo>
                    <a:pt x="11" y="1382"/>
                  </a:lnTo>
                  <a:lnTo>
                    <a:pt x="0" y="1326"/>
                  </a:lnTo>
                  <a:lnTo>
                    <a:pt x="11" y="1282"/>
                  </a:lnTo>
                  <a:lnTo>
                    <a:pt x="11" y="1218"/>
                  </a:lnTo>
                  <a:lnTo>
                    <a:pt x="19" y="1111"/>
                  </a:lnTo>
                  <a:lnTo>
                    <a:pt x="30" y="1002"/>
                  </a:lnTo>
                  <a:lnTo>
                    <a:pt x="58" y="887"/>
                  </a:lnTo>
                  <a:lnTo>
                    <a:pt x="98" y="759"/>
                  </a:lnTo>
                  <a:lnTo>
                    <a:pt x="162" y="600"/>
                  </a:lnTo>
                  <a:lnTo>
                    <a:pt x="217" y="476"/>
                  </a:lnTo>
                  <a:lnTo>
                    <a:pt x="309" y="325"/>
                  </a:lnTo>
                  <a:lnTo>
                    <a:pt x="365" y="238"/>
                  </a:lnTo>
                  <a:close/>
                </a:path>
              </a:pathLst>
            </a:custGeom>
            <a:solidFill>
              <a:srgbClr val="7d9cd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60600" y="2843280"/>
              <a:ext cx="1294200" cy="948240"/>
            </a:xfrm>
            <a:custGeom>
              <a:avLst/>
              <a:gdLst/>
              <a:ahLst/>
              <a:rect l="0" t="0" r="r" b="b"/>
              <a:pathLst>
                <a:path w="3595" h="2634">
                  <a:moveTo>
                    <a:pt x="388" y="229"/>
                  </a:moveTo>
                  <a:lnTo>
                    <a:pt x="432" y="234"/>
                  </a:lnTo>
                  <a:lnTo>
                    <a:pt x="455" y="201"/>
                  </a:lnTo>
                  <a:lnTo>
                    <a:pt x="492" y="185"/>
                  </a:lnTo>
                  <a:lnTo>
                    <a:pt x="520" y="157"/>
                  </a:lnTo>
                  <a:lnTo>
                    <a:pt x="560" y="129"/>
                  </a:lnTo>
                  <a:lnTo>
                    <a:pt x="591" y="117"/>
                  </a:lnTo>
                  <a:lnTo>
                    <a:pt x="627" y="106"/>
                  </a:lnTo>
                  <a:lnTo>
                    <a:pt x="658" y="106"/>
                  </a:lnTo>
                  <a:lnTo>
                    <a:pt x="674" y="94"/>
                  </a:lnTo>
                  <a:lnTo>
                    <a:pt x="707" y="94"/>
                  </a:lnTo>
                  <a:lnTo>
                    <a:pt x="723" y="75"/>
                  </a:lnTo>
                  <a:lnTo>
                    <a:pt x="758" y="82"/>
                  </a:lnTo>
                  <a:lnTo>
                    <a:pt x="794" y="70"/>
                  </a:lnTo>
                  <a:lnTo>
                    <a:pt x="826" y="75"/>
                  </a:lnTo>
                  <a:lnTo>
                    <a:pt x="838" y="89"/>
                  </a:lnTo>
                  <a:lnTo>
                    <a:pt x="826" y="106"/>
                  </a:lnTo>
                  <a:lnTo>
                    <a:pt x="794" y="94"/>
                  </a:lnTo>
                  <a:lnTo>
                    <a:pt x="766" y="114"/>
                  </a:lnTo>
                  <a:lnTo>
                    <a:pt x="747" y="134"/>
                  </a:lnTo>
                  <a:lnTo>
                    <a:pt x="742" y="162"/>
                  </a:lnTo>
                  <a:lnTo>
                    <a:pt x="710" y="166"/>
                  </a:lnTo>
                  <a:lnTo>
                    <a:pt x="674" y="185"/>
                  </a:lnTo>
                  <a:lnTo>
                    <a:pt x="670" y="225"/>
                  </a:lnTo>
                  <a:lnTo>
                    <a:pt x="667" y="253"/>
                  </a:lnTo>
                  <a:lnTo>
                    <a:pt x="658" y="285"/>
                  </a:lnTo>
                  <a:lnTo>
                    <a:pt x="670" y="304"/>
                  </a:lnTo>
                  <a:lnTo>
                    <a:pt x="695" y="237"/>
                  </a:lnTo>
                  <a:lnTo>
                    <a:pt x="710" y="229"/>
                  </a:lnTo>
                  <a:lnTo>
                    <a:pt x="742" y="194"/>
                  </a:lnTo>
                  <a:lnTo>
                    <a:pt x="763" y="154"/>
                  </a:lnTo>
                  <a:lnTo>
                    <a:pt x="805" y="145"/>
                  </a:lnTo>
                  <a:lnTo>
                    <a:pt x="845" y="122"/>
                  </a:lnTo>
                  <a:lnTo>
                    <a:pt x="873" y="86"/>
                  </a:lnTo>
                  <a:lnTo>
                    <a:pt x="911" y="86"/>
                  </a:lnTo>
                  <a:lnTo>
                    <a:pt x="981" y="82"/>
                  </a:lnTo>
                  <a:lnTo>
                    <a:pt x="1058" y="70"/>
                  </a:lnTo>
                  <a:lnTo>
                    <a:pt x="1089" y="63"/>
                  </a:lnTo>
                  <a:lnTo>
                    <a:pt x="1121" y="63"/>
                  </a:lnTo>
                  <a:lnTo>
                    <a:pt x="1156" y="63"/>
                  </a:lnTo>
                  <a:lnTo>
                    <a:pt x="1189" y="75"/>
                  </a:lnTo>
                  <a:lnTo>
                    <a:pt x="1228" y="110"/>
                  </a:lnTo>
                  <a:lnTo>
                    <a:pt x="1208" y="114"/>
                  </a:lnTo>
                  <a:lnTo>
                    <a:pt x="1165" y="126"/>
                  </a:lnTo>
                  <a:lnTo>
                    <a:pt x="1168" y="162"/>
                  </a:lnTo>
                  <a:lnTo>
                    <a:pt x="1205" y="166"/>
                  </a:lnTo>
                  <a:lnTo>
                    <a:pt x="1224" y="166"/>
                  </a:lnTo>
                  <a:lnTo>
                    <a:pt x="1212" y="197"/>
                  </a:lnTo>
                  <a:lnTo>
                    <a:pt x="1168" y="234"/>
                  </a:lnTo>
                  <a:lnTo>
                    <a:pt x="1145" y="237"/>
                  </a:lnTo>
                  <a:lnTo>
                    <a:pt x="1153" y="265"/>
                  </a:lnTo>
                  <a:lnTo>
                    <a:pt x="1161" y="276"/>
                  </a:lnTo>
                  <a:lnTo>
                    <a:pt x="1145" y="304"/>
                  </a:lnTo>
                  <a:lnTo>
                    <a:pt x="1165" y="332"/>
                  </a:lnTo>
                  <a:lnTo>
                    <a:pt x="1125" y="349"/>
                  </a:lnTo>
                  <a:lnTo>
                    <a:pt x="1089" y="360"/>
                  </a:lnTo>
                  <a:lnTo>
                    <a:pt x="1081" y="403"/>
                  </a:lnTo>
                  <a:lnTo>
                    <a:pt x="1058" y="440"/>
                  </a:lnTo>
                  <a:lnTo>
                    <a:pt x="1030" y="468"/>
                  </a:lnTo>
                  <a:lnTo>
                    <a:pt x="998" y="483"/>
                  </a:lnTo>
                  <a:lnTo>
                    <a:pt x="1081" y="483"/>
                  </a:lnTo>
                  <a:lnTo>
                    <a:pt x="1125" y="483"/>
                  </a:lnTo>
                  <a:lnTo>
                    <a:pt x="1153" y="492"/>
                  </a:lnTo>
                  <a:lnTo>
                    <a:pt x="1189" y="475"/>
                  </a:lnTo>
                  <a:lnTo>
                    <a:pt x="1205" y="511"/>
                  </a:lnTo>
                  <a:lnTo>
                    <a:pt x="1670" y="511"/>
                  </a:lnTo>
                  <a:lnTo>
                    <a:pt x="1690" y="483"/>
                  </a:lnTo>
                  <a:lnTo>
                    <a:pt x="1733" y="447"/>
                  </a:lnTo>
                  <a:lnTo>
                    <a:pt x="1761" y="400"/>
                  </a:lnTo>
                  <a:lnTo>
                    <a:pt x="1800" y="356"/>
                  </a:lnTo>
                  <a:lnTo>
                    <a:pt x="1817" y="312"/>
                  </a:lnTo>
                  <a:lnTo>
                    <a:pt x="1837" y="269"/>
                  </a:lnTo>
                  <a:lnTo>
                    <a:pt x="1872" y="253"/>
                  </a:lnTo>
                  <a:lnTo>
                    <a:pt x="1880" y="229"/>
                  </a:lnTo>
                  <a:lnTo>
                    <a:pt x="1912" y="237"/>
                  </a:lnTo>
                  <a:lnTo>
                    <a:pt x="1945" y="213"/>
                  </a:lnTo>
                  <a:lnTo>
                    <a:pt x="1959" y="234"/>
                  </a:lnTo>
                  <a:lnTo>
                    <a:pt x="1996" y="248"/>
                  </a:lnTo>
                  <a:lnTo>
                    <a:pt x="2031" y="257"/>
                  </a:lnTo>
                  <a:lnTo>
                    <a:pt x="2067" y="269"/>
                  </a:lnTo>
                  <a:lnTo>
                    <a:pt x="2092" y="253"/>
                  </a:lnTo>
                  <a:lnTo>
                    <a:pt x="2122" y="272"/>
                  </a:lnTo>
                  <a:lnTo>
                    <a:pt x="2143" y="304"/>
                  </a:lnTo>
                  <a:lnTo>
                    <a:pt x="2183" y="312"/>
                  </a:lnTo>
                  <a:lnTo>
                    <a:pt x="2199" y="349"/>
                  </a:lnTo>
                  <a:lnTo>
                    <a:pt x="2178" y="368"/>
                  </a:lnTo>
                  <a:lnTo>
                    <a:pt x="2127" y="360"/>
                  </a:lnTo>
                  <a:lnTo>
                    <a:pt x="2087" y="344"/>
                  </a:lnTo>
                  <a:lnTo>
                    <a:pt x="2078" y="372"/>
                  </a:lnTo>
                  <a:lnTo>
                    <a:pt x="2134" y="377"/>
                  </a:lnTo>
                  <a:lnTo>
                    <a:pt x="2178" y="408"/>
                  </a:lnTo>
                  <a:lnTo>
                    <a:pt x="2242" y="391"/>
                  </a:lnTo>
                  <a:lnTo>
                    <a:pt x="2253" y="337"/>
                  </a:lnTo>
                  <a:lnTo>
                    <a:pt x="2286" y="297"/>
                  </a:lnTo>
                  <a:lnTo>
                    <a:pt x="2318" y="309"/>
                  </a:lnTo>
                  <a:lnTo>
                    <a:pt x="2309" y="328"/>
                  </a:lnTo>
                  <a:lnTo>
                    <a:pt x="2290" y="349"/>
                  </a:lnTo>
                  <a:lnTo>
                    <a:pt x="2290" y="377"/>
                  </a:lnTo>
                  <a:lnTo>
                    <a:pt x="2330" y="344"/>
                  </a:lnTo>
                  <a:lnTo>
                    <a:pt x="2361" y="312"/>
                  </a:lnTo>
                  <a:lnTo>
                    <a:pt x="2421" y="304"/>
                  </a:lnTo>
                  <a:lnTo>
                    <a:pt x="2493" y="276"/>
                  </a:lnTo>
                  <a:lnTo>
                    <a:pt x="2544" y="253"/>
                  </a:lnTo>
                  <a:lnTo>
                    <a:pt x="2561" y="225"/>
                  </a:lnTo>
                  <a:lnTo>
                    <a:pt x="2517" y="229"/>
                  </a:lnTo>
                  <a:lnTo>
                    <a:pt x="2472" y="197"/>
                  </a:lnTo>
                  <a:lnTo>
                    <a:pt x="2449" y="154"/>
                  </a:lnTo>
                  <a:lnTo>
                    <a:pt x="2472" y="94"/>
                  </a:lnTo>
                  <a:lnTo>
                    <a:pt x="2521" y="54"/>
                  </a:lnTo>
                  <a:lnTo>
                    <a:pt x="2556" y="23"/>
                  </a:lnTo>
                  <a:lnTo>
                    <a:pt x="2608" y="23"/>
                  </a:lnTo>
                  <a:lnTo>
                    <a:pt x="2652" y="0"/>
                  </a:lnTo>
                  <a:lnTo>
                    <a:pt x="2647" y="26"/>
                  </a:lnTo>
                  <a:lnTo>
                    <a:pt x="2612" y="35"/>
                  </a:lnTo>
                  <a:lnTo>
                    <a:pt x="2600" y="47"/>
                  </a:lnTo>
                  <a:lnTo>
                    <a:pt x="2564" y="51"/>
                  </a:lnTo>
                  <a:lnTo>
                    <a:pt x="2540" y="82"/>
                  </a:lnTo>
                  <a:lnTo>
                    <a:pt x="2524" y="117"/>
                  </a:lnTo>
                  <a:lnTo>
                    <a:pt x="2517" y="154"/>
                  </a:lnTo>
                  <a:lnTo>
                    <a:pt x="2556" y="213"/>
                  </a:lnTo>
                  <a:lnTo>
                    <a:pt x="2615" y="241"/>
                  </a:lnTo>
                  <a:lnTo>
                    <a:pt x="2664" y="265"/>
                  </a:lnTo>
                  <a:lnTo>
                    <a:pt x="2680" y="272"/>
                  </a:lnTo>
                  <a:lnTo>
                    <a:pt x="2704" y="304"/>
                  </a:lnTo>
                  <a:lnTo>
                    <a:pt x="2720" y="297"/>
                  </a:lnTo>
                  <a:lnTo>
                    <a:pt x="2720" y="272"/>
                  </a:lnTo>
                  <a:lnTo>
                    <a:pt x="2712" y="237"/>
                  </a:lnTo>
                  <a:lnTo>
                    <a:pt x="2697" y="218"/>
                  </a:lnTo>
                  <a:lnTo>
                    <a:pt x="2687" y="194"/>
                  </a:lnTo>
                  <a:lnTo>
                    <a:pt x="2704" y="150"/>
                  </a:lnTo>
                  <a:lnTo>
                    <a:pt x="2748" y="150"/>
                  </a:lnTo>
                  <a:lnTo>
                    <a:pt x="2784" y="150"/>
                  </a:lnTo>
                  <a:lnTo>
                    <a:pt x="2800" y="166"/>
                  </a:lnTo>
                  <a:lnTo>
                    <a:pt x="2807" y="206"/>
                  </a:lnTo>
                  <a:lnTo>
                    <a:pt x="2828" y="241"/>
                  </a:lnTo>
                  <a:lnTo>
                    <a:pt x="2835" y="206"/>
                  </a:lnTo>
                  <a:lnTo>
                    <a:pt x="2868" y="185"/>
                  </a:lnTo>
                  <a:lnTo>
                    <a:pt x="2898" y="185"/>
                  </a:lnTo>
                  <a:lnTo>
                    <a:pt x="2931" y="185"/>
                  </a:lnTo>
                  <a:lnTo>
                    <a:pt x="2963" y="190"/>
                  </a:lnTo>
                  <a:lnTo>
                    <a:pt x="2963" y="150"/>
                  </a:lnTo>
                  <a:lnTo>
                    <a:pt x="2987" y="154"/>
                  </a:lnTo>
                  <a:lnTo>
                    <a:pt x="3006" y="178"/>
                  </a:lnTo>
                  <a:lnTo>
                    <a:pt x="3045" y="178"/>
                  </a:lnTo>
                  <a:lnTo>
                    <a:pt x="3078" y="162"/>
                  </a:lnTo>
                  <a:lnTo>
                    <a:pt x="3113" y="194"/>
                  </a:lnTo>
                  <a:lnTo>
                    <a:pt x="3157" y="234"/>
                  </a:lnTo>
                  <a:lnTo>
                    <a:pt x="3206" y="241"/>
                  </a:lnTo>
                  <a:lnTo>
                    <a:pt x="3273" y="269"/>
                  </a:lnTo>
                  <a:lnTo>
                    <a:pt x="3285" y="265"/>
                  </a:lnTo>
                  <a:lnTo>
                    <a:pt x="3332" y="344"/>
                  </a:lnTo>
                  <a:lnTo>
                    <a:pt x="3404" y="468"/>
                  </a:lnTo>
                  <a:lnTo>
                    <a:pt x="3451" y="539"/>
                  </a:lnTo>
                  <a:lnTo>
                    <a:pt x="3475" y="614"/>
                  </a:lnTo>
                  <a:lnTo>
                    <a:pt x="3444" y="630"/>
                  </a:lnTo>
                  <a:lnTo>
                    <a:pt x="3428" y="663"/>
                  </a:lnTo>
                  <a:lnTo>
                    <a:pt x="3444" y="722"/>
                  </a:lnTo>
                  <a:lnTo>
                    <a:pt x="3463" y="778"/>
                  </a:lnTo>
                  <a:lnTo>
                    <a:pt x="3488" y="778"/>
                  </a:lnTo>
                  <a:lnTo>
                    <a:pt x="3491" y="734"/>
                  </a:lnTo>
                  <a:lnTo>
                    <a:pt x="3512" y="722"/>
                  </a:lnTo>
                  <a:lnTo>
                    <a:pt x="3523" y="762"/>
                  </a:lnTo>
                  <a:lnTo>
                    <a:pt x="3495" y="778"/>
                  </a:lnTo>
                  <a:lnTo>
                    <a:pt x="3542" y="821"/>
                  </a:lnTo>
                  <a:lnTo>
                    <a:pt x="3507" y="865"/>
                  </a:lnTo>
                  <a:lnTo>
                    <a:pt x="3500" y="893"/>
                  </a:lnTo>
                  <a:lnTo>
                    <a:pt x="3559" y="905"/>
                  </a:lnTo>
                  <a:lnTo>
                    <a:pt x="3535" y="940"/>
                  </a:lnTo>
                  <a:lnTo>
                    <a:pt x="3503" y="952"/>
                  </a:lnTo>
                  <a:lnTo>
                    <a:pt x="3503" y="1008"/>
                  </a:lnTo>
                  <a:lnTo>
                    <a:pt x="3535" y="1055"/>
                  </a:lnTo>
                  <a:lnTo>
                    <a:pt x="3503" y="1069"/>
                  </a:lnTo>
                  <a:lnTo>
                    <a:pt x="3451" y="1052"/>
                  </a:lnTo>
                  <a:lnTo>
                    <a:pt x="3472" y="1024"/>
                  </a:lnTo>
                  <a:lnTo>
                    <a:pt x="3507" y="1024"/>
                  </a:lnTo>
                  <a:lnTo>
                    <a:pt x="3507" y="968"/>
                  </a:lnTo>
                  <a:lnTo>
                    <a:pt x="3467" y="985"/>
                  </a:lnTo>
                  <a:lnTo>
                    <a:pt x="3463" y="937"/>
                  </a:lnTo>
                  <a:lnTo>
                    <a:pt x="3500" y="905"/>
                  </a:lnTo>
                  <a:lnTo>
                    <a:pt x="3507" y="873"/>
                  </a:lnTo>
                  <a:lnTo>
                    <a:pt x="3491" y="825"/>
                  </a:lnTo>
                  <a:lnTo>
                    <a:pt x="3488" y="774"/>
                  </a:lnTo>
                  <a:lnTo>
                    <a:pt x="3460" y="797"/>
                  </a:lnTo>
                  <a:lnTo>
                    <a:pt x="3432" y="837"/>
                  </a:lnTo>
                  <a:lnTo>
                    <a:pt x="3388" y="873"/>
                  </a:lnTo>
                  <a:lnTo>
                    <a:pt x="3404" y="926"/>
                  </a:lnTo>
                  <a:lnTo>
                    <a:pt x="3400" y="968"/>
                  </a:lnTo>
                  <a:lnTo>
                    <a:pt x="3400" y="996"/>
                  </a:lnTo>
                  <a:lnTo>
                    <a:pt x="3420" y="1036"/>
                  </a:lnTo>
                  <a:lnTo>
                    <a:pt x="3404" y="1048"/>
                  </a:lnTo>
                  <a:lnTo>
                    <a:pt x="3360" y="1004"/>
                  </a:lnTo>
                  <a:lnTo>
                    <a:pt x="3332" y="952"/>
                  </a:lnTo>
                  <a:lnTo>
                    <a:pt x="3320" y="917"/>
                  </a:lnTo>
                  <a:lnTo>
                    <a:pt x="3297" y="898"/>
                  </a:lnTo>
                  <a:lnTo>
                    <a:pt x="3265" y="926"/>
                  </a:lnTo>
                  <a:lnTo>
                    <a:pt x="3245" y="961"/>
                  </a:lnTo>
                  <a:lnTo>
                    <a:pt x="3288" y="1004"/>
                  </a:lnTo>
                  <a:lnTo>
                    <a:pt x="3313" y="1048"/>
                  </a:lnTo>
                  <a:lnTo>
                    <a:pt x="3320" y="1107"/>
                  </a:lnTo>
                  <a:lnTo>
                    <a:pt x="3316" y="1160"/>
                  </a:lnTo>
                  <a:lnTo>
                    <a:pt x="3316" y="1211"/>
                  </a:lnTo>
                  <a:lnTo>
                    <a:pt x="3337" y="1175"/>
                  </a:lnTo>
                  <a:lnTo>
                    <a:pt x="3372" y="1179"/>
                  </a:lnTo>
                  <a:lnTo>
                    <a:pt x="3384" y="1214"/>
                  </a:lnTo>
                  <a:lnTo>
                    <a:pt x="3356" y="1254"/>
                  </a:lnTo>
                  <a:lnTo>
                    <a:pt x="3325" y="1251"/>
                  </a:lnTo>
                  <a:lnTo>
                    <a:pt x="3320" y="1282"/>
                  </a:lnTo>
                  <a:lnTo>
                    <a:pt x="3344" y="1306"/>
                  </a:lnTo>
                  <a:lnTo>
                    <a:pt x="3332" y="1346"/>
                  </a:lnTo>
                  <a:lnTo>
                    <a:pt x="3367" y="1381"/>
                  </a:lnTo>
                  <a:lnTo>
                    <a:pt x="3344" y="1409"/>
                  </a:lnTo>
                  <a:lnTo>
                    <a:pt x="3381" y="1446"/>
                  </a:lnTo>
                  <a:lnTo>
                    <a:pt x="3356" y="1481"/>
                  </a:lnTo>
                  <a:lnTo>
                    <a:pt x="3395" y="1460"/>
                  </a:lnTo>
                  <a:lnTo>
                    <a:pt x="3384" y="1497"/>
                  </a:lnTo>
                  <a:lnTo>
                    <a:pt x="3456" y="1481"/>
                  </a:lnTo>
                  <a:lnTo>
                    <a:pt x="3432" y="1525"/>
                  </a:lnTo>
                  <a:lnTo>
                    <a:pt x="3384" y="1497"/>
                  </a:lnTo>
                  <a:lnTo>
                    <a:pt x="3381" y="1544"/>
                  </a:lnTo>
                  <a:lnTo>
                    <a:pt x="3451" y="1540"/>
                  </a:lnTo>
                  <a:lnTo>
                    <a:pt x="3420" y="1589"/>
                  </a:lnTo>
                  <a:lnTo>
                    <a:pt x="3372" y="1537"/>
                  </a:lnTo>
                  <a:lnTo>
                    <a:pt x="3400" y="1612"/>
                  </a:lnTo>
                  <a:lnTo>
                    <a:pt x="3456" y="1659"/>
                  </a:lnTo>
                  <a:lnTo>
                    <a:pt x="3404" y="1659"/>
                  </a:lnTo>
                  <a:lnTo>
                    <a:pt x="3372" y="1544"/>
                  </a:lnTo>
                  <a:lnTo>
                    <a:pt x="3384" y="1465"/>
                  </a:lnTo>
                  <a:lnTo>
                    <a:pt x="3344" y="1469"/>
                  </a:lnTo>
                  <a:lnTo>
                    <a:pt x="3316" y="1425"/>
                  </a:lnTo>
                  <a:lnTo>
                    <a:pt x="3344" y="1406"/>
                  </a:lnTo>
                  <a:lnTo>
                    <a:pt x="3344" y="1362"/>
                  </a:lnTo>
                  <a:lnTo>
                    <a:pt x="3325" y="1263"/>
                  </a:lnTo>
                  <a:lnTo>
                    <a:pt x="3320" y="1198"/>
                  </a:lnTo>
                  <a:lnTo>
                    <a:pt x="3313" y="1155"/>
                  </a:lnTo>
                  <a:lnTo>
                    <a:pt x="3276" y="1211"/>
                  </a:lnTo>
                  <a:lnTo>
                    <a:pt x="3213" y="1226"/>
                  </a:lnTo>
                  <a:lnTo>
                    <a:pt x="3181" y="1266"/>
                  </a:lnTo>
                  <a:lnTo>
                    <a:pt x="3193" y="1318"/>
                  </a:lnTo>
                  <a:lnTo>
                    <a:pt x="3169" y="1346"/>
                  </a:lnTo>
                  <a:lnTo>
                    <a:pt x="3134" y="1338"/>
                  </a:lnTo>
                  <a:lnTo>
                    <a:pt x="3166" y="1294"/>
                  </a:lnTo>
                  <a:lnTo>
                    <a:pt x="3141" y="1275"/>
                  </a:lnTo>
                  <a:lnTo>
                    <a:pt x="3106" y="1298"/>
                  </a:lnTo>
                  <a:lnTo>
                    <a:pt x="3106" y="1343"/>
                  </a:lnTo>
                  <a:lnTo>
                    <a:pt x="3166" y="1406"/>
                  </a:lnTo>
                  <a:lnTo>
                    <a:pt x="3181" y="1449"/>
                  </a:lnTo>
                  <a:lnTo>
                    <a:pt x="3138" y="1509"/>
                  </a:lnTo>
                  <a:lnTo>
                    <a:pt x="3138" y="1652"/>
                  </a:lnTo>
                  <a:lnTo>
                    <a:pt x="3138" y="1711"/>
                  </a:lnTo>
                  <a:lnTo>
                    <a:pt x="3145" y="1746"/>
                  </a:lnTo>
                  <a:lnTo>
                    <a:pt x="3209" y="1739"/>
                  </a:lnTo>
                  <a:lnTo>
                    <a:pt x="3253" y="1751"/>
                  </a:lnTo>
                  <a:lnTo>
                    <a:pt x="3285" y="1695"/>
                  </a:lnTo>
                  <a:lnTo>
                    <a:pt x="3320" y="1695"/>
                  </a:lnTo>
                  <a:lnTo>
                    <a:pt x="3309" y="1727"/>
                  </a:lnTo>
                  <a:lnTo>
                    <a:pt x="3344" y="1767"/>
                  </a:lnTo>
                  <a:lnTo>
                    <a:pt x="3395" y="1779"/>
                  </a:lnTo>
                  <a:lnTo>
                    <a:pt x="3388" y="1739"/>
                  </a:lnTo>
                  <a:lnTo>
                    <a:pt x="3503" y="1739"/>
                  </a:lnTo>
                  <a:lnTo>
                    <a:pt x="3463" y="1755"/>
                  </a:lnTo>
                  <a:lnTo>
                    <a:pt x="3460" y="1786"/>
                  </a:lnTo>
                  <a:lnTo>
                    <a:pt x="3512" y="1802"/>
                  </a:lnTo>
                  <a:lnTo>
                    <a:pt x="3563" y="1818"/>
                  </a:lnTo>
                  <a:lnTo>
                    <a:pt x="3587" y="1762"/>
                  </a:lnTo>
                  <a:lnTo>
                    <a:pt x="3595" y="1727"/>
                  </a:lnTo>
                  <a:lnTo>
                    <a:pt x="3559" y="1734"/>
                  </a:lnTo>
                  <a:lnTo>
                    <a:pt x="3523" y="1715"/>
                  </a:lnTo>
                  <a:lnTo>
                    <a:pt x="3503" y="1704"/>
                  </a:lnTo>
                  <a:lnTo>
                    <a:pt x="3491" y="1751"/>
                  </a:lnTo>
                  <a:lnTo>
                    <a:pt x="3491" y="1746"/>
                  </a:lnTo>
                  <a:lnTo>
                    <a:pt x="3381" y="1746"/>
                  </a:lnTo>
                  <a:lnTo>
                    <a:pt x="3356" y="1692"/>
                  </a:lnTo>
                  <a:lnTo>
                    <a:pt x="3325" y="1699"/>
                  </a:lnTo>
                  <a:lnTo>
                    <a:pt x="3288" y="1695"/>
                  </a:lnTo>
                  <a:lnTo>
                    <a:pt x="3276" y="1631"/>
                  </a:lnTo>
                  <a:lnTo>
                    <a:pt x="3257" y="1603"/>
                  </a:lnTo>
                  <a:lnTo>
                    <a:pt x="3292" y="1580"/>
                  </a:lnTo>
                  <a:lnTo>
                    <a:pt x="3292" y="1544"/>
                  </a:lnTo>
                  <a:lnTo>
                    <a:pt x="3241" y="1568"/>
                  </a:lnTo>
                  <a:lnTo>
                    <a:pt x="3206" y="1592"/>
                  </a:lnTo>
                  <a:lnTo>
                    <a:pt x="3181" y="1643"/>
                  </a:lnTo>
                  <a:lnTo>
                    <a:pt x="3138" y="1643"/>
                  </a:lnTo>
                  <a:lnTo>
                    <a:pt x="3138" y="1533"/>
                  </a:lnTo>
                  <a:lnTo>
                    <a:pt x="3110" y="1549"/>
                  </a:lnTo>
                  <a:lnTo>
                    <a:pt x="3078" y="1505"/>
                  </a:lnTo>
                  <a:lnTo>
                    <a:pt x="3043" y="1453"/>
                  </a:lnTo>
                  <a:lnTo>
                    <a:pt x="2991" y="1469"/>
                  </a:lnTo>
                  <a:lnTo>
                    <a:pt x="2987" y="1512"/>
                  </a:lnTo>
                  <a:lnTo>
                    <a:pt x="3010" y="1577"/>
                  </a:lnTo>
                  <a:lnTo>
                    <a:pt x="3010" y="1624"/>
                  </a:lnTo>
                  <a:lnTo>
                    <a:pt x="3045" y="1676"/>
                  </a:lnTo>
                  <a:lnTo>
                    <a:pt x="3066" y="1699"/>
                  </a:lnTo>
                  <a:lnTo>
                    <a:pt x="3026" y="1699"/>
                  </a:lnTo>
                  <a:lnTo>
                    <a:pt x="2998" y="1676"/>
                  </a:lnTo>
                  <a:lnTo>
                    <a:pt x="2978" y="1704"/>
                  </a:lnTo>
                  <a:lnTo>
                    <a:pt x="3034" y="1771"/>
                  </a:lnTo>
                  <a:lnTo>
                    <a:pt x="3078" y="1814"/>
                  </a:lnTo>
                  <a:lnTo>
                    <a:pt x="3118" y="1807"/>
                  </a:lnTo>
                  <a:lnTo>
                    <a:pt x="3166" y="1823"/>
                  </a:lnTo>
                  <a:lnTo>
                    <a:pt x="3225" y="1823"/>
                  </a:lnTo>
                  <a:lnTo>
                    <a:pt x="3276" y="1814"/>
                  </a:lnTo>
                  <a:lnTo>
                    <a:pt x="3325" y="1835"/>
                  </a:lnTo>
                  <a:lnTo>
                    <a:pt x="3313" y="1851"/>
                  </a:lnTo>
                  <a:lnTo>
                    <a:pt x="3257" y="1830"/>
                  </a:lnTo>
                  <a:lnTo>
                    <a:pt x="3257" y="1926"/>
                  </a:lnTo>
                  <a:lnTo>
                    <a:pt x="3297" y="1926"/>
                  </a:lnTo>
                  <a:lnTo>
                    <a:pt x="3320" y="1914"/>
                  </a:lnTo>
                  <a:lnTo>
                    <a:pt x="3325" y="1889"/>
                  </a:lnTo>
                  <a:lnTo>
                    <a:pt x="3372" y="1894"/>
                  </a:lnTo>
                  <a:lnTo>
                    <a:pt x="3428" y="1870"/>
                  </a:lnTo>
                  <a:lnTo>
                    <a:pt x="3423" y="1910"/>
                  </a:lnTo>
                  <a:lnTo>
                    <a:pt x="3444" y="1942"/>
                  </a:lnTo>
                  <a:lnTo>
                    <a:pt x="3472" y="1966"/>
                  </a:lnTo>
                  <a:lnTo>
                    <a:pt x="3503" y="1942"/>
                  </a:lnTo>
                  <a:lnTo>
                    <a:pt x="3500" y="1898"/>
                  </a:lnTo>
                  <a:lnTo>
                    <a:pt x="3503" y="1858"/>
                  </a:lnTo>
                  <a:lnTo>
                    <a:pt x="3523" y="1898"/>
                  </a:lnTo>
                  <a:lnTo>
                    <a:pt x="3535" y="1945"/>
                  </a:lnTo>
                  <a:lnTo>
                    <a:pt x="3491" y="2049"/>
                  </a:lnTo>
                  <a:lnTo>
                    <a:pt x="3444" y="2145"/>
                  </a:lnTo>
                  <a:lnTo>
                    <a:pt x="3400" y="2236"/>
                  </a:lnTo>
                  <a:lnTo>
                    <a:pt x="3344" y="2339"/>
                  </a:lnTo>
                  <a:lnTo>
                    <a:pt x="3309" y="2307"/>
                  </a:lnTo>
                  <a:lnTo>
                    <a:pt x="3257" y="2332"/>
                  </a:lnTo>
                  <a:lnTo>
                    <a:pt x="3241" y="2363"/>
                  </a:lnTo>
                  <a:lnTo>
                    <a:pt x="3206" y="2387"/>
                  </a:lnTo>
                  <a:lnTo>
                    <a:pt x="3141" y="2398"/>
                  </a:lnTo>
                  <a:lnTo>
                    <a:pt x="3101" y="2395"/>
                  </a:lnTo>
                  <a:lnTo>
                    <a:pt x="3113" y="2335"/>
                  </a:lnTo>
                  <a:lnTo>
                    <a:pt x="3110" y="2292"/>
                  </a:lnTo>
                  <a:lnTo>
                    <a:pt x="3138" y="2255"/>
                  </a:lnTo>
                  <a:lnTo>
                    <a:pt x="3134" y="2225"/>
                  </a:lnTo>
                  <a:lnTo>
                    <a:pt x="3085" y="2197"/>
                  </a:lnTo>
                  <a:lnTo>
                    <a:pt x="3094" y="2145"/>
                  </a:lnTo>
                  <a:lnTo>
                    <a:pt x="3106" y="2089"/>
                  </a:lnTo>
                  <a:lnTo>
                    <a:pt x="3150" y="2042"/>
                  </a:lnTo>
                  <a:lnTo>
                    <a:pt x="3209" y="2037"/>
                  </a:lnTo>
                  <a:lnTo>
                    <a:pt x="3220" y="2002"/>
                  </a:lnTo>
                  <a:lnTo>
                    <a:pt x="3206" y="1945"/>
                  </a:lnTo>
                  <a:lnTo>
                    <a:pt x="3241" y="1929"/>
                  </a:lnTo>
                  <a:lnTo>
                    <a:pt x="3257" y="1926"/>
                  </a:lnTo>
                  <a:lnTo>
                    <a:pt x="3257" y="1835"/>
                  </a:lnTo>
                  <a:lnTo>
                    <a:pt x="3209" y="1842"/>
                  </a:lnTo>
                  <a:lnTo>
                    <a:pt x="3166" y="1863"/>
                  </a:lnTo>
                  <a:lnTo>
                    <a:pt x="3122" y="1835"/>
                  </a:lnTo>
                  <a:lnTo>
                    <a:pt x="3073" y="1835"/>
                  </a:lnTo>
                  <a:lnTo>
                    <a:pt x="3015" y="1814"/>
                  </a:lnTo>
                  <a:lnTo>
                    <a:pt x="2978" y="1771"/>
                  </a:lnTo>
                  <a:lnTo>
                    <a:pt x="2959" y="1732"/>
                  </a:lnTo>
                  <a:lnTo>
                    <a:pt x="2926" y="1695"/>
                  </a:lnTo>
                  <a:lnTo>
                    <a:pt x="2959" y="1687"/>
                  </a:lnTo>
                  <a:lnTo>
                    <a:pt x="2978" y="1699"/>
                  </a:lnTo>
                  <a:lnTo>
                    <a:pt x="3003" y="1668"/>
                  </a:lnTo>
                  <a:lnTo>
                    <a:pt x="2991" y="1620"/>
                  </a:lnTo>
                  <a:lnTo>
                    <a:pt x="2959" y="1615"/>
                  </a:lnTo>
                  <a:lnTo>
                    <a:pt x="2938" y="1561"/>
                  </a:lnTo>
                  <a:lnTo>
                    <a:pt x="2954" y="1505"/>
                  </a:lnTo>
                  <a:lnTo>
                    <a:pt x="2978" y="1460"/>
                  </a:lnTo>
                  <a:lnTo>
                    <a:pt x="2970" y="1406"/>
                  </a:lnTo>
                  <a:lnTo>
                    <a:pt x="2954" y="1402"/>
                  </a:lnTo>
                  <a:lnTo>
                    <a:pt x="2926" y="1430"/>
                  </a:lnTo>
                  <a:lnTo>
                    <a:pt x="2923" y="1460"/>
                  </a:lnTo>
                  <a:lnTo>
                    <a:pt x="2891" y="1406"/>
                  </a:lnTo>
                  <a:lnTo>
                    <a:pt x="2844" y="1366"/>
                  </a:lnTo>
                  <a:lnTo>
                    <a:pt x="2807" y="1369"/>
                  </a:lnTo>
                  <a:lnTo>
                    <a:pt x="2776" y="1425"/>
                  </a:lnTo>
                  <a:lnTo>
                    <a:pt x="2728" y="1453"/>
                  </a:lnTo>
                  <a:lnTo>
                    <a:pt x="2728" y="1488"/>
                  </a:lnTo>
                  <a:lnTo>
                    <a:pt x="2744" y="1533"/>
                  </a:lnTo>
                  <a:lnTo>
                    <a:pt x="2740" y="1572"/>
                  </a:lnTo>
                  <a:lnTo>
                    <a:pt x="2704" y="1568"/>
                  </a:lnTo>
                  <a:lnTo>
                    <a:pt x="2675" y="1512"/>
                  </a:lnTo>
                  <a:lnTo>
                    <a:pt x="2636" y="1460"/>
                  </a:lnTo>
                  <a:lnTo>
                    <a:pt x="2592" y="1425"/>
                  </a:lnTo>
                  <a:lnTo>
                    <a:pt x="2561" y="1366"/>
                  </a:lnTo>
                  <a:lnTo>
                    <a:pt x="2528" y="1343"/>
                  </a:lnTo>
                  <a:lnTo>
                    <a:pt x="2468" y="1343"/>
                  </a:lnTo>
                  <a:lnTo>
                    <a:pt x="2421" y="1343"/>
                  </a:lnTo>
                  <a:lnTo>
                    <a:pt x="2389" y="1369"/>
                  </a:lnTo>
                  <a:lnTo>
                    <a:pt x="2358" y="1329"/>
                  </a:lnTo>
                  <a:lnTo>
                    <a:pt x="2321" y="1303"/>
                  </a:lnTo>
                  <a:lnTo>
                    <a:pt x="2274" y="1263"/>
                  </a:lnTo>
                  <a:lnTo>
                    <a:pt x="2309" y="1329"/>
                  </a:lnTo>
                  <a:lnTo>
                    <a:pt x="2361" y="1346"/>
                  </a:lnTo>
                  <a:lnTo>
                    <a:pt x="2397" y="1406"/>
                  </a:lnTo>
                  <a:lnTo>
                    <a:pt x="2386" y="1453"/>
                  </a:lnTo>
                  <a:lnTo>
                    <a:pt x="2349" y="1481"/>
                  </a:lnTo>
                  <a:lnTo>
                    <a:pt x="2293" y="1488"/>
                  </a:lnTo>
                  <a:lnTo>
                    <a:pt x="2250" y="1509"/>
                  </a:lnTo>
                  <a:lnTo>
                    <a:pt x="2218" y="1552"/>
                  </a:lnTo>
                  <a:lnTo>
                    <a:pt x="2199" y="1580"/>
                  </a:lnTo>
                  <a:lnTo>
                    <a:pt x="2183" y="1525"/>
                  </a:lnTo>
                  <a:lnTo>
                    <a:pt x="2159" y="1453"/>
                  </a:lnTo>
                  <a:lnTo>
                    <a:pt x="2122" y="1413"/>
                  </a:lnTo>
                  <a:lnTo>
                    <a:pt x="2122" y="1369"/>
                  </a:lnTo>
                  <a:lnTo>
                    <a:pt x="2092" y="1374"/>
                  </a:lnTo>
                  <a:lnTo>
                    <a:pt x="2099" y="1446"/>
                  </a:lnTo>
                  <a:lnTo>
                    <a:pt x="2131" y="1505"/>
                  </a:lnTo>
                  <a:lnTo>
                    <a:pt x="2131" y="1549"/>
                  </a:lnTo>
                  <a:lnTo>
                    <a:pt x="2178" y="1577"/>
                  </a:lnTo>
                  <a:lnTo>
                    <a:pt x="2199" y="1612"/>
                  </a:lnTo>
                  <a:lnTo>
                    <a:pt x="2246" y="1592"/>
                  </a:lnTo>
                  <a:lnTo>
                    <a:pt x="2286" y="1589"/>
                  </a:lnTo>
                  <a:lnTo>
                    <a:pt x="2337" y="1568"/>
                  </a:lnTo>
                  <a:lnTo>
                    <a:pt x="2314" y="1628"/>
                  </a:lnTo>
                  <a:lnTo>
                    <a:pt x="2274" y="1711"/>
                  </a:lnTo>
                  <a:lnTo>
                    <a:pt x="2246" y="1762"/>
                  </a:lnTo>
                  <a:lnTo>
                    <a:pt x="2206" y="1807"/>
                  </a:lnTo>
                  <a:lnTo>
                    <a:pt x="2183" y="1851"/>
                  </a:lnTo>
                  <a:lnTo>
                    <a:pt x="2174" y="1942"/>
                  </a:lnTo>
                  <a:lnTo>
                    <a:pt x="2167" y="2009"/>
                  </a:lnTo>
                  <a:lnTo>
                    <a:pt x="2171" y="2070"/>
                  </a:lnTo>
                  <a:lnTo>
                    <a:pt x="2178" y="2129"/>
                  </a:lnTo>
                  <a:lnTo>
                    <a:pt x="2178" y="2145"/>
                  </a:lnTo>
                  <a:lnTo>
                    <a:pt x="2218" y="2141"/>
                  </a:lnTo>
                  <a:lnTo>
                    <a:pt x="2222" y="2089"/>
                  </a:lnTo>
                  <a:lnTo>
                    <a:pt x="2267" y="2037"/>
                  </a:lnTo>
                  <a:lnTo>
                    <a:pt x="2309" y="2009"/>
                  </a:lnTo>
                  <a:lnTo>
                    <a:pt x="2318" y="2065"/>
                  </a:lnTo>
                  <a:lnTo>
                    <a:pt x="2314" y="2117"/>
                  </a:lnTo>
                  <a:lnTo>
                    <a:pt x="2290" y="2145"/>
                  </a:lnTo>
                  <a:lnTo>
                    <a:pt x="2293" y="2177"/>
                  </a:lnTo>
                  <a:lnTo>
                    <a:pt x="2278" y="2244"/>
                  </a:lnTo>
                  <a:lnTo>
                    <a:pt x="2269" y="2281"/>
                  </a:lnTo>
                  <a:lnTo>
                    <a:pt x="2242" y="2292"/>
                  </a:lnTo>
                  <a:lnTo>
                    <a:pt x="2211" y="2255"/>
                  </a:lnTo>
                  <a:lnTo>
                    <a:pt x="2222" y="2201"/>
                  </a:lnTo>
                  <a:lnTo>
                    <a:pt x="2234" y="2180"/>
                  </a:lnTo>
                  <a:lnTo>
                    <a:pt x="2214" y="2145"/>
                  </a:lnTo>
                  <a:lnTo>
                    <a:pt x="2174" y="2149"/>
                  </a:lnTo>
                  <a:lnTo>
                    <a:pt x="2162" y="2197"/>
                  </a:lnTo>
                  <a:lnTo>
                    <a:pt x="2106" y="2225"/>
                  </a:lnTo>
                  <a:lnTo>
                    <a:pt x="2071" y="2255"/>
                  </a:lnTo>
                  <a:lnTo>
                    <a:pt x="2075" y="2307"/>
                  </a:lnTo>
                  <a:lnTo>
                    <a:pt x="2071" y="2375"/>
                  </a:lnTo>
                  <a:lnTo>
                    <a:pt x="2055" y="2438"/>
                  </a:lnTo>
                  <a:lnTo>
                    <a:pt x="1980" y="2515"/>
                  </a:lnTo>
                  <a:lnTo>
                    <a:pt x="1945" y="2518"/>
                  </a:lnTo>
                  <a:lnTo>
                    <a:pt x="1917" y="2471"/>
                  </a:lnTo>
                  <a:lnTo>
                    <a:pt x="1872" y="2438"/>
                  </a:lnTo>
                  <a:lnTo>
                    <a:pt x="1849" y="2423"/>
                  </a:lnTo>
                  <a:lnTo>
                    <a:pt x="1805" y="2332"/>
                  </a:lnTo>
                  <a:lnTo>
                    <a:pt x="1765" y="2283"/>
                  </a:lnTo>
                  <a:lnTo>
                    <a:pt x="1733" y="2236"/>
                  </a:lnTo>
                  <a:lnTo>
                    <a:pt x="1717" y="2192"/>
                  </a:lnTo>
                  <a:lnTo>
                    <a:pt x="1714" y="2129"/>
                  </a:lnTo>
                  <a:lnTo>
                    <a:pt x="1677" y="2089"/>
                  </a:lnTo>
                  <a:lnTo>
                    <a:pt x="1665" y="2049"/>
                  </a:lnTo>
                  <a:lnTo>
                    <a:pt x="1690" y="1998"/>
                  </a:lnTo>
                  <a:lnTo>
                    <a:pt x="1690" y="1950"/>
                  </a:lnTo>
                  <a:lnTo>
                    <a:pt x="1653" y="1926"/>
                  </a:lnTo>
                  <a:lnTo>
                    <a:pt x="1597" y="1914"/>
                  </a:lnTo>
                  <a:lnTo>
                    <a:pt x="1555" y="1898"/>
                  </a:lnTo>
                  <a:lnTo>
                    <a:pt x="1530" y="1914"/>
                  </a:lnTo>
                  <a:lnTo>
                    <a:pt x="1490" y="1926"/>
                  </a:lnTo>
                  <a:lnTo>
                    <a:pt x="1455" y="1898"/>
                  </a:lnTo>
                  <a:lnTo>
                    <a:pt x="1422" y="1866"/>
                  </a:lnTo>
                  <a:lnTo>
                    <a:pt x="1380" y="1858"/>
                  </a:lnTo>
                  <a:lnTo>
                    <a:pt x="1336" y="1835"/>
                  </a:lnTo>
                  <a:lnTo>
                    <a:pt x="1296" y="1802"/>
                  </a:lnTo>
                  <a:lnTo>
                    <a:pt x="1284" y="1727"/>
                  </a:lnTo>
                  <a:lnTo>
                    <a:pt x="1280" y="1676"/>
                  </a:lnTo>
                  <a:lnTo>
                    <a:pt x="1315" y="1643"/>
                  </a:lnTo>
                  <a:lnTo>
                    <a:pt x="1312" y="1608"/>
                  </a:lnTo>
                  <a:lnTo>
                    <a:pt x="1300" y="1544"/>
                  </a:lnTo>
                  <a:lnTo>
                    <a:pt x="1303" y="1485"/>
                  </a:lnTo>
                  <a:lnTo>
                    <a:pt x="1296" y="1430"/>
                  </a:lnTo>
                  <a:lnTo>
                    <a:pt x="1336" y="1381"/>
                  </a:lnTo>
                  <a:lnTo>
                    <a:pt x="1368" y="1354"/>
                  </a:lnTo>
                  <a:lnTo>
                    <a:pt x="1403" y="1346"/>
                  </a:lnTo>
                  <a:lnTo>
                    <a:pt x="1392" y="1303"/>
                  </a:lnTo>
                  <a:lnTo>
                    <a:pt x="1415" y="1263"/>
                  </a:lnTo>
                  <a:lnTo>
                    <a:pt x="1450" y="1238"/>
                  </a:lnTo>
                  <a:lnTo>
                    <a:pt x="1495" y="1259"/>
                  </a:lnTo>
                  <a:lnTo>
                    <a:pt x="1550" y="1275"/>
                  </a:lnTo>
                  <a:lnTo>
                    <a:pt x="1606" y="1263"/>
                  </a:lnTo>
                  <a:lnTo>
                    <a:pt x="1658" y="1263"/>
                  </a:lnTo>
                  <a:lnTo>
                    <a:pt x="1681" y="1266"/>
                  </a:lnTo>
                  <a:lnTo>
                    <a:pt x="1693" y="1318"/>
                  </a:lnTo>
                  <a:lnTo>
                    <a:pt x="1742" y="1326"/>
                  </a:lnTo>
                  <a:lnTo>
                    <a:pt x="1789" y="1343"/>
                  </a:lnTo>
                  <a:lnTo>
                    <a:pt x="1817" y="1338"/>
                  </a:lnTo>
                  <a:lnTo>
                    <a:pt x="1837" y="1306"/>
                  </a:lnTo>
                  <a:lnTo>
                    <a:pt x="1852" y="1282"/>
                  </a:lnTo>
                  <a:lnTo>
                    <a:pt x="1896" y="1294"/>
                  </a:lnTo>
                  <a:lnTo>
                    <a:pt x="1947" y="1318"/>
                  </a:lnTo>
                  <a:lnTo>
                    <a:pt x="2003" y="1326"/>
                  </a:lnTo>
                  <a:lnTo>
                    <a:pt x="2043" y="1329"/>
                  </a:lnTo>
                  <a:lnTo>
                    <a:pt x="2092" y="1326"/>
                  </a:lnTo>
                  <a:lnTo>
                    <a:pt x="2122" y="1294"/>
                  </a:lnTo>
                  <a:lnTo>
                    <a:pt x="2139" y="1251"/>
                  </a:lnTo>
                  <a:lnTo>
                    <a:pt x="2159" y="1214"/>
                  </a:lnTo>
                  <a:lnTo>
                    <a:pt x="2139" y="1203"/>
                  </a:lnTo>
                  <a:lnTo>
                    <a:pt x="2115" y="1175"/>
                  </a:lnTo>
                  <a:lnTo>
                    <a:pt x="2087" y="1183"/>
                  </a:lnTo>
                  <a:lnTo>
                    <a:pt x="2036" y="1183"/>
                  </a:lnTo>
                  <a:lnTo>
                    <a:pt x="1999" y="1167"/>
                  </a:lnTo>
                  <a:lnTo>
                    <a:pt x="1996" y="1127"/>
                  </a:lnTo>
                  <a:lnTo>
                    <a:pt x="1980" y="1116"/>
                  </a:lnTo>
                  <a:lnTo>
                    <a:pt x="1959" y="1127"/>
                  </a:lnTo>
                  <a:lnTo>
                    <a:pt x="1968" y="1167"/>
                  </a:lnTo>
                  <a:lnTo>
                    <a:pt x="1952" y="1198"/>
                  </a:lnTo>
                  <a:lnTo>
                    <a:pt x="1912" y="1195"/>
                  </a:lnTo>
                  <a:lnTo>
                    <a:pt x="1892" y="1163"/>
                  </a:lnTo>
                  <a:lnTo>
                    <a:pt x="1880" y="1123"/>
                  </a:lnTo>
                  <a:lnTo>
                    <a:pt x="1880" y="1076"/>
                  </a:lnTo>
                  <a:lnTo>
                    <a:pt x="1856" y="1055"/>
                  </a:lnTo>
                  <a:lnTo>
                    <a:pt x="1845" y="1088"/>
                  </a:lnTo>
                  <a:lnTo>
                    <a:pt x="1849" y="1127"/>
                  </a:lnTo>
                  <a:lnTo>
                    <a:pt x="1864" y="1160"/>
                  </a:lnTo>
                  <a:lnTo>
                    <a:pt x="1892" y="1186"/>
                  </a:lnTo>
                  <a:lnTo>
                    <a:pt x="1864" y="1223"/>
                  </a:lnTo>
                  <a:lnTo>
                    <a:pt x="1837" y="1247"/>
                  </a:lnTo>
                  <a:lnTo>
                    <a:pt x="1800" y="1238"/>
                  </a:lnTo>
                  <a:lnTo>
                    <a:pt x="1800" y="1266"/>
                  </a:lnTo>
                  <a:lnTo>
                    <a:pt x="1772" y="1290"/>
                  </a:lnTo>
                  <a:lnTo>
                    <a:pt x="1737" y="1247"/>
                  </a:lnTo>
                  <a:lnTo>
                    <a:pt x="1742" y="1219"/>
                  </a:lnTo>
                  <a:lnTo>
                    <a:pt x="1784" y="1238"/>
                  </a:lnTo>
                  <a:lnTo>
                    <a:pt x="1812" y="1238"/>
                  </a:lnTo>
                  <a:lnTo>
                    <a:pt x="1849" y="1211"/>
                  </a:lnTo>
                  <a:lnTo>
                    <a:pt x="1837" y="1167"/>
                  </a:lnTo>
                  <a:lnTo>
                    <a:pt x="1805" y="1139"/>
                  </a:lnTo>
                  <a:lnTo>
                    <a:pt x="1772" y="1116"/>
                  </a:lnTo>
                  <a:lnTo>
                    <a:pt x="1737" y="1080"/>
                  </a:lnTo>
                  <a:lnTo>
                    <a:pt x="1697" y="1044"/>
                  </a:lnTo>
                  <a:lnTo>
                    <a:pt x="1697" y="1088"/>
                  </a:lnTo>
                  <a:lnTo>
                    <a:pt x="1725" y="1120"/>
                  </a:lnTo>
                  <a:lnTo>
                    <a:pt x="1717" y="1167"/>
                  </a:lnTo>
                  <a:lnTo>
                    <a:pt x="1717" y="1211"/>
                  </a:lnTo>
                  <a:lnTo>
                    <a:pt x="1677" y="1179"/>
                  </a:lnTo>
                  <a:lnTo>
                    <a:pt x="1670" y="1147"/>
                  </a:lnTo>
                  <a:lnTo>
                    <a:pt x="1690" y="1123"/>
                  </a:lnTo>
                  <a:lnTo>
                    <a:pt x="1681" y="1095"/>
                  </a:lnTo>
                  <a:lnTo>
                    <a:pt x="1702" y="1083"/>
                  </a:lnTo>
                  <a:lnTo>
                    <a:pt x="1702" y="1044"/>
                  </a:lnTo>
                  <a:lnTo>
                    <a:pt x="1670" y="1052"/>
                  </a:lnTo>
                  <a:lnTo>
                    <a:pt x="1642" y="1088"/>
                  </a:lnTo>
                  <a:lnTo>
                    <a:pt x="1606" y="1080"/>
                  </a:lnTo>
                  <a:lnTo>
                    <a:pt x="1555" y="1104"/>
                  </a:lnTo>
                  <a:lnTo>
                    <a:pt x="1546" y="1155"/>
                  </a:lnTo>
                  <a:lnTo>
                    <a:pt x="1502" y="1186"/>
                  </a:lnTo>
                  <a:lnTo>
                    <a:pt x="1455" y="1214"/>
                  </a:lnTo>
                  <a:lnTo>
                    <a:pt x="1411" y="1219"/>
                  </a:lnTo>
                  <a:lnTo>
                    <a:pt x="1368" y="1203"/>
                  </a:lnTo>
                  <a:lnTo>
                    <a:pt x="1340" y="1179"/>
                  </a:lnTo>
                  <a:lnTo>
                    <a:pt x="1359" y="1155"/>
                  </a:lnTo>
                  <a:lnTo>
                    <a:pt x="1340" y="1120"/>
                  </a:lnTo>
                  <a:lnTo>
                    <a:pt x="1371" y="1092"/>
                  </a:lnTo>
                  <a:lnTo>
                    <a:pt x="1375" y="1060"/>
                  </a:lnTo>
                  <a:lnTo>
                    <a:pt x="1375" y="1017"/>
                  </a:lnTo>
                  <a:lnTo>
                    <a:pt x="1415" y="977"/>
                  </a:lnTo>
                  <a:lnTo>
                    <a:pt x="1475" y="996"/>
                  </a:lnTo>
                  <a:lnTo>
                    <a:pt x="1539" y="1008"/>
                  </a:lnTo>
                  <a:lnTo>
                    <a:pt x="1562" y="980"/>
                  </a:lnTo>
                  <a:lnTo>
                    <a:pt x="1562" y="937"/>
                  </a:lnTo>
                  <a:lnTo>
                    <a:pt x="1534" y="905"/>
                  </a:lnTo>
                  <a:lnTo>
                    <a:pt x="1483" y="881"/>
                  </a:lnTo>
                  <a:lnTo>
                    <a:pt x="1511" y="861"/>
                  </a:lnTo>
                  <a:lnTo>
                    <a:pt x="1558" y="842"/>
                  </a:lnTo>
                  <a:lnTo>
                    <a:pt x="1567" y="834"/>
                  </a:lnTo>
                  <a:lnTo>
                    <a:pt x="1555" y="825"/>
                  </a:lnTo>
                  <a:lnTo>
                    <a:pt x="1515" y="834"/>
                  </a:lnTo>
                  <a:lnTo>
                    <a:pt x="1475" y="842"/>
                  </a:lnTo>
                  <a:lnTo>
                    <a:pt x="1450" y="849"/>
                  </a:lnTo>
                  <a:lnTo>
                    <a:pt x="1467" y="821"/>
                  </a:lnTo>
                  <a:lnTo>
                    <a:pt x="1475" y="778"/>
                  </a:lnTo>
                  <a:lnTo>
                    <a:pt x="1490" y="758"/>
                  </a:lnTo>
                  <a:lnTo>
                    <a:pt x="1499" y="730"/>
                  </a:lnTo>
                  <a:lnTo>
                    <a:pt x="1478" y="699"/>
                  </a:lnTo>
                  <a:lnTo>
                    <a:pt x="1450" y="718"/>
                  </a:lnTo>
                  <a:lnTo>
                    <a:pt x="1455" y="755"/>
                  </a:lnTo>
                  <a:lnTo>
                    <a:pt x="1450" y="786"/>
                  </a:lnTo>
                  <a:lnTo>
                    <a:pt x="1431" y="834"/>
                  </a:lnTo>
                  <a:lnTo>
                    <a:pt x="1392" y="825"/>
                  </a:lnTo>
                  <a:lnTo>
                    <a:pt x="1380" y="786"/>
                  </a:lnTo>
                  <a:lnTo>
                    <a:pt x="1355" y="739"/>
                  </a:lnTo>
                  <a:lnTo>
                    <a:pt x="1403" y="730"/>
                  </a:lnTo>
                  <a:lnTo>
                    <a:pt x="1420" y="715"/>
                  </a:lnTo>
                  <a:lnTo>
                    <a:pt x="1439" y="703"/>
                  </a:lnTo>
                  <a:lnTo>
                    <a:pt x="1439" y="683"/>
                  </a:lnTo>
                  <a:lnTo>
                    <a:pt x="1427" y="651"/>
                  </a:lnTo>
                  <a:lnTo>
                    <a:pt x="1462" y="630"/>
                  </a:lnTo>
                  <a:lnTo>
                    <a:pt x="1499" y="611"/>
                  </a:lnTo>
                  <a:lnTo>
                    <a:pt x="1522" y="626"/>
                  </a:lnTo>
                  <a:lnTo>
                    <a:pt x="1534" y="671"/>
                  </a:lnTo>
                  <a:lnTo>
                    <a:pt x="1550" y="718"/>
                  </a:lnTo>
                  <a:lnTo>
                    <a:pt x="1574" y="743"/>
                  </a:lnTo>
                  <a:lnTo>
                    <a:pt x="1586" y="786"/>
                  </a:lnTo>
                  <a:lnTo>
                    <a:pt x="1567" y="814"/>
                  </a:lnTo>
                  <a:lnTo>
                    <a:pt x="1562" y="837"/>
                  </a:lnTo>
                  <a:lnTo>
                    <a:pt x="1597" y="825"/>
                  </a:lnTo>
                  <a:lnTo>
                    <a:pt x="1637" y="806"/>
                  </a:lnTo>
                  <a:lnTo>
                    <a:pt x="1653" y="755"/>
                  </a:lnTo>
                  <a:lnTo>
                    <a:pt x="1693" y="755"/>
                  </a:lnTo>
                  <a:lnTo>
                    <a:pt x="1714" y="739"/>
                  </a:lnTo>
                  <a:lnTo>
                    <a:pt x="1709" y="699"/>
                  </a:lnTo>
                  <a:lnTo>
                    <a:pt x="1690" y="659"/>
                  </a:lnTo>
                  <a:lnTo>
                    <a:pt x="1725" y="659"/>
                  </a:lnTo>
                  <a:lnTo>
                    <a:pt x="1765" y="699"/>
                  </a:lnTo>
                  <a:lnTo>
                    <a:pt x="1800" y="730"/>
                  </a:lnTo>
                  <a:lnTo>
                    <a:pt x="1828" y="730"/>
                  </a:lnTo>
                  <a:lnTo>
                    <a:pt x="1877" y="715"/>
                  </a:lnTo>
                  <a:lnTo>
                    <a:pt x="1908" y="663"/>
                  </a:lnTo>
                  <a:lnTo>
                    <a:pt x="1924" y="626"/>
                  </a:lnTo>
                  <a:lnTo>
                    <a:pt x="1996" y="642"/>
                  </a:lnTo>
                  <a:lnTo>
                    <a:pt x="1936" y="606"/>
                  </a:lnTo>
                  <a:lnTo>
                    <a:pt x="1892" y="611"/>
                  </a:lnTo>
                  <a:lnTo>
                    <a:pt x="1880" y="555"/>
                  </a:lnTo>
                  <a:lnTo>
                    <a:pt x="1880" y="522"/>
                  </a:lnTo>
                  <a:lnTo>
                    <a:pt x="1931" y="508"/>
                  </a:lnTo>
                  <a:lnTo>
                    <a:pt x="1945" y="475"/>
                  </a:lnTo>
                  <a:lnTo>
                    <a:pt x="1908" y="492"/>
                  </a:lnTo>
                  <a:lnTo>
                    <a:pt x="1864" y="520"/>
                  </a:lnTo>
                  <a:lnTo>
                    <a:pt x="1821" y="522"/>
                  </a:lnTo>
                  <a:lnTo>
                    <a:pt x="1845" y="574"/>
                  </a:lnTo>
                  <a:lnTo>
                    <a:pt x="1837" y="618"/>
                  </a:lnTo>
                  <a:lnTo>
                    <a:pt x="1837" y="654"/>
                  </a:lnTo>
                  <a:lnTo>
                    <a:pt x="1805" y="683"/>
                  </a:lnTo>
                  <a:lnTo>
                    <a:pt x="1770" y="690"/>
                  </a:lnTo>
                  <a:lnTo>
                    <a:pt x="1742" y="659"/>
                  </a:lnTo>
                  <a:lnTo>
                    <a:pt x="1745" y="626"/>
                  </a:lnTo>
                  <a:lnTo>
                    <a:pt x="1753" y="606"/>
                  </a:lnTo>
                  <a:lnTo>
                    <a:pt x="1714" y="618"/>
                  </a:lnTo>
                  <a:lnTo>
                    <a:pt x="1674" y="598"/>
                  </a:lnTo>
                  <a:lnTo>
                    <a:pt x="1653" y="571"/>
                  </a:lnTo>
                  <a:lnTo>
                    <a:pt x="1665" y="522"/>
                  </a:lnTo>
                  <a:lnTo>
                    <a:pt x="1658" y="520"/>
                  </a:lnTo>
                  <a:lnTo>
                    <a:pt x="1665" y="515"/>
                  </a:lnTo>
                  <a:lnTo>
                    <a:pt x="1670" y="511"/>
                  </a:lnTo>
                  <a:lnTo>
                    <a:pt x="1205" y="511"/>
                  </a:lnTo>
                  <a:lnTo>
                    <a:pt x="1180" y="539"/>
                  </a:lnTo>
                  <a:lnTo>
                    <a:pt x="1140" y="562"/>
                  </a:lnTo>
                  <a:lnTo>
                    <a:pt x="1100" y="546"/>
                  </a:lnTo>
                  <a:lnTo>
                    <a:pt x="1089" y="520"/>
                  </a:lnTo>
                  <a:lnTo>
                    <a:pt x="1089" y="487"/>
                  </a:lnTo>
                  <a:lnTo>
                    <a:pt x="1093" y="483"/>
                  </a:lnTo>
                  <a:lnTo>
                    <a:pt x="998" y="483"/>
                  </a:lnTo>
                  <a:lnTo>
                    <a:pt x="965" y="487"/>
                  </a:lnTo>
                  <a:lnTo>
                    <a:pt x="939" y="546"/>
                  </a:lnTo>
                  <a:lnTo>
                    <a:pt x="923" y="590"/>
                  </a:lnTo>
                  <a:lnTo>
                    <a:pt x="911" y="630"/>
                  </a:lnTo>
                  <a:lnTo>
                    <a:pt x="861" y="618"/>
                  </a:lnTo>
                  <a:lnTo>
                    <a:pt x="830" y="590"/>
                  </a:lnTo>
                  <a:lnTo>
                    <a:pt x="826" y="522"/>
                  </a:lnTo>
                  <a:lnTo>
                    <a:pt x="805" y="455"/>
                  </a:lnTo>
                  <a:lnTo>
                    <a:pt x="777" y="416"/>
                  </a:lnTo>
                  <a:lnTo>
                    <a:pt x="791" y="391"/>
                  </a:lnTo>
                  <a:lnTo>
                    <a:pt x="763" y="332"/>
                  </a:lnTo>
                  <a:lnTo>
                    <a:pt x="738" y="312"/>
                  </a:lnTo>
                  <a:lnTo>
                    <a:pt x="707" y="337"/>
                  </a:lnTo>
                  <a:lnTo>
                    <a:pt x="663" y="309"/>
                  </a:lnTo>
                  <a:lnTo>
                    <a:pt x="635" y="328"/>
                  </a:lnTo>
                  <a:lnTo>
                    <a:pt x="616" y="349"/>
                  </a:lnTo>
                  <a:lnTo>
                    <a:pt x="560" y="363"/>
                  </a:lnTo>
                  <a:lnTo>
                    <a:pt x="527" y="403"/>
                  </a:lnTo>
                  <a:lnTo>
                    <a:pt x="591" y="412"/>
                  </a:lnTo>
                  <a:lnTo>
                    <a:pt x="647" y="436"/>
                  </a:lnTo>
                  <a:lnTo>
                    <a:pt x="670" y="475"/>
                  </a:lnTo>
                  <a:lnTo>
                    <a:pt x="707" y="515"/>
                  </a:lnTo>
                  <a:lnTo>
                    <a:pt x="710" y="578"/>
                  </a:lnTo>
                  <a:lnTo>
                    <a:pt x="698" y="642"/>
                  </a:lnTo>
                  <a:lnTo>
                    <a:pt x="663" y="659"/>
                  </a:lnTo>
                  <a:lnTo>
                    <a:pt x="623" y="618"/>
                  </a:lnTo>
                  <a:lnTo>
                    <a:pt x="548" y="614"/>
                  </a:lnTo>
                  <a:lnTo>
                    <a:pt x="548" y="586"/>
                  </a:lnTo>
                  <a:lnTo>
                    <a:pt x="616" y="571"/>
                  </a:lnTo>
                  <a:lnTo>
                    <a:pt x="619" y="534"/>
                  </a:lnTo>
                  <a:lnTo>
                    <a:pt x="611" y="520"/>
                  </a:lnTo>
                  <a:lnTo>
                    <a:pt x="588" y="555"/>
                  </a:lnTo>
                  <a:lnTo>
                    <a:pt x="555" y="527"/>
                  </a:lnTo>
                  <a:lnTo>
                    <a:pt x="599" y="492"/>
                  </a:lnTo>
                  <a:lnTo>
                    <a:pt x="623" y="522"/>
                  </a:lnTo>
                  <a:lnTo>
                    <a:pt x="588" y="487"/>
                  </a:lnTo>
                  <a:lnTo>
                    <a:pt x="548" y="487"/>
                  </a:lnTo>
                  <a:lnTo>
                    <a:pt x="520" y="515"/>
                  </a:lnTo>
                  <a:lnTo>
                    <a:pt x="523" y="555"/>
                  </a:lnTo>
                  <a:lnTo>
                    <a:pt x="523" y="606"/>
                  </a:lnTo>
                  <a:lnTo>
                    <a:pt x="516" y="646"/>
                  </a:lnTo>
                  <a:lnTo>
                    <a:pt x="523" y="687"/>
                  </a:lnTo>
                  <a:lnTo>
                    <a:pt x="483" y="654"/>
                  </a:lnTo>
                  <a:lnTo>
                    <a:pt x="469" y="678"/>
                  </a:lnTo>
                  <a:lnTo>
                    <a:pt x="452" y="651"/>
                  </a:lnTo>
                  <a:lnTo>
                    <a:pt x="469" y="611"/>
                  </a:lnTo>
                  <a:lnTo>
                    <a:pt x="432" y="626"/>
                  </a:lnTo>
                  <a:lnTo>
                    <a:pt x="413" y="659"/>
                  </a:lnTo>
                  <a:lnTo>
                    <a:pt x="385" y="690"/>
                  </a:lnTo>
                  <a:lnTo>
                    <a:pt x="385" y="722"/>
                  </a:lnTo>
                  <a:lnTo>
                    <a:pt x="341" y="722"/>
                  </a:lnTo>
                  <a:lnTo>
                    <a:pt x="324" y="743"/>
                  </a:lnTo>
                  <a:lnTo>
                    <a:pt x="341" y="795"/>
                  </a:lnTo>
                  <a:lnTo>
                    <a:pt x="388" y="821"/>
                  </a:lnTo>
                  <a:lnTo>
                    <a:pt x="413" y="842"/>
                  </a:lnTo>
                  <a:lnTo>
                    <a:pt x="408" y="889"/>
                  </a:lnTo>
                  <a:lnTo>
                    <a:pt x="441" y="877"/>
                  </a:lnTo>
                  <a:lnTo>
                    <a:pt x="444" y="834"/>
                  </a:lnTo>
                  <a:lnTo>
                    <a:pt x="495" y="834"/>
                  </a:lnTo>
                  <a:lnTo>
                    <a:pt x="527" y="795"/>
                  </a:lnTo>
                  <a:lnTo>
                    <a:pt x="532" y="755"/>
                  </a:lnTo>
                  <a:lnTo>
                    <a:pt x="527" y="683"/>
                  </a:lnTo>
                  <a:lnTo>
                    <a:pt x="548" y="634"/>
                  </a:lnTo>
                  <a:lnTo>
                    <a:pt x="576" y="606"/>
                  </a:lnTo>
                  <a:lnTo>
                    <a:pt x="619" y="630"/>
                  </a:lnTo>
                  <a:lnTo>
                    <a:pt x="667" y="659"/>
                  </a:lnTo>
                  <a:lnTo>
                    <a:pt x="695" y="683"/>
                  </a:lnTo>
                  <a:lnTo>
                    <a:pt x="719" y="722"/>
                  </a:lnTo>
                  <a:lnTo>
                    <a:pt x="754" y="743"/>
                  </a:lnTo>
                  <a:lnTo>
                    <a:pt x="766" y="795"/>
                  </a:lnTo>
                  <a:lnTo>
                    <a:pt x="770" y="825"/>
                  </a:lnTo>
                  <a:lnTo>
                    <a:pt x="805" y="858"/>
                  </a:lnTo>
                  <a:lnTo>
                    <a:pt x="777" y="893"/>
                  </a:lnTo>
                  <a:lnTo>
                    <a:pt x="735" y="893"/>
                  </a:lnTo>
                  <a:lnTo>
                    <a:pt x="683" y="917"/>
                  </a:lnTo>
                  <a:lnTo>
                    <a:pt x="647" y="945"/>
                  </a:lnTo>
                  <a:lnTo>
                    <a:pt x="591" y="973"/>
                  </a:lnTo>
                  <a:lnTo>
                    <a:pt x="548" y="1017"/>
                  </a:lnTo>
                  <a:lnTo>
                    <a:pt x="504" y="1052"/>
                  </a:lnTo>
                  <a:lnTo>
                    <a:pt x="495" y="1088"/>
                  </a:lnTo>
                  <a:lnTo>
                    <a:pt x="495" y="1116"/>
                  </a:lnTo>
                  <a:lnTo>
                    <a:pt x="469" y="1144"/>
                  </a:lnTo>
                  <a:lnTo>
                    <a:pt x="472" y="1175"/>
                  </a:lnTo>
                  <a:lnTo>
                    <a:pt x="436" y="1214"/>
                  </a:lnTo>
                  <a:lnTo>
                    <a:pt x="436" y="1263"/>
                  </a:lnTo>
                  <a:lnTo>
                    <a:pt x="455" y="1303"/>
                  </a:lnTo>
                  <a:lnTo>
                    <a:pt x="444" y="1334"/>
                  </a:lnTo>
                  <a:lnTo>
                    <a:pt x="408" y="1318"/>
                  </a:lnTo>
                  <a:lnTo>
                    <a:pt x="401" y="1263"/>
                  </a:lnTo>
                  <a:lnTo>
                    <a:pt x="364" y="1238"/>
                  </a:lnTo>
                  <a:lnTo>
                    <a:pt x="336" y="1247"/>
                  </a:lnTo>
                  <a:lnTo>
                    <a:pt x="317" y="1282"/>
                  </a:lnTo>
                  <a:lnTo>
                    <a:pt x="280" y="1263"/>
                  </a:lnTo>
                  <a:lnTo>
                    <a:pt x="245" y="1263"/>
                  </a:lnTo>
                  <a:lnTo>
                    <a:pt x="205" y="1298"/>
                  </a:lnTo>
                  <a:lnTo>
                    <a:pt x="194" y="1334"/>
                  </a:lnTo>
                  <a:lnTo>
                    <a:pt x="182" y="1369"/>
                  </a:lnTo>
                  <a:lnTo>
                    <a:pt x="173" y="1425"/>
                  </a:lnTo>
                  <a:lnTo>
                    <a:pt x="205" y="1460"/>
                  </a:lnTo>
                  <a:lnTo>
                    <a:pt x="238" y="1434"/>
                  </a:lnTo>
                  <a:lnTo>
                    <a:pt x="277" y="1434"/>
                  </a:lnTo>
                  <a:lnTo>
                    <a:pt x="280" y="1481"/>
                  </a:lnTo>
                  <a:lnTo>
                    <a:pt x="257" y="1512"/>
                  </a:lnTo>
                  <a:lnTo>
                    <a:pt x="305" y="1521"/>
                  </a:lnTo>
                  <a:lnTo>
                    <a:pt x="324" y="1533"/>
                  </a:lnTo>
                  <a:lnTo>
                    <a:pt x="336" y="1577"/>
                  </a:lnTo>
                  <a:lnTo>
                    <a:pt x="376" y="1592"/>
                  </a:lnTo>
                  <a:lnTo>
                    <a:pt x="420" y="1628"/>
                  </a:lnTo>
                  <a:lnTo>
                    <a:pt x="452" y="1608"/>
                  </a:lnTo>
                  <a:lnTo>
                    <a:pt x="523" y="1628"/>
                  </a:lnTo>
                  <a:lnTo>
                    <a:pt x="579" y="1631"/>
                  </a:lnTo>
                  <a:lnTo>
                    <a:pt x="658" y="1676"/>
                  </a:lnTo>
                  <a:lnTo>
                    <a:pt x="670" y="1711"/>
                  </a:lnTo>
                  <a:lnTo>
                    <a:pt x="719" y="1751"/>
                  </a:lnTo>
                  <a:lnTo>
                    <a:pt x="742" y="1807"/>
                  </a:lnTo>
                  <a:lnTo>
                    <a:pt x="798" y="1835"/>
                  </a:lnTo>
                  <a:lnTo>
                    <a:pt x="845" y="1842"/>
                  </a:lnTo>
                  <a:lnTo>
                    <a:pt x="898" y="1889"/>
                  </a:lnTo>
                  <a:lnTo>
                    <a:pt x="962" y="1889"/>
                  </a:lnTo>
                  <a:lnTo>
                    <a:pt x="965" y="1929"/>
                  </a:lnTo>
                  <a:lnTo>
                    <a:pt x="965" y="1969"/>
                  </a:lnTo>
                  <a:lnTo>
                    <a:pt x="939" y="2009"/>
                  </a:lnTo>
                  <a:lnTo>
                    <a:pt x="930" y="2058"/>
                  </a:lnTo>
                  <a:lnTo>
                    <a:pt x="923" y="2110"/>
                  </a:lnTo>
                  <a:lnTo>
                    <a:pt x="885" y="2157"/>
                  </a:lnTo>
                  <a:lnTo>
                    <a:pt x="838" y="2185"/>
                  </a:lnTo>
                  <a:lnTo>
                    <a:pt x="794" y="2192"/>
                  </a:lnTo>
                  <a:lnTo>
                    <a:pt x="810" y="2232"/>
                  </a:lnTo>
                  <a:lnTo>
                    <a:pt x="770" y="2281"/>
                  </a:lnTo>
                  <a:lnTo>
                    <a:pt x="738" y="2320"/>
                  </a:lnTo>
                  <a:lnTo>
                    <a:pt x="698" y="2344"/>
                  </a:lnTo>
                  <a:lnTo>
                    <a:pt x="663" y="2403"/>
                  </a:lnTo>
                  <a:lnTo>
                    <a:pt x="635" y="2443"/>
                  </a:lnTo>
                  <a:lnTo>
                    <a:pt x="599" y="2466"/>
                  </a:lnTo>
                  <a:lnTo>
                    <a:pt x="576" y="2503"/>
                  </a:lnTo>
                  <a:lnTo>
                    <a:pt x="555" y="2538"/>
                  </a:lnTo>
                  <a:lnTo>
                    <a:pt x="532" y="2574"/>
                  </a:lnTo>
                  <a:lnTo>
                    <a:pt x="539" y="2606"/>
                  </a:lnTo>
                  <a:lnTo>
                    <a:pt x="520" y="2634"/>
                  </a:lnTo>
                  <a:lnTo>
                    <a:pt x="488" y="2585"/>
                  </a:lnTo>
                  <a:lnTo>
                    <a:pt x="448" y="2546"/>
                  </a:lnTo>
                  <a:lnTo>
                    <a:pt x="436" y="2494"/>
                  </a:lnTo>
                  <a:lnTo>
                    <a:pt x="436" y="2443"/>
                  </a:lnTo>
                  <a:lnTo>
                    <a:pt x="432" y="2387"/>
                  </a:lnTo>
                  <a:lnTo>
                    <a:pt x="448" y="2307"/>
                  </a:lnTo>
                  <a:lnTo>
                    <a:pt x="452" y="2232"/>
                  </a:lnTo>
                  <a:lnTo>
                    <a:pt x="444" y="2161"/>
                  </a:lnTo>
                  <a:lnTo>
                    <a:pt x="432" y="2110"/>
                  </a:lnTo>
                  <a:lnTo>
                    <a:pt x="385" y="2058"/>
                  </a:lnTo>
                  <a:lnTo>
                    <a:pt x="341" y="2018"/>
                  </a:lnTo>
                  <a:lnTo>
                    <a:pt x="305" y="1966"/>
                  </a:lnTo>
                  <a:lnTo>
                    <a:pt x="297" y="1898"/>
                  </a:lnTo>
                  <a:lnTo>
                    <a:pt x="317" y="1854"/>
                  </a:lnTo>
                  <a:lnTo>
                    <a:pt x="317" y="1814"/>
                  </a:lnTo>
                  <a:lnTo>
                    <a:pt x="341" y="1746"/>
                  </a:lnTo>
                  <a:lnTo>
                    <a:pt x="369" y="1695"/>
                  </a:lnTo>
                  <a:lnTo>
                    <a:pt x="408" y="1664"/>
                  </a:lnTo>
                  <a:lnTo>
                    <a:pt x="424" y="1631"/>
                  </a:lnTo>
                  <a:lnTo>
                    <a:pt x="376" y="1620"/>
                  </a:lnTo>
                  <a:lnTo>
                    <a:pt x="345" y="1628"/>
                  </a:lnTo>
                  <a:lnTo>
                    <a:pt x="313" y="1615"/>
                  </a:lnTo>
                  <a:lnTo>
                    <a:pt x="273" y="1584"/>
                  </a:lnTo>
                  <a:lnTo>
                    <a:pt x="233" y="1549"/>
                  </a:lnTo>
                  <a:lnTo>
                    <a:pt x="210" y="1509"/>
                  </a:lnTo>
                  <a:lnTo>
                    <a:pt x="194" y="1500"/>
                  </a:lnTo>
                  <a:lnTo>
                    <a:pt x="170" y="1512"/>
                  </a:lnTo>
                  <a:lnTo>
                    <a:pt x="130" y="1488"/>
                  </a:lnTo>
                  <a:lnTo>
                    <a:pt x="98" y="1453"/>
                  </a:lnTo>
                  <a:lnTo>
                    <a:pt x="86" y="1425"/>
                  </a:lnTo>
                  <a:lnTo>
                    <a:pt x="86" y="1374"/>
                  </a:lnTo>
                  <a:lnTo>
                    <a:pt x="79" y="1346"/>
                  </a:lnTo>
                  <a:lnTo>
                    <a:pt x="42" y="1322"/>
                  </a:lnTo>
                  <a:lnTo>
                    <a:pt x="42" y="1343"/>
                  </a:lnTo>
                  <a:lnTo>
                    <a:pt x="58" y="1378"/>
                  </a:lnTo>
                  <a:lnTo>
                    <a:pt x="66" y="1413"/>
                  </a:lnTo>
                  <a:lnTo>
                    <a:pt x="30" y="1390"/>
                  </a:lnTo>
                  <a:lnTo>
                    <a:pt x="11" y="1366"/>
                  </a:lnTo>
                  <a:lnTo>
                    <a:pt x="2" y="1326"/>
                  </a:lnTo>
                  <a:lnTo>
                    <a:pt x="7" y="1259"/>
                  </a:lnTo>
                  <a:lnTo>
                    <a:pt x="0" y="1179"/>
                  </a:lnTo>
                  <a:lnTo>
                    <a:pt x="7" y="1076"/>
                  </a:lnTo>
                  <a:lnTo>
                    <a:pt x="30" y="917"/>
                  </a:lnTo>
                  <a:lnTo>
                    <a:pt x="82" y="762"/>
                  </a:lnTo>
                  <a:lnTo>
                    <a:pt x="161" y="578"/>
                  </a:lnTo>
                  <a:lnTo>
                    <a:pt x="222" y="452"/>
                  </a:lnTo>
                  <a:lnTo>
                    <a:pt x="313" y="312"/>
                  </a:lnTo>
                  <a:lnTo>
                    <a:pt x="388" y="229"/>
                  </a:lnTo>
                  <a:close/>
                </a:path>
              </a:pathLst>
            </a:custGeom>
            <a:solidFill>
              <a:srgbClr val="315f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rief History of SQL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SQL (Oracle, IBM, Tand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va with SQL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+Sybase, Informix): SQ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QL stored procedures i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QL columns as Jav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Part 0, Part 1, Par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YP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le is like that of create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SQL nam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ield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itional ordering spec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YPE (cont’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752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type add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al name 'Address' language java (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zip    char(10) external name 'zip'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eet varchar(50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external name 'street'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ethod addr() returns add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external name 'Address'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ethod add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(s varchar(50), z char(10)) returns add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external name 'Address'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ethod display() returns varchar(255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external name ‘toString’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class Address2Line extends Address {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tring line2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Address2Line ()    {…}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Address2Lin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(String s, String z, String l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       {…}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tring toString()  {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YP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838080" y="16002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type addr2 under add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al name 'Address2Line' languag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ine2 varchar(100) external name 'line2',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thod addr2() returns addr2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external name 'Address2Line'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thod addr2lin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(s varchar(50), z char(10), s2 char(100)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returns addr2 external name 'Address2Line',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thod display() returns varchar(255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external name 'toString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 Privileg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grant usage on datatype add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o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grant usage on datatype addr2lin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o 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838080" y="311040"/>
            <a:ext cx="784872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Classes as SQL datatyp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3520" y="1676520"/>
            <a:ext cx="8304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table em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(name varchar(30), haddr addr, maddr add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nsert into emps values('Bob Smith'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new Address ('4 X St','99782')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new Address2('POB 99','99678','attn: Bob'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name, haddr.zip, haddr.street, maddr.zi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from em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where haddr.zip &lt;&gt; maddr.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name, haddr.display(), maddr.display(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em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haddr &lt;&gt; m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838080" y="311040"/>
            <a:ext cx="784872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Classes as SQL datatypes (cont’d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 emp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t haddr.zip = '99783'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name = 'Bob Smith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 emp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t haddr = madd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--Normal Java substitutabilit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haddr is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tor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Q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0bd04"/>
                </a:solidFill>
                <a:latin typeface="Arial"/>
                <a:ea typeface="Arial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2120" y="190512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is an ANSI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ndor-neutral, binary por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base-specific features via profile custo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plifies Databas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cise syntax, high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ly checking of static SQ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yped iterators,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SQLJ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tor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Q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(cont’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762120" y="190512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d on Java/J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ug-in components (checker/customiz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beddable (IDE,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sible: profile/runtime custo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tic SQ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ynamic SQL through 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762120" y="190512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rt 0: ANSI Standard since 1998 - now to 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rt 1: just became ANSI standard - later 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rt 2: being sub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DBC 2.0 (JDK 1.2)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uctured and distinc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rollable, updatable resul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tching support for D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(cont’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762120" y="190512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DEs with integrated SQ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tement cach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ll SQL grammar for offlin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ynamic SQ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conformance test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hosted by Sun as part of Java 3.0 E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What do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you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 expect from SQLJ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83808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oracle.com/java/sq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Free 8.0.5 and 7.3.4 versions of SQLJ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documentation and business collate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technet.orac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QLJ discussion 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For developers: get JDeveloper 2.0 T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sqlj@us.oracle.c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rohwedd@us.orac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(cont’d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838080" y="160020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sqlj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Free download of source/binary for Ref. Imp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qlj-ext@eng.su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mail </a:t>
            </a:r>
            <a:r>
              <a:rPr b="1" lang="en-US" sz="2300" spc="-1" strike="noStrike">
                <a:solidFill>
                  <a:srgbClr val="ffffff"/>
                </a:solidFill>
                <a:latin typeface="Courier New"/>
                <a:ea typeface="Courier New"/>
              </a:rPr>
              <a:t>sqlj-ext-requ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QLJ meetings / standardization / tes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B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QLJ chapter in Orfali, Harkey et al.: “Client / Server Programming…”. Others in the work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3008160" y="1066680"/>
            <a:ext cx="3100320" cy="3071880"/>
            <a:chOff x="3008160" y="1066680"/>
            <a:chExt cx="3100320" cy="3071880"/>
          </a:xfrm>
        </p:grpSpPr>
        <p:sp>
          <p:nvSpPr>
            <p:cNvPr id="700" name=""/>
            <p:cNvSpPr/>
            <p:nvPr/>
          </p:nvSpPr>
          <p:spPr>
            <a:xfrm>
              <a:off x="3019320" y="1066680"/>
              <a:ext cx="3089160" cy="307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36960" y="1503360"/>
              <a:ext cx="3043440" cy="2181600"/>
            </a:xfrm>
            <a:custGeom>
              <a:avLst/>
              <a:gdLst/>
              <a:ahLst/>
              <a:rect l="0" t="0" r="r" b="b"/>
              <a:pathLst>
                <a:path w="8454" h="6060">
                  <a:moveTo>
                    <a:pt x="919" y="522"/>
                  </a:moveTo>
                  <a:lnTo>
                    <a:pt x="1011" y="539"/>
                  </a:lnTo>
                  <a:lnTo>
                    <a:pt x="1086" y="468"/>
                  </a:lnTo>
                  <a:lnTo>
                    <a:pt x="1168" y="420"/>
                  </a:lnTo>
                  <a:lnTo>
                    <a:pt x="1223" y="365"/>
                  </a:lnTo>
                  <a:lnTo>
                    <a:pt x="1325" y="300"/>
                  </a:lnTo>
                  <a:lnTo>
                    <a:pt x="1387" y="273"/>
                  </a:lnTo>
                  <a:lnTo>
                    <a:pt x="1472" y="228"/>
                  </a:lnTo>
                  <a:lnTo>
                    <a:pt x="1544" y="228"/>
                  </a:lnTo>
                  <a:lnTo>
                    <a:pt x="1599" y="218"/>
                  </a:lnTo>
                  <a:lnTo>
                    <a:pt x="1664" y="218"/>
                  </a:lnTo>
                  <a:lnTo>
                    <a:pt x="1701" y="174"/>
                  </a:lnTo>
                  <a:lnTo>
                    <a:pt x="1783" y="191"/>
                  </a:lnTo>
                  <a:lnTo>
                    <a:pt x="1869" y="153"/>
                  </a:lnTo>
                  <a:lnTo>
                    <a:pt x="1930" y="174"/>
                  </a:lnTo>
                  <a:lnTo>
                    <a:pt x="1968" y="208"/>
                  </a:lnTo>
                  <a:lnTo>
                    <a:pt x="1930" y="228"/>
                  </a:lnTo>
                  <a:lnTo>
                    <a:pt x="1869" y="218"/>
                  </a:lnTo>
                  <a:lnTo>
                    <a:pt x="1804" y="266"/>
                  </a:lnTo>
                  <a:lnTo>
                    <a:pt x="1756" y="310"/>
                  </a:lnTo>
                  <a:lnTo>
                    <a:pt x="1749" y="375"/>
                  </a:lnTo>
                  <a:lnTo>
                    <a:pt x="1684" y="382"/>
                  </a:lnTo>
                  <a:lnTo>
                    <a:pt x="1599" y="420"/>
                  </a:lnTo>
                  <a:lnTo>
                    <a:pt x="1582" y="512"/>
                  </a:lnTo>
                  <a:lnTo>
                    <a:pt x="1571" y="587"/>
                  </a:lnTo>
                  <a:lnTo>
                    <a:pt x="1544" y="652"/>
                  </a:lnTo>
                  <a:lnTo>
                    <a:pt x="1582" y="697"/>
                  </a:lnTo>
                  <a:lnTo>
                    <a:pt x="1629" y="550"/>
                  </a:lnTo>
                  <a:lnTo>
                    <a:pt x="1684" y="522"/>
                  </a:lnTo>
                  <a:lnTo>
                    <a:pt x="1749" y="447"/>
                  </a:lnTo>
                  <a:lnTo>
                    <a:pt x="1793" y="355"/>
                  </a:lnTo>
                  <a:lnTo>
                    <a:pt x="1903" y="321"/>
                  </a:lnTo>
                  <a:lnTo>
                    <a:pt x="1995" y="283"/>
                  </a:lnTo>
                  <a:lnTo>
                    <a:pt x="2050" y="201"/>
                  </a:lnTo>
                  <a:lnTo>
                    <a:pt x="2135" y="201"/>
                  </a:lnTo>
                  <a:lnTo>
                    <a:pt x="2299" y="191"/>
                  </a:lnTo>
                  <a:lnTo>
                    <a:pt x="2484" y="153"/>
                  </a:lnTo>
                  <a:lnTo>
                    <a:pt x="2549" y="146"/>
                  </a:lnTo>
                  <a:lnTo>
                    <a:pt x="2631" y="146"/>
                  </a:lnTo>
                  <a:lnTo>
                    <a:pt x="2716" y="146"/>
                  </a:lnTo>
                  <a:lnTo>
                    <a:pt x="2788" y="174"/>
                  </a:lnTo>
                  <a:lnTo>
                    <a:pt x="2880" y="256"/>
                  </a:lnTo>
                  <a:lnTo>
                    <a:pt x="2842" y="266"/>
                  </a:lnTo>
                  <a:lnTo>
                    <a:pt x="2743" y="293"/>
                  </a:lnTo>
                  <a:lnTo>
                    <a:pt x="2750" y="375"/>
                  </a:lnTo>
                  <a:lnTo>
                    <a:pt x="2836" y="382"/>
                  </a:lnTo>
                  <a:lnTo>
                    <a:pt x="2870" y="382"/>
                  </a:lnTo>
                  <a:lnTo>
                    <a:pt x="2863" y="457"/>
                  </a:lnTo>
                  <a:lnTo>
                    <a:pt x="2750" y="539"/>
                  </a:lnTo>
                  <a:lnTo>
                    <a:pt x="2695" y="550"/>
                  </a:lnTo>
                  <a:lnTo>
                    <a:pt x="2706" y="604"/>
                  </a:lnTo>
                  <a:lnTo>
                    <a:pt x="2733" y="642"/>
                  </a:lnTo>
                  <a:lnTo>
                    <a:pt x="2695" y="697"/>
                  </a:lnTo>
                  <a:lnTo>
                    <a:pt x="2743" y="768"/>
                  </a:lnTo>
                  <a:lnTo>
                    <a:pt x="2651" y="799"/>
                  </a:lnTo>
                  <a:lnTo>
                    <a:pt x="2549" y="833"/>
                  </a:lnTo>
                  <a:lnTo>
                    <a:pt x="2538" y="936"/>
                  </a:lnTo>
                  <a:lnTo>
                    <a:pt x="2484" y="1008"/>
                  </a:lnTo>
                  <a:lnTo>
                    <a:pt x="2429" y="1066"/>
                  </a:lnTo>
                  <a:lnTo>
                    <a:pt x="2347" y="1110"/>
                  </a:lnTo>
                  <a:lnTo>
                    <a:pt x="2538" y="1110"/>
                  </a:lnTo>
                  <a:lnTo>
                    <a:pt x="2651" y="1110"/>
                  </a:lnTo>
                  <a:lnTo>
                    <a:pt x="2706" y="1137"/>
                  </a:lnTo>
                  <a:lnTo>
                    <a:pt x="2788" y="1093"/>
                  </a:lnTo>
                  <a:lnTo>
                    <a:pt x="2836" y="1175"/>
                  </a:lnTo>
                  <a:lnTo>
                    <a:pt x="3922" y="1175"/>
                  </a:lnTo>
                  <a:lnTo>
                    <a:pt x="3977" y="1110"/>
                  </a:lnTo>
                  <a:lnTo>
                    <a:pt x="4076" y="1038"/>
                  </a:lnTo>
                  <a:lnTo>
                    <a:pt x="4141" y="919"/>
                  </a:lnTo>
                  <a:lnTo>
                    <a:pt x="4234" y="806"/>
                  </a:lnTo>
                  <a:lnTo>
                    <a:pt x="4272" y="714"/>
                  </a:lnTo>
                  <a:lnTo>
                    <a:pt x="4326" y="615"/>
                  </a:lnTo>
                  <a:lnTo>
                    <a:pt x="4401" y="587"/>
                  </a:lnTo>
                  <a:lnTo>
                    <a:pt x="4429" y="522"/>
                  </a:lnTo>
                  <a:lnTo>
                    <a:pt x="4501" y="550"/>
                  </a:lnTo>
                  <a:lnTo>
                    <a:pt x="4565" y="485"/>
                  </a:lnTo>
                  <a:lnTo>
                    <a:pt x="4613" y="539"/>
                  </a:lnTo>
                  <a:lnTo>
                    <a:pt x="4695" y="567"/>
                  </a:lnTo>
                  <a:lnTo>
                    <a:pt x="4777" y="594"/>
                  </a:lnTo>
                  <a:lnTo>
                    <a:pt x="4859" y="615"/>
                  </a:lnTo>
                  <a:lnTo>
                    <a:pt x="4917" y="587"/>
                  </a:lnTo>
                  <a:lnTo>
                    <a:pt x="4989" y="632"/>
                  </a:lnTo>
                  <a:lnTo>
                    <a:pt x="5054" y="697"/>
                  </a:lnTo>
                  <a:lnTo>
                    <a:pt x="5146" y="714"/>
                  </a:lnTo>
                  <a:lnTo>
                    <a:pt x="5163" y="799"/>
                  </a:lnTo>
                  <a:lnTo>
                    <a:pt x="5119" y="854"/>
                  </a:lnTo>
                  <a:lnTo>
                    <a:pt x="4999" y="833"/>
                  </a:lnTo>
                  <a:lnTo>
                    <a:pt x="4907" y="789"/>
                  </a:lnTo>
                  <a:lnTo>
                    <a:pt x="4897" y="861"/>
                  </a:lnTo>
                  <a:lnTo>
                    <a:pt x="5017" y="871"/>
                  </a:lnTo>
                  <a:lnTo>
                    <a:pt x="5119" y="946"/>
                  </a:lnTo>
                  <a:lnTo>
                    <a:pt x="5266" y="888"/>
                  </a:lnTo>
                  <a:lnTo>
                    <a:pt x="5304" y="779"/>
                  </a:lnTo>
                  <a:lnTo>
                    <a:pt x="5368" y="686"/>
                  </a:lnTo>
                  <a:lnTo>
                    <a:pt x="5450" y="707"/>
                  </a:lnTo>
                  <a:lnTo>
                    <a:pt x="5433" y="762"/>
                  </a:lnTo>
                  <a:lnTo>
                    <a:pt x="5386" y="799"/>
                  </a:lnTo>
                  <a:lnTo>
                    <a:pt x="5386" y="871"/>
                  </a:lnTo>
                  <a:lnTo>
                    <a:pt x="5478" y="789"/>
                  </a:lnTo>
                  <a:lnTo>
                    <a:pt x="5560" y="714"/>
                  </a:lnTo>
                  <a:lnTo>
                    <a:pt x="5690" y="697"/>
                  </a:lnTo>
                  <a:lnTo>
                    <a:pt x="5864" y="642"/>
                  </a:lnTo>
                  <a:lnTo>
                    <a:pt x="5994" y="587"/>
                  </a:lnTo>
                  <a:lnTo>
                    <a:pt x="6011" y="512"/>
                  </a:lnTo>
                  <a:lnTo>
                    <a:pt x="5912" y="522"/>
                  </a:lnTo>
                  <a:lnTo>
                    <a:pt x="5819" y="457"/>
                  </a:lnTo>
                  <a:lnTo>
                    <a:pt x="5755" y="355"/>
                  </a:lnTo>
                  <a:lnTo>
                    <a:pt x="5819" y="218"/>
                  </a:lnTo>
                  <a:lnTo>
                    <a:pt x="5919" y="126"/>
                  </a:lnTo>
                  <a:lnTo>
                    <a:pt x="6004" y="54"/>
                  </a:lnTo>
                  <a:lnTo>
                    <a:pt x="6141" y="54"/>
                  </a:lnTo>
                  <a:lnTo>
                    <a:pt x="6243" y="0"/>
                  </a:lnTo>
                  <a:lnTo>
                    <a:pt x="6233" y="61"/>
                  </a:lnTo>
                  <a:lnTo>
                    <a:pt x="6151" y="71"/>
                  </a:lnTo>
                  <a:lnTo>
                    <a:pt x="6103" y="109"/>
                  </a:lnTo>
                  <a:lnTo>
                    <a:pt x="6021" y="116"/>
                  </a:lnTo>
                  <a:lnTo>
                    <a:pt x="5984" y="191"/>
                  </a:lnTo>
                  <a:lnTo>
                    <a:pt x="5929" y="273"/>
                  </a:lnTo>
                  <a:lnTo>
                    <a:pt x="5912" y="355"/>
                  </a:lnTo>
                  <a:lnTo>
                    <a:pt x="6004" y="485"/>
                  </a:lnTo>
                  <a:lnTo>
                    <a:pt x="6158" y="560"/>
                  </a:lnTo>
                  <a:lnTo>
                    <a:pt x="6260" y="604"/>
                  </a:lnTo>
                  <a:lnTo>
                    <a:pt x="6308" y="632"/>
                  </a:lnTo>
                  <a:lnTo>
                    <a:pt x="6353" y="697"/>
                  </a:lnTo>
                  <a:lnTo>
                    <a:pt x="6400" y="686"/>
                  </a:lnTo>
                  <a:lnTo>
                    <a:pt x="6400" y="632"/>
                  </a:lnTo>
                  <a:lnTo>
                    <a:pt x="6380" y="550"/>
                  </a:lnTo>
                  <a:lnTo>
                    <a:pt x="6335" y="502"/>
                  </a:lnTo>
                  <a:lnTo>
                    <a:pt x="6325" y="447"/>
                  </a:lnTo>
                  <a:lnTo>
                    <a:pt x="6353" y="348"/>
                  </a:lnTo>
                  <a:lnTo>
                    <a:pt x="6462" y="348"/>
                  </a:lnTo>
                  <a:lnTo>
                    <a:pt x="6547" y="348"/>
                  </a:lnTo>
                  <a:lnTo>
                    <a:pt x="6592" y="382"/>
                  </a:lnTo>
                  <a:lnTo>
                    <a:pt x="6602" y="475"/>
                  </a:lnTo>
                  <a:lnTo>
                    <a:pt x="6646" y="560"/>
                  </a:lnTo>
                  <a:lnTo>
                    <a:pt x="6667" y="475"/>
                  </a:lnTo>
                  <a:lnTo>
                    <a:pt x="6739" y="420"/>
                  </a:lnTo>
                  <a:lnTo>
                    <a:pt x="6821" y="420"/>
                  </a:lnTo>
                  <a:lnTo>
                    <a:pt x="6896" y="420"/>
                  </a:lnTo>
                  <a:lnTo>
                    <a:pt x="6971" y="430"/>
                  </a:lnTo>
                  <a:lnTo>
                    <a:pt x="6971" y="348"/>
                  </a:lnTo>
                  <a:lnTo>
                    <a:pt x="7015" y="355"/>
                  </a:lnTo>
                  <a:lnTo>
                    <a:pt x="7070" y="403"/>
                  </a:lnTo>
                  <a:lnTo>
                    <a:pt x="7162" y="403"/>
                  </a:lnTo>
                  <a:lnTo>
                    <a:pt x="7244" y="375"/>
                  </a:lnTo>
                  <a:lnTo>
                    <a:pt x="7330" y="447"/>
                  </a:lnTo>
                  <a:lnTo>
                    <a:pt x="7429" y="539"/>
                  </a:lnTo>
                  <a:lnTo>
                    <a:pt x="7542" y="560"/>
                  </a:lnTo>
                  <a:lnTo>
                    <a:pt x="7689" y="615"/>
                  </a:lnTo>
                  <a:lnTo>
                    <a:pt x="7726" y="604"/>
                  </a:lnTo>
                  <a:lnTo>
                    <a:pt x="7835" y="789"/>
                  </a:lnTo>
                  <a:lnTo>
                    <a:pt x="7999" y="1066"/>
                  </a:lnTo>
                  <a:lnTo>
                    <a:pt x="8102" y="1247"/>
                  </a:lnTo>
                  <a:lnTo>
                    <a:pt x="8177" y="1425"/>
                  </a:lnTo>
                  <a:lnTo>
                    <a:pt x="8092" y="1452"/>
                  </a:lnTo>
                  <a:lnTo>
                    <a:pt x="8064" y="1535"/>
                  </a:lnTo>
                  <a:lnTo>
                    <a:pt x="8092" y="1661"/>
                  </a:lnTo>
                  <a:lnTo>
                    <a:pt x="8150" y="1791"/>
                  </a:lnTo>
                  <a:lnTo>
                    <a:pt x="8184" y="1791"/>
                  </a:lnTo>
                  <a:lnTo>
                    <a:pt x="8205" y="1692"/>
                  </a:lnTo>
                  <a:lnTo>
                    <a:pt x="8259" y="1661"/>
                  </a:lnTo>
                  <a:lnTo>
                    <a:pt x="8287" y="1754"/>
                  </a:lnTo>
                  <a:lnTo>
                    <a:pt x="8211" y="1791"/>
                  </a:lnTo>
                  <a:lnTo>
                    <a:pt x="8331" y="1883"/>
                  </a:lnTo>
                  <a:lnTo>
                    <a:pt x="8249" y="1993"/>
                  </a:lnTo>
                  <a:lnTo>
                    <a:pt x="8232" y="2047"/>
                  </a:lnTo>
                  <a:lnTo>
                    <a:pt x="8369" y="2085"/>
                  </a:lnTo>
                  <a:lnTo>
                    <a:pt x="8304" y="2167"/>
                  </a:lnTo>
                  <a:lnTo>
                    <a:pt x="8242" y="2188"/>
                  </a:lnTo>
                  <a:lnTo>
                    <a:pt x="8242" y="2324"/>
                  </a:lnTo>
                  <a:lnTo>
                    <a:pt x="8304" y="2434"/>
                  </a:lnTo>
                  <a:lnTo>
                    <a:pt x="8242" y="2454"/>
                  </a:lnTo>
                  <a:lnTo>
                    <a:pt x="8102" y="2427"/>
                  </a:lnTo>
                  <a:lnTo>
                    <a:pt x="8167" y="2362"/>
                  </a:lnTo>
                  <a:lnTo>
                    <a:pt x="8249" y="2362"/>
                  </a:lnTo>
                  <a:lnTo>
                    <a:pt x="8249" y="2225"/>
                  </a:lnTo>
                  <a:lnTo>
                    <a:pt x="8157" y="2270"/>
                  </a:lnTo>
                  <a:lnTo>
                    <a:pt x="8150" y="2160"/>
                  </a:lnTo>
                  <a:lnTo>
                    <a:pt x="8232" y="2085"/>
                  </a:lnTo>
                  <a:lnTo>
                    <a:pt x="8249" y="2013"/>
                  </a:lnTo>
                  <a:lnTo>
                    <a:pt x="8205" y="1911"/>
                  </a:lnTo>
                  <a:lnTo>
                    <a:pt x="8184" y="1781"/>
                  </a:lnTo>
                  <a:lnTo>
                    <a:pt x="8140" y="1839"/>
                  </a:lnTo>
                  <a:lnTo>
                    <a:pt x="8075" y="1928"/>
                  </a:lnTo>
                  <a:lnTo>
                    <a:pt x="7972" y="2013"/>
                  </a:lnTo>
                  <a:lnTo>
                    <a:pt x="7999" y="2123"/>
                  </a:lnTo>
                  <a:lnTo>
                    <a:pt x="7993" y="2225"/>
                  </a:lnTo>
                  <a:lnTo>
                    <a:pt x="7993" y="2280"/>
                  </a:lnTo>
                  <a:lnTo>
                    <a:pt x="8037" y="2372"/>
                  </a:lnTo>
                  <a:lnTo>
                    <a:pt x="7999" y="2417"/>
                  </a:lnTo>
                  <a:lnTo>
                    <a:pt x="7900" y="2307"/>
                  </a:lnTo>
                  <a:lnTo>
                    <a:pt x="7835" y="2188"/>
                  </a:lnTo>
                  <a:lnTo>
                    <a:pt x="7808" y="2112"/>
                  </a:lnTo>
                  <a:lnTo>
                    <a:pt x="7753" y="2058"/>
                  </a:lnTo>
                  <a:lnTo>
                    <a:pt x="7678" y="2123"/>
                  </a:lnTo>
                  <a:lnTo>
                    <a:pt x="7634" y="2205"/>
                  </a:lnTo>
                  <a:lnTo>
                    <a:pt x="7733" y="2307"/>
                  </a:lnTo>
                  <a:lnTo>
                    <a:pt x="7788" y="2417"/>
                  </a:lnTo>
                  <a:lnTo>
                    <a:pt x="7808" y="2546"/>
                  </a:lnTo>
                  <a:lnTo>
                    <a:pt x="7798" y="2666"/>
                  </a:lnTo>
                  <a:lnTo>
                    <a:pt x="7798" y="2786"/>
                  </a:lnTo>
                  <a:lnTo>
                    <a:pt x="7846" y="2700"/>
                  </a:lnTo>
                  <a:lnTo>
                    <a:pt x="7928" y="2710"/>
                  </a:lnTo>
                  <a:lnTo>
                    <a:pt x="7965" y="2792"/>
                  </a:lnTo>
                  <a:lnTo>
                    <a:pt x="7890" y="2885"/>
                  </a:lnTo>
                  <a:lnTo>
                    <a:pt x="7818" y="2868"/>
                  </a:lnTo>
                  <a:lnTo>
                    <a:pt x="7808" y="2939"/>
                  </a:lnTo>
                  <a:lnTo>
                    <a:pt x="7873" y="3015"/>
                  </a:lnTo>
                  <a:lnTo>
                    <a:pt x="7835" y="3107"/>
                  </a:lnTo>
                  <a:lnTo>
                    <a:pt x="7917" y="3189"/>
                  </a:lnTo>
                  <a:lnTo>
                    <a:pt x="7873" y="3244"/>
                  </a:lnTo>
                  <a:lnTo>
                    <a:pt x="7938" y="3326"/>
                  </a:lnTo>
                  <a:lnTo>
                    <a:pt x="7890" y="3411"/>
                  </a:lnTo>
                  <a:lnTo>
                    <a:pt x="7982" y="3356"/>
                  </a:lnTo>
                  <a:lnTo>
                    <a:pt x="7965" y="3438"/>
                  </a:lnTo>
                  <a:lnTo>
                    <a:pt x="8119" y="3411"/>
                  </a:lnTo>
                  <a:lnTo>
                    <a:pt x="8075" y="3510"/>
                  </a:lnTo>
                  <a:lnTo>
                    <a:pt x="7965" y="3438"/>
                  </a:lnTo>
                  <a:lnTo>
                    <a:pt x="7938" y="3548"/>
                  </a:lnTo>
                  <a:lnTo>
                    <a:pt x="8102" y="3537"/>
                  </a:lnTo>
                  <a:lnTo>
                    <a:pt x="8037" y="3667"/>
                  </a:lnTo>
                  <a:lnTo>
                    <a:pt x="7928" y="3531"/>
                  </a:lnTo>
                  <a:lnTo>
                    <a:pt x="7993" y="3705"/>
                  </a:lnTo>
                  <a:lnTo>
                    <a:pt x="8119" y="3825"/>
                  </a:lnTo>
                  <a:lnTo>
                    <a:pt x="7999" y="3825"/>
                  </a:lnTo>
                  <a:lnTo>
                    <a:pt x="7928" y="3548"/>
                  </a:lnTo>
                  <a:lnTo>
                    <a:pt x="7965" y="3373"/>
                  </a:lnTo>
                  <a:lnTo>
                    <a:pt x="7873" y="3384"/>
                  </a:lnTo>
                  <a:lnTo>
                    <a:pt x="7798" y="3281"/>
                  </a:lnTo>
                  <a:lnTo>
                    <a:pt x="7873" y="3226"/>
                  </a:lnTo>
                  <a:lnTo>
                    <a:pt x="7873" y="3124"/>
                  </a:lnTo>
                  <a:lnTo>
                    <a:pt x="7818" y="2912"/>
                  </a:lnTo>
                  <a:lnTo>
                    <a:pt x="7808" y="2758"/>
                  </a:lnTo>
                  <a:lnTo>
                    <a:pt x="7788" y="2656"/>
                  </a:lnTo>
                  <a:lnTo>
                    <a:pt x="7706" y="2786"/>
                  </a:lnTo>
                  <a:lnTo>
                    <a:pt x="7559" y="2830"/>
                  </a:lnTo>
                  <a:lnTo>
                    <a:pt x="7477" y="2922"/>
                  </a:lnTo>
                  <a:lnTo>
                    <a:pt x="7514" y="3025"/>
                  </a:lnTo>
                  <a:lnTo>
                    <a:pt x="7456" y="3107"/>
                  </a:lnTo>
                  <a:lnTo>
                    <a:pt x="7357" y="3086"/>
                  </a:lnTo>
                  <a:lnTo>
                    <a:pt x="7439" y="2987"/>
                  </a:lnTo>
                  <a:lnTo>
                    <a:pt x="7384" y="2933"/>
                  </a:lnTo>
                  <a:lnTo>
                    <a:pt x="7302" y="2998"/>
                  </a:lnTo>
                  <a:lnTo>
                    <a:pt x="7302" y="3097"/>
                  </a:lnTo>
                  <a:lnTo>
                    <a:pt x="7439" y="3226"/>
                  </a:lnTo>
                  <a:lnTo>
                    <a:pt x="7477" y="3336"/>
                  </a:lnTo>
                  <a:lnTo>
                    <a:pt x="7374" y="3473"/>
                  </a:lnTo>
                  <a:lnTo>
                    <a:pt x="7374" y="3797"/>
                  </a:lnTo>
                  <a:lnTo>
                    <a:pt x="7374" y="3934"/>
                  </a:lnTo>
                  <a:lnTo>
                    <a:pt x="7395" y="4016"/>
                  </a:lnTo>
                  <a:lnTo>
                    <a:pt x="7548" y="4009"/>
                  </a:lnTo>
                  <a:lnTo>
                    <a:pt x="7651" y="4026"/>
                  </a:lnTo>
                  <a:lnTo>
                    <a:pt x="7726" y="3907"/>
                  </a:lnTo>
                  <a:lnTo>
                    <a:pt x="7808" y="3907"/>
                  </a:lnTo>
                  <a:lnTo>
                    <a:pt x="7771" y="3971"/>
                  </a:lnTo>
                  <a:lnTo>
                    <a:pt x="7873" y="4071"/>
                  </a:lnTo>
                  <a:lnTo>
                    <a:pt x="7982" y="4091"/>
                  </a:lnTo>
                  <a:lnTo>
                    <a:pt x="7972" y="4009"/>
                  </a:lnTo>
                  <a:lnTo>
                    <a:pt x="8242" y="4009"/>
                  </a:lnTo>
                  <a:lnTo>
                    <a:pt x="8150" y="4036"/>
                  </a:lnTo>
                  <a:lnTo>
                    <a:pt x="8140" y="4108"/>
                  </a:lnTo>
                  <a:lnTo>
                    <a:pt x="8259" y="4135"/>
                  </a:lnTo>
                  <a:lnTo>
                    <a:pt x="8379" y="4183"/>
                  </a:lnTo>
                  <a:lnTo>
                    <a:pt x="8433" y="4053"/>
                  </a:lnTo>
                  <a:lnTo>
                    <a:pt x="8454" y="3971"/>
                  </a:lnTo>
                  <a:lnTo>
                    <a:pt x="8369" y="3999"/>
                  </a:lnTo>
                  <a:lnTo>
                    <a:pt x="8287" y="3944"/>
                  </a:lnTo>
                  <a:lnTo>
                    <a:pt x="8242" y="3924"/>
                  </a:lnTo>
                  <a:lnTo>
                    <a:pt x="8205" y="4026"/>
                  </a:lnTo>
                  <a:lnTo>
                    <a:pt x="8205" y="4016"/>
                  </a:lnTo>
                  <a:lnTo>
                    <a:pt x="7938" y="4016"/>
                  </a:lnTo>
                  <a:lnTo>
                    <a:pt x="7890" y="3889"/>
                  </a:lnTo>
                  <a:lnTo>
                    <a:pt x="7818" y="3917"/>
                  </a:lnTo>
                  <a:lnTo>
                    <a:pt x="7733" y="3907"/>
                  </a:lnTo>
                  <a:lnTo>
                    <a:pt x="7706" y="3770"/>
                  </a:lnTo>
                  <a:lnTo>
                    <a:pt x="7661" y="3684"/>
                  </a:lnTo>
                  <a:lnTo>
                    <a:pt x="7743" y="3630"/>
                  </a:lnTo>
                  <a:lnTo>
                    <a:pt x="7743" y="3548"/>
                  </a:lnTo>
                  <a:lnTo>
                    <a:pt x="7624" y="3602"/>
                  </a:lnTo>
                  <a:lnTo>
                    <a:pt x="7542" y="3678"/>
                  </a:lnTo>
                  <a:lnTo>
                    <a:pt x="7477" y="3777"/>
                  </a:lnTo>
                  <a:lnTo>
                    <a:pt x="7374" y="3777"/>
                  </a:lnTo>
                  <a:lnTo>
                    <a:pt x="7374" y="3520"/>
                  </a:lnTo>
                  <a:lnTo>
                    <a:pt x="7320" y="3575"/>
                  </a:lnTo>
                  <a:lnTo>
                    <a:pt x="7244" y="3455"/>
                  </a:lnTo>
                  <a:lnTo>
                    <a:pt x="7156" y="3346"/>
                  </a:lnTo>
                  <a:lnTo>
                    <a:pt x="7026" y="3384"/>
                  </a:lnTo>
                  <a:lnTo>
                    <a:pt x="7015" y="3493"/>
                  </a:lnTo>
                  <a:lnTo>
                    <a:pt x="7080" y="3623"/>
                  </a:lnTo>
                  <a:lnTo>
                    <a:pt x="7080" y="3742"/>
                  </a:lnTo>
                  <a:lnTo>
                    <a:pt x="7162" y="3859"/>
                  </a:lnTo>
                  <a:lnTo>
                    <a:pt x="7210" y="3917"/>
                  </a:lnTo>
                  <a:lnTo>
                    <a:pt x="7108" y="3917"/>
                  </a:lnTo>
                  <a:lnTo>
                    <a:pt x="7053" y="3859"/>
                  </a:lnTo>
                  <a:lnTo>
                    <a:pt x="7005" y="3924"/>
                  </a:lnTo>
                  <a:lnTo>
                    <a:pt x="7145" y="4081"/>
                  </a:lnTo>
                  <a:lnTo>
                    <a:pt x="7244" y="4173"/>
                  </a:lnTo>
                  <a:lnTo>
                    <a:pt x="7337" y="4163"/>
                  </a:lnTo>
                  <a:lnTo>
                    <a:pt x="7439" y="4190"/>
                  </a:lnTo>
                  <a:lnTo>
                    <a:pt x="7576" y="4190"/>
                  </a:lnTo>
                  <a:lnTo>
                    <a:pt x="7706" y="4173"/>
                  </a:lnTo>
                  <a:lnTo>
                    <a:pt x="7818" y="4218"/>
                  </a:lnTo>
                  <a:lnTo>
                    <a:pt x="7788" y="4255"/>
                  </a:lnTo>
                  <a:lnTo>
                    <a:pt x="7661" y="4211"/>
                  </a:lnTo>
                  <a:lnTo>
                    <a:pt x="7661" y="4423"/>
                  </a:lnTo>
                  <a:lnTo>
                    <a:pt x="7753" y="4423"/>
                  </a:lnTo>
                  <a:lnTo>
                    <a:pt x="7808" y="4412"/>
                  </a:lnTo>
                  <a:lnTo>
                    <a:pt x="7818" y="4337"/>
                  </a:lnTo>
                  <a:lnTo>
                    <a:pt x="7928" y="4358"/>
                  </a:lnTo>
                  <a:lnTo>
                    <a:pt x="8064" y="4303"/>
                  </a:lnTo>
                  <a:lnTo>
                    <a:pt x="8058" y="4402"/>
                  </a:lnTo>
                  <a:lnTo>
                    <a:pt x="8092" y="4467"/>
                  </a:lnTo>
                  <a:lnTo>
                    <a:pt x="8167" y="4515"/>
                  </a:lnTo>
                  <a:lnTo>
                    <a:pt x="8242" y="4467"/>
                  </a:lnTo>
                  <a:lnTo>
                    <a:pt x="8232" y="4364"/>
                  </a:lnTo>
                  <a:lnTo>
                    <a:pt x="8242" y="4276"/>
                  </a:lnTo>
                  <a:lnTo>
                    <a:pt x="8287" y="4364"/>
                  </a:lnTo>
                  <a:lnTo>
                    <a:pt x="8304" y="4484"/>
                  </a:lnTo>
                  <a:lnTo>
                    <a:pt x="8205" y="4707"/>
                  </a:lnTo>
                  <a:lnTo>
                    <a:pt x="8092" y="4936"/>
                  </a:lnTo>
                  <a:lnTo>
                    <a:pt x="7993" y="5158"/>
                  </a:lnTo>
                  <a:lnTo>
                    <a:pt x="7873" y="5377"/>
                  </a:lnTo>
                  <a:lnTo>
                    <a:pt x="7771" y="5315"/>
                  </a:lnTo>
                  <a:lnTo>
                    <a:pt x="7661" y="5360"/>
                  </a:lnTo>
                  <a:lnTo>
                    <a:pt x="7624" y="5442"/>
                  </a:lnTo>
                  <a:lnTo>
                    <a:pt x="7542" y="5490"/>
                  </a:lnTo>
                  <a:lnTo>
                    <a:pt x="7384" y="5524"/>
                  </a:lnTo>
                  <a:lnTo>
                    <a:pt x="7292" y="5507"/>
                  </a:lnTo>
                  <a:lnTo>
                    <a:pt x="7330" y="5370"/>
                  </a:lnTo>
                  <a:lnTo>
                    <a:pt x="7320" y="5268"/>
                  </a:lnTo>
                  <a:lnTo>
                    <a:pt x="7374" y="5186"/>
                  </a:lnTo>
                  <a:lnTo>
                    <a:pt x="7357" y="5110"/>
                  </a:lnTo>
                  <a:lnTo>
                    <a:pt x="7255" y="5066"/>
                  </a:lnTo>
                  <a:lnTo>
                    <a:pt x="7265" y="4936"/>
                  </a:lnTo>
                  <a:lnTo>
                    <a:pt x="7302" y="4799"/>
                  </a:lnTo>
                  <a:lnTo>
                    <a:pt x="7412" y="4697"/>
                  </a:lnTo>
                  <a:lnTo>
                    <a:pt x="7548" y="4690"/>
                  </a:lnTo>
                  <a:lnTo>
                    <a:pt x="7569" y="4605"/>
                  </a:lnTo>
                  <a:lnTo>
                    <a:pt x="7542" y="4484"/>
                  </a:lnTo>
                  <a:lnTo>
                    <a:pt x="7624" y="4429"/>
                  </a:lnTo>
                  <a:lnTo>
                    <a:pt x="7661" y="4423"/>
                  </a:lnTo>
                  <a:lnTo>
                    <a:pt x="7661" y="4218"/>
                  </a:lnTo>
                  <a:lnTo>
                    <a:pt x="7548" y="4238"/>
                  </a:lnTo>
                  <a:lnTo>
                    <a:pt x="7439" y="4282"/>
                  </a:lnTo>
                  <a:lnTo>
                    <a:pt x="7347" y="4218"/>
                  </a:lnTo>
                  <a:lnTo>
                    <a:pt x="7238" y="4218"/>
                  </a:lnTo>
                  <a:lnTo>
                    <a:pt x="7091" y="4173"/>
                  </a:lnTo>
                  <a:lnTo>
                    <a:pt x="7005" y="4081"/>
                  </a:lnTo>
                  <a:lnTo>
                    <a:pt x="6961" y="3989"/>
                  </a:lnTo>
                  <a:lnTo>
                    <a:pt x="6886" y="3907"/>
                  </a:lnTo>
                  <a:lnTo>
                    <a:pt x="6961" y="3879"/>
                  </a:lnTo>
                  <a:lnTo>
                    <a:pt x="7005" y="3917"/>
                  </a:lnTo>
                  <a:lnTo>
                    <a:pt x="7063" y="3842"/>
                  </a:lnTo>
                  <a:lnTo>
                    <a:pt x="7026" y="3722"/>
                  </a:lnTo>
                  <a:lnTo>
                    <a:pt x="6961" y="3712"/>
                  </a:lnTo>
                  <a:lnTo>
                    <a:pt x="6913" y="3592"/>
                  </a:lnTo>
                  <a:lnTo>
                    <a:pt x="6933" y="3455"/>
                  </a:lnTo>
                  <a:lnTo>
                    <a:pt x="7005" y="3356"/>
                  </a:lnTo>
                  <a:lnTo>
                    <a:pt x="6988" y="3226"/>
                  </a:lnTo>
                  <a:lnTo>
                    <a:pt x="6933" y="3216"/>
                  </a:lnTo>
                  <a:lnTo>
                    <a:pt x="6886" y="3291"/>
                  </a:lnTo>
                  <a:lnTo>
                    <a:pt x="6879" y="3356"/>
                  </a:lnTo>
                  <a:lnTo>
                    <a:pt x="6804" y="3226"/>
                  </a:lnTo>
                  <a:lnTo>
                    <a:pt x="6684" y="3134"/>
                  </a:lnTo>
                  <a:lnTo>
                    <a:pt x="6602" y="3144"/>
                  </a:lnTo>
                  <a:lnTo>
                    <a:pt x="6520" y="3281"/>
                  </a:lnTo>
                  <a:lnTo>
                    <a:pt x="6417" y="3346"/>
                  </a:lnTo>
                  <a:lnTo>
                    <a:pt x="6417" y="3428"/>
                  </a:lnTo>
                  <a:lnTo>
                    <a:pt x="6445" y="3520"/>
                  </a:lnTo>
                  <a:lnTo>
                    <a:pt x="6435" y="3613"/>
                  </a:lnTo>
                  <a:lnTo>
                    <a:pt x="6353" y="3602"/>
                  </a:lnTo>
                  <a:lnTo>
                    <a:pt x="6298" y="3493"/>
                  </a:lnTo>
                  <a:lnTo>
                    <a:pt x="6195" y="3356"/>
                  </a:lnTo>
                  <a:lnTo>
                    <a:pt x="6096" y="3281"/>
                  </a:lnTo>
                  <a:lnTo>
                    <a:pt x="6011" y="3134"/>
                  </a:lnTo>
                  <a:lnTo>
                    <a:pt x="5939" y="3097"/>
                  </a:lnTo>
                  <a:lnTo>
                    <a:pt x="5809" y="3097"/>
                  </a:lnTo>
                  <a:lnTo>
                    <a:pt x="5690" y="3097"/>
                  </a:lnTo>
                  <a:lnTo>
                    <a:pt x="5614" y="3144"/>
                  </a:lnTo>
                  <a:lnTo>
                    <a:pt x="5553" y="3052"/>
                  </a:lnTo>
                  <a:lnTo>
                    <a:pt x="5468" y="3004"/>
                  </a:lnTo>
                  <a:lnTo>
                    <a:pt x="5348" y="2912"/>
                  </a:lnTo>
                  <a:lnTo>
                    <a:pt x="5433" y="3052"/>
                  </a:lnTo>
                  <a:lnTo>
                    <a:pt x="5560" y="3107"/>
                  </a:lnTo>
                  <a:lnTo>
                    <a:pt x="5645" y="3226"/>
                  </a:lnTo>
                  <a:lnTo>
                    <a:pt x="5608" y="3346"/>
                  </a:lnTo>
                  <a:lnTo>
                    <a:pt x="5522" y="3411"/>
                  </a:lnTo>
                  <a:lnTo>
                    <a:pt x="5396" y="3428"/>
                  </a:lnTo>
                  <a:lnTo>
                    <a:pt x="5283" y="3473"/>
                  </a:lnTo>
                  <a:lnTo>
                    <a:pt x="5222" y="3585"/>
                  </a:lnTo>
                  <a:lnTo>
                    <a:pt x="5163" y="3630"/>
                  </a:lnTo>
                  <a:lnTo>
                    <a:pt x="5146" y="3510"/>
                  </a:lnTo>
                  <a:lnTo>
                    <a:pt x="5071" y="3346"/>
                  </a:lnTo>
                  <a:lnTo>
                    <a:pt x="4989" y="3254"/>
                  </a:lnTo>
                  <a:lnTo>
                    <a:pt x="4989" y="3144"/>
                  </a:lnTo>
                  <a:lnTo>
                    <a:pt x="4917" y="3162"/>
                  </a:lnTo>
                  <a:lnTo>
                    <a:pt x="4935" y="3326"/>
                  </a:lnTo>
                  <a:lnTo>
                    <a:pt x="5010" y="3455"/>
                  </a:lnTo>
                  <a:lnTo>
                    <a:pt x="5010" y="3575"/>
                  </a:lnTo>
                  <a:lnTo>
                    <a:pt x="5119" y="3623"/>
                  </a:lnTo>
                  <a:lnTo>
                    <a:pt x="5163" y="3705"/>
                  </a:lnTo>
                  <a:lnTo>
                    <a:pt x="5276" y="3678"/>
                  </a:lnTo>
                  <a:lnTo>
                    <a:pt x="5368" y="3667"/>
                  </a:lnTo>
                  <a:lnTo>
                    <a:pt x="5488" y="3602"/>
                  </a:lnTo>
                  <a:lnTo>
                    <a:pt x="5440" y="3749"/>
                  </a:lnTo>
                  <a:lnTo>
                    <a:pt x="5348" y="3934"/>
                  </a:lnTo>
                  <a:lnTo>
                    <a:pt x="5276" y="4053"/>
                  </a:lnTo>
                  <a:lnTo>
                    <a:pt x="5184" y="4163"/>
                  </a:lnTo>
                  <a:lnTo>
                    <a:pt x="5146" y="4255"/>
                  </a:lnTo>
                  <a:lnTo>
                    <a:pt x="5109" y="4467"/>
                  </a:lnTo>
                  <a:lnTo>
                    <a:pt x="5092" y="4615"/>
                  </a:lnTo>
                  <a:lnTo>
                    <a:pt x="5102" y="4762"/>
                  </a:lnTo>
                  <a:lnTo>
                    <a:pt x="5119" y="4902"/>
                  </a:lnTo>
                  <a:lnTo>
                    <a:pt x="5119" y="4936"/>
                  </a:lnTo>
                  <a:lnTo>
                    <a:pt x="5222" y="4919"/>
                  </a:lnTo>
                  <a:lnTo>
                    <a:pt x="5239" y="4799"/>
                  </a:lnTo>
                  <a:lnTo>
                    <a:pt x="5331" y="4690"/>
                  </a:lnTo>
                  <a:lnTo>
                    <a:pt x="5433" y="4615"/>
                  </a:lnTo>
                  <a:lnTo>
                    <a:pt x="5450" y="4752"/>
                  </a:lnTo>
                  <a:lnTo>
                    <a:pt x="5440" y="4871"/>
                  </a:lnTo>
                  <a:lnTo>
                    <a:pt x="5386" y="4936"/>
                  </a:lnTo>
                  <a:lnTo>
                    <a:pt x="5396" y="5001"/>
                  </a:lnTo>
                  <a:lnTo>
                    <a:pt x="5358" y="5169"/>
                  </a:lnTo>
                  <a:lnTo>
                    <a:pt x="5341" y="5251"/>
                  </a:lnTo>
                  <a:lnTo>
                    <a:pt x="5266" y="5268"/>
                  </a:lnTo>
                  <a:lnTo>
                    <a:pt x="5191" y="5186"/>
                  </a:lnTo>
                  <a:lnTo>
                    <a:pt x="5239" y="5076"/>
                  </a:lnTo>
                  <a:lnTo>
                    <a:pt x="5256" y="5011"/>
                  </a:lnTo>
                  <a:lnTo>
                    <a:pt x="5201" y="4936"/>
                  </a:lnTo>
                  <a:lnTo>
                    <a:pt x="5109" y="4946"/>
                  </a:lnTo>
                  <a:lnTo>
                    <a:pt x="5081" y="5066"/>
                  </a:lnTo>
                  <a:lnTo>
                    <a:pt x="4952" y="5110"/>
                  </a:lnTo>
                  <a:lnTo>
                    <a:pt x="4870" y="5186"/>
                  </a:lnTo>
                  <a:lnTo>
                    <a:pt x="4890" y="5315"/>
                  </a:lnTo>
                  <a:lnTo>
                    <a:pt x="4870" y="5462"/>
                  </a:lnTo>
                  <a:lnTo>
                    <a:pt x="4832" y="5616"/>
                  </a:lnTo>
                  <a:lnTo>
                    <a:pt x="4647" y="5784"/>
                  </a:lnTo>
                  <a:lnTo>
                    <a:pt x="4565" y="5790"/>
                  </a:lnTo>
                  <a:lnTo>
                    <a:pt x="4511" y="5681"/>
                  </a:lnTo>
                  <a:lnTo>
                    <a:pt x="4401" y="5616"/>
                  </a:lnTo>
                  <a:lnTo>
                    <a:pt x="4347" y="5572"/>
                  </a:lnTo>
                  <a:lnTo>
                    <a:pt x="4244" y="5360"/>
                  </a:lnTo>
                  <a:lnTo>
                    <a:pt x="4151" y="5257"/>
                  </a:lnTo>
                  <a:lnTo>
                    <a:pt x="4076" y="5158"/>
                  </a:lnTo>
                  <a:lnTo>
                    <a:pt x="4042" y="5049"/>
                  </a:lnTo>
                  <a:lnTo>
                    <a:pt x="4021" y="4902"/>
                  </a:lnTo>
                  <a:lnTo>
                    <a:pt x="3939" y="4799"/>
                  </a:lnTo>
                  <a:lnTo>
                    <a:pt x="3912" y="4707"/>
                  </a:lnTo>
                  <a:lnTo>
                    <a:pt x="3977" y="4598"/>
                  </a:lnTo>
                  <a:lnTo>
                    <a:pt x="3977" y="4494"/>
                  </a:lnTo>
                  <a:lnTo>
                    <a:pt x="3891" y="4423"/>
                  </a:lnTo>
                  <a:lnTo>
                    <a:pt x="3755" y="4412"/>
                  </a:lnTo>
                  <a:lnTo>
                    <a:pt x="3652" y="4364"/>
                  </a:lnTo>
                  <a:lnTo>
                    <a:pt x="3598" y="4412"/>
                  </a:lnTo>
                  <a:lnTo>
                    <a:pt x="3505" y="4423"/>
                  </a:lnTo>
                  <a:lnTo>
                    <a:pt x="3423" y="4364"/>
                  </a:lnTo>
                  <a:lnTo>
                    <a:pt x="3348" y="4293"/>
                  </a:lnTo>
                  <a:lnTo>
                    <a:pt x="3249" y="4276"/>
                  </a:lnTo>
                  <a:lnTo>
                    <a:pt x="3146" y="4218"/>
                  </a:lnTo>
                  <a:lnTo>
                    <a:pt x="3047" y="4135"/>
                  </a:lnTo>
                  <a:lnTo>
                    <a:pt x="3017" y="3971"/>
                  </a:lnTo>
                  <a:lnTo>
                    <a:pt x="3010" y="3859"/>
                  </a:lnTo>
                  <a:lnTo>
                    <a:pt x="3092" y="3777"/>
                  </a:lnTo>
                  <a:lnTo>
                    <a:pt x="3082" y="3695"/>
                  </a:lnTo>
                  <a:lnTo>
                    <a:pt x="3064" y="3548"/>
                  </a:lnTo>
                  <a:lnTo>
                    <a:pt x="3075" y="3418"/>
                  </a:lnTo>
                  <a:lnTo>
                    <a:pt x="3047" y="3291"/>
                  </a:lnTo>
                  <a:lnTo>
                    <a:pt x="3146" y="3189"/>
                  </a:lnTo>
                  <a:lnTo>
                    <a:pt x="3201" y="3117"/>
                  </a:lnTo>
                  <a:lnTo>
                    <a:pt x="3287" y="3107"/>
                  </a:lnTo>
                  <a:lnTo>
                    <a:pt x="3276" y="3004"/>
                  </a:lnTo>
                  <a:lnTo>
                    <a:pt x="3331" y="2912"/>
                  </a:lnTo>
                  <a:lnTo>
                    <a:pt x="3413" y="2851"/>
                  </a:lnTo>
                  <a:lnTo>
                    <a:pt x="3516" y="2905"/>
                  </a:lnTo>
                  <a:lnTo>
                    <a:pt x="3645" y="2933"/>
                  </a:lnTo>
                  <a:lnTo>
                    <a:pt x="3782" y="2912"/>
                  </a:lnTo>
                  <a:lnTo>
                    <a:pt x="3902" y="2912"/>
                  </a:lnTo>
                  <a:lnTo>
                    <a:pt x="3956" y="2922"/>
                  </a:lnTo>
                  <a:lnTo>
                    <a:pt x="3984" y="3025"/>
                  </a:lnTo>
                  <a:lnTo>
                    <a:pt x="4096" y="3042"/>
                  </a:lnTo>
                  <a:lnTo>
                    <a:pt x="4206" y="3097"/>
                  </a:lnTo>
                  <a:lnTo>
                    <a:pt x="4272" y="3086"/>
                  </a:lnTo>
                  <a:lnTo>
                    <a:pt x="4326" y="3015"/>
                  </a:lnTo>
                  <a:lnTo>
                    <a:pt x="4354" y="2939"/>
                  </a:lnTo>
                  <a:lnTo>
                    <a:pt x="4456" y="2987"/>
                  </a:lnTo>
                  <a:lnTo>
                    <a:pt x="4576" y="3025"/>
                  </a:lnTo>
                  <a:lnTo>
                    <a:pt x="4723" y="3042"/>
                  </a:lnTo>
                  <a:lnTo>
                    <a:pt x="4815" y="3052"/>
                  </a:lnTo>
                  <a:lnTo>
                    <a:pt x="4917" y="3042"/>
                  </a:lnTo>
                  <a:lnTo>
                    <a:pt x="4989" y="2987"/>
                  </a:lnTo>
                  <a:lnTo>
                    <a:pt x="5027" y="2868"/>
                  </a:lnTo>
                  <a:lnTo>
                    <a:pt x="5071" y="2792"/>
                  </a:lnTo>
                  <a:lnTo>
                    <a:pt x="5027" y="2765"/>
                  </a:lnTo>
                  <a:lnTo>
                    <a:pt x="4979" y="2700"/>
                  </a:lnTo>
                  <a:lnTo>
                    <a:pt x="4907" y="2721"/>
                  </a:lnTo>
                  <a:lnTo>
                    <a:pt x="4788" y="2721"/>
                  </a:lnTo>
                  <a:lnTo>
                    <a:pt x="4706" y="2693"/>
                  </a:lnTo>
                  <a:lnTo>
                    <a:pt x="4695" y="2601"/>
                  </a:lnTo>
                  <a:lnTo>
                    <a:pt x="4647" y="2553"/>
                  </a:lnTo>
                  <a:lnTo>
                    <a:pt x="4613" y="2601"/>
                  </a:lnTo>
                  <a:lnTo>
                    <a:pt x="4641" y="2693"/>
                  </a:lnTo>
                  <a:lnTo>
                    <a:pt x="4593" y="2758"/>
                  </a:lnTo>
                  <a:lnTo>
                    <a:pt x="4501" y="2748"/>
                  </a:lnTo>
                  <a:lnTo>
                    <a:pt x="4446" y="2673"/>
                  </a:lnTo>
                  <a:lnTo>
                    <a:pt x="4429" y="2591"/>
                  </a:lnTo>
                  <a:lnTo>
                    <a:pt x="4429" y="2464"/>
                  </a:lnTo>
                  <a:lnTo>
                    <a:pt x="4364" y="2434"/>
                  </a:lnTo>
                  <a:lnTo>
                    <a:pt x="4337" y="2509"/>
                  </a:lnTo>
                  <a:lnTo>
                    <a:pt x="4347" y="2601"/>
                  </a:lnTo>
                  <a:lnTo>
                    <a:pt x="4391" y="2666"/>
                  </a:lnTo>
                  <a:lnTo>
                    <a:pt x="4446" y="2738"/>
                  </a:lnTo>
                  <a:lnTo>
                    <a:pt x="4391" y="2820"/>
                  </a:lnTo>
                  <a:lnTo>
                    <a:pt x="4326" y="2857"/>
                  </a:lnTo>
                  <a:lnTo>
                    <a:pt x="4234" y="2851"/>
                  </a:lnTo>
                  <a:lnTo>
                    <a:pt x="4234" y="2922"/>
                  </a:lnTo>
                  <a:lnTo>
                    <a:pt x="4168" y="2960"/>
                  </a:lnTo>
                  <a:lnTo>
                    <a:pt x="4086" y="2857"/>
                  </a:lnTo>
                  <a:lnTo>
                    <a:pt x="4096" y="2803"/>
                  </a:lnTo>
                  <a:lnTo>
                    <a:pt x="4195" y="2851"/>
                  </a:lnTo>
                  <a:lnTo>
                    <a:pt x="4261" y="2851"/>
                  </a:lnTo>
                  <a:lnTo>
                    <a:pt x="4347" y="2786"/>
                  </a:lnTo>
                  <a:lnTo>
                    <a:pt x="4326" y="2693"/>
                  </a:lnTo>
                  <a:lnTo>
                    <a:pt x="4244" y="2618"/>
                  </a:lnTo>
                  <a:lnTo>
                    <a:pt x="4168" y="2553"/>
                  </a:lnTo>
                  <a:lnTo>
                    <a:pt x="4086" y="2471"/>
                  </a:lnTo>
                  <a:lnTo>
                    <a:pt x="3994" y="2406"/>
                  </a:lnTo>
                  <a:lnTo>
                    <a:pt x="3994" y="2509"/>
                  </a:lnTo>
                  <a:lnTo>
                    <a:pt x="4059" y="2574"/>
                  </a:lnTo>
                  <a:lnTo>
                    <a:pt x="4042" y="2693"/>
                  </a:lnTo>
                  <a:lnTo>
                    <a:pt x="4042" y="2786"/>
                  </a:lnTo>
                  <a:lnTo>
                    <a:pt x="3939" y="2710"/>
                  </a:lnTo>
                  <a:lnTo>
                    <a:pt x="3922" y="2639"/>
                  </a:lnTo>
                  <a:lnTo>
                    <a:pt x="3977" y="2591"/>
                  </a:lnTo>
                  <a:lnTo>
                    <a:pt x="3956" y="2526"/>
                  </a:lnTo>
                  <a:lnTo>
                    <a:pt x="4004" y="2499"/>
                  </a:lnTo>
                  <a:lnTo>
                    <a:pt x="4004" y="2406"/>
                  </a:lnTo>
                  <a:lnTo>
                    <a:pt x="3922" y="2427"/>
                  </a:lnTo>
                  <a:lnTo>
                    <a:pt x="3864" y="2509"/>
                  </a:lnTo>
                  <a:lnTo>
                    <a:pt x="3782" y="2471"/>
                  </a:lnTo>
                  <a:lnTo>
                    <a:pt x="3652" y="2536"/>
                  </a:lnTo>
                  <a:lnTo>
                    <a:pt x="3625" y="2656"/>
                  </a:lnTo>
                  <a:lnTo>
                    <a:pt x="3533" y="2738"/>
                  </a:lnTo>
                  <a:lnTo>
                    <a:pt x="3423" y="2792"/>
                  </a:lnTo>
                  <a:lnTo>
                    <a:pt x="3321" y="2803"/>
                  </a:lnTo>
                  <a:lnTo>
                    <a:pt x="3201" y="2765"/>
                  </a:lnTo>
                  <a:lnTo>
                    <a:pt x="3157" y="2710"/>
                  </a:lnTo>
                  <a:lnTo>
                    <a:pt x="3194" y="2656"/>
                  </a:lnTo>
                  <a:lnTo>
                    <a:pt x="3157" y="2574"/>
                  </a:lnTo>
                  <a:lnTo>
                    <a:pt x="3228" y="2519"/>
                  </a:lnTo>
                  <a:lnTo>
                    <a:pt x="3239" y="2444"/>
                  </a:lnTo>
                  <a:lnTo>
                    <a:pt x="3239" y="2345"/>
                  </a:lnTo>
                  <a:lnTo>
                    <a:pt x="3331" y="2253"/>
                  </a:lnTo>
                  <a:lnTo>
                    <a:pt x="3461" y="2280"/>
                  </a:lnTo>
                  <a:lnTo>
                    <a:pt x="3618" y="2324"/>
                  </a:lnTo>
                  <a:lnTo>
                    <a:pt x="3680" y="2259"/>
                  </a:lnTo>
                  <a:lnTo>
                    <a:pt x="3680" y="2160"/>
                  </a:lnTo>
                  <a:lnTo>
                    <a:pt x="3608" y="2085"/>
                  </a:lnTo>
                  <a:lnTo>
                    <a:pt x="3488" y="2030"/>
                  </a:lnTo>
                  <a:lnTo>
                    <a:pt x="3543" y="1976"/>
                  </a:lnTo>
                  <a:lnTo>
                    <a:pt x="3662" y="1938"/>
                  </a:lnTo>
                  <a:lnTo>
                    <a:pt x="3690" y="1921"/>
                  </a:lnTo>
                  <a:lnTo>
                    <a:pt x="3652" y="1911"/>
                  </a:lnTo>
                  <a:lnTo>
                    <a:pt x="3560" y="1921"/>
                  </a:lnTo>
                  <a:lnTo>
                    <a:pt x="3461" y="1938"/>
                  </a:lnTo>
                  <a:lnTo>
                    <a:pt x="3413" y="1959"/>
                  </a:lnTo>
                  <a:lnTo>
                    <a:pt x="3451" y="1883"/>
                  </a:lnTo>
                  <a:lnTo>
                    <a:pt x="3461" y="1791"/>
                  </a:lnTo>
                  <a:lnTo>
                    <a:pt x="3505" y="1747"/>
                  </a:lnTo>
                  <a:lnTo>
                    <a:pt x="3526" y="1682"/>
                  </a:lnTo>
                  <a:lnTo>
                    <a:pt x="3478" y="1617"/>
                  </a:lnTo>
                  <a:lnTo>
                    <a:pt x="3413" y="1644"/>
                  </a:lnTo>
                  <a:lnTo>
                    <a:pt x="3423" y="1726"/>
                  </a:lnTo>
                  <a:lnTo>
                    <a:pt x="3413" y="1812"/>
                  </a:lnTo>
                  <a:lnTo>
                    <a:pt x="3369" y="1921"/>
                  </a:lnTo>
                  <a:lnTo>
                    <a:pt x="3276" y="1911"/>
                  </a:lnTo>
                  <a:lnTo>
                    <a:pt x="3249" y="1812"/>
                  </a:lnTo>
                  <a:lnTo>
                    <a:pt x="3184" y="1709"/>
                  </a:lnTo>
                  <a:lnTo>
                    <a:pt x="3287" y="1682"/>
                  </a:lnTo>
                  <a:lnTo>
                    <a:pt x="3341" y="1634"/>
                  </a:lnTo>
                  <a:lnTo>
                    <a:pt x="3379" y="1627"/>
                  </a:lnTo>
                  <a:lnTo>
                    <a:pt x="3379" y="1562"/>
                  </a:lnTo>
                  <a:lnTo>
                    <a:pt x="3358" y="1496"/>
                  </a:lnTo>
                  <a:lnTo>
                    <a:pt x="3440" y="1452"/>
                  </a:lnTo>
                  <a:lnTo>
                    <a:pt x="3526" y="1394"/>
                  </a:lnTo>
                  <a:lnTo>
                    <a:pt x="3580" y="1442"/>
                  </a:lnTo>
                  <a:lnTo>
                    <a:pt x="3608" y="1542"/>
                  </a:lnTo>
                  <a:lnTo>
                    <a:pt x="3645" y="1644"/>
                  </a:lnTo>
                  <a:lnTo>
                    <a:pt x="3700" y="1719"/>
                  </a:lnTo>
                  <a:lnTo>
                    <a:pt x="3727" y="1812"/>
                  </a:lnTo>
                  <a:lnTo>
                    <a:pt x="3690" y="1873"/>
                  </a:lnTo>
                  <a:lnTo>
                    <a:pt x="3680" y="1928"/>
                  </a:lnTo>
                  <a:lnTo>
                    <a:pt x="3755" y="1911"/>
                  </a:lnTo>
                  <a:lnTo>
                    <a:pt x="3847" y="1856"/>
                  </a:lnTo>
                  <a:lnTo>
                    <a:pt x="3891" y="1726"/>
                  </a:lnTo>
                  <a:lnTo>
                    <a:pt x="3984" y="1726"/>
                  </a:lnTo>
                  <a:lnTo>
                    <a:pt x="4021" y="1709"/>
                  </a:lnTo>
                  <a:lnTo>
                    <a:pt x="4014" y="1617"/>
                  </a:lnTo>
                  <a:lnTo>
                    <a:pt x="3977" y="1525"/>
                  </a:lnTo>
                  <a:lnTo>
                    <a:pt x="4059" y="1525"/>
                  </a:lnTo>
                  <a:lnTo>
                    <a:pt x="4151" y="1617"/>
                  </a:lnTo>
                  <a:lnTo>
                    <a:pt x="4234" y="1682"/>
                  </a:lnTo>
                  <a:lnTo>
                    <a:pt x="4309" y="1682"/>
                  </a:lnTo>
                  <a:lnTo>
                    <a:pt x="4419" y="1634"/>
                  </a:lnTo>
                  <a:lnTo>
                    <a:pt x="4483" y="1535"/>
                  </a:lnTo>
                  <a:lnTo>
                    <a:pt x="4528" y="1442"/>
                  </a:lnTo>
                  <a:lnTo>
                    <a:pt x="4695" y="1469"/>
                  </a:lnTo>
                  <a:lnTo>
                    <a:pt x="4559" y="1387"/>
                  </a:lnTo>
                  <a:lnTo>
                    <a:pt x="4446" y="1394"/>
                  </a:lnTo>
                  <a:lnTo>
                    <a:pt x="4429" y="1274"/>
                  </a:lnTo>
                  <a:lnTo>
                    <a:pt x="4429" y="1202"/>
                  </a:lnTo>
                  <a:lnTo>
                    <a:pt x="4538" y="1165"/>
                  </a:lnTo>
                  <a:lnTo>
                    <a:pt x="4565" y="1093"/>
                  </a:lnTo>
                  <a:lnTo>
                    <a:pt x="4483" y="1137"/>
                  </a:lnTo>
                  <a:lnTo>
                    <a:pt x="4391" y="1192"/>
                  </a:lnTo>
                  <a:lnTo>
                    <a:pt x="4282" y="1202"/>
                  </a:lnTo>
                  <a:lnTo>
                    <a:pt x="4337" y="1332"/>
                  </a:lnTo>
                  <a:lnTo>
                    <a:pt x="4326" y="1431"/>
                  </a:lnTo>
                  <a:lnTo>
                    <a:pt x="4326" y="1513"/>
                  </a:lnTo>
                  <a:lnTo>
                    <a:pt x="4244" y="1562"/>
                  </a:lnTo>
                  <a:lnTo>
                    <a:pt x="4161" y="1590"/>
                  </a:lnTo>
                  <a:lnTo>
                    <a:pt x="4096" y="1525"/>
                  </a:lnTo>
                  <a:lnTo>
                    <a:pt x="4103" y="1442"/>
                  </a:lnTo>
                  <a:lnTo>
                    <a:pt x="4113" y="1387"/>
                  </a:lnTo>
                  <a:lnTo>
                    <a:pt x="4021" y="1431"/>
                  </a:lnTo>
                  <a:lnTo>
                    <a:pt x="3929" y="1377"/>
                  </a:lnTo>
                  <a:lnTo>
                    <a:pt x="3891" y="1305"/>
                  </a:lnTo>
                  <a:lnTo>
                    <a:pt x="3912" y="1202"/>
                  </a:lnTo>
                  <a:lnTo>
                    <a:pt x="3902" y="1192"/>
                  </a:lnTo>
                  <a:lnTo>
                    <a:pt x="3912" y="1185"/>
                  </a:lnTo>
                  <a:lnTo>
                    <a:pt x="3922" y="1175"/>
                  </a:lnTo>
                  <a:lnTo>
                    <a:pt x="2836" y="1175"/>
                  </a:lnTo>
                  <a:lnTo>
                    <a:pt x="2777" y="1247"/>
                  </a:lnTo>
                  <a:lnTo>
                    <a:pt x="2685" y="1295"/>
                  </a:lnTo>
                  <a:lnTo>
                    <a:pt x="2593" y="1257"/>
                  </a:lnTo>
                  <a:lnTo>
                    <a:pt x="2549" y="1192"/>
                  </a:lnTo>
                  <a:lnTo>
                    <a:pt x="2549" y="1127"/>
                  </a:lnTo>
                  <a:lnTo>
                    <a:pt x="2566" y="1110"/>
                  </a:lnTo>
                  <a:lnTo>
                    <a:pt x="2347" y="1110"/>
                  </a:lnTo>
                  <a:lnTo>
                    <a:pt x="2272" y="1127"/>
                  </a:lnTo>
                  <a:lnTo>
                    <a:pt x="2200" y="1257"/>
                  </a:lnTo>
                  <a:lnTo>
                    <a:pt x="2173" y="1360"/>
                  </a:lnTo>
                  <a:lnTo>
                    <a:pt x="2135" y="1452"/>
                  </a:lnTo>
                  <a:lnTo>
                    <a:pt x="2022" y="1431"/>
                  </a:lnTo>
                  <a:lnTo>
                    <a:pt x="1940" y="1360"/>
                  </a:lnTo>
                  <a:lnTo>
                    <a:pt x="1930" y="1202"/>
                  </a:lnTo>
                  <a:lnTo>
                    <a:pt x="1903" y="1055"/>
                  </a:lnTo>
                  <a:lnTo>
                    <a:pt x="1831" y="963"/>
                  </a:lnTo>
                  <a:lnTo>
                    <a:pt x="1848" y="888"/>
                  </a:lnTo>
                  <a:lnTo>
                    <a:pt x="1793" y="768"/>
                  </a:lnTo>
                  <a:lnTo>
                    <a:pt x="1739" y="714"/>
                  </a:lnTo>
                  <a:lnTo>
                    <a:pt x="1664" y="779"/>
                  </a:lnTo>
                  <a:lnTo>
                    <a:pt x="1554" y="707"/>
                  </a:lnTo>
                  <a:lnTo>
                    <a:pt x="1506" y="762"/>
                  </a:lnTo>
                  <a:lnTo>
                    <a:pt x="1445" y="799"/>
                  </a:lnTo>
                  <a:lnTo>
                    <a:pt x="1325" y="844"/>
                  </a:lnTo>
                  <a:lnTo>
                    <a:pt x="1250" y="936"/>
                  </a:lnTo>
                  <a:lnTo>
                    <a:pt x="1387" y="953"/>
                  </a:lnTo>
                  <a:lnTo>
                    <a:pt x="1517" y="1001"/>
                  </a:lnTo>
                  <a:lnTo>
                    <a:pt x="1582" y="1093"/>
                  </a:lnTo>
                  <a:lnTo>
                    <a:pt x="1664" y="1185"/>
                  </a:lnTo>
                  <a:lnTo>
                    <a:pt x="1684" y="1339"/>
                  </a:lnTo>
                  <a:lnTo>
                    <a:pt x="1636" y="1469"/>
                  </a:lnTo>
                  <a:lnTo>
                    <a:pt x="1554" y="1525"/>
                  </a:lnTo>
                  <a:lnTo>
                    <a:pt x="1462" y="1431"/>
                  </a:lnTo>
                  <a:lnTo>
                    <a:pt x="1288" y="1425"/>
                  </a:lnTo>
                  <a:lnTo>
                    <a:pt x="1288" y="1349"/>
                  </a:lnTo>
                  <a:lnTo>
                    <a:pt x="1445" y="1305"/>
                  </a:lnTo>
                  <a:lnTo>
                    <a:pt x="1452" y="1230"/>
                  </a:lnTo>
                  <a:lnTo>
                    <a:pt x="1435" y="1192"/>
                  </a:lnTo>
                  <a:lnTo>
                    <a:pt x="1380" y="1274"/>
                  </a:lnTo>
                  <a:lnTo>
                    <a:pt x="1295" y="1219"/>
                  </a:lnTo>
                  <a:lnTo>
                    <a:pt x="1418" y="1137"/>
                  </a:lnTo>
                  <a:lnTo>
                    <a:pt x="1462" y="1202"/>
                  </a:lnTo>
                  <a:lnTo>
                    <a:pt x="1380" y="1127"/>
                  </a:lnTo>
                  <a:lnTo>
                    <a:pt x="1288" y="1127"/>
                  </a:lnTo>
                  <a:lnTo>
                    <a:pt x="1223" y="1185"/>
                  </a:lnTo>
                  <a:lnTo>
                    <a:pt x="1240" y="1274"/>
                  </a:lnTo>
                  <a:lnTo>
                    <a:pt x="1240" y="1387"/>
                  </a:lnTo>
                  <a:lnTo>
                    <a:pt x="1206" y="1479"/>
                  </a:lnTo>
                  <a:lnTo>
                    <a:pt x="1240" y="1579"/>
                  </a:lnTo>
                  <a:lnTo>
                    <a:pt x="1141" y="1513"/>
                  </a:lnTo>
                  <a:lnTo>
                    <a:pt x="1093" y="1552"/>
                  </a:lnTo>
                  <a:lnTo>
                    <a:pt x="1076" y="1496"/>
                  </a:lnTo>
                  <a:lnTo>
                    <a:pt x="1093" y="1394"/>
                  </a:lnTo>
                  <a:lnTo>
                    <a:pt x="1011" y="1442"/>
                  </a:lnTo>
                  <a:lnTo>
                    <a:pt x="973" y="1525"/>
                  </a:lnTo>
                  <a:lnTo>
                    <a:pt x="908" y="1590"/>
                  </a:lnTo>
                  <a:lnTo>
                    <a:pt x="908" y="1661"/>
                  </a:lnTo>
                  <a:lnTo>
                    <a:pt x="799" y="1661"/>
                  </a:lnTo>
                  <a:lnTo>
                    <a:pt x="761" y="1719"/>
                  </a:lnTo>
                  <a:lnTo>
                    <a:pt x="799" y="1829"/>
                  </a:lnTo>
                  <a:lnTo>
                    <a:pt x="919" y="1883"/>
                  </a:lnTo>
                  <a:lnTo>
                    <a:pt x="973" y="1938"/>
                  </a:lnTo>
                  <a:lnTo>
                    <a:pt x="963" y="2041"/>
                  </a:lnTo>
                  <a:lnTo>
                    <a:pt x="1028" y="2020"/>
                  </a:lnTo>
                  <a:lnTo>
                    <a:pt x="1048" y="1921"/>
                  </a:lnTo>
                  <a:lnTo>
                    <a:pt x="1175" y="1921"/>
                  </a:lnTo>
                  <a:lnTo>
                    <a:pt x="1250" y="1829"/>
                  </a:lnTo>
                  <a:lnTo>
                    <a:pt x="1260" y="1726"/>
                  </a:lnTo>
                  <a:lnTo>
                    <a:pt x="1250" y="1562"/>
                  </a:lnTo>
                  <a:lnTo>
                    <a:pt x="1288" y="1459"/>
                  </a:lnTo>
                  <a:lnTo>
                    <a:pt x="1353" y="1387"/>
                  </a:lnTo>
                  <a:lnTo>
                    <a:pt x="1452" y="1452"/>
                  </a:lnTo>
                  <a:lnTo>
                    <a:pt x="1571" y="1525"/>
                  </a:lnTo>
                  <a:lnTo>
                    <a:pt x="1629" y="1562"/>
                  </a:lnTo>
                  <a:lnTo>
                    <a:pt x="1691" y="1661"/>
                  </a:lnTo>
                  <a:lnTo>
                    <a:pt x="1776" y="1719"/>
                  </a:lnTo>
                  <a:lnTo>
                    <a:pt x="1804" y="1829"/>
                  </a:lnTo>
                  <a:lnTo>
                    <a:pt x="1821" y="1911"/>
                  </a:lnTo>
                  <a:lnTo>
                    <a:pt x="1903" y="1965"/>
                  </a:lnTo>
                  <a:lnTo>
                    <a:pt x="1831" y="2047"/>
                  </a:lnTo>
                  <a:lnTo>
                    <a:pt x="1718" y="2047"/>
                  </a:lnTo>
                  <a:lnTo>
                    <a:pt x="1609" y="2112"/>
                  </a:lnTo>
                  <a:lnTo>
                    <a:pt x="1517" y="2177"/>
                  </a:lnTo>
                  <a:lnTo>
                    <a:pt x="1387" y="2242"/>
                  </a:lnTo>
                  <a:lnTo>
                    <a:pt x="1288" y="2345"/>
                  </a:lnTo>
                  <a:lnTo>
                    <a:pt x="1185" y="2427"/>
                  </a:lnTo>
                  <a:lnTo>
                    <a:pt x="1175" y="2509"/>
                  </a:lnTo>
                  <a:lnTo>
                    <a:pt x="1175" y="2553"/>
                  </a:lnTo>
                  <a:lnTo>
                    <a:pt x="1093" y="2628"/>
                  </a:lnTo>
                  <a:lnTo>
                    <a:pt x="1103" y="2700"/>
                  </a:lnTo>
                  <a:lnTo>
                    <a:pt x="1021" y="2792"/>
                  </a:lnTo>
                  <a:lnTo>
                    <a:pt x="1021" y="2912"/>
                  </a:lnTo>
                  <a:lnTo>
                    <a:pt x="1086" y="3004"/>
                  </a:lnTo>
                  <a:lnTo>
                    <a:pt x="1048" y="3059"/>
                  </a:lnTo>
                  <a:lnTo>
                    <a:pt x="963" y="3025"/>
                  </a:lnTo>
                  <a:lnTo>
                    <a:pt x="936" y="2912"/>
                  </a:lnTo>
                  <a:lnTo>
                    <a:pt x="864" y="2851"/>
                  </a:lnTo>
                  <a:lnTo>
                    <a:pt x="789" y="2857"/>
                  </a:lnTo>
                  <a:lnTo>
                    <a:pt x="751" y="2939"/>
                  </a:lnTo>
                  <a:lnTo>
                    <a:pt x="669" y="2912"/>
                  </a:lnTo>
                  <a:lnTo>
                    <a:pt x="577" y="2912"/>
                  </a:lnTo>
                  <a:lnTo>
                    <a:pt x="478" y="2998"/>
                  </a:lnTo>
                  <a:lnTo>
                    <a:pt x="457" y="3059"/>
                  </a:lnTo>
                  <a:lnTo>
                    <a:pt x="430" y="3144"/>
                  </a:lnTo>
                  <a:lnTo>
                    <a:pt x="420" y="3281"/>
                  </a:lnTo>
                  <a:lnTo>
                    <a:pt x="478" y="3356"/>
                  </a:lnTo>
                  <a:lnTo>
                    <a:pt x="560" y="3298"/>
                  </a:lnTo>
                  <a:lnTo>
                    <a:pt x="662" y="3298"/>
                  </a:lnTo>
                  <a:lnTo>
                    <a:pt x="669" y="3411"/>
                  </a:lnTo>
                  <a:lnTo>
                    <a:pt x="604" y="3493"/>
                  </a:lnTo>
                  <a:lnTo>
                    <a:pt x="717" y="3503"/>
                  </a:lnTo>
                  <a:lnTo>
                    <a:pt x="761" y="3520"/>
                  </a:lnTo>
                  <a:lnTo>
                    <a:pt x="789" y="3623"/>
                  </a:lnTo>
                  <a:lnTo>
                    <a:pt x="881" y="3678"/>
                  </a:lnTo>
                  <a:lnTo>
                    <a:pt x="994" y="3749"/>
                  </a:lnTo>
                  <a:lnTo>
                    <a:pt x="1076" y="3695"/>
                  </a:lnTo>
                  <a:lnTo>
                    <a:pt x="1240" y="3749"/>
                  </a:lnTo>
                  <a:lnTo>
                    <a:pt x="1359" y="3770"/>
                  </a:lnTo>
                  <a:lnTo>
                    <a:pt x="1544" y="3859"/>
                  </a:lnTo>
                  <a:lnTo>
                    <a:pt x="1582" y="3934"/>
                  </a:lnTo>
                  <a:lnTo>
                    <a:pt x="1691" y="4026"/>
                  </a:lnTo>
                  <a:lnTo>
                    <a:pt x="1749" y="4163"/>
                  </a:lnTo>
                  <a:lnTo>
                    <a:pt x="1875" y="4218"/>
                  </a:lnTo>
                  <a:lnTo>
                    <a:pt x="1995" y="4238"/>
                  </a:lnTo>
                  <a:lnTo>
                    <a:pt x="2108" y="4337"/>
                  </a:lnTo>
                  <a:lnTo>
                    <a:pt x="2261" y="4337"/>
                  </a:lnTo>
                  <a:lnTo>
                    <a:pt x="2272" y="4429"/>
                  </a:lnTo>
                  <a:lnTo>
                    <a:pt x="2272" y="4522"/>
                  </a:lnTo>
                  <a:lnTo>
                    <a:pt x="2200" y="4615"/>
                  </a:lnTo>
                  <a:lnTo>
                    <a:pt x="2190" y="4745"/>
                  </a:lnTo>
                  <a:lnTo>
                    <a:pt x="2173" y="4854"/>
                  </a:lnTo>
                  <a:lnTo>
                    <a:pt x="2087" y="4963"/>
                  </a:lnTo>
                  <a:lnTo>
                    <a:pt x="1968" y="5018"/>
                  </a:lnTo>
                  <a:lnTo>
                    <a:pt x="1869" y="5049"/>
                  </a:lnTo>
                  <a:lnTo>
                    <a:pt x="1913" y="5148"/>
                  </a:lnTo>
                  <a:lnTo>
                    <a:pt x="1821" y="5251"/>
                  </a:lnTo>
                  <a:lnTo>
                    <a:pt x="1739" y="5343"/>
                  </a:lnTo>
                  <a:lnTo>
                    <a:pt x="1636" y="5397"/>
                  </a:lnTo>
                  <a:lnTo>
                    <a:pt x="1554" y="5534"/>
                  </a:lnTo>
                  <a:lnTo>
                    <a:pt x="1506" y="5626"/>
                  </a:lnTo>
                  <a:lnTo>
                    <a:pt x="1418" y="5674"/>
                  </a:lnTo>
                  <a:lnTo>
                    <a:pt x="1353" y="5756"/>
                  </a:lnTo>
                  <a:lnTo>
                    <a:pt x="1295" y="5838"/>
                  </a:lnTo>
                  <a:lnTo>
                    <a:pt x="1260" y="5920"/>
                  </a:lnTo>
                  <a:lnTo>
                    <a:pt x="1267" y="5996"/>
                  </a:lnTo>
                  <a:lnTo>
                    <a:pt x="1223" y="6060"/>
                  </a:lnTo>
                  <a:lnTo>
                    <a:pt x="1158" y="5948"/>
                  </a:lnTo>
                  <a:lnTo>
                    <a:pt x="1055" y="5855"/>
                  </a:lnTo>
                  <a:lnTo>
                    <a:pt x="1021" y="5736"/>
                  </a:lnTo>
                  <a:lnTo>
                    <a:pt x="1021" y="5626"/>
                  </a:lnTo>
                  <a:lnTo>
                    <a:pt x="1011" y="5490"/>
                  </a:lnTo>
                  <a:lnTo>
                    <a:pt x="1055" y="5315"/>
                  </a:lnTo>
                  <a:lnTo>
                    <a:pt x="1076" y="5148"/>
                  </a:lnTo>
                  <a:lnTo>
                    <a:pt x="1048" y="4984"/>
                  </a:lnTo>
                  <a:lnTo>
                    <a:pt x="1011" y="4854"/>
                  </a:lnTo>
                  <a:lnTo>
                    <a:pt x="908" y="4745"/>
                  </a:lnTo>
                  <a:lnTo>
                    <a:pt x="799" y="4653"/>
                  </a:lnTo>
                  <a:lnTo>
                    <a:pt x="717" y="4515"/>
                  </a:lnTo>
                  <a:lnTo>
                    <a:pt x="697" y="4364"/>
                  </a:lnTo>
                  <a:lnTo>
                    <a:pt x="751" y="4265"/>
                  </a:lnTo>
                  <a:lnTo>
                    <a:pt x="751" y="4173"/>
                  </a:lnTo>
                  <a:lnTo>
                    <a:pt x="799" y="4016"/>
                  </a:lnTo>
                  <a:lnTo>
                    <a:pt x="874" y="3907"/>
                  </a:lnTo>
                  <a:lnTo>
                    <a:pt x="963" y="3831"/>
                  </a:lnTo>
                  <a:lnTo>
                    <a:pt x="1001" y="3770"/>
                  </a:lnTo>
                  <a:lnTo>
                    <a:pt x="881" y="3722"/>
                  </a:lnTo>
                  <a:lnTo>
                    <a:pt x="809" y="3749"/>
                  </a:lnTo>
                  <a:lnTo>
                    <a:pt x="744" y="3712"/>
                  </a:lnTo>
                  <a:lnTo>
                    <a:pt x="642" y="3640"/>
                  </a:lnTo>
                  <a:lnTo>
                    <a:pt x="550" y="3575"/>
                  </a:lnTo>
                  <a:lnTo>
                    <a:pt x="505" y="3473"/>
                  </a:lnTo>
                  <a:lnTo>
                    <a:pt x="457" y="3445"/>
                  </a:lnTo>
                  <a:lnTo>
                    <a:pt x="413" y="3493"/>
                  </a:lnTo>
                  <a:lnTo>
                    <a:pt x="300" y="3428"/>
                  </a:lnTo>
                  <a:lnTo>
                    <a:pt x="246" y="3346"/>
                  </a:lnTo>
                  <a:lnTo>
                    <a:pt x="201" y="3281"/>
                  </a:lnTo>
                  <a:lnTo>
                    <a:pt x="201" y="3162"/>
                  </a:lnTo>
                  <a:lnTo>
                    <a:pt x="181" y="3107"/>
                  </a:lnTo>
                  <a:lnTo>
                    <a:pt x="99" y="3032"/>
                  </a:lnTo>
                  <a:lnTo>
                    <a:pt x="99" y="3097"/>
                  </a:lnTo>
                  <a:lnTo>
                    <a:pt x="146" y="3179"/>
                  </a:lnTo>
                  <a:lnTo>
                    <a:pt x="164" y="3254"/>
                  </a:lnTo>
                  <a:lnTo>
                    <a:pt x="82" y="3199"/>
                  </a:lnTo>
                  <a:lnTo>
                    <a:pt x="27" y="3134"/>
                  </a:lnTo>
                  <a:lnTo>
                    <a:pt x="6" y="3042"/>
                  </a:lnTo>
                  <a:lnTo>
                    <a:pt x="17" y="2905"/>
                  </a:lnTo>
                  <a:lnTo>
                    <a:pt x="0" y="2710"/>
                  </a:lnTo>
                  <a:lnTo>
                    <a:pt x="17" y="2464"/>
                  </a:lnTo>
                  <a:lnTo>
                    <a:pt x="82" y="2112"/>
                  </a:lnTo>
                  <a:lnTo>
                    <a:pt x="191" y="1754"/>
                  </a:lnTo>
                  <a:lnTo>
                    <a:pt x="375" y="1339"/>
                  </a:lnTo>
                  <a:lnTo>
                    <a:pt x="522" y="1045"/>
                  </a:lnTo>
                  <a:lnTo>
                    <a:pt x="744" y="714"/>
                  </a:lnTo>
                  <a:lnTo>
                    <a:pt x="919" y="522"/>
                  </a:lnTo>
                  <a:close/>
                </a:path>
              </a:pathLst>
            </a:custGeom>
            <a:solidFill>
              <a:srgbClr val="2144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08160" y="1476360"/>
              <a:ext cx="2999160" cy="2188080"/>
            </a:xfrm>
            <a:custGeom>
              <a:avLst/>
              <a:gdLst/>
              <a:ahLst/>
              <a:rect l="0" t="0" r="r" b="b"/>
              <a:pathLst>
                <a:path w="8331" h="6078">
                  <a:moveTo>
                    <a:pt x="847" y="553"/>
                  </a:moveTo>
                  <a:lnTo>
                    <a:pt x="950" y="543"/>
                  </a:lnTo>
                  <a:lnTo>
                    <a:pt x="1022" y="471"/>
                  </a:lnTo>
                  <a:lnTo>
                    <a:pt x="1107" y="423"/>
                  </a:lnTo>
                  <a:lnTo>
                    <a:pt x="1151" y="369"/>
                  </a:lnTo>
                  <a:lnTo>
                    <a:pt x="1254" y="304"/>
                  </a:lnTo>
                  <a:lnTo>
                    <a:pt x="1336" y="276"/>
                  </a:lnTo>
                  <a:lnTo>
                    <a:pt x="1421" y="249"/>
                  </a:lnTo>
                  <a:lnTo>
                    <a:pt x="1483" y="249"/>
                  </a:lnTo>
                  <a:lnTo>
                    <a:pt x="1531" y="218"/>
                  </a:lnTo>
                  <a:lnTo>
                    <a:pt x="1606" y="218"/>
                  </a:lnTo>
                  <a:lnTo>
                    <a:pt x="1633" y="174"/>
                  </a:lnTo>
                  <a:lnTo>
                    <a:pt x="1715" y="191"/>
                  </a:lnTo>
                  <a:lnTo>
                    <a:pt x="1797" y="146"/>
                  </a:lnTo>
                  <a:lnTo>
                    <a:pt x="1862" y="174"/>
                  </a:lnTo>
                  <a:lnTo>
                    <a:pt x="1900" y="211"/>
                  </a:lnTo>
                  <a:lnTo>
                    <a:pt x="1862" y="249"/>
                  </a:lnTo>
                  <a:lnTo>
                    <a:pt x="1797" y="218"/>
                  </a:lnTo>
                  <a:lnTo>
                    <a:pt x="1732" y="256"/>
                  </a:lnTo>
                  <a:lnTo>
                    <a:pt x="1698" y="314"/>
                  </a:lnTo>
                  <a:lnTo>
                    <a:pt x="1678" y="375"/>
                  </a:lnTo>
                  <a:lnTo>
                    <a:pt x="1613" y="386"/>
                  </a:lnTo>
                  <a:lnTo>
                    <a:pt x="1531" y="423"/>
                  </a:lnTo>
                  <a:lnTo>
                    <a:pt x="1521" y="516"/>
                  </a:lnTo>
                  <a:lnTo>
                    <a:pt x="1514" y="591"/>
                  </a:lnTo>
                  <a:lnTo>
                    <a:pt x="1483" y="645"/>
                  </a:lnTo>
                  <a:lnTo>
                    <a:pt x="1521" y="700"/>
                  </a:lnTo>
                  <a:lnTo>
                    <a:pt x="1558" y="553"/>
                  </a:lnTo>
                  <a:lnTo>
                    <a:pt x="1613" y="526"/>
                  </a:lnTo>
                  <a:lnTo>
                    <a:pt x="1678" y="451"/>
                  </a:lnTo>
                  <a:lnTo>
                    <a:pt x="1726" y="348"/>
                  </a:lnTo>
                  <a:lnTo>
                    <a:pt x="1835" y="331"/>
                  </a:lnTo>
                  <a:lnTo>
                    <a:pt x="1927" y="283"/>
                  </a:lnTo>
                  <a:lnTo>
                    <a:pt x="1982" y="201"/>
                  </a:lnTo>
                  <a:lnTo>
                    <a:pt x="2057" y="201"/>
                  </a:lnTo>
                  <a:lnTo>
                    <a:pt x="2233" y="191"/>
                  </a:lnTo>
                  <a:lnTo>
                    <a:pt x="2417" y="146"/>
                  </a:lnTo>
                  <a:lnTo>
                    <a:pt x="2475" y="146"/>
                  </a:lnTo>
                  <a:lnTo>
                    <a:pt x="2557" y="146"/>
                  </a:lnTo>
                  <a:lnTo>
                    <a:pt x="2639" y="146"/>
                  </a:lnTo>
                  <a:lnTo>
                    <a:pt x="2714" y="174"/>
                  </a:lnTo>
                  <a:lnTo>
                    <a:pt x="2807" y="249"/>
                  </a:lnTo>
                  <a:lnTo>
                    <a:pt x="2769" y="256"/>
                  </a:lnTo>
                  <a:lnTo>
                    <a:pt x="2667" y="293"/>
                  </a:lnTo>
                  <a:lnTo>
                    <a:pt x="2677" y="375"/>
                  </a:lnTo>
                  <a:lnTo>
                    <a:pt x="2759" y="386"/>
                  </a:lnTo>
                  <a:lnTo>
                    <a:pt x="2797" y="386"/>
                  </a:lnTo>
                  <a:lnTo>
                    <a:pt x="2779" y="451"/>
                  </a:lnTo>
                  <a:lnTo>
                    <a:pt x="2677" y="543"/>
                  </a:lnTo>
                  <a:lnTo>
                    <a:pt x="2622" y="553"/>
                  </a:lnTo>
                  <a:lnTo>
                    <a:pt x="2632" y="608"/>
                  </a:lnTo>
                  <a:lnTo>
                    <a:pt x="2650" y="645"/>
                  </a:lnTo>
                  <a:lnTo>
                    <a:pt x="2622" y="700"/>
                  </a:lnTo>
                  <a:lnTo>
                    <a:pt x="2667" y="775"/>
                  </a:lnTo>
                  <a:lnTo>
                    <a:pt x="2568" y="803"/>
                  </a:lnTo>
                  <a:lnTo>
                    <a:pt x="2475" y="830"/>
                  </a:lnTo>
                  <a:lnTo>
                    <a:pt x="2465" y="933"/>
                  </a:lnTo>
                  <a:lnTo>
                    <a:pt x="2417" y="1015"/>
                  </a:lnTo>
                  <a:lnTo>
                    <a:pt x="2352" y="1079"/>
                  </a:lnTo>
                  <a:lnTo>
                    <a:pt x="2270" y="1117"/>
                  </a:lnTo>
                  <a:lnTo>
                    <a:pt x="2465" y="1117"/>
                  </a:lnTo>
                  <a:lnTo>
                    <a:pt x="2568" y="1117"/>
                  </a:lnTo>
                  <a:lnTo>
                    <a:pt x="2632" y="1134"/>
                  </a:lnTo>
                  <a:lnTo>
                    <a:pt x="2714" y="1100"/>
                  </a:lnTo>
                  <a:lnTo>
                    <a:pt x="2759" y="1182"/>
                  </a:lnTo>
                  <a:lnTo>
                    <a:pt x="3839" y="1182"/>
                  </a:lnTo>
                  <a:lnTo>
                    <a:pt x="3877" y="1117"/>
                  </a:lnTo>
                  <a:lnTo>
                    <a:pt x="3996" y="1035"/>
                  </a:lnTo>
                  <a:lnTo>
                    <a:pt x="4044" y="922"/>
                  </a:lnTo>
                  <a:lnTo>
                    <a:pt x="4136" y="813"/>
                  </a:lnTo>
                  <a:lnTo>
                    <a:pt x="4191" y="721"/>
                  </a:lnTo>
                  <a:lnTo>
                    <a:pt x="4229" y="618"/>
                  </a:lnTo>
                  <a:lnTo>
                    <a:pt x="4311" y="591"/>
                  </a:lnTo>
                  <a:lnTo>
                    <a:pt x="4338" y="526"/>
                  </a:lnTo>
                  <a:lnTo>
                    <a:pt x="4403" y="553"/>
                  </a:lnTo>
                  <a:lnTo>
                    <a:pt x="4468" y="498"/>
                  </a:lnTo>
                  <a:lnTo>
                    <a:pt x="4523" y="543"/>
                  </a:lnTo>
                  <a:lnTo>
                    <a:pt x="4608" y="581"/>
                  </a:lnTo>
                  <a:lnTo>
                    <a:pt x="4680" y="598"/>
                  </a:lnTo>
                  <a:lnTo>
                    <a:pt x="4765" y="618"/>
                  </a:lnTo>
                  <a:lnTo>
                    <a:pt x="4820" y="591"/>
                  </a:lnTo>
                  <a:lnTo>
                    <a:pt x="4892" y="628"/>
                  </a:lnTo>
                  <a:lnTo>
                    <a:pt x="4950" y="700"/>
                  </a:lnTo>
                  <a:lnTo>
                    <a:pt x="5042" y="721"/>
                  </a:lnTo>
                  <a:lnTo>
                    <a:pt x="5059" y="803"/>
                  </a:lnTo>
                  <a:lnTo>
                    <a:pt x="5032" y="857"/>
                  </a:lnTo>
                  <a:lnTo>
                    <a:pt x="4902" y="830"/>
                  </a:lnTo>
                  <a:lnTo>
                    <a:pt x="4810" y="792"/>
                  </a:lnTo>
                  <a:lnTo>
                    <a:pt x="4800" y="857"/>
                  </a:lnTo>
                  <a:lnTo>
                    <a:pt x="4929" y="878"/>
                  </a:lnTo>
                  <a:lnTo>
                    <a:pt x="5032" y="950"/>
                  </a:lnTo>
                  <a:lnTo>
                    <a:pt x="5169" y="895"/>
                  </a:lnTo>
                  <a:lnTo>
                    <a:pt x="5206" y="786"/>
                  </a:lnTo>
                  <a:lnTo>
                    <a:pt x="5271" y="690"/>
                  </a:lnTo>
                  <a:lnTo>
                    <a:pt x="5357" y="710"/>
                  </a:lnTo>
                  <a:lnTo>
                    <a:pt x="5336" y="755"/>
                  </a:lnTo>
                  <a:lnTo>
                    <a:pt x="5292" y="803"/>
                  </a:lnTo>
                  <a:lnTo>
                    <a:pt x="5292" y="878"/>
                  </a:lnTo>
                  <a:lnTo>
                    <a:pt x="5374" y="792"/>
                  </a:lnTo>
                  <a:lnTo>
                    <a:pt x="5456" y="721"/>
                  </a:lnTo>
                  <a:lnTo>
                    <a:pt x="5596" y="700"/>
                  </a:lnTo>
                  <a:lnTo>
                    <a:pt x="5760" y="645"/>
                  </a:lnTo>
                  <a:lnTo>
                    <a:pt x="5890" y="591"/>
                  </a:lnTo>
                  <a:lnTo>
                    <a:pt x="5917" y="516"/>
                  </a:lnTo>
                  <a:lnTo>
                    <a:pt x="5808" y="526"/>
                  </a:lnTo>
                  <a:lnTo>
                    <a:pt x="5716" y="451"/>
                  </a:lnTo>
                  <a:lnTo>
                    <a:pt x="5651" y="348"/>
                  </a:lnTo>
                  <a:lnTo>
                    <a:pt x="5716" y="218"/>
                  </a:lnTo>
                  <a:lnTo>
                    <a:pt x="5818" y="136"/>
                  </a:lnTo>
                  <a:lnTo>
                    <a:pt x="5900" y="44"/>
                  </a:lnTo>
                  <a:lnTo>
                    <a:pt x="6030" y="44"/>
                  </a:lnTo>
                  <a:lnTo>
                    <a:pt x="6129" y="0"/>
                  </a:lnTo>
                  <a:lnTo>
                    <a:pt x="6122" y="61"/>
                  </a:lnTo>
                  <a:lnTo>
                    <a:pt x="6037" y="82"/>
                  </a:lnTo>
                  <a:lnTo>
                    <a:pt x="6010" y="109"/>
                  </a:lnTo>
                  <a:lnTo>
                    <a:pt x="5928" y="119"/>
                  </a:lnTo>
                  <a:lnTo>
                    <a:pt x="5873" y="191"/>
                  </a:lnTo>
                  <a:lnTo>
                    <a:pt x="5835" y="276"/>
                  </a:lnTo>
                  <a:lnTo>
                    <a:pt x="5808" y="348"/>
                  </a:lnTo>
                  <a:lnTo>
                    <a:pt x="5900" y="498"/>
                  </a:lnTo>
                  <a:lnTo>
                    <a:pt x="6047" y="553"/>
                  </a:lnTo>
                  <a:lnTo>
                    <a:pt x="6150" y="608"/>
                  </a:lnTo>
                  <a:lnTo>
                    <a:pt x="6204" y="628"/>
                  </a:lnTo>
                  <a:lnTo>
                    <a:pt x="6253" y="700"/>
                  </a:lnTo>
                  <a:lnTo>
                    <a:pt x="6298" y="690"/>
                  </a:lnTo>
                  <a:lnTo>
                    <a:pt x="6298" y="628"/>
                  </a:lnTo>
                  <a:lnTo>
                    <a:pt x="6270" y="553"/>
                  </a:lnTo>
                  <a:lnTo>
                    <a:pt x="6221" y="505"/>
                  </a:lnTo>
                  <a:lnTo>
                    <a:pt x="6215" y="451"/>
                  </a:lnTo>
                  <a:lnTo>
                    <a:pt x="6253" y="348"/>
                  </a:lnTo>
                  <a:lnTo>
                    <a:pt x="6352" y="348"/>
                  </a:lnTo>
                  <a:lnTo>
                    <a:pt x="6438" y="348"/>
                  </a:lnTo>
                  <a:lnTo>
                    <a:pt x="6472" y="386"/>
                  </a:lnTo>
                  <a:lnTo>
                    <a:pt x="6503" y="478"/>
                  </a:lnTo>
                  <a:lnTo>
                    <a:pt x="6537" y="553"/>
                  </a:lnTo>
                  <a:lnTo>
                    <a:pt x="6557" y="478"/>
                  </a:lnTo>
                  <a:lnTo>
                    <a:pt x="6629" y="423"/>
                  </a:lnTo>
                  <a:lnTo>
                    <a:pt x="6715" y="423"/>
                  </a:lnTo>
                  <a:lnTo>
                    <a:pt x="6780" y="423"/>
                  </a:lnTo>
                  <a:lnTo>
                    <a:pt x="6851" y="434"/>
                  </a:lnTo>
                  <a:lnTo>
                    <a:pt x="6851" y="348"/>
                  </a:lnTo>
                  <a:lnTo>
                    <a:pt x="6916" y="348"/>
                  </a:lnTo>
                  <a:lnTo>
                    <a:pt x="6954" y="413"/>
                  </a:lnTo>
                  <a:lnTo>
                    <a:pt x="7046" y="413"/>
                  </a:lnTo>
                  <a:lnTo>
                    <a:pt x="7128" y="375"/>
                  </a:lnTo>
                  <a:lnTo>
                    <a:pt x="7214" y="451"/>
                  </a:lnTo>
                  <a:lnTo>
                    <a:pt x="7313" y="543"/>
                  </a:lnTo>
                  <a:lnTo>
                    <a:pt x="7426" y="553"/>
                  </a:lnTo>
                  <a:lnTo>
                    <a:pt x="7562" y="618"/>
                  </a:lnTo>
                  <a:lnTo>
                    <a:pt x="7610" y="608"/>
                  </a:lnTo>
                  <a:lnTo>
                    <a:pt x="7720" y="792"/>
                  </a:lnTo>
                  <a:lnTo>
                    <a:pt x="7877" y="1079"/>
                  </a:lnTo>
                  <a:lnTo>
                    <a:pt x="7996" y="1257"/>
                  </a:lnTo>
                  <a:lnTo>
                    <a:pt x="8051" y="1421"/>
                  </a:lnTo>
                  <a:lnTo>
                    <a:pt x="7969" y="1459"/>
                  </a:lnTo>
                  <a:lnTo>
                    <a:pt x="7942" y="1535"/>
                  </a:lnTo>
                  <a:lnTo>
                    <a:pt x="7969" y="1672"/>
                  </a:lnTo>
                  <a:lnTo>
                    <a:pt x="8024" y="1802"/>
                  </a:lnTo>
                  <a:lnTo>
                    <a:pt x="8082" y="1802"/>
                  </a:lnTo>
                  <a:lnTo>
                    <a:pt x="8082" y="1699"/>
                  </a:lnTo>
                  <a:lnTo>
                    <a:pt x="8137" y="1672"/>
                  </a:lnTo>
                  <a:lnTo>
                    <a:pt x="8174" y="1764"/>
                  </a:lnTo>
                  <a:lnTo>
                    <a:pt x="8099" y="1802"/>
                  </a:lnTo>
                  <a:lnTo>
                    <a:pt x="8208" y="1894"/>
                  </a:lnTo>
                  <a:lnTo>
                    <a:pt x="8126" y="2007"/>
                  </a:lnTo>
                  <a:lnTo>
                    <a:pt x="8109" y="2061"/>
                  </a:lnTo>
                  <a:lnTo>
                    <a:pt x="8246" y="2099"/>
                  </a:lnTo>
                  <a:lnTo>
                    <a:pt x="8181" y="2171"/>
                  </a:lnTo>
                  <a:lnTo>
                    <a:pt x="8116" y="2201"/>
                  </a:lnTo>
                  <a:lnTo>
                    <a:pt x="8116" y="2328"/>
                  </a:lnTo>
                  <a:lnTo>
                    <a:pt x="8181" y="2441"/>
                  </a:lnTo>
                  <a:lnTo>
                    <a:pt x="8116" y="2468"/>
                  </a:lnTo>
                  <a:lnTo>
                    <a:pt x="7996" y="2430"/>
                  </a:lnTo>
                  <a:lnTo>
                    <a:pt x="8044" y="2376"/>
                  </a:lnTo>
                  <a:lnTo>
                    <a:pt x="8126" y="2376"/>
                  </a:lnTo>
                  <a:lnTo>
                    <a:pt x="8126" y="2229"/>
                  </a:lnTo>
                  <a:lnTo>
                    <a:pt x="8034" y="2273"/>
                  </a:lnTo>
                  <a:lnTo>
                    <a:pt x="8024" y="2171"/>
                  </a:lnTo>
                  <a:lnTo>
                    <a:pt x="8109" y="2099"/>
                  </a:lnTo>
                  <a:lnTo>
                    <a:pt x="8126" y="2014"/>
                  </a:lnTo>
                  <a:lnTo>
                    <a:pt x="8082" y="1914"/>
                  </a:lnTo>
                  <a:lnTo>
                    <a:pt x="8082" y="1795"/>
                  </a:lnTo>
                  <a:lnTo>
                    <a:pt x="8017" y="1839"/>
                  </a:lnTo>
                  <a:lnTo>
                    <a:pt x="7952" y="1931"/>
                  </a:lnTo>
                  <a:lnTo>
                    <a:pt x="7850" y="2014"/>
                  </a:lnTo>
                  <a:lnTo>
                    <a:pt x="7877" y="2126"/>
                  </a:lnTo>
                  <a:lnTo>
                    <a:pt x="7867" y="2229"/>
                  </a:lnTo>
                  <a:lnTo>
                    <a:pt x="7867" y="2294"/>
                  </a:lnTo>
                  <a:lnTo>
                    <a:pt x="7925" y="2376"/>
                  </a:lnTo>
                  <a:lnTo>
                    <a:pt x="7877" y="2424"/>
                  </a:lnTo>
                  <a:lnTo>
                    <a:pt x="7774" y="2311"/>
                  </a:lnTo>
                  <a:lnTo>
                    <a:pt x="7720" y="2201"/>
                  </a:lnTo>
                  <a:lnTo>
                    <a:pt x="7682" y="2116"/>
                  </a:lnTo>
                  <a:lnTo>
                    <a:pt x="7638" y="2078"/>
                  </a:lnTo>
                  <a:lnTo>
                    <a:pt x="7556" y="2126"/>
                  </a:lnTo>
                  <a:lnTo>
                    <a:pt x="7518" y="2208"/>
                  </a:lnTo>
                  <a:lnTo>
                    <a:pt x="7617" y="2311"/>
                  </a:lnTo>
                  <a:lnTo>
                    <a:pt x="7675" y="2424"/>
                  </a:lnTo>
                  <a:lnTo>
                    <a:pt x="7682" y="2550"/>
                  </a:lnTo>
                  <a:lnTo>
                    <a:pt x="7675" y="2680"/>
                  </a:lnTo>
                  <a:lnTo>
                    <a:pt x="7675" y="2782"/>
                  </a:lnTo>
                  <a:lnTo>
                    <a:pt x="7730" y="2707"/>
                  </a:lnTo>
                  <a:lnTo>
                    <a:pt x="7812" y="2718"/>
                  </a:lnTo>
                  <a:lnTo>
                    <a:pt x="7839" y="2800"/>
                  </a:lnTo>
                  <a:lnTo>
                    <a:pt x="7774" y="2885"/>
                  </a:lnTo>
                  <a:lnTo>
                    <a:pt x="7703" y="2875"/>
                  </a:lnTo>
                  <a:lnTo>
                    <a:pt x="7682" y="2950"/>
                  </a:lnTo>
                  <a:lnTo>
                    <a:pt x="7747" y="3022"/>
                  </a:lnTo>
                  <a:lnTo>
                    <a:pt x="7720" y="3117"/>
                  </a:lnTo>
                  <a:lnTo>
                    <a:pt x="7802" y="3189"/>
                  </a:lnTo>
                  <a:lnTo>
                    <a:pt x="7747" y="3254"/>
                  </a:lnTo>
                  <a:lnTo>
                    <a:pt x="7832" y="3336"/>
                  </a:lnTo>
                  <a:lnTo>
                    <a:pt x="7774" y="3422"/>
                  </a:lnTo>
                  <a:lnTo>
                    <a:pt x="7867" y="3367"/>
                  </a:lnTo>
                  <a:lnTo>
                    <a:pt x="7839" y="3449"/>
                  </a:lnTo>
                  <a:lnTo>
                    <a:pt x="8007" y="3422"/>
                  </a:lnTo>
                  <a:lnTo>
                    <a:pt x="7952" y="3524"/>
                  </a:lnTo>
                  <a:lnTo>
                    <a:pt x="7839" y="3449"/>
                  </a:lnTo>
                  <a:lnTo>
                    <a:pt x="7832" y="3558"/>
                  </a:lnTo>
                  <a:lnTo>
                    <a:pt x="7996" y="3551"/>
                  </a:lnTo>
                  <a:lnTo>
                    <a:pt x="7925" y="3671"/>
                  </a:lnTo>
                  <a:lnTo>
                    <a:pt x="7812" y="3541"/>
                  </a:lnTo>
                  <a:lnTo>
                    <a:pt x="7867" y="3715"/>
                  </a:lnTo>
                  <a:lnTo>
                    <a:pt x="8007" y="3839"/>
                  </a:lnTo>
                  <a:lnTo>
                    <a:pt x="7877" y="3839"/>
                  </a:lnTo>
                  <a:lnTo>
                    <a:pt x="7812" y="3558"/>
                  </a:lnTo>
                  <a:lnTo>
                    <a:pt x="7839" y="3384"/>
                  </a:lnTo>
                  <a:lnTo>
                    <a:pt x="7747" y="3384"/>
                  </a:lnTo>
                  <a:lnTo>
                    <a:pt x="7675" y="3281"/>
                  </a:lnTo>
                  <a:lnTo>
                    <a:pt x="7747" y="3244"/>
                  </a:lnTo>
                  <a:lnTo>
                    <a:pt x="7747" y="3134"/>
                  </a:lnTo>
                  <a:lnTo>
                    <a:pt x="7703" y="2923"/>
                  </a:lnTo>
                  <a:lnTo>
                    <a:pt x="7682" y="2772"/>
                  </a:lnTo>
                  <a:lnTo>
                    <a:pt x="7675" y="2663"/>
                  </a:lnTo>
                  <a:lnTo>
                    <a:pt x="7583" y="2782"/>
                  </a:lnTo>
                  <a:lnTo>
                    <a:pt x="7443" y="2837"/>
                  </a:lnTo>
                  <a:lnTo>
                    <a:pt x="7371" y="2929"/>
                  </a:lnTo>
                  <a:lnTo>
                    <a:pt x="7398" y="3032"/>
                  </a:lnTo>
                  <a:lnTo>
                    <a:pt x="7340" y="3117"/>
                  </a:lnTo>
                  <a:lnTo>
                    <a:pt x="7248" y="3087"/>
                  </a:lnTo>
                  <a:lnTo>
                    <a:pt x="7333" y="2977"/>
                  </a:lnTo>
                  <a:lnTo>
                    <a:pt x="7268" y="2940"/>
                  </a:lnTo>
                  <a:lnTo>
                    <a:pt x="7193" y="3005"/>
                  </a:lnTo>
                  <a:lnTo>
                    <a:pt x="7193" y="3107"/>
                  </a:lnTo>
                  <a:lnTo>
                    <a:pt x="7333" y="3244"/>
                  </a:lnTo>
                  <a:lnTo>
                    <a:pt x="7371" y="3346"/>
                  </a:lnTo>
                  <a:lnTo>
                    <a:pt x="7258" y="3493"/>
                  </a:lnTo>
                  <a:lnTo>
                    <a:pt x="7258" y="3808"/>
                  </a:lnTo>
                  <a:lnTo>
                    <a:pt x="7258" y="3948"/>
                  </a:lnTo>
                  <a:lnTo>
                    <a:pt x="7275" y="4030"/>
                  </a:lnTo>
                  <a:lnTo>
                    <a:pt x="7432" y="4023"/>
                  </a:lnTo>
                  <a:lnTo>
                    <a:pt x="7535" y="4040"/>
                  </a:lnTo>
                  <a:lnTo>
                    <a:pt x="7610" y="3921"/>
                  </a:lnTo>
                  <a:lnTo>
                    <a:pt x="7682" y="3921"/>
                  </a:lnTo>
                  <a:lnTo>
                    <a:pt x="7648" y="3996"/>
                  </a:lnTo>
                  <a:lnTo>
                    <a:pt x="7747" y="4078"/>
                  </a:lnTo>
                  <a:lnTo>
                    <a:pt x="7867" y="4095"/>
                  </a:lnTo>
                  <a:lnTo>
                    <a:pt x="7850" y="4023"/>
                  </a:lnTo>
                  <a:lnTo>
                    <a:pt x="8116" y="4023"/>
                  </a:lnTo>
                  <a:lnTo>
                    <a:pt x="8024" y="4050"/>
                  </a:lnTo>
                  <a:lnTo>
                    <a:pt x="8017" y="4122"/>
                  </a:lnTo>
                  <a:lnTo>
                    <a:pt x="8137" y="4160"/>
                  </a:lnTo>
                  <a:lnTo>
                    <a:pt x="8256" y="4197"/>
                  </a:lnTo>
                  <a:lnTo>
                    <a:pt x="8311" y="4061"/>
                  </a:lnTo>
                  <a:lnTo>
                    <a:pt x="8331" y="3996"/>
                  </a:lnTo>
                  <a:lnTo>
                    <a:pt x="8246" y="4003"/>
                  </a:lnTo>
                  <a:lnTo>
                    <a:pt x="8174" y="3958"/>
                  </a:lnTo>
                  <a:lnTo>
                    <a:pt x="8116" y="3938"/>
                  </a:lnTo>
                  <a:lnTo>
                    <a:pt x="8082" y="4040"/>
                  </a:lnTo>
                  <a:lnTo>
                    <a:pt x="8082" y="4030"/>
                  </a:lnTo>
                  <a:lnTo>
                    <a:pt x="7832" y="4030"/>
                  </a:lnTo>
                  <a:lnTo>
                    <a:pt x="7774" y="3893"/>
                  </a:lnTo>
                  <a:lnTo>
                    <a:pt x="7703" y="3931"/>
                  </a:lnTo>
                  <a:lnTo>
                    <a:pt x="7617" y="3921"/>
                  </a:lnTo>
                  <a:lnTo>
                    <a:pt x="7583" y="3774"/>
                  </a:lnTo>
                  <a:lnTo>
                    <a:pt x="7545" y="3688"/>
                  </a:lnTo>
                  <a:lnTo>
                    <a:pt x="7627" y="3644"/>
                  </a:lnTo>
                  <a:lnTo>
                    <a:pt x="7627" y="3558"/>
                  </a:lnTo>
                  <a:lnTo>
                    <a:pt x="7508" y="3616"/>
                  </a:lnTo>
                  <a:lnTo>
                    <a:pt x="7426" y="3688"/>
                  </a:lnTo>
                  <a:lnTo>
                    <a:pt x="7371" y="3791"/>
                  </a:lnTo>
                  <a:lnTo>
                    <a:pt x="7258" y="3791"/>
                  </a:lnTo>
                  <a:lnTo>
                    <a:pt x="7258" y="3531"/>
                  </a:lnTo>
                  <a:lnTo>
                    <a:pt x="7203" y="3589"/>
                  </a:lnTo>
                  <a:lnTo>
                    <a:pt x="7128" y="3466"/>
                  </a:lnTo>
                  <a:lnTo>
                    <a:pt x="7036" y="3357"/>
                  </a:lnTo>
                  <a:lnTo>
                    <a:pt x="6927" y="3384"/>
                  </a:lnTo>
                  <a:lnTo>
                    <a:pt x="6916" y="3493"/>
                  </a:lnTo>
                  <a:lnTo>
                    <a:pt x="6964" y="3633"/>
                  </a:lnTo>
                  <a:lnTo>
                    <a:pt x="6964" y="3753"/>
                  </a:lnTo>
                  <a:lnTo>
                    <a:pt x="7046" y="3866"/>
                  </a:lnTo>
                  <a:lnTo>
                    <a:pt x="7101" y="3931"/>
                  </a:lnTo>
                  <a:lnTo>
                    <a:pt x="7009" y="3931"/>
                  </a:lnTo>
                  <a:lnTo>
                    <a:pt x="6937" y="3866"/>
                  </a:lnTo>
                  <a:lnTo>
                    <a:pt x="6899" y="3938"/>
                  </a:lnTo>
                  <a:lnTo>
                    <a:pt x="7029" y="4095"/>
                  </a:lnTo>
                  <a:lnTo>
                    <a:pt x="7128" y="4180"/>
                  </a:lnTo>
                  <a:lnTo>
                    <a:pt x="7221" y="4170"/>
                  </a:lnTo>
                  <a:lnTo>
                    <a:pt x="7333" y="4197"/>
                  </a:lnTo>
                  <a:lnTo>
                    <a:pt x="7463" y="4197"/>
                  </a:lnTo>
                  <a:lnTo>
                    <a:pt x="7583" y="4180"/>
                  </a:lnTo>
                  <a:lnTo>
                    <a:pt x="7703" y="4245"/>
                  </a:lnTo>
                  <a:lnTo>
                    <a:pt x="7675" y="4262"/>
                  </a:lnTo>
                  <a:lnTo>
                    <a:pt x="7545" y="4225"/>
                  </a:lnTo>
                  <a:lnTo>
                    <a:pt x="7545" y="4437"/>
                  </a:lnTo>
                  <a:lnTo>
                    <a:pt x="7638" y="4437"/>
                  </a:lnTo>
                  <a:lnTo>
                    <a:pt x="7682" y="4430"/>
                  </a:lnTo>
                  <a:lnTo>
                    <a:pt x="7703" y="4355"/>
                  </a:lnTo>
                  <a:lnTo>
                    <a:pt x="7812" y="4365"/>
                  </a:lnTo>
                  <a:lnTo>
                    <a:pt x="7942" y="4327"/>
                  </a:lnTo>
                  <a:lnTo>
                    <a:pt x="7932" y="4409"/>
                  </a:lnTo>
                  <a:lnTo>
                    <a:pt x="7969" y="4474"/>
                  </a:lnTo>
                  <a:lnTo>
                    <a:pt x="8044" y="4532"/>
                  </a:lnTo>
                  <a:lnTo>
                    <a:pt x="8116" y="4474"/>
                  </a:lnTo>
                  <a:lnTo>
                    <a:pt x="8109" y="4375"/>
                  </a:lnTo>
                  <a:lnTo>
                    <a:pt x="8116" y="4290"/>
                  </a:lnTo>
                  <a:lnTo>
                    <a:pt x="8174" y="4375"/>
                  </a:lnTo>
                  <a:lnTo>
                    <a:pt x="8181" y="4502"/>
                  </a:lnTo>
                  <a:lnTo>
                    <a:pt x="8082" y="4725"/>
                  </a:lnTo>
                  <a:lnTo>
                    <a:pt x="7969" y="4947"/>
                  </a:lnTo>
                  <a:lnTo>
                    <a:pt x="7867" y="5169"/>
                  </a:lnTo>
                  <a:lnTo>
                    <a:pt x="7747" y="5391"/>
                  </a:lnTo>
                  <a:lnTo>
                    <a:pt x="7648" y="5336"/>
                  </a:lnTo>
                  <a:lnTo>
                    <a:pt x="7545" y="5374"/>
                  </a:lnTo>
                  <a:lnTo>
                    <a:pt x="7508" y="5456"/>
                  </a:lnTo>
                  <a:lnTo>
                    <a:pt x="7426" y="5511"/>
                  </a:lnTo>
                  <a:lnTo>
                    <a:pt x="7268" y="5542"/>
                  </a:lnTo>
                  <a:lnTo>
                    <a:pt x="7176" y="5521"/>
                  </a:lnTo>
                  <a:lnTo>
                    <a:pt x="7214" y="5384"/>
                  </a:lnTo>
                  <a:lnTo>
                    <a:pt x="7203" y="5282"/>
                  </a:lnTo>
                  <a:lnTo>
                    <a:pt x="7258" y="5207"/>
                  </a:lnTo>
                  <a:lnTo>
                    <a:pt x="7248" y="5131"/>
                  </a:lnTo>
                  <a:lnTo>
                    <a:pt x="7139" y="5077"/>
                  </a:lnTo>
                  <a:lnTo>
                    <a:pt x="7149" y="4947"/>
                  </a:lnTo>
                  <a:lnTo>
                    <a:pt x="7193" y="4810"/>
                  </a:lnTo>
                  <a:lnTo>
                    <a:pt x="7296" y="4708"/>
                  </a:lnTo>
                  <a:lnTo>
                    <a:pt x="7432" y="4708"/>
                  </a:lnTo>
                  <a:lnTo>
                    <a:pt x="7453" y="4626"/>
                  </a:lnTo>
                  <a:lnTo>
                    <a:pt x="7426" y="4502"/>
                  </a:lnTo>
                  <a:lnTo>
                    <a:pt x="7508" y="4447"/>
                  </a:lnTo>
                  <a:lnTo>
                    <a:pt x="7545" y="4437"/>
                  </a:lnTo>
                  <a:lnTo>
                    <a:pt x="7545" y="4245"/>
                  </a:lnTo>
                  <a:lnTo>
                    <a:pt x="7432" y="4252"/>
                  </a:lnTo>
                  <a:lnTo>
                    <a:pt x="7333" y="4300"/>
                  </a:lnTo>
                  <a:lnTo>
                    <a:pt x="7231" y="4245"/>
                  </a:lnTo>
                  <a:lnTo>
                    <a:pt x="7121" y="4245"/>
                  </a:lnTo>
                  <a:lnTo>
                    <a:pt x="6971" y="4180"/>
                  </a:lnTo>
                  <a:lnTo>
                    <a:pt x="6899" y="4095"/>
                  </a:lnTo>
                  <a:lnTo>
                    <a:pt x="6845" y="3996"/>
                  </a:lnTo>
                  <a:lnTo>
                    <a:pt x="6769" y="3921"/>
                  </a:lnTo>
                  <a:lnTo>
                    <a:pt x="6845" y="3893"/>
                  </a:lnTo>
                  <a:lnTo>
                    <a:pt x="6899" y="3931"/>
                  </a:lnTo>
                  <a:lnTo>
                    <a:pt x="6944" y="3856"/>
                  </a:lnTo>
                  <a:lnTo>
                    <a:pt x="6927" y="3746"/>
                  </a:lnTo>
                  <a:lnTo>
                    <a:pt x="6845" y="3726"/>
                  </a:lnTo>
                  <a:lnTo>
                    <a:pt x="6807" y="3596"/>
                  </a:lnTo>
                  <a:lnTo>
                    <a:pt x="6834" y="3466"/>
                  </a:lnTo>
                  <a:lnTo>
                    <a:pt x="6899" y="3367"/>
                  </a:lnTo>
                  <a:lnTo>
                    <a:pt x="6872" y="3244"/>
                  </a:lnTo>
                  <a:lnTo>
                    <a:pt x="6834" y="3227"/>
                  </a:lnTo>
                  <a:lnTo>
                    <a:pt x="6769" y="3292"/>
                  </a:lnTo>
                  <a:lnTo>
                    <a:pt x="6759" y="3367"/>
                  </a:lnTo>
                  <a:lnTo>
                    <a:pt x="6694" y="3244"/>
                  </a:lnTo>
                  <a:lnTo>
                    <a:pt x="6564" y="3145"/>
                  </a:lnTo>
                  <a:lnTo>
                    <a:pt x="6503" y="3162"/>
                  </a:lnTo>
                  <a:lnTo>
                    <a:pt x="6417" y="3281"/>
                  </a:lnTo>
                  <a:lnTo>
                    <a:pt x="6308" y="3357"/>
                  </a:lnTo>
                  <a:lnTo>
                    <a:pt x="6308" y="3439"/>
                  </a:lnTo>
                  <a:lnTo>
                    <a:pt x="6346" y="3531"/>
                  </a:lnTo>
                  <a:lnTo>
                    <a:pt x="6335" y="3623"/>
                  </a:lnTo>
                  <a:lnTo>
                    <a:pt x="6253" y="3616"/>
                  </a:lnTo>
                  <a:lnTo>
                    <a:pt x="6194" y="3493"/>
                  </a:lnTo>
                  <a:lnTo>
                    <a:pt x="6102" y="3367"/>
                  </a:lnTo>
                  <a:lnTo>
                    <a:pt x="6003" y="3281"/>
                  </a:lnTo>
                  <a:lnTo>
                    <a:pt x="5917" y="3145"/>
                  </a:lnTo>
                  <a:lnTo>
                    <a:pt x="5845" y="3107"/>
                  </a:lnTo>
                  <a:lnTo>
                    <a:pt x="5705" y="3107"/>
                  </a:lnTo>
                  <a:lnTo>
                    <a:pt x="5596" y="3107"/>
                  </a:lnTo>
                  <a:lnTo>
                    <a:pt x="5521" y="3162"/>
                  </a:lnTo>
                  <a:lnTo>
                    <a:pt x="5449" y="3059"/>
                  </a:lnTo>
                  <a:lnTo>
                    <a:pt x="5364" y="3015"/>
                  </a:lnTo>
                  <a:lnTo>
                    <a:pt x="5254" y="2923"/>
                  </a:lnTo>
                  <a:lnTo>
                    <a:pt x="5336" y="3059"/>
                  </a:lnTo>
                  <a:lnTo>
                    <a:pt x="5456" y="3117"/>
                  </a:lnTo>
                  <a:lnTo>
                    <a:pt x="5541" y="3244"/>
                  </a:lnTo>
                  <a:lnTo>
                    <a:pt x="5511" y="3357"/>
                  </a:lnTo>
                  <a:lnTo>
                    <a:pt x="5428" y="3422"/>
                  </a:lnTo>
                  <a:lnTo>
                    <a:pt x="5299" y="3439"/>
                  </a:lnTo>
                  <a:lnTo>
                    <a:pt x="5199" y="3493"/>
                  </a:lnTo>
                  <a:lnTo>
                    <a:pt x="5124" y="3596"/>
                  </a:lnTo>
                  <a:lnTo>
                    <a:pt x="5059" y="3644"/>
                  </a:lnTo>
                  <a:lnTo>
                    <a:pt x="5042" y="3524"/>
                  </a:lnTo>
                  <a:lnTo>
                    <a:pt x="4967" y="3357"/>
                  </a:lnTo>
                  <a:lnTo>
                    <a:pt x="4892" y="3264"/>
                  </a:lnTo>
                  <a:lnTo>
                    <a:pt x="4892" y="3162"/>
                  </a:lnTo>
                  <a:lnTo>
                    <a:pt x="4820" y="3179"/>
                  </a:lnTo>
                  <a:lnTo>
                    <a:pt x="4847" y="3336"/>
                  </a:lnTo>
                  <a:lnTo>
                    <a:pt x="4923" y="3466"/>
                  </a:lnTo>
                  <a:lnTo>
                    <a:pt x="4923" y="3589"/>
                  </a:lnTo>
                  <a:lnTo>
                    <a:pt x="5032" y="3633"/>
                  </a:lnTo>
                  <a:lnTo>
                    <a:pt x="5059" y="3715"/>
                  </a:lnTo>
                  <a:lnTo>
                    <a:pt x="5179" y="3688"/>
                  </a:lnTo>
                  <a:lnTo>
                    <a:pt x="5271" y="3671"/>
                  </a:lnTo>
                  <a:lnTo>
                    <a:pt x="5391" y="3616"/>
                  </a:lnTo>
                  <a:lnTo>
                    <a:pt x="5346" y="3763"/>
                  </a:lnTo>
                  <a:lnTo>
                    <a:pt x="5254" y="3948"/>
                  </a:lnTo>
                  <a:lnTo>
                    <a:pt x="5179" y="4061"/>
                  </a:lnTo>
                  <a:lnTo>
                    <a:pt x="5097" y="4170"/>
                  </a:lnTo>
                  <a:lnTo>
                    <a:pt x="5042" y="4262"/>
                  </a:lnTo>
                  <a:lnTo>
                    <a:pt x="5022" y="4474"/>
                  </a:lnTo>
                  <a:lnTo>
                    <a:pt x="5005" y="4632"/>
                  </a:lnTo>
                  <a:lnTo>
                    <a:pt x="5015" y="4773"/>
                  </a:lnTo>
                  <a:lnTo>
                    <a:pt x="5032" y="4913"/>
                  </a:lnTo>
                  <a:lnTo>
                    <a:pt x="5032" y="4947"/>
                  </a:lnTo>
                  <a:lnTo>
                    <a:pt x="5124" y="4940"/>
                  </a:lnTo>
                  <a:lnTo>
                    <a:pt x="5135" y="4810"/>
                  </a:lnTo>
                  <a:lnTo>
                    <a:pt x="5227" y="4708"/>
                  </a:lnTo>
                  <a:lnTo>
                    <a:pt x="5336" y="4632"/>
                  </a:lnTo>
                  <a:lnTo>
                    <a:pt x="5357" y="4762"/>
                  </a:lnTo>
                  <a:lnTo>
                    <a:pt x="5346" y="4882"/>
                  </a:lnTo>
                  <a:lnTo>
                    <a:pt x="5292" y="4947"/>
                  </a:lnTo>
                  <a:lnTo>
                    <a:pt x="5299" y="5012"/>
                  </a:lnTo>
                  <a:lnTo>
                    <a:pt x="5264" y="5179"/>
                  </a:lnTo>
                  <a:lnTo>
                    <a:pt x="5234" y="5261"/>
                  </a:lnTo>
                  <a:lnTo>
                    <a:pt x="5169" y="5282"/>
                  </a:lnTo>
                  <a:lnTo>
                    <a:pt x="5107" y="5207"/>
                  </a:lnTo>
                  <a:lnTo>
                    <a:pt x="5135" y="5087"/>
                  </a:lnTo>
                  <a:lnTo>
                    <a:pt x="5152" y="5032"/>
                  </a:lnTo>
                  <a:lnTo>
                    <a:pt x="5114" y="4947"/>
                  </a:lnTo>
                  <a:lnTo>
                    <a:pt x="5022" y="4957"/>
                  </a:lnTo>
                  <a:lnTo>
                    <a:pt x="4984" y="5077"/>
                  </a:lnTo>
                  <a:lnTo>
                    <a:pt x="4858" y="5131"/>
                  </a:lnTo>
                  <a:lnTo>
                    <a:pt x="4772" y="5207"/>
                  </a:lnTo>
                  <a:lnTo>
                    <a:pt x="4793" y="5336"/>
                  </a:lnTo>
                  <a:lnTo>
                    <a:pt x="4772" y="5477"/>
                  </a:lnTo>
                  <a:lnTo>
                    <a:pt x="4738" y="5634"/>
                  </a:lnTo>
                  <a:lnTo>
                    <a:pt x="4550" y="5808"/>
                  </a:lnTo>
                  <a:lnTo>
                    <a:pt x="4468" y="5825"/>
                  </a:lnTo>
                  <a:lnTo>
                    <a:pt x="4424" y="5699"/>
                  </a:lnTo>
                  <a:lnTo>
                    <a:pt x="4311" y="5634"/>
                  </a:lnTo>
                  <a:lnTo>
                    <a:pt x="4256" y="5586"/>
                  </a:lnTo>
                  <a:lnTo>
                    <a:pt x="4147" y="5374"/>
                  </a:lnTo>
                  <a:lnTo>
                    <a:pt x="4054" y="5272"/>
                  </a:lnTo>
                  <a:lnTo>
                    <a:pt x="3996" y="5169"/>
                  </a:lnTo>
                  <a:lnTo>
                    <a:pt x="3952" y="5060"/>
                  </a:lnTo>
                  <a:lnTo>
                    <a:pt x="3942" y="4913"/>
                  </a:lnTo>
                  <a:lnTo>
                    <a:pt x="3860" y="4810"/>
                  </a:lnTo>
                  <a:lnTo>
                    <a:pt x="3832" y="4725"/>
                  </a:lnTo>
                  <a:lnTo>
                    <a:pt x="3877" y="4605"/>
                  </a:lnTo>
                  <a:lnTo>
                    <a:pt x="3877" y="4502"/>
                  </a:lnTo>
                  <a:lnTo>
                    <a:pt x="3805" y="4437"/>
                  </a:lnTo>
                  <a:lnTo>
                    <a:pt x="3675" y="4430"/>
                  </a:lnTo>
                  <a:lnTo>
                    <a:pt x="3562" y="4375"/>
                  </a:lnTo>
                  <a:lnTo>
                    <a:pt x="3518" y="4430"/>
                  </a:lnTo>
                  <a:lnTo>
                    <a:pt x="3425" y="4437"/>
                  </a:lnTo>
                  <a:lnTo>
                    <a:pt x="3343" y="4375"/>
                  </a:lnTo>
                  <a:lnTo>
                    <a:pt x="3268" y="4300"/>
                  </a:lnTo>
                  <a:lnTo>
                    <a:pt x="3166" y="4290"/>
                  </a:lnTo>
                  <a:lnTo>
                    <a:pt x="3056" y="4245"/>
                  </a:lnTo>
                  <a:lnTo>
                    <a:pt x="2964" y="4160"/>
                  </a:lnTo>
                  <a:lnTo>
                    <a:pt x="2944" y="3996"/>
                  </a:lnTo>
                  <a:lnTo>
                    <a:pt x="2937" y="3866"/>
                  </a:lnTo>
                  <a:lnTo>
                    <a:pt x="3019" y="3791"/>
                  </a:lnTo>
                  <a:lnTo>
                    <a:pt x="3008" y="3709"/>
                  </a:lnTo>
                  <a:lnTo>
                    <a:pt x="2971" y="3558"/>
                  </a:lnTo>
                  <a:lnTo>
                    <a:pt x="3002" y="3432"/>
                  </a:lnTo>
                  <a:lnTo>
                    <a:pt x="2964" y="3292"/>
                  </a:lnTo>
                  <a:lnTo>
                    <a:pt x="3056" y="3189"/>
                  </a:lnTo>
                  <a:lnTo>
                    <a:pt x="3128" y="3124"/>
                  </a:lnTo>
                  <a:lnTo>
                    <a:pt x="3214" y="3117"/>
                  </a:lnTo>
                  <a:lnTo>
                    <a:pt x="3203" y="3015"/>
                  </a:lnTo>
                  <a:lnTo>
                    <a:pt x="3251" y="2923"/>
                  </a:lnTo>
                  <a:lnTo>
                    <a:pt x="3333" y="2858"/>
                  </a:lnTo>
                  <a:lnTo>
                    <a:pt x="3436" y="2912"/>
                  </a:lnTo>
                  <a:lnTo>
                    <a:pt x="3555" y="2940"/>
                  </a:lnTo>
                  <a:lnTo>
                    <a:pt x="3702" y="2923"/>
                  </a:lnTo>
                  <a:lnTo>
                    <a:pt x="3812" y="2923"/>
                  </a:lnTo>
                  <a:lnTo>
                    <a:pt x="3870" y="2929"/>
                  </a:lnTo>
                  <a:lnTo>
                    <a:pt x="3897" y="3032"/>
                  </a:lnTo>
                  <a:lnTo>
                    <a:pt x="4017" y="3052"/>
                  </a:lnTo>
                  <a:lnTo>
                    <a:pt x="4126" y="3107"/>
                  </a:lnTo>
                  <a:lnTo>
                    <a:pt x="4191" y="3087"/>
                  </a:lnTo>
                  <a:lnTo>
                    <a:pt x="4229" y="3022"/>
                  </a:lnTo>
                  <a:lnTo>
                    <a:pt x="4266" y="2950"/>
                  </a:lnTo>
                  <a:lnTo>
                    <a:pt x="4365" y="2977"/>
                  </a:lnTo>
                  <a:lnTo>
                    <a:pt x="4488" y="3032"/>
                  </a:lnTo>
                  <a:lnTo>
                    <a:pt x="4625" y="3052"/>
                  </a:lnTo>
                  <a:lnTo>
                    <a:pt x="4718" y="3059"/>
                  </a:lnTo>
                  <a:lnTo>
                    <a:pt x="4820" y="3052"/>
                  </a:lnTo>
                  <a:lnTo>
                    <a:pt x="4892" y="2977"/>
                  </a:lnTo>
                  <a:lnTo>
                    <a:pt x="4940" y="2875"/>
                  </a:lnTo>
                  <a:lnTo>
                    <a:pt x="4967" y="2800"/>
                  </a:lnTo>
                  <a:lnTo>
                    <a:pt x="4940" y="2782"/>
                  </a:lnTo>
                  <a:lnTo>
                    <a:pt x="4875" y="2707"/>
                  </a:lnTo>
                  <a:lnTo>
                    <a:pt x="4810" y="2728"/>
                  </a:lnTo>
                  <a:lnTo>
                    <a:pt x="4700" y="2728"/>
                  </a:lnTo>
                  <a:lnTo>
                    <a:pt x="4615" y="2700"/>
                  </a:lnTo>
                  <a:lnTo>
                    <a:pt x="4608" y="2608"/>
                  </a:lnTo>
                  <a:lnTo>
                    <a:pt x="4550" y="2581"/>
                  </a:lnTo>
                  <a:lnTo>
                    <a:pt x="4523" y="2608"/>
                  </a:lnTo>
                  <a:lnTo>
                    <a:pt x="4543" y="2700"/>
                  </a:lnTo>
                  <a:lnTo>
                    <a:pt x="4506" y="2772"/>
                  </a:lnTo>
                  <a:lnTo>
                    <a:pt x="4403" y="2755"/>
                  </a:lnTo>
                  <a:lnTo>
                    <a:pt x="4359" y="2680"/>
                  </a:lnTo>
                  <a:lnTo>
                    <a:pt x="4338" y="2598"/>
                  </a:lnTo>
                  <a:lnTo>
                    <a:pt x="4338" y="2468"/>
                  </a:lnTo>
                  <a:lnTo>
                    <a:pt x="4273" y="2441"/>
                  </a:lnTo>
                  <a:lnTo>
                    <a:pt x="4239" y="2516"/>
                  </a:lnTo>
                  <a:lnTo>
                    <a:pt x="4256" y="2608"/>
                  </a:lnTo>
                  <a:lnTo>
                    <a:pt x="4304" y="2680"/>
                  </a:lnTo>
                  <a:lnTo>
                    <a:pt x="4359" y="2745"/>
                  </a:lnTo>
                  <a:lnTo>
                    <a:pt x="4304" y="2830"/>
                  </a:lnTo>
                  <a:lnTo>
                    <a:pt x="4229" y="2875"/>
                  </a:lnTo>
                  <a:lnTo>
                    <a:pt x="4136" y="2858"/>
                  </a:lnTo>
                  <a:lnTo>
                    <a:pt x="4136" y="2929"/>
                  </a:lnTo>
                  <a:lnTo>
                    <a:pt x="4082" y="2977"/>
                  </a:lnTo>
                  <a:lnTo>
                    <a:pt x="4007" y="2875"/>
                  </a:lnTo>
                  <a:lnTo>
                    <a:pt x="4017" y="2810"/>
                  </a:lnTo>
                  <a:lnTo>
                    <a:pt x="4116" y="2858"/>
                  </a:lnTo>
                  <a:lnTo>
                    <a:pt x="4174" y="2858"/>
                  </a:lnTo>
                  <a:lnTo>
                    <a:pt x="4256" y="2782"/>
                  </a:lnTo>
                  <a:lnTo>
                    <a:pt x="4229" y="2700"/>
                  </a:lnTo>
                  <a:lnTo>
                    <a:pt x="4147" y="2625"/>
                  </a:lnTo>
                  <a:lnTo>
                    <a:pt x="4082" y="2581"/>
                  </a:lnTo>
                  <a:lnTo>
                    <a:pt x="4007" y="2478"/>
                  </a:lnTo>
                  <a:lnTo>
                    <a:pt x="3914" y="2413"/>
                  </a:lnTo>
                  <a:lnTo>
                    <a:pt x="3914" y="2516"/>
                  </a:lnTo>
                  <a:lnTo>
                    <a:pt x="3962" y="2581"/>
                  </a:lnTo>
                  <a:lnTo>
                    <a:pt x="3952" y="2700"/>
                  </a:lnTo>
                  <a:lnTo>
                    <a:pt x="3952" y="2782"/>
                  </a:lnTo>
                  <a:lnTo>
                    <a:pt x="3860" y="2718"/>
                  </a:lnTo>
                  <a:lnTo>
                    <a:pt x="3839" y="2642"/>
                  </a:lnTo>
                  <a:lnTo>
                    <a:pt x="3877" y="2598"/>
                  </a:lnTo>
                  <a:lnTo>
                    <a:pt x="3870" y="2533"/>
                  </a:lnTo>
                  <a:lnTo>
                    <a:pt x="3925" y="2506"/>
                  </a:lnTo>
                  <a:lnTo>
                    <a:pt x="3925" y="2413"/>
                  </a:lnTo>
                  <a:lnTo>
                    <a:pt x="3839" y="2430"/>
                  </a:lnTo>
                  <a:lnTo>
                    <a:pt x="3778" y="2516"/>
                  </a:lnTo>
                  <a:lnTo>
                    <a:pt x="3702" y="2478"/>
                  </a:lnTo>
                  <a:lnTo>
                    <a:pt x="3562" y="2543"/>
                  </a:lnTo>
                  <a:lnTo>
                    <a:pt x="3545" y="2663"/>
                  </a:lnTo>
                  <a:lnTo>
                    <a:pt x="3453" y="2745"/>
                  </a:lnTo>
                  <a:lnTo>
                    <a:pt x="3343" y="2800"/>
                  </a:lnTo>
                  <a:lnTo>
                    <a:pt x="3231" y="2810"/>
                  </a:lnTo>
                  <a:lnTo>
                    <a:pt x="3128" y="2782"/>
                  </a:lnTo>
                  <a:lnTo>
                    <a:pt x="3063" y="2718"/>
                  </a:lnTo>
                  <a:lnTo>
                    <a:pt x="3121" y="2663"/>
                  </a:lnTo>
                  <a:lnTo>
                    <a:pt x="3063" y="2581"/>
                  </a:lnTo>
                  <a:lnTo>
                    <a:pt x="3138" y="2523"/>
                  </a:lnTo>
                  <a:lnTo>
                    <a:pt x="3149" y="2451"/>
                  </a:lnTo>
                  <a:lnTo>
                    <a:pt x="3149" y="2348"/>
                  </a:lnTo>
                  <a:lnTo>
                    <a:pt x="3251" y="2256"/>
                  </a:lnTo>
                  <a:lnTo>
                    <a:pt x="3388" y="2294"/>
                  </a:lnTo>
                  <a:lnTo>
                    <a:pt x="3535" y="2328"/>
                  </a:lnTo>
                  <a:lnTo>
                    <a:pt x="3600" y="2273"/>
                  </a:lnTo>
                  <a:lnTo>
                    <a:pt x="3600" y="2171"/>
                  </a:lnTo>
                  <a:lnTo>
                    <a:pt x="3528" y="2099"/>
                  </a:lnTo>
                  <a:lnTo>
                    <a:pt x="3415" y="2034"/>
                  </a:lnTo>
                  <a:lnTo>
                    <a:pt x="3463" y="1996"/>
                  </a:lnTo>
                  <a:lnTo>
                    <a:pt x="3583" y="1942"/>
                  </a:lnTo>
                  <a:lnTo>
                    <a:pt x="3610" y="1921"/>
                  </a:lnTo>
                  <a:lnTo>
                    <a:pt x="3562" y="1914"/>
                  </a:lnTo>
                  <a:lnTo>
                    <a:pt x="3470" y="1921"/>
                  </a:lnTo>
                  <a:lnTo>
                    <a:pt x="3388" y="1942"/>
                  </a:lnTo>
                  <a:lnTo>
                    <a:pt x="3333" y="1969"/>
                  </a:lnTo>
                  <a:lnTo>
                    <a:pt x="3371" y="1894"/>
                  </a:lnTo>
                  <a:lnTo>
                    <a:pt x="3388" y="1802"/>
                  </a:lnTo>
                  <a:lnTo>
                    <a:pt x="3425" y="1747"/>
                  </a:lnTo>
                  <a:lnTo>
                    <a:pt x="3443" y="1692"/>
                  </a:lnTo>
                  <a:lnTo>
                    <a:pt x="3398" y="1617"/>
                  </a:lnTo>
                  <a:lnTo>
                    <a:pt x="3333" y="1665"/>
                  </a:lnTo>
                  <a:lnTo>
                    <a:pt x="3343" y="1730"/>
                  </a:lnTo>
                  <a:lnTo>
                    <a:pt x="3333" y="1812"/>
                  </a:lnTo>
                  <a:lnTo>
                    <a:pt x="3296" y="1921"/>
                  </a:lnTo>
                  <a:lnTo>
                    <a:pt x="3203" y="1914"/>
                  </a:lnTo>
                  <a:lnTo>
                    <a:pt x="3166" y="1812"/>
                  </a:lnTo>
                  <a:lnTo>
                    <a:pt x="3111" y="1709"/>
                  </a:lnTo>
                  <a:lnTo>
                    <a:pt x="3214" y="1692"/>
                  </a:lnTo>
                  <a:lnTo>
                    <a:pt x="3258" y="1638"/>
                  </a:lnTo>
                  <a:lnTo>
                    <a:pt x="3306" y="1627"/>
                  </a:lnTo>
                  <a:lnTo>
                    <a:pt x="3306" y="1562"/>
                  </a:lnTo>
                  <a:lnTo>
                    <a:pt x="3278" y="1507"/>
                  </a:lnTo>
                  <a:lnTo>
                    <a:pt x="3361" y="1459"/>
                  </a:lnTo>
                  <a:lnTo>
                    <a:pt x="3443" y="1414"/>
                  </a:lnTo>
                  <a:lnTo>
                    <a:pt x="3507" y="1442"/>
                  </a:lnTo>
                  <a:lnTo>
                    <a:pt x="3528" y="1542"/>
                  </a:lnTo>
                  <a:lnTo>
                    <a:pt x="3555" y="1665"/>
                  </a:lnTo>
                  <a:lnTo>
                    <a:pt x="3620" y="1720"/>
                  </a:lnTo>
                  <a:lnTo>
                    <a:pt x="3637" y="1812"/>
                  </a:lnTo>
                  <a:lnTo>
                    <a:pt x="3610" y="1887"/>
                  </a:lnTo>
                  <a:lnTo>
                    <a:pt x="3600" y="1931"/>
                  </a:lnTo>
                  <a:lnTo>
                    <a:pt x="3675" y="1914"/>
                  </a:lnTo>
                  <a:lnTo>
                    <a:pt x="3767" y="1867"/>
                  </a:lnTo>
                  <a:lnTo>
                    <a:pt x="3805" y="1730"/>
                  </a:lnTo>
                  <a:lnTo>
                    <a:pt x="3897" y="1730"/>
                  </a:lnTo>
                  <a:lnTo>
                    <a:pt x="3942" y="1709"/>
                  </a:lnTo>
                  <a:lnTo>
                    <a:pt x="3931" y="1617"/>
                  </a:lnTo>
                  <a:lnTo>
                    <a:pt x="3877" y="1525"/>
                  </a:lnTo>
                  <a:lnTo>
                    <a:pt x="3962" y="1525"/>
                  </a:lnTo>
                  <a:lnTo>
                    <a:pt x="4054" y="1617"/>
                  </a:lnTo>
                  <a:lnTo>
                    <a:pt x="4136" y="1692"/>
                  </a:lnTo>
                  <a:lnTo>
                    <a:pt x="4218" y="1692"/>
                  </a:lnTo>
                  <a:lnTo>
                    <a:pt x="4321" y="1638"/>
                  </a:lnTo>
                  <a:lnTo>
                    <a:pt x="4396" y="1535"/>
                  </a:lnTo>
                  <a:lnTo>
                    <a:pt x="4441" y="1442"/>
                  </a:lnTo>
                  <a:lnTo>
                    <a:pt x="4608" y="1476"/>
                  </a:lnTo>
                  <a:lnTo>
                    <a:pt x="4458" y="1394"/>
                  </a:lnTo>
                  <a:lnTo>
                    <a:pt x="4359" y="1414"/>
                  </a:lnTo>
                  <a:lnTo>
                    <a:pt x="4338" y="1285"/>
                  </a:lnTo>
                  <a:lnTo>
                    <a:pt x="4338" y="1209"/>
                  </a:lnTo>
                  <a:lnTo>
                    <a:pt x="4451" y="1162"/>
                  </a:lnTo>
                  <a:lnTo>
                    <a:pt x="4468" y="1100"/>
                  </a:lnTo>
                  <a:lnTo>
                    <a:pt x="4396" y="1134"/>
                  </a:lnTo>
                  <a:lnTo>
                    <a:pt x="4304" y="1199"/>
                  </a:lnTo>
                  <a:lnTo>
                    <a:pt x="4201" y="1209"/>
                  </a:lnTo>
                  <a:lnTo>
                    <a:pt x="4239" y="1329"/>
                  </a:lnTo>
                  <a:lnTo>
                    <a:pt x="4229" y="1431"/>
                  </a:lnTo>
                  <a:lnTo>
                    <a:pt x="4229" y="1514"/>
                  </a:lnTo>
                  <a:lnTo>
                    <a:pt x="4147" y="1562"/>
                  </a:lnTo>
                  <a:lnTo>
                    <a:pt x="4061" y="1600"/>
                  </a:lnTo>
                  <a:lnTo>
                    <a:pt x="4017" y="1525"/>
                  </a:lnTo>
                  <a:lnTo>
                    <a:pt x="4024" y="1442"/>
                  </a:lnTo>
                  <a:lnTo>
                    <a:pt x="4034" y="1394"/>
                  </a:lnTo>
                  <a:lnTo>
                    <a:pt x="3942" y="1431"/>
                  </a:lnTo>
                  <a:lnTo>
                    <a:pt x="3849" y="1384"/>
                  </a:lnTo>
                  <a:lnTo>
                    <a:pt x="3805" y="1312"/>
                  </a:lnTo>
                  <a:lnTo>
                    <a:pt x="3832" y="1209"/>
                  </a:lnTo>
                  <a:lnTo>
                    <a:pt x="3812" y="1199"/>
                  </a:lnTo>
                  <a:lnTo>
                    <a:pt x="3832" y="1192"/>
                  </a:lnTo>
                  <a:lnTo>
                    <a:pt x="3839" y="1182"/>
                  </a:lnTo>
                  <a:lnTo>
                    <a:pt x="2759" y="1182"/>
                  </a:lnTo>
                  <a:lnTo>
                    <a:pt x="2704" y="1257"/>
                  </a:lnTo>
                  <a:lnTo>
                    <a:pt x="2612" y="1302"/>
                  </a:lnTo>
                  <a:lnTo>
                    <a:pt x="2520" y="1264"/>
                  </a:lnTo>
                  <a:lnTo>
                    <a:pt x="2475" y="1199"/>
                  </a:lnTo>
                  <a:lnTo>
                    <a:pt x="2475" y="1127"/>
                  </a:lnTo>
                  <a:lnTo>
                    <a:pt x="2503" y="1117"/>
                  </a:lnTo>
                  <a:lnTo>
                    <a:pt x="2270" y="1117"/>
                  </a:lnTo>
                  <a:lnTo>
                    <a:pt x="2205" y="1127"/>
                  </a:lnTo>
                  <a:lnTo>
                    <a:pt x="2133" y="1264"/>
                  </a:lnTo>
                  <a:lnTo>
                    <a:pt x="2106" y="1356"/>
                  </a:lnTo>
                  <a:lnTo>
                    <a:pt x="2057" y="1459"/>
                  </a:lnTo>
                  <a:lnTo>
                    <a:pt x="1955" y="1431"/>
                  </a:lnTo>
                  <a:lnTo>
                    <a:pt x="1873" y="1356"/>
                  </a:lnTo>
                  <a:lnTo>
                    <a:pt x="1862" y="1209"/>
                  </a:lnTo>
                  <a:lnTo>
                    <a:pt x="1835" y="1052"/>
                  </a:lnTo>
                  <a:lnTo>
                    <a:pt x="1763" y="960"/>
                  </a:lnTo>
                  <a:lnTo>
                    <a:pt x="1791" y="895"/>
                  </a:lnTo>
                  <a:lnTo>
                    <a:pt x="1726" y="775"/>
                  </a:lnTo>
                  <a:lnTo>
                    <a:pt x="1671" y="721"/>
                  </a:lnTo>
                  <a:lnTo>
                    <a:pt x="1606" y="786"/>
                  </a:lnTo>
                  <a:lnTo>
                    <a:pt x="1503" y="710"/>
                  </a:lnTo>
                  <a:lnTo>
                    <a:pt x="1439" y="755"/>
                  </a:lnTo>
                  <a:lnTo>
                    <a:pt x="1374" y="803"/>
                  </a:lnTo>
                  <a:lnTo>
                    <a:pt x="1254" y="840"/>
                  </a:lnTo>
                  <a:lnTo>
                    <a:pt x="1189" y="933"/>
                  </a:lnTo>
                  <a:lnTo>
                    <a:pt x="1336" y="950"/>
                  </a:lnTo>
                  <a:lnTo>
                    <a:pt x="1449" y="1004"/>
                  </a:lnTo>
                  <a:lnTo>
                    <a:pt x="1521" y="1100"/>
                  </a:lnTo>
                  <a:lnTo>
                    <a:pt x="1606" y="1192"/>
                  </a:lnTo>
                  <a:lnTo>
                    <a:pt x="1613" y="1339"/>
                  </a:lnTo>
                  <a:lnTo>
                    <a:pt x="1568" y="1476"/>
                  </a:lnTo>
                  <a:lnTo>
                    <a:pt x="1503" y="1525"/>
                  </a:lnTo>
                  <a:lnTo>
                    <a:pt x="1401" y="1431"/>
                  </a:lnTo>
                  <a:lnTo>
                    <a:pt x="1227" y="1421"/>
                  </a:lnTo>
                  <a:lnTo>
                    <a:pt x="1227" y="1356"/>
                  </a:lnTo>
                  <a:lnTo>
                    <a:pt x="1374" y="1312"/>
                  </a:lnTo>
                  <a:lnTo>
                    <a:pt x="1391" y="1226"/>
                  </a:lnTo>
                  <a:lnTo>
                    <a:pt x="1363" y="1199"/>
                  </a:lnTo>
                  <a:lnTo>
                    <a:pt x="1319" y="1285"/>
                  </a:lnTo>
                  <a:lnTo>
                    <a:pt x="1237" y="1220"/>
                  </a:lnTo>
                  <a:lnTo>
                    <a:pt x="1346" y="1134"/>
                  </a:lnTo>
                  <a:lnTo>
                    <a:pt x="1401" y="1209"/>
                  </a:lnTo>
                  <a:lnTo>
                    <a:pt x="1319" y="1127"/>
                  </a:lnTo>
                  <a:lnTo>
                    <a:pt x="1227" y="1127"/>
                  </a:lnTo>
                  <a:lnTo>
                    <a:pt x="1151" y="1192"/>
                  </a:lnTo>
                  <a:lnTo>
                    <a:pt x="1172" y="1285"/>
                  </a:lnTo>
                  <a:lnTo>
                    <a:pt x="1172" y="1394"/>
                  </a:lnTo>
                  <a:lnTo>
                    <a:pt x="1145" y="1496"/>
                  </a:lnTo>
                  <a:lnTo>
                    <a:pt x="1172" y="1590"/>
                  </a:lnTo>
                  <a:lnTo>
                    <a:pt x="1069" y="1514"/>
                  </a:lnTo>
                  <a:lnTo>
                    <a:pt x="1032" y="1562"/>
                  </a:lnTo>
                  <a:lnTo>
                    <a:pt x="1004" y="1507"/>
                  </a:lnTo>
                  <a:lnTo>
                    <a:pt x="1032" y="1414"/>
                  </a:lnTo>
                  <a:lnTo>
                    <a:pt x="950" y="1442"/>
                  </a:lnTo>
                  <a:lnTo>
                    <a:pt x="922" y="1525"/>
                  </a:lnTo>
                  <a:lnTo>
                    <a:pt x="847" y="1600"/>
                  </a:lnTo>
                  <a:lnTo>
                    <a:pt x="847" y="1672"/>
                  </a:lnTo>
                  <a:lnTo>
                    <a:pt x="738" y="1672"/>
                  </a:lnTo>
                  <a:lnTo>
                    <a:pt x="700" y="1720"/>
                  </a:lnTo>
                  <a:lnTo>
                    <a:pt x="738" y="1829"/>
                  </a:lnTo>
                  <a:lnTo>
                    <a:pt x="857" y="1894"/>
                  </a:lnTo>
                  <a:lnTo>
                    <a:pt x="922" y="1942"/>
                  </a:lnTo>
                  <a:lnTo>
                    <a:pt x="895" y="2044"/>
                  </a:lnTo>
                  <a:lnTo>
                    <a:pt x="967" y="2024"/>
                  </a:lnTo>
                  <a:lnTo>
                    <a:pt x="987" y="1921"/>
                  </a:lnTo>
                  <a:lnTo>
                    <a:pt x="1114" y="1921"/>
                  </a:lnTo>
                  <a:lnTo>
                    <a:pt x="1189" y="1829"/>
                  </a:lnTo>
                  <a:lnTo>
                    <a:pt x="1199" y="1730"/>
                  </a:lnTo>
                  <a:lnTo>
                    <a:pt x="1189" y="1562"/>
                  </a:lnTo>
                  <a:lnTo>
                    <a:pt x="1227" y="1459"/>
                  </a:lnTo>
                  <a:lnTo>
                    <a:pt x="1292" y="1394"/>
                  </a:lnTo>
                  <a:lnTo>
                    <a:pt x="1391" y="1459"/>
                  </a:lnTo>
                  <a:lnTo>
                    <a:pt x="1514" y="1525"/>
                  </a:lnTo>
                  <a:lnTo>
                    <a:pt x="1558" y="1562"/>
                  </a:lnTo>
                  <a:lnTo>
                    <a:pt x="1623" y="1672"/>
                  </a:lnTo>
                  <a:lnTo>
                    <a:pt x="1705" y="1720"/>
                  </a:lnTo>
                  <a:lnTo>
                    <a:pt x="1732" y="1829"/>
                  </a:lnTo>
                  <a:lnTo>
                    <a:pt x="1753" y="1914"/>
                  </a:lnTo>
                  <a:lnTo>
                    <a:pt x="1835" y="1969"/>
                  </a:lnTo>
                  <a:lnTo>
                    <a:pt x="1763" y="2061"/>
                  </a:lnTo>
                  <a:lnTo>
                    <a:pt x="1650" y="2061"/>
                  </a:lnTo>
                  <a:lnTo>
                    <a:pt x="1541" y="2116"/>
                  </a:lnTo>
                  <a:lnTo>
                    <a:pt x="1449" y="2191"/>
                  </a:lnTo>
                  <a:lnTo>
                    <a:pt x="1336" y="2246"/>
                  </a:lnTo>
                  <a:lnTo>
                    <a:pt x="1227" y="2348"/>
                  </a:lnTo>
                  <a:lnTo>
                    <a:pt x="1124" y="2430"/>
                  </a:lnTo>
                  <a:lnTo>
                    <a:pt x="1114" y="2516"/>
                  </a:lnTo>
                  <a:lnTo>
                    <a:pt x="1114" y="2581"/>
                  </a:lnTo>
                  <a:lnTo>
                    <a:pt x="1032" y="2636"/>
                  </a:lnTo>
                  <a:lnTo>
                    <a:pt x="1042" y="2707"/>
                  </a:lnTo>
                  <a:lnTo>
                    <a:pt x="957" y="2800"/>
                  </a:lnTo>
                  <a:lnTo>
                    <a:pt x="957" y="2923"/>
                  </a:lnTo>
                  <a:lnTo>
                    <a:pt x="1022" y="3015"/>
                  </a:lnTo>
                  <a:lnTo>
                    <a:pt x="987" y="3087"/>
                  </a:lnTo>
                  <a:lnTo>
                    <a:pt x="895" y="3032"/>
                  </a:lnTo>
                  <a:lnTo>
                    <a:pt x="885" y="2923"/>
                  </a:lnTo>
                  <a:lnTo>
                    <a:pt x="803" y="2858"/>
                  </a:lnTo>
                  <a:lnTo>
                    <a:pt x="728" y="2875"/>
                  </a:lnTo>
                  <a:lnTo>
                    <a:pt x="700" y="2950"/>
                  </a:lnTo>
                  <a:lnTo>
                    <a:pt x="618" y="2923"/>
                  </a:lnTo>
                  <a:lnTo>
                    <a:pt x="526" y="2923"/>
                  </a:lnTo>
                  <a:lnTo>
                    <a:pt x="430" y="3005"/>
                  </a:lnTo>
                  <a:lnTo>
                    <a:pt x="396" y="3087"/>
                  </a:lnTo>
                  <a:lnTo>
                    <a:pt x="369" y="3162"/>
                  </a:lnTo>
                  <a:lnTo>
                    <a:pt x="358" y="3281"/>
                  </a:lnTo>
                  <a:lnTo>
                    <a:pt x="430" y="3367"/>
                  </a:lnTo>
                  <a:lnTo>
                    <a:pt x="516" y="3309"/>
                  </a:lnTo>
                  <a:lnTo>
                    <a:pt x="598" y="3309"/>
                  </a:lnTo>
                  <a:lnTo>
                    <a:pt x="618" y="3422"/>
                  </a:lnTo>
                  <a:lnTo>
                    <a:pt x="543" y="3493"/>
                  </a:lnTo>
                  <a:lnTo>
                    <a:pt x="652" y="3514"/>
                  </a:lnTo>
                  <a:lnTo>
                    <a:pt x="700" y="3531"/>
                  </a:lnTo>
                  <a:lnTo>
                    <a:pt x="728" y="3633"/>
                  </a:lnTo>
                  <a:lnTo>
                    <a:pt x="820" y="3688"/>
                  </a:lnTo>
                  <a:lnTo>
                    <a:pt x="929" y="3763"/>
                  </a:lnTo>
                  <a:lnTo>
                    <a:pt x="1004" y="3709"/>
                  </a:lnTo>
                  <a:lnTo>
                    <a:pt x="1172" y="3763"/>
                  </a:lnTo>
                  <a:lnTo>
                    <a:pt x="1298" y="3774"/>
                  </a:lnTo>
                  <a:lnTo>
                    <a:pt x="1483" y="3866"/>
                  </a:lnTo>
                  <a:lnTo>
                    <a:pt x="1521" y="3948"/>
                  </a:lnTo>
                  <a:lnTo>
                    <a:pt x="1623" y="4040"/>
                  </a:lnTo>
                  <a:lnTo>
                    <a:pt x="1678" y="4170"/>
                  </a:lnTo>
                  <a:lnTo>
                    <a:pt x="1808" y="4245"/>
                  </a:lnTo>
                  <a:lnTo>
                    <a:pt x="1927" y="4252"/>
                  </a:lnTo>
                  <a:lnTo>
                    <a:pt x="2040" y="4355"/>
                  </a:lnTo>
                  <a:lnTo>
                    <a:pt x="2198" y="4355"/>
                  </a:lnTo>
                  <a:lnTo>
                    <a:pt x="2205" y="4447"/>
                  </a:lnTo>
                  <a:lnTo>
                    <a:pt x="2205" y="4539"/>
                  </a:lnTo>
                  <a:lnTo>
                    <a:pt x="2133" y="4632"/>
                  </a:lnTo>
                  <a:lnTo>
                    <a:pt x="2123" y="4755"/>
                  </a:lnTo>
                  <a:lnTo>
                    <a:pt x="2106" y="4865"/>
                  </a:lnTo>
                  <a:lnTo>
                    <a:pt x="2020" y="4974"/>
                  </a:lnTo>
                  <a:lnTo>
                    <a:pt x="1900" y="5039"/>
                  </a:lnTo>
                  <a:lnTo>
                    <a:pt x="1797" y="5060"/>
                  </a:lnTo>
                  <a:lnTo>
                    <a:pt x="1845" y="5162"/>
                  </a:lnTo>
                  <a:lnTo>
                    <a:pt x="1753" y="5261"/>
                  </a:lnTo>
                  <a:lnTo>
                    <a:pt x="1671" y="5354"/>
                  </a:lnTo>
                  <a:lnTo>
                    <a:pt x="1568" y="5418"/>
                  </a:lnTo>
                  <a:lnTo>
                    <a:pt x="1503" y="5548"/>
                  </a:lnTo>
                  <a:lnTo>
                    <a:pt x="1439" y="5641"/>
                  </a:lnTo>
                  <a:lnTo>
                    <a:pt x="1346" y="5688"/>
                  </a:lnTo>
                  <a:lnTo>
                    <a:pt x="1292" y="5771"/>
                  </a:lnTo>
                  <a:lnTo>
                    <a:pt x="1237" y="5856"/>
                  </a:lnTo>
                  <a:lnTo>
                    <a:pt x="1199" y="5928"/>
                  </a:lnTo>
                  <a:lnTo>
                    <a:pt x="1199" y="6020"/>
                  </a:lnTo>
                  <a:lnTo>
                    <a:pt x="1151" y="6078"/>
                  </a:lnTo>
                  <a:lnTo>
                    <a:pt x="1097" y="5965"/>
                  </a:lnTo>
                  <a:lnTo>
                    <a:pt x="1004" y="5873"/>
                  </a:lnTo>
                  <a:lnTo>
                    <a:pt x="957" y="5753"/>
                  </a:lnTo>
                  <a:lnTo>
                    <a:pt x="957" y="5641"/>
                  </a:lnTo>
                  <a:lnTo>
                    <a:pt x="950" y="5511"/>
                  </a:lnTo>
                  <a:lnTo>
                    <a:pt x="1004" y="5336"/>
                  </a:lnTo>
                  <a:lnTo>
                    <a:pt x="1004" y="5162"/>
                  </a:lnTo>
                  <a:lnTo>
                    <a:pt x="987" y="4995"/>
                  </a:lnTo>
                  <a:lnTo>
                    <a:pt x="950" y="4865"/>
                  </a:lnTo>
                  <a:lnTo>
                    <a:pt x="847" y="4755"/>
                  </a:lnTo>
                  <a:lnTo>
                    <a:pt x="738" y="4660"/>
                  </a:lnTo>
                  <a:lnTo>
                    <a:pt x="652" y="4532"/>
                  </a:lnTo>
                  <a:lnTo>
                    <a:pt x="635" y="4375"/>
                  </a:lnTo>
                  <a:lnTo>
                    <a:pt x="700" y="4273"/>
                  </a:lnTo>
                  <a:lnTo>
                    <a:pt x="700" y="4180"/>
                  </a:lnTo>
                  <a:lnTo>
                    <a:pt x="738" y="4030"/>
                  </a:lnTo>
                  <a:lnTo>
                    <a:pt x="810" y="3921"/>
                  </a:lnTo>
                  <a:lnTo>
                    <a:pt x="895" y="3845"/>
                  </a:lnTo>
                  <a:lnTo>
                    <a:pt x="939" y="3774"/>
                  </a:lnTo>
                  <a:lnTo>
                    <a:pt x="820" y="3746"/>
                  </a:lnTo>
                  <a:lnTo>
                    <a:pt x="755" y="3763"/>
                  </a:lnTo>
                  <a:lnTo>
                    <a:pt x="690" y="3726"/>
                  </a:lnTo>
                  <a:lnTo>
                    <a:pt x="598" y="3661"/>
                  </a:lnTo>
                  <a:lnTo>
                    <a:pt x="488" y="3589"/>
                  </a:lnTo>
                  <a:lnTo>
                    <a:pt x="440" y="3493"/>
                  </a:lnTo>
                  <a:lnTo>
                    <a:pt x="396" y="3459"/>
                  </a:lnTo>
                  <a:lnTo>
                    <a:pt x="348" y="3493"/>
                  </a:lnTo>
                  <a:lnTo>
                    <a:pt x="256" y="3439"/>
                  </a:lnTo>
                  <a:lnTo>
                    <a:pt x="191" y="3357"/>
                  </a:lnTo>
                  <a:lnTo>
                    <a:pt x="146" y="3281"/>
                  </a:lnTo>
                  <a:lnTo>
                    <a:pt x="146" y="3179"/>
                  </a:lnTo>
                  <a:lnTo>
                    <a:pt x="126" y="3117"/>
                  </a:lnTo>
                  <a:lnTo>
                    <a:pt x="44" y="3042"/>
                  </a:lnTo>
                  <a:lnTo>
                    <a:pt x="44" y="3107"/>
                  </a:lnTo>
                  <a:lnTo>
                    <a:pt x="99" y="3189"/>
                  </a:lnTo>
                  <a:lnTo>
                    <a:pt x="99" y="3264"/>
                  </a:lnTo>
                  <a:lnTo>
                    <a:pt x="27" y="3210"/>
                  </a:lnTo>
                  <a:lnTo>
                    <a:pt x="0" y="3080"/>
                  </a:lnTo>
                  <a:lnTo>
                    <a:pt x="27" y="2977"/>
                  </a:lnTo>
                  <a:lnTo>
                    <a:pt x="27" y="2830"/>
                  </a:lnTo>
                  <a:lnTo>
                    <a:pt x="44" y="2581"/>
                  </a:lnTo>
                  <a:lnTo>
                    <a:pt x="71" y="2328"/>
                  </a:lnTo>
                  <a:lnTo>
                    <a:pt x="136" y="2061"/>
                  </a:lnTo>
                  <a:lnTo>
                    <a:pt x="229" y="1764"/>
                  </a:lnTo>
                  <a:lnTo>
                    <a:pt x="375" y="1394"/>
                  </a:lnTo>
                  <a:lnTo>
                    <a:pt x="505" y="1107"/>
                  </a:lnTo>
                  <a:lnTo>
                    <a:pt x="717" y="755"/>
                  </a:lnTo>
                  <a:lnTo>
                    <a:pt x="847" y="553"/>
                  </a:lnTo>
                  <a:close/>
                </a:path>
              </a:pathLst>
            </a:custGeom>
            <a:solidFill>
              <a:srgbClr val="7d9cd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8160" y="1476360"/>
              <a:ext cx="3007080" cy="2198880"/>
            </a:xfrm>
            <a:custGeom>
              <a:avLst/>
              <a:gdLst/>
              <a:ahLst/>
              <a:rect l="0" t="0" r="r" b="b"/>
              <a:pathLst>
                <a:path w="8353" h="6108">
                  <a:moveTo>
                    <a:pt x="902" y="533"/>
                  </a:moveTo>
                  <a:lnTo>
                    <a:pt x="1004" y="543"/>
                  </a:lnTo>
                  <a:lnTo>
                    <a:pt x="1059" y="468"/>
                  </a:lnTo>
                  <a:lnTo>
                    <a:pt x="1144" y="430"/>
                  </a:lnTo>
                  <a:lnTo>
                    <a:pt x="1209" y="365"/>
                  </a:lnTo>
                  <a:lnTo>
                    <a:pt x="1302" y="300"/>
                  </a:lnTo>
                  <a:lnTo>
                    <a:pt x="1373" y="273"/>
                  </a:lnTo>
                  <a:lnTo>
                    <a:pt x="1459" y="246"/>
                  </a:lnTo>
                  <a:lnTo>
                    <a:pt x="1530" y="246"/>
                  </a:lnTo>
                  <a:lnTo>
                    <a:pt x="1568" y="218"/>
                  </a:lnTo>
                  <a:lnTo>
                    <a:pt x="1643" y="218"/>
                  </a:lnTo>
                  <a:lnTo>
                    <a:pt x="1681" y="174"/>
                  </a:lnTo>
                  <a:lnTo>
                    <a:pt x="1763" y="191"/>
                  </a:lnTo>
                  <a:lnTo>
                    <a:pt x="1845" y="164"/>
                  </a:lnTo>
                  <a:lnTo>
                    <a:pt x="1920" y="174"/>
                  </a:lnTo>
                  <a:lnTo>
                    <a:pt x="1947" y="208"/>
                  </a:lnTo>
                  <a:lnTo>
                    <a:pt x="1920" y="246"/>
                  </a:lnTo>
                  <a:lnTo>
                    <a:pt x="1845" y="218"/>
                  </a:lnTo>
                  <a:lnTo>
                    <a:pt x="1780" y="266"/>
                  </a:lnTo>
                  <a:lnTo>
                    <a:pt x="1736" y="311"/>
                  </a:lnTo>
                  <a:lnTo>
                    <a:pt x="1725" y="375"/>
                  </a:lnTo>
                  <a:lnTo>
                    <a:pt x="1650" y="386"/>
                  </a:lnTo>
                  <a:lnTo>
                    <a:pt x="1568" y="430"/>
                  </a:lnTo>
                  <a:lnTo>
                    <a:pt x="1558" y="522"/>
                  </a:lnTo>
                  <a:lnTo>
                    <a:pt x="1551" y="587"/>
                  </a:lnTo>
                  <a:lnTo>
                    <a:pt x="1530" y="663"/>
                  </a:lnTo>
                  <a:lnTo>
                    <a:pt x="1558" y="707"/>
                  </a:lnTo>
                  <a:lnTo>
                    <a:pt x="1616" y="550"/>
                  </a:lnTo>
                  <a:lnTo>
                    <a:pt x="1650" y="533"/>
                  </a:lnTo>
                  <a:lnTo>
                    <a:pt x="1725" y="451"/>
                  </a:lnTo>
                  <a:lnTo>
                    <a:pt x="1773" y="358"/>
                  </a:lnTo>
                  <a:lnTo>
                    <a:pt x="1872" y="338"/>
                  </a:lnTo>
                  <a:lnTo>
                    <a:pt x="1964" y="283"/>
                  </a:lnTo>
                  <a:lnTo>
                    <a:pt x="2029" y="201"/>
                  </a:lnTo>
                  <a:lnTo>
                    <a:pt x="2115" y="201"/>
                  </a:lnTo>
                  <a:lnTo>
                    <a:pt x="2279" y="191"/>
                  </a:lnTo>
                  <a:lnTo>
                    <a:pt x="2457" y="164"/>
                  </a:lnTo>
                  <a:lnTo>
                    <a:pt x="2528" y="146"/>
                  </a:lnTo>
                  <a:lnTo>
                    <a:pt x="2604" y="146"/>
                  </a:lnTo>
                  <a:lnTo>
                    <a:pt x="2686" y="146"/>
                  </a:lnTo>
                  <a:lnTo>
                    <a:pt x="2761" y="174"/>
                  </a:lnTo>
                  <a:lnTo>
                    <a:pt x="2853" y="256"/>
                  </a:lnTo>
                  <a:lnTo>
                    <a:pt x="2805" y="266"/>
                  </a:lnTo>
                  <a:lnTo>
                    <a:pt x="2706" y="293"/>
                  </a:lnTo>
                  <a:lnTo>
                    <a:pt x="2713" y="375"/>
                  </a:lnTo>
                  <a:lnTo>
                    <a:pt x="2798" y="386"/>
                  </a:lnTo>
                  <a:lnTo>
                    <a:pt x="2843" y="386"/>
                  </a:lnTo>
                  <a:lnTo>
                    <a:pt x="2815" y="457"/>
                  </a:lnTo>
                  <a:lnTo>
                    <a:pt x="2713" y="543"/>
                  </a:lnTo>
                  <a:lnTo>
                    <a:pt x="2658" y="550"/>
                  </a:lnTo>
                  <a:lnTo>
                    <a:pt x="2679" y="615"/>
                  </a:lnTo>
                  <a:lnTo>
                    <a:pt x="2696" y="642"/>
                  </a:lnTo>
                  <a:lnTo>
                    <a:pt x="2658" y="707"/>
                  </a:lnTo>
                  <a:lnTo>
                    <a:pt x="2706" y="772"/>
                  </a:lnTo>
                  <a:lnTo>
                    <a:pt x="2614" y="810"/>
                  </a:lnTo>
                  <a:lnTo>
                    <a:pt x="2528" y="837"/>
                  </a:lnTo>
                  <a:lnTo>
                    <a:pt x="2511" y="936"/>
                  </a:lnTo>
                  <a:lnTo>
                    <a:pt x="2457" y="1021"/>
                  </a:lnTo>
                  <a:lnTo>
                    <a:pt x="2392" y="1086"/>
                  </a:lnTo>
                  <a:lnTo>
                    <a:pt x="2316" y="1121"/>
                  </a:lnTo>
                  <a:lnTo>
                    <a:pt x="2511" y="1121"/>
                  </a:lnTo>
                  <a:lnTo>
                    <a:pt x="2614" y="1121"/>
                  </a:lnTo>
                  <a:lnTo>
                    <a:pt x="2679" y="1141"/>
                  </a:lnTo>
                  <a:lnTo>
                    <a:pt x="2761" y="1103"/>
                  </a:lnTo>
                  <a:lnTo>
                    <a:pt x="2798" y="1185"/>
                  </a:lnTo>
                  <a:lnTo>
                    <a:pt x="3878" y="1185"/>
                  </a:lnTo>
                  <a:lnTo>
                    <a:pt x="3926" y="1121"/>
                  </a:lnTo>
                  <a:lnTo>
                    <a:pt x="4025" y="1038"/>
                  </a:lnTo>
                  <a:lnTo>
                    <a:pt x="4090" y="929"/>
                  </a:lnTo>
                  <a:lnTo>
                    <a:pt x="4183" y="827"/>
                  </a:lnTo>
                  <a:lnTo>
                    <a:pt x="4221" y="724"/>
                  </a:lnTo>
                  <a:lnTo>
                    <a:pt x="4269" y="625"/>
                  </a:lnTo>
                  <a:lnTo>
                    <a:pt x="4351" y="587"/>
                  </a:lnTo>
                  <a:lnTo>
                    <a:pt x="4368" y="533"/>
                  </a:lnTo>
                  <a:lnTo>
                    <a:pt x="4443" y="550"/>
                  </a:lnTo>
                  <a:lnTo>
                    <a:pt x="4518" y="495"/>
                  </a:lnTo>
                  <a:lnTo>
                    <a:pt x="4552" y="543"/>
                  </a:lnTo>
                  <a:lnTo>
                    <a:pt x="4638" y="577"/>
                  </a:lnTo>
                  <a:lnTo>
                    <a:pt x="4720" y="598"/>
                  </a:lnTo>
                  <a:lnTo>
                    <a:pt x="4802" y="625"/>
                  </a:lnTo>
                  <a:lnTo>
                    <a:pt x="4860" y="587"/>
                  </a:lnTo>
                  <a:lnTo>
                    <a:pt x="4932" y="632"/>
                  </a:lnTo>
                  <a:lnTo>
                    <a:pt x="4980" y="707"/>
                  </a:lnTo>
                  <a:lnTo>
                    <a:pt x="5072" y="724"/>
                  </a:lnTo>
                  <a:lnTo>
                    <a:pt x="5109" y="810"/>
                  </a:lnTo>
                  <a:lnTo>
                    <a:pt x="5062" y="854"/>
                  </a:lnTo>
                  <a:lnTo>
                    <a:pt x="4942" y="837"/>
                  </a:lnTo>
                  <a:lnTo>
                    <a:pt x="4850" y="799"/>
                  </a:lnTo>
                  <a:lnTo>
                    <a:pt x="4829" y="864"/>
                  </a:lnTo>
                  <a:lnTo>
                    <a:pt x="4959" y="874"/>
                  </a:lnTo>
                  <a:lnTo>
                    <a:pt x="5062" y="946"/>
                  </a:lnTo>
                  <a:lnTo>
                    <a:pt x="5209" y="909"/>
                  </a:lnTo>
                  <a:lnTo>
                    <a:pt x="5236" y="782"/>
                  </a:lnTo>
                  <a:lnTo>
                    <a:pt x="5311" y="690"/>
                  </a:lnTo>
                  <a:lnTo>
                    <a:pt x="5386" y="717"/>
                  </a:lnTo>
                  <a:lnTo>
                    <a:pt x="5366" y="762"/>
                  </a:lnTo>
                  <a:lnTo>
                    <a:pt x="5321" y="810"/>
                  </a:lnTo>
                  <a:lnTo>
                    <a:pt x="5321" y="874"/>
                  </a:lnTo>
                  <a:lnTo>
                    <a:pt x="5414" y="799"/>
                  </a:lnTo>
                  <a:lnTo>
                    <a:pt x="5485" y="724"/>
                  </a:lnTo>
                  <a:lnTo>
                    <a:pt x="5625" y="707"/>
                  </a:lnTo>
                  <a:lnTo>
                    <a:pt x="5793" y="642"/>
                  </a:lnTo>
                  <a:lnTo>
                    <a:pt x="5913" y="587"/>
                  </a:lnTo>
                  <a:lnTo>
                    <a:pt x="5950" y="522"/>
                  </a:lnTo>
                  <a:lnTo>
                    <a:pt x="5848" y="533"/>
                  </a:lnTo>
                  <a:lnTo>
                    <a:pt x="5745" y="457"/>
                  </a:lnTo>
                  <a:lnTo>
                    <a:pt x="5690" y="358"/>
                  </a:lnTo>
                  <a:lnTo>
                    <a:pt x="5745" y="218"/>
                  </a:lnTo>
                  <a:lnTo>
                    <a:pt x="5858" y="126"/>
                  </a:lnTo>
                  <a:lnTo>
                    <a:pt x="5940" y="54"/>
                  </a:lnTo>
                  <a:lnTo>
                    <a:pt x="6059" y="54"/>
                  </a:lnTo>
                  <a:lnTo>
                    <a:pt x="6162" y="0"/>
                  </a:lnTo>
                  <a:lnTo>
                    <a:pt x="6152" y="61"/>
                  </a:lnTo>
                  <a:lnTo>
                    <a:pt x="6070" y="82"/>
                  </a:lnTo>
                  <a:lnTo>
                    <a:pt x="6042" y="109"/>
                  </a:lnTo>
                  <a:lnTo>
                    <a:pt x="5957" y="119"/>
                  </a:lnTo>
                  <a:lnTo>
                    <a:pt x="5902" y="191"/>
                  </a:lnTo>
                  <a:lnTo>
                    <a:pt x="5865" y="273"/>
                  </a:lnTo>
                  <a:lnTo>
                    <a:pt x="5848" y="358"/>
                  </a:lnTo>
                  <a:lnTo>
                    <a:pt x="5940" y="495"/>
                  </a:lnTo>
                  <a:lnTo>
                    <a:pt x="6077" y="560"/>
                  </a:lnTo>
                  <a:lnTo>
                    <a:pt x="6189" y="615"/>
                  </a:lnTo>
                  <a:lnTo>
                    <a:pt x="6227" y="632"/>
                  </a:lnTo>
                  <a:lnTo>
                    <a:pt x="6282" y="707"/>
                  </a:lnTo>
                  <a:lnTo>
                    <a:pt x="6319" y="690"/>
                  </a:lnTo>
                  <a:lnTo>
                    <a:pt x="6319" y="632"/>
                  </a:lnTo>
                  <a:lnTo>
                    <a:pt x="6299" y="550"/>
                  </a:lnTo>
                  <a:lnTo>
                    <a:pt x="6265" y="505"/>
                  </a:lnTo>
                  <a:lnTo>
                    <a:pt x="6244" y="451"/>
                  </a:lnTo>
                  <a:lnTo>
                    <a:pt x="6282" y="348"/>
                  </a:lnTo>
                  <a:lnTo>
                    <a:pt x="6384" y="348"/>
                  </a:lnTo>
                  <a:lnTo>
                    <a:pt x="6466" y="348"/>
                  </a:lnTo>
                  <a:lnTo>
                    <a:pt x="6504" y="386"/>
                  </a:lnTo>
                  <a:lnTo>
                    <a:pt x="6521" y="478"/>
                  </a:lnTo>
                  <a:lnTo>
                    <a:pt x="6569" y="560"/>
                  </a:lnTo>
                  <a:lnTo>
                    <a:pt x="6586" y="478"/>
                  </a:lnTo>
                  <a:lnTo>
                    <a:pt x="6661" y="430"/>
                  </a:lnTo>
                  <a:lnTo>
                    <a:pt x="6733" y="430"/>
                  </a:lnTo>
                  <a:lnTo>
                    <a:pt x="6808" y="430"/>
                  </a:lnTo>
                  <a:lnTo>
                    <a:pt x="6883" y="440"/>
                  </a:lnTo>
                  <a:lnTo>
                    <a:pt x="6883" y="348"/>
                  </a:lnTo>
                  <a:lnTo>
                    <a:pt x="6938" y="358"/>
                  </a:lnTo>
                  <a:lnTo>
                    <a:pt x="6982" y="413"/>
                  </a:lnTo>
                  <a:lnTo>
                    <a:pt x="7074" y="413"/>
                  </a:lnTo>
                  <a:lnTo>
                    <a:pt x="7150" y="375"/>
                  </a:lnTo>
                  <a:lnTo>
                    <a:pt x="7232" y="451"/>
                  </a:lnTo>
                  <a:lnTo>
                    <a:pt x="7334" y="543"/>
                  </a:lnTo>
                  <a:lnTo>
                    <a:pt x="7447" y="560"/>
                  </a:lnTo>
                  <a:lnTo>
                    <a:pt x="7604" y="625"/>
                  </a:lnTo>
                  <a:lnTo>
                    <a:pt x="7631" y="615"/>
                  </a:lnTo>
                  <a:lnTo>
                    <a:pt x="7741" y="799"/>
                  </a:lnTo>
                  <a:lnTo>
                    <a:pt x="7908" y="1086"/>
                  </a:lnTo>
                  <a:lnTo>
                    <a:pt x="8018" y="1250"/>
                  </a:lnTo>
                  <a:lnTo>
                    <a:pt x="8072" y="1425"/>
                  </a:lnTo>
                  <a:lnTo>
                    <a:pt x="8001" y="1462"/>
                  </a:lnTo>
                  <a:lnTo>
                    <a:pt x="7963" y="1537"/>
                  </a:lnTo>
                  <a:lnTo>
                    <a:pt x="8001" y="1674"/>
                  </a:lnTo>
                  <a:lnTo>
                    <a:pt x="8045" y="1804"/>
                  </a:lnTo>
                  <a:lnTo>
                    <a:pt x="8103" y="1804"/>
                  </a:lnTo>
                  <a:lnTo>
                    <a:pt x="8110" y="1702"/>
                  </a:lnTo>
                  <a:lnTo>
                    <a:pt x="8158" y="1674"/>
                  </a:lnTo>
                  <a:lnTo>
                    <a:pt x="8185" y="1766"/>
                  </a:lnTo>
                  <a:lnTo>
                    <a:pt x="8120" y="1804"/>
                  </a:lnTo>
                  <a:lnTo>
                    <a:pt x="8229" y="1903"/>
                  </a:lnTo>
                  <a:lnTo>
                    <a:pt x="8147" y="2006"/>
                  </a:lnTo>
                  <a:lnTo>
                    <a:pt x="8130" y="2071"/>
                  </a:lnTo>
                  <a:lnTo>
                    <a:pt x="8267" y="2098"/>
                  </a:lnTo>
                  <a:lnTo>
                    <a:pt x="8212" y="2180"/>
                  </a:lnTo>
                  <a:lnTo>
                    <a:pt x="8137" y="2207"/>
                  </a:lnTo>
                  <a:lnTo>
                    <a:pt x="8137" y="2337"/>
                  </a:lnTo>
                  <a:lnTo>
                    <a:pt x="8212" y="2447"/>
                  </a:lnTo>
                  <a:lnTo>
                    <a:pt x="8137" y="2477"/>
                  </a:lnTo>
                  <a:lnTo>
                    <a:pt x="8018" y="2440"/>
                  </a:lnTo>
                  <a:lnTo>
                    <a:pt x="8065" y="2375"/>
                  </a:lnTo>
                  <a:lnTo>
                    <a:pt x="8147" y="2375"/>
                  </a:lnTo>
                  <a:lnTo>
                    <a:pt x="8147" y="2245"/>
                  </a:lnTo>
                  <a:lnTo>
                    <a:pt x="8055" y="2283"/>
                  </a:lnTo>
                  <a:lnTo>
                    <a:pt x="8045" y="2173"/>
                  </a:lnTo>
                  <a:lnTo>
                    <a:pt x="8130" y="2098"/>
                  </a:lnTo>
                  <a:lnTo>
                    <a:pt x="8147" y="2023"/>
                  </a:lnTo>
                  <a:lnTo>
                    <a:pt x="8110" y="1913"/>
                  </a:lnTo>
                  <a:lnTo>
                    <a:pt x="8103" y="1794"/>
                  </a:lnTo>
                  <a:lnTo>
                    <a:pt x="8038" y="1848"/>
                  </a:lnTo>
                  <a:lnTo>
                    <a:pt x="7973" y="1941"/>
                  </a:lnTo>
                  <a:lnTo>
                    <a:pt x="7871" y="2023"/>
                  </a:lnTo>
                  <a:lnTo>
                    <a:pt x="7908" y="2146"/>
                  </a:lnTo>
                  <a:lnTo>
                    <a:pt x="7898" y="2245"/>
                  </a:lnTo>
                  <a:lnTo>
                    <a:pt x="7898" y="2310"/>
                  </a:lnTo>
                  <a:lnTo>
                    <a:pt x="7946" y="2402"/>
                  </a:lnTo>
                  <a:lnTo>
                    <a:pt x="7908" y="2429"/>
                  </a:lnTo>
                  <a:lnTo>
                    <a:pt x="7806" y="2327"/>
                  </a:lnTo>
                  <a:lnTo>
                    <a:pt x="7741" y="2207"/>
                  </a:lnTo>
                  <a:lnTo>
                    <a:pt x="7713" y="2125"/>
                  </a:lnTo>
                  <a:lnTo>
                    <a:pt x="7659" y="2081"/>
                  </a:lnTo>
                  <a:lnTo>
                    <a:pt x="7584" y="2146"/>
                  </a:lnTo>
                  <a:lnTo>
                    <a:pt x="7539" y="2228"/>
                  </a:lnTo>
                  <a:lnTo>
                    <a:pt x="7638" y="2327"/>
                  </a:lnTo>
                  <a:lnTo>
                    <a:pt x="7696" y="2429"/>
                  </a:lnTo>
                  <a:lnTo>
                    <a:pt x="7713" y="2566"/>
                  </a:lnTo>
                  <a:lnTo>
                    <a:pt x="7703" y="2689"/>
                  </a:lnTo>
                  <a:lnTo>
                    <a:pt x="7703" y="2809"/>
                  </a:lnTo>
                  <a:lnTo>
                    <a:pt x="7751" y="2723"/>
                  </a:lnTo>
                  <a:lnTo>
                    <a:pt x="7833" y="2734"/>
                  </a:lnTo>
                  <a:lnTo>
                    <a:pt x="7860" y="2816"/>
                  </a:lnTo>
                  <a:lnTo>
                    <a:pt x="7795" y="2908"/>
                  </a:lnTo>
                  <a:lnTo>
                    <a:pt x="7724" y="2901"/>
                  </a:lnTo>
                  <a:lnTo>
                    <a:pt x="7713" y="2973"/>
                  </a:lnTo>
                  <a:lnTo>
                    <a:pt x="7768" y="3028"/>
                  </a:lnTo>
                  <a:lnTo>
                    <a:pt x="7741" y="3121"/>
                  </a:lnTo>
                  <a:lnTo>
                    <a:pt x="7823" y="3203"/>
                  </a:lnTo>
                  <a:lnTo>
                    <a:pt x="7768" y="3268"/>
                  </a:lnTo>
                  <a:lnTo>
                    <a:pt x="7854" y="3353"/>
                  </a:lnTo>
                  <a:lnTo>
                    <a:pt x="7795" y="3435"/>
                  </a:lnTo>
                  <a:lnTo>
                    <a:pt x="7888" y="3387"/>
                  </a:lnTo>
                  <a:lnTo>
                    <a:pt x="7860" y="3473"/>
                  </a:lnTo>
                  <a:lnTo>
                    <a:pt x="8028" y="3435"/>
                  </a:lnTo>
                  <a:lnTo>
                    <a:pt x="7973" y="3538"/>
                  </a:lnTo>
                  <a:lnTo>
                    <a:pt x="7860" y="3473"/>
                  </a:lnTo>
                  <a:lnTo>
                    <a:pt x="7854" y="3582"/>
                  </a:lnTo>
                  <a:lnTo>
                    <a:pt x="8018" y="3572"/>
                  </a:lnTo>
                  <a:lnTo>
                    <a:pt x="7946" y="3685"/>
                  </a:lnTo>
                  <a:lnTo>
                    <a:pt x="7833" y="3565"/>
                  </a:lnTo>
                  <a:lnTo>
                    <a:pt x="7898" y="3739"/>
                  </a:lnTo>
                  <a:lnTo>
                    <a:pt x="8028" y="3849"/>
                  </a:lnTo>
                  <a:lnTo>
                    <a:pt x="7908" y="3849"/>
                  </a:lnTo>
                  <a:lnTo>
                    <a:pt x="7833" y="3582"/>
                  </a:lnTo>
                  <a:lnTo>
                    <a:pt x="7860" y="3398"/>
                  </a:lnTo>
                  <a:lnTo>
                    <a:pt x="7768" y="3408"/>
                  </a:lnTo>
                  <a:lnTo>
                    <a:pt x="7703" y="3305"/>
                  </a:lnTo>
                  <a:lnTo>
                    <a:pt x="7768" y="3261"/>
                  </a:lnTo>
                  <a:lnTo>
                    <a:pt x="7768" y="3158"/>
                  </a:lnTo>
                  <a:lnTo>
                    <a:pt x="7724" y="2928"/>
                  </a:lnTo>
                  <a:lnTo>
                    <a:pt x="7713" y="2778"/>
                  </a:lnTo>
                  <a:lnTo>
                    <a:pt x="7696" y="2679"/>
                  </a:lnTo>
                  <a:lnTo>
                    <a:pt x="7611" y="2809"/>
                  </a:lnTo>
                  <a:lnTo>
                    <a:pt x="7464" y="2843"/>
                  </a:lnTo>
                  <a:lnTo>
                    <a:pt x="7389" y="2935"/>
                  </a:lnTo>
                  <a:lnTo>
                    <a:pt x="7416" y="3056"/>
                  </a:lnTo>
                  <a:lnTo>
                    <a:pt x="7361" y="3121"/>
                  </a:lnTo>
                  <a:lnTo>
                    <a:pt x="7279" y="3104"/>
                  </a:lnTo>
                  <a:lnTo>
                    <a:pt x="7355" y="3000"/>
                  </a:lnTo>
                  <a:lnTo>
                    <a:pt x="7297" y="2956"/>
                  </a:lnTo>
                  <a:lnTo>
                    <a:pt x="7215" y="3011"/>
                  </a:lnTo>
                  <a:lnTo>
                    <a:pt x="7215" y="3114"/>
                  </a:lnTo>
                  <a:lnTo>
                    <a:pt x="7355" y="3261"/>
                  </a:lnTo>
                  <a:lnTo>
                    <a:pt x="7389" y="3360"/>
                  </a:lnTo>
                  <a:lnTo>
                    <a:pt x="7290" y="3500"/>
                  </a:lnTo>
                  <a:lnTo>
                    <a:pt x="7290" y="3832"/>
                  </a:lnTo>
                  <a:lnTo>
                    <a:pt x="7290" y="3968"/>
                  </a:lnTo>
                  <a:lnTo>
                    <a:pt x="7307" y="4050"/>
                  </a:lnTo>
                  <a:lnTo>
                    <a:pt x="7454" y="4033"/>
                  </a:lnTo>
                  <a:lnTo>
                    <a:pt x="7556" y="4061"/>
                  </a:lnTo>
                  <a:lnTo>
                    <a:pt x="7631" y="3931"/>
                  </a:lnTo>
                  <a:lnTo>
                    <a:pt x="7713" y="3931"/>
                  </a:lnTo>
                  <a:lnTo>
                    <a:pt x="7686" y="4006"/>
                  </a:lnTo>
                  <a:lnTo>
                    <a:pt x="7768" y="4098"/>
                  </a:lnTo>
                  <a:lnTo>
                    <a:pt x="7888" y="4126"/>
                  </a:lnTo>
                  <a:lnTo>
                    <a:pt x="7871" y="4033"/>
                  </a:lnTo>
                  <a:lnTo>
                    <a:pt x="8137" y="4033"/>
                  </a:lnTo>
                  <a:lnTo>
                    <a:pt x="8045" y="4071"/>
                  </a:lnTo>
                  <a:lnTo>
                    <a:pt x="8038" y="4143"/>
                  </a:lnTo>
                  <a:lnTo>
                    <a:pt x="8158" y="4180"/>
                  </a:lnTo>
                  <a:lnTo>
                    <a:pt x="8277" y="4218"/>
                  </a:lnTo>
                  <a:lnTo>
                    <a:pt x="8332" y="4088"/>
                  </a:lnTo>
                  <a:lnTo>
                    <a:pt x="8353" y="4006"/>
                  </a:lnTo>
                  <a:lnTo>
                    <a:pt x="8267" y="4023"/>
                  </a:lnTo>
                  <a:lnTo>
                    <a:pt x="8185" y="3979"/>
                  </a:lnTo>
                  <a:lnTo>
                    <a:pt x="8137" y="3951"/>
                  </a:lnTo>
                  <a:lnTo>
                    <a:pt x="8110" y="4061"/>
                  </a:lnTo>
                  <a:lnTo>
                    <a:pt x="8110" y="4050"/>
                  </a:lnTo>
                  <a:lnTo>
                    <a:pt x="7854" y="4050"/>
                  </a:lnTo>
                  <a:lnTo>
                    <a:pt x="7795" y="3924"/>
                  </a:lnTo>
                  <a:lnTo>
                    <a:pt x="7724" y="3941"/>
                  </a:lnTo>
                  <a:lnTo>
                    <a:pt x="7638" y="3931"/>
                  </a:lnTo>
                  <a:lnTo>
                    <a:pt x="7611" y="3784"/>
                  </a:lnTo>
                  <a:lnTo>
                    <a:pt x="7567" y="3719"/>
                  </a:lnTo>
                  <a:lnTo>
                    <a:pt x="7649" y="3664"/>
                  </a:lnTo>
                  <a:lnTo>
                    <a:pt x="7649" y="3582"/>
                  </a:lnTo>
                  <a:lnTo>
                    <a:pt x="7529" y="3637"/>
                  </a:lnTo>
                  <a:lnTo>
                    <a:pt x="7447" y="3692"/>
                  </a:lnTo>
                  <a:lnTo>
                    <a:pt x="7389" y="3811"/>
                  </a:lnTo>
                  <a:lnTo>
                    <a:pt x="7290" y="3811"/>
                  </a:lnTo>
                  <a:lnTo>
                    <a:pt x="7290" y="3555"/>
                  </a:lnTo>
                  <a:lnTo>
                    <a:pt x="7225" y="3593"/>
                  </a:lnTo>
                  <a:lnTo>
                    <a:pt x="7150" y="3490"/>
                  </a:lnTo>
                  <a:lnTo>
                    <a:pt x="7068" y="3370"/>
                  </a:lnTo>
                  <a:lnTo>
                    <a:pt x="6948" y="3408"/>
                  </a:lnTo>
                  <a:lnTo>
                    <a:pt x="6938" y="3507"/>
                  </a:lnTo>
                  <a:lnTo>
                    <a:pt x="6992" y="3657"/>
                  </a:lnTo>
                  <a:lnTo>
                    <a:pt x="6992" y="3767"/>
                  </a:lnTo>
                  <a:lnTo>
                    <a:pt x="7074" y="3886"/>
                  </a:lnTo>
                  <a:lnTo>
                    <a:pt x="7122" y="3941"/>
                  </a:lnTo>
                  <a:lnTo>
                    <a:pt x="7030" y="3941"/>
                  </a:lnTo>
                  <a:lnTo>
                    <a:pt x="6965" y="3886"/>
                  </a:lnTo>
                  <a:lnTo>
                    <a:pt x="6917" y="3951"/>
                  </a:lnTo>
                  <a:lnTo>
                    <a:pt x="7047" y="4109"/>
                  </a:lnTo>
                  <a:lnTo>
                    <a:pt x="7150" y="4208"/>
                  </a:lnTo>
                  <a:lnTo>
                    <a:pt x="7242" y="4191"/>
                  </a:lnTo>
                  <a:lnTo>
                    <a:pt x="7355" y="4228"/>
                  </a:lnTo>
                  <a:lnTo>
                    <a:pt x="7491" y="4228"/>
                  </a:lnTo>
                  <a:lnTo>
                    <a:pt x="7611" y="4208"/>
                  </a:lnTo>
                  <a:lnTo>
                    <a:pt x="7724" y="4256"/>
                  </a:lnTo>
                  <a:lnTo>
                    <a:pt x="7696" y="4293"/>
                  </a:lnTo>
                  <a:lnTo>
                    <a:pt x="7567" y="4245"/>
                  </a:lnTo>
                  <a:lnTo>
                    <a:pt x="7567" y="4467"/>
                  </a:lnTo>
                  <a:lnTo>
                    <a:pt x="7659" y="4467"/>
                  </a:lnTo>
                  <a:lnTo>
                    <a:pt x="7713" y="4440"/>
                  </a:lnTo>
                  <a:lnTo>
                    <a:pt x="7724" y="4382"/>
                  </a:lnTo>
                  <a:lnTo>
                    <a:pt x="7833" y="4392"/>
                  </a:lnTo>
                  <a:lnTo>
                    <a:pt x="7963" y="4338"/>
                  </a:lnTo>
                  <a:lnTo>
                    <a:pt x="7953" y="4430"/>
                  </a:lnTo>
                  <a:lnTo>
                    <a:pt x="8001" y="4505"/>
                  </a:lnTo>
                  <a:lnTo>
                    <a:pt x="8065" y="4560"/>
                  </a:lnTo>
                  <a:lnTo>
                    <a:pt x="8137" y="4505"/>
                  </a:lnTo>
                  <a:lnTo>
                    <a:pt x="8130" y="4403"/>
                  </a:lnTo>
                  <a:lnTo>
                    <a:pt x="8137" y="4310"/>
                  </a:lnTo>
                  <a:lnTo>
                    <a:pt x="8185" y="4403"/>
                  </a:lnTo>
                  <a:lnTo>
                    <a:pt x="8212" y="4512"/>
                  </a:lnTo>
                  <a:lnTo>
                    <a:pt x="8110" y="4751"/>
                  </a:lnTo>
                  <a:lnTo>
                    <a:pt x="8001" y="4973"/>
                  </a:lnTo>
                  <a:lnTo>
                    <a:pt x="7898" y="5185"/>
                  </a:lnTo>
                  <a:lnTo>
                    <a:pt x="7768" y="5424"/>
                  </a:lnTo>
                  <a:lnTo>
                    <a:pt x="7686" y="5349"/>
                  </a:lnTo>
                  <a:lnTo>
                    <a:pt x="7567" y="5407"/>
                  </a:lnTo>
                  <a:lnTo>
                    <a:pt x="7529" y="5479"/>
                  </a:lnTo>
                  <a:lnTo>
                    <a:pt x="7447" y="5534"/>
                  </a:lnTo>
                  <a:lnTo>
                    <a:pt x="7297" y="5561"/>
                  </a:lnTo>
                  <a:lnTo>
                    <a:pt x="7204" y="5554"/>
                  </a:lnTo>
                  <a:lnTo>
                    <a:pt x="7232" y="5414"/>
                  </a:lnTo>
                  <a:lnTo>
                    <a:pt x="7225" y="5315"/>
                  </a:lnTo>
                  <a:lnTo>
                    <a:pt x="7290" y="5230"/>
                  </a:lnTo>
                  <a:lnTo>
                    <a:pt x="7279" y="5158"/>
                  </a:lnTo>
                  <a:lnTo>
                    <a:pt x="7167" y="5093"/>
                  </a:lnTo>
                  <a:lnTo>
                    <a:pt x="7187" y="4973"/>
                  </a:lnTo>
                  <a:lnTo>
                    <a:pt x="7215" y="4843"/>
                  </a:lnTo>
                  <a:lnTo>
                    <a:pt x="7317" y="4734"/>
                  </a:lnTo>
                  <a:lnTo>
                    <a:pt x="7454" y="4724"/>
                  </a:lnTo>
                  <a:lnTo>
                    <a:pt x="7481" y="4642"/>
                  </a:lnTo>
                  <a:lnTo>
                    <a:pt x="7447" y="4512"/>
                  </a:lnTo>
                  <a:lnTo>
                    <a:pt x="7529" y="4474"/>
                  </a:lnTo>
                  <a:lnTo>
                    <a:pt x="7567" y="4467"/>
                  </a:lnTo>
                  <a:lnTo>
                    <a:pt x="7567" y="4256"/>
                  </a:lnTo>
                  <a:lnTo>
                    <a:pt x="7454" y="4273"/>
                  </a:lnTo>
                  <a:lnTo>
                    <a:pt x="7355" y="4320"/>
                  </a:lnTo>
                  <a:lnTo>
                    <a:pt x="7252" y="4256"/>
                  </a:lnTo>
                  <a:lnTo>
                    <a:pt x="7139" y="4256"/>
                  </a:lnTo>
                  <a:lnTo>
                    <a:pt x="7003" y="4208"/>
                  </a:lnTo>
                  <a:lnTo>
                    <a:pt x="6917" y="4109"/>
                  </a:lnTo>
                  <a:lnTo>
                    <a:pt x="6873" y="4016"/>
                  </a:lnTo>
                  <a:lnTo>
                    <a:pt x="6798" y="3931"/>
                  </a:lnTo>
                  <a:lnTo>
                    <a:pt x="6873" y="3914"/>
                  </a:lnTo>
                  <a:lnTo>
                    <a:pt x="6917" y="3941"/>
                  </a:lnTo>
                  <a:lnTo>
                    <a:pt x="6975" y="3869"/>
                  </a:lnTo>
                  <a:lnTo>
                    <a:pt x="6948" y="3757"/>
                  </a:lnTo>
                  <a:lnTo>
                    <a:pt x="6873" y="3746"/>
                  </a:lnTo>
                  <a:lnTo>
                    <a:pt x="6825" y="3620"/>
                  </a:lnTo>
                  <a:lnTo>
                    <a:pt x="6863" y="3490"/>
                  </a:lnTo>
                  <a:lnTo>
                    <a:pt x="6917" y="3387"/>
                  </a:lnTo>
                  <a:lnTo>
                    <a:pt x="6900" y="3261"/>
                  </a:lnTo>
                  <a:lnTo>
                    <a:pt x="6863" y="3251"/>
                  </a:lnTo>
                  <a:lnTo>
                    <a:pt x="6798" y="3316"/>
                  </a:lnTo>
                  <a:lnTo>
                    <a:pt x="6791" y="3387"/>
                  </a:lnTo>
                  <a:lnTo>
                    <a:pt x="6716" y="3261"/>
                  </a:lnTo>
                  <a:lnTo>
                    <a:pt x="6606" y="3169"/>
                  </a:lnTo>
                  <a:lnTo>
                    <a:pt x="6521" y="3176"/>
                  </a:lnTo>
                  <a:lnTo>
                    <a:pt x="6449" y="3305"/>
                  </a:lnTo>
                  <a:lnTo>
                    <a:pt x="6336" y="3370"/>
                  </a:lnTo>
                  <a:lnTo>
                    <a:pt x="6336" y="3452"/>
                  </a:lnTo>
                  <a:lnTo>
                    <a:pt x="6374" y="3555"/>
                  </a:lnTo>
                  <a:lnTo>
                    <a:pt x="6364" y="3647"/>
                  </a:lnTo>
                  <a:lnTo>
                    <a:pt x="6282" y="3637"/>
                  </a:lnTo>
                  <a:lnTo>
                    <a:pt x="6217" y="3507"/>
                  </a:lnTo>
                  <a:lnTo>
                    <a:pt x="6124" y="3387"/>
                  </a:lnTo>
                  <a:lnTo>
                    <a:pt x="6022" y="3305"/>
                  </a:lnTo>
                  <a:lnTo>
                    <a:pt x="5950" y="3169"/>
                  </a:lnTo>
                  <a:lnTo>
                    <a:pt x="5875" y="3114"/>
                  </a:lnTo>
                  <a:lnTo>
                    <a:pt x="5735" y="3114"/>
                  </a:lnTo>
                  <a:lnTo>
                    <a:pt x="5625" y="3114"/>
                  </a:lnTo>
                  <a:lnTo>
                    <a:pt x="5550" y="3176"/>
                  </a:lnTo>
                  <a:lnTo>
                    <a:pt x="5479" y="3083"/>
                  </a:lnTo>
                  <a:lnTo>
                    <a:pt x="5393" y="3021"/>
                  </a:lnTo>
                  <a:lnTo>
                    <a:pt x="5284" y="2928"/>
                  </a:lnTo>
                  <a:lnTo>
                    <a:pt x="5366" y="3083"/>
                  </a:lnTo>
                  <a:lnTo>
                    <a:pt x="5485" y="3121"/>
                  </a:lnTo>
                  <a:lnTo>
                    <a:pt x="5571" y="3261"/>
                  </a:lnTo>
                  <a:lnTo>
                    <a:pt x="5543" y="3370"/>
                  </a:lnTo>
                  <a:lnTo>
                    <a:pt x="5458" y="3435"/>
                  </a:lnTo>
                  <a:lnTo>
                    <a:pt x="5328" y="3452"/>
                  </a:lnTo>
                  <a:lnTo>
                    <a:pt x="5229" y="3500"/>
                  </a:lnTo>
                  <a:lnTo>
                    <a:pt x="5154" y="3599"/>
                  </a:lnTo>
                  <a:lnTo>
                    <a:pt x="5109" y="3664"/>
                  </a:lnTo>
                  <a:lnTo>
                    <a:pt x="5072" y="3538"/>
                  </a:lnTo>
                  <a:lnTo>
                    <a:pt x="5017" y="3370"/>
                  </a:lnTo>
                  <a:lnTo>
                    <a:pt x="4932" y="3278"/>
                  </a:lnTo>
                  <a:lnTo>
                    <a:pt x="4932" y="3176"/>
                  </a:lnTo>
                  <a:lnTo>
                    <a:pt x="4860" y="3186"/>
                  </a:lnTo>
                  <a:lnTo>
                    <a:pt x="4877" y="3353"/>
                  </a:lnTo>
                  <a:lnTo>
                    <a:pt x="4952" y="3490"/>
                  </a:lnTo>
                  <a:lnTo>
                    <a:pt x="4952" y="3593"/>
                  </a:lnTo>
                  <a:lnTo>
                    <a:pt x="5062" y="3657"/>
                  </a:lnTo>
                  <a:lnTo>
                    <a:pt x="5109" y="3739"/>
                  </a:lnTo>
                  <a:lnTo>
                    <a:pt x="5219" y="3692"/>
                  </a:lnTo>
                  <a:lnTo>
                    <a:pt x="5311" y="3685"/>
                  </a:lnTo>
                  <a:lnTo>
                    <a:pt x="5431" y="3637"/>
                  </a:lnTo>
                  <a:lnTo>
                    <a:pt x="5376" y="3777"/>
                  </a:lnTo>
                  <a:lnTo>
                    <a:pt x="5284" y="3968"/>
                  </a:lnTo>
                  <a:lnTo>
                    <a:pt x="5219" y="4088"/>
                  </a:lnTo>
                  <a:lnTo>
                    <a:pt x="5127" y="4191"/>
                  </a:lnTo>
                  <a:lnTo>
                    <a:pt x="5072" y="4293"/>
                  </a:lnTo>
                  <a:lnTo>
                    <a:pt x="5051" y="4505"/>
                  </a:lnTo>
                  <a:lnTo>
                    <a:pt x="5034" y="4659"/>
                  </a:lnTo>
                  <a:lnTo>
                    <a:pt x="5045" y="4799"/>
                  </a:lnTo>
                  <a:lnTo>
                    <a:pt x="5062" y="4936"/>
                  </a:lnTo>
                  <a:lnTo>
                    <a:pt x="5062" y="4973"/>
                  </a:lnTo>
                  <a:lnTo>
                    <a:pt x="5154" y="4963"/>
                  </a:lnTo>
                  <a:lnTo>
                    <a:pt x="5164" y="4843"/>
                  </a:lnTo>
                  <a:lnTo>
                    <a:pt x="5267" y="4724"/>
                  </a:lnTo>
                  <a:lnTo>
                    <a:pt x="5366" y="4659"/>
                  </a:lnTo>
                  <a:lnTo>
                    <a:pt x="5386" y="4789"/>
                  </a:lnTo>
                  <a:lnTo>
                    <a:pt x="5376" y="4908"/>
                  </a:lnTo>
                  <a:lnTo>
                    <a:pt x="5321" y="4973"/>
                  </a:lnTo>
                  <a:lnTo>
                    <a:pt x="5328" y="5048"/>
                  </a:lnTo>
                  <a:lnTo>
                    <a:pt x="5294" y="5202"/>
                  </a:lnTo>
                  <a:lnTo>
                    <a:pt x="5273" y="5288"/>
                  </a:lnTo>
                  <a:lnTo>
                    <a:pt x="5209" y="5315"/>
                  </a:lnTo>
                  <a:lnTo>
                    <a:pt x="5137" y="5230"/>
                  </a:lnTo>
                  <a:lnTo>
                    <a:pt x="5164" y="5103"/>
                  </a:lnTo>
                  <a:lnTo>
                    <a:pt x="5191" y="5055"/>
                  </a:lnTo>
                  <a:lnTo>
                    <a:pt x="5144" y="4973"/>
                  </a:lnTo>
                  <a:lnTo>
                    <a:pt x="5051" y="4984"/>
                  </a:lnTo>
                  <a:lnTo>
                    <a:pt x="5024" y="5093"/>
                  </a:lnTo>
                  <a:lnTo>
                    <a:pt x="4894" y="5158"/>
                  </a:lnTo>
                  <a:lnTo>
                    <a:pt x="4812" y="5230"/>
                  </a:lnTo>
                  <a:lnTo>
                    <a:pt x="4822" y="5349"/>
                  </a:lnTo>
                  <a:lnTo>
                    <a:pt x="4812" y="5506"/>
                  </a:lnTo>
                  <a:lnTo>
                    <a:pt x="4775" y="5653"/>
                  </a:lnTo>
                  <a:lnTo>
                    <a:pt x="4600" y="5831"/>
                  </a:lnTo>
                  <a:lnTo>
                    <a:pt x="4518" y="5838"/>
                  </a:lnTo>
                  <a:lnTo>
                    <a:pt x="4453" y="5729"/>
                  </a:lnTo>
                  <a:lnTo>
                    <a:pt x="4351" y="5653"/>
                  </a:lnTo>
                  <a:lnTo>
                    <a:pt x="4296" y="5619"/>
                  </a:lnTo>
                  <a:lnTo>
                    <a:pt x="4194" y="5407"/>
                  </a:lnTo>
                  <a:lnTo>
                    <a:pt x="4100" y="5295"/>
                  </a:lnTo>
                  <a:lnTo>
                    <a:pt x="4025" y="5185"/>
                  </a:lnTo>
                  <a:lnTo>
                    <a:pt x="3988" y="5083"/>
                  </a:lnTo>
                  <a:lnTo>
                    <a:pt x="3981" y="4936"/>
                  </a:lnTo>
                  <a:lnTo>
                    <a:pt x="3895" y="4843"/>
                  </a:lnTo>
                  <a:lnTo>
                    <a:pt x="3868" y="4751"/>
                  </a:lnTo>
                  <a:lnTo>
                    <a:pt x="3926" y="4632"/>
                  </a:lnTo>
                  <a:lnTo>
                    <a:pt x="3926" y="4522"/>
                  </a:lnTo>
                  <a:lnTo>
                    <a:pt x="3841" y="4467"/>
                  </a:lnTo>
                  <a:lnTo>
                    <a:pt x="3711" y="4440"/>
                  </a:lnTo>
                  <a:lnTo>
                    <a:pt x="3612" y="4403"/>
                  </a:lnTo>
                  <a:lnTo>
                    <a:pt x="3554" y="4440"/>
                  </a:lnTo>
                  <a:lnTo>
                    <a:pt x="3461" y="4467"/>
                  </a:lnTo>
                  <a:lnTo>
                    <a:pt x="3379" y="4403"/>
                  </a:lnTo>
                  <a:lnTo>
                    <a:pt x="3304" y="4327"/>
                  </a:lnTo>
                  <a:lnTo>
                    <a:pt x="3205" y="4310"/>
                  </a:lnTo>
                  <a:lnTo>
                    <a:pt x="3102" y="4256"/>
                  </a:lnTo>
                  <a:lnTo>
                    <a:pt x="3010" y="4180"/>
                  </a:lnTo>
                  <a:lnTo>
                    <a:pt x="2983" y="4006"/>
                  </a:lnTo>
                  <a:lnTo>
                    <a:pt x="2973" y="3886"/>
                  </a:lnTo>
                  <a:lnTo>
                    <a:pt x="3055" y="3811"/>
                  </a:lnTo>
                  <a:lnTo>
                    <a:pt x="3048" y="3729"/>
                  </a:lnTo>
                  <a:lnTo>
                    <a:pt x="3020" y="3582"/>
                  </a:lnTo>
                  <a:lnTo>
                    <a:pt x="3027" y="3446"/>
                  </a:lnTo>
                  <a:lnTo>
                    <a:pt x="3010" y="3316"/>
                  </a:lnTo>
                  <a:lnTo>
                    <a:pt x="3102" y="3203"/>
                  </a:lnTo>
                  <a:lnTo>
                    <a:pt x="3178" y="3141"/>
                  </a:lnTo>
                  <a:lnTo>
                    <a:pt x="3260" y="3121"/>
                  </a:lnTo>
                  <a:lnTo>
                    <a:pt x="3232" y="3021"/>
                  </a:lnTo>
                  <a:lnTo>
                    <a:pt x="3287" y="2928"/>
                  </a:lnTo>
                  <a:lnTo>
                    <a:pt x="3369" y="2870"/>
                  </a:lnTo>
                  <a:lnTo>
                    <a:pt x="3472" y="2918"/>
                  </a:lnTo>
                  <a:lnTo>
                    <a:pt x="3601" y="2956"/>
                  </a:lnTo>
                  <a:lnTo>
                    <a:pt x="3731" y="2928"/>
                  </a:lnTo>
                  <a:lnTo>
                    <a:pt x="3851" y="2928"/>
                  </a:lnTo>
                  <a:lnTo>
                    <a:pt x="3906" y="2935"/>
                  </a:lnTo>
                  <a:lnTo>
                    <a:pt x="3933" y="3056"/>
                  </a:lnTo>
                  <a:lnTo>
                    <a:pt x="4046" y="3076"/>
                  </a:lnTo>
                  <a:lnTo>
                    <a:pt x="4155" y="3114"/>
                  </a:lnTo>
                  <a:lnTo>
                    <a:pt x="4221" y="3104"/>
                  </a:lnTo>
                  <a:lnTo>
                    <a:pt x="4269" y="3028"/>
                  </a:lnTo>
                  <a:lnTo>
                    <a:pt x="4303" y="2973"/>
                  </a:lnTo>
                  <a:lnTo>
                    <a:pt x="4405" y="3000"/>
                  </a:lnTo>
                  <a:lnTo>
                    <a:pt x="4525" y="3056"/>
                  </a:lnTo>
                  <a:lnTo>
                    <a:pt x="4655" y="3076"/>
                  </a:lnTo>
                  <a:lnTo>
                    <a:pt x="4747" y="3083"/>
                  </a:lnTo>
                  <a:lnTo>
                    <a:pt x="4860" y="3076"/>
                  </a:lnTo>
                  <a:lnTo>
                    <a:pt x="4932" y="3000"/>
                  </a:lnTo>
                  <a:lnTo>
                    <a:pt x="4969" y="2901"/>
                  </a:lnTo>
                  <a:lnTo>
                    <a:pt x="5017" y="2816"/>
                  </a:lnTo>
                  <a:lnTo>
                    <a:pt x="4969" y="2788"/>
                  </a:lnTo>
                  <a:lnTo>
                    <a:pt x="4915" y="2723"/>
                  </a:lnTo>
                  <a:lnTo>
                    <a:pt x="4850" y="2744"/>
                  </a:lnTo>
                  <a:lnTo>
                    <a:pt x="4730" y="2744"/>
                  </a:lnTo>
                  <a:lnTo>
                    <a:pt x="4645" y="2706"/>
                  </a:lnTo>
                  <a:lnTo>
                    <a:pt x="4638" y="2614"/>
                  </a:lnTo>
                  <a:lnTo>
                    <a:pt x="4600" y="2587"/>
                  </a:lnTo>
                  <a:lnTo>
                    <a:pt x="4552" y="2614"/>
                  </a:lnTo>
                  <a:lnTo>
                    <a:pt x="4573" y="2706"/>
                  </a:lnTo>
                  <a:lnTo>
                    <a:pt x="4535" y="2778"/>
                  </a:lnTo>
                  <a:lnTo>
                    <a:pt x="4443" y="2771"/>
                  </a:lnTo>
                  <a:lnTo>
                    <a:pt x="4395" y="2696"/>
                  </a:lnTo>
                  <a:lnTo>
                    <a:pt x="4368" y="2604"/>
                  </a:lnTo>
                  <a:lnTo>
                    <a:pt x="4368" y="2494"/>
                  </a:lnTo>
                  <a:lnTo>
                    <a:pt x="4313" y="2447"/>
                  </a:lnTo>
                  <a:lnTo>
                    <a:pt x="4286" y="2522"/>
                  </a:lnTo>
                  <a:lnTo>
                    <a:pt x="4296" y="2614"/>
                  </a:lnTo>
                  <a:lnTo>
                    <a:pt x="4330" y="2689"/>
                  </a:lnTo>
                  <a:lnTo>
                    <a:pt x="4395" y="2751"/>
                  </a:lnTo>
                  <a:lnTo>
                    <a:pt x="4330" y="2836"/>
                  </a:lnTo>
                  <a:lnTo>
                    <a:pt x="4269" y="2891"/>
                  </a:lnTo>
                  <a:lnTo>
                    <a:pt x="4183" y="2870"/>
                  </a:lnTo>
                  <a:lnTo>
                    <a:pt x="4183" y="2935"/>
                  </a:lnTo>
                  <a:lnTo>
                    <a:pt x="4117" y="2990"/>
                  </a:lnTo>
                  <a:lnTo>
                    <a:pt x="4035" y="2891"/>
                  </a:lnTo>
                  <a:lnTo>
                    <a:pt x="4046" y="2826"/>
                  </a:lnTo>
                  <a:lnTo>
                    <a:pt x="4145" y="2870"/>
                  </a:lnTo>
                  <a:lnTo>
                    <a:pt x="4211" y="2870"/>
                  </a:lnTo>
                  <a:lnTo>
                    <a:pt x="4296" y="2809"/>
                  </a:lnTo>
                  <a:lnTo>
                    <a:pt x="4269" y="2706"/>
                  </a:lnTo>
                  <a:lnTo>
                    <a:pt x="4194" y="2641"/>
                  </a:lnTo>
                  <a:lnTo>
                    <a:pt x="4117" y="2587"/>
                  </a:lnTo>
                  <a:lnTo>
                    <a:pt x="4035" y="2505"/>
                  </a:lnTo>
                  <a:lnTo>
                    <a:pt x="3943" y="2419"/>
                  </a:lnTo>
                  <a:lnTo>
                    <a:pt x="3943" y="2522"/>
                  </a:lnTo>
                  <a:lnTo>
                    <a:pt x="4008" y="2597"/>
                  </a:lnTo>
                  <a:lnTo>
                    <a:pt x="3988" y="2706"/>
                  </a:lnTo>
                  <a:lnTo>
                    <a:pt x="3988" y="2809"/>
                  </a:lnTo>
                  <a:lnTo>
                    <a:pt x="3895" y="2734"/>
                  </a:lnTo>
                  <a:lnTo>
                    <a:pt x="3878" y="2658"/>
                  </a:lnTo>
                  <a:lnTo>
                    <a:pt x="3926" y="2604"/>
                  </a:lnTo>
                  <a:lnTo>
                    <a:pt x="3906" y="2539"/>
                  </a:lnTo>
                  <a:lnTo>
                    <a:pt x="3953" y="2512"/>
                  </a:lnTo>
                  <a:lnTo>
                    <a:pt x="3953" y="2419"/>
                  </a:lnTo>
                  <a:lnTo>
                    <a:pt x="3878" y="2440"/>
                  </a:lnTo>
                  <a:lnTo>
                    <a:pt x="3813" y="2522"/>
                  </a:lnTo>
                  <a:lnTo>
                    <a:pt x="3731" y="2505"/>
                  </a:lnTo>
                  <a:lnTo>
                    <a:pt x="3612" y="2559"/>
                  </a:lnTo>
                  <a:lnTo>
                    <a:pt x="3591" y="2679"/>
                  </a:lnTo>
                  <a:lnTo>
                    <a:pt x="3489" y="2751"/>
                  </a:lnTo>
                  <a:lnTo>
                    <a:pt x="3379" y="2816"/>
                  </a:lnTo>
                  <a:lnTo>
                    <a:pt x="3277" y="2826"/>
                  </a:lnTo>
                  <a:lnTo>
                    <a:pt x="3178" y="2788"/>
                  </a:lnTo>
                  <a:lnTo>
                    <a:pt x="3113" y="2734"/>
                  </a:lnTo>
                  <a:lnTo>
                    <a:pt x="3157" y="2679"/>
                  </a:lnTo>
                  <a:lnTo>
                    <a:pt x="3113" y="2597"/>
                  </a:lnTo>
                  <a:lnTo>
                    <a:pt x="3184" y="2532"/>
                  </a:lnTo>
                  <a:lnTo>
                    <a:pt x="3195" y="2457"/>
                  </a:lnTo>
                  <a:lnTo>
                    <a:pt x="3195" y="2358"/>
                  </a:lnTo>
                  <a:lnTo>
                    <a:pt x="3287" y="2265"/>
                  </a:lnTo>
                  <a:lnTo>
                    <a:pt x="3427" y="2310"/>
                  </a:lnTo>
                  <a:lnTo>
                    <a:pt x="3574" y="2337"/>
                  </a:lnTo>
                  <a:lnTo>
                    <a:pt x="3629" y="2272"/>
                  </a:lnTo>
                  <a:lnTo>
                    <a:pt x="3629" y="2173"/>
                  </a:lnTo>
                  <a:lnTo>
                    <a:pt x="3564" y="2098"/>
                  </a:lnTo>
                  <a:lnTo>
                    <a:pt x="3444" y="2043"/>
                  </a:lnTo>
                  <a:lnTo>
                    <a:pt x="3509" y="1995"/>
                  </a:lnTo>
                  <a:lnTo>
                    <a:pt x="3618" y="1951"/>
                  </a:lnTo>
                  <a:lnTo>
                    <a:pt x="3639" y="1934"/>
                  </a:lnTo>
                  <a:lnTo>
                    <a:pt x="3612" y="1913"/>
                  </a:lnTo>
                  <a:lnTo>
                    <a:pt x="3519" y="1934"/>
                  </a:lnTo>
                  <a:lnTo>
                    <a:pt x="3427" y="1951"/>
                  </a:lnTo>
                  <a:lnTo>
                    <a:pt x="3369" y="1968"/>
                  </a:lnTo>
                  <a:lnTo>
                    <a:pt x="3407" y="1903"/>
                  </a:lnTo>
                  <a:lnTo>
                    <a:pt x="3427" y="1804"/>
                  </a:lnTo>
                  <a:lnTo>
                    <a:pt x="3461" y="1756"/>
                  </a:lnTo>
                  <a:lnTo>
                    <a:pt x="3482" y="1691"/>
                  </a:lnTo>
                  <a:lnTo>
                    <a:pt x="3434" y="1619"/>
                  </a:lnTo>
                  <a:lnTo>
                    <a:pt x="3369" y="1664"/>
                  </a:lnTo>
                  <a:lnTo>
                    <a:pt x="3379" y="1749"/>
                  </a:lnTo>
                  <a:lnTo>
                    <a:pt x="3369" y="1821"/>
                  </a:lnTo>
                  <a:lnTo>
                    <a:pt x="3325" y="1934"/>
                  </a:lnTo>
                  <a:lnTo>
                    <a:pt x="3232" y="1913"/>
                  </a:lnTo>
                  <a:lnTo>
                    <a:pt x="3205" y="1821"/>
                  </a:lnTo>
                  <a:lnTo>
                    <a:pt x="3147" y="1712"/>
                  </a:lnTo>
                  <a:lnTo>
                    <a:pt x="3260" y="1691"/>
                  </a:lnTo>
                  <a:lnTo>
                    <a:pt x="3297" y="1657"/>
                  </a:lnTo>
                  <a:lnTo>
                    <a:pt x="3342" y="1630"/>
                  </a:lnTo>
                  <a:lnTo>
                    <a:pt x="3342" y="1582"/>
                  </a:lnTo>
                  <a:lnTo>
                    <a:pt x="3314" y="1510"/>
                  </a:lnTo>
                  <a:lnTo>
                    <a:pt x="3396" y="1462"/>
                  </a:lnTo>
                  <a:lnTo>
                    <a:pt x="3482" y="1418"/>
                  </a:lnTo>
                  <a:lnTo>
                    <a:pt x="3536" y="1452"/>
                  </a:lnTo>
                  <a:lnTo>
                    <a:pt x="3564" y="1555"/>
                  </a:lnTo>
                  <a:lnTo>
                    <a:pt x="3601" y="1664"/>
                  </a:lnTo>
                  <a:lnTo>
                    <a:pt x="3656" y="1722"/>
                  </a:lnTo>
                  <a:lnTo>
                    <a:pt x="3683" y="1821"/>
                  </a:lnTo>
                  <a:lnTo>
                    <a:pt x="3639" y="1886"/>
                  </a:lnTo>
                  <a:lnTo>
                    <a:pt x="3629" y="1941"/>
                  </a:lnTo>
                  <a:lnTo>
                    <a:pt x="3711" y="1913"/>
                  </a:lnTo>
                  <a:lnTo>
                    <a:pt x="3803" y="1869"/>
                  </a:lnTo>
                  <a:lnTo>
                    <a:pt x="3841" y="1749"/>
                  </a:lnTo>
                  <a:lnTo>
                    <a:pt x="3933" y="1749"/>
                  </a:lnTo>
                  <a:lnTo>
                    <a:pt x="3981" y="1712"/>
                  </a:lnTo>
                  <a:lnTo>
                    <a:pt x="3970" y="1619"/>
                  </a:lnTo>
                  <a:lnTo>
                    <a:pt x="3926" y="1527"/>
                  </a:lnTo>
                  <a:lnTo>
                    <a:pt x="4008" y="1527"/>
                  </a:lnTo>
                  <a:lnTo>
                    <a:pt x="4100" y="1619"/>
                  </a:lnTo>
                  <a:lnTo>
                    <a:pt x="4183" y="1691"/>
                  </a:lnTo>
                  <a:lnTo>
                    <a:pt x="4248" y="1691"/>
                  </a:lnTo>
                  <a:lnTo>
                    <a:pt x="4361" y="1657"/>
                  </a:lnTo>
                  <a:lnTo>
                    <a:pt x="4433" y="1537"/>
                  </a:lnTo>
                  <a:lnTo>
                    <a:pt x="4470" y="1452"/>
                  </a:lnTo>
                  <a:lnTo>
                    <a:pt x="4638" y="1490"/>
                  </a:lnTo>
                  <a:lnTo>
                    <a:pt x="4498" y="1408"/>
                  </a:lnTo>
                  <a:lnTo>
                    <a:pt x="4395" y="1418"/>
                  </a:lnTo>
                  <a:lnTo>
                    <a:pt x="4368" y="1288"/>
                  </a:lnTo>
                  <a:lnTo>
                    <a:pt x="4368" y="1213"/>
                  </a:lnTo>
                  <a:lnTo>
                    <a:pt x="4487" y="1179"/>
                  </a:lnTo>
                  <a:lnTo>
                    <a:pt x="4518" y="1103"/>
                  </a:lnTo>
                  <a:lnTo>
                    <a:pt x="4433" y="1141"/>
                  </a:lnTo>
                  <a:lnTo>
                    <a:pt x="4330" y="1206"/>
                  </a:lnTo>
                  <a:lnTo>
                    <a:pt x="4231" y="1213"/>
                  </a:lnTo>
                  <a:lnTo>
                    <a:pt x="4286" y="1332"/>
                  </a:lnTo>
                  <a:lnTo>
                    <a:pt x="4269" y="1435"/>
                  </a:lnTo>
                  <a:lnTo>
                    <a:pt x="4269" y="1517"/>
                  </a:lnTo>
                  <a:lnTo>
                    <a:pt x="4194" y="1582"/>
                  </a:lnTo>
                  <a:lnTo>
                    <a:pt x="4111" y="1599"/>
                  </a:lnTo>
                  <a:lnTo>
                    <a:pt x="4046" y="1527"/>
                  </a:lnTo>
                  <a:lnTo>
                    <a:pt x="4052" y="1452"/>
                  </a:lnTo>
                  <a:lnTo>
                    <a:pt x="4073" y="1408"/>
                  </a:lnTo>
                  <a:lnTo>
                    <a:pt x="3981" y="1435"/>
                  </a:lnTo>
                  <a:lnTo>
                    <a:pt x="3888" y="1387"/>
                  </a:lnTo>
                  <a:lnTo>
                    <a:pt x="3841" y="1326"/>
                  </a:lnTo>
                  <a:lnTo>
                    <a:pt x="3868" y="1213"/>
                  </a:lnTo>
                  <a:lnTo>
                    <a:pt x="3851" y="1206"/>
                  </a:lnTo>
                  <a:lnTo>
                    <a:pt x="3868" y="1196"/>
                  </a:lnTo>
                  <a:lnTo>
                    <a:pt x="3878" y="1185"/>
                  </a:lnTo>
                  <a:lnTo>
                    <a:pt x="2798" y="1185"/>
                  </a:lnTo>
                  <a:lnTo>
                    <a:pt x="2740" y="1250"/>
                  </a:lnTo>
                  <a:lnTo>
                    <a:pt x="2648" y="1305"/>
                  </a:lnTo>
                  <a:lnTo>
                    <a:pt x="2556" y="1267"/>
                  </a:lnTo>
                  <a:lnTo>
                    <a:pt x="2528" y="1206"/>
                  </a:lnTo>
                  <a:lnTo>
                    <a:pt x="2528" y="1131"/>
                  </a:lnTo>
                  <a:lnTo>
                    <a:pt x="2539" y="1121"/>
                  </a:lnTo>
                  <a:lnTo>
                    <a:pt x="2316" y="1121"/>
                  </a:lnTo>
                  <a:lnTo>
                    <a:pt x="2241" y="1131"/>
                  </a:lnTo>
                  <a:lnTo>
                    <a:pt x="2180" y="1267"/>
                  </a:lnTo>
                  <a:lnTo>
                    <a:pt x="2142" y="1370"/>
                  </a:lnTo>
                  <a:lnTo>
                    <a:pt x="2115" y="1462"/>
                  </a:lnTo>
                  <a:lnTo>
                    <a:pt x="2002" y="1435"/>
                  </a:lnTo>
                  <a:lnTo>
                    <a:pt x="1930" y="1370"/>
                  </a:lnTo>
                  <a:lnTo>
                    <a:pt x="1920" y="1213"/>
                  </a:lnTo>
                  <a:lnTo>
                    <a:pt x="1872" y="1056"/>
                  </a:lnTo>
                  <a:lnTo>
                    <a:pt x="1807" y="967"/>
                  </a:lnTo>
                  <a:lnTo>
                    <a:pt x="1838" y="909"/>
                  </a:lnTo>
                  <a:lnTo>
                    <a:pt x="1773" y="772"/>
                  </a:lnTo>
                  <a:lnTo>
                    <a:pt x="1715" y="724"/>
                  </a:lnTo>
                  <a:lnTo>
                    <a:pt x="1643" y="782"/>
                  </a:lnTo>
                  <a:lnTo>
                    <a:pt x="1541" y="717"/>
                  </a:lnTo>
                  <a:lnTo>
                    <a:pt x="1476" y="762"/>
                  </a:lnTo>
                  <a:lnTo>
                    <a:pt x="1431" y="810"/>
                  </a:lnTo>
                  <a:lnTo>
                    <a:pt x="1302" y="844"/>
                  </a:lnTo>
                  <a:lnTo>
                    <a:pt x="1226" y="936"/>
                  </a:lnTo>
                  <a:lnTo>
                    <a:pt x="1373" y="956"/>
                  </a:lnTo>
                  <a:lnTo>
                    <a:pt x="1503" y="1011"/>
                  </a:lnTo>
                  <a:lnTo>
                    <a:pt x="1558" y="1103"/>
                  </a:lnTo>
                  <a:lnTo>
                    <a:pt x="1643" y="1196"/>
                  </a:lnTo>
                  <a:lnTo>
                    <a:pt x="1650" y="1343"/>
                  </a:lnTo>
                  <a:lnTo>
                    <a:pt x="1623" y="1490"/>
                  </a:lnTo>
                  <a:lnTo>
                    <a:pt x="1541" y="1527"/>
                  </a:lnTo>
                  <a:lnTo>
                    <a:pt x="1448" y="1435"/>
                  </a:lnTo>
                  <a:lnTo>
                    <a:pt x="1274" y="1425"/>
                  </a:lnTo>
                  <a:lnTo>
                    <a:pt x="1274" y="1360"/>
                  </a:lnTo>
                  <a:lnTo>
                    <a:pt x="1431" y="1326"/>
                  </a:lnTo>
                  <a:lnTo>
                    <a:pt x="1438" y="1240"/>
                  </a:lnTo>
                  <a:lnTo>
                    <a:pt x="1421" y="1206"/>
                  </a:lnTo>
                  <a:lnTo>
                    <a:pt x="1366" y="1288"/>
                  </a:lnTo>
                  <a:lnTo>
                    <a:pt x="1291" y="1223"/>
                  </a:lnTo>
                  <a:lnTo>
                    <a:pt x="1394" y="1141"/>
                  </a:lnTo>
                  <a:lnTo>
                    <a:pt x="1448" y="1213"/>
                  </a:lnTo>
                  <a:lnTo>
                    <a:pt x="1366" y="1131"/>
                  </a:lnTo>
                  <a:lnTo>
                    <a:pt x="1274" y="1131"/>
                  </a:lnTo>
                  <a:lnTo>
                    <a:pt x="1209" y="1196"/>
                  </a:lnTo>
                  <a:lnTo>
                    <a:pt x="1216" y="1288"/>
                  </a:lnTo>
                  <a:lnTo>
                    <a:pt x="1216" y="1408"/>
                  </a:lnTo>
                  <a:lnTo>
                    <a:pt x="1199" y="1500"/>
                  </a:lnTo>
                  <a:lnTo>
                    <a:pt x="1216" y="1592"/>
                  </a:lnTo>
                  <a:lnTo>
                    <a:pt x="1124" y="1517"/>
                  </a:lnTo>
                  <a:lnTo>
                    <a:pt x="1090" y="1572"/>
                  </a:lnTo>
                  <a:lnTo>
                    <a:pt x="1052" y="1510"/>
                  </a:lnTo>
                  <a:lnTo>
                    <a:pt x="1090" y="1418"/>
                  </a:lnTo>
                  <a:lnTo>
                    <a:pt x="1004" y="1452"/>
                  </a:lnTo>
                  <a:lnTo>
                    <a:pt x="960" y="1527"/>
                  </a:lnTo>
                  <a:lnTo>
                    <a:pt x="895" y="1599"/>
                  </a:lnTo>
                  <a:lnTo>
                    <a:pt x="895" y="1674"/>
                  </a:lnTo>
                  <a:lnTo>
                    <a:pt x="792" y="1674"/>
                  </a:lnTo>
                  <a:lnTo>
                    <a:pt x="755" y="1722"/>
                  </a:lnTo>
                  <a:lnTo>
                    <a:pt x="792" y="1842"/>
                  </a:lnTo>
                  <a:lnTo>
                    <a:pt x="902" y="1903"/>
                  </a:lnTo>
                  <a:lnTo>
                    <a:pt x="960" y="1951"/>
                  </a:lnTo>
                  <a:lnTo>
                    <a:pt x="950" y="2060"/>
                  </a:lnTo>
                  <a:lnTo>
                    <a:pt x="1025" y="2033"/>
                  </a:lnTo>
                  <a:lnTo>
                    <a:pt x="1032" y="1934"/>
                  </a:lnTo>
                  <a:lnTo>
                    <a:pt x="1151" y="1934"/>
                  </a:lnTo>
                  <a:lnTo>
                    <a:pt x="1226" y="1842"/>
                  </a:lnTo>
                  <a:lnTo>
                    <a:pt x="1237" y="1749"/>
                  </a:lnTo>
                  <a:lnTo>
                    <a:pt x="1226" y="1582"/>
                  </a:lnTo>
                  <a:lnTo>
                    <a:pt x="1274" y="1473"/>
                  </a:lnTo>
                  <a:lnTo>
                    <a:pt x="1339" y="1408"/>
                  </a:lnTo>
                  <a:lnTo>
                    <a:pt x="1438" y="1462"/>
                  </a:lnTo>
                  <a:lnTo>
                    <a:pt x="1551" y="1527"/>
                  </a:lnTo>
                  <a:lnTo>
                    <a:pt x="1616" y="1582"/>
                  </a:lnTo>
                  <a:lnTo>
                    <a:pt x="1671" y="1674"/>
                  </a:lnTo>
                  <a:lnTo>
                    <a:pt x="1753" y="1722"/>
                  </a:lnTo>
                  <a:lnTo>
                    <a:pt x="1780" y="1842"/>
                  </a:lnTo>
                  <a:lnTo>
                    <a:pt x="1790" y="1913"/>
                  </a:lnTo>
                  <a:lnTo>
                    <a:pt x="1872" y="1989"/>
                  </a:lnTo>
                  <a:lnTo>
                    <a:pt x="1807" y="2071"/>
                  </a:lnTo>
                  <a:lnTo>
                    <a:pt x="1708" y="2071"/>
                  </a:lnTo>
                  <a:lnTo>
                    <a:pt x="1589" y="2125"/>
                  </a:lnTo>
                  <a:lnTo>
                    <a:pt x="1503" y="2190"/>
                  </a:lnTo>
                  <a:lnTo>
                    <a:pt x="1373" y="2255"/>
                  </a:lnTo>
                  <a:lnTo>
                    <a:pt x="1274" y="2358"/>
                  </a:lnTo>
                  <a:lnTo>
                    <a:pt x="1172" y="2440"/>
                  </a:lnTo>
                  <a:lnTo>
                    <a:pt x="1151" y="2522"/>
                  </a:lnTo>
                  <a:lnTo>
                    <a:pt x="1151" y="2587"/>
                  </a:lnTo>
                  <a:lnTo>
                    <a:pt x="1090" y="2652"/>
                  </a:lnTo>
                  <a:lnTo>
                    <a:pt x="1096" y="2723"/>
                  </a:lnTo>
                  <a:lnTo>
                    <a:pt x="1014" y="2816"/>
                  </a:lnTo>
                  <a:lnTo>
                    <a:pt x="1014" y="2928"/>
                  </a:lnTo>
                  <a:lnTo>
                    <a:pt x="1059" y="3021"/>
                  </a:lnTo>
                  <a:lnTo>
                    <a:pt x="1032" y="3094"/>
                  </a:lnTo>
                  <a:lnTo>
                    <a:pt x="950" y="3056"/>
                  </a:lnTo>
                  <a:lnTo>
                    <a:pt x="932" y="2928"/>
                  </a:lnTo>
                  <a:lnTo>
                    <a:pt x="847" y="2870"/>
                  </a:lnTo>
                  <a:lnTo>
                    <a:pt x="782" y="2891"/>
                  </a:lnTo>
                  <a:lnTo>
                    <a:pt x="738" y="2973"/>
                  </a:lnTo>
                  <a:lnTo>
                    <a:pt x="652" y="2928"/>
                  </a:lnTo>
                  <a:lnTo>
                    <a:pt x="570" y="2928"/>
                  </a:lnTo>
                  <a:lnTo>
                    <a:pt x="478" y="3011"/>
                  </a:lnTo>
                  <a:lnTo>
                    <a:pt x="451" y="3094"/>
                  </a:lnTo>
                  <a:lnTo>
                    <a:pt x="423" y="3176"/>
                  </a:lnTo>
                  <a:lnTo>
                    <a:pt x="403" y="3305"/>
                  </a:lnTo>
                  <a:lnTo>
                    <a:pt x="478" y="3387"/>
                  </a:lnTo>
                  <a:lnTo>
                    <a:pt x="553" y="3326"/>
                  </a:lnTo>
                  <a:lnTo>
                    <a:pt x="645" y="3326"/>
                  </a:lnTo>
                  <a:lnTo>
                    <a:pt x="652" y="3435"/>
                  </a:lnTo>
                  <a:lnTo>
                    <a:pt x="598" y="3507"/>
                  </a:lnTo>
                  <a:lnTo>
                    <a:pt x="710" y="3528"/>
                  </a:lnTo>
                  <a:lnTo>
                    <a:pt x="755" y="3555"/>
                  </a:lnTo>
                  <a:lnTo>
                    <a:pt x="782" y="3657"/>
                  </a:lnTo>
                  <a:lnTo>
                    <a:pt x="874" y="3692"/>
                  </a:lnTo>
                  <a:lnTo>
                    <a:pt x="977" y="3777"/>
                  </a:lnTo>
                  <a:lnTo>
                    <a:pt x="1052" y="3729"/>
                  </a:lnTo>
                  <a:lnTo>
                    <a:pt x="1216" y="3777"/>
                  </a:lnTo>
                  <a:lnTo>
                    <a:pt x="1346" y="3784"/>
                  </a:lnTo>
                  <a:lnTo>
                    <a:pt x="1530" y="3886"/>
                  </a:lnTo>
                  <a:lnTo>
                    <a:pt x="1558" y="3968"/>
                  </a:lnTo>
                  <a:lnTo>
                    <a:pt x="1671" y="4061"/>
                  </a:lnTo>
                  <a:lnTo>
                    <a:pt x="1725" y="4191"/>
                  </a:lnTo>
                  <a:lnTo>
                    <a:pt x="1855" y="4256"/>
                  </a:lnTo>
                  <a:lnTo>
                    <a:pt x="1964" y="4273"/>
                  </a:lnTo>
                  <a:lnTo>
                    <a:pt x="2088" y="4382"/>
                  </a:lnTo>
                  <a:lnTo>
                    <a:pt x="2234" y="4382"/>
                  </a:lnTo>
                  <a:lnTo>
                    <a:pt x="2241" y="4474"/>
                  </a:lnTo>
                  <a:lnTo>
                    <a:pt x="2241" y="4567"/>
                  </a:lnTo>
                  <a:lnTo>
                    <a:pt x="2180" y="4659"/>
                  </a:lnTo>
                  <a:lnTo>
                    <a:pt x="2159" y="4772"/>
                  </a:lnTo>
                  <a:lnTo>
                    <a:pt x="2142" y="4891"/>
                  </a:lnTo>
                  <a:lnTo>
                    <a:pt x="2057" y="5001"/>
                  </a:lnTo>
                  <a:lnTo>
                    <a:pt x="1947" y="5066"/>
                  </a:lnTo>
                  <a:lnTo>
                    <a:pt x="1845" y="5083"/>
                  </a:lnTo>
                  <a:lnTo>
                    <a:pt x="1882" y="5175"/>
                  </a:lnTo>
                  <a:lnTo>
                    <a:pt x="1790" y="5288"/>
                  </a:lnTo>
                  <a:lnTo>
                    <a:pt x="1715" y="5380"/>
                  </a:lnTo>
                  <a:lnTo>
                    <a:pt x="1623" y="5435"/>
                  </a:lnTo>
                  <a:lnTo>
                    <a:pt x="1541" y="5571"/>
                  </a:lnTo>
                  <a:lnTo>
                    <a:pt x="1476" y="5664"/>
                  </a:lnTo>
                  <a:lnTo>
                    <a:pt x="1394" y="5718"/>
                  </a:lnTo>
                  <a:lnTo>
                    <a:pt x="1339" y="5804"/>
                  </a:lnTo>
                  <a:lnTo>
                    <a:pt x="1291" y="5886"/>
                  </a:lnTo>
                  <a:lnTo>
                    <a:pt x="1237" y="5968"/>
                  </a:lnTo>
                  <a:lnTo>
                    <a:pt x="1254" y="6043"/>
                  </a:lnTo>
                  <a:lnTo>
                    <a:pt x="1209" y="6108"/>
                  </a:lnTo>
                  <a:lnTo>
                    <a:pt x="1134" y="5995"/>
                  </a:lnTo>
                  <a:lnTo>
                    <a:pt x="1042" y="5903"/>
                  </a:lnTo>
                  <a:lnTo>
                    <a:pt x="1014" y="5783"/>
                  </a:lnTo>
                  <a:lnTo>
                    <a:pt x="1014" y="5664"/>
                  </a:lnTo>
                  <a:lnTo>
                    <a:pt x="1004" y="5534"/>
                  </a:lnTo>
                  <a:lnTo>
                    <a:pt x="1042" y="5349"/>
                  </a:lnTo>
                  <a:lnTo>
                    <a:pt x="1052" y="5175"/>
                  </a:lnTo>
                  <a:lnTo>
                    <a:pt x="1032" y="5011"/>
                  </a:lnTo>
                  <a:lnTo>
                    <a:pt x="1004" y="4891"/>
                  </a:lnTo>
                  <a:lnTo>
                    <a:pt x="895" y="4772"/>
                  </a:lnTo>
                  <a:lnTo>
                    <a:pt x="792" y="4679"/>
                  </a:lnTo>
                  <a:lnTo>
                    <a:pt x="710" y="4560"/>
                  </a:lnTo>
                  <a:lnTo>
                    <a:pt x="690" y="4403"/>
                  </a:lnTo>
                  <a:lnTo>
                    <a:pt x="738" y="4300"/>
                  </a:lnTo>
                  <a:lnTo>
                    <a:pt x="738" y="4208"/>
                  </a:lnTo>
                  <a:lnTo>
                    <a:pt x="792" y="4050"/>
                  </a:lnTo>
                  <a:lnTo>
                    <a:pt x="857" y="3931"/>
                  </a:lnTo>
                  <a:lnTo>
                    <a:pt x="950" y="3859"/>
                  </a:lnTo>
                  <a:lnTo>
                    <a:pt x="987" y="3784"/>
                  </a:lnTo>
                  <a:lnTo>
                    <a:pt x="874" y="3757"/>
                  </a:lnTo>
                  <a:lnTo>
                    <a:pt x="803" y="3777"/>
                  </a:lnTo>
                  <a:lnTo>
                    <a:pt x="727" y="3746"/>
                  </a:lnTo>
                  <a:lnTo>
                    <a:pt x="635" y="3675"/>
                  </a:lnTo>
                  <a:lnTo>
                    <a:pt x="543" y="3593"/>
                  </a:lnTo>
                  <a:lnTo>
                    <a:pt x="488" y="3500"/>
                  </a:lnTo>
                  <a:lnTo>
                    <a:pt x="451" y="3480"/>
                  </a:lnTo>
                  <a:lnTo>
                    <a:pt x="396" y="3507"/>
                  </a:lnTo>
                  <a:lnTo>
                    <a:pt x="304" y="3452"/>
                  </a:lnTo>
                  <a:lnTo>
                    <a:pt x="228" y="3370"/>
                  </a:lnTo>
                  <a:lnTo>
                    <a:pt x="201" y="3305"/>
                  </a:lnTo>
                  <a:lnTo>
                    <a:pt x="201" y="3186"/>
                  </a:lnTo>
                  <a:lnTo>
                    <a:pt x="184" y="3121"/>
                  </a:lnTo>
                  <a:lnTo>
                    <a:pt x="99" y="3066"/>
                  </a:lnTo>
                  <a:lnTo>
                    <a:pt x="99" y="3114"/>
                  </a:lnTo>
                  <a:lnTo>
                    <a:pt x="136" y="3196"/>
                  </a:lnTo>
                  <a:lnTo>
                    <a:pt x="153" y="3278"/>
                  </a:lnTo>
                  <a:lnTo>
                    <a:pt x="71" y="3223"/>
                  </a:lnTo>
                  <a:lnTo>
                    <a:pt x="27" y="3169"/>
                  </a:lnTo>
                  <a:lnTo>
                    <a:pt x="6" y="3076"/>
                  </a:lnTo>
                  <a:lnTo>
                    <a:pt x="17" y="2918"/>
                  </a:lnTo>
                  <a:lnTo>
                    <a:pt x="0" y="2734"/>
                  </a:lnTo>
                  <a:lnTo>
                    <a:pt x="17" y="2494"/>
                  </a:lnTo>
                  <a:lnTo>
                    <a:pt x="71" y="2125"/>
                  </a:lnTo>
                  <a:lnTo>
                    <a:pt x="191" y="1766"/>
                  </a:lnTo>
                  <a:lnTo>
                    <a:pt x="375" y="1343"/>
                  </a:lnTo>
                  <a:lnTo>
                    <a:pt x="516" y="1049"/>
                  </a:lnTo>
                  <a:lnTo>
                    <a:pt x="727" y="724"/>
                  </a:lnTo>
                  <a:lnTo>
                    <a:pt x="902" y="533"/>
                  </a:lnTo>
                  <a:close/>
                </a:path>
              </a:pathLst>
            </a:custGeom>
            <a:solidFill>
              <a:srgbClr val="315f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765440" y="4718160"/>
            <a:ext cx="5651640" cy="714600"/>
            <a:chOff x="1765440" y="4718160"/>
            <a:chExt cx="5651640" cy="714600"/>
          </a:xfrm>
        </p:grpSpPr>
        <p:grpSp>
          <p:nvGrpSpPr>
            <p:cNvPr id="705" name=""/>
            <p:cNvGrpSpPr/>
            <p:nvPr/>
          </p:nvGrpSpPr>
          <p:grpSpPr>
            <a:xfrm>
              <a:off x="7284960" y="4724280"/>
              <a:ext cx="132120" cy="132120"/>
              <a:chOff x="7284960" y="4724280"/>
              <a:chExt cx="132120" cy="132120"/>
            </a:xfrm>
          </p:grpSpPr>
          <p:sp>
            <p:nvSpPr>
              <p:cNvPr id="706" name=""/>
              <p:cNvSpPr/>
              <p:nvPr/>
            </p:nvSpPr>
            <p:spPr>
              <a:xfrm>
                <a:off x="7284960" y="472428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179" y="36"/>
                    </a:moveTo>
                    <a:lnTo>
                      <a:pt x="210" y="36"/>
                    </a:lnTo>
                    <a:lnTo>
                      <a:pt x="240" y="43"/>
                    </a:lnTo>
                    <a:lnTo>
                      <a:pt x="262" y="58"/>
                    </a:lnTo>
                    <a:lnTo>
                      <a:pt x="284" y="80"/>
                    </a:lnTo>
                    <a:lnTo>
                      <a:pt x="307" y="102"/>
                    </a:lnTo>
                    <a:lnTo>
                      <a:pt x="322" y="124"/>
                    </a:lnTo>
                    <a:lnTo>
                      <a:pt x="329" y="153"/>
                    </a:lnTo>
                    <a:lnTo>
                      <a:pt x="329" y="183"/>
                    </a:lnTo>
                    <a:lnTo>
                      <a:pt x="329" y="205"/>
                    </a:lnTo>
                    <a:lnTo>
                      <a:pt x="322" y="235"/>
                    </a:lnTo>
                    <a:lnTo>
                      <a:pt x="307" y="264"/>
                    </a:lnTo>
                    <a:lnTo>
                      <a:pt x="284" y="279"/>
                    </a:lnTo>
                    <a:lnTo>
                      <a:pt x="262" y="301"/>
                    </a:lnTo>
                    <a:lnTo>
                      <a:pt x="240" y="315"/>
                    </a:lnTo>
                    <a:lnTo>
                      <a:pt x="210" y="323"/>
                    </a:lnTo>
                    <a:lnTo>
                      <a:pt x="179" y="323"/>
                    </a:lnTo>
                    <a:lnTo>
                      <a:pt x="156" y="323"/>
                    </a:lnTo>
                    <a:lnTo>
                      <a:pt x="126" y="315"/>
                    </a:lnTo>
                    <a:lnTo>
                      <a:pt x="97" y="301"/>
                    </a:lnTo>
                    <a:lnTo>
                      <a:pt x="82" y="279"/>
                    </a:lnTo>
                    <a:lnTo>
                      <a:pt x="59" y="264"/>
                    </a:lnTo>
                    <a:lnTo>
                      <a:pt x="44" y="235"/>
                    </a:lnTo>
                    <a:lnTo>
                      <a:pt x="37" y="205"/>
                    </a:lnTo>
                    <a:lnTo>
                      <a:pt x="37" y="183"/>
                    </a:lnTo>
                    <a:lnTo>
                      <a:pt x="37" y="153"/>
                    </a:lnTo>
                    <a:lnTo>
                      <a:pt x="44" y="124"/>
                    </a:lnTo>
                    <a:lnTo>
                      <a:pt x="59" y="102"/>
                    </a:lnTo>
                    <a:lnTo>
                      <a:pt x="82" y="80"/>
                    </a:lnTo>
                    <a:lnTo>
                      <a:pt x="97" y="58"/>
                    </a:lnTo>
                    <a:lnTo>
                      <a:pt x="126" y="43"/>
                    </a:lnTo>
                    <a:lnTo>
                      <a:pt x="156" y="36"/>
                    </a:lnTo>
                    <a:lnTo>
                      <a:pt x="179" y="36"/>
                    </a:lnTo>
                    <a:lnTo>
                      <a:pt x="179" y="0"/>
                    </a:lnTo>
                    <a:lnTo>
                      <a:pt x="141" y="0"/>
                    </a:lnTo>
                    <a:lnTo>
                      <a:pt x="112" y="14"/>
                    </a:lnTo>
                    <a:lnTo>
                      <a:pt x="82" y="29"/>
                    </a:lnTo>
                    <a:lnTo>
                      <a:pt x="52" y="51"/>
                    </a:lnTo>
                    <a:lnTo>
                      <a:pt x="29" y="80"/>
                    </a:lnTo>
                    <a:lnTo>
                      <a:pt x="7" y="109"/>
                    </a:lnTo>
                    <a:lnTo>
                      <a:pt x="0" y="146"/>
                    </a:lnTo>
                    <a:lnTo>
                      <a:pt x="0" y="183"/>
                    </a:lnTo>
                    <a:lnTo>
                      <a:pt x="0" y="220"/>
                    </a:lnTo>
                    <a:lnTo>
                      <a:pt x="7" y="249"/>
                    </a:lnTo>
                    <a:lnTo>
                      <a:pt x="29" y="286"/>
                    </a:lnTo>
                    <a:lnTo>
                      <a:pt x="52" y="308"/>
                    </a:lnTo>
                    <a:lnTo>
                      <a:pt x="82" y="330"/>
                    </a:lnTo>
                    <a:lnTo>
                      <a:pt x="112" y="352"/>
                    </a:lnTo>
                    <a:lnTo>
                      <a:pt x="141" y="359"/>
                    </a:lnTo>
                    <a:lnTo>
                      <a:pt x="179" y="367"/>
                    </a:lnTo>
                    <a:lnTo>
                      <a:pt x="225" y="359"/>
                    </a:lnTo>
                    <a:lnTo>
                      <a:pt x="254" y="352"/>
                    </a:lnTo>
                    <a:lnTo>
                      <a:pt x="284" y="330"/>
                    </a:lnTo>
                    <a:lnTo>
                      <a:pt x="314" y="308"/>
                    </a:lnTo>
                    <a:lnTo>
                      <a:pt x="337" y="286"/>
                    </a:lnTo>
                    <a:lnTo>
                      <a:pt x="359" y="249"/>
                    </a:lnTo>
                    <a:lnTo>
                      <a:pt x="367" y="220"/>
                    </a:lnTo>
                    <a:lnTo>
                      <a:pt x="367" y="183"/>
                    </a:lnTo>
                    <a:lnTo>
                      <a:pt x="367" y="146"/>
                    </a:lnTo>
                    <a:lnTo>
                      <a:pt x="359" y="109"/>
                    </a:lnTo>
                    <a:lnTo>
                      <a:pt x="337" y="80"/>
                    </a:lnTo>
                    <a:lnTo>
                      <a:pt x="314" y="51"/>
                    </a:lnTo>
                    <a:lnTo>
                      <a:pt x="284" y="29"/>
                    </a:lnTo>
                    <a:lnTo>
                      <a:pt x="254" y="14"/>
                    </a:lnTo>
                    <a:lnTo>
                      <a:pt x="225" y="0"/>
                    </a:lnTo>
                    <a:lnTo>
                      <a:pt x="179" y="0"/>
                    </a:lnTo>
                    <a:lnTo>
                      <a:pt x="179" y="36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26360" y="4751280"/>
                <a:ext cx="54360" cy="71640"/>
              </a:xfrm>
              <a:custGeom>
                <a:avLst/>
                <a:gdLst/>
                <a:ahLst/>
                <a:rect l="0" t="0" r="r" b="b"/>
                <a:pathLst>
                  <a:path w="151" h="199">
                    <a:moveTo>
                      <a:pt x="0" y="0"/>
                    </a:moveTo>
                    <a:lnTo>
                      <a:pt x="50" y="0"/>
                    </a:lnTo>
                    <a:lnTo>
                      <a:pt x="72" y="0"/>
                    </a:lnTo>
                    <a:lnTo>
                      <a:pt x="86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23" y="14"/>
                    </a:lnTo>
                    <a:lnTo>
                      <a:pt x="137" y="28"/>
                    </a:lnTo>
                    <a:lnTo>
                      <a:pt x="144" y="49"/>
                    </a:lnTo>
                    <a:lnTo>
                      <a:pt x="144" y="56"/>
                    </a:lnTo>
                    <a:lnTo>
                      <a:pt x="144" y="63"/>
                    </a:lnTo>
                    <a:lnTo>
                      <a:pt x="144" y="77"/>
                    </a:lnTo>
                    <a:lnTo>
                      <a:pt x="137" y="92"/>
                    </a:lnTo>
                    <a:lnTo>
                      <a:pt x="116" y="107"/>
                    </a:lnTo>
                    <a:lnTo>
                      <a:pt x="116" y="114"/>
                    </a:lnTo>
                    <a:lnTo>
                      <a:pt x="108" y="114"/>
                    </a:lnTo>
                    <a:lnTo>
                      <a:pt x="151" y="199"/>
                    </a:lnTo>
                    <a:lnTo>
                      <a:pt x="108" y="199"/>
                    </a:lnTo>
                    <a:lnTo>
                      <a:pt x="65" y="121"/>
                    </a:lnTo>
                    <a:lnTo>
                      <a:pt x="35" y="121"/>
                    </a:lnTo>
                    <a:lnTo>
                      <a:pt x="35" y="199"/>
                    </a:lnTo>
                    <a:lnTo>
                      <a:pt x="0" y="199"/>
                    </a:lnTo>
                    <a:lnTo>
                      <a:pt x="0" y="0"/>
                    </a:lnTo>
                    <a:lnTo>
                      <a:pt x="35" y="28"/>
                    </a:lnTo>
                    <a:lnTo>
                      <a:pt x="35" y="85"/>
                    </a:lnTo>
                    <a:lnTo>
                      <a:pt x="65" y="85"/>
                    </a:lnTo>
                    <a:lnTo>
                      <a:pt x="86" y="85"/>
                    </a:lnTo>
                    <a:lnTo>
                      <a:pt x="100" y="77"/>
                    </a:lnTo>
                    <a:lnTo>
                      <a:pt x="100" y="70"/>
                    </a:lnTo>
                    <a:lnTo>
                      <a:pt x="100" y="56"/>
                    </a:lnTo>
                    <a:lnTo>
                      <a:pt x="100" y="42"/>
                    </a:lnTo>
                    <a:lnTo>
                      <a:pt x="86" y="35"/>
                    </a:lnTo>
                    <a:lnTo>
                      <a:pt x="72" y="28"/>
                    </a:lnTo>
                    <a:lnTo>
                      <a:pt x="50" y="28"/>
                    </a:lnTo>
                    <a:lnTo>
                      <a:pt x="3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3795840" y="4718160"/>
              <a:ext cx="1024200" cy="714600"/>
            </a:xfrm>
            <a:custGeom>
              <a:avLst/>
              <a:gdLst/>
              <a:ahLst/>
              <a:rect l="0" t="0" r="r" b="b"/>
              <a:pathLst>
                <a:path w="2845" h="1985">
                  <a:moveTo>
                    <a:pt x="943" y="1294"/>
                  </a:moveTo>
                  <a:lnTo>
                    <a:pt x="1954" y="1294"/>
                  </a:lnTo>
                  <a:lnTo>
                    <a:pt x="1418" y="438"/>
                  </a:lnTo>
                  <a:lnTo>
                    <a:pt x="445" y="1985"/>
                  </a:lnTo>
                  <a:lnTo>
                    <a:pt x="0" y="1985"/>
                  </a:lnTo>
                  <a:lnTo>
                    <a:pt x="1188" y="126"/>
                  </a:lnTo>
                  <a:lnTo>
                    <a:pt x="1232" y="74"/>
                  </a:lnTo>
                  <a:lnTo>
                    <a:pt x="1284" y="37"/>
                  </a:lnTo>
                  <a:lnTo>
                    <a:pt x="1351" y="7"/>
                  </a:lnTo>
                  <a:lnTo>
                    <a:pt x="1418" y="0"/>
                  </a:lnTo>
                  <a:lnTo>
                    <a:pt x="1486" y="7"/>
                  </a:lnTo>
                  <a:lnTo>
                    <a:pt x="1553" y="37"/>
                  </a:lnTo>
                  <a:lnTo>
                    <a:pt x="1605" y="74"/>
                  </a:lnTo>
                  <a:lnTo>
                    <a:pt x="1649" y="118"/>
                  </a:lnTo>
                  <a:lnTo>
                    <a:pt x="1657" y="126"/>
                  </a:lnTo>
                  <a:lnTo>
                    <a:pt x="1664" y="141"/>
                  </a:lnTo>
                  <a:lnTo>
                    <a:pt x="1679" y="163"/>
                  </a:lnTo>
                  <a:lnTo>
                    <a:pt x="1701" y="200"/>
                  </a:lnTo>
                  <a:lnTo>
                    <a:pt x="1731" y="245"/>
                  </a:lnTo>
                  <a:lnTo>
                    <a:pt x="1761" y="289"/>
                  </a:lnTo>
                  <a:lnTo>
                    <a:pt x="1798" y="349"/>
                  </a:lnTo>
                  <a:lnTo>
                    <a:pt x="1835" y="408"/>
                  </a:lnTo>
                  <a:lnTo>
                    <a:pt x="1924" y="549"/>
                  </a:lnTo>
                  <a:lnTo>
                    <a:pt x="2028" y="713"/>
                  </a:lnTo>
                  <a:lnTo>
                    <a:pt x="2132" y="876"/>
                  </a:lnTo>
                  <a:lnTo>
                    <a:pt x="2243" y="1056"/>
                  </a:lnTo>
                  <a:lnTo>
                    <a:pt x="2355" y="1227"/>
                  </a:lnTo>
                  <a:lnTo>
                    <a:pt x="2466" y="1398"/>
                  </a:lnTo>
                  <a:lnTo>
                    <a:pt x="2563" y="1554"/>
                  </a:lnTo>
                  <a:lnTo>
                    <a:pt x="2659" y="1695"/>
                  </a:lnTo>
                  <a:lnTo>
                    <a:pt x="2696" y="1754"/>
                  </a:lnTo>
                  <a:lnTo>
                    <a:pt x="2733" y="1814"/>
                  </a:lnTo>
                  <a:lnTo>
                    <a:pt x="2763" y="1866"/>
                  </a:lnTo>
                  <a:lnTo>
                    <a:pt x="2793" y="1903"/>
                  </a:lnTo>
                  <a:lnTo>
                    <a:pt x="2815" y="1940"/>
                  </a:lnTo>
                  <a:lnTo>
                    <a:pt x="2830" y="1963"/>
                  </a:lnTo>
                  <a:lnTo>
                    <a:pt x="2837" y="1985"/>
                  </a:lnTo>
                  <a:lnTo>
                    <a:pt x="2845" y="1985"/>
                  </a:lnTo>
                  <a:lnTo>
                    <a:pt x="2399" y="1985"/>
                  </a:lnTo>
                  <a:lnTo>
                    <a:pt x="2191" y="1643"/>
                  </a:lnTo>
                  <a:lnTo>
                    <a:pt x="1165" y="1643"/>
                  </a:lnTo>
                  <a:lnTo>
                    <a:pt x="943" y="1294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665680" y="4727520"/>
              <a:ext cx="768600" cy="705240"/>
            </a:xfrm>
            <a:custGeom>
              <a:avLst/>
              <a:gdLst/>
              <a:ahLst/>
              <a:rect l="0" t="0" r="r" b="b"/>
              <a:pathLst>
                <a:path w="2135" h="1959">
                  <a:moveTo>
                    <a:pt x="371" y="1618"/>
                  </a:moveTo>
                  <a:lnTo>
                    <a:pt x="371" y="0"/>
                  </a:lnTo>
                  <a:lnTo>
                    <a:pt x="0" y="0"/>
                  </a:lnTo>
                  <a:lnTo>
                    <a:pt x="0" y="1774"/>
                  </a:lnTo>
                  <a:lnTo>
                    <a:pt x="0" y="1811"/>
                  </a:lnTo>
                  <a:lnTo>
                    <a:pt x="7" y="1841"/>
                  </a:lnTo>
                  <a:lnTo>
                    <a:pt x="29" y="1878"/>
                  </a:lnTo>
                  <a:lnTo>
                    <a:pt x="52" y="1908"/>
                  </a:lnTo>
                  <a:lnTo>
                    <a:pt x="81" y="1930"/>
                  </a:lnTo>
                  <a:lnTo>
                    <a:pt x="111" y="1945"/>
                  </a:lnTo>
                  <a:lnTo>
                    <a:pt x="148" y="1959"/>
                  </a:lnTo>
                  <a:lnTo>
                    <a:pt x="193" y="1959"/>
                  </a:lnTo>
                  <a:lnTo>
                    <a:pt x="1912" y="1959"/>
                  </a:lnTo>
                  <a:lnTo>
                    <a:pt x="2135" y="1618"/>
                  </a:lnTo>
                  <a:lnTo>
                    <a:pt x="371" y="161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957400" y="4727520"/>
              <a:ext cx="832320" cy="705240"/>
            </a:xfrm>
            <a:custGeom>
              <a:avLst/>
              <a:gdLst/>
              <a:ahLst/>
              <a:rect l="0" t="0" r="r" b="b"/>
              <a:pathLst>
                <a:path w="2312" h="1959">
                  <a:moveTo>
                    <a:pt x="1652" y="1328"/>
                  </a:moveTo>
                  <a:lnTo>
                    <a:pt x="1719" y="1321"/>
                  </a:lnTo>
                  <a:lnTo>
                    <a:pt x="1786" y="1313"/>
                  </a:lnTo>
                  <a:lnTo>
                    <a:pt x="1846" y="1298"/>
                  </a:lnTo>
                  <a:lnTo>
                    <a:pt x="1905" y="1276"/>
                  </a:lnTo>
                  <a:lnTo>
                    <a:pt x="1964" y="1246"/>
                  </a:lnTo>
                  <a:lnTo>
                    <a:pt x="2023" y="1209"/>
                  </a:lnTo>
                  <a:lnTo>
                    <a:pt x="2075" y="1172"/>
                  </a:lnTo>
                  <a:lnTo>
                    <a:pt x="2120" y="1128"/>
                  </a:lnTo>
                  <a:lnTo>
                    <a:pt x="2164" y="1083"/>
                  </a:lnTo>
                  <a:lnTo>
                    <a:pt x="2201" y="1031"/>
                  </a:lnTo>
                  <a:lnTo>
                    <a:pt x="2231" y="979"/>
                  </a:lnTo>
                  <a:lnTo>
                    <a:pt x="2260" y="920"/>
                  </a:lnTo>
                  <a:lnTo>
                    <a:pt x="2283" y="861"/>
                  </a:lnTo>
                  <a:lnTo>
                    <a:pt x="2297" y="794"/>
                  </a:lnTo>
                  <a:lnTo>
                    <a:pt x="2312" y="727"/>
                  </a:lnTo>
                  <a:lnTo>
                    <a:pt x="2312" y="661"/>
                  </a:lnTo>
                  <a:lnTo>
                    <a:pt x="2312" y="594"/>
                  </a:lnTo>
                  <a:lnTo>
                    <a:pt x="2297" y="527"/>
                  </a:lnTo>
                  <a:lnTo>
                    <a:pt x="2283" y="467"/>
                  </a:lnTo>
                  <a:lnTo>
                    <a:pt x="2260" y="407"/>
                  </a:lnTo>
                  <a:lnTo>
                    <a:pt x="2231" y="348"/>
                  </a:lnTo>
                  <a:lnTo>
                    <a:pt x="2201" y="289"/>
                  </a:lnTo>
                  <a:lnTo>
                    <a:pt x="2164" y="237"/>
                  </a:lnTo>
                  <a:lnTo>
                    <a:pt x="2120" y="192"/>
                  </a:lnTo>
                  <a:lnTo>
                    <a:pt x="2075" y="148"/>
                  </a:lnTo>
                  <a:lnTo>
                    <a:pt x="2023" y="111"/>
                  </a:lnTo>
                  <a:lnTo>
                    <a:pt x="1964" y="81"/>
                  </a:lnTo>
                  <a:lnTo>
                    <a:pt x="1905" y="51"/>
                  </a:lnTo>
                  <a:lnTo>
                    <a:pt x="1846" y="29"/>
                  </a:lnTo>
                  <a:lnTo>
                    <a:pt x="1786" y="14"/>
                  </a:lnTo>
                  <a:lnTo>
                    <a:pt x="1719" y="0"/>
                  </a:lnTo>
                  <a:lnTo>
                    <a:pt x="1652" y="0"/>
                  </a:lnTo>
                  <a:lnTo>
                    <a:pt x="0" y="0"/>
                  </a:lnTo>
                  <a:lnTo>
                    <a:pt x="0" y="1959"/>
                  </a:lnTo>
                  <a:lnTo>
                    <a:pt x="377" y="1959"/>
                  </a:lnTo>
                  <a:lnTo>
                    <a:pt x="377" y="348"/>
                  </a:lnTo>
                  <a:lnTo>
                    <a:pt x="1622" y="348"/>
                  </a:lnTo>
                  <a:lnTo>
                    <a:pt x="1689" y="348"/>
                  </a:lnTo>
                  <a:lnTo>
                    <a:pt x="1749" y="370"/>
                  </a:lnTo>
                  <a:lnTo>
                    <a:pt x="1801" y="400"/>
                  </a:lnTo>
                  <a:lnTo>
                    <a:pt x="1853" y="437"/>
                  </a:lnTo>
                  <a:lnTo>
                    <a:pt x="1890" y="482"/>
                  </a:lnTo>
                  <a:lnTo>
                    <a:pt x="1920" y="542"/>
                  </a:lnTo>
                  <a:lnTo>
                    <a:pt x="1934" y="601"/>
                  </a:lnTo>
                  <a:lnTo>
                    <a:pt x="1942" y="661"/>
                  </a:lnTo>
                  <a:lnTo>
                    <a:pt x="1934" y="727"/>
                  </a:lnTo>
                  <a:lnTo>
                    <a:pt x="1920" y="787"/>
                  </a:lnTo>
                  <a:lnTo>
                    <a:pt x="1890" y="839"/>
                  </a:lnTo>
                  <a:lnTo>
                    <a:pt x="1853" y="890"/>
                  </a:lnTo>
                  <a:lnTo>
                    <a:pt x="1801" y="928"/>
                  </a:lnTo>
                  <a:lnTo>
                    <a:pt x="1749" y="957"/>
                  </a:lnTo>
                  <a:lnTo>
                    <a:pt x="1689" y="972"/>
                  </a:lnTo>
                  <a:lnTo>
                    <a:pt x="1622" y="979"/>
                  </a:lnTo>
                  <a:lnTo>
                    <a:pt x="562" y="979"/>
                  </a:lnTo>
                  <a:lnTo>
                    <a:pt x="1689" y="1959"/>
                  </a:lnTo>
                  <a:lnTo>
                    <a:pt x="2238" y="1959"/>
                  </a:lnTo>
                  <a:lnTo>
                    <a:pt x="1474" y="1328"/>
                  </a:lnTo>
                  <a:lnTo>
                    <a:pt x="1652" y="132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1765440" y="4727520"/>
              <a:ext cx="1117800" cy="705240"/>
              <a:chOff x="1765440" y="4727520"/>
              <a:chExt cx="1117800" cy="705240"/>
            </a:xfrm>
          </p:grpSpPr>
          <p:sp>
            <p:nvSpPr>
              <p:cNvPr id="712" name=""/>
              <p:cNvSpPr/>
              <p:nvPr/>
            </p:nvSpPr>
            <p:spPr>
              <a:xfrm>
                <a:off x="2293920" y="4727520"/>
                <a:ext cx="589320" cy="705240"/>
              </a:xfrm>
              <a:custGeom>
                <a:avLst/>
                <a:gdLst/>
                <a:ahLst/>
                <a:rect l="0" t="0" r="r" b="b"/>
                <a:pathLst>
                  <a:path w="1637" h="1959">
                    <a:moveTo>
                      <a:pt x="0" y="1618"/>
                    </a:moveTo>
                    <a:lnTo>
                      <a:pt x="636" y="1618"/>
                    </a:lnTo>
                    <a:lnTo>
                      <a:pt x="703" y="1611"/>
                    </a:lnTo>
                    <a:lnTo>
                      <a:pt x="762" y="1603"/>
                    </a:lnTo>
                    <a:lnTo>
                      <a:pt x="822" y="1589"/>
                    </a:lnTo>
                    <a:lnTo>
                      <a:pt x="881" y="1566"/>
                    </a:lnTo>
                    <a:lnTo>
                      <a:pt x="992" y="1507"/>
                    </a:lnTo>
                    <a:lnTo>
                      <a:pt x="1081" y="1432"/>
                    </a:lnTo>
                    <a:lnTo>
                      <a:pt x="1163" y="1335"/>
                    </a:lnTo>
                    <a:lnTo>
                      <a:pt x="1222" y="1224"/>
                    </a:lnTo>
                    <a:lnTo>
                      <a:pt x="1237" y="1172"/>
                    </a:lnTo>
                    <a:lnTo>
                      <a:pt x="1259" y="1106"/>
                    </a:lnTo>
                    <a:lnTo>
                      <a:pt x="1266" y="1046"/>
                    </a:lnTo>
                    <a:lnTo>
                      <a:pt x="1266" y="979"/>
                    </a:lnTo>
                    <a:lnTo>
                      <a:pt x="1266" y="913"/>
                    </a:lnTo>
                    <a:lnTo>
                      <a:pt x="1259" y="853"/>
                    </a:lnTo>
                    <a:lnTo>
                      <a:pt x="1237" y="794"/>
                    </a:lnTo>
                    <a:lnTo>
                      <a:pt x="1222" y="735"/>
                    </a:lnTo>
                    <a:lnTo>
                      <a:pt x="1163" y="623"/>
                    </a:lnTo>
                    <a:lnTo>
                      <a:pt x="1081" y="534"/>
                    </a:lnTo>
                    <a:lnTo>
                      <a:pt x="992" y="452"/>
                    </a:lnTo>
                    <a:lnTo>
                      <a:pt x="881" y="393"/>
                    </a:lnTo>
                    <a:lnTo>
                      <a:pt x="822" y="370"/>
                    </a:lnTo>
                    <a:lnTo>
                      <a:pt x="762" y="355"/>
                    </a:lnTo>
                    <a:lnTo>
                      <a:pt x="703" y="348"/>
                    </a:lnTo>
                    <a:lnTo>
                      <a:pt x="636" y="348"/>
                    </a:lnTo>
                    <a:lnTo>
                      <a:pt x="0" y="348"/>
                    </a:lnTo>
                    <a:lnTo>
                      <a:pt x="0" y="0"/>
                    </a:lnTo>
                    <a:lnTo>
                      <a:pt x="658" y="0"/>
                    </a:lnTo>
                    <a:lnTo>
                      <a:pt x="762" y="7"/>
                    </a:lnTo>
                    <a:lnTo>
                      <a:pt x="859" y="22"/>
                    </a:lnTo>
                    <a:lnTo>
                      <a:pt x="948" y="44"/>
                    </a:lnTo>
                    <a:lnTo>
                      <a:pt x="1044" y="74"/>
                    </a:lnTo>
                    <a:lnTo>
                      <a:pt x="1126" y="118"/>
                    </a:lnTo>
                    <a:lnTo>
                      <a:pt x="1207" y="170"/>
                    </a:lnTo>
                    <a:lnTo>
                      <a:pt x="1281" y="222"/>
                    </a:lnTo>
                    <a:lnTo>
                      <a:pt x="1355" y="289"/>
                    </a:lnTo>
                    <a:lnTo>
                      <a:pt x="1414" y="355"/>
                    </a:lnTo>
                    <a:lnTo>
                      <a:pt x="1474" y="430"/>
                    </a:lnTo>
                    <a:lnTo>
                      <a:pt x="1518" y="512"/>
                    </a:lnTo>
                    <a:lnTo>
                      <a:pt x="1562" y="601"/>
                    </a:lnTo>
                    <a:lnTo>
                      <a:pt x="1592" y="690"/>
                    </a:lnTo>
                    <a:lnTo>
                      <a:pt x="1622" y="779"/>
                    </a:lnTo>
                    <a:lnTo>
                      <a:pt x="1637" y="883"/>
                    </a:lnTo>
                    <a:lnTo>
                      <a:pt x="1637" y="979"/>
                    </a:lnTo>
                    <a:lnTo>
                      <a:pt x="1637" y="1083"/>
                    </a:lnTo>
                    <a:lnTo>
                      <a:pt x="1622" y="1180"/>
                    </a:lnTo>
                    <a:lnTo>
                      <a:pt x="1592" y="1269"/>
                    </a:lnTo>
                    <a:lnTo>
                      <a:pt x="1562" y="1365"/>
                    </a:lnTo>
                    <a:lnTo>
                      <a:pt x="1518" y="1447"/>
                    </a:lnTo>
                    <a:lnTo>
                      <a:pt x="1474" y="1529"/>
                    </a:lnTo>
                    <a:lnTo>
                      <a:pt x="1414" y="1603"/>
                    </a:lnTo>
                    <a:lnTo>
                      <a:pt x="1355" y="1678"/>
                    </a:lnTo>
                    <a:lnTo>
                      <a:pt x="1281" y="1737"/>
                    </a:lnTo>
                    <a:lnTo>
                      <a:pt x="1207" y="1796"/>
                    </a:lnTo>
                    <a:lnTo>
                      <a:pt x="1126" y="1841"/>
                    </a:lnTo>
                    <a:lnTo>
                      <a:pt x="1044" y="1885"/>
                    </a:lnTo>
                    <a:lnTo>
                      <a:pt x="948" y="1915"/>
                    </a:lnTo>
                    <a:lnTo>
                      <a:pt x="859" y="1945"/>
                    </a:lnTo>
                    <a:lnTo>
                      <a:pt x="762" y="1959"/>
                    </a:lnTo>
                    <a:lnTo>
                      <a:pt x="658" y="1959"/>
                    </a:lnTo>
                    <a:lnTo>
                      <a:pt x="0" y="1959"/>
                    </a:lnTo>
                    <a:lnTo>
                      <a:pt x="0" y="1618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65440" y="4727520"/>
                <a:ext cx="592560" cy="705240"/>
              </a:xfrm>
              <a:custGeom>
                <a:avLst/>
                <a:gdLst/>
                <a:ahLst/>
                <a:rect l="0" t="0" r="r" b="b"/>
                <a:pathLst>
                  <a:path w="1646" h="1959">
                    <a:moveTo>
                      <a:pt x="1646" y="1959"/>
                    </a:moveTo>
                    <a:lnTo>
                      <a:pt x="990" y="1959"/>
                    </a:lnTo>
                    <a:lnTo>
                      <a:pt x="886" y="1959"/>
                    </a:lnTo>
                    <a:lnTo>
                      <a:pt x="789" y="1945"/>
                    </a:lnTo>
                    <a:lnTo>
                      <a:pt x="693" y="1915"/>
                    </a:lnTo>
                    <a:lnTo>
                      <a:pt x="603" y="1885"/>
                    </a:lnTo>
                    <a:lnTo>
                      <a:pt x="521" y="1841"/>
                    </a:lnTo>
                    <a:lnTo>
                      <a:pt x="440" y="1796"/>
                    </a:lnTo>
                    <a:lnTo>
                      <a:pt x="364" y="1737"/>
                    </a:lnTo>
                    <a:lnTo>
                      <a:pt x="290" y="1678"/>
                    </a:lnTo>
                    <a:lnTo>
                      <a:pt x="230" y="1603"/>
                    </a:lnTo>
                    <a:lnTo>
                      <a:pt x="171" y="1529"/>
                    </a:lnTo>
                    <a:lnTo>
                      <a:pt x="119" y="1447"/>
                    </a:lnTo>
                    <a:lnTo>
                      <a:pt x="81" y="1365"/>
                    </a:lnTo>
                    <a:lnTo>
                      <a:pt x="44" y="1269"/>
                    </a:lnTo>
                    <a:lnTo>
                      <a:pt x="22" y="1180"/>
                    </a:lnTo>
                    <a:lnTo>
                      <a:pt x="7" y="1083"/>
                    </a:lnTo>
                    <a:lnTo>
                      <a:pt x="0" y="979"/>
                    </a:lnTo>
                    <a:lnTo>
                      <a:pt x="7" y="883"/>
                    </a:lnTo>
                    <a:lnTo>
                      <a:pt x="22" y="779"/>
                    </a:lnTo>
                    <a:lnTo>
                      <a:pt x="44" y="690"/>
                    </a:lnTo>
                    <a:lnTo>
                      <a:pt x="81" y="601"/>
                    </a:lnTo>
                    <a:lnTo>
                      <a:pt x="119" y="512"/>
                    </a:lnTo>
                    <a:lnTo>
                      <a:pt x="171" y="430"/>
                    </a:lnTo>
                    <a:lnTo>
                      <a:pt x="230" y="355"/>
                    </a:lnTo>
                    <a:lnTo>
                      <a:pt x="290" y="289"/>
                    </a:lnTo>
                    <a:lnTo>
                      <a:pt x="364" y="222"/>
                    </a:lnTo>
                    <a:lnTo>
                      <a:pt x="440" y="170"/>
                    </a:lnTo>
                    <a:lnTo>
                      <a:pt x="521" y="118"/>
                    </a:lnTo>
                    <a:lnTo>
                      <a:pt x="603" y="74"/>
                    </a:lnTo>
                    <a:lnTo>
                      <a:pt x="693" y="44"/>
                    </a:lnTo>
                    <a:lnTo>
                      <a:pt x="789" y="22"/>
                    </a:lnTo>
                    <a:lnTo>
                      <a:pt x="886" y="7"/>
                    </a:lnTo>
                    <a:lnTo>
                      <a:pt x="990" y="0"/>
                    </a:lnTo>
                    <a:lnTo>
                      <a:pt x="1646" y="0"/>
                    </a:lnTo>
                    <a:lnTo>
                      <a:pt x="1646" y="348"/>
                    </a:lnTo>
                    <a:lnTo>
                      <a:pt x="1013" y="348"/>
                    </a:lnTo>
                    <a:lnTo>
                      <a:pt x="946" y="348"/>
                    </a:lnTo>
                    <a:lnTo>
                      <a:pt x="886" y="355"/>
                    </a:lnTo>
                    <a:lnTo>
                      <a:pt x="827" y="370"/>
                    </a:lnTo>
                    <a:lnTo>
                      <a:pt x="767" y="393"/>
                    </a:lnTo>
                    <a:lnTo>
                      <a:pt x="655" y="452"/>
                    </a:lnTo>
                    <a:lnTo>
                      <a:pt x="566" y="534"/>
                    </a:lnTo>
                    <a:lnTo>
                      <a:pt x="484" y="623"/>
                    </a:lnTo>
                    <a:lnTo>
                      <a:pt x="425" y="735"/>
                    </a:lnTo>
                    <a:lnTo>
                      <a:pt x="401" y="794"/>
                    </a:lnTo>
                    <a:lnTo>
                      <a:pt x="387" y="853"/>
                    </a:lnTo>
                    <a:lnTo>
                      <a:pt x="379" y="913"/>
                    </a:lnTo>
                    <a:lnTo>
                      <a:pt x="379" y="979"/>
                    </a:lnTo>
                    <a:lnTo>
                      <a:pt x="379" y="1046"/>
                    </a:lnTo>
                    <a:lnTo>
                      <a:pt x="387" y="1106"/>
                    </a:lnTo>
                    <a:lnTo>
                      <a:pt x="401" y="1172"/>
                    </a:lnTo>
                    <a:lnTo>
                      <a:pt x="425" y="1224"/>
                    </a:lnTo>
                    <a:lnTo>
                      <a:pt x="484" y="1335"/>
                    </a:lnTo>
                    <a:lnTo>
                      <a:pt x="566" y="1432"/>
                    </a:lnTo>
                    <a:lnTo>
                      <a:pt x="655" y="1507"/>
                    </a:lnTo>
                    <a:lnTo>
                      <a:pt x="767" y="1566"/>
                    </a:lnTo>
                    <a:lnTo>
                      <a:pt x="827" y="1589"/>
                    </a:lnTo>
                    <a:lnTo>
                      <a:pt x="886" y="1603"/>
                    </a:lnTo>
                    <a:lnTo>
                      <a:pt x="946" y="1611"/>
                    </a:lnTo>
                    <a:lnTo>
                      <a:pt x="1013" y="1618"/>
                    </a:lnTo>
                    <a:lnTo>
                      <a:pt x="1646" y="1618"/>
                    </a:lnTo>
                    <a:lnTo>
                      <a:pt x="1646" y="1959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753080" y="4727520"/>
              <a:ext cx="849600" cy="705240"/>
            </a:xfrm>
            <a:custGeom>
              <a:avLst/>
              <a:gdLst/>
              <a:ahLst/>
              <a:rect l="0" t="0" r="r" b="b"/>
              <a:pathLst>
                <a:path w="2360" h="1959">
                  <a:moveTo>
                    <a:pt x="979" y="1959"/>
                  </a:moveTo>
                  <a:lnTo>
                    <a:pt x="875" y="1959"/>
                  </a:lnTo>
                  <a:lnTo>
                    <a:pt x="778" y="1945"/>
                  </a:lnTo>
                  <a:lnTo>
                    <a:pt x="682" y="1915"/>
                  </a:lnTo>
                  <a:lnTo>
                    <a:pt x="593" y="1885"/>
                  </a:lnTo>
                  <a:lnTo>
                    <a:pt x="511" y="1841"/>
                  </a:lnTo>
                  <a:lnTo>
                    <a:pt x="430" y="1796"/>
                  </a:lnTo>
                  <a:lnTo>
                    <a:pt x="356" y="1737"/>
                  </a:lnTo>
                  <a:lnTo>
                    <a:pt x="281" y="1678"/>
                  </a:lnTo>
                  <a:lnTo>
                    <a:pt x="222" y="1603"/>
                  </a:lnTo>
                  <a:lnTo>
                    <a:pt x="163" y="1529"/>
                  </a:lnTo>
                  <a:lnTo>
                    <a:pt x="118" y="1447"/>
                  </a:lnTo>
                  <a:lnTo>
                    <a:pt x="74" y="1365"/>
                  </a:lnTo>
                  <a:lnTo>
                    <a:pt x="44" y="1269"/>
                  </a:lnTo>
                  <a:lnTo>
                    <a:pt x="14" y="1180"/>
                  </a:lnTo>
                  <a:lnTo>
                    <a:pt x="0" y="1083"/>
                  </a:lnTo>
                  <a:lnTo>
                    <a:pt x="0" y="979"/>
                  </a:lnTo>
                  <a:lnTo>
                    <a:pt x="0" y="883"/>
                  </a:lnTo>
                  <a:lnTo>
                    <a:pt x="14" y="779"/>
                  </a:lnTo>
                  <a:lnTo>
                    <a:pt x="44" y="690"/>
                  </a:lnTo>
                  <a:lnTo>
                    <a:pt x="74" y="601"/>
                  </a:lnTo>
                  <a:lnTo>
                    <a:pt x="118" y="512"/>
                  </a:lnTo>
                  <a:lnTo>
                    <a:pt x="163" y="430"/>
                  </a:lnTo>
                  <a:lnTo>
                    <a:pt x="222" y="355"/>
                  </a:lnTo>
                  <a:lnTo>
                    <a:pt x="281" y="289"/>
                  </a:lnTo>
                  <a:lnTo>
                    <a:pt x="356" y="222"/>
                  </a:lnTo>
                  <a:lnTo>
                    <a:pt x="430" y="170"/>
                  </a:lnTo>
                  <a:lnTo>
                    <a:pt x="511" y="118"/>
                  </a:lnTo>
                  <a:lnTo>
                    <a:pt x="593" y="74"/>
                  </a:lnTo>
                  <a:lnTo>
                    <a:pt x="682" y="44"/>
                  </a:lnTo>
                  <a:lnTo>
                    <a:pt x="778" y="22"/>
                  </a:lnTo>
                  <a:lnTo>
                    <a:pt x="875" y="7"/>
                  </a:lnTo>
                  <a:lnTo>
                    <a:pt x="979" y="0"/>
                  </a:lnTo>
                  <a:lnTo>
                    <a:pt x="2330" y="0"/>
                  </a:lnTo>
                  <a:lnTo>
                    <a:pt x="2107" y="348"/>
                  </a:lnTo>
                  <a:lnTo>
                    <a:pt x="1001" y="348"/>
                  </a:lnTo>
                  <a:lnTo>
                    <a:pt x="934" y="348"/>
                  </a:lnTo>
                  <a:lnTo>
                    <a:pt x="875" y="355"/>
                  </a:lnTo>
                  <a:lnTo>
                    <a:pt x="816" y="370"/>
                  </a:lnTo>
                  <a:lnTo>
                    <a:pt x="756" y="393"/>
                  </a:lnTo>
                  <a:lnTo>
                    <a:pt x="645" y="452"/>
                  </a:lnTo>
                  <a:lnTo>
                    <a:pt x="556" y="534"/>
                  </a:lnTo>
                  <a:lnTo>
                    <a:pt x="474" y="623"/>
                  </a:lnTo>
                  <a:lnTo>
                    <a:pt x="415" y="735"/>
                  </a:lnTo>
                  <a:lnTo>
                    <a:pt x="393" y="794"/>
                  </a:lnTo>
                  <a:lnTo>
                    <a:pt x="378" y="853"/>
                  </a:lnTo>
                  <a:lnTo>
                    <a:pt x="370" y="913"/>
                  </a:lnTo>
                  <a:lnTo>
                    <a:pt x="370" y="979"/>
                  </a:lnTo>
                  <a:lnTo>
                    <a:pt x="370" y="1046"/>
                  </a:lnTo>
                  <a:lnTo>
                    <a:pt x="378" y="1106"/>
                  </a:lnTo>
                  <a:lnTo>
                    <a:pt x="393" y="1172"/>
                  </a:lnTo>
                  <a:lnTo>
                    <a:pt x="415" y="1224"/>
                  </a:lnTo>
                  <a:lnTo>
                    <a:pt x="474" y="1335"/>
                  </a:lnTo>
                  <a:lnTo>
                    <a:pt x="556" y="1432"/>
                  </a:lnTo>
                  <a:lnTo>
                    <a:pt x="645" y="1507"/>
                  </a:lnTo>
                  <a:lnTo>
                    <a:pt x="756" y="1566"/>
                  </a:lnTo>
                  <a:lnTo>
                    <a:pt x="816" y="1589"/>
                  </a:lnTo>
                  <a:lnTo>
                    <a:pt x="875" y="1603"/>
                  </a:lnTo>
                  <a:lnTo>
                    <a:pt x="934" y="1611"/>
                  </a:lnTo>
                  <a:lnTo>
                    <a:pt x="1001" y="1618"/>
                  </a:lnTo>
                  <a:lnTo>
                    <a:pt x="2360" y="1618"/>
                  </a:lnTo>
                  <a:lnTo>
                    <a:pt x="2145" y="1959"/>
                  </a:lnTo>
                  <a:lnTo>
                    <a:pt x="979" y="1959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05480" y="4727520"/>
              <a:ext cx="856080" cy="705240"/>
            </a:xfrm>
            <a:custGeom>
              <a:avLst/>
              <a:gdLst/>
              <a:ahLst/>
              <a:rect l="0" t="0" r="r" b="b"/>
              <a:pathLst>
                <a:path w="2378" h="1959">
                  <a:moveTo>
                    <a:pt x="1006" y="1618"/>
                  </a:moveTo>
                  <a:lnTo>
                    <a:pt x="902" y="1603"/>
                  </a:lnTo>
                  <a:lnTo>
                    <a:pt x="798" y="1581"/>
                  </a:lnTo>
                  <a:lnTo>
                    <a:pt x="708" y="1537"/>
                  </a:lnTo>
                  <a:lnTo>
                    <a:pt x="619" y="1485"/>
                  </a:lnTo>
                  <a:lnTo>
                    <a:pt x="543" y="1417"/>
                  </a:lnTo>
                  <a:lnTo>
                    <a:pt x="484" y="1335"/>
                  </a:lnTo>
                  <a:lnTo>
                    <a:pt x="432" y="1246"/>
                  </a:lnTo>
                  <a:lnTo>
                    <a:pt x="394" y="1150"/>
                  </a:lnTo>
                  <a:lnTo>
                    <a:pt x="2013" y="1150"/>
                  </a:lnTo>
                  <a:lnTo>
                    <a:pt x="2237" y="809"/>
                  </a:lnTo>
                  <a:lnTo>
                    <a:pt x="394" y="809"/>
                  </a:lnTo>
                  <a:lnTo>
                    <a:pt x="432" y="712"/>
                  </a:lnTo>
                  <a:lnTo>
                    <a:pt x="484" y="623"/>
                  </a:lnTo>
                  <a:lnTo>
                    <a:pt x="543" y="542"/>
                  </a:lnTo>
                  <a:lnTo>
                    <a:pt x="619" y="474"/>
                  </a:lnTo>
                  <a:lnTo>
                    <a:pt x="708" y="422"/>
                  </a:lnTo>
                  <a:lnTo>
                    <a:pt x="798" y="378"/>
                  </a:lnTo>
                  <a:lnTo>
                    <a:pt x="902" y="355"/>
                  </a:lnTo>
                  <a:lnTo>
                    <a:pt x="1006" y="348"/>
                  </a:lnTo>
                  <a:lnTo>
                    <a:pt x="2125" y="348"/>
                  </a:lnTo>
                  <a:lnTo>
                    <a:pt x="2341" y="0"/>
                  </a:lnTo>
                  <a:lnTo>
                    <a:pt x="984" y="0"/>
                  </a:lnTo>
                  <a:lnTo>
                    <a:pt x="880" y="7"/>
                  </a:lnTo>
                  <a:lnTo>
                    <a:pt x="783" y="22"/>
                  </a:lnTo>
                  <a:lnTo>
                    <a:pt x="693" y="44"/>
                  </a:lnTo>
                  <a:lnTo>
                    <a:pt x="597" y="74"/>
                  </a:lnTo>
                  <a:lnTo>
                    <a:pt x="514" y="118"/>
                  </a:lnTo>
                  <a:lnTo>
                    <a:pt x="432" y="170"/>
                  </a:lnTo>
                  <a:lnTo>
                    <a:pt x="357" y="222"/>
                  </a:lnTo>
                  <a:lnTo>
                    <a:pt x="283" y="289"/>
                  </a:lnTo>
                  <a:lnTo>
                    <a:pt x="223" y="355"/>
                  </a:lnTo>
                  <a:lnTo>
                    <a:pt x="163" y="430"/>
                  </a:lnTo>
                  <a:lnTo>
                    <a:pt x="119" y="512"/>
                  </a:lnTo>
                  <a:lnTo>
                    <a:pt x="74" y="601"/>
                  </a:lnTo>
                  <a:lnTo>
                    <a:pt x="44" y="690"/>
                  </a:lnTo>
                  <a:lnTo>
                    <a:pt x="14" y="779"/>
                  </a:lnTo>
                  <a:lnTo>
                    <a:pt x="0" y="883"/>
                  </a:lnTo>
                  <a:lnTo>
                    <a:pt x="0" y="979"/>
                  </a:lnTo>
                  <a:lnTo>
                    <a:pt x="0" y="1083"/>
                  </a:lnTo>
                  <a:lnTo>
                    <a:pt x="14" y="1180"/>
                  </a:lnTo>
                  <a:lnTo>
                    <a:pt x="44" y="1269"/>
                  </a:lnTo>
                  <a:lnTo>
                    <a:pt x="74" y="1365"/>
                  </a:lnTo>
                  <a:lnTo>
                    <a:pt x="119" y="1447"/>
                  </a:lnTo>
                  <a:lnTo>
                    <a:pt x="163" y="1529"/>
                  </a:lnTo>
                  <a:lnTo>
                    <a:pt x="223" y="1603"/>
                  </a:lnTo>
                  <a:lnTo>
                    <a:pt x="283" y="1678"/>
                  </a:lnTo>
                  <a:lnTo>
                    <a:pt x="357" y="1737"/>
                  </a:lnTo>
                  <a:lnTo>
                    <a:pt x="432" y="1796"/>
                  </a:lnTo>
                  <a:lnTo>
                    <a:pt x="514" y="1841"/>
                  </a:lnTo>
                  <a:lnTo>
                    <a:pt x="597" y="1885"/>
                  </a:lnTo>
                  <a:lnTo>
                    <a:pt x="693" y="1915"/>
                  </a:lnTo>
                  <a:lnTo>
                    <a:pt x="783" y="1945"/>
                  </a:lnTo>
                  <a:lnTo>
                    <a:pt x="880" y="1959"/>
                  </a:lnTo>
                  <a:lnTo>
                    <a:pt x="984" y="1959"/>
                  </a:lnTo>
                  <a:lnTo>
                    <a:pt x="2155" y="1959"/>
                  </a:lnTo>
                  <a:lnTo>
                    <a:pt x="2378" y="1618"/>
                  </a:lnTo>
                  <a:lnTo>
                    <a:pt x="1006" y="161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19051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0bd04"/>
                </a:solidFill>
                <a:latin typeface="Arial"/>
                <a:ea typeface="Arial"/>
              </a:rPr>
              <a:t>The SQLJ Languag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0bd04"/>
                </a:solidFill>
                <a:latin typeface="Arial"/>
                <a:ea typeface="Arial"/>
              </a:rPr>
              <a:t>SQLJ Part 0:</a:t>
            </a:r>
            <a:br>
              <a:rPr sz="4000"/>
            </a:br>
            <a:r>
              <a:rPr b="1" lang="en-US" sz="4000" spc="-1" strike="noStrike">
                <a:solidFill>
                  <a:srgbClr val="f0bd04"/>
                </a:solidFill>
                <a:latin typeface="Arial"/>
                <a:ea typeface="Arial"/>
              </a:rPr>
              <a:t>SQL embedded in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8080" y="311040"/>
            <a:ext cx="784872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J Part 0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embedded in J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167652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pler, more concise than 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ongly typed resultsets and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ile-time SQL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ndor-neutral syntax, standard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nary portability and exte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GS Tab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30080" y="1851120"/>
            <a:ext cx="75312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J Examp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57176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5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… }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QL can span multiple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ava host expressions in SQL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row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sql.SQLException</a:t>
            </a:r>
            <a:br>
              <a:rPr sz="1800"/>
            </a:br>
            <a:br>
              <a:rPr sz="18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bug = “spider”;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INSERT INTO bugs (name, numLegs)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VALUES (:bug, :(getNumLegs(bug)))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BC Examp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8080" y="1765440"/>
            <a:ext cx="762012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eparedStatement pstm = conn.createStateme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“INSERT INTO bugs (name, numLegs) VALUES (?, ?)”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tmt.setString(1,bug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tmt.setInt(2,getNumLegs(bug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tmt.executeUpdate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tmt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DBC nee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plicit statement hand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plicit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Xx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bi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plicit 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bout SQLJ Syntax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1768320"/>
            <a:ext cx="762012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QL_lex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:(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va_lex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) ..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embed arbitrary host express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va_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 expressions may have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values for OUTs and INOUTs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QL statement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s assig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to a Databas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8080" y="2149560"/>
            <a:ext cx="762012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oad JDBC dr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.forNam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( “oracle.jdbc.driver.OracleDriver” 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t the SQLJ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Context </a:t>
            </a:r>
            <a:br>
              <a:rPr sz="18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sqlj.runtime.ref.DefaultContext;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Context.setDefaultContext(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new DefaultContext(url, user, pwd,          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utoCommit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 Contro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38080" y="2149560"/>
            <a:ext cx="762012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are with methods on JDBC 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COMMIT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ROLLBACK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SET TRANSACTION READ …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SET TRANSAC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ISOLATION LEVEL … }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27000" y="5241960"/>
            <a:ext cx="746928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27000" y="3054240"/>
            <a:ext cx="7480440" cy="20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Using SQLJ -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A Tutor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008680"/>
            <a:ext cx="75056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32720" y="6470640"/>
            <a:ext cx="1215000" cy="152640"/>
            <a:chOff x="7632720" y="6470640"/>
            <a:chExt cx="1215000" cy="152640"/>
          </a:xfrm>
        </p:grpSpPr>
        <p:grpSp>
          <p:nvGrpSpPr>
            <p:cNvPr id="196" name=""/>
            <p:cNvGrpSpPr/>
            <p:nvPr/>
          </p:nvGrpSpPr>
          <p:grpSpPr>
            <a:xfrm>
              <a:off x="8813880" y="6472080"/>
              <a:ext cx="33840" cy="32400"/>
              <a:chOff x="8813880" y="6472080"/>
              <a:chExt cx="33840" cy="32400"/>
            </a:xfrm>
          </p:grpSpPr>
          <p:sp>
            <p:nvSpPr>
              <p:cNvPr id="197" name=""/>
              <p:cNvSpPr/>
              <p:nvPr/>
            </p:nvSpPr>
            <p:spPr>
              <a:xfrm>
                <a:off x="8813880" y="64720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w="76" h="76">
                    <a:moveTo>
                      <a:pt x="37" y="7"/>
                    </a:moveTo>
                    <a:lnTo>
                      <a:pt x="43" y="7"/>
                    </a:lnTo>
                    <a:lnTo>
                      <a:pt x="49" y="8"/>
                    </a:lnTo>
                    <a:lnTo>
                      <a:pt x="54" y="11"/>
                    </a:lnTo>
                    <a:lnTo>
                      <a:pt x="60" y="16"/>
                    </a:lnTo>
                    <a:lnTo>
                      <a:pt x="64" y="21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69" y="38"/>
                    </a:lnTo>
                    <a:lnTo>
                      <a:pt x="69" y="42"/>
                    </a:lnTo>
                    <a:lnTo>
                      <a:pt x="67" y="48"/>
                    </a:lnTo>
                    <a:lnTo>
                      <a:pt x="64" y="54"/>
                    </a:lnTo>
                    <a:lnTo>
                      <a:pt x="60" y="58"/>
                    </a:lnTo>
                    <a:lnTo>
                      <a:pt x="54" y="63"/>
                    </a:lnTo>
                    <a:lnTo>
                      <a:pt x="49" y="66"/>
                    </a:lnTo>
                    <a:lnTo>
                      <a:pt x="43" y="67"/>
                    </a:lnTo>
                    <a:lnTo>
                      <a:pt x="37" y="67"/>
                    </a:lnTo>
                    <a:lnTo>
                      <a:pt x="33" y="67"/>
                    </a:lnTo>
                    <a:lnTo>
                      <a:pt x="27" y="66"/>
                    </a:lnTo>
                    <a:lnTo>
                      <a:pt x="20" y="63"/>
                    </a:lnTo>
                    <a:lnTo>
                      <a:pt x="16" y="58"/>
                    </a:lnTo>
                    <a:lnTo>
                      <a:pt x="12" y="54"/>
                    </a:lnTo>
                    <a:lnTo>
                      <a:pt x="9" y="48"/>
                    </a:lnTo>
                    <a:lnTo>
                      <a:pt x="7" y="42"/>
                    </a:lnTo>
                    <a:lnTo>
                      <a:pt x="7" y="38"/>
                    </a:lnTo>
                    <a:lnTo>
                      <a:pt x="7" y="32"/>
                    </a:lnTo>
                    <a:lnTo>
                      <a:pt x="9" y="26"/>
                    </a:lnTo>
                    <a:lnTo>
                      <a:pt x="12" y="21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8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6" y="60"/>
                    </a:lnTo>
                    <a:lnTo>
                      <a:pt x="10" y="64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5"/>
                    </a:lnTo>
                    <a:lnTo>
                      <a:pt x="37" y="76"/>
                    </a:lnTo>
                    <a:lnTo>
                      <a:pt x="46" y="75"/>
                    </a:lnTo>
                    <a:lnTo>
                      <a:pt x="53" y="73"/>
                    </a:lnTo>
                    <a:lnTo>
                      <a:pt x="60" y="69"/>
                    </a:lnTo>
                    <a:lnTo>
                      <a:pt x="66" y="64"/>
                    </a:lnTo>
                    <a:lnTo>
                      <a:pt x="70" y="60"/>
                    </a:lnTo>
                    <a:lnTo>
                      <a:pt x="75" y="51"/>
                    </a:lnTo>
                    <a:lnTo>
                      <a:pt x="76" y="45"/>
                    </a:lnTo>
                    <a:lnTo>
                      <a:pt x="76" y="38"/>
                    </a:lnTo>
                    <a:lnTo>
                      <a:pt x="76" y="30"/>
                    </a:lnTo>
                    <a:lnTo>
                      <a:pt x="75" y="23"/>
                    </a:lnTo>
                    <a:lnTo>
                      <a:pt x="70" y="16"/>
                    </a:lnTo>
                    <a:lnTo>
                      <a:pt x="66" y="10"/>
                    </a:lnTo>
                    <a:lnTo>
                      <a:pt x="60" y="5"/>
                    </a:lnTo>
                    <a:lnTo>
                      <a:pt x="53" y="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7" y="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821800" y="647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2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9" y="5"/>
                    </a:lnTo>
                    <a:lnTo>
                      <a:pt x="65" y="10"/>
                    </a:lnTo>
                    <a:lnTo>
                      <a:pt x="69" y="17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9" y="28"/>
                    </a:lnTo>
                    <a:lnTo>
                      <a:pt x="65" y="33"/>
                    </a:lnTo>
                    <a:lnTo>
                      <a:pt x="55" y="38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72" y="72"/>
                    </a:lnTo>
                    <a:lnTo>
                      <a:pt x="51" y="72"/>
                    </a:lnTo>
                    <a:lnTo>
                      <a:pt x="31" y="43"/>
                    </a:lnTo>
                    <a:lnTo>
                      <a:pt x="16" y="43"/>
                    </a:lnTo>
                    <a:lnTo>
                      <a:pt x="16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41" y="31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5"/>
                    </a:lnTo>
                    <a:lnTo>
                      <a:pt x="41" y="12"/>
                    </a:lnTo>
                    <a:lnTo>
                      <a:pt x="34" y="10"/>
                    </a:lnTo>
                    <a:lnTo>
                      <a:pt x="24" y="10"/>
                    </a:lnTo>
                    <a:lnTo>
                      <a:pt x="1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8066160" y="6470640"/>
              <a:ext cx="219600" cy="152640"/>
            </a:xfrm>
            <a:custGeom>
              <a:avLst/>
              <a:gdLst/>
              <a:ahLst/>
              <a:rect l="0" t="0" r="r" b="b"/>
              <a:pathLst>
                <a:path w="610" h="424">
                  <a:moveTo>
                    <a:pt x="202" y="276"/>
                  </a:moveTo>
                  <a:lnTo>
                    <a:pt x="418" y="276"/>
                  </a:lnTo>
                  <a:lnTo>
                    <a:pt x="304" y="93"/>
                  </a:lnTo>
                  <a:lnTo>
                    <a:pt x="95" y="424"/>
                  </a:lnTo>
                  <a:lnTo>
                    <a:pt x="0" y="424"/>
                  </a:lnTo>
                  <a:lnTo>
                    <a:pt x="255" y="26"/>
                  </a:lnTo>
                  <a:lnTo>
                    <a:pt x="264" y="15"/>
                  </a:lnTo>
                  <a:lnTo>
                    <a:pt x="275" y="7"/>
                  </a:lnTo>
                  <a:lnTo>
                    <a:pt x="290" y="1"/>
                  </a:lnTo>
                  <a:lnTo>
                    <a:pt x="304" y="0"/>
                  </a:lnTo>
                  <a:lnTo>
                    <a:pt x="318" y="1"/>
                  </a:lnTo>
                  <a:lnTo>
                    <a:pt x="333" y="7"/>
                  </a:lnTo>
                  <a:lnTo>
                    <a:pt x="344" y="15"/>
                  </a:lnTo>
                  <a:lnTo>
                    <a:pt x="353" y="25"/>
                  </a:lnTo>
                  <a:lnTo>
                    <a:pt x="355" y="26"/>
                  </a:lnTo>
                  <a:lnTo>
                    <a:pt x="356" y="30"/>
                  </a:lnTo>
                  <a:lnTo>
                    <a:pt x="360" y="34"/>
                  </a:lnTo>
                  <a:lnTo>
                    <a:pt x="364" y="42"/>
                  </a:lnTo>
                  <a:lnTo>
                    <a:pt x="371" y="52"/>
                  </a:lnTo>
                  <a:lnTo>
                    <a:pt x="377" y="61"/>
                  </a:lnTo>
                  <a:lnTo>
                    <a:pt x="385" y="74"/>
                  </a:lnTo>
                  <a:lnTo>
                    <a:pt x="393" y="87"/>
                  </a:lnTo>
                  <a:lnTo>
                    <a:pt x="412" y="117"/>
                  </a:lnTo>
                  <a:lnTo>
                    <a:pt x="434" y="152"/>
                  </a:lnTo>
                  <a:lnTo>
                    <a:pt x="458" y="187"/>
                  </a:lnTo>
                  <a:lnTo>
                    <a:pt x="481" y="226"/>
                  </a:lnTo>
                  <a:lnTo>
                    <a:pt x="505" y="262"/>
                  </a:lnTo>
                  <a:lnTo>
                    <a:pt x="529" y="299"/>
                  </a:lnTo>
                  <a:lnTo>
                    <a:pt x="550" y="332"/>
                  </a:lnTo>
                  <a:lnTo>
                    <a:pt x="570" y="362"/>
                  </a:lnTo>
                  <a:lnTo>
                    <a:pt x="578" y="375"/>
                  </a:lnTo>
                  <a:lnTo>
                    <a:pt x="586" y="387"/>
                  </a:lnTo>
                  <a:lnTo>
                    <a:pt x="593" y="398"/>
                  </a:lnTo>
                  <a:lnTo>
                    <a:pt x="599" y="406"/>
                  </a:lnTo>
                  <a:lnTo>
                    <a:pt x="604" y="414"/>
                  </a:lnTo>
                  <a:lnTo>
                    <a:pt x="607" y="419"/>
                  </a:lnTo>
                  <a:lnTo>
                    <a:pt x="608" y="424"/>
                  </a:lnTo>
                  <a:lnTo>
                    <a:pt x="610" y="424"/>
                  </a:lnTo>
                  <a:lnTo>
                    <a:pt x="515" y="424"/>
                  </a:lnTo>
                  <a:lnTo>
                    <a:pt x="470" y="351"/>
                  </a:lnTo>
                  <a:lnTo>
                    <a:pt x="250" y="351"/>
                  </a:lnTo>
                  <a:lnTo>
                    <a:pt x="202" y="276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66120" y="6472080"/>
              <a:ext cx="163800" cy="151200"/>
            </a:xfrm>
            <a:custGeom>
              <a:avLst/>
              <a:gdLst/>
              <a:ahLst/>
              <a:rect l="0" t="0" r="r" b="b"/>
              <a:pathLst>
                <a:path w="455" h="420">
                  <a:moveTo>
                    <a:pt x="79" y="347"/>
                  </a:moveTo>
                  <a:lnTo>
                    <a:pt x="79" y="0"/>
                  </a:lnTo>
                  <a:lnTo>
                    <a:pt x="0" y="0"/>
                  </a:lnTo>
                  <a:lnTo>
                    <a:pt x="0" y="381"/>
                  </a:lnTo>
                  <a:lnTo>
                    <a:pt x="0" y="389"/>
                  </a:lnTo>
                  <a:lnTo>
                    <a:pt x="1" y="395"/>
                  </a:lnTo>
                  <a:lnTo>
                    <a:pt x="6" y="403"/>
                  </a:lnTo>
                  <a:lnTo>
                    <a:pt x="11" y="409"/>
                  </a:lnTo>
                  <a:lnTo>
                    <a:pt x="17" y="414"/>
                  </a:lnTo>
                  <a:lnTo>
                    <a:pt x="23" y="417"/>
                  </a:lnTo>
                  <a:lnTo>
                    <a:pt x="31" y="420"/>
                  </a:lnTo>
                  <a:lnTo>
                    <a:pt x="41" y="420"/>
                  </a:lnTo>
                  <a:lnTo>
                    <a:pt x="407" y="420"/>
                  </a:lnTo>
                  <a:lnTo>
                    <a:pt x="455" y="347"/>
                  </a:lnTo>
                  <a:lnTo>
                    <a:pt x="79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88320" y="6472080"/>
              <a:ext cx="176400" cy="151200"/>
            </a:xfrm>
            <a:custGeom>
              <a:avLst/>
              <a:gdLst/>
              <a:ahLst/>
              <a:rect l="0" t="0" r="r" b="b"/>
              <a:pathLst>
                <a:path w="490" h="420">
                  <a:moveTo>
                    <a:pt x="350" y="285"/>
                  </a:moveTo>
                  <a:lnTo>
                    <a:pt x="364" y="283"/>
                  </a:lnTo>
                  <a:lnTo>
                    <a:pt x="379" y="281"/>
                  </a:lnTo>
                  <a:lnTo>
                    <a:pt x="391" y="278"/>
                  </a:lnTo>
                  <a:lnTo>
                    <a:pt x="404" y="273"/>
                  </a:lnTo>
                  <a:lnTo>
                    <a:pt x="416" y="267"/>
                  </a:lnTo>
                  <a:lnTo>
                    <a:pt x="429" y="259"/>
                  </a:lnTo>
                  <a:lnTo>
                    <a:pt x="440" y="251"/>
                  </a:lnTo>
                  <a:lnTo>
                    <a:pt x="449" y="242"/>
                  </a:lnTo>
                  <a:lnTo>
                    <a:pt x="459" y="232"/>
                  </a:lnTo>
                  <a:lnTo>
                    <a:pt x="466" y="221"/>
                  </a:lnTo>
                  <a:lnTo>
                    <a:pt x="473" y="210"/>
                  </a:lnTo>
                  <a:lnTo>
                    <a:pt x="479" y="197"/>
                  </a:lnTo>
                  <a:lnTo>
                    <a:pt x="484" y="185"/>
                  </a:lnTo>
                  <a:lnTo>
                    <a:pt x="487" y="170"/>
                  </a:lnTo>
                  <a:lnTo>
                    <a:pt x="490" y="156"/>
                  </a:lnTo>
                  <a:lnTo>
                    <a:pt x="490" y="142"/>
                  </a:lnTo>
                  <a:lnTo>
                    <a:pt x="490" y="127"/>
                  </a:lnTo>
                  <a:lnTo>
                    <a:pt x="487" y="113"/>
                  </a:lnTo>
                  <a:lnTo>
                    <a:pt x="484" y="99"/>
                  </a:lnTo>
                  <a:lnTo>
                    <a:pt x="479" y="87"/>
                  </a:lnTo>
                  <a:lnTo>
                    <a:pt x="473" y="74"/>
                  </a:lnTo>
                  <a:lnTo>
                    <a:pt x="466" y="61"/>
                  </a:lnTo>
                  <a:lnTo>
                    <a:pt x="459" y="50"/>
                  </a:lnTo>
                  <a:lnTo>
                    <a:pt x="449" y="41"/>
                  </a:lnTo>
                  <a:lnTo>
                    <a:pt x="440" y="31"/>
                  </a:lnTo>
                  <a:lnTo>
                    <a:pt x="429" y="23"/>
                  </a:lnTo>
                  <a:lnTo>
                    <a:pt x="416" y="17"/>
                  </a:lnTo>
                  <a:lnTo>
                    <a:pt x="404" y="11"/>
                  </a:lnTo>
                  <a:lnTo>
                    <a:pt x="391" y="6"/>
                  </a:lnTo>
                  <a:lnTo>
                    <a:pt x="379" y="3"/>
                  </a:lnTo>
                  <a:lnTo>
                    <a:pt x="364" y="0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420"/>
                  </a:lnTo>
                  <a:lnTo>
                    <a:pt x="80" y="420"/>
                  </a:lnTo>
                  <a:lnTo>
                    <a:pt x="80" y="74"/>
                  </a:lnTo>
                  <a:lnTo>
                    <a:pt x="344" y="74"/>
                  </a:lnTo>
                  <a:lnTo>
                    <a:pt x="358" y="74"/>
                  </a:lnTo>
                  <a:lnTo>
                    <a:pt x="371" y="79"/>
                  </a:lnTo>
                  <a:lnTo>
                    <a:pt x="382" y="85"/>
                  </a:lnTo>
                  <a:lnTo>
                    <a:pt x="393" y="93"/>
                  </a:lnTo>
                  <a:lnTo>
                    <a:pt x="401" y="103"/>
                  </a:lnTo>
                  <a:lnTo>
                    <a:pt x="407" y="116"/>
                  </a:lnTo>
                  <a:lnTo>
                    <a:pt x="410" y="129"/>
                  </a:lnTo>
                  <a:lnTo>
                    <a:pt x="412" y="142"/>
                  </a:lnTo>
                  <a:lnTo>
                    <a:pt x="410" y="156"/>
                  </a:lnTo>
                  <a:lnTo>
                    <a:pt x="407" y="169"/>
                  </a:lnTo>
                  <a:lnTo>
                    <a:pt x="401" y="180"/>
                  </a:lnTo>
                  <a:lnTo>
                    <a:pt x="393" y="191"/>
                  </a:lnTo>
                  <a:lnTo>
                    <a:pt x="382" y="199"/>
                  </a:lnTo>
                  <a:lnTo>
                    <a:pt x="371" y="205"/>
                  </a:lnTo>
                  <a:lnTo>
                    <a:pt x="358" y="208"/>
                  </a:lnTo>
                  <a:lnTo>
                    <a:pt x="344" y="210"/>
                  </a:lnTo>
                  <a:lnTo>
                    <a:pt x="119" y="210"/>
                  </a:lnTo>
                  <a:lnTo>
                    <a:pt x="358" y="420"/>
                  </a:lnTo>
                  <a:lnTo>
                    <a:pt x="474" y="420"/>
                  </a:lnTo>
                  <a:lnTo>
                    <a:pt x="313" y="285"/>
                  </a:lnTo>
                  <a:lnTo>
                    <a:pt x="350" y="28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7632720" y="6472080"/>
              <a:ext cx="238320" cy="151200"/>
              <a:chOff x="7632720" y="6472080"/>
              <a:chExt cx="238320" cy="151200"/>
            </a:xfrm>
          </p:grpSpPr>
          <p:sp>
            <p:nvSpPr>
              <p:cNvPr id="203" name=""/>
              <p:cNvSpPr/>
              <p:nvPr/>
            </p:nvSpPr>
            <p:spPr>
              <a:xfrm>
                <a:off x="7745400" y="6472080"/>
                <a:ext cx="125640" cy="151200"/>
              </a:xfrm>
              <a:custGeom>
                <a:avLst/>
                <a:gdLst/>
                <a:ahLst/>
                <a:rect l="0" t="0" r="r" b="b"/>
                <a:pathLst>
                  <a:path w="349" h="420">
                    <a:moveTo>
                      <a:pt x="0" y="347"/>
                    </a:moveTo>
                    <a:lnTo>
                      <a:pt x="135" y="347"/>
                    </a:lnTo>
                    <a:lnTo>
                      <a:pt x="149" y="346"/>
                    </a:lnTo>
                    <a:lnTo>
                      <a:pt x="162" y="344"/>
                    </a:lnTo>
                    <a:lnTo>
                      <a:pt x="174" y="341"/>
                    </a:lnTo>
                    <a:lnTo>
                      <a:pt x="188" y="336"/>
                    </a:lnTo>
                    <a:lnTo>
                      <a:pt x="212" y="324"/>
                    </a:lnTo>
                    <a:lnTo>
                      <a:pt x="231" y="307"/>
                    </a:lnTo>
                    <a:lnTo>
                      <a:pt x="248" y="286"/>
                    </a:lnTo>
                    <a:lnTo>
                      <a:pt x="261" y="262"/>
                    </a:lnTo>
                    <a:lnTo>
                      <a:pt x="264" y="251"/>
                    </a:lnTo>
                    <a:lnTo>
                      <a:pt x="268" y="237"/>
                    </a:lnTo>
                    <a:lnTo>
                      <a:pt x="270" y="224"/>
                    </a:lnTo>
                    <a:lnTo>
                      <a:pt x="270" y="210"/>
                    </a:lnTo>
                    <a:lnTo>
                      <a:pt x="270" y="196"/>
                    </a:lnTo>
                    <a:lnTo>
                      <a:pt x="268" y="183"/>
                    </a:lnTo>
                    <a:lnTo>
                      <a:pt x="264" y="170"/>
                    </a:lnTo>
                    <a:lnTo>
                      <a:pt x="261" y="158"/>
                    </a:lnTo>
                    <a:lnTo>
                      <a:pt x="248" y="134"/>
                    </a:lnTo>
                    <a:lnTo>
                      <a:pt x="231" y="115"/>
                    </a:lnTo>
                    <a:lnTo>
                      <a:pt x="212" y="96"/>
                    </a:lnTo>
                    <a:lnTo>
                      <a:pt x="188" y="84"/>
                    </a:lnTo>
                    <a:lnTo>
                      <a:pt x="174" y="79"/>
                    </a:lnTo>
                    <a:lnTo>
                      <a:pt x="162" y="76"/>
                    </a:lnTo>
                    <a:lnTo>
                      <a:pt x="149" y="74"/>
                    </a:lnTo>
                    <a:lnTo>
                      <a:pt x="135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40" y="0"/>
                    </a:lnTo>
                    <a:lnTo>
                      <a:pt x="162" y="1"/>
                    </a:lnTo>
                    <a:lnTo>
                      <a:pt x="183" y="4"/>
                    </a:lnTo>
                    <a:lnTo>
                      <a:pt x="202" y="9"/>
                    </a:lnTo>
                    <a:lnTo>
                      <a:pt x="223" y="15"/>
                    </a:lnTo>
                    <a:lnTo>
                      <a:pt x="240" y="25"/>
                    </a:lnTo>
                    <a:lnTo>
                      <a:pt x="257" y="36"/>
                    </a:lnTo>
                    <a:lnTo>
                      <a:pt x="273" y="47"/>
                    </a:lnTo>
                    <a:lnTo>
                      <a:pt x="289" y="61"/>
                    </a:lnTo>
                    <a:lnTo>
                      <a:pt x="302" y="76"/>
                    </a:lnTo>
                    <a:lnTo>
                      <a:pt x="314" y="92"/>
                    </a:lnTo>
                    <a:lnTo>
                      <a:pt x="324" y="110"/>
                    </a:lnTo>
                    <a:lnTo>
                      <a:pt x="333" y="129"/>
                    </a:lnTo>
                    <a:lnTo>
                      <a:pt x="339" y="148"/>
                    </a:lnTo>
                    <a:lnTo>
                      <a:pt x="346" y="167"/>
                    </a:lnTo>
                    <a:lnTo>
                      <a:pt x="349" y="189"/>
                    </a:lnTo>
                    <a:lnTo>
                      <a:pt x="349" y="210"/>
                    </a:lnTo>
                    <a:lnTo>
                      <a:pt x="349" y="232"/>
                    </a:lnTo>
                    <a:lnTo>
                      <a:pt x="346" y="253"/>
                    </a:lnTo>
                    <a:lnTo>
                      <a:pt x="339" y="272"/>
                    </a:lnTo>
                    <a:lnTo>
                      <a:pt x="333" y="292"/>
                    </a:lnTo>
                    <a:lnTo>
                      <a:pt x="324" y="310"/>
                    </a:lnTo>
                    <a:lnTo>
                      <a:pt x="314" y="328"/>
                    </a:lnTo>
                    <a:lnTo>
                      <a:pt x="302" y="344"/>
                    </a:lnTo>
                    <a:lnTo>
                      <a:pt x="289" y="360"/>
                    </a:lnTo>
                    <a:lnTo>
                      <a:pt x="273" y="373"/>
                    </a:lnTo>
                    <a:lnTo>
                      <a:pt x="257" y="386"/>
                    </a:lnTo>
                    <a:lnTo>
                      <a:pt x="240" y="395"/>
                    </a:lnTo>
                    <a:lnTo>
                      <a:pt x="223" y="405"/>
                    </a:lnTo>
                    <a:lnTo>
                      <a:pt x="202" y="411"/>
                    </a:lnTo>
                    <a:lnTo>
                      <a:pt x="183" y="417"/>
                    </a:lnTo>
                    <a:lnTo>
                      <a:pt x="162" y="420"/>
                    </a:lnTo>
                    <a:lnTo>
                      <a:pt x="140" y="420"/>
                    </a:lnTo>
                    <a:lnTo>
                      <a:pt x="0" y="420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32720" y="6472080"/>
                <a:ext cx="127440" cy="151200"/>
              </a:xfrm>
              <a:custGeom>
                <a:avLst/>
                <a:gdLst/>
                <a:ahLst/>
                <a:rect l="0" t="0" r="r" b="b"/>
                <a:pathLst>
                  <a:path w="354" h="420">
                    <a:moveTo>
                      <a:pt x="354" y="420"/>
                    </a:moveTo>
                    <a:lnTo>
                      <a:pt x="213" y="420"/>
                    </a:lnTo>
                    <a:lnTo>
                      <a:pt x="190" y="420"/>
                    </a:lnTo>
                    <a:lnTo>
                      <a:pt x="170" y="417"/>
                    </a:lnTo>
                    <a:lnTo>
                      <a:pt x="149" y="411"/>
                    </a:lnTo>
                    <a:lnTo>
                      <a:pt x="130" y="405"/>
                    </a:lnTo>
                    <a:lnTo>
                      <a:pt x="112" y="395"/>
                    </a:lnTo>
                    <a:lnTo>
                      <a:pt x="95" y="386"/>
                    </a:lnTo>
                    <a:lnTo>
                      <a:pt x="78" y="373"/>
                    </a:lnTo>
                    <a:lnTo>
                      <a:pt x="62" y="360"/>
                    </a:lnTo>
                    <a:lnTo>
                      <a:pt x="49" y="344"/>
                    </a:lnTo>
                    <a:lnTo>
                      <a:pt x="36" y="328"/>
                    </a:lnTo>
                    <a:lnTo>
                      <a:pt x="25" y="310"/>
                    </a:lnTo>
                    <a:lnTo>
                      <a:pt x="17" y="292"/>
                    </a:lnTo>
                    <a:lnTo>
                      <a:pt x="9" y="272"/>
                    </a:lnTo>
                    <a:lnTo>
                      <a:pt x="4" y="253"/>
                    </a:lnTo>
                    <a:lnTo>
                      <a:pt x="1" y="232"/>
                    </a:lnTo>
                    <a:lnTo>
                      <a:pt x="0" y="210"/>
                    </a:lnTo>
                    <a:lnTo>
                      <a:pt x="1" y="189"/>
                    </a:lnTo>
                    <a:lnTo>
                      <a:pt x="4" y="167"/>
                    </a:lnTo>
                    <a:lnTo>
                      <a:pt x="9" y="148"/>
                    </a:lnTo>
                    <a:lnTo>
                      <a:pt x="17" y="129"/>
                    </a:lnTo>
                    <a:lnTo>
                      <a:pt x="25" y="110"/>
                    </a:lnTo>
                    <a:lnTo>
                      <a:pt x="36" y="92"/>
                    </a:lnTo>
                    <a:lnTo>
                      <a:pt x="49" y="76"/>
                    </a:lnTo>
                    <a:lnTo>
                      <a:pt x="62" y="61"/>
                    </a:lnTo>
                    <a:lnTo>
                      <a:pt x="78" y="47"/>
                    </a:lnTo>
                    <a:lnTo>
                      <a:pt x="95" y="36"/>
                    </a:lnTo>
                    <a:lnTo>
                      <a:pt x="112" y="25"/>
                    </a:lnTo>
                    <a:lnTo>
                      <a:pt x="130" y="15"/>
                    </a:lnTo>
                    <a:lnTo>
                      <a:pt x="149" y="9"/>
                    </a:lnTo>
                    <a:lnTo>
                      <a:pt x="170" y="4"/>
                    </a:lnTo>
                    <a:lnTo>
                      <a:pt x="190" y="1"/>
                    </a:lnTo>
                    <a:lnTo>
                      <a:pt x="213" y="0"/>
                    </a:lnTo>
                    <a:lnTo>
                      <a:pt x="354" y="0"/>
                    </a:lnTo>
                    <a:lnTo>
                      <a:pt x="354" y="74"/>
                    </a:lnTo>
                    <a:lnTo>
                      <a:pt x="218" y="74"/>
                    </a:lnTo>
                    <a:lnTo>
                      <a:pt x="203" y="74"/>
                    </a:lnTo>
                    <a:lnTo>
                      <a:pt x="190" y="76"/>
                    </a:lnTo>
                    <a:lnTo>
                      <a:pt x="178" y="79"/>
                    </a:lnTo>
                    <a:lnTo>
                      <a:pt x="165" y="84"/>
                    </a:lnTo>
                    <a:lnTo>
                      <a:pt x="141" y="96"/>
                    </a:lnTo>
                    <a:lnTo>
                      <a:pt x="122" y="115"/>
                    </a:lnTo>
                    <a:lnTo>
                      <a:pt x="104" y="134"/>
                    </a:lnTo>
                    <a:lnTo>
                      <a:pt x="91" y="158"/>
                    </a:lnTo>
                    <a:lnTo>
                      <a:pt x="86" y="170"/>
                    </a:lnTo>
                    <a:lnTo>
                      <a:pt x="83" y="183"/>
                    </a:lnTo>
                    <a:lnTo>
                      <a:pt x="81" y="196"/>
                    </a:lnTo>
                    <a:lnTo>
                      <a:pt x="81" y="210"/>
                    </a:lnTo>
                    <a:lnTo>
                      <a:pt x="81" y="224"/>
                    </a:lnTo>
                    <a:lnTo>
                      <a:pt x="83" y="237"/>
                    </a:lnTo>
                    <a:lnTo>
                      <a:pt x="86" y="251"/>
                    </a:lnTo>
                    <a:lnTo>
                      <a:pt x="91" y="262"/>
                    </a:lnTo>
                    <a:lnTo>
                      <a:pt x="104" y="286"/>
                    </a:lnTo>
                    <a:lnTo>
                      <a:pt x="122" y="307"/>
                    </a:lnTo>
                    <a:lnTo>
                      <a:pt x="141" y="324"/>
                    </a:lnTo>
                    <a:lnTo>
                      <a:pt x="165" y="336"/>
                    </a:lnTo>
                    <a:lnTo>
                      <a:pt x="178" y="341"/>
                    </a:lnTo>
                    <a:lnTo>
                      <a:pt x="190" y="344"/>
                    </a:lnTo>
                    <a:lnTo>
                      <a:pt x="203" y="346"/>
                    </a:lnTo>
                    <a:lnTo>
                      <a:pt x="218" y="347"/>
                    </a:lnTo>
                    <a:lnTo>
                      <a:pt x="354" y="347"/>
                    </a:lnTo>
                    <a:lnTo>
                      <a:pt x="354" y="42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8271000" y="6472080"/>
              <a:ext cx="182880" cy="151200"/>
            </a:xfrm>
            <a:custGeom>
              <a:avLst/>
              <a:gdLst/>
              <a:ahLst/>
              <a:rect l="0" t="0" r="r" b="b"/>
              <a:pathLst>
                <a:path w="508" h="420">
                  <a:moveTo>
                    <a:pt x="210" y="420"/>
                  </a:moveTo>
                  <a:lnTo>
                    <a:pt x="188" y="420"/>
                  </a:lnTo>
                  <a:lnTo>
                    <a:pt x="167" y="417"/>
                  </a:lnTo>
                  <a:lnTo>
                    <a:pt x="146" y="411"/>
                  </a:lnTo>
                  <a:lnTo>
                    <a:pt x="127" y="405"/>
                  </a:lnTo>
                  <a:lnTo>
                    <a:pt x="110" y="395"/>
                  </a:lnTo>
                  <a:lnTo>
                    <a:pt x="92" y="386"/>
                  </a:lnTo>
                  <a:lnTo>
                    <a:pt x="76" y="373"/>
                  </a:lnTo>
                  <a:lnTo>
                    <a:pt x="60" y="360"/>
                  </a:lnTo>
                  <a:lnTo>
                    <a:pt x="47" y="344"/>
                  </a:lnTo>
                  <a:lnTo>
                    <a:pt x="35" y="328"/>
                  </a:lnTo>
                  <a:lnTo>
                    <a:pt x="25" y="310"/>
                  </a:lnTo>
                  <a:lnTo>
                    <a:pt x="15" y="292"/>
                  </a:lnTo>
                  <a:lnTo>
                    <a:pt x="9" y="272"/>
                  </a:lnTo>
                  <a:lnTo>
                    <a:pt x="3" y="253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0" y="189"/>
                  </a:lnTo>
                  <a:lnTo>
                    <a:pt x="3" y="167"/>
                  </a:lnTo>
                  <a:lnTo>
                    <a:pt x="9" y="148"/>
                  </a:lnTo>
                  <a:lnTo>
                    <a:pt x="15" y="129"/>
                  </a:lnTo>
                  <a:lnTo>
                    <a:pt x="25" y="110"/>
                  </a:lnTo>
                  <a:lnTo>
                    <a:pt x="35" y="92"/>
                  </a:lnTo>
                  <a:lnTo>
                    <a:pt x="47" y="76"/>
                  </a:lnTo>
                  <a:lnTo>
                    <a:pt x="60" y="61"/>
                  </a:lnTo>
                  <a:lnTo>
                    <a:pt x="76" y="47"/>
                  </a:lnTo>
                  <a:lnTo>
                    <a:pt x="92" y="36"/>
                  </a:lnTo>
                  <a:lnTo>
                    <a:pt x="110" y="25"/>
                  </a:lnTo>
                  <a:lnTo>
                    <a:pt x="127" y="15"/>
                  </a:lnTo>
                  <a:lnTo>
                    <a:pt x="146" y="9"/>
                  </a:lnTo>
                  <a:lnTo>
                    <a:pt x="167" y="4"/>
                  </a:lnTo>
                  <a:lnTo>
                    <a:pt x="188" y="1"/>
                  </a:lnTo>
                  <a:lnTo>
                    <a:pt x="210" y="0"/>
                  </a:lnTo>
                  <a:lnTo>
                    <a:pt x="501" y="0"/>
                  </a:lnTo>
                  <a:lnTo>
                    <a:pt x="453" y="74"/>
                  </a:lnTo>
                  <a:lnTo>
                    <a:pt x="215" y="74"/>
                  </a:lnTo>
                  <a:lnTo>
                    <a:pt x="200" y="74"/>
                  </a:lnTo>
                  <a:lnTo>
                    <a:pt x="188" y="76"/>
                  </a:lnTo>
                  <a:lnTo>
                    <a:pt x="175" y="79"/>
                  </a:lnTo>
                  <a:lnTo>
                    <a:pt x="162" y="84"/>
                  </a:lnTo>
                  <a:lnTo>
                    <a:pt x="138" y="96"/>
                  </a:lnTo>
                  <a:lnTo>
                    <a:pt x="119" y="115"/>
                  </a:lnTo>
                  <a:lnTo>
                    <a:pt x="102" y="134"/>
                  </a:lnTo>
                  <a:lnTo>
                    <a:pt x="89" y="158"/>
                  </a:lnTo>
                  <a:lnTo>
                    <a:pt x="84" y="170"/>
                  </a:lnTo>
                  <a:lnTo>
                    <a:pt x="81" y="183"/>
                  </a:lnTo>
                  <a:lnTo>
                    <a:pt x="79" y="196"/>
                  </a:lnTo>
                  <a:lnTo>
                    <a:pt x="79" y="210"/>
                  </a:lnTo>
                  <a:lnTo>
                    <a:pt x="79" y="224"/>
                  </a:lnTo>
                  <a:lnTo>
                    <a:pt x="81" y="237"/>
                  </a:lnTo>
                  <a:lnTo>
                    <a:pt x="84" y="251"/>
                  </a:lnTo>
                  <a:lnTo>
                    <a:pt x="89" y="262"/>
                  </a:lnTo>
                  <a:lnTo>
                    <a:pt x="102" y="286"/>
                  </a:lnTo>
                  <a:lnTo>
                    <a:pt x="119" y="307"/>
                  </a:lnTo>
                  <a:lnTo>
                    <a:pt x="138" y="324"/>
                  </a:lnTo>
                  <a:lnTo>
                    <a:pt x="162" y="336"/>
                  </a:lnTo>
                  <a:lnTo>
                    <a:pt x="175" y="341"/>
                  </a:lnTo>
                  <a:lnTo>
                    <a:pt x="188" y="344"/>
                  </a:lnTo>
                  <a:lnTo>
                    <a:pt x="200" y="346"/>
                  </a:lnTo>
                  <a:lnTo>
                    <a:pt x="215" y="347"/>
                  </a:lnTo>
                  <a:lnTo>
                    <a:pt x="508" y="347"/>
                  </a:lnTo>
                  <a:lnTo>
                    <a:pt x="461" y="420"/>
                  </a:lnTo>
                  <a:lnTo>
                    <a:pt x="210" y="42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23440" y="6472080"/>
              <a:ext cx="184680" cy="151200"/>
            </a:xfrm>
            <a:custGeom>
              <a:avLst/>
              <a:gdLst/>
              <a:ahLst/>
              <a:rect l="0" t="0" r="r" b="b"/>
              <a:pathLst>
                <a:path w="513" h="420">
                  <a:moveTo>
                    <a:pt x="217" y="347"/>
                  </a:moveTo>
                  <a:lnTo>
                    <a:pt x="195" y="344"/>
                  </a:lnTo>
                  <a:lnTo>
                    <a:pt x="172" y="339"/>
                  </a:lnTo>
                  <a:lnTo>
                    <a:pt x="153" y="330"/>
                  </a:lnTo>
                  <a:lnTo>
                    <a:pt x="134" y="319"/>
                  </a:lnTo>
                  <a:lnTo>
                    <a:pt x="117" y="304"/>
                  </a:lnTo>
                  <a:lnTo>
                    <a:pt x="104" y="286"/>
                  </a:lnTo>
                  <a:lnTo>
                    <a:pt x="93" y="267"/>
                  </a:lnTo>
                  <a:lnTo>
                    <a:pt x="84" y="246"/>
                  </a:lnTo>
                  <a:lnTo>
                    <a:pt x="434" y="246"/>
                  </a:lnTo>
                  <a:lnTo>
                    <a:pt x="483" y="173"/>
                  </a:lnTo>
                  <a:lnTo>
                    <a:pt x="84" y="173"/>
                  </a:lnTo>
                  <a:lnTo>
                    <a:pt x="93" y="153"/>
                  </a:lnTo>
                  <a:lnTo>
                    <a:pt x="104" y="134"/>
                  </a:lnTo>
                  <a:lnTo>
                    <a:pt x="117" y="116"/>
                  </a:lnTo>
                  <a:lnTo>
                    <a:pt x="134" y="101"/>
                  </a:lnTo>
                  <a:lnTo>
                    <a:pt x="153" y="90"/>
                  </a:lnTo>
                  <a:lnTo>
                    <a:pt x="172" y="80"/>
                  </a:lnTo>
                  <a:lnTo>
                    <a:pt x="195" y="76"/>
                  </a:lnTo>
                  <a:lnTo>
                    <a:pt x="217" y="74"/>
                  </a:lnTo>
                  <a:lnTo>
                    <a:pt x="459" y="74"/>
                  </a:lnTo>
                  <a:lnTo>
                    <a:pt x="505" y="0"/>
                  </a:lnTo>
                  <a:lnTo>
                    <a:pt x="212" y="0"/>
                  </a:lnTo>
                  <a:lnTo>
                    <a:pt x="190" y="1"/>
                  </a:lnTo>
                  <a:lnTo>
                    <a:pt x="169" y="4"/>
                  </a:lnTo>
                  <a:lnTo>
                    <a:pt x="150" y="9"/>
                  </a:lnTo>
                  <a:lnTo>
                    <a:pt x="129" y="15"/>
                  </a:lnTo>
                  <a:lnTo>
                    <a:pt x="110" y="25"/>
                  </a:lnTo>
                  <a:lnTo>
                    <a:pt x="93" y="36"/>
                  </a:lnTo>
                  <a:lnTo>
                    <a:pt x="76" y="47"/>
                  </a:lnTo>
                  <a:lnTo>
                    <a:pt x="60" y="61"/>
                  </a:lnTo>
                  <a:lnTo>
                    <a:pt x="48" y="76"/>
                  </a:lnTo>
                  <a:lnTo>
                    <a:pt x="35" y="92"/>
                  </a:lnTo>
                  <a:lnTo>
                    <a:pt x="25" y="110"/>
                  </a:lnTo>
                  <a:lnTo>
                    <a:pt x="16" y="129"/>
                  </a:lnTo>
                  <a:lnTo>
                    <a:pt x="9" y="148"/>
                  </a:lnTo>
                  <a:lnTo>
                    <a:pt x="3" y="167"/>
                  </a:lnTo>
                  <a:lnTo>
                    <a:pt x="0" y="18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3" y="253"/>
                  </a:lnTo>
                  <a:lnTo>
                    <a:pt x="9" y="272"/>
                  </a:lnTo>
                  <a:lnTo>
                    <a:pt x="16" y="292"/>
                  </a:lnTo>
                  <a:lnTo>
                    <a:pt x="25" y="310"/>
                  </a:lnTo>
                  <a:lnTo>
                    <a:pt x="35" y="328"/>
                  </a:lnTo>
                  <a:lnTo>
                    <a:pt x="48" y="344"/>
                  </a:lnTo>
                  <a:lnTo>
                    <a:pt x="60" y="360"/>
                  </a:lnTo>
                  <a:lnTo>
                    <a:pt x="76" y="373"/>
                  </a:lnTo>
                  <a:lnTo>
                    <a:pt x="93" y="386"/>
                  </a:lnTo>
                  <a:lnTo>
                    <a:pt x="110" y="395"/>
                  </a:lnTo>
                  <a:lnTo>
                    <a:pt x="129" y="405"/>
                  </a:lnTo>
                  <a:lnTo>
                    <a:pt x="150" y="411"/>
                  </a:lnTo>
                  <a:lnTo>
                    <a:pt x="169" y="417"/>
                  </a:lnTo>
                  <a:lnTo>
                    <a:pt x="190" y="420"/>
                  </a:lnTo>
                  <a:lnTo>
                    <a:pt x="212" y="420"/>
                  </a:lnTo>
                  <a:lnTo>
                    <a:pt x="465" y="420"/>
                  </a:lnTo>
                  <a:lnTo>
                    <a:pt x="513" y="347"/>
                  </a:lnTo>
                  <a:lnTo>
                    <a:pt x="217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to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Databas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85724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se an explicit connection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or multiple databases or conne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or applets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1" i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xt class declaration</a:t>
            </a:r>
            <a:br>
              <a:rPr sz="18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context Db1;  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Db1 myDb1 =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new Db1(url, user, pwd, false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[myDb1] { UPDATE bugs ...  }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ing One Row of Dat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371600"/>
            <a:ext cx="781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se SELECT..INTO for single-row que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unt;   double avgLeg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SELECT count(*), avg(numLegs)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INTO  :count, :avgLegs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FROM bugs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};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 equivalent construct in the JDBC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1160" indent="-32220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eed to use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(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on a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S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Row Queries: Iterato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857240"/>
            <a:ext cx="845676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QLJ result sets have a shape and are call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erators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ere “shape”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 and names of column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o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 and positions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med iterator declaration </a:t>
            </a:r>
            <a:br>
              <a:rPr sz="26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public iterator BugIter(String name,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int numLegs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sitional iterator declaration </a:t>
            </a:r>
            <a:br>
              <a:rPr sz="26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public iterator BugIterPos(String,int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Iterato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1547640"/>
            <a:ext cx="7772400" cy="46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public iterator BugIter(String name,          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int numLegs);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clares a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class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ugIte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ith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next()  // scroll r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()   // access NAME colum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umLegs()   // access NUMLEGS colum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lose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Iterator (cont’d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38080" y="1695600"/>
            <a:ext cx="762012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listBugs() throws SQLException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BugIter b = null;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 {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#sql b = { SELECT  name, numLegs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FROM  bugs }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b.next()) printBugs(b);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} finally {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 (b != null) b.close();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Iterator (cont’d)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85724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se accessor methods for named it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printBugs (BugIter b)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 SQLException {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System.out.println(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"Bug name: " + b.name() +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", # legs: " + b.numLegs());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ors can throw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QL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Iterator Gotcha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1685880"/>
            <a:ext cx="762012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ways close iterators (or DB may run out of curs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aliase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when SQL column name is not a Java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umn names and accessors are matched in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se insensi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.K. for SELECT to have superset of named colum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al Iterator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335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public iterator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ugIterPos(String,int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 accessor methods, instead use</a:t>
            </a:r>
            <a:br>
              <a:rPr sz="26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FETCH :b INTO :name, :numLegs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etch(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method return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when iterator is not on a r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al Iterator (cont’d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3520" y="1619280"/>
            <a:ext cx="830592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BugIterPos bp = null;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#sql bp={SELECT  name, numLegs FROM bugs}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rue) {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#sql { FETCH :bp INTO :name, :legs };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if (bp.endFetch()) break;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System.out.println(name+ “:” +legs);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} finally {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if (b != null) b.close();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al Iterator Gotcha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8080" y="1685880"/>
            <a:ext cx="762012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member to close iterato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sample pattern above, unless you fully underst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etch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of columns in SELECT must be same as in it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rust type checks to detect error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many implicit SQL conversions, e.g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CH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&gt;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tor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Q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s For Updat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38080" y="1685880"/>
            <a:ext cx="762012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erator declaratio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iterator UpdateI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qlj.runtime.ForUpd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ring name, int numLe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erator instantiatio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Iter ui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ui = { SELECT * FROM bugs }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erator use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UPDATE bugs SET numLegs = :leg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WHERE CURRENT OF :ui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Contex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857240"/>
            <a:ext cx="7772400" cy="42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sqlj.runtime.ExecutionContext ec =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sqlj.runtime.ExecutionContext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[ec] { UPDATE bugs SET picture = :pic 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WHERE name = :bug   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ec.getUpdateCount() +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" rows updated");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se execution context fo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Results of update, SQL warn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ine control: query timeout, max rows, field siz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Multi-threaded SQLJ appl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ing Stored Program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8080" y="1768320"/>
            <a:ext cx="762012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tored procedur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CALL STORED_PROC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:IN x, :OUT y, :INOUT z) 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tored functions</a:t>
            </a:r>
            <a:br>
              <a:rPr sz="18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#sql a =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VALUES( STORED_FUNC(:IN b) ) };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 Programs (cont’d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33520" y="1692360"/>
            <a:ext cx="830412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f no mode is given, IN is assu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ll OUT / INOUT modes must be spec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ionale: same code generation, both offline and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famName = {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VALUES(FAMILY(:name, :legs)) }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quivalent to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famName = {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S(FAMILY(:IN name, :IN legs))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 Programs (cont’d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3520" y="1692360"/>
            <a:ext cx="83041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yte[] pic = …;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CALL INVERT(:INOUT pic)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 Programs (cont’d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33520" y="1692360"/>
            <a:ext cx="83041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de effect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ve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 P(x INT, y IN OUT INT, z OUT INT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EGIN y=y+x; z=x+y; END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=new int{0,1,2}; int i=0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CALL P(:(i++),  -- i +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:INOUT(a[i--]), :OUT(a[i])) };</a:t>
            </a:r>
            <a:br>
              <a:rPr sz="18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sult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= { …, …, … }; int i =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Assignment Statem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685880"/>
            <a:ext cx="762012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5; int j;</a:t>
            </a:r>
            <a:br>
              <a:rPr sz="1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SET :j = 2 * :i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hs of a SET assignment and the elements of INTO lists are alway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ault mode is IN everywher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QL in SQLJ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480" y="184464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QLJ interoperates with JDB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 algn="ctr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0bd04"/>
                </a:solidFill>
                <a:latin typeface="Arial"/>
                <a:ea typeface="Arial"/>
              </a:rPr>
              <a:t>SQLJ and JDBC are complementa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ets and it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s = iter.getResultSe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iter = { CAST :rs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s and connection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 = cctxt.getConnection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ctxt = new DefaultContext(con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J/JDBC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19320" y="1752480"/>
            <a:ext cx="7467480" cy="4191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79440" y="2681280"/>
            <a:ext cx="289080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QL statement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trong typing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hecking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yntax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tandard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ortabl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Obj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327560" y="1843200"/>
            <a:ext cx="150804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QLJ</a:t>
            </a: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ti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ti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is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S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232680" y="1843200"/>
            <a:ext cx="231768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JDBC</a:t>
            </a:r>
            <a:br>
              <a:rPr sz="2800"/>
            </a:br>
            <a:br>
              <a:rPr sz="1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ynami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ntime onl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 of SQLJ Languag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621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ise syntax, high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arly checking of static SQL syntax +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yped iterators,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SI Standard, vendor-neutral, por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-specific features via profile custo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operates with JDBC for dynamic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ailablility &amp; deployment same as 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pplications, applets, stored programs, EJBs, ..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0bd04"/>
                </a:solidFill>
                <a:latin typeface="Arial"/>
                <a:ea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SQLJ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tor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Q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680" y="107172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85800" y="2286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0bd04"/>
                </a:solidFill>
                <a:latin typeface="Arial"/>
                <a:ea typeface="Arial"/>
              </a:rPr>
              <a:t>The SQLJ Transla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J Trans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nerate Java code that calls SQLJ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tional: connect to database to check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e Ste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73080" y="2085840"/>
            <a:ext cx="13240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  <a:ea typeface="Arial"/>
              </a:rPr>
              <a:t>Bug.sqlj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16040" y="2522520"/>
            <a:ext cx="1839960" cy="12636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c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71840" y="3143160"/>
            <a:ext cx="357120" cy="0"/>
          </a:xfrm>
          <a:prstGeom prst="line">
            <a:avLst/>
          </a:prstGeom>
          <a:ln w="255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57720" y="3143160"/>
            <a:ext cx="357120" cy="0"/>
          </a:xfrm>
          <a:prstGeom prst="line">
            <a:avLst/>
          </a:prstGeom>
          <a:ln w="255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08520" y="2071800"/>
            <a:ext cx="145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Bug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714840" y="2522520"/>
            <a:ext cx="1556280" cy="1263960"/>
          </a:xfrm>
          <a:custGeom>
            <a:avLst/>
            <a:gdLst/>
            <a:ahLst/>
            <a:rect l="0" t="0" r="r" b="b"/>
            <a:pathLst>
              <a:path w="4323" h="3511">
                <a:moveTo>
                  <a:pt x="0" y="1053"/>
                </a:moveTo>
                <a:lnTo>
                  <a:pt x="0" y="2458"/>
                </a:lnTo>
                <a:lnTo>
                  <a:pt x="1297" y="3511"/>
                </a:lnTo>
                <a:lnTo>
                  <a:pt x="3026" y="3511"/>
                </a:lnTo>
                <a:lnTo>
                  <a:pt x="4323" y="2458"/>
                </a:lnTo>
                <a:lnTo>
                  <a:pt x="4323" y="1053"/>
                </a:lnTo>
                <a:lnTo>
                  <a:pt x="3026" y="0"/>
                </a:lnTo>
                <a:lnTo>
                  <a:pt x="1297" y="0"/>
                </a:lnTo>
                <a:lnTo>
                  <a:pt x="0" y="1053"/>
                </a:lnTo>
                <a:close/>
              </a:path>
            </a:pathLst>
          </a:custGeom>
          <a:solidFill>
            <a:srgbClr val="315faf"/>
          </a:solidFill>
          <a:ln w="25560">
            <a:solidFill>
              <a:srgbClr val="ffffc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800360" y="3011400"/>
            <a:ext cx="2690640" cy="430200"/>
          </a:xfrm>
          <a:prstGeom prst="rect">
            <a:avLst/>
          </a:prstGeom>
          <a:solidFill>
            <a:srgbClr val="000066"/>
          </a:solidFill>
          <a:ln w="2556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QLJ Trans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84600" y="3011400"/>
            <a:ext cx="2692440" cy="430200"/>
          </a:xfrm>
          <a:prstGeom prst="rect">
            <a:avLst/>
          </a:prstGeom>
          <a:solidFill>
            <a:srgbClr val="000066"/>
          </a:solidFill>
          <a:ln w="2556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Java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43760" y="3143160"/>
            <a:ext cx="500040" cy="0"/>
          </a:xfrm>
          <a:prstGeom prst="line">
            <a:avLst/>
          </a:prstGeom>
          <a:ln w="255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721560" y="2098800"/>
            <a:ext cx="16574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Bug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13560" y="2522520"/>
            <a:ext cx="1725480" cy="1120680"/>
          </a:xfrm>
          <a:prstGeom prst="roundRect">
            <a:avLst/>
          </a:prstGeom>
          <a:solidFill>
            <a:srgbClr val="315faf"/>
          </a:solidFill>
          <a:ln w="25560">
            <a:solidFill>
              <a:srgbClr val="ffffc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86240" y="3143160"/>
            <a:ext cx="428760" cy="0"/>
          </a:xfrm>
          <a:prstGeom prst="line">
            <a:avLst/>
          </a:prstGeom>
          <a:ln w="255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73320" y="5000760"/>
            <a:ext cx="5997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800" spc="-1" strike="noStrike">
                <a:solidFill>
                  <a:srgbClr val="ffcd66"/>
                </a:solidFill>
                <a:latin typeface="Arial"/>
                <a:ea typeface="Arial"/>
              </a:rPr>
              <a:t>% sqlj Bug.sq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800" spc="-1" strike="noStrike">
                <a:solidFill>
                  <a:srgbClr val="ffcd66"/>
                </a:solidFill>
                <a:latin typeface="Arial"/>
                <a:ea typeface="Arial"/>
              </a:rPr>
              <a:t>% java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Check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85724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bug = “Centipede”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byte[] pic = new byte[] { … 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UPDATE bugs SET picture =     :bug 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WHERE name =     :pic  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ype mismatch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32220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translate online to de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124080" y="6613560"/>
            <a:ext cx="289548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eaeaea"/>
                </a:solidFill>
                <a:latin typeface="Arial"/>
                <a:ea typeface="Arial"/>
              </a:rPr>
              <a:t>JavaOne '99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521400" y="3205080"/>
            <a:ext cx="590400" cy="438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5170320" y="3633840"/>
            <a:ext cx="5904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ecking SQL in Databas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73320" y="5000760"/>
            <a:ext cx="5997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  <a:ea typeface="Arial"/>
              </a:rPr>
              <a:t>% sqlj Bug.sql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  <a:ea typeface="Arial"/>
              </a:rPr>
              <a:t>% java B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73080" y="2085840"/>
            <a:ext cx="13240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  <a:ea typeface="Arial"/>
              </a:rPr>
              <a:t>Bug.sqlj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6040" y="2522520"/>
            <a:ext cx="1839960" cy="12636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c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71840" y="3143160"/>
            <a:ext cx="357120" cy="0"/>
          </a:xfrm>
          <a:prstGeom prst="line">
            <a:avLst/>
          </a:prstGeom>
          <a:ln w="255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84600" y="3011400"/>
            <a:ext cx="2692440" cy="430200"/>
          </a:xfrm>
          <a:prstGeom prst="rect">
            <a:avLst/>
          </a:prstGeom>
          <a:solidFill>
            <a:srgbClr val="000066"/>
          </a:solidFill>
          <a:ln w="2556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  <a:ea typeface="Arial"/>
              </a:rPr>
              <a:t>Java Compil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43760" y="3143160"/>
            <a:ext cx="500040" cy="0"/>
          </a:xfrm>
          <a:prstGeom prst="line">
            <a:avLst/>
          </a:prstGeom>
          <a:ln w="255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57720" y="3143160"/>
            <a:ext cx="357120" cy="0"/>
          </a:xfrm>
          <a:prstGeom prst="line">
            <a:avLst/>
          </a:prstGeom>
          <a:ln w="255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914640" y="2085840"/>
            <a:ext cx="138924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  <a:ea typeface="Arial"/>
              </a:rPr>
              <a:t>Bug.ja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14840" y="2522520"/>
            <a:ext cx="1556280" cy="1263960"/>
          </a:xfrm>
          <a:custGeom>
            <a:avLst/>
            <a:gdLst/>
            <a:ahLst/>
            <a:rect l="0" t="0" r="r" b="b"/>
            <a:pathLst>
              <a:path w="4323" h="3511">
                <a:moveTo>
                  <a:pt x="0" y="1053"/>
                </a:moveTo>
                <a:lnTo>
                  <a:pt x="0" y="2458"/>
                </a:lnTo>
                <a:lnTo>
                  <a:pt x="1297" y="3511"/>
                </a:lnTo>
                <a:lnTo>
                  <a:pt x="3026" y="3511"/>
                </a:lnTo>
                <a:lnTo>
                  <a:pt x="4323" y="2458"/>
                </a:lnTo>
                <a:lnTo>
                  <a:pt x="4323" y="1053"/>
                </a:lnTo>
                <a:lnTo>
                  <a:pt x="3026" y="0"/>
                </a:lnTo>
                <a:lnTo>
                  <a:pt x="1297" y="0"/>
                </a:lnTo>
                <a:lnTo>
                  <a:pt x="0" y="1053"/>
                </a:lnTo>
                <a:close/>
              </a:path>
            </a:pathLst>
          </a:custGeom>
          <a:solidFill>
            <a:srgbClr val="315faf"/>
          </a:solidFill>
          <a:ln w="25560">
            <a:solidFill>
              <a:srgbClr val="ffffc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727680" y="2114640"/>
            <a:ext cx="158256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  <a:ea typeface="Arial"/>
              </a:rPr>
              <a:t>Bug.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13560" y="2522520"/>
            <a:ext cx="1725480" cy="1120680"/>
          </a:xfrm>
          <a:prstGeom prst="roundRect">
            <a:avLst/>
          </a:prstGeom>
          <a:solidFill>
            <a:srgbClr val="315faf"/>
          </a:solidFill>
          <a:ln w="25560">
            <a:solidFill>
              <a:srgbClr val="ffffc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6240" y="3143160"/>
            <a:ext cx="428760" cy="0"/>
          </a:xfrm>
          <a:prstGeom prst="line">
            <a:avLst/>
          </a:prstGeom>
          <a:ln w="255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800360" y="3011400"/>
            <a:ext cx="2690640" cy="430200"/>
          </a:xfrm>
          <a:prstGeom prst="rect">
            <a:avLst/>
          </a:prstGeom>
          <a:solidFill>
            <a:srgbClr val="000066"/>
          </a:solidFill>
          <a:ln w="25560">
            <a:solidFill>
              <a:srgbClr val="ffff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  <a:ea typeface="Arial"/>
              </a:rPr>
              <a:t>SQLJ Transla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714240" y="4071960"/>
            <a:ext cx="8259840" cy="2124000"/>
            <a:chOff x="714240" y="4071960"/>
            <a:chExt cx="8259840" cy="2124000"/>
          </a:xfrm>
        </p:grpSpPr>
        <p:sp>
          <p:nvSpPr>
            <p:cNvPr id="379" name=""/>
            <p:cNvSpPr/>
            <p:nvPr/>
          </p:nvSpPr>
          <p:spPr>
            <a:xfrm>
              <a:off x="752400" y="5815080"/>
              <a:ext cx="1828800" cy="380880"/>
            </a:xfrm>
            <a:prstGeom prst="ellipse">
              <a:avLst/>
            </a:prstGeom>
            <a:solidFill>
              <a:srgbClr val="dddddd"/>
            </a:solidFill>
            <a:ln w="25560">
              <a:solidFill>
                <a:srgbClr val="ffffcc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00" y="5433840"/>
              <a:ext cx="1828800" cy="609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1127160" y="564984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B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2400" y="5281560"/>
              <a:ext cx="1828800" cy="3808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ffffcc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95520" y="4896000"/>
              <a:ext cx="0" cy="533160"/>
            </a:xfrm>
            <a:prstGeom prst="line">
              <a:avLst/>
            </a:prstGeom>
            <a:ln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714240" y="4429080"/>
              <a:ext cx="1905120" cy="538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ffffcc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eck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5794200" y="4957920"/>
              <a:ext cx="317988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cd66"/>
                  </a:solidFill>
                  <a:latin typeface="Arial"/>
                  <a:ea typeface="Arial"/>
                </a:rPr>
                <a:t>-user=scott/tige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73200" y="4071960"/>
              <a:ext cx="1356120" cy="357480"/>
            </a:xfrm>
            <a:custGeom>
              <a:avLst/>
              <a:gdLst/>
              <a:ahLst/>
              <a:rect l="0" t="0" r="r" b="b"/>
              <a:pathLst>
                <a:path fill="none" w="3767" h="993">
                  <a:moveTo>
                    <a:pt x="3767" y="0"/>
                  </a:moveTo>
                  <a:lnTo>
                    <a:pt x="0" y="0"/>
                  </a:lnTo>
                  <a:lnTo>
                    <a:pt x="0" y="993"/>
                  </a:lnTo>
                </a:path>
              </a:pathLst>
            </a:custGeom>
            <a:ln w="25560">
              <a:solidFill>
                <a:srgbClr val="ffffcc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 Checking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120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ype resolution for host expression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i;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#sql i =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  { SELECT name,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numLegs + :(i-”x”)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FROM bugs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120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y need to explicitly pas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.java,.sqlj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files to SQLJ transl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120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tatic SQL syntax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#sql { comitt work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Checker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3808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ffline and on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Vendor-specif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nalyze SQL statement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nd bind expre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mplement the interface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sqlj.framework.checker.SQLChec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Checkers (cont’d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808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boolean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 supportsDatabase(errlog,co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online che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beSQLOperation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(errlog,conn,sqlo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role of SQ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modes and types of host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sue errors and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ulting program cannot be different between offline/online che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Checke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JDBC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API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-based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QL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Chec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s JDBC API ResultSetMetaData to determine actual shape of que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s JDBC API meta data to ve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2430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Query column typ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2430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Stored procedure and function signat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Vendor-specific chec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.g. Oracle-checker uses system tables for metadata, parses SQL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SQLJ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’s all about embedding SQL in Jav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databas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ANSI Standard X3.135.10-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ndor-specific exec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J Customization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3808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ually vendor-specific, for example to support SQLJ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#sql { SET :x = 2*:y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// in Oracle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#sql { BEGIN :OUT x := 2*:y; END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ustomizer reads static SQL information, adds information to profile (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.se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tored in </a:t>
            </a:r>
            <a:r>
              <a:rPr b="1" lang="en-US" sz="4500" spc="-1" strike="noStrike">
                <a:solidFill>
                  <a:srgbClr val="ffffff"/>
                </a:solidFill>
                <a:latin typeface="Courier New"/>
                <a:ea typeface="Courier New"/>
              </a:rPr>
              <a:t>.ser</a:t>
            </a: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73080" y="2085840"/>
            <a:ext cx="13240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.sqlj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16040" y="2522520"/>
            <a:ext cx="1839960" cy="12636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#sql {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  SET …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1840" y="3143160"/>
            <a:ext cx="357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84600" y="3011400"/>
            <a:ext cx="2692440" cy="430200"/>
          </a:xfrm>
          <a:prstGeom prst="rect">
            <a:avLst/>
          </a:prstGeom>
          <a:solidFill>
            <a:srgbClr val="41414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Java Compi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613560" y="4287960"/>
            <a:ext cx="1725480" cy="114156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y0: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ET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421320" y="3860640"/>
            <a:ext cx="22003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Profile.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43760" y="3143160"/>
            <a:ext cx="50004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57720" y="3143160"/>
            <a:ext cx="357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3143160"/>
            <a:ext cx="0" cy="1714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4857840"/>
            <a:ext cx="3214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14640" y="2085840"/>
            <a:ext cx="138924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.ja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714840" y="2522520"/>
            <a:ext cx="1555920" cy="12636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: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y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727680" y="2114640"/>
            <a:ext cx="158256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.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13560" y="2522520"/>
            <a:ext cx="1725480" cy="1120680"/>
          </a:xfrm>
          <a:prstGeom prst="round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86240" y="314316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800360" y="3011400"/>
            <a:ext cx="2690640" cy="430200"/>
          </a:xfrm>
          <a:prstGeom prst="rect">
            <a:avLst/>
          </a:prstGeom>
          <a:solidFill>
            <a:srgbClr val="41414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QLJ Transl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in </a:t>
            </a:r>
            <a:r>
              <a:rPr b="1" lang="en-US" sz="4500" spc="-1" strike="noStrike">
                <a:solidFill>
                  <a:srgbClr val="ffffff"/>
                </a:solidFill>
                <a:latin typeface="Courier New"/>
                <a:ea typeface="Courier New"/>
              </a:rPr>
              <a:t>.ser</a:t>
            </a: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s (cont’d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73080" y="2085840"/>
            <a:ext cx="13240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.sqlj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16040" y="2522520"/>
            <a:ext cx="1839960" cy="12636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#sql {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  SET …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71840" y="3143160"/>
            <a:ext cx="357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84600" y="3011400"/>
            <a:ext cx="2692440" cy="430200"/>
          </a:xfrm>
          <a:prstGeom prst="rect">
            <a:avLst/>
          </a:prstGeom>
          <a:solidFill>
            <a:srgbClr val="41414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Java Compi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613560" y="4287960"/>
            <a:ext cx="1725480" cy="114156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y0: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ET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421320" y="3860640"/>
            <a:ext cx="22003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Profile.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43760" y="3143160"/>
            <a:ext cx="50004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57720" y="3143160"/>
            <a:ext cx="357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3143160"/>
            <a:ext cx="0" cy="1714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57840"/>
            <a:ext cx="3214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914640" y="2085840"/>
            <a:ext cx="138924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.ja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714840" y="2522520"/>
            <a:ext cx="1555920" cy="12636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: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y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727680" y="2114640"/>
            <a:ext cx="158256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.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13560" y="2522520"/>
            <a:ext cx="1725480" cy="1120680"/>
          </a:xfrm>
          <a:prstGeom prst="round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86240" y="314316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800360" y="3011400"/>
            <a:ext cx="2690640" cy="430200"/>
          </a:xfrm>
          <a:prstGeom prst="rect">
            <a:avLst/>
          </a:prstGeom>
          <a:solidFill>
            <a:srgbClr val="41414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QLJ Transl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994440" y="5181480"/>
            <a:ext cx="1725480" cy="1141560"/>
          </a:xfrm>
          <a:prstGeom prst="rect">
            <a:avLst/>
          </a:prstGeom>
          <a:solidFill>
            <a:srgbClr val="009688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OraEntry0: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EGIN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2240" y="5653080"/>
            <a:ext cx="61707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connected to Oracle, runti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es OraEntry0 instead of Entry0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Translatio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sqlj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works like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jav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imilar options (and then so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Mix </a:t>
            </a:r>
            <a:r>
              <a:rPr b="1" lang="en-US" sz="2300" spc="-1" strike="noStrike">
                <a:solidFill>
                  <a:srgbClr val="ffffff"/>
                </a:solidFill>
                <a:latin typeface="Courier New"/>
                <a:ea typeface="Courier New"/>
              </a:rPr>
              <a:t>.sqlj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2300" spc="-1" strike="noStrike">
                <a:solidFill>
                  <a:srgbClr val="ffffff"/>
                </a:solidFill>
                <a:latin typeface="Courier New"/>
                <a:ea typeface="Courier New"/>
              </a:rPr>
              <a:t>.java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fi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Get translation and compilation errors on </a:t>
            </a:r>
            <a:r>
              <a:rPr b="1" lang="en-US" sz="2300" spc="-1" strike="noStrike">
                <a:solidFill>
                  <a:srgbClr val="ffffff"/>
                </a:solidFill>
                <a:latin typeface="Courier New"/>
                <a:ea typeface="Courier New"/>
              </a:rPr>
              <a:t>.sqlj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source fi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Instrument class files to support debugging of and runtime errors on </a:t>
            </a:r>
            <a:r>
              <a:rPr b="1" lang="en-US" sz="2300" spc="-1" strike="noStrike">
                <a:solidFill>
                  <a:srgbClr val="ffffff"/>
                </a:solidFill>
                <a:latin typeface="Courier New"/>
                <a:ea typeface="Courier New"/>
              </a:rPr>
              <a:t>.sqlj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sou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QLJ can adapt to your command-line JDE (JDK software is defau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J Implementatio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3808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ll Java technology  (JDK 1.1+ softwa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es Java Compiler Compiler (JavaCC) parser gen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mbeddable in IDE tools via call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Oracle’s JDeveloper 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JServer Java technology/SQLJ compi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Others ..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lug-in SQL checker, custom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Componen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JDBC technology-based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QL Check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Runtime implement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ustomization ut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 pretty pri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Runtime call audi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4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Deployment-time SQL check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 SQL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cle’s SQLJ translator is the same codebase as reference implementation, 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acle specific SQLChe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acle specific profile customizer and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 SQLJ (cont’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38080" y="152388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cle-specific che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rt Oracle-specific types/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different JDBC/DB versions (7.3, 8.0, 8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line checking uses DB SQ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cle-specific runtime / custo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rts Oracle-specific non-JDBC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ulates unsupported SQL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s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 SQLJ (cont’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re JDBC goes, SQLJ follow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-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DBC-OCI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n’ driver (all Java) for applets &amp; app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cle 8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J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sts SQLJ translator, Java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ores classes / source in 8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 stored programs, triggers, EJ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Developer IDE integrates SQLJ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836640" y="309600"/>
            <a:ext cx="81550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Reference Implementa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Reference Implementation provided by Oracle. Source code in public domain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ailable at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www.sqlj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t large installed base A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are “standard” code: Java programming language parsing and analysis, code generation, runtim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components for parts that are vendor-specific,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act syntax, easy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rly checking of static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Java, portable to any Java 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iza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uage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ic SQL execution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 for vendor-specific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red referenc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SQLJ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tor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Q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85800" y="2286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0bd04"/>
                </a:solidFill>
                <a:latin typeface="Arial"/>
                <a:ea typeface="Arial"/>
              </a:rPr>
              <a:t>The SQLJ Runti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Portability Standar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ore than traditional source por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oes for DBMS what Java technology does for 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arts of the binary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tandard runtime libr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tandard code gen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tandard description of SQL operations 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(SQLJ Profi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ed Objec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73080" y="2085840"/>
            <a:ext cx="13240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.sqlj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716040" y="2522520"/>
            <a:ext cx="1839960" cy="12636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#sql {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  INSERT…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71840" y="3143160"/>
            <a:ext cx="357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84600" y="3011400"/>
            <a:ext cx="2692440" cy="430200"/>
          </a:xfrm>
          <a:prstGeom prst="rect">
            <a:avLst/>
          </a:prstGeom>
          <a:solidFill>
            <a:srgbClr val="41414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Java Compi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613560" y="4287960"/>
            <a:ext cx="1725480" cy="114156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y0: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INSERT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421320" y="3860640"/>
            <a:ext cx="22003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Profile.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3143160"/>
            <a:ext cx="50004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357720" y="3143160"/>
            <a:ext cx="357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29000" y="3143160"/>
            <a:ext cx="0" cy="1714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29000" y="4857840"/>
            <a:ext cx="3214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14640" y="2085840"/>
            <a:ext cx="138924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.ja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714840" y="2522520"/>
            <a:ext cx="1555920" cy="12636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: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y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727680" y="2114640"/>
            <a:ext cx="158256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ug.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13560" y="2522520"/>
            <a:ext cx="1725480" cy="1120680"/>
          </a:xfrm>
          <a:prstGeom prst="round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86240" y="314316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800360" y="3011400"/>
            <a:ext cx="2690640" cy="430200"/>
          </a:xfrm>
          <a:prstGeom prst="rect">
            <a:avLst/>
          </a:prstGeom>
          <a:solidFill>
            <a:srgbClr val="41414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QLJ Transl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ed .java Fil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#sql statements replaced by sequence of standard calls to the SQLJ run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reate a statement ob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ind inputs (if an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xec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Fetch outputs (if an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573120" y="249120"/>
            <a:ext cx="7854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Bug.sqlj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174680" y="2109960"/>
            <a:ext cx="666900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String bug = “spider”; </a:t>
            </a:r>
            <a:br>
              <a:rPr sz="2300"/>
            </a:b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#sql {</a:t>
            </a:r>
            <a:br>
              <a:rPr sz="2300"/>
            </a:b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  INSERT INTO bugs (name, numLegs)</a:t>
            </a:r>
            <a:br>
              <a:rPr sz="2300"/>
            </a:b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    VALUES (:bug, :(getNumLegs(bug)))</a:t>
            </a:r>
            <a:br>
              <a:rPr sz="2300"/>
            </a:b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}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Bug.java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174680" y="2109960"/>
            <a:ext cx="7370640" cy="25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String bug = “spider”; </a:t>
            </a:r>
            <a:br>
              <a:rPr sz="2300"/>
            </a:b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RTStatement stmt = </a:t>
            </a:r>
            <a:br>
              <a:rPr sz="2300"/>
            </a:b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  defaultCtx.createStmt(“BugProfile”, 0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stmt.setString(1, bug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stmt.setInt(2, getNumLegs(bug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stmt.executeUpdate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9f2b5"/>
                </a:solidFill>
                <a:latin typeface="Courier New"/>
                <a:ea typeface="Courier New"/>
              </a:rPr>
              <a:t>stmt.close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ed Profile Fil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3948120"/>
            <a:ext cx="76201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ource file that describes the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QL operations in a SQLJ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erialized object or Class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tandard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782960" y="2092320"/>
            <a:ext cx="1717560" cy="133668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y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ara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91240" y="2619360"/>
            <a:ext cx="169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902280" y="2092320"/>
            <a:ext cx="1596960" cy="5508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Type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902280" y="2916360"/>
            <a:ext cx="1596960" cy="51264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Type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484520" y="2806560"/>
            <a:ext cx="331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86680" y="3143160"/>
            <a:ext cx="6426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603840" y="2806560"/>
            <a:ext cx="331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286680" y="2500200"/>
            <a:ext cx="642600" cy="3574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603840" y="2206800"/>
            <a:ext cx="331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498760" y="2092320"/>
            <a:ext cx="1859040" cy="133668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505240" y="2619360"/>
            <a:ext cx="1839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119480" y="3143160"/>
            <a:ext cx="6667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73120" y="2092320"/>
            <a:ext cx="1641600" cy="97956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9600" y="2619360"/>
            <a:ext cx="16239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28880" y="2843280"/>
            <a:ext cx="785880" cy="14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BugProfi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38080" y="18288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ntries (1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QLString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17520" indent="-243000">
              <a:lnSpc>
                <a:spcPct val="10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INSERT INTO bugs (name, numLegs) VALUES (?, ?)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95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Role: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95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xecutionType: EXECUTE_UPD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95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arameters (2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243000">
              <a:lnSpc>
                <a:spcPct val="105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JavaType: String, SQLType: VARCHAR, Mode: IN, Name: “bug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243000">
              <a:lnSpc>
                <a:spcPct val="105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JavaType: int, SQLType: INTEGER,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Mode: IN, Name: nu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time Call Stac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357280" y="2057400"/>
            <a:ext cx="4501080" cy="3962160"/>
            <a:chOff x="2357280" y="2057400"/>
            <a:chExt cx="4501080" cy="3962160"/>
          </a:xfrm>
        </p:grpSpPr>
        <p:sp>
          <p:nvSpPr>
            <p:cNvPr id="498" name=""/>
            <p:cNvSpPr/>
            <p:nvPr/>
          </p:nvSpPr>
          <p:spPr>
            <a:xfrm>
              <a:off x="2357280" y="2057400"/>
              <a:ext cx="4501080" cy="762480"/>
            </a:xfrm>
            <a:custGeom>
              <a:avLst/>
              <a:gdLst/>
              <a:ahLst/>
              <a:rect l="0" t="0" r="r" b="b"/>
              <a:pathLst>
                <a:path w="12503" h="2118">
                  <a:moveTo>
                    <a:pt x="0" y="2118"/>
                  </a:moveTo>
                  <a:lnTo>
                    <a:pt x="10003" y="2118"/>
                  </a:lnTo>
                  <a:lnTo>
                    <a:pt x="12503" y="1695"/>
                  </a:lnTo>
                  <a:lnTo>
                    <a:pt x="12503" y="0"/>
                  </a:lnTo>
                  <a:lnTo>
                    <a:pt x="10003" y="423"/>
                  </a:lnTo>
                  <a:lnTo>
                    <a:pt x="10003" y="2118"/>
                  </a:lnTo>
                  <a:lnTo>
                    <a:pt x="10003" y="423"/>
                  </a:lnTo>
                  <a:lnTo>
                    <a:pt x="0" y="423"/>
                  </a:lnTo>
                  <a:lnTo>
                    <a:pt x="2500" y="0"/>
                  </a:lnTo>
                  <a:lnTo>
                    <a:pt x="12503" y="0"/>
                  </a:lnTo>
                  <a:lnTo>
                    <a:pt x="2500" y="0"/>
                  </a:lnTo>
                  <a:lnTo>
                    <a:pt x="0" y="423"/>
                  </a:lnTo>
                  <a:lnTo>
                    <a:pt x="0" y="2118"/>
                  </a:lnTo>
                  <a:close/>
                </a:path>
              </a:pathLst>
            </a:cu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2448000" y="2286000"/>
              <a:ext cx="2428920" cy="457200"/>
            </a:xfrm>
            <a:prstGeom prst="rect">
              <a:avLst/>
            </a:prstGeom>
            <a:solidFill>
              <a:srgbClr val="414141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nerated C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5057640" y="2286000"/>
              <a:ext cx="1530360" cy="457200"/>
            </a:xfrm>
            <a:prstGeom prst="rect">
              <a:avLst/>
            </a:prstGeom>
            <a:solidFill>
              <a:srgbClr val="414141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f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2357280" y="3124080"/>
              <a:ext cx="2879640" cy="609480"/>
            </a:xfrm>
            <a:prstGeom prst="rect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ndard Run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27280" y="5638680"/>
              <a:ext cx="2160720" cy="380880"/>
            </a:xfrm>
            <a:prstGeom prst="ellipse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27280" y="5257800"/>
              <a:ext cx="2160720" cy="60948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4067280" y="547380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B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27280" y="5105520"/>
              <a:ext cx="2160720" cy="380880"/>
            </a:xfrm>
            <a:prstGeom prst="ellipse">
              <a:avLst/>
            </a:prstGeom>
            <a:solidFill>
              <a:srgbClr val="41414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2357280" y="4038480"/>
              <a:ext cx="4500720" cy="609480"/>
            </a:xfrm>
            <a:prstGeom prst="rect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untime Implem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0520" y="2743200"/>
              <a:ext cx="0" cy="4572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00520" y="3733920"/>
              <a:ext cx="0" cy="380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08360" y="4648320"/>
              <a:ext cx="0" cy="5331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823000" y="2743200"/>
              <a:ext cx="0" cy="13716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1752480"/>
            <a:ext cx="1523880" cy="1143000"/>
          </a:xfrm>
          <a:prstGeom prst="ellipse">
            <a:avLst/>
          </a:prstGeom>
          <a:solidFill>
            <a:srgbClr val="315fa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1752480"/>
            <a:ext cx="1523880" cy="1143000"/>
          </a:xfrm>
          <a:prstGeom prst="ellipse">
            <a:avLst/>
          </a:prstGeom>
          <a:solidFill>
            <a:srgbClr val="315fa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498760" y="2071800"/>
            <a:ext cx="1290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3200400"/>
            <a:ext cx="1523880" cy="1143000"/>
          </a:xfrm>
          <a:prstGeom prst="ellipse">
            <a:avLst/>
          </a:prstGeom>
          <a:solidFill>
            <a:srgbClr val="315fa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4724280"/>
            <a:ext cx="1523880" cy="1143000"/>
          </a:xfrm>
          <a:prstGeom prst="ellipse">
            <a:avLst/>
          </a:prstGeom>
          <a:solidFill>
            <a:srgbClr val="315fa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4726080"/>
            <a:ext cx="1523880" cy="1143000"/>
          </a:xfrm>
          <a:prstGeom prst="ellipse">
            <a:avLst/>
          </a:prstGeom>
          <a:solidFill>
            <a:srgbClr val="315fa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3203640"/>
            <a:ext cx="1523880" cy="1143000"/>
          </a:xfrm>
          <a:prstGeom prst="ellipse">
            <a:avLst/>
          </a:prstGeom>
          <a:solidFill>
            <a:srgbClr val="315fa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37040" y="2071800"/>
            <a:ext cx="8366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622840" y="3519360"/>
            <a:ext cx="158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for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79840" y="5043600"/>
            <a:ext cx="1666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498760" y="5043600"/>
            <a:ext cx="1430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55760" y="3519360"/>
            <a:ext cx="1606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200400"/>
            <a:ext cx="1600200" cy="1200240"/>
          </a:xfrm>
          <a:prstGeom prst="ellipse">
            <a:avLst/>
          </a:prstGeom>
          <a:solidFill>
            <a:srgbClr val="315fa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641760" y="3551400"/>
            <a:ext cx="1246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QL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819520"/>
            <a:ext cx="381240" cy="45720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648320" y="2819520"/>
            <a:ext cx="304560" cy="45720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29200" y="3809880"/>
            <a:ext cx="609480" cy="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648320" y="4343400"/>
            <a:ext cx="304560" cy="45720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581280" y="4343400"/>
            <a:ext cx="304920" cy="45720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533520" cy="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time Implementation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857680" y="1905120"/>
            <a:ext cx="3000240" cy="1447560"/>
            <a:chOff x="2857680" y="1905120"/>
            <a:chExt cx="3000240" cy="1447560"/>
          </a:xfrm>
        </p:grpSpPr>
        <p:sp>
          <p:nvSpPr>
            <p:cNvPr id="513" name=""/>
            <p:cNvSpPr txBox="1"/>
            <p:nvPr/>
          </p:nvSpPr>
          <p:spPr>
            <a:xfrm>
              <a:off x="2857680" y="2743200"/>
              <a:ext cx="3000240" cy="609480"/>
            </a:xfrm>
            <a:prstGeom prst="rect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ndard Run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56000" y="251460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2857680" y="1905120"/>
              <a:ext cx="3000240" cy="609480"/>
            </a:xfrm>
            <a:prstGeom prst="rect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QLJ 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857160" y="3357720"/>
            <a:ext cx="3110400" cy="2266560"/>
            <a:chOff x="857160" y="3357720"/>
            <a:chExt cx="3110400" cy="2266560"/>
          </a:xfrm>
        </p:grpSpPr>
        <p:sp>
          <p:nvSpPr>
            <p:cNvPr id="517" name=""/>
            <p:cNvSpPr/>
            <p:nvPr/>
          </p:nvSpPr>
          <p:spPr>
            <a:xfrm>
              <a:off x="895320" y="5243400"/>
              <a:ext cx="1828800" cy="380880"/>
            </a:xfrm>
            <a:prstGeom prst="ellipse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95320" y="4862520"/>
              <a:ext cx="1828800" cy="609480"/>
            </a:xfrm>
            <a:prstGeom prst="rect">
              <a:avLst/>
            </a:prstGeom>
            <a:solidFill>
              <a:srgbClr val="315f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1270080" y="507852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B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95320" y="4710240"/>
              <a:ext cx="1828800" cy="380880"/>
            </a:xfrm>
            <a:prstGeom prst="ellipse">
              <a:avLst/>
            </a:prstGeom>
            <a:solidFill>
              <a:srgbClr val="41414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38440" y="4324320"/>
              <a:ext cx="0" cy="53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857160" y="3786120"/>
              <a:ext cx="1905120" cy="609480"/>
            </a:xfrm>
            <a:prstGeom prst="rect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JD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16120" y="3357720"/>
              <a:ext cx="2251440" cy="466920"/>
            </a:xfrm>
            <a:custGeom>
              <a:avLst/>
              <a:gdLst/>
              <a:ahLst/>
              <a:rect l="0" t="0" r="r" b="b"/>
              <a:pathLst>
                <a:path fill="none" w="6254" h="1297">
                  <a:moveTo>
                    <a:pt x="6254" y="0"/>
                  </a:moveTo>
                  <a:lnTo>
                    <a:pt x="6254" y="432"/>
                  </a:lnTo>
                  <a:lnTo>
                    <a:pt x="0" y="432"/>
                  </a:lnTo>
                  <a:lnTo>
                    <a:pt x="0" y="1297"/>
                  </a:lnTo>
                </a:path>
              </a:pathLst>
            </a:custGeom>
            <a:ln w="255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000240" y="3352680"/>
            <a:ext cx="2643120" cy="2747880"/>
            <a:chOff x="3000240" y="3352680"/>
            <a:chExt cx="2643120" cy="2747880"/>
          </a:xfrm>
        </p:grpSpPr>
        <p:sp>
          <p:nvSpPr>
            <p:cNvPr id="525" name=""/>
            <p:cNvSpPr/>
            <p:nvPr/>
          </p:nvSpPr>
          <p:spPr>
            <a:xfrm>
              <a:off x="3471840" y="5719680"/>
              <a:ext cx="1828800" cy="380880"/>
            </a:xfrm>
            <a:prstGeom prst="ellipse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71840" y="5338800"/>
              <a:ext cx="1828800" cy="60948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3819600" y="5554800"/>
              <a:ext cx="1133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71840" y="5186520"/>
              <a:ext cx="1828800" cy="380880"/>
            </a:xfrm>
            <a:prstGeom prst="ellipse">
              <a:avLst/>
            </a:prstGeom>
            <a:solidFill>
              <a:srgbClr val="41414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6240" y="4800600"/>
              <a:ext cx="0" cy="53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000240" y="3809880"/>
              <a:ext cx="2643120" cy="1067040"/>
              <a:chOff x="3000240" y="3809880"/>
              <a:chExt cx="2643120" cy="1067040"/>
            </a:xfrm>
          </p:grpSpPr>
          <p:sp>
            <p:nvSpPr>
              <p:cNvPr id="531" name=""/>
              <p:cNvSpPr txBox="1"/>
              <p:nvPr/>
            </p:nvSpPr>
            <p:spPr>
              <a:xfrm>
                <a:off x="3000240" y="3809880"/>
                <a:ext cx="2643120" cy="1066680"/>
              </a:xfrm>
              <a:prstGeom prst="rect">
                <a:avLst/>
              </a:prstGeom>
              <a:solidFill>
                <a:srgbClr val="009688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xtended JDBC</a:t>
                </a:r>
                <a:br>
                  <a:rPr sz="1800"/>
                </a:b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3000240" y="4419720"/>
                <a:ext cx="2027160" cy="457200"/>
              </a:xfrm>
              <a:prstGeom prst="rect">
                <a:avLst/>
              </a:prstGeom>
              <a:solidFill>
                <a:srgbClr val="315fa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JDB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4348080" y="3352680"/>
              <a:ext cx="0" cy="4953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653000" y="3357720"/>
            <a:ext cx="3703320" cy="2266560"/>
            <a:chOff x="4653000" y="3357720"/>
            <a:chExt cx="3703320" cy="2266560"/>
          </a:xfrm>
        </p:grpSpPr>
        <p:sp>
          <p:nvSpPr>
            <p:cNvPr id="535" name=""/>
            <p:cNvSpPr/>
            <p:nvPr/>
          </p:nvSpPr>
          <p:spPr>
            <a:xfrm>
              <a:off x="6197760" y="5243400"/>
              <a:ext cx="1828800" cy="38088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97760" y="4862520"/>
              <a:ext cx="1828800" cy="609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6394320" y="5078520"/>
              <a:ext cx="143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BM D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97760" y="4710240"/>
              <a:ext cx="1828800" cy="380880"/>
            </a:xfrm>
            <a:prstGeom prst="ellipse">
              <a:avLst/>
            </a:prstGeom>
            <a:solidFill>
              <a:srgbClr val="41414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12160" y="4324320"/>
              <a:ext cx="0" cy="53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5867280" y="3786120"/>
              <a:ext cx="2489040" cy="60948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iled SQ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53000" y="3357720"/>
              <a:ext cx="2418120" cy="466920"/>
            </a:xfrm>
            <a:custGeom>
              <a:avLst/>
              <a:gdLst/>
              <a:ahLst/>
              <a:rect l="0" t="0" r="r" b="b"/>
              <a:pathLst>
                <a:path fill="none" w="6717" h="1297">
                  <a:moveTo>
                    <a:pt x="0" y="0"/>
                  </a:moveTo>
                  <a:lnTo>
                    <a:pt x="0" y="432"/>
                  </a:lnTo>
                  <a:lnTo>
                    <a:pt x="6717" y="432"/>
                  </a:lnTo>
                  <a:lnTo>
                    <a:pt x="6717" y="1297"/>
                  </a:lnTo>
                </a:path>
              </a:pathLst>
            </a:custGeom>
            <a:ln w="255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Customiza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Vendor specific (AKA “customization”) data installed into SQLJ pro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ustomization data available at run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355760" y="4770360"/>
            <a:ext cx="17136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782960" y="3807000"/>
            <a:ext cx="1717560" cy="133668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y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ara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791240" y="4334040"/>
            <a:ext cx="169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902280" y="3807000"/>
            <a:ext cx="1596960" cy="5508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Type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902280" y="4630680"/>
            <a:ext cx="1596960" cy="51264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Type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484520" y="4521240"/>
            <a:ext cx="331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286680" y="4857840"/>
            <a:ext cx="6426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603840" y="4521240"/>
            <a:ext cx="331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286680" y="4214880"/>
            <a:ext cx="642600" cy="35712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603840" y="3921120"/>
            <a:ext cx="331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2498760" y="3807000"/>
            <a:ext cx="1859040" cy="133668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nt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505240" y="4334040"/>
            <a:ext cx="1839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119480" y="4857840"/>
            <a:ext cx="6667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73120" y="3807000"/>
            <a:ext cx="1641600" cy="133668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1040" y="4334040"/>
            <a:ext cx="16239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28880" y="4557600"/>
            <a:ext cx="785880" cy="14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898560" y="4643280"/>
            <a:ext cx="6243840" cy="1438560"/>
            <a:chOff x="898560" y="4643280"/>
            <a:chExt cx="6243840" cy="1438560"/>
          </a:xfrm>
        </p:grpSpPr>
        <p:sp>
          <p:nvSpPr>
            <p:cNvPr id="561" name=""/>
            <p:cNvSpPr/>
            <p:nvPr/>
          </p:nvSpPr>
          <p:spPr>
            <a:xfrm>
              <a:off x="2521080" y="5473800"/>
              <a:ext cx="4621320" cy="608040"/>
            </a:xfrm>
            <a:prstGeom prst="roundRect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2365200" y="5160960"/>
              <a:ext cx="285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30320" y="4857840"/>
              <a:ext cx="569880" cy="714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>
              <a:off x="898560" y="464328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u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 txBox="1"/>
          <p:nvPr/>
        </p:nvSpPr>
        <p:spPr>
          <a:xfrm>
            <a:off x="2673360" y="5549760"/>
            <a:ext cx="1398600" cy="455760"/>
          </a:xfrm>
          <a:prstGeom prst="rect">
            <a:avLst/>
          </a:prstGeom>
          <a:solidFill>
            <a:srgbClr val="009688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Orac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211640" y="5549760"/>
            <a:ext cx="1360440" cy="455760"/>
          </a:xfrm>
          <a:prstGeom prst="rect">
            <a:avLst/>
          </a:prstGeom>
          <a:solidFill>
            <a:srgbClr val="cc9900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IB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678640" y="5549760"/>
            <a:ext cx="1322280" cy="455760"/>
          </a:xfrm>
          <a:prstGeom prst="rect">
            <a:avLst/>
          </a:prstGeom>
          <a:solidFill>
            <a:srgbClr val="41414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Customiz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ile Custo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talls customization into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be used at compile and/or deplo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stomizer ha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invoking profile custom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efault profile customizer is used by SQLJ trans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time Performanc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hy not standardize on JDB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tatic vs. dynamic SQL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ecution performance tuned according to static SQL characteristics in pro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uning can be done at “deployment-tim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Work moved from runtime to deploy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May use online conn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May require additional persistent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ation Step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4120" y="2819520"/>
            <a:ext cx="1805040" cy="1324080"/>
          </a:xfrm>
          <a:prstGeom prst="round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8240" y="2438280"/>
            <a:ext cx="17938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0.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595520" y="2387520"/>
            <a:ext cx="3900600" cy="1756080"/>
            <a:chOff x="1595520" y="2387520"/>
            <a:chExt cx="3900600" cy="1756080"/>
          </a:xfrm>
        </p:grpSpPr>
        <p:sp>
          <p:nvSpPr>
            <p:cNvPr id="576" name=""/>
            <p:cNvSpPr/>
            <p:nvPr/>
          </p:nvSpPr>
          <p:spPr>
            <a:xfrm>
              <a:off x="3214800" y="3429000"/>
              <a:ext cx="4284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83080" y="2819520"/>
              <a:ext cx="1805040" cy="1324080"/>
            </a:xfrm>
            <a:prstGeom prst="roundRect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3618000" y="2387520"/>
              <a:ext cx="1878120" cy="49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file0.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3730680" y="2971800"/>
              <a:ext cx="1508040" cy="457200"/>
            </a:xfrm>
            <a:prstGeom prst="rect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Cu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1595520" y="3265560"/>
              <a:ext cx="2927520" cy="398520"/>
            </a:xfrm>
            <a:prstGeom prst="rect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 Customi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28920" y="3429000"/>
              <a:ext cx="42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513320" y="2382840"/>
            <a:ext cx="3973680" cy="3808440"/>
            <a:chOff x="4513320" y="2382840"/>
            <a:chExt cx="3973680" cy="3808440"/>
          </a:xfrm>
        </p:grpSpPr>
        <p:sp>
          <p:nvSpPr>
            <p:cNvPr id="583" name=""/>
            <p:cNvSpPr/>
            <p:nvPr/>
          </p:nvSpPr>
          <p:spPr>
            <a:xfrm>
              <a:off x="6072120" y="3429000"/>
              <a:ext cx="500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4513320" y="3263760"/>
              <a:ext cx="2928960" cy="39996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BM Customi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62680" y="5810400"/>
              <a:ext cx="1828800" cy="38088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62680" y="5429160"/>
              <a:ext cx="1828800" cy="609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5437080" y="564516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B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62680" y="5276880"/>
              <a:ext cx="1828800" cy="380880"/>
            </a:xfrm>
            <a:prstGeom prst="ellipse">
              <a:avLst/>
            </a:prstGeom>
            <a:solidFill>
              <a:srgbClr val="41414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77080" y="4929120"/>
              <a:ext cx="0" cy="428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81880" y="2819520"/>
              <a:ext cx="1805040" cy="1324080"/>
            </a:xfrm>
            <a:prstGeom prst="roundRect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6608880" y="2382840"/>
              <a:ext cx="1878120" cy="49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file0.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6729480" y="2971800"/>
              <a:ext cx="1508040" cy="457200"/>
            </a:xfrm>
            <a:prstGeom prst="rect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Cu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6729480" y="3576600"/>
              <a:ext cx="1508040" cy="42372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B2 Cu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57880" y="3429000"/>
              <a:ext cx="4284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1073160" y="3298680"/>
            <a:ext cx="1836720" cy="91440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ation Selec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838080" y="182880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t runtime, connection is used to select a matching customization, which installs a matching runtime implementatio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729400" y="4670280"/>
            <a:ext cx="2055960" cy="914400"/>
          </a:xfrm>
          <a:prstGeom prst="rect">
            <a:avLst/>
          </a:prstGeom>
          <a:solidFill>
            <a:srgbClr val="009688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onnected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rofi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62160" y="4518000"/>
            <a:ext cx="2286000" cy="914400"/>
          </a:xfrm>
          <a:prstGeom prst="roundRect">
            <a:avLst/>
          </a:prstGeom>
          <a:solidFill>
            <a:srgbClr val="414141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09880" y="3757680"/>
            <a:ext cx="1211760" cy="883080"/>
          </a:xfrm>
          <a:custGeom>
            <a:avLst/>
            <a:gdLst/>
            <a:ahLst/>
            <a:rect l="0" t="0" r="r" b="b"/>
            <a:pathLst>
              <a:path fill="none" w="3366" h="2453">
                <a:moveTo>
                  <a:pt x="3366" y="2453"/>
                </a:moveTo>
                <a:lnTo>
                  <a:pt x="3366" y="2453"/>
                </a:lnTo>
                <a:lnTo>
                  <a:pt x="3366" y="2453"/>
                </a:lnTo>
                <a:cubicBezTo>
                  <a:pt x="3366" y="2022"/>
                  <a:pt x="3210" y="1599"/>
                  <a:pt x="2915" y="1226"/>
                </a:cubicBezTo>
                <a:cubicBezTo>
                  <a:pt x="2620" y="854"/>
                  <a:pt x="2195" y="544"/>
                  <a:pt x="1683" y="329"/>
                </a:cubicBezTo>
                <a:cubicBezTo>
                  <a:pt x="1171" y="113"/>
                  <a:pt x="591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09880" y="4670280"/>
            <a:ext cx="2286000" cy="914400"/>
          </a:xfrm>
          <a:prstGeom prst="roundRect">
            <a:avLst/>
          </a:prstGeom>
          <a:solidFill>
            <a:srgbClr val="009688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757600" y="4822920"/>
            <a:ext cx="228600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ffffff"/>
            </a:solidFill>
            <a:round/>
          </a:ln>
          <a:effectLst>
            <a:outerShdw dist="0" dir="0" blurRad="0" rotWithShape="0">
              <a:srgbClr val="414141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ustom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95880" y="512928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290760" y="3500280"/>
            <a:ext cx="1924200" cy="714240"/>
          </a:xfrm>
          <a:prstGeom prst="rect">
            <a:avLst/>
          </a:prstGeom>
          <a:solidFill>
            <a:srgbClr val="009688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onn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file customization also allows standard way to extend SQL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at run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at deployment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ustomization object is able to specify exactly what gets executed and h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time Extensibilit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113360" y="2057400"/>
            <a:ext cx="4105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amp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5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Bind expression 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type extensions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Debug call tracing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Y2K bug fi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19120" y="5829480"/>
            <a:ext cx="1828800" cy="380880"/>
          </a:xfrm>
          <a:prstGeom prst="ellipse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19120" y="5448240"/>
            <a:ext cx="1828800" cy="609480"/>
          </a:xfrm>
          <a:prstGeom prst="rect">
            <a:avLst/>
          </a:prstGeom>
          <a:solidFill>
            <a:srgbClr val="315fa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811160" y="5675400"/>
            <a:ext cx="104472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DB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19120" y="5295960"/>
            <a:ext cx="1828800" cy="380880"/>
          </a:xfrm>
          <a:prstGeom prst="ellipse">
            <a:avLst/>
          </a:prstGeom>
          <a:solidFill>
            <a:srgbClr val="414141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333520" y="495288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287360" y="4381560"/>
            <a:ext cx="2070000" cy="609480"/>
          </a:xfrm>
          <a:prstGeom prst="rect">
            <a:avLst/>
          </a:prstGeom>
          <a:solidFill>
            <a:srgbClr val="315fa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JDB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287360" y="3848040"/>
            <a:ext cx="2070000" cy="609480"/>
          </a:xfrm>
          <a:prstGeom prst="rect">
            <a:avLst/>
          </a:prstGeom>
          <a:solidFill>
            <a:srgbClr val="009688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all Audi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333520" y="342900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58960" y="2057400"/>
            <a:ext cx="2927520" cy="1447560"/>
            <a:chOff x="858960" y="2057400"/>
            <a:chExt cx="2927520" cy="1447560"/>
          </a:xfrm>
        </p:grpSpPr>
        <p:sp>
          <p:nvSpPr>
            <p:cNvPr id="618" name=""/>
            <p:cNvSpPr txBox="1"/>
            <p:nvPr/>
          </p:nvSpPr>
          <p:spPr>
            <a:xfrm>
              <a:off x="858960" y="2895480"/>
              <a:ext cx="2927520" cy="609480"/>
            </a:xfrm>
            <a:prstGeom prst="rect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ndard Run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24160" y="266688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858960" y="2057400"/>
              <a:ext cx="2927520" cy="609480"/>
            </a:xfrm>
            <a:prstGeom prst="rect">
              <a:avLst/>
            </a:prstGeom>
            <a:solidFill>
              <a:srgbClr val="315fa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QLJ 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oy-time Extensibilit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define characteristics of the SQL statements to exec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e same runtime engine, but execute using modified 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Map standard SQL into dialect of DB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Define new SQL statements, clauses and shortha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Orac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38080" y="152388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tended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ROWID, Ref CURSOR, LOBs, Native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Object, Ref, Array, Custom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tended 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SM-style assignment statement (SE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PL/SQ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ement c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ML b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umn and parameter de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3880" y="49528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translator tool: On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2743200"/>
            <a:ext cx="1752480" cy="1295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74880" y="3138480"/>
            <a:ext cx="1765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2743200"/>
            <a:ext cx="1752480" cy="1295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2743200"/>
            <a:ext cx="1828800" cy="1295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6680" y="3138480"/>
            <a:ext cx="158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613560" y="3138480"/>
            <a:ext cx="198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sto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3429000"/>
            <a:ext cx="1066680" cy="0"/>
          </a:xfrm>
          <a:prstGeom prst="line">
            <a:avLst/>
          </a:prstGeom>
          <a:ln w="127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3360" rIns="153360" tIns="-108360" bIns="-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3429000"/>
            <a:ext cx="1143000" cy="0"/>
          </a:xfrm>
          <a:prstGeom prst="line">
            <a:avLst/>
          </a:prstGeom>
          <a:ln w="127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3360" rIns="153360" tIns="-108360" bIns="-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Success Stori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ll DBMS Vendors: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hared reference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92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time auditor, deploy-time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racle: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JServer, Oracle 8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Li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BM, Compaq: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mpiled SQL runtime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3rd Party: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QL debugging and optim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838080" y="30960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oes for DBMS what Java technology does for 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BMS industry 1st for shared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pens the SQL engine to value added by vendors, 3rd parties, and end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llows for unanticipated improvements without the need for source recompi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Java Stor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Objects in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57200" y="1600200"/>
            <a:ext cx="83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0bd04"/>
                </a:solidFill>
                <a:latin typeface="Arial"/>
                <a:ea typeface="Arial"/>
              </a:rPr>
              <a:t>Java Stored Programs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f0bd04"/>
                </a:solidFill>
                <a:latin typeface="Arial"/>
                <a:ea typeface="Arial"/>
              </a:rPr>
              <a:t>SQLJ Part 1:</a:t>
            </a:r>
            <a:br>
              <a:rPr sz="3800"/>
            </a:br>
            <a:r>
              <a:rPr b="1" lang="en-US" sz="3800" spc="-1" strike="noStrike">
                <a:solidFill>
                  <a:srgbClr val="f0bd04"/>
                </a:solidFill>
                <a:latin typeface="Arial"/>
                <a:ea typeface="Arial"/>
              </a:rPr>
              <a:t>Java Methods as SQL Proced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838080" y="311040"/>
            <a:ext cx="784872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J Part 1: Java Methods as SQL Proced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Java static methods can implement SQL stored procedures and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rtable procedural language for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ame capability as SQL stored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ployable across t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allable as a SQL stored procedure, and directly from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e JDBC/SQLJ to access 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83808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, compile, and jar Java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ad Java class jar in database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qlj.install_jar('file:x.jar', 'x_jar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t database “classpath”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qlj.alter_java_pa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(‘x_jar’, ‘(a/*,a_jar)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fine SQL names for Java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oke Java Store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oyment Descrip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s a text file located in the ja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ntains creates / grants for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install_j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ntains drops / revokes for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remove_j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7164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EGIN INSTA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QL create and grant statemen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to be executed when jar is installe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INSTA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EGIN REMO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QL drop and revoke statemen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to be executed when jar is remove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REMO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838080" y="167652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n client OS: CLASSPATH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 Server DB: path mechanism on j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qlj.alter_java_path (‘x_jar’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‘(a/*,  a_jar)  (*, public_jar)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f class is not resolvable in the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x_j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its name is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.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hen use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_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wise use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_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62120" y="160020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class BugFns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tatic String fam(String bug, int legs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throws SQL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legs == 8 ) return “Arachnid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legs &gt;= 20) return “Centipede fam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sql { select fam_name into :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from lookup_tab where name=:bug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 paramet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QL has OUT and IN OUT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e Java one-element arrays as 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tatic inv(byte[][] picHo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 byte[] pic = picHolder[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(int i=0; i&lt;pic.length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ic[i] = pic[i] ^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08080" y="2008080"/>
            <a:ext cx="73566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is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ongly typed iterators and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tax/Semantics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beddable (IDE, ser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DBC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nary 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9688"/>
              </a:buClr>
              <a:buSzPct val="110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tic SQ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names for Java metho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8380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QL create procedure/funct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function FAMILY(name CHAR(20)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legs INTEGER) returns VARCHA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s sql dat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xternal name 'x_jar:BugFns.fam'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language java parameter style ja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procedure INVER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(pic IN OUT RAW(2000)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o sql external name 'x_jar:BugFns.inv'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language java parameter style ja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names for Java methods (cont’d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hy use SQL nam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ultiple creates on same Java metho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Java names have different syntax:  case-sensitive, package names, Unicode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QL metadata and per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rant execute on FAMILY to 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thods run with "definer's right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age privilege grantable on installed j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7164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rant usage on x_jar to 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names for Java methods (cont’d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an specify full Java signature to resolve overloading - otherwise default SQL-&gt;Java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he Java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main(String[]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method is special.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an be mapped by SQL stored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0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1(CH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2(CHAR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ing Stored Program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33520" y="1692360"/>
            <a:ext cx="830412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iterator FIter(String fam);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br>
              <a:rPr sz="18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er iter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iter = {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lect FAMILY(name, numlegs) as fa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rom bugs }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iter.next()) {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n(iter.fam());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720"/>
              </a:spcBef>
              <a:buClr>
                <a:srgbClr val="9900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yte[] pic = …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#sql { CALL INVERT(:INOUT pic)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-Channel Result se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838080" y="167652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pened in SQL stored proced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re neither parameters nor function resul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procedur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must specifi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7164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ynamic result sets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 Java signature, result set/iterator must be given as if it were an OUT, e.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7164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p(int x, ResultSet[] 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ult sets are returned to caller’s stmt. handle in order in which they were ope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ceptions thrown and caught within an Java stored procedure are internal to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ncaught become SQLSTATE error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he message text of the SQLSTATE is the string specified in the Java th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J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va Stor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Java SQ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685800" y="22096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0bd04"/>
                </a:solidFill>
                <a:latin typeface="Arial"/>
                <a:ea typeface="Arial"/>
              </a:rPr>
              <a:t>Java SQL Types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f0bd04"/>
                </a:solidFill>
                <a:latin typeface="Arial"/>
                <a:ea typeface="Arial"/>
              </a:rPr>
              <a:t>SQLJ Part 2:</a:t>
            </a:r>
            <a:br>
              <a:rPr sz="3800"/>
            </a:br>
            <a:r>
              <a:rPr b="1" lang="en-US" sz="3800" spc="-1" strike="noStrike">
                <a:solidFill>
                  <a:srgbClr val="f0bd04"/>
                </a:solidFill>
                <a:latin typeface="Arial"/>
                <a:ea typeface="Arial"/>
              </a:rPr>
              <a:t>Java Classes as SQL Type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6613560"/>
            <a:ext cx="19051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838080" y="311040"/>
            <a:ext cx="784872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J Part 2: Java classes as SQL typ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columns of SQL tables and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parameters of SQL 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QL type extension mechanism as a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ernative / supplement to SQL99 AD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 support for Java objects in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class  Address  {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tring street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tring zi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Address() {…}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Address(String s,String z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{…}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tring toString() {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alyst Day</dc:creator>
  <dc:description/>
  <dc:language>en-US</dc:language>
  <cp:lastModifiedBy>Analyst Day</cp:lastModifiedBy>
  <cp:revision>0</cp:revision>
  <dc:subject/>
  <dc:title>Jerry Held</dc:title>
</cp:coreProperties>
</file>