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F2F-E66A-494E-AFAD-2BD8AD3E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24F-A839-447B-BC41-3A7A753C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457-D74A-4E37-ACDA-EE1CE653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3CB-C423-4CD3-A25B-B3A3BBD4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6175-75F7-4733-96D5-E95E1923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1E2A-970E-4812-82E7-C6EFE3C5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C6CB-414D-4644-B611-BFA440D0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6DFF-DB68-4FC0-BC3B-A0CBB449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2FC5-F277-4416-A660-3F27FA42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39F9-777F-4266-9038-2CCD96D7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35DD-2F89-4D58-9E73-6F6A4FFF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0A7-EB93-44DF-BD68-B6E32197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0EB7-B035-413D-B9FE-1E57E3B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9351-D6C0-4A53-AE42-E111BBD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F4F3-1EE5-446E-A9A8-C81B8CBB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3D5-8CFC-4DAB-A2B2-6624CF7D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43B8-BC4C-4616-B021-684A2CE8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FA7-E278-4C90-9E2A-F02A8295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91E-12B8-4FA6-B6A7-37E208AD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567-2D88-43E0-B7E4-86E92C34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CCF-BDC5-4AB1-B9D9-F45A4591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7B5-B4F7-4E3E-B277-E234A4B4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7F3-61C1-4DB7-9238-AA778DE3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424-B75A-4BFC-96FE-0708E9D9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34AC-3B57-4CE1-B80F-B4545E1E591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C8B6-72D1-4B30-8B0B-0C9A945C229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IGHT WEIGHT DIRE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CESS PROTOC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BY  ALAKESH APURVA  DHAN AND  A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  PROTOCOL  OPER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ROGATION  OPERATION :         SEARCH  ,  COMPA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DELETE  OPERATOIN :                  ADD , DELETE ,  MODIFY , MODIFY D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ENTICATION AND  CONTROL OPERATION :                                            BIND ,  UNBIND , ABAND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  INFORMATION MOD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  UNIT  IS   ENTRY  ( A COLLECTION  OF  INFORMATION ABOUT  AN  OBJECT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NTRY IS   COMPOSED  OF A SET  OF ATTRIIBU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IF   STANDS  FOR  LDAP  DATA  INTERCHANGE  FORM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ORY ENTRIES IN LDAP ARE IN THE FORM OF   LDIF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IF 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  FORM OF  LDIF  :                        #COMMENT                                              DN: &lt;DISTINGUSHED NAME&gt;           &lt;ATTRDESC&gt;: &lt;ATTRVALUE&gt;         &lt;ATTRDESC&gt;: &lt;ATTRVALUE&gt;           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: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: UID=ALAKESH  DC=IIT DC=EDU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DDITION TO  BEING A NETWORK PROTOCOL IT ALSO DEFINES FOUR MOD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   INFORMATION MODEL :      DEFINES   THE  KIND OF DATA U P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 NAMING  MODEL :   HOW U  ORGANISE AND REFER TO DIRECTORY INFORM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IF 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 STARTING  WITH  # ARE  CONSIDERED TO BE COM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THER   ATTRIBUTES  ARE WRITTEN IN   &lt;ATTRDESC &gt; = &lt;VALUE&gt;  FOR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IF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 ENTRY IS  UNIQUELY   IDENTIFIED  BY A DISTINIGUISHED  NAME OR  DN    .  THE  DN  CONSISTS  OF   THE  NAME OF THE ENTRY   PLUS A  PATH IN THE  DIRECTORY  TREE   TRACING BACK TO THE   TOP OF THE DIRECTORY HIERARC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CLASS  DEFINES THE CLASS OF THE ATTRIBUTES THAT  CAN  BE USED   TO DEFINE  AN ENT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ORY  DATA  IS  REPRESENTED AS  ATTRIBUTE-VALUE  PAI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ANY  SPECIFIC  PIECE  OF   INFORMATION  IS ASSOSICATED  WITH  A DESCRIPTIVE   ATTRIBU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  CONFIGUR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 CONFIGURATION  FILE   SLAPD.OC.CONF  CONTAINS THE DEFINITION  OF ALL THE OBJECT CLAS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TRIBUTES OF THE OBJECT CLASSES ARE  DEFINED IN  SLAPD.AT.CONF  FI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  CONFIGUR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  OBJECT CLASS HAS  REQUIRED AND ALLOWED  ATTRIBU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D ATTRIBUTES  MUST BE PRESENT  WHILE  ALLOWED  ARE  OPT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IS LDA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 IS LIGHT WEIGH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FFICIENT  STRAIGHT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 IMPLEMENT AS AGAINST X.500 DAP  WHICH IS  HEAVY WEIGH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  CONFIGUR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 ATTRIBUTE HAS  CORRESPONDING   SYNTAX  DEFINI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  ACCESS  CONTR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  TO &lt;WHAT&gt; [ BY  &lt;WHO&gt; &lt;ACCESS LEVEL&gt; &lt;CONTROL&gt; 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 DIRECTIVE  GRANTS  ACCESS  TO A SET  OF   ENTRIES/ATTRIBUTES BY  ONE  OR  MORE REQUES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: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  TO *  BY *  REA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 ACCESS  CONTR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OVE  DIRECTIVE GIVES  READ PERMISSION TO  EVERYO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   TO DN=“ . *  , C=INDIA”  BY  *  SEARCH     GIVES  SEARCHING PERMS  TO  ENTRIES UNDER C=INDIA SUBTRE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AD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LDAP   PACKAGE  COMES WITH  SHELL  EXECUTABLE  NAMED  LDAPADD   USED TO ADD ENTRIES  TO THE   DATABASE  WHILE LDAP SERVER IS  RUN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  SYNTAX  IS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ADD  -F &lt;DATAFILE&gt; -D  &lt;DN&gt;    -w  &lt;PASSWD&gt;  / -W ( IF PASSWORD IS TO BE PROMPTED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DELETE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 SHELL  EXECUTABLE FOR DELETING E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 SYNTAX IS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DELETE  ‘CN=HI,O=IITB,C=INDIA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MODIF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 ANOTHER  SHELL  EXECUTABLE TO MODIFY  DATA IN THE DIRECTORY  DATA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 SIMILAR SYNTAX TO LDAPAD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SEARCH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LL  ACCESSIBLE  INTERFACE TO LDAP_SEARCH() C  ROUT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SEARCH  OPENS CONNECTION TO  THE  LDAPSERVER  PERFORMS SEARCH  WHICH  FOLLOWS FILTERING  RULES  DEFINED IN  RFC155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SEAR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 EXAMPLE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SEARCH -B “C=INDIA” “O=IITB” IF  *  IS  ALLOWED READ ACCESS   BY  DEFAULT THE      O=IITB WILL BE RETUR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B  OPTION SEARCHES FOR THE SEARCH  B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 AND  JAVA CONNECTIV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 EXISTS A   PACKAGE  CALLED  JNDI    (  JAVA  NAMING AND   DIRECTORY  INTERFACE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  CONTAINS  API S  NEEDED TO CONNECT  LDAP SERVER  RETRIEVE INFORM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JNDI  EXAMP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ypical  code  WRITTEN  USING  JNDI  TO DO  LDAP SEAR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ll  be   like  this …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  java.util.Hashable 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 java.util.Enumeration 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 javax.naming.*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 javax.naming.directory.*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 Search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blic  static  void  main(String[] args)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shtable  env = new  Hashtable(5 , 0.75f)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v.put(Context.INITIAL_CONTEXT_FACTORY,Env.INITCTX)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v.put(Context.PROVIDER_URL , Env.MY_SERVICE )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ORY BECAUSE  DATA  IS  ORGANISED  IN THE FORM OF  TREE  MUCH  LIKE UNIX  FIL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 SIMPLIFIED SET OF  ENCOD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S DIRECTLY ABOVE TCP/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STRING TO REPRESENT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ldap servers are optimized for read-intensive operations.Thus, one can see an order of magnitude difference when reading data from an ldap directory versus obtaining the same data from a relational database server optimized for OLT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of this optimization , however , most LDAP directories are not suited for storing data where changes are frequ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y Ldap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  SECURITY MODEL : DEFINES HOW INFORMATION CAN BE  PROTECTED FROM UNAUTHORISED ACC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  AP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 SEVERAL  LDAP API      APPLICATION  PROGRAMMING  INTERFACE    OLDEST ONES WRITTEN IN  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A DAYS LDAP API S  ARE  AVAILABLE IN  OTHER  PROGRAMMING  LANGUAGES LIKE  PERL  JA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LDAP  WORK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  DIRECTORY  SERVICE IS BASED  ON  CLIENT SERVER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  IS A MESSAGE  ORIENTED PROTOC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ENT  CONSTRUCTS  AN  LDAP MESSAGE  CONTAINING A REQUEST AND SENDS IT TO THE SERV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LDAP WOR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R  PROCESSES  THE  REQUEST AND  SENDS IT BACK TO THE CLIENT IN THE FORM OF  LDAP MESS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DAP BACKEN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 DAEMON PROCESS  THAT RUNS ON THE  LDAP SERVER  CALLED  SLAPD  COMES WITH  THREE  DIFFERENT  BACKEND  DATABA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SSUME THAT  IN OUR CASE WE USE  LDBM  THE MOST USED 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 LDAP  WORK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AP  DATABASE  WORKS BY ADDING A COMPACT  FOUR BYTE  UNIQUE  IDENTIFI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X  FILES ARE MAINTAINED FOR REFERRING  TO DAT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20:36:10Z</dcterms:created>
  <dc:creator>alakesh</dc:creator>
  <dc:description/>
  <dc:language>en-US</dc:language>
  <cp:lastModifiedBy>alakesh</cp:lastModifiedBy>
  <dcterms:modified xsi:type="dcterms:W3CDTF">2000-10-13T07:39:34Z</dcterms:modified>
  <cp:revision>8</cp:revision>
  <dc:subject/>
  <dc:title>LDAP LIGHT WEIGHT DIRECTORY  ACCESS PROTOCOL</dc:title>
</cp:coreProperties>
</file>