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4BF-7B2B-4E70-B3A6-6D67ED9C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598-3948-4B35-BD1E-4B17AC5F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A4D-C101-4ED2-BD18-8F7E0E82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FA3-D5CB-4023-8D44-C50CB1CA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3E88-9DA7-46F0-B4EC-BA636D65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9AB2-779E-4516-A8AB-F8C5F244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6ECA-AFB0-44C8-8843-621CF20F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BCA0-E1CA-4108-9F44-1C5D0D83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B446-D2C9-4E3E-B8A4-FA028A32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3E69-F082-48F5-9730-9404E001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69ED-EBA1-40F1-802B-120E6BDF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65E-CCD2-48C0-B5A2-F6D6B824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4791-146B-42CA-9115-73DBF6B7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FA9C-EF76-4135-BB93-12777DE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31B0-420D-4F55-892E-1BF0B1C8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D7A8-8F25-44DA-9472-3704A197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AB55-E848-42D9-996E-AA6464FD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EC5-AE66-478E-94E6-1830CAE0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FE6-F98C-4EE5-8FD3-4CEF122E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9E2-88F1-480E-8E99-9D3F483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8C5-5925-4BB2-B52D-F16BB057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9F2-84C6-44CA-88D3-6E349E2A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EE6-D123-462A-93E9-5F70A20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F2B-143C-4B9F-803D-D56112C3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8C44-4F69-43A5-BF0A-B6AACF67365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8BA8-227A-4E95-B0BB-6D46C7EF5B1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yroll Management and Administration of Bills in Accounts and Cash S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oup Members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. Ashok Kuma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ikhlesh Pathi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noj Sing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ensy Josep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rrent Scenario in Accounts S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alary calculation is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ighly tediou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erformed manuall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ime consum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rror -  pron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per, Pap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emos from each department to the Accounts Section contain leave details for each employe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payment data on loans from PF, housing loans etc are also sent from the respective departments in the form of memos/reminder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d so on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This is a </a:t>
            </a:r>
            <a:r>
              <a:rPr b="1" i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lot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 of paperwork!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ject Objecti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utomation of Salary Calculatio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ill Generation and Managemen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r-friendly Interface for non-technical staff in these section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line Query / Report Generation on status of bills pending / cleared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9T20:34:40Z</dcterms:created>
  <dc:creator>Guest</dc:creator>
  <dc:description/>
  <dc:language>en-US</dc:language>
  <cp:lastModifiedBy>Guest</cp:lastModifiedBy>
  <dcterms:modified xsi:type="dcterms:W3CDTF">2000-10-19T20:38:06Z</dcterms:modified>
  <cp:revision>1</cp:revision>
  <dc:subject/>
  <dc:title>Payroll Management and Administration of Bills in Accounts and Cash Section</dc:title>
</cp:coreProperties>
</file>