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924-EBEA-4771-A203-714202F6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134-763D-4100-BF1B-A457CDE6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2EF-D321-4DFF-8ADE-05EDACE7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151-0676-47FD-92AE-E9F28658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BFC-35B6-4A0F-B93D-1B9F537A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848-F29C-4EAF-A635-932608D3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02B-BBDD-4128-95E6-D805F218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A7E-3A43-47B9-B7A9-1F0A9913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06E-776C-4C21-BD7A-28991C14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08A-BF2C-4AA6-8834-CD4D4CBC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B88-2828-41FE-B0B0-C9CA6EE2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1B0-366B-41ED-A1C3-6C55AB08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A37E-2F56-4A7C-ABA8-C1E82A684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Lucida Handwriting"/>
              </a:rPr>
              <a:t>ADVANCED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Lucida Handwriting"/>
              </a:rPr>
              <a:t>PL/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OBJECT ORI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7800" y="2454120"/>
            <a:ext cx="6618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ata Cen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Encaps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Function Overlo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ES NOT SUPPORT INHERI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6600" y="1066680"/>
            <a:ext cx="8027640" cy="40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PROTECT OUR SOURC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wrap iname=myscript.sq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</a:rPr>
              <a:t>oname=xxxx.p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REMOTE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662120"/>
            <a:ext cx="86551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LOGS OF FI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 We can keep log of last modification of any 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he following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SELECT OBJECT_NAM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TO_CHAR(CREATED, 'DD-Mon-RR HH24:MI') 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CREATE_TI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TO_CHAR(LAST_DDL_TIME, 'DD-Mon-RR HH24:MI') 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MOD_TI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FROM USER_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WHERE LAST_DDL_TIME &gt; '&amp;CHECK_FROM_DATE';</a:t>
            </a:r>
            <a:r>
              <a:rPr b="0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1465200"/>
            <a:ext cx="8153280" cy="40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  KEEP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g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CREATE TABLE SOURCE_H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SELECT SYSDATE CHANGE_DATE, USER_SOURCE.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FROM USER_SOURC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WHERE 1=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8960" y="536400"/>
            <a:ext cx="897588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CREATE OR REPLACE TRIGGER change_h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AFTER CREATE ON SCOTT.SCH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DECL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if DICTIONARY_OBJ_TYPE in ('PROCEDURE', 'FUNCTION'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'PACKAGE', 'PACKAGE BODY', 'TYPE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then  INSERT INTO SOURCE_H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SELECT sysdate, user_source.* FROM USER_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WHERE TYPE = DICTIONARY_OBJ_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AND NAME = DICTIONARY_OBJ_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end if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WHEN OTHERS THEN raise_application_error(-20000, SQLERRM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EXCEPTION HAND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8720" y="1887480"/>
            <a:ext cx="82501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BODY OF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/SQ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DEC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EX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60320" y="2454120"/>
            <a:ext cx="5218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 INTERPORATBILITY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 JAVA INSIDE PL/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o20java_f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3640" y="1981080"/>
            <a:ext cx="799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*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AL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ECUT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PROGRAMMING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0" y="2424240"/>
            <a:ext cx="651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ROCEDUR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BLOCK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EBUGGING IS FRU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REUS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INBUILT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5040" y="3967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13720" y="2971800"/>
            <a:ext cx="65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 AND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19520" y="3002040"/>
            <a:ext cx="38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1000" y="304920"/>
            <a:ext cx="894672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ding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eakpoint: unconditional and condi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ping through th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EP IN, STEP OVER, STEP OU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UN  TO CUR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nitoring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TCH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nitoring Execution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LL STACK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done us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gra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ugg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ow,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modules of PL/SQL and needs instal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5840" y="1981080"/>
            <a:ext cx="836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EXAMPLES ARE INBUILT PACK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41320" y="1066680"/>
            <a:ext cx="7463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FRIEN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arch keys in PL/SQL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int to the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ad or Write from PL/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Use SQL from PL/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xecute Operating System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INBUILT 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9960" y="2108160"/>
            <a:ext cx="850032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e.g </a:t>
            </a:r>
            <a:r>
              <a:rPr b="1" i="1" lang="en-US" sz="2400" spc="-1" strike="noStrike">
                <a:solidFill>
                  <a:srgbClr val="9999ff"/>
                </a:solidFill>
                <a:latin typeface="Times New Roman"/>
              </a:rPr>
              <a:t>Banking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package banking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procedure new_acct(name IN VAR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procedure acct_dep(acno IN NUMBER, amount IN 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procedure acc_wdr(acno IN NUMBER, amount IN 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procedure acc_bal(acno IN NUMBER, bal OUT 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function acc_drwn(acno IN NUMBER) RETURN BOOLE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end banking</a:t>
            </a: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3T05:50:44Z</dcterms:created>
  <dc:creator>proton</dc:creator>
  <dc:description/>
  <dc:language>en-US</dc:language>
  <cp:lastModifiedBy>proton</cp:lastModifiedBy>
  <dcterms:modified xsi:type="dcterms:W3CDTF">2000-11-03T07:44:22Z</dcterms:modified>
  <cp:revision>17</cp:revision>
  <dc:subject/>
  <dc:title>ADVANCED FEATURES</dc:title>
</cp:coreProperties>
</file>