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314-457D-41D9-AE3D-33AFF162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40EA-8BA5-442B-814B-77F9528E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84D-7163-4899-AFF3-2F7552B2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123-82D8-4DEE-8C9A-E640E77D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27F-49A4-47B7-8709-D66A8231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FFF-0694-4B0B-AEA4-9196D933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43C-7CFE-4CE5-81C6-0A1AAD6F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A53-F165-4078-8FCB-9F18E3B6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B2E-EFF7-4145-9811-15855250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F85-225F-4E24-A409-29445900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101-E6FF-4283-845E-31CC9A41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FCA-E53B-4E82-8777-1F1654DC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9E77-63BA-4B18-AF64-0C53E7309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Lucida Handwriting"/>
              </a:rPr>
              <a:t>ADVANCED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Lucida Handwriting"/>
              </a:rPr>
              <a:t>PL/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OBJECT ORI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7800" y="2454120"/>
            <a:ext cx="661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ta 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Encaps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Function Over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ES NOT SUPPORT INHERI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6600" y="1066680"/>
            <a:ext cx="8027640" cy="40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PROTECT OUR 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wrap iname=myscript.sq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oname=xxxx.p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REMOTE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662120"/>
            <a:ext cx="8655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LOGS OF FI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We can keep log of last modification of any 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following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SELECT OBJECT_NAM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TO_CHAR(CREATED, 'DD-Mon-RR HH24:MI')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CREATE_TI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TO_CHAR(LAST_DDL_TIME, 'DD-Mon-RR HH24:MI')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MOD_TI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FROM USER_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WHERE LAST_DDL_TIME &gt; '&amp;CHECK_FROM_DATE';</a:t>
            </a:r>
            <a:r>
              <a:rPr b="0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465200"/>
            <a:ext cx="8153280" cy="40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  KEEP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g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CREATE TABLE SOURCE_H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SELECT SYSDATE CHANGE_DATE, USER_SOURCE.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FROM USER_SOUR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WHERE 1=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8960" y="536400"/>
            <a:ext cx="897588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CREATE OR REPLACE TRIGGER change_h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AFTER CREATE ON SCOTT.SCH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DECL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if DICTIONARY_OBJ_TYPE in ('PROCEDURE', 'FUNCTION'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'PACKAGE', 'PACKAGE BODY', 'TYPE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then  INSERT INTO SOURCE_H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SELECT sysdate, user_source.* FROM USER_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WHERE TYPE = DICTIONARY_OBJ_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AND NAME = DICTIONARY_OBJ_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end if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WHEN OTHERS THEN raise_application_error(-20000, SQLERRM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EXCEPTION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8720" y="1887480"/>
            <a:ext cx="82501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BODY OF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/SQ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DEC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60320" y="2454120"/>
            <a:ext cx="521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 INTERPORATBILITY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INSIDE PL/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S  from 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o20java_f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609480"/>
            <a:ext cx="8305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Step 1 Identify the Java functionality you want to use 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your application. See if the existing Java class libraries hav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any predefined Java classes containing methods that hav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that functiona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Step 2 Create a specific Java class that includes a metho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based on this functiona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Step 3 Compile the Java class, test it, and load it into th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databa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685800"/>
            <a:ext cx="784836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Step 4 Build a PL/SQL wrapper program that will call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Java stored procedure you've loa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Step 5 Grant the privileges required for the PL/SQL wra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program and the Java stored procedure it referen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6 Call the PL/SQL progra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3640" y="1981080"/>
            <a:ext cx="799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ECUT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530280"/>
            <a:ext cx="7696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Build a Custom Java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can't you just call File.delete directly inside th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PL/SQL wrapper? There are two reas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A Java method is, in almost every case (except for stati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and class methods), executed for a specific objec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instantiated from the class. You cannot instantiate a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Mincho"/>
              </a:rPr>
              <a:t>Java object from within PL/SQL and then invoke th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on that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99072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atatypes in Java and PL/SQL do not map directly 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each other. For example, you can't pass a Java Boolea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atatype directly to a PL/SQL Boolean datatype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Therefore, you need to build your own class that will 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- Instantiate an object from the File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Invoke the delete method on that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a value that PL/SQL can interpr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PROGRAMMING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0" y="2424240"/>
            <a:ext cx="651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ROCEDUR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BLOCK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EBUGGING IS FRU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E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NBUILT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5040" y="3967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3720" y="2971800"/>
            <a:ext cx="65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 AN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19520" y="3002040"/>
            <a:ext cx="38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1000" y="304920"/>
            <a:ext cx="894672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ding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eakpoint: unconditional and con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ping through th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EP IN, STEP OVER, STEP OU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N  TO 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itoring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TCH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itoring Execution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LL STACK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one u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gra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ug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w,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odules of PL/SQL and needs instal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5840" y="1981080"/>
            <a:ext cx="836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EXAMPLES ARE INBUILT PACK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41320" y="1066680"/>
            <a:ext cx="7463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arch keys in PL/SQL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nt to the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ad or Write from PL/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Use SQL from PL/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xecute Operating System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INBUILT 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9960" y="2108160"/>
            <a:ext cx="85003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e.g </a:t>
            </a:r>
            <a:r>
              <a:rPr b="1" i="1" lang="en-US" sz="2400" spc="-1" strike="noStrike">
                <a:solidFill>
                  <a:srgbClr val="9999ff"/>
                </a:solidFill>
                <a:latin typeface="Times New Roman"/>
              </a:rPr>
              <a:t>Banking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package banking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procedure new_acct(name IN VAR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procedure acct_dep(acno IN NUMBER, amount IN 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procedure acc_wdr(acno IN NUMBER, amount IN 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procedure acc_bal(acno IN NUMBER, bal OUT 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function acc_drwn(acno IN NUMBER) RETURN BOOLE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end banking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3T05:50:44Z</dcterms:created>
  <dc:creator>proton</dc:creator>
  <dc:description/>
  <dc:language>en-US</dc:language>
  <cp:lastModifiedBy>Guest</cp:lastModifiedBy>
  <dcterms:modified xsi:type="dcterms:W3CDTF">2000-11-03T10:15:21Z</dcterms:modified>
  <cp:revision>23</cp:revision>
  <dc:subject/>
  <dc:title>ADVANCED FEATURES</dc:title>
</cp:coreProperties>
</file>