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D27-2281-49F1-B96D-E77B7793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6D3-0D04-418A-85C3-46E085D8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3BA1-EF74-4796-A1DD-55F492A2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9BF-7059-4C7A-9028-AC0F78B5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AEE-80FB-4615-88BF-D185899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57C-7D72-43EF-BA8B-E3E91BEA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467-6DAA-43C6-83D7-6765CCA8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C7A-D938-4AAD-AAC8-84F6DD4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DB9-A7EA-4689-A032-1560A27B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691-A6A0-4E87-A055-68CA7ED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9B3-6D32-4AC2-AED7-27E61A3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EE1-08FD-4EC0-81AD-B72CB5E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7F8-13F6-4208-9B56-5FE302EC2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Lucida Handwriting"/>
              </a:rPr>
              <a:t>PL-SQ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ware System 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mitabh Sai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vinash Pend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aiwant D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ajendra San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WHILE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981080"/>
            <a:ext cx="58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LE  &lt;condition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loop_body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LOO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25909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  &lt;var&gt;    IN   &lt;start&gt;..&lt;finish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loop_body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LOO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FOR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35900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PROCEDURE &lt;procedure_name&gt; (&lt;parameters&gt;  &lt;mode&gt;  &lt;type&gt;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&lt;local_var_declaratio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 &lt;procedure_bod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ave any number of parameters each followed by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ad only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rite only)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ad wr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920" y="2133720"/>
            <a:ext cx="704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FUNCTION &lt;func_name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&lt;param_list&gt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 &lt;return_type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 &lt;function_body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 &lt;expression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function_body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RI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057400"/>
            <a:ext cx="693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[OR REPLACE]  TRIGGER &lt;trigger_na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BEFORE|AFTER} {INSERT|DELETE|UPDATE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&lt;table_na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FOR EACH ROW [WHEN (&lt;trigger_condition&gt;)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rigger_bod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DISCOVERING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0240" y="2111400"/>
            <a:ext cx="72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errors procedure &lt;procedure_name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3120" y="281952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errors trigger &lt;trigger_name&gt;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524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 ERR" abbreviation for "SHOW ERROR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Printing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" y="2133720"/>
            <a:ext cx="7929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bind variable, which is the only k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y be printed with a print comm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 a  variable a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 &lt;name&gt;   &lt;type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value to the bound variable , prefix with a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&gt;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Introdu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cedural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guage extension of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unit  in PL/SQL is a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FL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2680" y="990720"/>
            <a:ext cx="8458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Declarative section: variables, types, and local subprograms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Executable section: procedural and SQL statements go here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This is the only section of the block that is required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Exception handling section: error handling statements go here.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Executable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using SELECT,INSERT,UPDATE,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s  assignments,branches,loops,procedure calls, and tri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SQL Statements allowed in PL/SQ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,INSERT,UPDATE,DE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anipulation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Variables and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 is transmitted between a PL/SQL program and the database throu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ARIAB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types used by SQL for database colum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ic type used in PL/SQL such as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d to be the same as the type of some database colum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Variabl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                                                          age NUMBER;                                    myname VARCHAR(1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Name has the schema (first,second,thir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name Name.first%TYPE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tuple Name%ROWTYPE;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ontrol Flow in PL/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ching and Looping in PL/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atement looks like this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  &lt;condition&gt;  THEN      &lt;statement_list&gt;                                    ELSE                                     &lt;statement_list&gt;                                      END IF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057400"/>
            <a:ext cx="7010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loop_body&gt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LOO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loop_body&gt;  should have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WHEN &lt;condition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Lucida Handwriting"/>
              </a:rPr>
              <a:t>LOOP</a:t>
            </a:r>
            <a:r>
              <a:rPr b="0" lang="en-US" sz="5400" spc="-1" strike="noStrike">
                <a:solidFill>
                  <a:srgbClr val="000000"/>
                </a:solidFill>
                <a:latin typeface="Lucida Handwriting"/>
              </a:rPr>
              <a:t> Stat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3:29:39Z</dcterms:created>
  <dc:creator>proton</dc:creator>
  <dc:description/>
  <dc:language>en-US</dc:language>
  <cp:lastModifiedBy>Guest</cp:lastModifiedBy>
  <dcterms:modified xsi:type="dcterms:W3CDTF">2000-11-03T10:18:18Z</dcterms:modified>
  <cp:revision>33</cp:revision>
  <dc:subject/>
  <dc:title>PL-SQL</dc:title>
</cp:coreProperties>
</file>