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61B-FFD1-4DD9-949F-6E291F94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4B3-D999-4832-9EB3-218AD610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31A-40D2-491E-AF2B-A22A909A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DB2-370B-4205-A137-BDA99723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F686-F73D-48CE-8FA5-336E494B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285C-2CBC-4832-9332-AA8A34E3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3EA7-CA63-448F-9727-107753A1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1A6E-9195-4908-ABBC-1E03A3DF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A35B-767F-41AD-8FFD-2F9F5050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DF3B-B6F3-4CF4-BBF0-021F5E69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8434-931F-4612-8DCB-3084945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D56-059E-4F5D-B895-15BC89A2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E949-8B11-4194-B35E-83AA259F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A362-1FA4-4E7C-9A54-E053DA54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1FA1-FF0D-4C5D-B3FD-A000570D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9D20-C142-4CE0-84A3-3E1C60E4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7630-D340-458A-9240-BF116CF2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FBC-7E2F-4A8B-83C7-5BB4AE2C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968-4934-40FD-B860-3518B99F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074-FA8C-49E8-B2FB-5E8AA20D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134-3CFB-4D67-84EA-D90B6125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177-71A6-4AEE-9B1D-24263366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791-EDAA-43DE-BB86-C1A940C6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DF9-DA4D-4314-A07E-1FB627FA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70A3-9C6F-4D4B-A1DE-82F8013CB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DA73-2F0C-4E8D-8B0D-F005D0F2A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zope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Zop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ureet Saxena 9800500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deep Kumar 980050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ys Thomas 98005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solidating content into components such as a common footer you can provide a uniform look and feel for your web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contain small pieces of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&lt;dtml-var&gt; tag to insert properties into web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_html_footer is used as the default Zope web page foo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Zope objects can be combined to form complex web 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ML Methods contain chunks of con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pages can insert content from DTM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recover from mistakes with 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 can programmatically build web pages with groups of objects by looping over them and insert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dtml-in&gt; iterates over a list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dtml-var sequence-item&gt; inserts the current object when looping over a list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get the contents of a folder by calling its objectValues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can display themselves and can also provide useful information such as size, title, and UR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contents of a Folder with the objectValues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size of an Image with the getSize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URL of an object with the absolute_url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forms to pass information between Zope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rogrammatically create new Zope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pe documents can be the action of HTML 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dtml-call&gt; tag performs an action without inserting anything into a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new images in folder with the manage_addImage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cookies to personalize a web page and  dynamically control the  presentation of a Zop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et cookies with the RESPONSE.setCookie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dtml-if&gt; tag allows you to test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bobase_modification_time method returns the last modification time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 create a mail host, you can send mail from any Zope document using the &lt;dtml-sendmail&gt; t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Hosts allow you to send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dtml-sendmail&gt; tag sends an email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pe can work with data from relational databases in the same way it treats other Zope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connections tell Zope about relational data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SQL methods get information out of or into a relational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information visi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zop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pe is the leading Open Source web application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pe enables teams to collaborate in the creation and management of dynamic web-based business applications such as intranets and por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pe is a powerful system for dynamic content delivery. It provi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o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pe provides a unique architecture for mapping URLs to object mess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object datab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art of Zope is its integrated object database. This powerful object store provides seamless access ((through UR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HT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documents add rich programming to HTML, including iteration, conditional testing, variable insertion, HTTP headers, cookies, and m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User F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nd passwords can be added to any URL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sticated but simple sha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Zope object system implements a breakthrough in object orientation called acquisition. This lets you share information along a URL, from higher up an organization to d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-in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pe automatically provides useful objects for website builders. These include DMTL Methods, DTML Documents, Images,Folders,UserFolders, and MailHost objects. Additionally, there is a Control Panel that allows application and database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integ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pe provides tight integration with other products in the Zop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plat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Zope line has great reach and high performance across a number of operating systems and Web ser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pe allows you to create and manage objects through the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pe uses DTML documents for web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Zope objects by choosing them from the product add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Zope objects by clicking the view t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content in web pages with the &lt;dtml-var&gt; t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pe files and documents have a lot in common with conventional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names, are arranged in hierarchies, and have URLs that correspond to their lo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ers contain other Zope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ault object for a Folder is named index_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Zope management screens allow you to navigate between folders and determine the URLs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rganize Zope object in folders. You can create new folders and move objects between f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ove Zope objects around with Cut and Pa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ers contain other Zope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a Zope object between folders changes its UR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08:23:43Z</dcterms:created>
  <dc:creator>Guest</dc:creator>
  <dc:description/>
  <dc:language>en-US</dc:language>
  <cp:lastModifiedBy>Guest</cp:lastModifiedBy>
  <dcterms:modified xsi:type="dcterms:W3CDTF">2000-10-27T10:57:54Z</dcterms:modified>
  <cp:revision>20</cp:revision>
  <dc:subject/>
  <dc:title>Zope</dc:title>
</cp:coreProperties>
</file>