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5B9A-8EAC-4DFD-A123-20A355F2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5883-967E-49BD-A052-2137B73E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731B-938E-4F36-9C71-381619BE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05D8-AD1C-44FD-9DA3-2D061AD4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A12C-3180-4F74-8450-41CEF74D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4373-5C87-4336-B936-65AF754A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89D4-2913-4DD5-93F1-71CA7628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36E3-1D28-4AEA-B1E5-FA60FF82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0057-C318-4367-8952-0324B40D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0149-874B-496C-A217-D5AF4B5D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725E-809E-49B4-BE59-E65CC010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8945-F22F-4507-BB8F-DC246F8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E3AB-D0E0-486A-8252-0EDC791B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FE89-AE61-4ED9-A1BB-3D825098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0C4C-6741-44D3-8D33-7B89BE67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E667-E47B-4F4D-8B55-88E5582F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023E-9290-4259-AB80-E4220EE3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305A-FE9D-47C8-9A0B-71E6EBE2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F042-6880-48D2-8223-327D8A8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6CD3-0561-434B-B285-9A100B31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52E2-B0C6-4CE2-8A8F-AFDEC826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C5B3-435D-4A30-BBF0-09FDFEF1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31AC-7C2B-49FE-AD5A-9397349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A146-9091-4A92-94D5-FB2CB01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7EF8-F243-4728-97C2-4BD26E57C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564-F97C-4876-A5AF-732273207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M.Tech Thesis Presentation</a:t>
            </a:r>
            <a:br>
              <a:rPr sz="4000"/>
            </a:br>
            <a:br>
              <a:rPr sz="2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Generic Device Driv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5909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8769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039080" y="190512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020000" y="35719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5791320"/>
            <a:ext cx="202896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Multiple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5410080"/>
            <a:ext cx="2467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Different Firmw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4343400"/>
            <a:ext cx="1143000" cy="4572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4343400"/>
            <a:ext cx="1143000" cy="4572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4343400"/>
            <a:ext cx="19810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4. Generic D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962520"/>
            <a:ext cx="685800" cy="304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962520"/>
            <a:ext cx="685800" cy="304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3962520"/>
            <a:ext cx="21337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47680" y="3419640"/>
            <a:ext cx="211464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6. Standard AP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4952880"/>
            <a:ext cx="2276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Various 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1981080"/>
            <a:ext cx="2514600" cy="53352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666880"/>
            <a:ext cx="457200" cy="1600200"/>
          </a:xfrm>
          <a:custGeom>
            <a:avLst/>
            <a:gdLst>
              <a:gd name="textAreaLeft" fmla="*/ 14328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6773"/>
                </a:lnTo>
                <a:lnTo>
                  <a:pt x="9900" y="6773"/>
                </a:lnTo>
                <a:lnTo>
                  <a:pt x="15750" y="0"/>
                </a:lnTo>
                <a:lnTo>
                  <a:pt x="21600" y="6773"/>
                </a:lnTo>
                <a:lnTo>
                  <a:pt x="17400" y="6773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666880"/>
            <a:ext cx="457200" cy="1600200"/>
          </a:xfrm>
          <a:custGeom>
            <a:avLst/>
            <a:gdLst>
              <a:gd name="textAreaLeft" fmla="*/ 14328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6773"/>
                </a:lnTo>
                <a:lnTo>
                  <a:pt x="9900" y="6773"/>
                </a:lnTo>
                <a:lnTo>
                  <a:pt x="15750" y="0"/>
                </a:lnTo>
                <a:lnTo>
                  <a:pt x="21600" y="6773"/>
                </a:lnTo>
                <a:lnTo>
                  <a:pt x="17400" y="6773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2133720"/>
            <a:ext cx="2209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7. Generic To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Generic Device Driver: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514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039080" y="175248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010280" y="35053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5791320"/>
            <a:ext cx="202896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Multiple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5410080"/>
            <a:ext cx="2467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Different Firmw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4343400"/>
            <a:ext cx="19810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4. Different Driv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" y="3962520"/>
            <a:ext cx="2057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7680" y="3352680"/>
            <a:ext cx="2114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6. Proprietary AP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" y="4952880"/>
            <a:ext cx="2276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Various 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590920"/>
            <a:ext cx="457200" cy="1600200"/>
          </a:xfrm>
          <a:custGeom>
            <a:avLst/>
            <a:gdLst>
              <a:gd name="textAreaLeft" fmla="*/ 16884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590920"/>
            <a:ext cx="457200" cy="1600200"/>
          </a:xfrm>
          <a:custGeom>
            <a:avLst/>
            <a:gdLst>
              <a:gd name="textAreaLeft" fmla="*/ 16884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Generic Device Driver: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00520" y="1828800"/>
            <a:ext cx="819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ntersil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143160" y="1828800"/>
            <a:ext cx="819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isco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3048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86360" y="3048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0481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53000" y="3505320"/>
            <a:ext cx="81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ucent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757760" y="3505320"/>
            <a:ext cx="81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rismII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91320" y="3495600"/>
            <a:ext cx="8190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ymbol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 rot="5400000">
            <a:off x="3652560" y="567684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Comic Sans MS"/>
              </a:rPr>
              <a:t>PCMC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4338360" y="5753160"/>
            <a:ext cx="121932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Comic Sans MS"/>
              </a:rPr>
              <a:t>PC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 rot="5400000">
            <a:off x="4995360" y="5724360"/>
            <a:ext cx="12002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Comic Sans MS"/>
              </a:rPr>
              <a:t>PL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 rot="5400000">
            <a:off x="5519520" y="5715000"/>
            <a:ext cx="121932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Comic Sans MS"/>
              </a:rPr>
              <a:t>US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248520" y="1828800"/>
            <a:ext cx="81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I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772400" y="1828800"/>
            <a:ext cx="81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ff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tmel</a:t>
            </a:r>
            <a:endParaRPr b="0" lang="en-US" sz="1800" spc="1" strike="noStrike">
              <a:ln w="0">
                <a:noFill/>
              </a:ln>
              <a:solidFill>
                <a:srgbClr val="66ff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828800"/>
            <a:ext cx="2362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C -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3429000"/>
            <a:ext cx="2362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sell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5029200"/>
            <a:ext cx="2362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1523880"/>
            <a:ext cx="57913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1600200"/>
            <a:ext cx="57913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895480"/>
            <a:ext cx="3048120" cy="99072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2971800"/>
            <a:ext cx="3048120" cy="99072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4495680"/>
            <a:ext cx="30481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4572000"/>
            <a:ext cx="30481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1752480"/>
            <a:ext cx="914400" cy="53352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4648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4648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4648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46483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22860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39625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Generic Device Driver: Observ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Thought of a generic driver is too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mbitious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river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maintenance?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Note: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Orinoco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driver claims to be generic. Supports : Lucent, PrismII &amp; Symbol car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ot fully functional on some PrismII car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Recent versions do not handle properly the Symbol car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o USB suppor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T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wlan-ng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ostAP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drivers for PrismII cards are more tested &amp; have more featu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867280" y="2971800"/>
            <a:ext cx="533520" cy="1219320"/>
          </a:xfrm>
          <a:custGeom>
            <a:avLst/>
            <a:gdLst>
              <a:gd name="textAreaLeft" fmla="*/ 99360 w 533520"/>
              <a:gd name="textAreaRight" fmla="*/ 424440 w 533520"/>
              <a:gd name="textAreaTop" fmla="*/ 884880 h 1219320"/>
              <a:gd name="textAreaBottom" fmla="*/ 969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0100"/>
                </a:moveTo>
                <a:lnTo>
                  <a:pt x="15675" y="20100"/>
                </a:lnTo>
                <a:lnTo>
                  <a:pt x="15675" y="4029"/>
                </a:lnTo>
                <a:lnTo>
                  <a:pt x="11250" y="4029"/>
                </a:lnTo>
                <a:lnTo>
                  <a:pt x="16425" y="0"/>
                </a:lnTo>
                <a:lnTo>
                  <a:pt x="21600" y="4029"/>
                </a:lnTo>
                <a:lnTo>
                  <a:pt x="17175" y="4029"/>
                </a:lnTo>
                <a:lnTo>
                  <a:pt x="1717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Generic Driver-Application Interfa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514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039080" y="175248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010280" y="35053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5791320"/>
            <a:ext cx="202896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Multiple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5410080"/>
            <a:ext cx="2467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Different Firmw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4343400"/>
            <a:ext cx="19810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4. Different Driv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" y="3962520"/>
            <a:ext cx="21337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47680" y="3352680"/>
            <a:ext cx="2114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6. Proprietary AP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8600" y="4952880"/>
            <a:ext cx="2276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Various 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2971800"/>
            <a:ext cx="533160" cy="1219320"/>
          </a:xfrm>
          <a:custGeom>
            <a:avLst/>
            <a:gdLst>
              <a:gd name="textAreaLeft" fmla="*/ 99360 w 533160"/>
              <a:gd name="textAreaRight" fmla="*/ 424080 w 533160"/>
              <a:gd name="textAreaTop" fmla="*/ 884880 h 1219320"/>
              <a:gd name="textAreaBottom" fmla="*/ 969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0100"/>
                </a:moveTo>
                <a:lnTo>
                  <a:pt x="15675" y="20100"/>
                </a:lnTo>
                <a:lnTo>
                  <a:pt x="15675" y="4029"/>
                </a:lnTo>
                <a:lnTo>
                  <a:pt x="11250" y="4029"/>
                </a:lnTo>
                <a:lnTo>
                  <a:pt x="16425" y="0"/>
                </a:lnTo>
                <a:lnTo>
                  <a:pt x="21600" y="4029"/>
                </a:lnTo>
                <a:lnTo>
                  <a:pt x="17175" y="4029"/>
                </a:lnTo>
                <a:lnTo>
                  <a:pt x="1717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2514600"/>
            <a:ext cx="457200" cy="1523880"/>
          </a:xfrm>
          <a:custGeom>
            <a:avLst/>
            <a:gdLst>
              <a:gd name="textAreaLeft" fmla="*/ 89640 w 457200"/>
              <a:gd name="textAreaRight" fmla="*/ 333360 w 457200"/>
              <a:gd name="textAreaTop" fmla="*/ 984240 h 1523880"/>
              <a:gd name="textAreaBottom" fmla="*/ 11113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9800"/>
                </a:moveTo>
                <a:lnTo>
                  <a:pt x="13950" y="19800"/>
                </a:lnTo>
                <a:lnTo>
                  <a:pt x="13950" y="4243"/>
                </a:lnTo>
                <a:lnTo>
                  <a:pt x="8100" y="4243"/>
                </a:lnTo>
                <a:lnTo>
                  <a:pt x="14850" y="0"/>
                </a:lnTo>
                <a:lnTo>
                  <a:pt x="21600" y="4243"/>
                </a:lnTo>
                <a:lnTo>
                  <a:pt x="15750" y="4243"/>
                </a:lnTo>
                <a:lnTo>
                  <a:pt x="157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2514600"/>
            <a:ext cx="457200" cy="1523880"/>
          </a:xfrm>
          <a:custGeom>
            <a:avLst/>
            <a:gdLst>
              <a:gd name="textAreaLeft" fmla="*/ 89640 w 457200"/>
              <a:gd name="textAreaRight" fmla="*/ 333360 w 457200"/>
              <a:gd name="textAreaTop" fmla="*/ 984240 h 1523880"/>
              <a:gd name="textAreaBottom" fmla="*/ 11113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9800"/>
                </a:moveTo>
                <a:lnTo>
                  <a:pt x="13950" y="19800"/>
                </a:lnTo>
                <a:lnTo>
                  <a:pt x="13950" y="4243"/>
                </a:lnTo>
                <a:lnTo>
                  <a:pt x="8100" y="4243"/>
                </a:lnTo>
                <a:lnTo>
                  <a:pt x="14850" y="0"/>
                </a:lnTo>
                <a:lnTo>
                  <a:pt x="21600" y="4243"/>
                </a:lnTo>
                <a:lnTo>
                  <a:pt x="15750" y="4243"/>
                </a:lnTo>
                <a:lnTo>
                  <a:pt x="157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47680" y="2819520"/>
            <a:ext cx="2190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7. Standard AP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1905120"/>
            <a:ext cx="2514600" cy="53316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981080"/>
            <a:ext cx="2209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8. Generic To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Driver – Application Interf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andard API: Wireless Extensions by Jean Tourril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 - manipulate any wireless networking device in a standard and uniform w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face and tools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/proc/net/wireles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read statistic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iwconfig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standard device configuration. Clone of ifconfig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iwsp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gather quality information for a set of network address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iwpriv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device specifi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rivers supporting Wireless Extensi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Wvlan_cs, Lucent (orinoco), PrismII (wlan-ng), HostAP, Cisco (Airone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Driver – Application Interface: Issu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11160" indent="-4906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y existing drivers to implement appropriat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octl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create standard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/pro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1160" indent="-4906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ivers have their own well defined configuration tools. The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wlan-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rivers come with the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wlanctl-ng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wlancf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o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1160" indent="-4906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w drivers coming into existence do not care to implement the standard AP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Generic User Space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28195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039080" y="175248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010280" y="35053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5791320"/>
            <a:ext cx="202896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Multiple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8600" y="5410080"/>
            <a:ext cx="2467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Different Firmw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4343400"/>
            <a:ext cx="19810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4. Different Driv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28600" y="3886200"/>
            <a:ext cx="2057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47680" y="3352680"/>
            <a:ext cx="2114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6. Proprietary AP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600" y="4952880"/>
            <a:ext cx="2276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Various 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1676520"/>
            <a:ext cx="3352680" cy="30456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2895480"/>
            <a:ext cx="457200" cy="1295640"/>
          </a:xfrm>
          <a:custGeom>
            <a:avLst/>
            <a:gdLst>
              <a:gd name="textAreaLeft" fmla="*/ 168840 w 457200"/>
              <a:gd name="textAreaRight" fmla="*/ 368280 w 457200"/>
              <a:gd name="textAreaTop" fmla="*/ 846000 h 1295640"/>
              <a:gd name="textAreaBottom" fmla="*/ 1044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2895480"/>
            <a:ext cx="457200" cy="1295640"/>
          </a:xfrm>
          <a:custGeom>
            <a:avLst/>
            <a:gdLst>
              <a:gd name="textAreaLeft" fmla="*/ 168840 w 457200"/>
              <a:gd name="textAreaRight" fmla="*/ 368280 w 457200"/>
              <a:gd name="textAreaTop" fmla="*/ 846000 h 1295640"/>
              <a:gd name="textAreaBottom" fmla="*/ 1044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2438280"/>
            <a:ext cx="60948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438280"/>
            <a:ext cx="609840" cy="2286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2209680"/>
            <a:ext cx="609480" cy="2286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2209680"/>
            <a:ext cx="609840" cy="2286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2133720"/>
            <a:ext cx="7621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2133720"/>
            <a:ext cx="7617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47680" y="2352600"/>
            <a:ext cx="23432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7. User Space Libr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28600" y="1676520"/>
            <a:ext cx="23432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8. Generic T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Over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28195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71800" y="1676520"/>
            <a:ext cx="3352680" cy="30456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2895480"/>
            <a:ext cx="457200" cy="1295640"/>
          </a:xfrm>
          <a:custGeom>
            <a:avLst/>
            <a:gdLst>
              <a:gd name="textAreaLeft" fmla="*/ 168840 w 457200"/>
              <a:gd name="textAreaRight" fmla="*/ 368280 w 457200"/>
              <a:gd name="textAreaTop" fmla="*/ 846000 h 1295640"/>
              <a:gd name="textAreaBottom" fmla="*/ 1044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2895480"/>
            <a:ext cx="457200" cy="1295640"/>
          </a:xfrm>
          <a:custGeom>
            <a:avLst/>
            <a:gdLst>
              <a:gd name="textAreaLeft" fmla="*/ 168840 w 457200"/>
              <a:gd name="textAreaRight" fmla="*/ 368280 w 457200"/>
              <a:gd name="textAreaTop" fmla="*/ 846000 h 1295640"/>
              <a:gd name="textAreaBottom" fmla="*/ 1044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2438280"/>
            <a:ext cx="60948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2438280"/>
            <a:ext cx="609840" cy="2286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2209680"/>
            <a:ext cx="609480" cy="2286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2209680"/>
            <a:ext cx="609840" cy="2286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2133720"/>
            <a:ext cx="7621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2133720"/>
            <a:ext cx="7617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14600" y="167652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0880" y="2124000"/>
            <a:ext cx="205740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Completely User Space</a:t>
            </a:r>
            <a:endParaRPr b="0" i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267080"/>
            <a:ext cx="152280" cy="4572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2f752f"/>
              </a:gs>
              <a:gs pos="100000">
                <a:srgbClr val="66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426708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To pass up corrupted packets</a:t>
            </a:r>
            <a:endParaRPr b="0" i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124080" y="4352760"/>
            <a:ext cx="8384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Wlan-ng</a:t>
            </a:r>
            <a:endParaRPr b="0" i="1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324400" y="4343400"/>
            <a:ext cx="6955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airo</a:t>
            </a:r>
            <a:endParaRPr b="0" i="1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40" name="modem"/>
          <p:cNvSpPr/>
          <p:nvPr/>
        </p:nvSpPr>
        <p:spPr>
          <a:xfrm>
            <a:off x="914400" y="5791320"/>
            <a:ext cx="1447920" cy="380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5410080"/>
            <a:ext cx="190512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Access Point</a:t>
            </a:r>
            <a:endParaRPr b="0" i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629400" y="2124000"/>
            <a:ext cx="1752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Root Privileges</a:t>
            </a:r>
            <a:endParaRPr b="0" i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Archite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447920"/>
            <a:ext cx="34290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800000">
            <a:off x="3377880" y="5130720"/>
            <a:ext cx="558720" cy="1526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3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7800000">
            <a:off x="3619080" y="5219280"/>
            <a:ext cx="380880" cy="152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3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4724280"/>
            <a:ext cx="1981080" cy="121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57400" y="3352680"/>
            <a:ext cx="558720" cy="152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71520" y="3200400"/>
            <a:ext cx="381240" cy="15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1447920"/>
            <a:ext cx="34290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3352680"/>
            <a:ext cx="558720" cy="1526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3200400"/>
            <a:ext cx="380880" cy="152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5943600"/>
            <a:ext cx="380880" cy="15228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238880" y="3200400"/>
            <a:ext cx="381240" cy="15228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8880" y="3352680"/>
            <a:ext cx="381240" cy="2362320"/>
          </a:xfrm>
          <a:prstGeom prst="upDownArrow">
            <a:avLst>
              <a:gd name="adj1" fmla="val 19167"/>
              <a:gd name="adj2" fmla="val 966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ilecab3"/>
          <p:cNvSpPr/>
          <p:nvPr/>
        </p:nvSpPr>
        <p:spPr>
          <a:xfrm>
            <a:off x="6858000" y="5715000"/>
            <a:ext cx="1752480" cy="6094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6019920"/>
            <a:ext cx="2438280" cy="152280"/>
          </a:xfrm>
          <a:prstGeom prst="leftRightArrow">
            <a:avLst>
              <a:gd name="adj1" fmla="val 50000"/>
              <a:gd name="adj2" fmla="val 3187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0" y="586728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Ethernet Backbone</a:t>
            </a:r>
            <a:endParaRPr b="0" i="1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067760" y="2967840"/>
            <a:ext cx="74376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07" y="3763"/>
                </a:moveTo>
                <a:arcTo wR="10800" hR="10800" stAng="-8360392" swAng="5687444"/>
                <a:lnTo>
                  <a:pt x="10800" y="10800"/>
                </a:lnTo>
                <a:close/>
              </a:path>
              <a:path fill="none" w="21600" h="21600">
                <a:moveTo>
                  <a:pt x="2607" y="3763"/>
                </a:moveTo>
                <a:arcTo wR="10800" hR="10800" stAng="-8360392" swAng="568744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915840" y="3276000"/>
            <a:ext cx="10810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6" y="8420"/>
                </a:moveTo>
                <a:arcTo wR="10800" hR="10800" stAng="-10036035" swAng="9196332"/>
                <a:lnTo>
                  <a:pt x="10800" y="10800"/>
                </a:lnTo>
                <a:close/>
              </a:path>
              <a:path fill="none" w="21600" h="21600">
                <a:moveTo>
                  <a:pt x="266" y="8420"/>
                </a:moveTo>
                <a:arcTo wR="10800" hR="10800" stAng="-10036035" swAng="9196332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6160" y="2878920"/>
            <a:ext cx="103536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07" y="3763"/>
                </a:moveTo>
                <a:arcTo wR="10800" hR="10800" stAng="-8360392" swAng="5687444"/>
                <a:lnTo>
                  <a:pt x="10800" y="10800"/>
                </a:lnTo>
                <a:close/>
              </a:path>
              <a:path fill="none" w="21600" h="21600">
                <a:moveTo>
                  <a:pt x="2607" y="3763"/>
                </a:moveTo>
                <a:arcTo wR="10800" hR="10800" stAng="-8360392" swAng="568744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14360" y="3657600"/>
            <a:ext cx="801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6" y="2413"/>
                </a:moveTo>
                <a:arcTo wR="10800" hR="10800" stAng="-7743034" swAng="4628015"/>
                <a:lnTo>
                  <a:pt x="10800" y="10800"/>
                </a:lnTo>
                <a:close/>
              </a:path>
              <a:path fill="none" w="21600" h="21600">
                <a:moveTo>
                  <a:pt x="3996" y="2413"/>
                </a:moveTo>
                <a:arcTo wR="10800" hR="10800" stAng="-7743034" swAng="46280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84040" y="3963960"/>
            <a:ext cx="988920" cy="75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2" y="5659"/>
                </a:moveTo>
                <a:arcTo wR="10800" hR="10800" stAng="-9094639" swAng="7478534"/>
                <a:lnTo>
                  <a:pt x="10800" y="10800"/>
                </a:lnTo>
                <a:close/>
              </a:path>
              <a:path fill="none" w="21600" h="21600">
                <a:moveTo>
                  <a:pt x="1302" y="5659"/>
                </a:moveTo>
                <a:arcTo wR="10800" hR="10800" stAng="-9094639" swAng="747853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72880" y="3809880"/>
            <a:ext cx="1034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68" y="3260"/>
                </a:moveTo>
                <a:arcTo wR="10800" hR="10800" stAng="-8143096" swAng="5444690"/>
                <a:lnTo>
                  <a:pt x="10800" y="10800"/>
                </a:lnTo>
                <a:close/>
              </a:path>
              <a:path fill="none" w="21600" h="21600">
                <a:moveTo>
                  <a:pt x="3068" y="3260"/>
                </a:moveTo>
                <a:arcTo wR="10800" hR="10800" stAng="-8143096" swAng="544469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22860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1600200"/>
            <a:ext cx="12193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2438280"/>
            <a:ext cx="609840" cy="60984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2438280"/>
            <a:ext cx="609480" cy="60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1600200"/>
            <a:ext cx="13716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7680000">
            <a:off x="2693880" y="4378320"/>
            <a:ext cx="801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6" y="2413"/>
                </a:moveTo>
                <a:arcTo wR="10800" hR="10800" stAng="-7743034" swAng="4628015"/>
                <a:lnTo>
                  <a:pt x="10800" y="10800"/>
                </a:lnTo>
                <a:close/>
              </a:path>
              <a:path fill="none" w="21600" h="21600">
                <a:moveTo>
                  <a:pt x="3996" y="2413"/>
                </a:moveTo>
                <a:arcTo wR="10800" hR="10800" stAng="-7743034" swAng="46280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7680000">
            <a:off x="2368800" y="4359240"/>
            <a:ext cx="988920" cy="75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2" y="5659"/>
                </a:moveTo>
                <a:arcTo wR="10800" hR="10800" stAng="-9094639" swAng="7478534"/>
                <a:lnTo>
                  <a:pt x="10800" y="10800"/>
                </a:lnTo>
                <a:close/>
              </a:path>
              <a:path fill="none" w="21600" h="21600">
                <a:moveTo>
                  <a:pt x="1302" y="5659"/>
                </a:moveTo>
                <a:arcTo wR="10800" hR="10800" stAng="-9094639" swAng="747853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680000">
            <a:off x="2384280" y="4232880"/>
            <a:ext cx="1034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68" y="3260"/>
                </a:moveTo>
                <a:arcTo wR="10800" hR="10800" stAng="-8143096" swAng="5444690"/>
                <a:lnTo>
                  <a:pt x="10800" y="10800"/>
                </a:lnTo>
                <a:close/>
              </a:path>
              <a:path fill="none" w="21600" h="21600">
                <a:moveTo>
                  <a:pt x="3068" y="3260"/>
                </a:moveTo>
                <a:arcTo wR="10800" hR="10800" stAng="-8143096" swAng="544469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1600200"/>
            <a:ext cx="9907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91320" y="1600200"/>
            <a:ext cx="990360" cy="152280"/>
          </a:xfrm>
          <a:prstGeom prst="leftArrow">
            <a:avLst>
              <a:gd name="adj1" fmla="val 50000"/>
              <a:gd name="adj2" fmla="val 16258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2438280"/>
            <a:ext cx="609480" cy="60984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81000" y="1676520"/>
            <a:ext cx="122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Georgia"/>
              </a:rPr>
              <a:t>Cli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876920" y="1676520"/>
            <a:ext cx="799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Georgia"/>
              </a:rPr>
              <a:t>sniff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22860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0" y="1676520"/>
            <a:ext cx="1000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Georgia"/>
              </a:rPr>
              <a:t>Serv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896000" y="4181400"/>
            <a:ext cx="742680" cy="2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RFMON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48040" y="5400720"/>
            <a:ext cx="110484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solidFill>
                  <a:srgbClr val="00051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Access Point</a:t>
            </a:r>
            <a:endParaRPr b="0" i="1" lang="en-US" sz="1600" spc="1" strike="noStrike">
              <a:ln w="0">
                <a:noFill/>
              </a:ln>
              <a:solidFill>
                <a:srgbClr val="00051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4114800"/>
            <a:ext cx="15238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 rot="1732800">
            <a:off x="1371240" y="4638600"/>
            <a:ext cx="173340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ART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 rot="1732800">
            <a:off x="1085400" y="5105160"/>
            <a:ext cx="17337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0:03:2F:00:E2:8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 rot="1725000">
            <a:off x="1371240" y="4571640"/>
            <a:ext cx="22860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200560" y="4876920"/>
            <a:ext cx="17337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ART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219640" y="5410080"/>
            <a:ext cx="17337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0:03:2F:00:E2:8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181480" y="5172120"/>
            <a:ext cx="22860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 rot="5400000">
            <a:off x="7481520" y="4481640"/>
            <a:ext cx="1733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ART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 rot="5400000">
            <a:off x="6948360" y="4481280"/>
            <a:ext cx="173340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0:03:2F:00:E2:8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1" name=""/>
          <p:cNvSpPr txBox="1"/>
          <p:nvPr/>
        </p:nvSpPr>
        <p:spPr>
          <a:xfrm rot="5400000">
            <a:off x="7967520" y="3767040"/>
            <a:ext cx="22860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47800" y="3962520"/>
            <a:ext cx="12859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Lucida Console"/>
              </a:rPr>
              <a:t>UDP Packet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Lucida Console"/>
              <a:ea typeface="Lucida Console"/>
            </a:endParaRPr>
          </a:p>
        </p:txBody>
      </p:sp>
      <p:sp>
        <p:nvSpPr>
          <p:cNvPr id="393" name=""/>
          <p:cNvSpPr txBox="1"/>
          <p:nvPr/>
        </p:nvSpPr>
        <p:spPr>
          <a:xfrm rot="1896000">
            <a:off x="1771200" y="4333680"/>
            <a:ext cx="17337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OP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952880" y="6238800"/>
            <a:ext cx="17337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OP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 rot="5400000">
            <a:off x="6252840" y="4424400"/>
            <a:ext cx="1733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OP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 rot="1825200">
            <a:off x="1447560" y="4572000"/>
            <a:ext cx="1733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PORT_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971960" y="5781600"/>
            <a:ext cx="17337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PORT_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 rot="5400000">
            <a:off x="6786360" y="4405320"/>
            <a:ext cx="1733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PORT_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 rot="5400000">
            <a:off x="6752880" y="4467240"/>
            <a:ext cx="1047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276880" y="5791320"/>
            <a:ext cx="1047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 rot="2111400">
            <a:off x="2152800" y="4190760"/>
            <a:ext cx="1047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656000" y="3786480"/>
            <a:ext cx="1647360" cy="115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2209680"/>
            <a:ext cx="152640" cy="228600"/>
          </a:xfrm>
          <a:prstGeom prst="upDownArrow">
            <a:avLst>
              <a:gd name="adj1" fmla="val 50000"/>
              <a:gd name="adj2" fmla="val 2981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8486000">
            <a:off x="3436560" y="4917600"/>
            <a:ext cx="801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6" y="2413"/>
                </a:moveTo>
                <a:arcTo wR="10800" hR="10800" stAng="-7743034" swAng="4628015"/>
                <a:lnTo>
                  <a:pt x="10800" y="10800"/>
                </a:lnTo>
                <a:close/>
              </a:path>
              <a:path fill="none" w="21600" h="21600">
                <a:moveTo>
                  <a:pt x="3996" y="2413"/>
                </a:moveTo>
                <a:arcTo wR="10800" hR="10800" stAng="-7743034" swAng="46280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8481200">
            <a:off x="2966760" y="4826160"/>
            <a:ext cx="988920" cy="75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2" y="5659"/>
                </a:moveTo>
                <a:arcTo wR="10800" hR="10800" stAng="-9094639" swAng="7478534"/>
                <a:lnTo>
                  <a:pt x="10800" y="10800"/>
                </a:lnTo>
                <a:close/>
              </a:path>
              <a:path fill="none" w="21600" h="21600">
                <a:moveTo>
                  <a:pt x="1302" y="5659"/>
                </a:moveTo>
                <a:arcTo wR="10800" hR="10800" stAng="-9094639" swAng="747853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8481200">
            <a:off x="3208680" y="4844520"/>
            <a:ext cx="1034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68" y="3260"/>
                </a:moveTo>
                <a:arcTo wR="10800" hR="10800" stAng="-8143096" swAng="5444690"/>
                <a:lnTo>
                  <a:pt x="10800" y="10800"/>
                </a:lnTo>
                <a:close/>
              </a:path>
              <a:path fill="none" w="21600" h="21600">
                <a:moveTo>
                  <a:pt x="3068" y="3260"/>
                </a:moveTo>
                <a:arcTo wR="10800" hR="10800" stAng="-8143096" swAng="544469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 rot="18784200">
            <a:off x="2804040" y="4764960"/>
            <a:ext cx="660240" cy="172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ACK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08" name=""/>
          <p:cNvSpPr/>
          <p:nvPr/>
        </p:nvSpPr>
        <p:spPr>
          <a:xfrm rot="19187400">
            <a:off x="1370160" y="3601800"/>
            <a:ext cx="801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6" y="2413"/>
                </a:moveTo>
                <a:arcTo wR="10800" hR="10800" stAng="-7743034" swAng="4628015"/>
                <a:lnTo>
                  <a:pt x="10800" y="10800"/>
                </a:lnTo>
                <a:close/>
              </a:path>
              <a:path fill="none" w="21600" h="21600">
                <a:moveTo>
                  <a:pt x="3996" y="2413"/>
                </a:moveTo>
                <a:arcTo wR="10800" hR="10800" stAng="-7743034" swAng="46280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9184400">
            <a:off x="1473480" y="3768480"/>
            <a:ext cx="988920" cy="75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2" y="5659"/>
                </a:moveTo>
                <a:arcTo wR="10800" hR="10800" stAng="-9094639" swAng="7478534"/>
                <a:lnTo>
                  <a:pt x="10800" y="10800"/>
                </a:lnTo>
                <a:close/>
              </a:path>
              <a:path fill="none" w="21600" h="21600">
                <a:moveTo>
                  <a:pt x="1302" y="5659"/>
                </a:moveTo>
                <a:arcTo wR="10800" hR="10800" stAng="-9094639" swAng="747853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9179600">
            <a:off x="1387080" y="3672360"/>
            <a:ext cx="1034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68" y="3260"/>
                </a:moveTo>
                <a:arcTo wR="10800" hR="10800" stAng="-8143096" swAng="5444690"/>
                <a:lnTo>
                  <a:pt x="10800" y="10800"/>
                </a:lnTo>
                <a:close/>
              </a:path>
              <a:path fill="none" w="21600" h="21600">
                <a:moveTo>
                  <a:pt x="3068" y="3260"/>
                </a:moveTo>
                <a:arcTo wR="10800" hR="10800" stAng="-8143096" swAng="544469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943600" y="1905120"/>
            <a:ext cx="6858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198108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29400" y="198108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743200" y="1619280"/>
            <a:ext cx="685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T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16765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743200" y="1981080"/>
            <a:ext cx="685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17" name=""/>
          <p:cNvSpPr/>
          <p:nvPr/>
        </p:nvSpPr>
        <p:spPr>
          <a:xfrm>
            <a:off x="2362320" y="2057400"/>
            <a:ext cx="304560" cy="76320"/>
          </a:xfrm>
          <a:prstGeom prst="right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500"/>
                            </p:stCondLst>
                            <p:childTnLst>
                              <p:par>
                                <p:cTn id="519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000"/>
                            </p:stCondLst>
                            <p:childTnLst>
                              <p:par>
                                <p:cTn id="52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9500"/>
                            </p:stCondLst>
                            <p:childTnLst>
                              <p:par>
                                <p:cTn id="539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6" dur="250" autoRev="1" fill="hold"/>
                                        <p:tgtEl>
                                          <p:spTgt spid="3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250" autoRev="1" fill="hold"/>
                                        <p:tgtEl>
                                          <p:spTgt spid="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2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4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5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1" dur="250" autoRev="1" fill="hold"/>
                                        <p:tgtEl>
                                          <p:spTgt spid="3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5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500"/>
                            </p:stCondLst>
                            <p:childTnLst>
                              <p:par>
                                <p:cTn id="761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9000"/>
                            </p:stCondLst>
                            <p:childTnLst>
                              <p:par>
                                <p:cTn id="77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6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500"/>
                            </p:stCondLst>
                            <p:childTnLst>
                              <p:par>
                                <p:cTn id="8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7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8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650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1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80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95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9500"/>
                            </p:stCondLst>
                            <p:childTnLst>
                              <p:par>
                                <p:cTn id="942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2800" spc="-1" strike="noStrike" u="sng">
                <a:solidFill>
                  <a:srgbClr val="e5e5ff"/>
                </a:solidFill>
                <a:uFillTx/>
                <a:latin typeface="Garamond"/>
              </a:rPr>
              <a:t>M.Tech Thesis Presentation</a:t>
            </a:r>
            <a:br>
              <a:rPr sz="2800"/>
            </a:br>
            <a:br>
              <a:rPr sz="20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LAN Watch: A Step Towards The Study Of 802.11b Wireless LAN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963960"/>
            <a:ext cx="403848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pervis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. Pravin Bhagw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3963960"/>
            <a:ext cx="403848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resented b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. Imtiaz ur raha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FFIC PARAMETERS: SPECIFIED TRAFFIC COUNT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FFIC PARAMETERS: UDP PACKET BODY (IN BYTES)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OTAL PACKETS SNIFFE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7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OTAL CORRUPTED PACKET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0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13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14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16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62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72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OTAL DUPLICATES FOUN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OTAL PACKETS LOS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4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–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ERROR RATE  - PERCENTAG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4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PACKET LOSS - PERCENTAG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1.6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HROUGHPU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804. Kb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Traffic – 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tination 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urce 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tination 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_DATA_S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NO_ST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NO_S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NO_REDUNDAN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FFIC_COU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_CONT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"/>
          <p:cNvSpPr/>
          <p:nvPr/>
        </p:nvSpPr>
        <p:spPr>
          <a:xfrm>
            <a:off x="4876920" y="160020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00"/>
                </a:lnTo>
                <a:cubicBezTo>
                  <a:pt x="10800" y="9600"/>
                  <a:pt x="16200" y="10500"/>
                  <a:pt x="21600" y="10500"/>
                </a:cubicBezTo>
                <a:cubicBezTo>
                  <a:pt x="16200" y="10500"/>
                  <a:pt x="10800" y="11400"/>
                  <a:pt x="10800" y="123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76920" y="3276720"/>
            <a:ext cx="304560" cy="144756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45"/>
                </a:lnTo>
                <a:cubicBezTo>
                  <a:pt x="10800" y="9545"/>
                  <a:pt x="16200" y="10445"/>
                  <a:pt x="21600" y="10445"/>
                </a:cubicBezTo>
                <a:cubicBezTo>
                  <a:pt x="16200" y="10445"/>
                  <a:pt x="10800" y="11345"/>
                  <a:pt x="10800" y="1224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686560" y="1990800"/>
            <a:ext cx="2162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PACKET HEADER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686560" y="3809880"/>
            <a:ext cx="216216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PACKET BODY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8" name=""/>
          <p:cNvSpPr/>
          <p:nvPr/>
        </p:nvSpPr>
        <p:spPr>
          <a:xfrm>
            <a:off x="4876920" y="52578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00"/>
                </a:lnTo>
                <a:cubicBezTo>
                  <a:pt x="10800" y="9600"/>
                  <a:pt x="16200" y="10500"/>
                  <a:pt x="21600" y="10500"/>
                </a:cubicBezTo>
                <a:cubicBezTo>
                  <a:pt x="16200" y="10500"/>
                  <a:pt x="10800" y="11400"/>
                  <a:pt x="10800" y="123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686560" y="5410080"/>
            <a:ext cx="216216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TRAFFIC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Traffic -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"/>
          <p:cNvSpPr/>
          <p:nvPr/>
        </p:nvSpPr>
        <p:spPr>
          <a:xfrm>
            <a:off x="838080" y="1676520"/>
            <a:ext cx="7315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3200" y="1911240"/>
            <a:ext cx="12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Garamond"/>
              </a:rPr>
              <a:t>000</a:t>
            </a:r>
            <a:r>
              <a:rPr b="0" lang="en-US" sz="2400" spc="-1" strike="noStrike">
                <a:solidFill>
                  <a:srgbClr val="00ff00"/>
                </a:solidFill>
                <a:latin typeface="Garamond"/>
              </a:rPr>
              <a:t>1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48600" y="19051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Garamond"/>
              </a:rPr>
              <a:t>0001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5640" y="19051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Garamond"/>
              </a:rPr>
              <a:t>0001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7180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30440" y="19051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Garamond"/>
              </a:rPr>
              <a:t>0001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292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41148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ACKET_DATA_SIZE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SEQNO_START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1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SEQNO_SIZE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SEQNO_REDUNDANCY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6708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.. abcxyz ..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38480" y="31240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2428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00 – (4*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3848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6292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1676520"/>
            <a:ext cx="73152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3124080"/>
            <a:ext cx="106704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2743200"/>
            <a:ext cx="0" cy="685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05120" y="2743200"/>
            <a:ext cx="0" cy="685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37080" y="27432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SEQ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04760" y="31240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WLAN Watch - Experi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514600"/>
            <a:ext cx="1447560" cy="1066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04812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2590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2590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1828800"/>
            <a:ext cx="2209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251460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648320" y="3581280"/>
            <a:ext cx="1447560" cy="1067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48320" y="5257800"/>
            <a:ext cx="1447560" cy="1066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828800" y="4648320"/>
            <a:ext cx="19051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142640" y="5257800"/>
            <a:ext cx="35053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28800" y="1905120"/>
            <a:ext cx="0" cy="22096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4114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33720" y="4191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34290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905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297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48769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7800" y="548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267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32767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638680" y="25909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19920" y="1981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13716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3124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13716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6292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2920" y="2362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2819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886880" y="1905120"/>
            <a:ext cx="3427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620120" y="22860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7620120" y="27432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1066680"/>
            <a:ext cx="175248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172200" y="327672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S3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72200" y="43434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S3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72200" y="57150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S3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438280" y="419112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ai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920" y="4267080"/>
            <a:ext cx="761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04920" y="2209680"/>
            <a:ext cx="761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562720" y="1523880"/>
            <a:ext cx="990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S3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819520" y="1371600"/>
            <a:ext cx="761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13716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1295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86600" y="1600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7696080" y="1209600"/>
            <a:ext cx="83844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96080" y="1523880"/>
            <a:ext cx="838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Information From RxLo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569600"/>
            <a:ext cx="73915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 Packet Signal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 of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 of corrupted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 of uncorrupted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centage of corrupted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centage of uncorrupted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739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orrupted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219320" y="2349360"/>
          <a:ext cx="2590560" cy="3502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gnal Level Inter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 of Traff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-1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Plotting Graph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8" name=""/>
          <p:cNvSpPr/>
          <p:nvPr/>
        </p:nvSpPr>
        <p:spPr>
          <a:xfrm>
            <a:off x="4952880" y="1739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Uncorrupted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054760" y="2362320"/>
          <a:ext cx="2641320" cy="3511440"/>
        </p:xfrm>
        <a:graphic>
          <a:graphicData uri="http://schemas.openxmlformats.org/drawingml/2006/table">
            <a:tbl>
              <a:tblPr/>
              <a:tblGrid>
                <a:gridCol w="1320480"/>
                <a:gridCol w="1320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gnal Level Inter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 of Traff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-1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.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ener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rts Prism-II &amp; Cisco Aironet card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UI to configure the c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y the driver to be load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ociate with a given Access Point in infrastructure mo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u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P Address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tmask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teway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u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696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niff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nge the sniffing chann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g the sniffed packe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gnal level and noise level of each sniffed packe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raffic Tu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nge packet size, Sequence number redundancy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ffic Cou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ffic Cont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at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 Packet Signal Lev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 Packet Noise Lev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 in R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s corrupted in R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s duplicated in Rx (along with their sequence number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latform for conducting other experi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802.11b Wireless LA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2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02.11b - MAC layer standard for wireless LA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LAN networks found in Airports, Coffee shops, Universities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ndwidth : 11Mbp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ed to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STU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he WLA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ggest possible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IMPROVEME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adequate </a:t>
            </a:r>
            <a:r>
              <a:rPr b="0" lang="en-US" sz="2400" spc="-1" strike="noStrike">
                <a:solidFill>
                  <a:srgbClr val="00ff00"/>
                </a:solidFill>
                <a:latin typeface="Garamond"/>
              </a:rPr>
              <a:t>TOOL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vailab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laptop"/>
          <p:cNvSpPr/>
          <p:nvPr/>
        </p:nvSpPr>
        <p:spPr>
          <a:xfrm>
            <a:off x="5105520" y="2209680"/>
            <a:ext cx="685800" cy="457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aptop"/>
          <p:cNvSpPr/>
          <p:nvPr/>
        </p:nvSpPr>
        <p:spPr>
          <a:xfrm>
            <a:off x="7086600" y="2133720"/>
            <a:ext cx="685800" cy="457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aptop"/>
          <p:cNvSpPr/>
          <p:nvPr/>
        </p:nvSpPr>
        <p:spPr>
          <a:xfrm>
            <a:off x="7543800" y="5410080"/>
            <a:ext cx="609480" cy="381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aptop"/>
          <p:cNvSpPr/>
          <p:nvPr/>
        </p:nvSpPr>
        <p:spPr>
          <a:xfrm>
            <a:off x="5562720" y="5486400"/>
            <a:ext cx="685800" cy="380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modem"/>
          <p:cNvSpPr/>
          <p:nvPr/>
        </p:nvSpPr>
        <p:spPr>
          <a:xfrm>
            <a:off x="5791320" y="3809880"/>
            <a:ext cx="1066680" cy="3049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629400" y="2743200"/>
            <a:ext cx="609480" cy="99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743200"/>
            <a:ext cx="685800" cy="99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267080"/>
            <a:ext cx="838440" cy="99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4266720"/>
            <a:ext cx="38088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aptop"/>
          <p:cNvSpPr/>
          <p:nvPr/>
        </p:nvSpPr>
        <p:spPr>
          <a:xfrm>
            <a:off x="8153280" y="3276720"/>
            <a:ext cx="685800" cy="457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934320" y="3657240"/>
            <a:ext cx="114300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orward Di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lementing forward error corr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ffect of co-channel interference 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al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is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orward Di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ffect of transmission rate 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ffect of distance 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gnal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orward Di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ffect of packet size 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ffect of mobility 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gnal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orward Di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ptimally setting up the A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cover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throughpu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interfe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1600200" y="2590920"/>
            <a:ext cx="5562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 you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hat Sort Of Tool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rror patter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niff all packets including corrupted ones, map to the original packet - Error Corr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al level r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re huge % of packets get corrupted (PPS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ritical signal leve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low which packets are lost (PPS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acket siz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yond which most of the packets get corrupt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hat Sort Of Tool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ffect O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wer, load on AP etc., on packet loss and packet corruption rati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 for multiple NIC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nux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Exist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niff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log corrupted packets. Hence do not help in Error Corre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ignal 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w signal strength of signal received from the AP connected t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per packet in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Exist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ow experimentation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’t conduct experiments with desired traffi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cified packet size, power level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o idea ab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ror patterns, packet loss ratio, packet corruption ratio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eneric Device Driver for 802.11b 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ndardize the Driver-Application Interfa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Build Generic Too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Hence, setup a stage to study and suggest any possible improvements in 802.11b WLA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Architecture - Over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514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039080" y="175248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010280" y="35053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666880"/>
            <a:ext cx="685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 rot="5400000">
            <a:off x="3961800" y="312408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CP/I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1752480"/>
            <a:ext cx="3352680" cy="5335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590920"/>
            <a:ext cx="457200" cy="1600200"/>
          </a:xfrm>
          <a:custGeom>
            <a:avLst/>
            <a:gdLst>
              <a:gd name="textAreaLeft" fmla="*/ 16884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352680" y="6172200"/>
            <a:ext cx="259092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Wireless N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19120" y="5562720"/>
            <a:ext cx="246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Firmw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1600" y="4419720"/>
            <a:ext cx="1981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4. D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47920" y="3886200"/>
            <a:ext cx="2295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86400" y="2743200"/>
            <a:ext cx="2114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6. ioctls, /pro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920" y="5019840"/>
            <a:ext cx="2276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Interf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8:09:50Z</dcterms:created>
  <dc:creator>Digital Gangetic Plains</dc:creator>
  <dc:description/>
  <dc:language>en-US</dc:language>
  <cp:lastModifiedBy>Digital Gangetic Plains</cp:lastModifiedBy>
  <dcterms:modified xsi:type="dcterms:W3CDTF">2003-04-16T16:17:36Z</dcterms:modified>
  <cp:revision>450</cp:revision>
  <dc:subject/>
  <dc:title>Thesis presentation</dc:title>
</cp:coreProperties>
</file>