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4EC7-3DEB-4239-8F89-3C282396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DDE6-708A-40D6-9B29-327890BF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4DC5-13FB-4E14-9381-0557F051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C8C7-FD71-43E6-BC26-77CC77D8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13A4-49F9-4754-86D5-DF6F0DE5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2D9D-5CA9-4938-9CB1-49A64300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57AD-A835-4AC1-BC36-25C97516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37C3-31BB-4B51-99FC-CBB6C000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E006-028B-4311-8280-917F0A28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A4B9-9827-4A73-85C0-C9A1578B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8B85-BB26-4FF7-A255-9FD89C0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933B-5FE4-4708-9F66-CE13807E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FC34-B284-4266-BF97-E52B26C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EFA9-9EB7-4D62-8AEF-9EF9C8D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716C-CA32-43A8-A93B-B825E85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83F1-3A48-49CA-8871-50397496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644E-AC68-4AA2-9740-2432F8B0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60D8-E26F-4B2C-B08F-C70DCB85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E449-B8AF-49B3-8BB5-5B05D2BF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5D5F-0139-4380-8A6F-9BAF419B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EC73-4996-42C8-9740-8260E608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6AEF-7251-448C-8950-B17A1A9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A18B-E82A-4FC4-A167-59E66507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84A0-E0E2-4499-8E52-B8D05346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0E11-F8C0-42F8-92CB-F8BFC70ED2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E813-AE65-41BB-B642-2322A69DDE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Experimental Validation of Simultaneous Operation in an 802.11 Multi-hop Mesh Network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5800" y="2743200"/>
            <a:ext cx="807732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reekanth Garigala (Y21112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nder the guidance o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r. Phalguni Gupta &amp; Dr. Bhaskaran Ra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802.11 MAC protocol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rier Sense Medium Access with Collision Avoidance (CSMA/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 before trans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tual Carrier Sense mech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Request to Transmit (RTS) and Clear to Send (CTS) pa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mall number of nodes contending for medium ind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suitable in networks where all l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-to-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Spatial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Reuse Time Division Multiple Access (STDMA) Protocol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divided into slots and assigned to each 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tial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ing of transmissions such that a time slot shared when radio units are geographically separated to obtain minimum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what transmissions can be carried out simultaneous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depends on how much  spatial reuse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STDMA (contd..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m : To maximize spatial re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ni directional antenna at a 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cast same information to all n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transmit independent information simultaneous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ional antennae at a 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ility  of simultaneous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now no substantial research work has been done on how to utilize directional antennae to increase spatial re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Directional antennae at a node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33920" y="3505320"/>
            <a:ext cx="685800" cy="685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0800000">
            <a:off x="4191120" y="2853000"/>
            <a:ext cx="815040" cy="84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15509400">
            <a:off x="4319640" y="3899520"/>
            <a:ext cx="815040" cy="84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21456000">
            <a:off x="3106800" y="3970440"/>
            <a:ext cx="815040" cy="84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158800">
            <a:off x="3007440" y="2912040"/>
            <a:ext cx="8157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419720" y="297180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4191120"/>
            <a:ext cx="3808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276720" y="4191120"/>
            <a:ext cx="3808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123720" y="3048120"/>
            <a:ext cx="3812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2666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wards neighbour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029200" y="4419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wards neighbour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90720" y="25909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wards neighbour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90720" y="4572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wards neighbour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57600" y="5105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d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Our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and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lusion &amp; Future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Scenario with 3 nod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200400"/>
            <a:ext cx="38088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828800" y="1981080"/>
            <a:ext cx="380880" cy="3812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2305080" y="2724120"/>
            <a:ext cx="320040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0" name=""/>
          <p:cNvSpPr/>
          <p:nvPr/>
        </p:nvSpPr>
        <p:spPr>
          <a:xfrm flipV="1" rot="8675400">
            <a:off x="587880" y="2965680"/>
            <a:ext cx="44100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 rot="19374600">
            <a:off x="1395360" y="2262600"/>
            <a:ext cx="45684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 rot="12197400">
            <a:off x="600840" y="3453840"/>
            <a:ext cx="441000" cy="3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 rot="1545600">
            <a:off x="1770840" y="3974400"/>
            <a:ext cx="44100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3372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0" y="4572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880" y="373392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04920" y="28195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1981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4343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85800" y="23623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35812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1752480"/>
            <a:ext cx="5257800" cy="26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ee situ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ultaneous Reception (Sim-R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ultaneous Transmission (Sim-T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mitting on one link and Receiving on the other link (mix-Rx-T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28600" y="419112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Node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Possibilities?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-Rx and sim-Tx are potentially possible and collectively called as </a:t>
            </a:r>
            <a:r>
              <a:rPr b="0" i="1" lang="en-US" sz="2400" spc="-1" strike="noStrike">
                <a:solidFill>
                  <a:srgbClr val="ff9933"/>
                </a:solidFill>
                <a:latin typeface="Arial"/>
              </a:rPr>
              <a:t>Simultaneous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-Rx-Tx not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node N transmitting along one link, radiation power near to it is quite high which interfere with reception on other 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Channel Issu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e transmissions are in a single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2.11 defines at least  11 channe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5040" y="3048120"/>
            <a:ext cx="7815240" cy="1440"/>
          </a:xfrm>
          <a:custGeom>
            <a:avLst/>
            <a:gdLst/>
            <a:ahLst/>
            <a:rect l="l" t="t" r="r" b="b"/>
            <a:pathLst>
              <a:path w="5328" h="1">
                <a:moveTo>
                  <a:pt x="0" y="0"/>
                </a:moveTo>
                <a:cubicBezTo>
                  <a:pt x="888" y="0"/>
                  <a:pt x="4218" y="0"/>
                  <a:pt x="5328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455760" y="2895480"/>
            <a:ext cx="14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00476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5268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0168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64960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9896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4652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29588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9588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4344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9280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4036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48972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03728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03728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13420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586640" y="28972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5228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9548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2900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6252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10552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4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63868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5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7220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5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70572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23888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848720" y="2590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72  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1932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75248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362320" y="2590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0880" y="3280680"/>
            <a:ext cx="236232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3737880"/>
            <a:ext cx="236232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23880" y="4199760"/>
            <a:ext cx="236232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81080" y="4652280"/>
            <a:ext cx="236232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590920" y="5109480"/>
            <a:ext cx="23619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48120" y="3280680"/>
            <a:ext cx="23619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57600" y="3737880"/>
            <a:ext cx="236232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4199760"/>
            <a:ext cx="236232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24280" y="4652280"/>
            <a:ext cx="236232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34120" y="5109480"/>
            <a:ext cx="23619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867280" y="3280680"/>
            <a:ext cx="236232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Channel</a:t>
            </a:r>
            <a:r>
              <a:rPr b="0" lang="en-US" sz="1800" spc="-1" strike="noStrike">
                <a:solidFill>
                  <a:srgbClr val="52527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2527c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3200400"/>
            <a:ext cx="609480" cy="914400"/>
          </a:xfrm>
          <a:prstGeom prst="rect">
            <a:avLst/>
          </a:prstGeom>
          <a:noFill/>
          <a:ln w="9360">
            <a:solidFill>
              <a:srgbClr val="ff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914040" y="373392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57150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ee channels (1,6 and 11) are non-overl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tral efficiency: use minimum number of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Channel Issues (contd..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omni directional antennae,  maximum three links at a node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directional antennae, simultaneous operation at a node in the same channel is possi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careful consideration of signal lev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Signal-to-interference Ratio (SIR)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R: difference between main signal level and interferenc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req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r correct reception, main signal level must be some extent greater than noise le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at a link is caused mainly by the side-lobe leakage of the parabolic grid ante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and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lusion &amp; Future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Radiation pattern of a parabolic grid antenna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657600" cy="3589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 flipV="1">
            <a:off x="5486400" y="28954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4191120" y="2361960"/>
            <a:ext cx="213336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781680" y="27432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n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324480" y="20574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de-lo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57200" y="58672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ide-lobe rejection leve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The difference between radiations along main direction and side-lo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Effect of side-lobes on Simultaneous Operation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8600" y="3200400"/>
            <a:ext cx="38088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828800" y="1981080"/>
            <a:ext cx="380880" cy="3812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 rot="8675400">
            <a:off x="587880" y="2965680"/>
            <a:ext cx="44100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 rot="19374600">
            <a:off x="1395360" y="2262600"/>
            <a:ext cx="45684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 rot="12197400">
            <a:off x="600840" y="3453840"/>
            <a:ext cx="441000" cy="3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 rot="1545600">
            <a:off x="1770840" y="3974400"/>
            <a:ext cx="44100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13372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4572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80880" y="373392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4920" y="28195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371600" y="1981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676520" y="4343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685800" y="23623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" y="35812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57200" y="5181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ultaneous Rec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657600" y="1905120"/>
            <a:ext cx="4952880" cy="18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erence seen by a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signal receive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a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Side-lobe rejection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n SIR equals or exceeds SI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reqd,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multaneous Operation is pos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4114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Node 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2-Phase MAC protocol using Simultaneous Operation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-Phase – Each node alternates between Sim-Rx  and Sim-T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node transmits, all its neighbours receive and vice-ver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s maximum link utilization: A link is always active in one direction or the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efficient than CSMA/CA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Applicability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approach can be applied to any network satisfying the follow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he links are point-to-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odes have directional antennae towards each of its neighb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fficient side-lobe rejection level (such that it provides SI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req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is prov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Our Work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mentally proving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multaneous  Transmiss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SI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req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rror free operation of the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Experimental proo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kage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path eff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and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lusion &amp; Future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roper means of controlling power levels outd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 Frequency (RF) waves over long di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F behaviour depends on atmospheric conditions, multi-path eff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s of one experiment run may not match with other r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ly performed indoor exper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F c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of interference between Access Points solved by physical s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ing acknowledgements using UDP broadc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al runs of the same experiment outd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Theoretical calculation of SIR </a:t>
            </a:r>
            <a:r>
              <a:rPr b="0" lang="en-US" sz="2800" spc="-1" strike="noStrike" baseline="-25000">
                <a:solidFill>
                  <a:srgbClr val="dfdef6"/>
                </a:solidFill>
                <a:latin typeface="Arial"/>
              </a:rPr>
              <a:t>reqd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on between SIR and Bit Error Rate (B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ompare this theoretical value with experimental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838080" y="2514600"/>
                <a:ext cx="7162920" cy="23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5</m:t>
                            </m:r>
                          </m:den>
                        </m:f>
                        <m:r>
                          <m:t xml:space="preserve">×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Q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4</m:t>
                                        </m:r>
                                        <m:r>
                                          <m:t xml:space="preserve">×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R</m:t>
                                        </m:r>
                                      </m:e>
                                    </m:rad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Q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4</m:t>
                                        </m:r>
                                        <m:r>
                                          <m:t xml:space="preserve">×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R</m:t>
                                        </m:r>
                                      </m:e>
                                    </m:rad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Q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8</m:t>
                                        </m:r>
                                        <m:r>
                                          <m:t xml:space="preserve">×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R</m:t>
                                        </m:r>
                                      </m:e>
                                    </m:rad>
                                  </m:e>
                                </m:d>
                                <m:r>
                                  <m:t xml:space="preserve">+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8" name=""/>
          <p:cNvSpPr/>
          <p:nvPr/>
        </p:nvSpPr>
        <p:spPr>
          <a:xfrm>
            <a:off x="762120" y="510552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a desired BER of 10e-9, SI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req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hould be 10 d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Experiments and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lusion &amp; Future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Experiment to prove that mix-Rx-Tx is not possible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28800" y="1981080"/>
            <a:ext cx="380880" cy="3812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 rot="8675400">
            <a:off x="587880" y="2965680"/>
            <a:ext cx="44100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 rot="19374600">
            <a:off x="1395360" y="2262600"/>
            <a:ext cx="45684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 rot="12197400">
            <a:off x="600840" y="3453840"/>
            <a:ext cx="441000" cy="3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 rot="1545600">
            <a:off x="1770840" y="3974400"/>
            <a:ext cx="44100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13372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0" y="4572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0880" y="373392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04920" y="28195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371600" y="1981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676520" y="4343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85800" y="23623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35812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295280" y="3657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143000" y="2743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685800" y="274284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2438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28600" y="3200400"/>
            <a:ext cx="38088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962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de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51055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and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lusion &amp; Future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rcRect l="20315" t="25004" r="15626" b="45834"/>
          <a:stretch/>
        </p:blipFill>
        <p:spPr>
          <a:xfrm>
            <a:off x="1295280" y="1905120"/>
            <a:ext cx="6858000" cy="234144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457200" y="49528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ble showing the effect of acknowledgements in Simultaneous Rec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SIR</a:t>
            </a:r>
            <a:r>
              <a:rPr b="0" lang="en-US" sz="2800" spc="-1" strike="noStrike" baseline="-25000">
                <a:solidFill>
                  <a:srgbClr val="dfdef6"/>
                </a:solidFill>
                <a:latin typeface="Arial"/>
              </a:rPr>
              <a:t>reqd </a:t>
            </a: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calculation for simultaneous operation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" y="3200400"/>
            <a:ext cx="38088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828800" y="1981080"/>
            <a:ext cx="380880" cy="3812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 rot="8675400">
            <a:off x="587880" y="2965680"/>
            <a:ext cx="44100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 rot="19374600">
            <a:off x="1395360" y="2262600"/>
            <a:ext cx="45684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 rot="12197400">
            <a:off x="600840" y="3453840"/>
            <a:ext cx="441000" cy="3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 rot="1545600">
            <a:off x="1770840" y="3974400"/>
            <a:ext cx="44100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3372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4572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80880" y="373392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04920" y="28195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371600" y="1981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4343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85800" y="23623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35812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2280" y="4419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Node 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541008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rcRect l="7032" t="17709" r="10155" b="15627"/>
          <a:stretch/>
        </p:blipFill>
        <p:spPr>
          <a:xfrm>
            <a:off x="380880" y="1066680"/>
            <a:ext cx="7620120" cy="46008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1828800" y="57150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oughput vs Interference-to-Signal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6172200"/>
            <a:ext cx="777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req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s around 10 to 15 d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Simultaneous Reception Experiment on the testbed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28600" y="3200400"/>
            <a:ext cx="38088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828800" y="1981080"/>
            <a:ext cx="380880" cy="3812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 rot="8675400">
            <a:off x="587880" y="2965680"/>
            <a:ext cx="44100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 rot="19374600">
            <a:off x="1395360" y="2262600"/>
            <a:ext cx="45684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 rot="12197400">
            <a:off x="600840" y="3453840"/>
            <a:ext cx="441000" cy="3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 rot="1545600">
            <a:off x="1770840" y="3974400"/>
            <a:ext cx="44100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3372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80880" y="373392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28195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371600" y="1981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676520" y="4343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85800" y="23623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35812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52280" y="4419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Node 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828800" y="4648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263760" y="1676520"/>
            <a:ext cx="557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6440" cy="4038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52480" y="53341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oughput vs Interference-to-Signal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09480" y="6172200"/>
            <a:ext cx="586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req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s 10d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Simultaneous Transmission experiment on the testbed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" y="3200400"/>
            <a:ext cx="38088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8800" y="1981080"/>
            <a:ext cx="380880" cy="3812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 rot="8675400">
            <a:off x="587880" y="2965680"/>
            <a:ext cx="44100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 rot="19374600">
            <a:off x="1395360" y="2262600"/>
            <a:ext cx="45684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 rot="12197400">
            <a:off x="600840" y="3453840"/>
            <a:ext cx="441000" cy="3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 rot="1545600">
            <a:off x="1770840" y="3974400"/>
            <a:ext cx="44100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23" y="1137"/>
                </a:moveTo>
                <a:arcTo wR="10800" hR="10800" stAng="-3808662" swAng="7781143"/>
                <a:lnTo>
                  <a:pt x="10800" y="10800"/>
                </a:lnTo>
                <a:close/>
              </a:path>
              <a:path fill="none" w="21600" h="21600">
                <a:moveTo>
                  <a:pt x="15623" y="1137"/>
                </a:moveTo>
                <a:arcTo wR="10800" hR="10800" stAng="-3808662" swAng="7781143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3372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4572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ighbour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3733920"/>
            <a:ext cx="6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04920" y="28195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981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676520" y="4343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685800" y="2362320"/>
            <a:ext cx="9907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35812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2280" y="4419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Node 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556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rcRect l="20001" t="22031" r="16523" b="55943"/>
          <a:stretch/>
        </p:blipFill>
        <p:spPr>
          <a:xfrm>
            <a:off x="304920" y="19051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914400" y="53341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gnal levels vs Throughput in Simultaneous Trans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Conclusion &amp; Future work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ressed the problem of MAC in multi-hop mesh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ed how to maximize spatial reuse using the flexibility of simultaneous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cessfully verified Simultaneous Operation in the 802.11 multi-hop mesh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ed Signal-to-interference ratio required for error free operation which is about 10d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ing the 2-phase protocol in the access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s investigation whether CSMA/CA altogether to be replaced or can be implemented with broadcast messages itsel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666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Low-cost Networking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Aim : Providing network connectivity at low-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-line access technology – expensive and difficult  to depl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networks such as 802.16 and Ricochet – not cost-eff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2.11 family of wireless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Gangetic Plains (DGP)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ce and data communications to rural areas at low-co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2.11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Digital Gangetic Plains (DGP) project  Testbed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 nodes and 11 point-to-point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2.11b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Digital Gangetic Plains (DGP) project  Testbed (contd..)</a:t>
            </a:r>
            <a:br>
              <a:rPr sz="2400"/>
            </a:b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533520" y="1482840"/>
            <a:ext cx="807696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and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lusion &amp; Future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2.11 designed for indoor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outdoor - Several technical challenges must be addr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um Access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and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lusion &amp; Future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06:17:34Z</dcterms:created>
  <dc:creator>Sreekanth</dc:creator>
  <dc:description/>
  <dc:language>en-US</dc:language>
  <cp:lastModifiedBy>Sreekanth</cp:lastModifiedBy>
  <dcterms:modified xsi:type="dcterms:W3CDTF">2004-07-03T07:57:40Z</dcterms:modified>
  <cp:revision>216</cp:revision>
  <dc:subject/>
  <dc:title>Slide 1</dc:title>
</cp:coreProperties>
</file>