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E13BD-ACE4-49C0-AA51-B64CE73D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65BB2-F0B5-433F-BE80-9632407A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293C1-2D39-4254-92F0-B5E8EDBED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01CCE-487D-4A54-B07E-38DE0B3C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F420-D2A7-40BE-A669-AD167B04E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3017-5586-4DC7-94A6-B908AF19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4D17-96C9-4B74-BC11-456DDB43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7E48-F3BE-4805-9702-73697B82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1048-FA13-4172-9800-8C1547FB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6722-DCAB-40DC-9CE6-D5F49B4F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D1BE-A027-4AD9-9AFA-D5DAEBD3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E730E-BD09-45BA-9139-03C41C6E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BC26-872A-4B4E-8628-5E11A695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2263-49E5-4055-8376-7994FC82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7E0A-0B3D-4FDB-AF9A-5277F9DA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031F-1E6F-4D9D-9E9E-78F6D403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CDB8-9A95-49D6-BC1B-B8EDD399F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26DB8-9A30-45E4-BF6B-3908A68F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FDE11-8DC3-492F-B1A9-66B7A177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ACB18-44DF-44E9-9A47-3787097D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72E12-7F3A-49F7-A654-644288EC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9A5AD-5295-44A1-9A35-45B8F64A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C984D-4F02-4377-838E-EF8EC43C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6172F-0EDD-4FEA-853A-0D3405B6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D36A-3555-4C54-9411-F8AE5D03A2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BC5D-A92C-4E8C-BED0-384E42631C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8195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M.Tech Thesis Presentation</a:t>
            </a:r>
            <a:br>
              <a:rPr sz="4000"/>
            </a:br>
            <a:br>
              <a:rPr sz="2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Generic Device Driv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152388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59092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487692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039080" y="1905120"/>
            <a:ext cx="1571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pplication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020000" y="3571920"/>
            <a:ext cx="8287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Kerne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010280" y="5562720"/>
            <a:ext cx="12286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ardwar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5791320"/>
            <a:ext cx="1524240" cy="3045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50000">
                <a:srgbClr val="000514"/>
              </a:gs>
              <a:gs pos="100000">
                <a:srgbClr val="0099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5791320"/>
            <a:ext cx="1523880" cy="3045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50000">
                <a:srgbClr val="000514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28600" y="5791320"/>
            <a:ext cx="2028960" cy="39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1. Multiple Vendo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2971800" y="5334120"/>
            <a:ext cx="114300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000514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05520" y="5334120"/>
            <a:ext cx="1143000" cy="4572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000514"/>
              </a:gs>
              <a:gs pos="100000">
                <a:srgbClr val="0099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28600" y="5410080"/>
            <a:ext cx="24670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2. Different Firmwar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4343400"/>
            <a:ext cx="1143000" cy="457200"/>
          </a:xfrm>
          <a:prstGeom prst="rect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05520" y="4343400"/>
            <a:ext cx="1143000" cy="457200"/>
          </a:xfrm>
          <a:prstGeom prst="rect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28600" y="4343400"/>
            <a:ext cx="198108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514"/>
                </a:solidFill>
                <a:latin typeface="Comic Sans MS"/>
              </a:rPr>
              <a:t>4. Generic Driv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514"/>
              </a:solidFill>
              <a:latin typeface="Comic Sans MS"/>
              <a:ea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3962520"/>
            <a:ext cx="685800" cy="3045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3962520"/>
            <a:ext cx="685800" cy="3045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ffffff"/>
              </a:gs>
              <a:gs pos="100000">
                <a:srgbClr val="0099c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28600" y="3962520"/>
            <a:ext cx="21337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5. NIC - INF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47680" y="3419640"/>
            <a:ext cx="2114640" cy="39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514"/>
                </a:solidFill>
                <a:latin typeface="Comic Sans MS"/>
              </a:rPr>
              <a:t>6. Standard AP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514"/>
              </a:solidFill>
              <a:latin typeface="Comic Sans MS"/>
              <a:ea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2971800" y="4952880"/>
            <a:ext cx="1143000" cy="3049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50000">
                <a:srgbClr val="ffffff"/>
              </a:gs>
              <a:gs pos="100000">
                <a:srgbClr val="e6e6e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05520" y="4952880"/>
            <a:ext cx="1143000" cy="3049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50000">
                <a:srgbClr val="ffffff"/>
              </a:gs>
              <a:gs pos="100000">
                <a:srgbClr val="e6e6e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28600" y="4952880"/>
            <a:ext cx="2276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3. Various Interfa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1981080"/>
            <a:ext cx="2514600" cy="533520"/>
          </a:xfrm>
          <a:prstGeom prst="rect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971800" y="617220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 Antiqua"/>
              </a:rPr>
              <a:t>Intersil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286240" y="6172200"/>
            <a:ext cx="809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 Antiqua"/>
              </a:rPr>
              <a:t>Cisco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666880"/>
            <a:ext cx="457200" cy="1600200"/>
          </a:xfrm>
          <a:custGeom>
            <a:avLst/>
            <a:gdLst>
              <a:gd name="textAreaLeft" fmla="*/ 143280 w 457200"/>
              <a:gd name="textAreaRight" fmla="*/ 368280 w 457200"/>
              <a:gd name="textAreaTop" fmla="*/ 1044720 h 1600200"/>
              <a:gd name="textAreaBottom" fmla="*/ 1289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8300"/>
                </a:moveTo>
                <a:lnTo>
                  <a:pt x="14100" y="18300"/>
                </a:lnTo>
                <a:lnTo>
                  <a:pt x="14100" y="6773"/>
                </a:lnTo>
                <a:lnTo>
                  <a:pt x="9900" y="6773"/>
                </a:lnTo>
                <a:lnTo>
                  <a:pt x="15750" y="0"/>
                </a:lnTo>
                <a:lnTo>
                  <a:pt x="21600" y="6773"/>
                </a:lnTo>
                <a:lnTo>
                  <a:pt x="17400" y="6773"/>
                </a:lnTo>
                <a:lnTo>
                  <a:pt x="17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867280" y="2666880"/>
            <a:ext cx="457200" cy="1600200"/>
          </a:xfrm>
          <a:custGeom>
            <a:avLst/>
            <a:gdLst>
              <a:gd name="textAreaLeft" fmla="*/ 143280 w 457200"/>
              <a:gd name="textAreaRight" fmla="*/ 368280 w 457200"/>
              <a:gd name="textAreaTop" fmla="*/ 1044720 h 1600200"/>
              <a:gd name="textAreaBottom" fmla="*/ 1289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8300"/>
                </a:moveTo>
                <a:lnTo>
                  <a:pt x="14100" y="18300"/>
                </a:lnTo>
                <a:lnTo>
                  <a:pt x="14100" y="6773"/>
                </a:lnTo>
                <a:lnTo>
                  <a:pt x="9900" y="6773"/>
                </a:lnTo>
                <a:lnTo>
                  <a:pt x="15750" y="0"/>
                </a:lnTo>
                <a:lnTo>
                  <a:pt x="21600" y="6773"/>
                </a:lnTo>
                <a:lnTo>
                  <a:pt x="17400" y="6773"/>
                </a:lnTo>
                <a:lnTo>
                  <a:pt x="17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28600" y="2133720"/>
            <a:ext cx="22096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514"/>
                </a:solidFill>
                <a:latin typeface="Comic Sans MS"/>
              </a:rPr>
              <a:t>7. Generic Too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514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Generic Device Driver: Issu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152388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251460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480060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039080" y="1752480"/>
            <a:ext cx="1571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pplication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010280" y="3505320"/>
            <a:ext cx="8287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Kerne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010280" y="5562720"/>
            <a:ext cx="12286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ardwar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5791320"/>
            <a:ext cx="1524240" cy="3045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50000">
                <a:srgbClr val="000514"/>
              </a:gs>
              <a:gs pos="100000">
                <a:srgbClr val="0099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19520" y="5791320"/>
            <a:ext cx="1523880" cy="3045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50000">
                <a:srgbClr val="000514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28600" y="5791320"/>
            <a:ext cx="2028960" cy="39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1. Multiple Vendo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5334120"/>
            <a:ext cx="114300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000514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05520" y="5334120"/>
            <a:ext cx="1143000" cy="4572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000514"/>
              </a:gs>
              <a:gs pos="100000">
                <a:srgbClr val="0099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28600" y="5410080"/>
            <a:ext cx="24670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2. Different Firmwar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2971800" y="4267080"/>
            <a:ext cx="114300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05520" y="4267080"/>
            <a:ext cx="1143000" cy="4572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28600" y="4343400"/>
            <a:ext cx="198108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4. Different Driv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2971800" y="3886200"/>
            <a:ext cx="685800" cy="304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05520" y="3886200"/>
            <a:ext cx="685800" cy="30492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ffffff"/>
              </a:gs>
              <a:gs pos="100000">
                <a:srgbClr val="0099c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28600" y="3962520"/>
            <a:ext cx="205740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5. NIC - INF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47680" y="3352680"/>
            <a:ext cx="211464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6. Proprietary AP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2971800" y="4952880"/>
            <a:ext cx="1143000" cy="3049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50000">
                <a:srgbClr val="ffffff"/>
              </a:gs>
              <a:gs pos="100000">
                <a:srgbClr val="e6e6e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05520" y="4952880"/>
            <a:ext cx="1143000" cy="3049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50000">
                <a:srgbClr val="ffffff"/>
              </a:gs>
              <a:gs pos="100000">
                <a:srgbClr val="e6e6e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28600" y="4952880"/>
            <a:ext cx="2276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3. Various Interfa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971800" y="617220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 Antiqua"/>
              </a:rPr>
              <a:t>Intersil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286240" y="6172200"/>
            <a:ext cx="809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 Antiqua"/>
              </a:rPr>
              <a:t>Cisco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2590920"/>
            <a:ext cx="457200" cy="1600200"/>
          </a:xfrm>
          <a:custGeom>
            <a:avLst/>
            <a:gdLst>
              <a:gd name="textAreaLeft" fmla="*/ 168840 w 457200"/>
              <a:gd name="textAreaRight" fmla="*/ 368280 w 457200"/>
              <a:gd name="textAreaTop" fmla="*/ 1044720 h 1600200"/>
              <a:gd name="textAreaBottom" fmla="*/ 1289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8300"/>
                </a:moveTo>
                <a:lnTo>
                  <a:pt x="14100" y="18300"/>
                </a:lnTo>
                <a:lnTo>
                  <a:pt x="14100" y="7971"/>
                </a:lnTo>
                <a:lnTo>
                  <a:pt x="9900" y="7971"/>
                </a:lnTo>
                <a:lnTo>
                  <a:pt x="15750" y="0"/>
                </a:lnTo>
                <a:lnTo>
                  <a:pt x="21600" y="7971"/>
                </a:lnTo>
                <a:lnTo>
                  <a:pt x="17400" y="7971"/>
                </a:lnTo>
                <a:lnTo>
                  <a:pt x="17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2590920"/>
            <a:ext cx="457200" cy="1600200"/>
          </a:xfrm>
          <a:custGeom>
            <a:avLst/>
            <a:gdLst>
              <a:gd name="textAreaLeft" fmla="*/ 168840 w 457200"/>
              <a:gd name="textAreaRight" fmla="*/ 368280 w 457200"/>
              <a:gd name="textAreaTop" fmla="*/ 1044720 h 1600200"/>
              <a:gd name="textAreaBottom" fmla="*/ 1289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8300"/>
                </a:moveTo>
                <a:lnTo>
                  <a:pt x="14100" y="18300"/>
                </a:lnTo>
                <a:lnTo>
                  <a:pt x="14100" y="7971"/>
                </a:lnTo>
                <a:lnTo>
                  <a:pt x="9900" y="7971"/>
                </a:lnTo>
                <a:lnTo>
                  <a:pt x="15750" y="0"/>
                </a:lnTo>
                <a:lnTo>
                  <a:pt x="21600" y="7971"/>
                </a:lnTo>
                <a:lnTo>
                  <a:pt x="17400" y="7971"/>
                </a:lnTo>
                <a:lnTo>
                  <a:pt x="17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99cc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Generic Device Driver: Issu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700520" y="1828800"/>
            <a:ext cx="8193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Intersil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143160" y="1828800"/>
            <a:ext cx="8193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Cisco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30481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86360" y="30481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19920" y="3048120"/>
            <a:ext cx="304560" cy="533160"/>
          </a:xfrm>
          <a:prstGeom prst="downArrow">
            <a:avLst>
              <a:gd name="adj1" fmla="val 50000"/>
              <a:gd name="adj2" fmla="val 43765"/>
            </a:avLst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753000" y="3505320"/>
            <a:ext cx="8190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Lucent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757760" y="3505320"/>
            <a:ext cx="8190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PrismII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791320" y="3495600"/>
            <a:ext cx="81900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Symbol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3" name=""/>
          <p:cNvSpPr txBox="1"/>
          <p:nvPr/>
        </p:nvSpPr>
        <p:spPr>
          <a:xfrm rot="5400000">
            <a:off x="3652560" y="5676840"/>
            <a:ext cx="121932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e6e6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Comic Sans MS"/>
              </a:rPr>
              <a:t>PCMC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8100000"/>
              </a:gradFill>
              <a:latin typeface="Comic Sans MS"/>
              <a:ea typeface="Comic Sans MS"/>
            </a:endParaRPr>
          </a:p>
        </p:txBody>
      </p:sp>
      <p:sp>
        <p:nvSpPr>
          <p:cNvPr id="214" name=""/>
          <p:cNvSpPr txBox="1"/>
          <p:nvPr/>
        </p:nvSpPr>
        <p:spPr>
          <a:xfrm rot="5400000">
            <a:off x="4338360" y="5753160"/>
            <a:ext cx="1219320" cy="228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e6e6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Comic Sans MS"/>
              </a:rPr>
              <a:t>PC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8100000"/>
              </a:gradFill>
              <a:latin typeface="Comic Sans MS"/>
              <a:ea typeface="Comic Sans MS"/>
            </a:endParaRPr>
          </a:p>
        </p:txBody>
      </p:sp>
      <p:sp>
        <p:nvSpPr>
          <p:cNvPr id="215" name=""/>
          <p:cNvSpPr txBox="1"/>
          <p:nvPr/>
        </p:nvSpPr>
        <p:spPr>
          <a:xfrm rot="5400000">
            <a:off x="4995360" y="5724360"/>
            <a:ext cx="1200240" cy="30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e6e6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Comic Sans MS"/>
              </a:rPr>
              <a:t>PL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8100000"/>
              </a:gradFill>
              <a:latin typeface="Comic Sans MS"/>
              <a:ea typeface="Comic Sans MS"/>
            </a:endParaRPr>
          </a:p>
        </p:txBody>
      </p:sp>
      <p:sp>
        <p:nvSpPr>
          <p:cNvPr id="216" name=""/>
          <p:cNvSpPr txBox="1"/>
          <p:nvPr/>
        </p:nvSpPr>
        <p:spPr>
          <a:xfrm rot="5400000">
            <a:off x="5519520" y="5715000"/>
            <a:ext cx="1219320" cy="304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e6e6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Comic Sans MS"/>
              </a:rPr>
              <a:t>US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8100000"/>
              </a:gradFill>
              <a:latin typeface="Comic Sans MS"/>
              <a:ea typeface="Comic Sans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248520" y="1828800"/>
            <a:ext cx="8190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TI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7772400" y="1828800"/>
            <a:ext cx="8190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ff6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Atmel</a:t>
            </a:r>
            <a:endParaRPr b="0" lang="en-US" sz="1800" spc="1" strike="noStrike">
              <a:ln w="0">
                <a:noFill/>
              </a:ln>
              <a:solidFill>
                <a:srgbClr val="66ff6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0880" y="1828800"/>
            <a:ext cx="23623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MAC - Vendo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0880" y="3429000"/>
            <a:ext cx="23623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Resell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0880" y="5029200"/>
            <a:ext cx="23623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Interfa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22" name=""/>
          <p:cNvSpPr/>
          <p:nvPr/>
        </p:nvSpPr>
        <p:spPr>
          <a:xfrm>
            <a:off x="2895480" y="1523880"/>
            <a:ext cx="579132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1600200"/>
            <a:ext cx="579132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2895480"/>
            <a:ext cx="3048120" cy="990720"/>
          </a:xfrm>
          <a:prstGeom prst="rect">
            <a:avLst/>
          </a:prstGeom>
          <a:noFill/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0" y="2971800"/>
            <a:ext cx="3048120" cy="990720"/>
          </a:xfrm>
          <a:prstGeom prst="rect">
            <a:avLst/>
          </a:prstGeom>
          <a:noFill/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81280" y="4495680"/>
            <a:ext cx="3048120" cy="205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4572000"/>
            <a:ext cx="3048120" cy="205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48320" y="1752480"/>
            <a:ext cx="914400" cy="533520"/>
          </a:xfrm>
          <a:prstGeom prst="rect">
            <a:avLst/>
          </a:prstGeom>
          <a:noFill/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14800" y="46483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00600" y="46483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46483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19920" y="4648320"/>
            <a:ext cx="304560" cy="533160"/>
          </a:xfrm>
          <a:prstGeom prst="downArrow">
            <a:avLst>
              <a:gd name="adj1" fmla="val 50000"/>
              <a:gd name="adj2" fmla="val 43765"/>
            </a:avLst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29200" y="22860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29200" y="396252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Generic Device Driver: Observa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Thought of a generic driver is too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ambitious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Driver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maintenance?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Garamond"/>
              </a:rPr>
              <a:t>Note: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Orinoco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driver claims to be generic. Supports : Lucent, PrismII &amp; Symbol card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Not fully functional on some PrismII card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Recent versions do not handle properly the Symbol card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No USB suppor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The 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wlan-ng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 and 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HostAP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 drivers for PrismII cards are more tested &amp; have more featur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867280" y="2971800"/>
            <a:ext cx="533520" cy="1219320"/>
          </a:xfrm>
          <a:custGeom>
            <a:avLst/>
            <a:gdLst>
              <a:gd name="textAreaLeft" fmla="*/ 99360 w 533520"/>
              <a:gd name="textAreaRight" fmla="*/ 424440 w 533520"/>
              <a:gd name="textAreaTop" fmla="*/ 884880 h 1219320"/>
              <a:gd name="textAreaBottom" fmla="*/ 969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20100"/>
                </a:moveTo>
                <a:lnTo>
                  <a:pt x="15675" y="20100"/>
                </a:lnTo>
                <a:lnTo>
                  <a:pt x="15675" y="4029"/>
                </a:lnTo>
                <a:lnTo>
                  <a:pt x="11250" y="4029"/>
                </a:lnTo>
                <a:lnTo>
                  <a:pt x="16425" y="0"/>
                </a:lnTo>
                <a:lnTo>
                  <a:pt x="21600" y="4029"/>
                </a:lnTo>
                <a:lnTo>
                  <a:pt x="17175" y="4029"/>
                </a:lnTo>
                <a:lnTo>
                  <a:pt x="1717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99cc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Generic Driver-Application Interfac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9" name=""/>
          <p:cNvSpPr/>
          <p:nvPr/>
        </p:nvSpPr>
        <p:spPr>
          <a:xfrm>
            <a:off x="990720" y="152388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251460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480060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7039080" y="1752480"/>
            <a:ext cx="1571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pplication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010280" y="3505320"/>
            <a:ext cx="8287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Kerne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010280" y="5562720"/>
            <a:ext cx="12286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ardwar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5" name=""/>
          <p:cNvSpPr/>
          <p:nvPr/>
        </p:nvSpPr>
        <p:spPr>
          <a:xfrm>
            <a:off x="4952880" y="5791320"/>
            <a:ext cx="1524240" cy="3045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50000">
                <a:srgbClr val="000514"/>
              </a:gs>
              <a:gs pos="100000">
                <a:srgbClr val="0099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5791320"/>
            <a:ext cx="1523880" cy="3045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50000">
                <a:srgbClr val="000514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28600" y="5791320"/>
            <a:ext cx="2028960" cy="39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1. Multiple Vendo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48" name=""/>
          <p:cNvSpPr/>
          <p:nvPr/>
        </p:nvSpPr>
        <p:spPr>
          <a:xfrm>
            <a:off x="2971800" y="5334120"/>
            <a:ext cx="114300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000514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05520" y="5334120"/>
            <a:ext cx="1143000" cy="4572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000514"/>
              </a:gs>
              <a:gs pos="100000">
                <a:srgbClr val="0099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28600" y="5410080"/>
            <a:ext cx="24670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2. Different Firmwar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2971800" y="4267080"/>
            <a:ext cx="114300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05520" y="4267080"/>
            <a:ext cx="1143000" cy="4572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28600" y="4343400"/>
            <a:ext cx="198108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4. Different Driv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2971800" y="3886200"/>
            <a:ext cx="685800" cy="304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05520" y="3886200"/>
            <a:ext cx="685800" cy="30492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ffffff"/>
              </a:gs>
              <a:gs pos="100000">
                <a:srgbClr val="0099c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28600" y="3962520"/>
            <a:ext cx="21337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5. NIC - INF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47680" y="3352680"/>
            <a:ext cx="211464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6. Proprietary AP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2971800" y="4952880"/>
            <a:ext cx="1143000" cy="3049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50000">
                <a:srgbClr val="ffffff"/>
              </a:gs>
              <a:gs pos="100000">
                <a:srgbClr val="e6e6e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05520" y="4952880"/>
            <a:ext cx="1143000" cy="3049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50000">
                <a:srgbClr val="ffffff"/>
              </a:gs>
              <a:gs pos="100000">
                <a:srgbClr val="e6e6e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28600" y="4952880"/>
            <a:ext cx="2276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3. Various Interfa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971800" y="617220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 Antiqua"/>
              </a:rPr>
              <a:t>Intersil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286240" y="6172200"/>
            <a:ext cx="809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 Antiqua"/>
              </a:rPr>
              <a:t>Cisco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63" name=""/>
          <p:cNvSpPr/>
          <p:nvPr/>
        </p:nvSpPr>
        <p:spPr>
          <a:xfrm>
            <a:off x="3733920" y="2971800"/>
            <a:ext cx="533160" cy="1219320"/>
          </a:xfrm>
          <a:custGeom>
            <a:avLst/>
            <a:gdLst>
              <a:gd name="textAreaLeft" fmla="*/ 99360 w 533160"/>
              <a:gd name="textAreaRight" fmla="*/ 424080 w 533160"/>
              <a:gd name="textAreaTop" fmla="*/ 884880 h 1219320"/>
              <a:gd name="textAreaBottom" fmla="*/ 969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20100"/>
                </a:moveTo>
                <a:lnTo>
                  <a:pt x="15675" y="20100"/>
                </a:lnTo>
                <a:lnTo>
                  <a:pt x="15675" y="4029"/>
                </a:lnTo>
                <a:lnTo>
                  <a:pt x="11250" y="4029"/>
                </a:lnTo>
                <a:lnTo>
                  <a:pt x="16425" y="0"/>
                </a:lnTo>
                <a:lnTo>
                  <a:pt x="21600" y="4029"/>
                </a:lnTo>
                <a:lnTo>
                  <a:pt x="17175" y="4029"/>
                </a:lnTo>
                <a:lnTo>
                  <a:pt x="1717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733920" y="2514600"/>
            <a:ext cx="457200" cy="1523880"/>
          </a:xfrm>
          <a:custGeom>
            <a:avLst/>
            <a:gdLst>
              <a:gd name="textAreaLeft" fmla="*/ 89640 w 457200"/>
              <a:gd name="textAreaRight" fmla="*/ 333360 w 457200"/>
              <a:gd name="textAreaTop" fmla="*/ 984240 h 1523880"/>
              <a:gd name="textAreaBottom" fmla="*/ 11113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9800"/>
                </a:moveTo>
                <a:lnTo>
                  <a:pt x="13950" y="19800"/>
                </a:lnTo>
                <a:lnTo>
                  <a:pt x="13950" y="4243"/>
                </a:lnTo>
                <a:lnTo>
                  <a:pt x="8100" y="4243"/>
                </a:lnTo>
                <a:lnTo>
                  <a:pt x="14850" y="0"/>
                </a:lnTo>
                <a:lnTo>
                  <a:pt x="21600" y="4243"/>
                </a:lnTo>
                <a:lnTo>
                  <a:pt x="15750" y="4243"/>
                </a:lnTo>
                <a:lnTo>
                  <a:pt x="157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2514600"/>
            <a:ext cx="457200" cy="1523880"/>
          </a:xfrm>
          <a:custGeom>
            <a:avLst/>
            <a:gdLst>
              <a:gd name="textAreaLeft" fmla="*/ 89640 w 457200"/>
              <a:gd name="textAreaRight" fmla="*/ 333360 w 457200"/>
              <a:gd name="textAreaTop" fmla="*/ 984240 h 1523880"/>
              <a:gd name="textAreaBottom" fmla="*/ 11113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9800"/>
                </a:moveTo>
                <a:lnTo>
                  <a:pt x="13950" y="19800"/>
                </a:lnTo>
                <a:lnTo>
                  <a:pt x="13950" y="4243"/>
                </a:lnTo>
                <a:lnTo>
                  <a:pt x="8100" y="4243"/>
                </a:lnTo>
                <a:lnTo>
                  <a:pt x="14850" y="0"/>
                </a:lnTo>
                <a:lnTo>
                  <a:pt x="21600" y="4243"/>
                </a:lnTo>
                <a:lnTo>
                  <a:pt x="15750" y="4243"/>
                </a:lnTo>
                <a:lnTo>
                  <a:pt x="157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47680" y="2819520"/>
            <a:ext cx="21906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514"/>
                </a:solidFill>
                <a:latin typeface="Comic Sans MS"/>
              </a:rPr>
              <a:t>7. Standard AP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514"/>
              </a:solidFill>
              <a:latin typeface="Comic Sans MS"/>
              <a:ea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1905120"/>
            <a:ext cx="2514600" cy="533160"/>
          </a:xfrm>
          <a:prstGeom prst="rect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28600" y="1981080"/>
            <a:ext cx="2209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514"/>
                </a:solidFill>
                <a:latin typeface="Comic Sans MS"/>
              </a:rPr>
              <a:t>8. Generic Too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514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Driver – Application Interfa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tandard API: Wireless Extensions by Jean Tourrilh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dea - manipulate any wireless networking device in a standard and uniform wa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terface and tools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Garamond"/>
              </a:rPr>
              <a:t>/proc/net/wireles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– read statistic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Garamond"/>
              </a:rPr>
              <a:t>iwconfig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– standard device configuration. Clone of ifconfig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Garamond"/>
              </a:rPr>
              <a:t>iwspy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– gather quality information for a set of network address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Garamond"/>
              </a:rPr>
              <a:t>iwpriv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– device specific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rivers supporting Wireless Extension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Wvlan_cs, Lucent (orinoco), PrismII (wlan-ng), HostAP, Cisco (Aironet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Driver – Application Interface: Issu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911160" indent="-49068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dify existing drivers to implement appropriate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octl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create standard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/proc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tr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11160" indent="-49068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rivers have their own well defined configuration tools. The </a:t>
            </a:r>
            <a:r>
              <a:rPr b="1" i="1" lang="en-US" sz="3200" spc="-1" strike="noStrike">
                <a:solidFill>
                  <a:srgbClr val="ff0000"/>
                </a:solidFill>
                <a:latin typeface="Garamond"/>
              </a:rPr>
              <a:t>wlan-n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rivers come with the </a:t>
            </a:r>
            <a:r>
              <a:rPr b="1" i="1" lang="en-US" sz="3200" spc="-1" strike="noStrike">
                <a:solidFill>
                  <a:srgbClr val="ff0000"/>
                </a:solidFill>
                <a:latin typeface="Garamond"/>
              </a:rPr>
              <a:t>wlanctl-ng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Garamond"/>
              </a:rPr>
              <a:t>wlancf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oo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11160" indent="-49068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New drivers coming into existence do not care to implement the standard AP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Generic User Space Too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"/>
          <p:cNvSpPr/>
          <p:nvPr/>
        </p:nvSpPr>
        <p:spPr>
          <a:xfrm>
            <a:off x="990720" y="152388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90720" y="281952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480060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039080" y="1752480"/>
            <a:ext cx="1571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pplication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7010280" y="3505320"/>
            <a:ext cx="8287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Kerne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010280" y="5562720"/>
            <a:ext cx="12286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ardwar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0" name=""/>
          <p:cNvSpPr/>
          <p:nvPr/>
        </p:nvSpPr>
        <p:spPr>
          <a:xfrm>
            <a:off x="4952880" y="5791320"/>
            <a:ext cx="1524240" cy="3045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50000">
                <a:srgbClr val="000514"/>
              </a:gs>
              <a:gs pos="100000">
                <a:srgbClr val="0099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5791320"/>
            <a:ext cx="1523880" cy="3045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50000">
                <a:srgbClr val="000514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5791320"/>
            <a:ext cx="2028960" cy="39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1. Multiple Vendo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83" name=""/>
          <p:cNvSpPr/>
          <p:nvPr/>
        </p:nvSpPr>
        <p:spPr>
          <a:xfrm>
            <a:off x="2971800" y="5334120"/>
            <a:ext cx="114300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000514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105520" y="5334120"/>
            <a:ext cx="1143000" cy="4572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000514"/>
              </a:gs>
              <a:gs pos="100000">
                <a:srgbClr val="0099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28600" y="5410080"/>
            <a:ext cx="24670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2. Different Firmwar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4267080"/>
            <a:ext cx="114300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105520" y="4267080"/>
            <a:ext cx="1143000" cy="4572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28600" y="4343400"/>
            <a:ext cx="198108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4. Different Driv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2971800" y="3886200"/>
            <a:ext cx="685800" cy="304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105520" y="3886200"/>
            <a:ext cx="685800" cy="30492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ffffff"/>
              </a:gs>
              <a:gs pos="100000">
                <a:srgbClr val="0099c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28600" y="3886200"/>
            <a:ext cx="20574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5. NIC - INF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47680" y="3352680"/>
            <a:ext cx="211464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6. Proprietary AP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2971800" y="4952880"/>
            <a:ext cx="1143000" cy="3049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50000">
                <a:srgbClr val="ffffff"/>
              </a:gs>
              <a:gs pos="100000">
                <a:srgbClr val="e6e6e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5520" y="4952880"/>
            <a:ext cx="1143000" cy="3049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50000">
                <a:srgbClr val="ffffff"/>
              </a:gs>
              <a:gs pos="100000">
                <a:srgbClr val="e6e6e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28600" y="4952880"/>
            <a:ext cx="2276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3. Various Interfa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2971800" y="1676520"/>
            <a:ext cx="3352680" cy="304560"/>
          </a:xfrm>
          <a:prstGeom prst="rect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971800" y="617220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 Antiqua"/>
              </a:rPr>
              <a:t>Intersil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286240" y="6172200"/>
            <a:ext cx="809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 Antiqua"/>
              </a:rPr>
              <a:t>Cisco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99" name=""/>
          <p:cNvSpPr/>
          <p:nvPr/>
        </p:nvSpPr>
        <p:spPr>
          <a:xfrm>
            <a:off x="3733920" y="2895480"/>
            <a:ext cx="457200" cy="1295640"/>
          </a:xfrm>
          <a:custGeom>
            <a:avLst/>
            <a:gdLst>
              <a:gd name="textAreaLeft" fmla="*/ 168840 w 457200"/>
              <a:gd name="textAreaRight" fmla="*/ 368280 w 457200"/>
              <a:gd name="textAreaTop" fmla="*/ 846000 h 1295640"/>
              <a:gd name="textAreaBottom" fmla="*/ 1044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8300"/>
                </a:moveTo>
                <a:lnTo>
                  <a:pt x="14100" y="18300"/>
                </a:lnTo>
                <a:lnTo>
                  <a:pt x="14100" y="7971"/>
                </a:lnTo>
                <a:lnTo>
                  <a:pt x="9900" y="7971"/>
                </a:lnTo>
                <a:lnTo>
                  <a:pt x="15750" y="0"/>
                </a:lnTo>
                <a:lnTo>
                  <a:pt x="21600" y="7971"/>
                </a:lnTo>
                <a:lnTo>
                  <a:pt x="17400" y="7971"/>
                </a:lnTo>
                <a:lnTo>
                  <a:pt x="17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2895480"/>
            <a:ext cx="457200" cy="1295640"/>
          </a:xfrm>
          <a:custGeom>
            <a:avLst/>
            <a:gdLst>
              <a:gd name="textAreaLeft" fmla="*/ 168840 w 457200"/>
              <a:gd name="textAreaRight" fmla="*/ 368280 w 457200"/>
              <a:gd name="textAreaTop" fmla="*/ 846000 h 1295640"/>
              <a:gd name="textAreaBottom" fmla="*/ 1044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8300"/>
                </a:moveTo>
                <a:lnTo>
                  <a:pt x="14100" y="18300"/>
                </a:lnTo>
                <a:lnTo>
                  <a:pt x="14100" y="7971"/>
                </a:lnTo>
                <a:lnTo>
                  <a:pt x="9900" y="7971"/>
                </a:lnTo>
                <a:lnTo>
                  <a:pt x="15750" y="0"/>
                </a:lnTo>
                <a:lnTo>
                  <a:pt x="21600" y="7971"/>
                </a:lnTo>
                <a:lnTo>
                  <a:pt x="17400" y="7971"/>
                </a:lnTo>
                <a:lnTo>
                  <a:pt x="17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99cc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505320" y="2438280"/>
            <a:ext cx="609480" cy="228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38680" y="2438280"/>
            <a:ext cx="609840" cy="228600"/>
          </a:xfrm>
          <a:prstGeom prst="rect">
            <a:avLst/>
          </a:prstGeom>
          <a:gradFill rotWithShape="0">
            <a:gsLst>
              <a:gs pos="0">
                <a:srgbClr val="00465e"/>
              </a:gs>
              <a:gs pos="100000">
                <a:srgbClr val="0099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05320" y="2209680"/>
            <a:ext cx="609480" cy="228600"/>
          </a:xfrm>
          <a:prstGeom prst="rect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638680" y="2209680"/>
            <a:ext cx="609840" cy="228600"/>
          </a:xfrm>
          <a:prstGeom prst="rect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429000" y="2133720"/>
            <a:ext cx="76212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2133720"/>
            <a:ext cx="76176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47680" y="2352600"/>
            <a:ext cx="234324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514"/>
                </a:solidFill>
                <a:latin typeface="Comic Sans MS"/>
              </a:rPr>
              <a:t>7. User Space Libr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514"/>
              </a:solidFill>
              <a:latin typeface="Comic Sans MS"/>
              <a:ea typeface="Comic Sans MS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28600" y="1676520"/>
            <a:ext cx="23432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514"/>
                </a:solidFill>
                <a:latin typeface="Comic Sans MS"/>
              </a:rPr>
              <a:t>8. Generic To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514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WLAN Watch - Overvie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0" name=""/>
          <p:cNvSpPr/>
          <p:nvPr/>
        </p:nvSpPr>
        <p:spPr>
          <a:xfrm>
            <a:off x="990720" y="152388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281952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480060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952880" y="5791320"/>
            <a:ext cx="1524240" cy="3045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50000">
                <a:srgbClr val="000514"/>
              </a:gs>
              <a:gs pos="100000">
                <a:srgbClr val="0099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819520" y="5791320"/>
            <a:ext cx="1523880" cy="3045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50000">
                <a:srgbClr val="000514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971800" y="5334120"/>
            <a:ext cx="114300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000514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105520" y="5334120"/>
            <a:ext cx="1143000" cy="4572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000514"/>
              </a:gs>
              <a:gs pos="100000">
                <a:srgbClr val="0099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4267080"/>
            <a:ext cx="114300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05520" y="4267080"/>
            <a:ext cx="1143000" cy="4572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971800" y="3886200"/>
            <a:ext cx="685800" cy="304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05520" y="3886200"/>
            <a:ext cx="685800" cy="30492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ffffff"/>
              </a:gs>
              <a:gs pos="100000">
                <a:srgbClr val="0099c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71800" y="4952880"/>
            <a:ext cx="1143000" cy="3049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50000">
                <a:srgbClr val="ffffff"/>
              </a:gs>
              <a:gs pos="100000">
                <a:srgbClr val="e6e6e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105520" y="4952880"/>
            <a:ext cx="1143000" cy="3049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50000">
                <a:srgbClr val="ffffff"/>
              </a:gs>
              <a:gs pos="100000">
                <a:srgbClr val="e6e6e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71800" y="1676520"/>
            <a:ext cx="3352680" cy="304560"/>
          </a:xfrm>
          <a:prstGeom prst="rect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971800" y="6172200"/>
            <a:ext cx="1066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 Antiqua"/>
              </a:rPr>
              <a:t>Intersil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286240" y="6172200"/>
            <a:ext cx="809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 Antiqua"/>
              </a:rPr>
              <a:t>Cisco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326" name=""/>
          <p:cNvSpPr/>
          <p:nvPr/>
        </p:nvSpPr>
        <p:spPr>
          <a:xfrm>
            <a:off x="3733920" y="2895480"/>
            <a:ext cx="457200" cy="1295640"/>
          </a:xfrm>
          <a:custGeom>
            <a:avLst/>
            <a:gdLst>
              <a:gd name="textAreaLeft" fmla="*/ 168840 w 457200"/>
              <a:gd name="textAreaRight" fmla="*/ 368280 w 457200"/>
              <a:gd name="textAreaTop" fmla="*/ 846000 h 1295640"/>
              <a:gd name="textAreaBottom" fmla="*/ 1044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8300"/>
                </a:moveTo>
                <a:lnTo>
                  <a:pt x="14100" y="18300"/>
                </a:lnTo>
                <a:lnTo>
                  <a:pt x="14100" y="7971"/>
                </a:lnTo>
                <a:lnTo>
                  <a:pt x="9900" y="7971"/>
                </a:lnTo>
                <a:lnTo>
                  <a:pt x="15750" y="0"/>
                </a:lnTo>
                <a:lnTo>
                  <a:pt x="21600" y="7971"/>
                </a:lnTo>
                <a:lnTo>
                  <a:pt x="17400" y="7971"/>
                </a:lnTo>
                <a:lnTo>
                  <a:pt x="17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867280" y="2895480"/>
            <a:ext cx="457200" cy="1295640"/>
          </a:xfrm>
          <a:custGeom>
            <a:avLst/>
            <a:gdLst>
              <a:gd name="textAreaLeft" fmla="*/ 168840 w 457200"/>
              <a:gd name="textAreaRight" fmla="*/ 368280 w 457200"/>
              <a:gd name="textAreaTop" fmla="*/ 846000 h 1295640"/>
              <a:gd name="textAreaBottom" fmla="*/ 1044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8300"/>
                </a:moveTo>
                <a:lnTo>
                  <a:pt x="14100" y="18300"/>
                </a:lnTo>
                <a:lnTo>
                  <a:pt x="14100" y="7971"/>
                </a:lnTo>
                <a:lnTo>
                  <a:pt x="9900" y="7971"/>
                </a:lnTo>
                <a:lnTo>
                  <a:pt x="15750" y="0"/>
                </a:lnTo>
                <a:lnTo>
                  <a:pt x="21600" y="7971"/>
                </a:lnTo>
                <a:lnTo>
                  <a:pt x="17400" y="7971"/>
                </a:lnTo>
                <a:lnTo>
                  <a:pt x="17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99cc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505320" y="2438280"/>
            <a:ext cx="609480" cy="228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38680" y="2438280"/>
            <a:ext cx="609840" cy="228600"/>
          </a:xfrm>
          <a:prstGeom prst="rect">
            <a:avLst/>
          </a:prstGeom>
          <a:gradFill rotWithShape="0">
            <a:gsLst>
              <a:gs pos="0">
                <a:srgbClr val="00465e"/>
              </a:gs>
              <a:gs pos="100000">
                <a:srgbClr val="0099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505320" y="2209680"/>
            <a:ext cx="609480" cy="228600"/>
          </a:xfrm>
          <a:prstGeom prst="rect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638680" y="2209680"/>
            <a:ext cx="609840" cy="228600"/>
          </a:xfrm>
          <a:prstGeom prst="rect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429000" y="2133720"/>
            <a:ext cx="76212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62720" y="2133720"/>
            <a:ext cx="76176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14600" y="1676520"/>
            <a:ext cx="380880" cy="1066680"/>
          </a:xfrm>
          <a:custGeom>
            <a:avLst/>
            <a:gdLst>
              <a:gd name="textAreaLeft" fmla="*/ 243360 w 380880"/>
              <a:gd name="textAreaRight" fmla="*/ 381240 w 3808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0880" y="2124000"/>
            <a:ext cx="2057400" cy="2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Completely User Space</a:t>
            </a:r>
            <a:endParaRPr b="0" i="1" lang="en-US" sz="1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36" name=""/>
          <p:cNvSpPr/>
          <p:nvPr/>
        </p:nvSpPr>
        <p:spPr>
          <a:xfrm>
            <a:off x="2971800" y="4267080"/>
            <a:ext cx="152280" cy="45720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2f752f"/>
              </a:gs>
              <a:gs pos="100000">
                <a:srgbClr val="66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4267080"/>
            <a:ext cx="2209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To pass up corrupted packets</a:t>
            </a:r>
            <a:endParaRPr b="0" i="1" lang="en-US" sz="1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124080" y="4352760"/>
            <a:ext cx="83844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Wlan-ng</a:t>
            </a:r>
            <a:endParaRPr b="0" i="1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5324400" y="4343400"/>
            <a:ext cx="69552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airo</a:t>
            </a:r>
            <a:endParaRPr b="0" i="1" lang="en-US" sz="1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40" name="modem"/>
          <p:cNvSpPr/>
          <p:nvPr/>
        </p:nvSpPr>
        <p:spPr>
          <a:xfrm>
            <a:off x="914400" y="5791320"/>
            <a:ext cx="1447920" cy="3808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85800" y="5410080"/>
            <a:ext cx="1905120" cy="2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Access Point</a:t>
            </a:r>
            <a:endParaRPr b="0" i="1" lang="en-US" sz="1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629400" y="2124000"/>
            <a:ext cx="17524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Root Privileges</a:t>
            </a:r>
            <a:endParaRPr b="0" i="1" lang="en-US" sz="1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WLAN Watch - Architec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4" name=""/>
          <p:cNvSpPr/>
          <p:nvPr/>
        </p:nvSpPr>
        <p:spPr>
          <a:xfrm>
            <a:off x="838080" y="1447920"/>
            <a:ext cx="342900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7800000">
            <a:off x="3377880" y="5130720"/>
            <a:ext cx="558720" cy="15264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50000">
                <a:srgbClr val="000514"/>
              </a:gs>
              <a:gs pos="100000">
                <a:srgbClr val="0099cc"/>
              </a:gs>
            </a:gsLst>
            <a:lin ang="3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rot="7800000">
            <a:off x="3619080" y="5219280"/>
            <a:ext cx="380880" cy="152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000514"/>
              </a:gs>
              <a:gs pos="100000">
                <a:srgbClr val="0099cc"/>
              </a:gs>
            </a:gsLst>
            <a:lin ang="3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29000" y="4724280"/>
            <a:ext cx="1981080" cy="12193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157400" y="3352680"/>
            <a:ext cx="558720" cy="1526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50000">
                <a:srgbClr val="000514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71520" y="3200400"/>
            <a:ext cx="381240" cy="15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000514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48320" y="1447920"/>
            <a:ext cx="342900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029200" y="3352680"/>
            <a:ext cx="558720" cy="15264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50000">
                <a:srgbClr val="000514"/>
              </a:gs>
              <a:gs pos="100000">
                <a:srgbClr val="0099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105520" y="3200400"/>
            <a:ext cx="380880" cy="152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000514"/>
              </a:gs>
              <a:gs pos="100000">
                <a:srgbClr val="0099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191120" y="5943600"/>
            <a:ext cx="380880" cy="152280"/>
          </a:xfrm>
          <a:prstGeom prst="rect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238880" y="3200400"/>
            <a:ext cx="381240" cy="152280"/>
          </a:xfrm>
          <a:prstGeom prst="rect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238880" y="3352680"/>
            <a:ext cx="381240" cy="2362320"/>
          </a:xfrm>
          <a:prstGeom prst="upDownArrow">
            <a:avLst>
              <a:gd name="adj1" fmla="val 19167"/>
              <a:gd name="adj2" fmla="val 9661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filecab3"/>
          <p:cNvSpPr/>
          <p:nvPr/>
        </p:nvSpPr>
        <p:spPr>
          <a:xfrm>
            <a:off x="6858000" y="5715000"/>
            <a:ext cx="1752480" cy="6094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419720" y="6019920"/>
            <a:ext cx="2438280" cy="152280"/>
          </a:xfrm>
          <a:prstGeom prst="leftRightArrow">
            <a:avLst>
              <a:gd name="adj1" fmla="val 50000"/>
              <a:gd name="adj2" fmla="val 31875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858000" y="5867280"/>
            <a:ext cx="1752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514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Georgia"/>
              </a:rPr>
              <a:t>Ethernet Backbone</a:t>
            </a:r>
            <a:endParaRPr b="0" i="1" lang="en-US" sz="1800" spc="1" strike="noStrike">
              <a:ln w="12600">
                <a:solidFill>
                  <a:srgbClr val="000514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067760" y="2967840"/>
            <a:ext cx="743760" cy="76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07" y="3763"/>
                </a:moveTo>
                <a:arcTo wR="10800" hR="10800" stAng="-8360392" swAng="5687444"/>
                <a:lnTo>
                  <a:pt x="10800" y="10800"/>
                </a:lnTo>
                <a:close/>
              </a:path>
              <a:path fill="none" w="21600" h="21600">
                <a:moveTo>
                  <a:pt x="2607" y="3763"/>
                </a:moveTo>
                <a:arcTo wR="10800" hR="10800" stAng="-8360392" swAng="5687444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915840" y="3276000"/>
            <a:ext cx="108108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6" y="8420"/>
                </a:moveTo>
                <a:arcTo wR="10800" hR="10800" stAng="-10036035" swAng="9196332"/>
                <a:lnTo>
                  <a:pt x="10800" y="10800"/>
                </a:lnTo>
                <a:close/>
              </a:path>
              <a:path fill="none" w="21600" h="21600">
                <a:moveTo>
                  <a:pt x="266" y="8420"/>
                </a:moveTo>
                <a:arcTo wR="10800" hR="10800" stAng="-10036035" swAng="9196332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956160" y="2878920"/>
            <a:ext cx="1035360" cy="100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07" y="3763"/>
                </a:moveTo>
                <a:arcTo wR="10800" hR="10800" stAng="-8360392" swAng="5687444"/>
                <a:lnTo>
                  <a:pt x="10800" y="10800"/>
                </a:lnTo>
                <a:close/>
              </a:path>
              <a:path fill="none" w="21600" h="21600">
                <a:moveTo>
                  <a:pt x="2607" y="3763"/>
                </a:moveTo>
                <a:arcTo wR="10800" hR="10800" stAng="-8360392" swAng="5687444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914360" y="3657600"/>
            <a:ext cx="80172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996" y="2413"/>
                </a:moveTo>
                <a:arcTo wR="10800" hR="10800" stAng="-7743034" swAng="4628015"/>
                <a:lnTo>
                  <a:pt x="10800" y="10800"/>
                </a:lnTo>
                <a:close/>
              </a:path>
              <a:path fill="none" w="21600" h="21600">
                <a:moveTo>
                  <a:pt x="3996" y="2413"/>
                </a:moveTo>
                <a:arcTo wR="10800" hR="10800" stAng="-7743034" swAng="4628015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784040" y="3963960"/>
            <a:ext cx="988920" cy="75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2" y="5659"/>
                </a:moveTo>
                <a:arcTo wR="10800" hR="10800" stAng="-9094639" swAng="7478534"/>
                <a:lnTo>
                  <a:pt x="10800" y="10800"/>
                </a:lnTo>
                <a:close/>
              </a:path>
              <a:path fill="none" w="21600" h="21600">
                <a:moveTo>
                  <a:pt x="1302" y="5659"/>
                </a:moveTo>
                <a:arcTo wR="10800" hR="10800" stAng="-9094639" swAng="7478534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772880" y="3809880"/>
            <a:ext cx="1034280" cy="100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068" y="3260"/>
                </a:moveTo>
                <a:arcTo wR="10800" hR="10800" stAng="-8143096" swAng="5444690"/>
                <a:lnTo>
                  <a:pt x="10800" y="10800"/>
                </a:lnTo>
                <a:close/>
              </a:path>
              <a:path fill="none" w="21600" h="21600">
                <a:moveTo>
                  <a:pt x="3068" y="3260"/>
                </a:moveTo>
                <a:arcTo wR="10800" hR="10800" stAng="-8143096" swAng="544469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228600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781680" y="1600200"/>
            <a:ext cx="121932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952880" y="2438280"/>
            <a:ext cx="609840" cy="60984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000514"/>
              </a:gs>
              <a:gs pos="100000">
                <a:srgbClr val="0099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43000" y="2438280"/>
            <a:ext cx="609480" cy="60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000514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914400" y="1600200"/>
            <a:ext cx="137160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7680000">
            <a:off x="2693880" y="4378320"/>
            <a:ext cx="80172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996" y="2413"/>
                </a:moveTo>
                <a:arcTo wR="10800" hR="10800" stAng="-7743034" swAng="4628015"/>
                <a:lnTo>
                  <a:pt x="10800" y="10800"/>
                </a:lnTo>
                <a:close/>
              </a:path>
              <a:path fill="none" w="21600" h="21600">
                <a:moveTo>
                  <a:pt x="3996" y="2413"/>
                </a:moveTo>
                <a:arcTo wR="10800" hR="10800" stAng="-7743034" swAng="4628015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7680000">
            <a:off x="2368800" y="4359240"/>
            <a:ext cx="988920" cy="75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2" y="5659"/>
                </a:moveTo>
                <a:arcTo wR="10800" hR="10800" stAng="-9094639" swAng="7478534"/>
                <a:lnTo>
                  <a:pt x="10800" y="10800"/>
                </a:lnTo>
                <a:close/>
              </a:path>
              <a:path fill="none" w="21600" h="21600">
                <a:moveTo>
                  <a:pt x="1302" y="5659"/>
                </a:moveTo>
                <a:arcTo wR="10800" hR="10800" stAng="-9094639" swAng="7478534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7680000">
            <a:off x="2384280" y="4232880"/>
            <a:ext cx="1034280" cy="100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068" y="3260"/>
                </a:moveTo>
                <a:arcTo wR="10800" hR="10800" stAng="-8143096" swAng="5444690"/>
                <a:lnTo>
                  <a:pt x="10800" y="10800"/>
                </a:lnTo>
                <a:close/>
              </a:path>
              <a:path fill="none" w="21600" h="21600">
                <a:moveTo>
                  <a:pt x="3068" y="3260"/>
                </a:moveTo>
                <a:arcTo wR="10800" hR="10800" stAng="-8143096" swAng="544469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800600" y="1600200"/>
            <a:ext cx="99072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791320" y="1600200"/>
            <a:ext cx="990360" cy="152280"/>
          </a:xfrm>
          <a:prstGeom prst="leftArrow">
            <a:avLst>
              <a:gd name="adj1" fmla="val 50000"/>
              <a:gd name="adj2" fmla="val 16258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086600" y="2438280"/>
            <a:ext cx="609480" cy="609840"/>
          </a:xfrm>
          <a:prstGeom prst="rect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81000" y="1676520"/>
            <a:ext cx="12286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Georgia"/>
              </a:rPr>
              <a:t>Cli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876920" y="1676520"/>
            <a:ext cx="7999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Georgia"/>
              </a:rPr>
              <a:t>sniffe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  <p:sp>
        <p:nvSpPr>
          <p:cNvPr id="378" name=""/>
          <p:cNvSpPr/>
          <p:nvPr/>
        </p:nvSpPr>
        <p:spPr>
          <a:xfrm>
            <a:off x="4648320" y="228600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8000" y="1676520"/>
            <a:ext cx="10000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Georgia"/>
              </a:rPr>
              <a:t>Serve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896000" y="4181400"/>
            <a:ext cx="742680" cy="238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RFMON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848040" y="5400720"/>
            <a:ext cx="110484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0">
                  <a:noFill/>
                </a:ln>
                <a:solidFill>
                  <a:srgbClr val="000514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Access Point</a:t>
            </a:r>
            <a:endParaRPr b="0" i="1" lang="en-US" sz="1600" spc="1" strike="noStrike">
              <a:ln w="0">
                <a:noFill/>
              </a:ln>
              <a:solidFill>
                <a:srgbClr val="000514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82" name=""/>
          <p:cNvSpPr/>
          <p:nvPr/>
        </p:nvSpPr>
        <p:spPr>
          <a:xfrm>
            <a:off x="1676520" y="4114800"/>
            <a:ext cx="152388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 rot="1732800">
            <a:off x="1371240" y="4638600"/>
            <a:ext cx="1733400" cy="2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ART_SNIFFING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84" name=""/>
          <p:cNvSpPr txBox="1"/>
          <p:nvPr/>
        </p:nvSpPr>
        <p:spPr>
          <a:xfrm rot="1732800">
            <a:off x="1085400" y="5105160"/>
            <a:ext cx="17337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0:03:2F:00:E2:8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85" name=""/>
          <p:cNvSpPr txBox="1"/>
          <p:nvPr/>
        </p:nvSpPr>
        <p:spPr>
          <a:xfrm rot="1725000">
            <a:off x="1371240" y="4571640"/>
            <a:ext cx="228600" cy="1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5200560" y="4876920"/>
            <a:ext cx="17337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ART_SNIFFING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5219640" y="5410080"/>
            <a:ext cx="1733760" cy="2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0:03:2F:00:E2:8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5181480" y="5172120"/>
            <a:ext cx="228600" cy="1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89" name=""/>
          <p:cNvSpPr txBox="1"/>
          <p:nvPr/>
        </p:nvSpPr>
        <p:spPr>
          <a:xfrm rot="5400000">
            <a:off x="7481520" y="4481640"/>
            <a:ext cx="173340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ART_SNIFFING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90" name=""/>
          <p:cNvSpPr txBox="1"/>
          <p:nvPr/>
        </p:nvSpPr>
        <p:spPr>
          <a:xfrm rot="5400000">
            <a:off x="6948360" y="4481280"/>
            <a:ext cx="1733400" cy="2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0:03:2F:00:E2:8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91" name=""/>
          <p:cNvSpPr txBox="1"/>
          <p:nvPr/>
        </p:nvSpPr>
        <p:spPr>
          <a:xfrm rot="5400000">
            <a:off x="7967520" y="3767040"/>
            <a:ext cx="228600" cy="1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47800" y="3962520"/>
            <a:ext cx="128592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Lucida Console"/>
              </a:rPr>
              <a:t>UDP Packets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Lucida Console"/>
              <a:ea typeface="Lucida Console"/>
            </a:endParaRPr>
          </a:p>
        </p:txBody>
      </p:sp>
      <p:sp>
        <p:nvSpPr>
          <p:cNvPr id="393" name=""/>
          <p:cNvSpPr txBox="1"/>
          <p:nvPr/>
        </p:nvSpPr>
        <p:spPr>
          <a:xfrm rot="1896000">
            <a:off x="1771200" y="4333680"/>
            <a:ext cx="17337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OP_SNIFFING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952880" y="6238800"/>
            <a:ext cx="1733760" cy="2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OP_SNIFFING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95" name=""/>
          <p:cNvSpPr txBox="1"/>
          <p:nvPr/>
        </p:nvSpPr>
        <p:spPr>
          <a:xfrm rot="5400000">
            <a:off x="6252840" y="4424400"/>
            <a:ext cx="173340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OP_SNIFFING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96" name=""/>
          <p:cNvSpPr txBox="1"/>
          <p:nvPr/>
        </p:nvSpPr>
        <p:spPr>
          <a:xfrm rot="1825200">
            <a:off x="1447560" y="4572000"/>
            <a:ext cx="173340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MPORT_RXLOG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971960" y="5781600"/>
            <a:ext cx="1733760" cy="2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MPORT_RXLOG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98" name=""/>
          <p:cNvSpPr txBox="1"/>
          <p:nvPr/>
        </p:nvSpPr>
        <p:spPr>
          <a:xfrm rot="5400000">
            <a:off x="6786360" y="4405320"/>
            <a:ext cx="173340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MPORT_RXLOG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99" name=""/>
          <p:cNvSpPr txBox="1"/>
          <p:nvPr/>
        </p:nvSpPr>
        <p:spPr>
          <a:xfrm rot="5400000">
            <a:off x="6752880" y="4467240"/>
            <a:ext cx="1047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RxLog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276880" y="5791320"/>
            <a:ext cx="1047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RxLog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401" name=""/>
          <p:cNvSpPr txBox="1"/>
          <p:nvPr/>
        </p:nvSpPr>
        <p:spPr>
          <a:xfrm rot="2111400">
            <a:off x="2152800" y="4190760"/>
            <a:ext cx="1047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RxLog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1656000" y="3786480"/>
            <a:ext cx="1647360" cy="1150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181480" y="2209680"/>
            <a:ext cx="152640" cy="228600"/>
          </a:xfrm>
          <a:prstGeom prst="upDownArrow">
            <a:avLst>
              <a:gd name="adj1" fmla="val 50000"/>
              <a:gd name="adj2" fmla="val 2981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18486000">
            <a:off x="3436560" y="4917600"/>
            <a:ext cx="80172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996" y="2413"/>
                </a:moveTo>
                <a:arcTo wR="10800" hR="10800" stAng="-7743034" swAng="4628015"/>
                <a:lnTo>
                  <a:pt x="10800" y="10800"/>
                </a:lnTo>
                <a:close/>
              </a:path>
              <a:path fill="none" w="21600" h="21600">
                <a:moveTo>
                  <a:pt x="3996" y="2413"/>
                </a:moveTo>
                <a:arcTo wR="10800" hR="10800" stAng="-7743034" swAng="4628015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8481200">
            <a:off x="2966760" y="4826160"/>
            <a:ext cx="988920" cy="75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2" y="5659"/>
                </a:moveTo>
                <a:arcTo wR="10800" hR="10800" stAng="-9094639" swAng="7478534"/>
                <a:lnTo>
                  <a:pt x="10800" y="10800"/>
                </a:lnTo>
                <a:close/>
              </a:path>
              <a:path fill="none" w="21600" h="21600">
                <a:moveTo>
                  <a:pt x="1302" y="5659"/>
                </a:moveTo>
                <a:arcTo wR="10800" hR="10800" stAng="-9094639" swAng="7478534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18481200">
            <a:off x="3208680" y="4844520"/>
            <a:ext cx="1034280" cy="100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068" y="3260"/>
                </a:moveTo>
                <a:arcTo wR="10800" hR="10800" stAng="-8143096" swAng="5444690"/>
                <a:lnTo>
                  <a:pt x="10800" y="10800"/>
                </a:lnTo>
                <a:close/>
              </a:path>
              <a:path fill="none" w="21600" h="21600">
                <a:moveTo>
                  <a:pt x="3068" y="3260"/>
                </a:moveTo>
                <a:arcTo wR="10800" hR="10800" stAng="-8143096" swAng="544469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 rot="18784200">
            <a:off x="2804040" y="4764960"/>
            <a:ext cx="660240" cy="172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ACK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408" name=""/>
          <p:cNvSpPr/>
          <p:nvPr/>
        </p:nvSpPr>
        <p:spPr>
          <a:xfrm rot="19187400">
            <a:off x="1370160" y="3601800"/>
            <a:ext cx="80172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996" y="2413"/>
                </a:moveTo>
                <a:arcTo wR="10800" hR="10800" stAng="-7743034" swAng="4628015"/>
                <a:lnTo>
                  <a:pt x="10800" y="10800"/>
                </a:lnTo>
                <a:close/>
              </a:path>
              <a:path fill="none" w="21600" h="21600">
                <a:moveTo>
                  <a:pt x="3996" y="2413"/>
                </a:moveTo>
                <a:arcTo wR="10800" hR="10800" stAng="-7743034" swAng="4628015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9184400">
            <a:off x="1473480" y="3768480"/>
            <a:ext cx="988920" cy="75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2" y="5659"/>
                </a:moveTo>
                <a:arcTo wR="10800" hR="10800" stAng="-9094639" swAng="7478534"/>
                <a:lnTo>
                  <a:pt x="10800" y="10800"/>
                </a:lnTo>
                <a:close/>
              </a:path>
              <a:path fill="none" w="21600" h="21600">
                <a:moveTo>
                  <a:pt x="1302" y="5659"/>
                </a:moveTo>
                <a:arcTo wR="10800" hR="10800" stAng="-9094639" swAng="7478534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9179600">
            <a:off x="1387080" y="3672360"/>
            <a:ext cx="1034280" cy="100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068" y="3260"/>
                </a:moveTo>
                <a:arcTo wR="10800" hR="10800" stAng="-8143096" swAng="5444690"/>
                <a:lnTo>
                  <a:pt x="10800" y="10800"/>
                </a:lnTo>
                <a:close/>
              </a:path>
              <a:path fill="none" w="21600" h="21600">
                <a:moveTo>
                  <a:pt x="3068" y="3260"/>
                </a:moveTo>
                <a:arcTo wR="10800" hR="10800" stAng="-8143096" swAng="544469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5943600" y="1905120"/>
            <a:ext cx="68580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RxLog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412" name=""/>
          <p:cNvSpPr/>
          <p:nvPr/>
        </p:nvSpPr>
        <p:spPr>
          <a:xfrm>
            <a:off x="5791320" y="1981080"/>
            <a:ext cx="152280" cy="76320"/>
          </a:xfrm>
          <a:prstGeom prst="rightArrow">
            <a:avLst>
              <a:gd name="adj1" fmla="val 50000"/>
              <a:gd name="adj2" fmla="val 4988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629400" y="1981080"/>
            <a:ext cx="152280" cy="76320"/>
          </a:xfrm>
          <a:prstGeom prst="rightArrow">
            <a:avLst>
              <a:gd name="adj1" fmla="val 50000"/>
              <a:gd name="adj2" fmla="val 4988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2743200" y="1619280"/>
            <a:ext cx="6858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TxLog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415" name=""/>
          <p:cNvSpPr/>
          <p:nvPr/>
        </p:nvSpPr>
        <p:spPr>
          <a:xfrm>
            <a:off x="2362320" y="1676520"/>
            <a:ext cx="304560" cy="75960"/>
          </a:xfrm>
          <a:prstGeom prst="rightArrow">
            <a:avLst>
              <a:gd name="adj1" fmla="val 50000"/>
              <a:gd name="adj2" fmla="val 10023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743200" y="1981080"/>
            <a:ext cx="6858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RxLog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417" name=""/>
          <p:cNvSpPr/>
          <p:nvPr/>
        </p:nvSpPr>
        <p:spPr>
          <a:xfrm>
            <a:off x="2362320" y="2057400"/>
            <a:ext cx="304560" cy="76320"/>
          </a:xfrm>
          <a:prstGeom prst="rightArrow">
            <a:avLst>
              <a:gd name="adj1" fmla="val 50000"/>
              <a:gd name="adj2" fmla="val 9976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3000"/>
                            </p:stCondLst>
                            <p:childTnLst>
                              <p:par>
                                <p:cTn id="37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500"/>
                            </p:stCondLst>
                            <p:childTnLst>
                              <p:par>
                                <p:cTn id="39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250" autoRev="1" fill="hold"/>
                                        <p:tgtEl>
                                          <p:spTgt spid="3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250" autoRev="1" fill="hold"/>
                                        <p:tgtEl>
                                          <p:spTgt spid="3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500"/>
                            </p:stCondLst>
                            <p:childTnLst>
                              <p:par>
                                <p:cTn id="40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7" dur="250" autoRev="1" fill="hold"/>
                                        <p:tgtEl>
                                          <p:spTgt spid="3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250" autoRev="1" fill="hold"/>
                                        <p:tgtEl>
                                          <p:spTgt spid="3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5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5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0" dur="250" autoRev="1" fill="hold"/>
                                        <p:tgtEl>
                                          <p:spTgt spid="3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6000"/>
                            </p:stCondLst>
                            <p:childTnLst>
                              <p:par>
                                <p:cTn id="50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6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6500"/>
                            </p:stCondLst>
                            <p:childTnLst>
                              <p:par>
                                <p:cTn id="519" nodeType="after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7" dur="250" autoRev="1" fill="hold"/>
                                        <p:tgtEl>
                                          <p:spTgt spid="3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9000"/>
                            </p:stCondLst>
                            <p:childTnLst>
                              <p:par>
                                <p:cTn id="529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9500"/>
                            </p:stCondLst>
                            <p:childTnLst>
                              <p:par>
                                <p:cTn id="539" nodeType="after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6" dur="250" autoRev="1" fill="hold"/>
                                        <p:tgtEl>
                                          <p:spTgt spid="3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57" nodeType="withEffect" fill="hold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9" dur="250" autoRev="1" fill="hold"/>
                                        <p:tgtEl>
                                          <p:spTgt spid="3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0" nodeType="withEffect" fill="hold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2" dur="250" autoRev="1" fill="hold"/>
                                        <p:tgtEl>
                                          <p:spTgt spid="3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3" nodeType="withEffect" fill="hold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5" dur="250" autoRev="1" fill="hold"/>
                                        <p:tgtEl>
                                          <p:spTgt spid="4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5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mph" presetID="35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1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1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2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2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2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2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2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3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3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500"/>
                            </p:stCondLst>
                            <p:childTnLst>
                              <p:par>
                                <p:cTn id="634" nodeType="afterEffect" fill="hold" presetClass="emph" presetID="35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3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3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3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4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000"/>
                            </p:stCondLst>
                            <p:childTnLst>
                              <p:par>
                                <p:cTn id="71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500"/>
                            </p:stCondLst>
                            <p:childTnLst>
                              <p:par>
                                <p:cTn id="7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1" dur="250" autoRev="1" fill="hold"/>
                                        <p:tgtEl>
                                          <p:spTgt spid="3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42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4000"/>
                            </p:stCondLst>
                            <p:childTnLst>
                              <p:par>
                                <p:cTn id="745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4500"/>
                            </p:stCondLst>
                            <p:childTnLst>
                              <p:par>
                                <p:cTn id="7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5" dur="250" autoRev="1" fill="hold"/>
                                        <p:tgtEl>
                                          <p:spTgt spid="3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6000"/>
                            </p:stCondLst>
                            <p:childTnLst>
                              <p:par>
                                <p:cTn id="757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6500"/>
                            </p:stCondLst>
                            <p:childTnLst>
                              <p:par>
                                <p:cTn id="761" nodeType="after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6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9000"/>
                            </p:stCondLst>
                            <p:childTnLst>
                              <p:par>
                                <p:cTn id="775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7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7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9500"/>
                            </p:stCondLst>
                            <p:childTnLst>
                              <p:par>
                                <p:cTn id="78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after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0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2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500"/>
                            </p:stCondLst>
                            <p:childTnLst>
                              <p:par>
                                <p:cTn id="845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000"/>
                            </p:stCondLst>
                            <p:childTnLst>
                              <p:par>
                                <p:cTn id="8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4" nodeType="withEffect" fill="hold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6" dur="250" autoRev="1" fill="hold"/>
                                        <p:tgtEl>
                                          <p:spTgt spid="3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3500"/>
                            </p:stCondLst>
                            <p:childTnLst>
                              <p:par>
                                <p:cTn id="87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7" dur="250" autoRev="1" fill="hold"/>
                                        <p:tgtEl>
                                          <p:spTgt spid="3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89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9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4" dur="250" autoRev="1" fill="hold"/>
                                        <p:tgtEl>
                                          <p:spTgt spid="3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95" nodeType="withEffect" fill="hold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7" dur="250" autoRev="1" fill="hold"/>
                                        <p:tgtEl>
                                          <p:spTgt spid="3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6500"/>
                            </p:stCondLst>
                            <p:childTnLst>
                              <p:par>
                                <p:cTn id="9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1" dur="250" autoRev="1" fill="hold"/>
                                        <p:tgtEl>
                                          <p:spTgt spid="3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80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mph" presetID="26" repeatCount="2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9" dur="250" autoRev="1" fill="hold"/>
                                        <p:tgtEl>
                                          <p:spTgt spid="3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9500"/>
                            </p:stCondLst>
                            <p:childTnLst>
                              <p:par>
                                <p:cTn id="9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9500"/>
                            </p:stCondLst>
                            <p:childTnLst>
                              <p:par>
                                <p:cTn id="942" nodeType="after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6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8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963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8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8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1500"/>
                            </p:stCondLst>
                            <p:childTnLst>
                              <p:par>
                                <p:cTn id="98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8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1" lang="en-US" sz="2800" spc="-1" strike="noStrike" u="sng">
                <a:solidFill>
                  <a:srgbClr val="e5e5ff"/>
                </a:solidFill>
                <a:uFillTx/>
                <a:latin typeface="Garamond"/>
              </a:rPr>
              <a:t>M.Tech Thesis Presentation</a:t>
            </a:r>
            <a:br>
              <a:rPr sz="2800"/>
            </a:br>
            <a:br>
              <a:rPr sz="20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WLAN Watch: A Step Towards The Study Of 802.11b Wireless LANs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963960"/>
            <a:ext cx="4038480" cy="21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uperviso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r. Pravin Bhagw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3963960"/>
            <a:ext cx="4038480" cy="21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resented b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. Imtiaz ur raham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WLAN Watch - Statist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AFFIC PARAMETERS: SPECIFIED TRAFFIC COUNT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300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AFFIC PARAMETERS: UDP PACKET BODY (IN BYTES)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xLog: TOTAL PACKETS SNIFFED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70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xLog: TOTAL CORRUPTED PACKET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xLog: DUPLICATE PACKET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50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xLog: DUPLICATE PACKET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13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xLog: DUPLICATE PACKET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14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xLog: DUPLICATE PACKET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16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xLog: DUPLICATE PACKET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62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xLog: DUPLICATE PACKET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72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xLog: TOTAL DUPLICATES FOUND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xLog: TOTAL PACKETS LOST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34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WLAN Watch – Statist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xLog: ERROR RATE  - PERCENTAG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.4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xLog: PACKET LOSS - PERCENTAG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1.6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xLog: THROUGHPUT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804. Kbp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Traffic – 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5715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stination I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urce Po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stination Po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CKET_DATA_SIZ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QNO_STA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QNO_SIZ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QNO_REDUNDANC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RAFFIC_COU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CKET_CONT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"/>
          <p:cNvSpPr/>
          <p:nvPr/>
        </p:nvSpPr>
        <p:spPr>
          <a:xfrm>
            <a:off x="4876920" y="1600200"/>
            <a:ext cx="304560" cy="1143000"/>
          </a:xfrm>
          <a:custGeom>
            <a:avLst/>
            <a:gdLst>
              <a:gd name="textAreaLeft" fmla="*/ 0 w 304560"/>
              <a:gd name="textAreaRight" fmla="*/ 10980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700"/>
                </a:lnTo>
                <a:cubicBezTo>
                  <a:pt x="10800" y="9600"/>
                  <a:pt x="16200" y="10500"/>
                  <a:pt x="21600" y="10500"/>
                </a:cubicBezTo>
                <a:cubicBezTo>
                  <a:pt x="16200" y="10500"/>
                  <a:pt x="10800" y="11400"/>
                  <a:pt x="10800" y="123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876920" y="3276720"/>
            <a:ext cx="304560" cy="1447560"/>
          </a:xfrm>
          <a:custGeom>
            <a:avLst/>
            <a:gdLst>
              <a:gd name="textAreaLeft" fmla="*/ 0 w 304560"/>
              <a:gd name="textAreaRight" fmla="*/ 109800 w 30456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45"/>
                </a:lnTo>
                <a:cubicBezTo>
                  <a:pt x="10800" y="9545"/>
                  <a:pt x="16200" y="10445"/>
                  <a:pt x="21600" y="10445"/>
                </a:cubicBezTo>
                <a:cubicBezTo>
                  <a:pt x="16200" y="10445"/>
                  <a:pt x="10800" y="11345"/>
                  <a:pt x="10800" y="1224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686560" y="1990800"/>
            <a:ext cx="216216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PACKET HEADER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5686560" y="3809880"/>
            <a:ext cx="216216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PACKET BODY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28" name=""/>
          <p:cNvSpPr/>
          <p:nvPr/>
        </p:nvSpPr>
        <p:spPr>
          <a:xfrm>
            <a:off x="4876920" y="525780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700"/>
                </a:lnTo>
                <a:cubicBezTo>
                  <a:pt x="10800" y="9600"/>
                  <a:pt x="16200" y="10500"/>
                  <a:pt x="21600" y="10500"/>
                </a:cubicBezTo>
                <a:cubicBezTo>
                  <a:pt x="16200" y="10500"/>
                  <a:pt x="10800" y="11400"/>
                  <a:pt x="10800" y="123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5686560" y="5410080"/>
            <a:ext cx="216216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TRAFFIC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Traffic -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1" name=""/>
          <p:cNvSpPr/>
          <p:nvPr/>
        </p:nvSpPr>
        <p:spPr>
          <a:xfrm>
            <a:off x="838080" y="1676520"/>
            <a:ext cx="73152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63200" y="1911240"/>
            <a:ext cx="12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Garamond"/>
              </a:rPr>
              <a:t>000</a:t>
            </a:r>
            <a:r>
              <a:rPr b="0" lang="en-US" sz="2400" spc="-1" strike="noStrike">
                <a:solidFill>
                  <a:srgbClr val="00ff00"/>
                </a:solidFill>
                <a:latin typeface="Garamond"/>
              </a:rPr>
              <a:t>12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848600" y="19051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Garamond"/>
              </a:rPr>
              <a:t>00012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5640" y="19051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Garamond"/>
              </a:rPr>
              <a:t>00012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905120" y="16765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971800" y="16765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030440" y="19051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Garamond"/>
              </a:rPr>
              <a:t>00012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162920" y="16765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038480" y="16765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38080" y="4114800"/>
            <a:ext cx="723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PACKET_DATA_SIZE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=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SEQNO_START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=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Garamond"/>
              </a:rPr>
              <a:t>1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SEQNO_SIZE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=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SEQNO_REDUNDANCY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=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Garamond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267080" y="1905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.. abcxyz ..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038480" y="312408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724280" y="2666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100 – (4*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038480" y="27432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162920" y="27432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838080" y="1676520"/>
            <a:ext cx="731520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38080" y="3124080"/>
            <a:ext cx="1067040" cy="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38080" y="2743200"/>
            <a:ext cx="0" cy="68580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905120" y="2743200"/>
            <a:ext cx="0" cy="68580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37080" y="2743200"/>
            <a:ext cx="9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SEQ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004760" y="312408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S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e5ff"/>
                </a:solidFill>
                <a:uFillTx/>
                <a:latin typeface="Garamond"/>
              </a:rPr>
              <a:t>WLAN Watch - Experimen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3" name=""/>
          <p:cNvSpPr/>
          <p:nvPr/>
        </p:nvSpPr>
        <p:spPr>
          <a:xfrm>
            <a:off x="4648320" y="2514600"/>
            <a:ext cx="1447560" cy="10666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648320" y="3048120"/>
            <a:ext cx="14475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029200" y="25909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334120" y="259092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572000" y="1828800"/>
            <a:ext cx="2209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733920" y="2514600"/>
            <a:ext cx="0" cy="21337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648320" y="3581280"/>
            <a:ext cx="1447560" cy="10670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648320" y="5257800"/>
            <a:ext cx="1447560" cy="10666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1828800" y="4648320"/>
            <a:ext cx="190512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1142640" y="5257800"/>
            <a:ext cx="350532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828800" y="1905120"/>
            <a:ext cx="0" cy="22096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143000" y="190512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41148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133720" y="4191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286000" y="4267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143000" y="342900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19051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80880" y="464832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219320" y="42670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38080" y="2971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752480" y="48769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257800" y="54864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257800" y="42670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257800" y="32767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638680" y="25909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19920" y="19810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962520" y="13716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267080" y="31240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572000" y="13716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162920" y="19051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162920" y="236232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28195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7886880" y="1905120"/>
            <a:ext cx="34272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7620120" y="2286000"/>
            <a:ext cx="990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rv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7620120" y="2743200"/>
            <a:ext cx="990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li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8" name=""/>
          <p:cNvSpPr/>
          <p:nvPr/>
        </p:nvSpPr>
        <p:spPr>
          <a:xfrm>
            <a:off x="6934320" y="1066680"/>
            <a:ext cx="1752480" cy="205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6172200" y="3276720"/>
            <a:ext cx="9907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S31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6172200" y="4343400"/>
            <a:ext cx="9907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S31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6172200" y="5715000"/>
            <a:ext cx="9907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S31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2438280" y="4191120"/>
            <a:ext cx="9907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ai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04920" y="4267080"/>
            <a:ext cx="7617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if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304920" y="2209680"/>
            <a:ext cx="7617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5562720" y="1523880"/>
            <a:ext cx="9903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S3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6" name=""/>
          <p:cNvSpPr/>
          <p:nvPr/>
        </p:nvSpPr>
        <p:spPr>
          <a:xfrm>
            <a:off x="304920" y="411480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2819520" y="1371600"/>
            <a:ext cx="7617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a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8" name=""/>
          <p:cNvSpPr/>
          <p:nvPr/>
        </p:nvSpPr>
        <p:spPr>
          <a:xfrm>
            <a:off x="3733920" y="137160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86600" y="1295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86600" y="16002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7696080" y="1209600"/>
            <a:ext cx="838440" cy="2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7696080" y="1523880"/>
            <a:ext cx="8384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a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Information From RxLo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569600"/>
            <a:ext cx="73915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 Packet Signal Leve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unt of packe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unt of corrupted packe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unt of uncorrupted packe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centage of corrupted packe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centage of uncorrupted packe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219320" y="17398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Corrupted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219320" y="2349360"/>
          <a:ext cx="2590560" cy="350208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gnal Level Interv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% of Traff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-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.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-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-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.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-1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Plotting Graphs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8" name=""/>
          <p:cNvSpPr/>
          <p:nvPr/>
        </p:nvSpPr>
        <p:spPr>
          <a:xfrm>
            <a:off x="4952880" y="17398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Uncorrupted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054760" y="2362320"/>
          <a:ext cx="2641320" cy="3511440"/>
        </p:xfrm>
        <a:graphic>
          <a:graphicData uri="http://schemas.openxmlformats.org/drawingml/2006/table">
            <a:tbl>
              <a:tblPr/>
              <a:tblGrid>
                <a:gridCol w="1320480"/>
                <a:gridCol w="13208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gnal Level Interv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% of Traff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-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.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-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.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-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7.9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…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…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-1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2.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WLAN Watch -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Generi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60840" indent="-517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ports Prism-II &amp; Cisco Aironet card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6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GUI to configure the ca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60840" indent="-517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ecify the driver to be load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60840" indent="-517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ociate with a given Access Point in infrastructure mod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60840" indent="-517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up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30200" indent="-44316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P Address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30200" indent="-44316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etmask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30200" indent="-44316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ateway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30200" indent="-44316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out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WLAN Watch -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6960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niff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50760" indent="-511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hange the sniffing channe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50760" indent="-511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g the sniffed packe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50760" indent="-511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gnal level and noise level of each sniffed packe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50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Traffic Tu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50760" indent="-511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hange packet size, Sequence number redundancy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50760" indent="-511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raffic Coun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50760" indent="-511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raffic Conte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50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50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WLAN Watch -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tatistic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er Packet Signal Leve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er Packet Noise Leve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cket loss in Rx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ckets corrupted in Rx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ckets duplicated in Rx (along with their sequence numbers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roughpu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latform for conducting other experi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802.11b Wireless LA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21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802.11b - MAC layer standard for wireless LAN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LAN networks found in Airports, Coffee shops, Universities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ndwidth : 11Mbp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eed to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STUD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he WLAN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ggest possible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IMPROVEMENT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 adequate </a:t>
            </a:r>
            <a:r>
              <a:rPr b="0" lang="en-US" sz="2400" spc="-1" strike="noStrike">
                <a:solidFill>
                  <a:srgbClr val="00ff00"/>
                </a:solidFill>
                <a:latin typeface="Garamond"/>
              </a:rPr>
              <a:t>TOOL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vailabl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laptop"/>
          <p:cNvSpPr/>
          <p:nvPr/>
        </p:nvSpPr>
        <p:spPr>
          <a:xfrm>
            <a:off x="5105520" y="2209680"/>
            <a:ext cx="685800" cy="4572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aptop"/>
          <p:cNvSpPr/>
          <p:nvPr/>
        </p:nvSpPr>
        <p:spPr>
          <a:xfrm>
            <a:off x="7086600" y="2133720"/>
            <a:ext cx="685800" cy="4572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aptop"/>
          <p:cNvSpPr/>
          <p:nvPr/>
        </p:nvSpPr>
        <p:spPr>
          <a:xfrm>
            <a:off x="7543800" y="5410080"/>
            <a:ext cx="609480" cy="3812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aptop"/>
          <p:cNvSpPr/>
          <p:nvPr/>
        </p:nvSpPr>
        <p:spPr>
          <a:xfrm>
            <a:off x="5562720" y="5486400"/>
            <a:ext cx="685800" cy="3808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modem"/>
          <p:cNvSpPr/>
          <p:nvPr/>
        </p:nvSpPr>
        <p:spPr>
          <a:xfrm>
            <a:off x="5791320" y="3809880"/>
            <a:ext cx="1066680" cy="3049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6629400" y="2743200"/>
            <a:ext cx="609480" cy="990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2743200"/>
            <a:ext cx="685800" cy="990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81680" y="4267080"/>
            <a:ext cx="838440" cy="990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943600" y="4266720"/>
            <a:ext cx="38088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aptop"/>
          <p:cNvSpPr/>
          <p:nvPr/>
        </p:nvSpPr>
        <p:spPr>
          <a:xfrm>
            <a:off x="8153280" y="3276720"/>
            <a:ext cx="685800" cy="4572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934320" y="3657240"/>
            <a:ext cx="1143000" cy="3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Forward Dir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plementing forward error corr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ffect of co-channel interference 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rror r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cket lo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gnal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is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roughpu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Forward Dir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Effect of transmission rate 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rror ra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cket lo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roughpu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Effect of distance 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gnal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rror ra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cket lo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roughpu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5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5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Forward Dir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Effect of packet size 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rror ra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cket lo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roughpu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Effect of mobility 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rror ra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cket lo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gnal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roughpu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5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5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Forward Dir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ptimally setting up the A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ximum cover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ximum throughpu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interfer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1600200" y="2590920"/>
            <a:ext cx="5562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 you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What Sort Of Tool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Error patter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niff all packets including corrupted ones, map to the original packet - Error Correc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ignal level ra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ere huge % of packets get corrupted (PPSL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Critical signal level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low which packets are lost (PPSL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acket siz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yond which most of the packets get corrupt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What Sort Of Tool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ffect O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wer, load on AP etc., on packet loss and packet corruption ratio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ener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pport for multiple NIC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inux environ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Existing Too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niffer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not log corrupted packets. Hence do not help in Error Correctio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ignal 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w signal strength of signal received from the AP connected to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per packet inform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Existing Too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ow experimentation suppo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’t conduct experiments with desired traffi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ecified packet size, power level, 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No idea abou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rror patterns, packet loss ratio, packet corruption ratio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Objectiv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eneric Device Driver for 802.11b NIC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tandardize the Driver-Application Interfa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Garamond"/>
              </a:rPr>
              <a:t>Build Generic Too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Hence, setup a stage to study and suggest any possible improvements in 802.11b WLA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Architecture - Overvie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152388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251460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480060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039080" y="1752480"/>
            <a:ext cx="1571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pplication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010280" y="3505320"/>
            <a:ext cx="8287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Kerne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010280" y="5562720"/>
            <a:ext cx="12286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ardwar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5791320"/>
            <a:ext cx="1523880" cy="3045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50000">
                <a:srgbClr val="000514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5334120"/>
            <a:ext cx="114300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000514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14800" y="4267080"/>
            <a:ext cx="114300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3886200"/>
            <a:ext cx="685800" cy="304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14800" y="4952880"/>
            <a:ext cx="1143000" cy="3049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50000">
                <a:srgbClr val="ffffff"/>
              </a:gs>
              <a:gs pos="100000">
                <a:srgbClr val="e6e6e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14800" y="2666880"/>
            <a:ext cx="6858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 rot="5400000">
            <a:off x="3961800" y="3124080"/>
            <a:ext cx="990720" cy="228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CP/IP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1752480"/>
            <a:ext cx="3352680" cy="53352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50000">
                <a:srgbClr val="ffa800"/>
              </a:gs>
              <a:gs pos="100000">
                <a:srgbClr val="8256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2590920"/>
            <a:ext cx="457200" cy="1600200"/>
          </a:xfrm>
          <a:custGeom>
            <a:avLst/>
            <a:gdLst>
              <a:gd name="textAreaLeft" fmla="*/ 168840 w 457200"/>
              <a:gd name="textAreaRight" fmla="*/ 368280 w 457200"/>
              <a:gd name="textAreaTop" fmla="*/ 1044720 h 1600200"/>
              <a:gd name="textAreaBottom" fmla="*/ 1289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8300"/>
                </a:moveTo>
                <a:lnTo>
                  <a:pt x="14100" y="18300"/>
                </a:lnTo>
                <a:lnTo>
                  <a:pt x="14100" y="7971"/>
                </a:lnTo>
                <a:lnTo>
                  <a:pt x="9900" y="7971"/>
                </a:lnTo>
                <a:lnTo>
                  <a:pt x="15750" y="0"/>
                </a:lnTo>
                <a:lnTo>
                  <a:pt x="21600" y="7971"/>
                </a:lnTo>
                <a:lnTo>
                  <a:pt x="17400" y="7971"/>
                </a:lnTo>
                <a:lnTo>
                  <a:pt x="17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352680" y="6172200"/>
            <a:ext cx="259092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1. Wireless N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19120" y="5562720"/>
            <a:ext cx="24670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2. Firmw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371600" y="4419720"/>
            <a:ext cx="19810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4. Driv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447920" y="3886200"/>
            <a:ext cx="2295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5. NIC - INF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486400" y="2743200"/>
            <a:ext cx="211464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6. ioctls, /pro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447920" y="5019840"/>
            <a:ext cx="2276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3. Interfa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08:09:50Z</dcterms:created>
  <dc:creator>Digital Gangetic Plains</dc:creator>
  <dc:description/>
  <dc:language>en-US</dc:language>
  <cp:lastModifiedBy>Digital Gangetic Plains</cp:lastModifiedBy>
  <dcterms:modified xsi:type="dcterms:W3CDTF">2003-04-16T16:17:36Z</dcterms:modified>
  <cp:revision>450</cp:revision>
  <dc:subject/>
  <dc:title>Thesis presentation</dc:title>
</cp:coreProperties>
</file>