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743BA-E0D3-4EFD-A990-6A9E0D943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7FDD6-299F-40F9-B47E-7422FA552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4BA99-A0C7-4B14-9126-C2DB35B49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A5265-7181-4ED2-93BE-3F63315DF2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97B94-8E1E-4DCE-8A8B-6A962F4386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959C-B674-4D22-92A3-8A4EE32811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F81EF-84A9-47E6-99AC-E44FC63FC7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2DFF6-5770-4FE2-AB63-0EBA4C623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F584A-4C2C-4A57-AF5E-DA0D877A94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A8DE-B686-4239-9FE7-A59F65CAC1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AA03-381C-4027-8875-D9647EAB43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00240-665F-4842-BAC0-99F728229B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353D7-8D0F-4E7A-8FC3-5B8C3D7D2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B504-0BFC-4169-BAB8-EC02450AE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67169-2377-4577-9ECD-1EFEEAFB0F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2D73-959E-42FE-AEDF-613BF841B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BAD62-8456-4D7F-B767-5E0B1080D1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C23-C36F-4DCA-844B-1AE7AFF9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213-BD81-48C3-8567-5D1B03F1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A68-239A-4452-84A5-D9AE2F74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121-FB8F-4FB7-B297-A0CCF8B3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ED8-EF0A-4482-843C-65E82E7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BED-86BF-4208-B21C-D41A24FA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FD6-D36F-498A-BC38-D294D97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34B-3F1C-48AA-971F-D007F53B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637-A4A2-4AD3-BEE7-ADDAC3BF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195-4121-40AE-B2CD-2513C15A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519-4D5D-4DE3-B5EA-DB97BFC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8E5-FFD3-4540-A1AE-DCBB10A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A82D9-4424-4131-A951-86E11EE1C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CS626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bhirut Gup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Mandar Jo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iyush Dungar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(Group No.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nodeExpansion.eps"/>
          <p:cNvPicPr/>
          <p:nvPr/>
        </p:nvPicPr>
        <p:blipFill>
          <a:blip r:embed="rId1"/>
          <a:stretch/>
        </p:blipFill>
        <p:spPr>
          <a:xfrm>
            <a:off x="503280" y="399960"/>
            <a:ext cx="9074160" cy="6662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6769080" y="1332000"/>
            <a:ext cx="230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Node Expa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n Trigram Viterbi implementation, Capitalization is applied outside the algori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This results in certain words being tagged differently by  two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From the graph, A* expands fewer nodes than Viterbi. However statistics for node expansion do not take into account the comparisons made in the Viterbi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Beam search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n upper bound is maintained on the size of Open list of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sults for size = 5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Reduction in execution time : 56.6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Accuracy : 78.2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Results for size = 2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Reduction in execution time : 76.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Accuracy : 63.2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Projection of Parse Trees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From the English parse tree, we obtain the Noun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Using an English-Hindi dictionary and the given translation, find corresponding groups in the Hindi sentence, and replace the English groups by the Hindi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Replace the remaining words by corresponding Hindi words from th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Now, apply hard-coded inversion rules to th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Example – PP -&gt; P NP in english is invert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PP -&gt; NP P in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032360" y="58896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"/>
          <p:cNvSpPr/>
          <p:nvPr/>
        </p:nvSpPr>
        <p:spPr>
          <a:xfrm flipH="1">
            <a:off x="1797120" y="1008000"/>
            <a:ext cx="216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4176720" y="1008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4464000" y="936720"/>
            <a:ext cx="352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440000" y="1655640"/>
            <a:ext cx="64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59280" y="1728720"/>
            <a:ext cx="72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848720" y="158436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03280" y="2519280"/>
            <a:ext cx="431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800360" y="2519280"/>
            <a:ext cx="57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944720" y="338472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871640" y="4248000"/>
            <a:ext cx="64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03280" y="331164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024360" y="259236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464000" y="251928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735280" y="345600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2735280" y="4319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527280" y="345600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3456000" y="433404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608360" y="3456000"/>
            <a:ext cx="6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543640" y="34560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4608360" y="431964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5256360" y="431964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5832360" y="43340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6551640" y="431964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103640" y="5256360"/>
            <a:ext cx="16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compuls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5759280" y="5832360"/>
            <a:ext cx="93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6551640" y="617868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983280" y="2448000"/>
            <a:ext cx="72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8783640" y="2376360"/>
            <a:ext cx="79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6840360" y="3384720"/>
            <a:ext cx="86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7991640" y="3456000"/>
            <a:ext cx="50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9144000" y="34560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7775640" y="424800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8640720" y="4319640"/>
            <a:ext cx="14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a proper full time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5"/>
          <p:cNvSpPr/>
          <p:nvPr/>
        </p:nvSpPr>
        <p:spPr>
          <a:xfrm flipH="1">
            <a:off x="789120" y="1944720"/>
            <a:ext cx="72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6"/>
          <p:cNvSpPr/>
          <p:nvPr/>
        </p:nvSpPr>
        <p:spPr>
          <a:xfrm>
            <a:off x="720720" y="286704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7"/>
          <p:cNvSpPr/>
          <p:nvPr/>
        </p:nvSpPr>
        <p:spPr>
          <a:xfrm>
            <a:off x="1728720" y="2001960"/>
            <a:ext cx="28728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8"/>
          <p:cNvSpPr/>
          <p:nvPr/>
        </p:nvSpPr>
        <p:spPr>
          <a:xfrm>
            <a:off x="2016000" y="2867040"/>
            <a:ext cx="1447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9"/>
          <p:cNvSpPr/>
          <p:nvPr/>
        </p:nvSpPr>
        <p:spPr>
          <a:xfrm>
            <a:off x="2160720" y="3730680"/>
            <a:ext cx="14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0"/>
          <p:cNvSpPr/>
          <p:nvPr/>
        </p:nvSpPr>
        <p:spPr>
          <a:xfrm flipH="1">
            <a:off x="3381120" y="2075040"/>
            <a:ext cx="7239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1"/>
          <p:cNvSpPr/>
          <p:nvPr/>
        </p:nvSpPr>
        <p:spPr>
          <a:xfrm>
            <a:off x="4248000" y="2075040"/>
            <a:ext cx="4320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2"/>
          <p:cNvSpPr/>
          <p:nvPr/>
        </p:nvSpPr>
        <p:spPr>
          <a:xfrm flipH="1">
            <a:off x="2951280" y="2938320"/>
            <a:ext cx="2188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2952720" y="380196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4"/>
          <p:cNvSpPr/>
          <p:nvPr/>
        </p:nvSpPr>
        <p:spPr>
          <a:xfrm>
            <a:off x="3311640" y="2938320"/>
            <a:ext cx="5032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5"/>
          <p:cNvSpPr/>
          <p:nvPr/>
        </p:nvSpPr>
        <p:spPr>
          <a:xfrm>
            <a:off x="3887640" y="3801960"/>
            <a:ext cx="18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6"/>
          <p:cNvSpPr/>
          <p:nvPr/>
        </p:nvSpPr>
        <p:spPr>
          <a:xfrm>
            <a:off x="4751280" y="2867040"/>
            <a:ext cx="180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7"/>
          <p:cNvSpPr/>
          <p:nvPr/>
        </p:nvSpPr>
        <p:spPr>
          <a:xfrm>
            <a:off x="4896000" y="2735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8"/>
          <p:cNvSpPr/>
          <p:nvPr/>
        </p:nvSpPr>
        <p:spPr>
          <a:xfrm>
            <a:off x="4824360" y="3801960"/>
            <a:ext cx="18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9"/>
          <p:cNvSpPr/>
          <p:nvPr/>
        </p:nvSpPr>
        <p:spPr>
          <a:xfrm flipH="1">
            <a:off x="5541480" y="3801960"/>
            <a:ext cx="219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0"/>
          <p:cNvSpPr/>
          <p:nvPr/>
        </p:nvSpPr>
        <p:spPr>
          <a:xfrm>
            <a:off x="5904000" y="3801960"/>
            <a:ext cx="14436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1"/>
          <p:cNvSpPr/>
          <p:nvPr/>
        </p:nvSpPr>
        <p:spPr>
          <a:xfrm>
            <a:off x="6048360" y="3801960"/>
            <a:ext cx="7207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2"/>
          <p:cNvSpPr/>
          <p:nvPr/>
        </p:nvSpPr>
        <p:spPr>
          <a:xfrm flipH="1">
            <a:off x="5182920" y="4665600"/>
            <a:ext cx="29052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3"/>
          <p:cNvSpPr/>
          <p:nvPr/>
        </p:nvSpPr>
        <p:spPr>
          <a:xfrm>
            <a:off x="6119640" y="468000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4"/>
          <p:cNvSpPr/>
          <p:nvPr/>
        </p:nvSpPr>
        <p:spPr>
          <a:xfrm>
            <a:off x="6912000" y="4665600"/>
            <a:ext cx="14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5"/>
          <p:cNvSpPr/>
          <p:nvPr/>
        </p:nvSpPr>
        <p:spPr>
          <a:xfrm flipH="1">
            <a:off x="7270560" y="1930320"/>
            <a:ext cx="795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6"/>
          <p:cNvSpPr/>
          <p:nvPr/>
        </p:nvSpPr>
        <p:spPr>
          <a:xfrm>
            <a:off x="8207280" y="1930320"/>
            <a:ext cx="72072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7"/>
          <p:cNvSpPr/>
          <p:nvPr/>
        </p:nvSpPr>
        <p:spPr>
          <a:xfrm>
            <a:off x="7199280" y="2793960"/>
            <a:ext cx="180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8"/>
          <p:cNvSpPr/>
          <p:nvPr/>
        </p:nvSpPr>
        <p:spPr>
          <a:xfrm flipH="1">
            <a:off x="8205480" y="2722680"/>
            <a:ext cx="72396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9"/>
          <p:cNvSpPr/>
          <p:nvPr/>
        </p:nvSpPr>
        <p:spPr>
          <a:xfrm>
            <a:off x="9072720" y="2722680"/>
            <a:ext cx="28728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0"/>
          <p:cNvSpPr/>
          <p:nvPr/>
        </p:nvSpPr>
        <p:spPr>
          <a:xfrm>
            <a:off x="8136000" y="380196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1"/>
          <p:cNvSpPr/>
          <p:nvPr/>
        </p:nvSpPr>
        <p:spPr>
          <a:xfrm>
            <a:off x="8928000" y="3816360"/>
            <a:ext cx="1008000" cy="517680"/>
          </a:xfrm>
          <a:prstGeom prst="triangle">
            <a:avLst>
              <a:gd name="adj" fmla="val 5000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032360" y="58896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"/>
          <p:cNvSpPr/>
          <p:nvPr/>
        </p:nvSpPr>
        <p:spPr>
          <a:xfrm flipH="1">
            <a:off x="1797120" y="1008000"/>
            <a:ext cx="216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4176720" y="1008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464000" y="936720"/>
            <a:ext cx="352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440000" y="1655640"/>
            <a:ext cx="64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959280" y="1728720"/>
            <a:ext cx="72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7848720" y="158436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03280" y="2519280"/>
            <a:ext cx="431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800360" y="2519280"/>
            <a:ext cx="57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944720" y="338472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224000" y="4248000"/>
            <a:ext cx="1295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aa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03280" y="331164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024360" y="259236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464000" y="251928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735280" y="345600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519280" y="431964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ab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527280" y="345600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3311640" y="4334040"/>
            <a:ext cx="1224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bacc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4608360" y="3456000"/>
            <a:ext cx="6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543640" y="34560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4608360" y="431964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5256360" y="431964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5832360" y="43340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6551640" y="431964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4103640" y="5256360"/>
            <a:ext cx="16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anivar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4751280" y="5832360"/>
            <a:ext cx="1944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chool jaane 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6551640" y="617868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6983280" y="2448000"/>
            <a:ext cx="72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8783640" y="2376360"/>
            <a:ext cx="79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6840360" y="3384720"/>
            <a:ext cx="863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991640" y="3456000"/>
            <a:ext cx="50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9144000" y="34560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7775640" y="424800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4"/>
          <p:cNvSpPr/>
          <p:nvPr/>
        </p:nvSpPr>
        <p:spPr>
          <a:xfrm>
            <a:off x="8423280" y="4319640"/>
            <a:ext cx="1655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pure samay ki shik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5"/>
          <p:cNvSpPr/>
          <p:nvPr/>
        </p:nvSpPr>
        <p:spPr>
          <a:xfrm flipH="1">
            <a:off x="789120" y="1944720"/>
            <a:ext cx="72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6"/>
          <p:cNvSpPr/>
          <p:nvPr/>
        </p:nvSpPr>
        <p:spPr>
          <a:xfrm>
            <a:off x="720720" y="286704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7"/>
          <p:cNvSpPr/>
          <p:nvPr/>
        </p:nvSpPr>
        <p:spPr>
          <a:xfrm>
            <a:off x="1728720" y="2001960"/>
            <a:ext cx="28728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2016000" y="2867040"/>
            <a:ext cx="1447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9"/>
          <p:cNvSpPr/>
          <p:nvPr/>
        </p:nvSpPr>
        <p:spPr>
          <a:xfrm>
            <a:off x="2160720" y="3730680"/>
            <a:ext cx="14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0"/>
          <p:cNvSpPr/>
          <p:nvPr/>
        </p:nvSpPr>
        <p:spPr>
          <a:xfrm flipH="1">
            <a:off x="3381120" y="2075040"/>
            <a:ext cx="7239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1"/>
          <p:cNvSpPr/>
          <p:nvPr/>
        </p:nvSpPr>
        <p:spPr>
          <a:xfrm>
            <a:off x="4248000" y="2075040"/>
            <a:ext cx="4320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2"/>
          <p:cNvSpPr/>
          <p:nvPr/>
        </p:nvSpPr>
        <p:spPr>
          <a:xfrm flipH="1">
            <a:off x="2951280" y="2938320"/>
            <a:ext cx="2188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3"/>
          <p:cNvSpPr/>
          <p:nvPr/>
        </p:nvSpPr>
        <p:spPr>
          <a:xfrm>
            <a:off x="2952720" y="380196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4"/>
          <p:cNvSpPr/>
          <p:nvPr/>
        </p:nvSpPr>
        <p:spPr>
          <a:xfrm>
            <a:off x="3311640" y="2938320"/>
            <a:ext cx="5032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5"/>
          <p:cNvSpPr/>
          <p:nvPr/>
        </p:nvSpPr>
        <p:spPr>
          <a:xfrm>
            <a:off x="3887640" y="3801960"/>
            <a:ext cx="18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6"/>
          <p:cNvSpPr/>
          <p:nvPr/>
        </p:nvSpPr>
        <p:spPr>
          <a:xfrm>
            <a:off x="4751280" y="2867040"/>
            <a:ext cx="180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4896000" y="2735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8"/>
          <p:cNvSpPr/>
          <p:nvPr/>
        </p:nvSpPr>
        <p:spPr>
          <a:xfrm>
            <a:off x="4824360" y="3801960"/>
            <a:ext cx="18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9"/>
          <p:cNvSpPr/>
          <p:nvPr/>
        </p:nvSpPr>
        <p:spPr>
          <a:xfrm flipH="1">
            <a:off x="5541480" y="3801960"/>
            <a:ext cx="219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0"/>
          <p:cNvSpPr/>
          <p:nvPr/>
        </p:nvSpPr>
        <p:spPr>
          <a:xfrm>
            <a:off x="5904000" y="3801960"/>
            <a:ext cx="14436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1"/>
          <p:cNvSpPr/>
          <p:nvPr/>
        </p:nvSpPr>
        <p:spPr>
          <a:xfrm>
            <a:off x="6048360" y="3801960"/>
            <a:ext cx="7207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2"/>
          <p:cNvSpPr/>
          <p:nvPr/>
        </p:nvSpPr>
        <p:spPr>
          <a:xfrm flipH="1">
            <a:off x="5182920" y="4665600"/>
            <a:ext cx="29052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3"/>
          <p:cNvSpPr/>
          <p:nvPr/>
        </p:nvSpPr>
        <p:spPr>
          <a:xfrm>
            <a:off x="6119640" y="468000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4"/>
          <p:cNvSpPr/>
          <p:nvPr/>
        </p:nvSpPr>
        <p:spPr>
          <a:xfrm>
            <a:off x="6912000" y="4665600"/>
            <a:ext cx="14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5"/>
          <p:cNvSpPr/>
          <p:nvPr/>
        </p:nvSpPr>
        <p:spPr>
          <a:xfrm flipH="1">
            <a:off x="7270560" y="1930320"/>
            <a:ext cx="795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6"/>
          <p:cNvSpPr/>
          <p:nvPr/>
        </p:nvSpPr>
        <p:spPr>
          <a:xfrm>
            <a:off x="8207280" y="1930320"/>
            <a:ext cx="72072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7199280" y="2793960"/>
            <a:ext cx="180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 flipH="1">
            <a:off x="8205480" y="2722680"/>
            <a:ext cx="72396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9"/>
          <p:cNvSpPr/>
          <p:nvPr/>
        </p:nvSpPr>
        <p:spPr>
          <a:xfrm>
            <a:off x="9072720" y="2722680"/>
            <a:ext cx="28728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0"/>
          <p:cNvSpPr/>
          <p:nvPr/>
        </p:nvSpPr>
        <p:spPr>
          <a:xfrm>
            <a:off x="8136000" y="380196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1"/>
          <p:cNvSpPr/>
          <p:nvPr/>
        </p:nvSpPr>
        <p:spPr>
          <a:xfrm>
            <a:off x="8928000" y="3816360"/>
            <a:ext cx="1008000" cy="517680"/>
          </a:xfrm>
          <a:prstGeom prst="triangle">
            <a:avLst>
              <a:gd name="adj" fmla="val 5000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4032360" y="58896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"/>
          <p:cNvSpPr/>
          <p:nvPr/>
        </p:nvSpPr>
        <p:spPr>
          <a:xfrm flipH="1">
            <a:off x="1797120" y="1008000"/>
            <a:ext cx="216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4176720" y="1008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464000" y="936720"/>
            <a:ext cx="352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40000" y="1655640"/>
            <a:ext cx="64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59280" y="1728720"/>
            <a:ext cx="72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7848720" y="158436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03280" y="2519280"/>
            <a:ext cx="431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0360" y="2519280"/>
            <a:ext cx="57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44720" y="338472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224000" y="4248000"/>
            <a:ext cx="1295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aa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44360" y="3311640"/>
            <a:ext cx="14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e anus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24360" y="259236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4464000" y="251928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735280" y="345600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519280" y="431964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ab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3527280" y="345600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3311640" y="4334040"/>
            <a:ext cx="1224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bacchon 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4608360" y="3456000"/>
            <a:ext cx="6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5543640" y="34560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608360" y="431964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5256360" y="431964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5832360" y="43340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551640" y="431964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4103640" y="5256360"/>
            <a:ext cx="16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anivar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4751280" y="5832360"/>
            <a:ext cx="1944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chool jaane 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6551640" y="617868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6983280" y="2448000"/>
            <a:ext cx="72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8783640" y="2376360"/>
            <a:ext cx="79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6335640" y="3384720"/>
            <a:ext cx="165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honi chahi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"/>
          <p:cNvSpPr/>
          <p:nvPr/>
        </p:nvSpPr>
        <p:spPr>
          <a:xfrm>
            <a:off x="7991640" y="3456000"/>
            <a:ext cx="50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/>
          <p:cNvSpPr/>
          <p:nvPr/>
        </p:nvSpPr>
        <p:spPr>
          <a:xfrm>
            <a:off x="9144000" y="34560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7343640" y="4248000"/>
            <a:ext cx="10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praa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8423280" y="4319640"/>
            <a:ext cx="1655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pure samay ki shik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5"/>
          <p:cNvSpPr/>
          <p:nvPr/>
        </p:nvSpPr>
        <p:spPr>
          <a:xfrm flipH="1">
            <a:off x="789120" y="1944720"/>
            <a:ext cx="72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720720" y="286704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7"/>
          <p:cNvSpPr/>
          <p:nvPr/>
        </p:nvSpPr>
        <p:spPr>
          <a:xfrm>
            <a:off x="1728720" y="2001960"/>
            <a:ext cx="28728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8"/>
          <p:cNvSpPr/>
          <p:nvPr/>
        </p:nvSpPr>
        <p:spPr>
          <a:xfrm>
            <a:off x="2016000" y="2867040"/>
            <a:ext cx="1447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2160720" y="3730680"/>
            <a:ext cx="14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0"/>
          <p:cNvSpPr/>
          <p:nvPr/>
        </p:nvSpPr>
        <p:spPr>
          <a:xfrm flipH="1">
            <a:off x="3381120" y="2075040"/>
            <a:ext cx="7239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1"/>
          <p:cNvSpPr/>
          <p:nvPr/>
        </p:nvSpPr>
        <p:spPr>
          <a:xfrm>
            <a:off x="4248000" y="2075040"/>
            <a:ext cx="4320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2"/>
          <p:cNvSpPr/>
          <p:nvPr/>
        </p:nvSpPr>
        <p:spPr>
          <a:xfrm flipH="1">
            <a:off x="2951280" y="2938320"/>
            <a:ext cx="2188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3"/>
          <p:cNvSpPr/>
          <p:nvPr/>
        </p:nvSpPr>
        <p:spPr>
          <a:xfrm>
            <a:off x="2952720" y="3801960"/>
            <a:ext cx="14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3311640" y="2938320"/>
            <a:ext cx="5032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5"/>
          <p:cNvSpPr/>
          <p:nvPr/>
        </p:nvSpPr>
        <p:spPr>
          <a:xfrm>
            <a:off x="3887640" y="3801960"/>
            <a:ext cx="18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6"/>
          <p:cNvSpPr/>
          <p:nvPr/>
        </p:nvSpPr>
        <p:spPr>
          <a:xfrm>
            <a:off x="4751280" y="2867040"/>
            <a:ext cx="180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7"/>
          <p:cNvSpPr/>
          <p:nvPr/>
        </p:nvSpPr>
        <p:spPr>
          <a:xfrm>
            <a:off x="4896000" y="2735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8"/>
          <p:cNvSpPr/>
          <p:nvPr/>
        </p:nvSpPr>
        <p:spPr>
          <a:xfrm>
            <a:off x="4824360" y="3801960"/>
            <a:ext cx="18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9"/>
          <p:cNvSpPr/>
          <p:nvPr/>
        </p:nvSpPr>
        <p:spPr>
          <a:xfrm flipH="1">
            <a:off x="5541480" y="3801960"/>
            <a:ext cx="219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0"/>
          <p:cNvSpPr/>
          <p:nvPr/>
        </p:nvSpPr>
        <p:spPr>
          <a:xfrm>
            <a:off x="5904000" y="3801960"/>
            <a:ext cx="14436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1"/>
          <p:cNvSpPr/>
          <p:nvPr/>
        </p:nvSpPr>
        <p:spPr>
          <a:xfrm>
            <a:off x="6048360" y="3801960"/>
            <a:ext cx="7207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2"/>
          <p:cNvSpPr/>
          <p:nvPr/>
        </p:nvSpPr>
        <p:spPr>
          <a:xfrm flipH="1">
            <a:off x="5182920" y="4665600"/>
            <a:ext cx="29052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3"/>
          <p:cNvSpPr/>
          <p:nvPr/>
        </p:nvSpPr>
        <p:spPr>
          <a:xfrm>
            <a:off x="6119640" y="468000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4"/>
          <p:cNvSpPr/>
          <p:nvPr/>
        </p:nvSpPr>
        <p:spPr>
          <a:xfrm>
            <a:off x="6912000" y="4665600"/>
            <a:ext cx="14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5"/>
          <p:cNvSpPr/>
          <p:nvPr/>
        </p:nvSpPr>
        <p:spPr>
          <a:xfrm flipH="1">
            <a:off x="7270560" y="1930320"/>
            <a:ext cx="795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6"/>
          <p:cNvSpPr/>
          <p:nvPr/>
        </p:nvSpPr>
        <p:spPr>
          <a:xfrm>
            <a:off x="8207280" y="1930320"/>
            <a:ext cx="72072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7"/>
          <p:cNvSpPr/>
          <p:nvPr/>
        </p:nvSpPr>
        <p:spPr>
          <a:xfrm>
            <a:off x="7199280" y="2793960"/>
            <a:ext cx="180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8"/>
          <p:cNvSpPr/>
          <p:nvPr/>
        </p:nvSpPr>
        <p:spPr>
          <a:xfrm flipH="1">
            <a:off x="8205480" y="2722680"/>
            <a:ext cx="72396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9"/>
          <p:cNvSpPr/>
          <p:nvPr/>
        </p:nvSpPr>
        <p:spPr>
          <a:xfrm>
            <a:off x="9072720" y="2722680"/>
            <a:ext cx="28728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0"/>
          <p:cNvSpPr/>
          <p:nvPr/>
        </p:nvSpPr>
        <p:spPr>
          <a:xfrm>
            <a:off x="8136000" y="380196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1"/>
          <p:cNvSpPr/>
          <p:nvPr/>
        </p:nvSpPr>
        <p:spPr>
          <a:xfrm>
            <a:off x="8928000" y="3816360"/>
            <a:ext cx="1008000" cy="517680"/>
          </a:xfrm>
          <a:prstGeom prst="triangle">
            <a:avLst>
              <a:gd name="adj" fmla="val 5000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032360" y="58896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"/>
          <p:cNvSpPr/>
          <p:nvPr/>
        </p:nvSpPr>
        <p:spPr>
          <a:xfrm flipH="1">
            <a:off x="1797120" y="1008000"/>
            <a:ext cx="216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4176720" y="100800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4464000" y="936720"/>
            <a:ext cx="352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0000" y="1655640"/>
            <a:ext cx="647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959280" y="1728720"/>
            <a:ext cx="72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848720" y="158436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00360" y="2533680"/>
            <a:ext cx="43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76360" y="253368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431640" y="3384720"/>
            <a:ext cx="64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44360" y="4334040"/>
            <a:ext cx="129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aa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008000" y="3397320"/>
            <a:ext cx="14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e anus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735280" y="3311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3168720" y="260496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4680000" y="367200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751280" y="462132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ab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400720" y="3600360"/>
            <a:ext cx="1079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543640" y="4797360"/>
            <a:ext cx="1224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bacchon 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3816360" y="34704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4680000" y="259236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4103640" y="446400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44720" y="404496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J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2519280" y="404496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3095640" y="4032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1079640" y="4967280"/>
            <a:ext cx="16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anivar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1944720" y="5400720"/>
            <a:ext cx="1944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chool jaane 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3527280" y="4967280"/>
            <a:ext cx="107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8712360" y="2376360"/>
            <a:ext cx="720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9"/>
          <p:cNvSpPr/>
          <p:nvPr/>
        </p:nvSpPr>
        <p:spPr>
          <a:xfrm>
            <a:off x="6912000" y="2462040"/>
            <a:ext cx="792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0"/>
          <p:cNvSpPr/>
          <p:nvPr/>
        </p:nvSpPr>
        <p:spPr>
          <a:xfrm>
            <a:off x="9072720" y="3181320"/>
            <a:ext cx="1223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honi chahi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8640720" y="3470400"/>
            <a:ext cx="503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2"/>
          <p:cNvSpPr/>
          <p:nvPr/>
        </p:nvSpPr>
        <p:spPr>
          <a:xfrm>
            <a:off x="7199280" y="3470400"/>
            <a:ext cx="647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8567640" y="4176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praa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7056360" y="4392720"/>
            <a:ext cx="1656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pure samay ki shiks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5"/>
          <p:cNvSpPr/>
          <p:nvPr/>
        </p:nvSpPr>
        <p:spPr>
          <a:xfrm flipH="1">
            <a:off x="789120" y="1944720"/>
            <a:ext cx="7236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6"/>
          <p:cNvSpPr/>
          <p:nvPr/>
        </p:nvSpPr>
        <p:spPr>
          <a:xfrm>
            <a:off x="720720" y="286704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7"/>
          <p:cNvSpPr/>
          <p:nvPr/>
        </p:nvSpPr>
        <p:spPr>
          <a:xfrm>
            <a:off x="1728720" y="2001960"/>
            <a:ext cx="28728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2016000" y="2867040"/>
            <a:ext cx="18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9"/>
          <p:cNvSpPr/>
          <p:nvPr/>
        </p:nvSpPr>
        <p:spPr>
          <a:xfrm>
            <a:off x="720720" y="3730680"/>
            <a:ext cx="14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>
            <a:off x="3381120" y="2075040"/>
            <a:ext cx="7239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1"/>
          <p:cNvSpPr/>
          <p:nvPr/>
        </p:nvSpPr>
        <p:spPr>
          <a:xfrm>
            <a:off x="4248000" y="2075040"/>
            <a:ext cx="4320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2"/>
          <p:cNvSpPr/>
          <p:nvPr/>
        </p:nvSpPr>
        <p:spPr>
          <a:xfrm flipH="1">
            <a:off x="2303640" y="3600360"/>
            <a:ext cx="50616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3"/>
          <p:cNvSpPr/>
          <p:nvPr/>
        </p:nvSpPr>
        <p:spPr>
          <a:xfrm flipH="1">
            <a:off x="1798200" y="4378320"/>
            <a:ext cx="2192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4"/>
          <p:cNvSpPr/>
          <p:nvPr/>
        </p:nvSpPr>
        <p:spPr>
          <a:xfrm>
            <a:off x="3095640" y="3527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5"/>
          <p:cNvSpPr/>
          <p:nvPr/>
        </p:nvSpPr>
        <p:spPr>
          <a:xfrm>
            <a:off x="3456000" y="4363920"/>
            <a:ext cx="2160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46"/>
          <p:cNvSpPr/>
          <p:nvPr/>
        </p:nvSpPr>
        <p:spPr>
          <a:xfrm flipH="1">
            <a:off x="3022200" y="2938320"/>
            <a:ext cx="29052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7"/>
          <p:cNvSpPr/>
          <p:nvPr/>
        </p:nvSpPr>
        <p:spPr>
          <a:xfrm>
            <a:off x="3527280" y="295272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8"/>
          <p:cNvSpPr/>
          <p:nvPr/>
        </p:nvSpPr>
        <p:spPr>
          <a:xfrm>
            <a:off x="4103640" y="3801960"/>
            <a:ext cx="2160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9"/>
          <p:cNvSpPr/>
          <p:nvPr/>
        </p:nvSpPr>
        <p:spPr>
          <a:xfrm>
            <a:off x="4824360" y="2938320"/>
            <a:ext cx="1800" cy="6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0"/>
          <p:cNvSpPr/>
          <p:nvPr/>
        </p:nvSpPr>
        <p:spPr>
          <a:xfrm>
            <a:off x="5111640" y="2924280"/>
            <a:ext cx="50328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1"/>
          <p:cNvSpPr/>
          <p:nvPr/>
        </p:nvSpPr>
        <p:spPr>
          <a:xfrm>
            <a:off x="2808360" y="4392720"/>
            <a:ext cx="1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2"/>
          <p:cNvSpPr/>
          <p:nvPr/>
        </p:nvSpPr>
        <p:spPr>
          <a:xfrm>
            <a:off x="5832360" y="39592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3"/>
          <p:cNvSpPr/>
          <p:nvPr/>
        </p:nvSpPr>
        <p:spPr>
          <a:xfrm flipH="1">
            <a:off x="7270560" y="1930320"/>
            <a:ext cx="7952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4"/>
          <p:cNvSpPr/>
          <p:nvPr/>
        </p:nvSpPr>
        <p:spPr>
          <a:xfrm>
            <a:off x="8207280" y="1930320"/>
            <a:ext cx="72072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5"/>
          <p:cNvSpPr/>
          <p:nvPr/>
        </p:nvSpPr>
        <p:spPr>
          <a:xfrm>
            <a:off x="7128000" y="2808360"/>
            <a:ext cx="215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6"/>
          <p:cNvSpPr/>
          <p:nvPr/>
        </p:nvSpPr>
        <p:spPr>
          <a:xfrm>
            <a:off x="9072720" y="2722680"/>
            <a:ext cx="28728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7"/>
          <p:cNvSpPr/>
          <p:nvPr/>
        </p:nvSpPr>
        <p:spPr>
          <a:xfrm>
            <a:off x="8928000" y="3730680"/>
            <a:ext cx="18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8"/>
          <p:cNvSpPr/>
          <p:nvPr/>
        </p:nvSpPr>
        <p:spPr>
          <a:xfrm>
            <a:off x="6983280" y="3816360"/>
            <a:ext cx="1008360" cy="517680"/>
          </a:xfrm>
          <a:prstGeom prst="triangle">
            <a:avLst>
              <a:gd name="adj" fmla="val 50000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9"/>
          <p:cNvSpPr/>
          <p:nvPr/>
        </p:nvSpPr>
        <p:spPr>
          <a:xfrm>
            <a:off x="2952720" y="3600360"/>
            <a:ext cx="1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0"/>
          <p:cNvSpPr/>
          <p:nvPr/>
        </p:nvSpPr>
        <p:spPr>
          <a:xfrm>
            <a:off x="4896000" y="395928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7343640" y="280836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503280" y="611280"/>
            <a:ext cx="8231040" cy="950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575f6d"/>
                </a:solidFill>
                <a:latin typeface="Calibri"/>
              </a:rPr>
              <a:t>	</a:t>
            </a:r>
            <a:r>
              <a:rPr b="0" lang="en-IN" sz="4400" spc="-1" strike="noStrike">
                <a:solidFill>
                  <a:srgbClr val="575f6d"/>
                </a:solidFill>
                <a:latin typeface="Calibri"/>
              </a:rPr>
              <a:t>	</a:t>
            </a:r>
            <a:r>
              <a:rPr b="0" lang="en-IN" sz="4400" spc="-1" strike="noStrike">
                <a:solidFill>
                  <a:srgbClr val="575f6d"/>
                </a:solidFill>
                <a:latin typeface="Calibri"/>
              </a:rPr>
              <a:t>	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Trigram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84200" y="2057400"/>
          <a:ext cx="8875800" cy="4348080"/>
        </p:xfrm>
        <a:graphic>
          <a:graphicData uri="http://schemas.openxmlformats.org/drawingml/2006/table">
            <a:tbl>
              <a:tblPr/>
              <a:tblGrid>
                <a:gridCol w="2224080"/>
                <a:gridCol w="2225520"/>
                <a:gridCol w="2224080"/>
                <a:gridCol w="2202120"/>
              </a:tblGrid>
              <a:tr h="719280"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d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 Ta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725400"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0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725400"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725400"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725760"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  <a:tr h="726840"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  <a:tc>
                  <a:txBody>
                    <a:bodyPr lIns="90000" rIns="90000" tIns="615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7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Translated sentences may have a different structure al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It may not be possible to detect simila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Lohit Hindi"/>
              </a:rPr>
              <a:t>आपका बच्चा ड्रग्स या सॉल्वैंट्स  लेने के चक्कर में क्यों पड़ गया है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Lohit Hindi"/>
              </a:rPr>
              <a:t>यदि आप उसके कारणों को समझते हैं</a:t>
            </a: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Lohit Hindi"/>
              </a:rPr>
              <a:t>तो इस विषय में अपने बच्चों से बात करना आपके लिए काफ़ी आसान होगा 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If you understand the reasons why a child can get involved with drugs and solvents, it's much easier for you to talk to your children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Parse trees produced may be “approxim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Due to morphological differences it may become difficult to produce tags for extra words created in transtaltion. Example – “ko”, “jaane ki” produced in the previous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Y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Interesting re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Sachin Tendulkar and Rahul Dravid have both won the Arjuna A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Dev Anand was born in Mumbai, died in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Rohit Sharma and Vikram Pandit were born in Nagp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87160"/>
            <a:ext cx="907092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Confus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503280" y="1763640"/>
            <a:ext cx="907092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108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Arial"/>
              </a:rPr>
              <a:t>CJS : accuracy = 87.43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Confused with : PRP = 9.3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Eg. “As” CJS in “diagnosed as being HIV posit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IN" sz="2000" spc="-1" strike="noStrike">
                <a:solidFill>
                  <a:srgbClr val="292934"/>
                </a:solidFill>
                <a:latin typeface="Arial"/>
              </a:rPr>
              <a:t>PRP in “give AIDS greater recognition not as a diseas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Arial"/>
              </a:rPr>
              <a:t>VVB : accuracy = 70.7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Confused with : VVI = 12.9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Eg. Forget, send, live, retur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87160"/>
            <a:ext cx="907092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Confusion</a:t>
            </a:r>
            <a:r>
              <a:rPr b="0" lang="en-IN" sz="4000" spc="-1" strike="noStrike">
                <a:solidFill>
                  <a:srgbClr val="d2533c"/>
                </a:solidFill>
                <a:latin typeface="Arial"/>
              </a:rPr>
              <a:t> </a:t>
            </a: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503280" y="1763640"/>
            <a:ext cx="907092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108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Arial"/>
              </a:rPr>
              <a:t>AV0 : accuracy = 87.27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Confused with : PRP = 4.6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400" spc="-1" strike="noStrike">
                <a:solidFill>
                  <a:srgbClr val="292934"/>
                </a:solidFill>
                <a:latin typeface="Arial"/>
              </a:rPr>
              <a:t>VVD : accuracy = 88.9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Confused with : VVN = 6.4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108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93a2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000" spc="-1" strike="noStrike">
                <a:solidFill>
                  <a:srgbClr val="292934"/>
                </a:solidFill>
                <a:latin typeface="Arial"/>
                <a:ea typeface="WenQuanYi Micro Hei"/>
              </a:rPr>
              <a:t>Eg. Sent, lived, returne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108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Nouns and verbs are often confused be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Most verbs can also be used as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E.g. laugh, peop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Adverbs (which often precede verbs) can also be used as adjectives (which often precede nou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Arial"/>
              </a:rPr>
              <a:t>E.g. fast, slow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Next word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3280" y="1768320"/>
          <a:ext cx="8869320" cy="2406960"/>
        </p:xfrm>
        <a:graphic>
          <a:graphicData uri="http://schemas.openxmlformats.org/drawingml/2006/table">
            <a:tbl>
              <a:tblPr/>
              <a:tblGrid>
                <a:gridCol w="2955960"/>
                <a:gridCol w="2957400"/>
                <a:gridCol w="2955960"/>
              </a:tblGrid>
              <a:tr h="80172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lex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80172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ed 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2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0352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agged 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7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8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36"/>
          <p:cNvSpPr/>
          <p:nvPr/>
        </p:nvSpPr>
        <p:spPr>
          <a:xfrm>
            <a:off x="647640" y="5040360"/>
            <a:ext cx="8856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(W3, T3)* = Argmax </a:t>
            </a:r>
            <a:r>
              <a:rPr b="0" lang="en-IN" sz="1800" spc="-1" strike="noStrike" baseline="-33000">
                <a:solidFill>
                  <a:srgbClr val="000000"/>
                </a:solidFill>
                <a:latin typeface="Arial"/>
              </a:rPr>
              <a:t>(W3, T3)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(P(W3, T3 | W2, W1, T2, T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= Argmax </a:t>
            </a:r>
            <a:r>
              <a:rPr b="0" lang="en-IN" sz="1800" spc="-1" strike="noStrike" baseline="-33000">
                <a:solidFill>
                  <a:srgbClr val="000000"/>
                </a:solidFill>
                <a:latin typeface="Arial"/>
              </a:rPr>
              <a:t>(W3, T3)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(P(T3| W2, W1, T2, T1) * P(W3 | W2, W1, T3, T2,T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= Argmax </a:t>
            </a:r>
            <a:r>
              <a:rPr b="0" lang="en-IN" sz="1800" spc="-1" strike="noStrike" baseline="-33000">
                <a:solidFill>
                  <a:srgbClr val="000000"/>
                </a:solidFill>
                <a:latin typeface="Arial"/>
              </a:rPr>
              <a:t>(W3, T3)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(P(T3| T2, T1) * P(W3 | W2, W1, T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Arial"/>
              </a:rPr>
              <a:t>Generative vs. Discriminative </a:t>
            </a:r>
            <a:br>
              <a:rPr sz="2600"/>
            </a:br>
            <a:br>
              <a:rPr sz="2600"/>
            </a:br>
            <a:r>
              <a:rPr b="0" lang="en-IN" sz="2600" spc="-1" strike="noStrike">
                <a:solidFill>
                  <a:srgbClr val="000000"/>
                </a:solidFill>
                <a:latin typeface="Arial"/>
              </a:rPr>
              <a:t>(Big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3280" y="1768320"/>
          <a:ext cx="8929800" cy="4494240"/>
        </p:xfrm>
        <a:graphic>
          <a:graphicData uri="http://schemas.openxmlformats.org/drawingml/2006/table">
            <a:tbl>
              <a:tblPr/>
              <a:tblGrid>
                <a:gridCol w="2975040"/>
                <a:gridCol w="2976480"/>
                <a:gridCol w="2978280"/>
              </a:tblGrid>
              <a:tr h="6415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iminative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ve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11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9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8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15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0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7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15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9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0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11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8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4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152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8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584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8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4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I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Arial"/>
              </a:rPr>
              <a:t>Generative model possibly gives better accuracy than Discriminative model because, we model Transition and Lexical probability separately in the former mo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4400" spc="-1" strike="noStrike">
                <a:solidFill>
                  <a:srgbClr val="000000"/>
                </a:solidFill>
                <a:latin typeface="Arial"/>
              </a:rPr>
              <a:t>A*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3200" spc="-1" strike="noStrike" baseline="33000">
                <a:solidFill>
                  <a:srgbClr val="000000"/>
                </a:solidFill>
                <a:latin typeface="Arial"/>
              </a:rPr>
              <a:t>1 </a:t>
            </a:r>
            <a:r>
              <a:rPr b="0" lang="en-IN" sz="2600" spc="-1" strike="noStrike">
                <a:solidFill>
                  <a:srgbClr val="000000"/>
                </a:solidFill>
                <a:latin typeface="Arial"/>
              </a:rPr>
              <a:t>Trigram Viterbi after applying Capit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66880" y="2252520"/>
          <a:ext cx="8713800" cy="1679760"/>
        </p:xfrm>
        <a:graphic>
          <a:graphicData uri="http://schemas.openxmlformats.org/drawingml/2006/table">
            <a:tbl>
              <a:tblPr/>
              <a:tblGrid>
                <a:gridCol w="2506680"/>
                <a:gridCol w="3281400"/>
                <a:gridCol w="2925720"/>
              </a:tblGrid>
              <a:tr h="83988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* accu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 unknown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* accu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erb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83988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0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I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3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05:19:17Z</dcterms:created>
  <dc:creator>Abhirut</dc:creator>
  <dc:description/>
  <dc:language>en-US</dc:language>
  <cp:lastModifiedBy>piyush</cp:lastModifiedBy>
  <dcterms:modified xsi:type="dcterms:W3CDTF">2012-11-15T05:49:38Z</dcterms:modified>
  <cp:revision>25</cp:revision>
  <dc:subject/>
  <dc:title>CS626 Assignments</dc:title>
</cp:coreProperties>
</file>