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93D-5D6B-49EE-BEDD-6B6C5F7D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864-3246-453A-87E5-793330FE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F5A-27BB-4776-9D8B-AEA2840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BEC-D520-4889-8D57-7AA403F1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134-D5B0-4E2F-B0E8-7E79F1CC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037-9E1D-447E-AA55-1722468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BC1-2988-4B6B-9FE1-4E6BC6DB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209-B8D8-4CD9-B3DA-A01FD06D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7CB-B1D3-43EA-BDE5-C34F4BC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284-7AA0-4BCB-A6F6-FF6A5F1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6F3-B79A-4F59-9406-92036D6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B25-77FF-475D-A5ED-D480545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D5A-7C5F-46F2-81F6-5350B91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915-92DB-4314-B0C3-FE59D233E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" y="1219320"/>
                <a:ext cx="7621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'</m:t>
                    </m:r>
                    <m:r>
                      <m:t xml:space="preserve">∈</m:t>
                    </m:r>
                    <m:r>
                      <m:t xml:space="preserve">Σ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85800" y="2057400"/>
                <a:ext cx="31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621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54200" y="1174680"/>
                <a:ext cx="8064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Σ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65360" y="2055960"/>
                <a:ext cx="8287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Σ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 flipH="1">
            <a:off x="837720" y="24382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837720" y="1523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773600" y="1131840"/>
                <a:ext cx="11206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170320" y="2025720"/>
                <a:ext cx="336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257800" y="4724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48520" y="1143000"/>
                <a:ext cx="1792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¬</m:t>
                    </m:r>
                    <m:r>
                      <m:t xml:space="preserve">L</m:t>
                    </m:r>
                    <m:r>
                      <m:t xml:space="preserve">∨</m:t>
                    </m:r>
                    <m:r>
                      <m:t xml:space="preserve">D</m:t>
                    </m:r>
                    <m:r>
                      <m:t xml:space="preserve">'</m:t>
                    </m:r>
                    <m:r>
                      <m:t xml:space="preserve">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 flipH="1">
            <a:off x="5334120" y="236232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144792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00680" y="2851200"/>
                <a:ext cx="919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22800" y="3778200"/>
                <a:ext cx="4255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4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248520" y="1949400"/>
                <a:ext cx="1344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H="1">
            <a:off x="5334120" y="3200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248520" y="2819520"/>
                <a:ext cx="7840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5334120" y="41148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516720" y="3776760"/>
                <a:ext cx="2458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01480" y="533520"/>
            <a:ext cx="1678320" cy="2895480"/>
            <a:chOff x="501480" y="533520"/>
            <a:chExt cx="1678320" cy="289548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501480" y="1666800"/>
                  <a:ext cx="2239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 flipH="1">
              <a:off x="609120" y="83808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480" y="198108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944720" y="1208160"/>
                  <a:ext cx="22536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978200" y="2122560"/>
                  <a:ext cx="2016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 flipH="1">
              <a:off x="1294920" y="243828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7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55600" y="533520"/>
                  <a:ext cx="2574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65320" y="3124080"/>
                  <a:ext cx="282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1295280" y="838080"/>
              <a:ext cx="60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05600" y="609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9280" y="609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2720" y="1371600"/>
            <a:ext cx="236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i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ed is human, Fred has 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8960" y="2362320"/>
            <a:ext cx="154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i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ed is hu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54560" y="137484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81560" y="23652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54680" y="34290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6" idx="2"/>
            <a:endCxn id="87" idx="0"/>
          </p:cNvCxnSpPr>
          <p:nvPr/>
        </p:nvCxnSpPr>
        <p:spPr>
          <a:xfrm flipH="1">
            <a:off x="6835320" y="946080"/>
            <a:ext cx="216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2"/>
            <a:endCxn id="88" idx="0"/>
          </p:cNvCxnSpPr>
          <p:nvPr/>
        </p:nvCxnSpPr>
        <p:spPr>
          <a:xfrm>
            <a:off x="6835320" y="1707840"/>
            <a:ext cx="18360" cy="65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5" idx="2"/>
            <a:endCxn id="87" idx="0"/>
          </p:cNvCxnSpPr>
          <p:nvPr/>
        </p:nvCxnSpPr>
        <p:spPr>
          <a:xfrm flipH="1">
            <a:off x="6834960" y="946080"/>
            <a:ext cx="12675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88" idx="0"/>
          </p:cNvCxnSpPr>
          <p:nvPr/>
        </p:nvCxnSpPr>
        <p:spPr>
          <a:xfrm flipH="1">
            <a:off x="6852600" y="1711440"/>
            <a:ext cx="129924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2"/>
            <a:endCxn id="91" idx="0"/>
          </p:cNvCxnSpPr>
          <p:nvPr/>
        </p:nvCxnSpPr>
        <p:spPr>
          <a:xfrm flipH="1">
            <a:off x="6830640" y="2698920"/>
            <a:ext cx="23040" cy="73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0" idx="2"/>
            <a:endCxn id="91" idx="0"/>
          </p:cNvCxnSpPr>
          <p:nvPr/>
        </p:nvCxnSpPr>
        <p:spPr>
          <a:xfrm flipH="1">
            <a:off x="6830640" y="2701800"/>
            <a:ext cx="134856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265120" y="609480"/>
            <a:ext cx="168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ed is an 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38240" y="1371600"/>
            <a:ext cx="236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i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ed is human,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ed has 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3106800" y="946080"/>
            <a:ext cx="151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3054240" y="1049400"/>
            <a:ext cx="313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2"/>
            <a:endCxn id="103" idx="0"/>
          </p:cNvCxnSpPr>
          <p:nvPr/>
        </p:nvCxnSpPr>
        <p:spPr>
          <a:xfrm flipH="1">
            <a:off x="3101400" y="1708200"/>
            <a:ext cx="198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054240" y="1812960"/>
            <a:ext cx="313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27760" y="2133720"/>
            <a:ext cx="154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i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ed is hu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3101760" y="2469960"/>
            <a:ext cx="2268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054240" y="2590920"/>
            <a:ext cx="313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8380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laram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alara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laram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alara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4479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laram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alara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8" idx="5"/>
            <a:endCxn id="110" idx="2"/>
          </p:cNvCxnSpPr>
          <p:nvPr/>
        </p:nvCxnSpPr>
        <p:spPr>
          <a:xfrm>
            <a:off x="749160" y="1358640"/>
            <a:ext cx="928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7"/>
            <a:endCxn id="109" idx="2"/>
          </p:cNvCxnSpPr>
          <p:nvPr/>
        </p:nvCxnSpPr>
        <p:spPr>
          <a:xfrm flipV="1">
            <a:off x="749160" y="456480"/>
            <a:ext cx="92808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4"/>
            <a:endCxn id="110" idx="0"/>
          </p:cNvCxnSpPr>
          <p:nvPr/>
        </p:nvCxnSpPr>
        <p:spPr>
          <a:xfrm>
            <a:off x="1980720" y="7617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" name=""/>
          <p:cNvGrpSpPr/>
          <p:nvPr/>
        </p:nvGrpSpPr>
        <p:grpSpPr>
          <a:xfrm>
            <a:off x="228600" y="2971800"/>
            <a:ext cx="2743200" cy="3048120"/>
            <a:chOff x="228600" y="2971800"/>
            <a:chExt cx="2743200" cy="3048120"/>
          </a:xfrm>
        </p:grpSpPr>
        <p:sp>
          <p:nvSpPr>
            <p:cNvPr id="115" name=""/>
            <p:cNvSpPr/>
            <p:nvPr/>
          </p:nvSpPr>
          <p:spPr>
            <a:xfrm>
              <a:off x="228600" y="29718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0200" y="29718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41148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7" idx="0"/>
              <a:endCxn id="115" idx="5"/>
            </p:cNvCxnSpPr>
            <p:nvPr/>
          </p:nvCxnSpPr>
          <p:spPr>
            <a:xfrm flipH="1" flipV="1">
              <a:off x="748800" y="3491640"/>
              <a:ext cx="470880" cy="62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19" name=""/>
            <p:cNvCxnSpPr>
              <a:stCxn id="116" idx="3"/>
              <a:endCxn id="117" idx="0"/>
            </p:cNvCxnSpPr>
            <p:nvPr/>
          </p:nvCxnSpPr>
          <p:spPr>
            <a:xfrm flipH="1">
              <a:off x="1218600" y="3492000"/>
              <a:ext cx="470520" cy="62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914400" y="54100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7" idx="4"/>
              <a:endCxn id="120" idx="0"/>
            </p:cNvCxnSpPr>
            <p:nvPr/>
          </p:nvCxnSpPr>
          <p:spPr>
            <a:xfrm>
              <a:off x="1218960" y="4723920"/>
              <a:ext cx="10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2362320" y="40384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>
              <a:stCxn id="116" idx="5"/>
              <a:endCxn id="122" idx="0"/>
            </p:cNvCxnSpPr>
            <p:nvPr/>
          </p:nvCxnSpPr>
          <p:spPr>
            <a:xfrm>
              <a:off x="2120400" y="3492000"/>
              <a:ext cx="54648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4" name=""/>
          <p:cNvGrpSpPr/>
          <p:nvPr/>
        </p:nvGrpSpPr>
        <p:grpSpPr>
          <a:xfrm>
            <a:off x="3213000" y="419040"/>
            <a:ext cx="5854680" cy="4384080"/>
            <a:chOff x="3213000" y="419040"/>
            <a:chExt cx="5854680" cy="4384080"/>
          </a:xfrm>
        </p:grpSpPr>
        <p:grpSp>
          <p:nvGrpSpPr>
            <p:cNvPr id="125" name=""/>
            <p:cNvGrpSpPr/>
            <p:nvPr/>
          </p:nvGrpSpPr>
          <p:grpSpPr>
            <a:xfrm>
              <a:off x="3517920" y="1066680"/>
              <a:ext cx="5105160" cy="3048120"/>
              <a:chOff x="3517920" y="1066680"/>
              <a:chExt cx="5105160" cy="3048120"/>
            </a:xfrm>
          </p:grpSpPr>
          <p:sp>
            <p:nvSpPr>
              <p:cNvPr id="126" name=""/>
              <p:cNvSpPr/>
              <p:nvPr/>
            </p:nvSpPr>
            <p:spPr>
              <a:xfrm>
                <a:off x="3517920" y="1066680"/>
                <a:ext cx="609480" cy="6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46720" y="1066680"/>
                <a:ext cx="609480" cy="609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3720" y="2209680"/>
                <a:ext cx="609480" cy="6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" name=""/>
              <p:cNvCxnSpPr>
                <a:stCxn id="128" idx="0"/>
                <a:endCxn id="126" idx="5"/>
              </p:cNvCxnSpPr>
              <p:nvPr/>
            </p:nvCxnSpPr>
            <p:spPr>
              <a:xfrm flipH="1" flipV="1">
                <a:off x="4037760" y="1587240"/>
                <a:ext cx="470520" cy="622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27" idx="3"/>
                <a:endCxn id="128" idx="0"/>
              </p:cNvCxnSpPr>
              <p:nvPr/>
            </p:nvCxnSpPr>
            <p:spPr>
              <a:xfrm flipH="1">
                <a:off x="4507920" y="1587600"/>
                <a:ext cx="928080" cy="622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" name=""/>
              <p:cNvSpPr/>
              <p:nvPr/>
            </p:nvSpPr>
            <p:spPr>
              <a:xfrm>
                <a:off x="4203720" y="350532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" name=""/>
              <p:cNvCxnSpPr>
                <a:stCxn id="128" idx="4"/>
                <a:endCxn id="131" idx="0"/>
              </p:cNvCxnSpPr>
              <p:nvPr/>
            </p:nvCxnSpPr>
            <p:spPr>
              <a:xfrm>
                <a:off x="4507920" y="2819160"/>
                <a:ext cx="10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3" name=""/>
              <p:cNvSpPr/>
              <p:nvPr/>
            </p:nvSpPr>
            <p:spPr>
              <a:xfrm>
                <a:off x="5422680" y="2438280"/>
                <a:ext cx="609840" cy="609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27" idx="4"/>
                <a:endCxn id="133" idx="0"/>
              </p:cNvCxnSpPr>
              <p:nvPr/>
            </p:nvCxnSpPr>
            <p:spPr>
              <a:xfrm>
                <a:off x="5651280" y="1676520"/>
                <a:ext cx="766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28" idx="6"/>
                <a:endCxn id="133" idx="2"/>
              </p:cNvCxnSpPr>
              <p:nvPr/>
            </p:nvCxnSpPr>
            <p:spPr>
              <a:xfrm>
                <a:off x="4812840" y="2514240"/>
                <a:ext cx="61020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26" idx="6"/>
                <a:endCxn id="127" idx="2"/>
              </p:cNvCxnSpPr>
              <p:nvPr/>
            </p:nvCxnSpPr>
            <p:spPr>
              <a:xfrm>
                <a:off x="4127040" y="137124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7" name=""/>
              <p:cNvSpPr/>
              <p:nvPr/>
            </p:nvSpPr>
            <p:spPr>
              <a:xfrm>
                <a:off x="6565680" y="1066680"/>
                <a:ext cx="609840" cy="6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42000" y="2438280"/>
                <a:ext cx="609480" cy="6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13600" y="1752480"/>
                <a:ext cx="609480" cy="6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alaram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Balaram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0" name=""/>
              <p:cNvCxnSpPr>
                <a:stCxn id="133" idx="6"/>
                <a:endCxn id="138" idx="2"/>
              </p:cNvCxnSpPr>
              <p:nvPr/>
            </p:nvCxnSpPr>
            <p:spPr>
              <a:xfrm>
                <a:off x="6032160" y="2742840"/>
                <a:ext cx="61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"/>
              <p:cNvCxnSpPr>
                <a:stCxn id="137" idx="4"/>
                <a:endCxn id="138" idx="0"/>
              </p:cNvCxnSpPr>
              <p:nvPr/>
            </p:nvCxnSpPr>
            <p:spPr>
              <a:xfrm>
                <a:off x="6870600" y="1676520"/>
                <a:ext cx="766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27" idx="6"/>
                <a:endCxn id="137" idx="2"/>
              </p:cNvCxnSpPr>
              <p:nvPr/>
            </p:nvCxnSpPr>
            <p:spPr>
              <a:xfrm>
                <a:off x="5955840" y="1371240"/>
                <a:ext cx="61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137" idx="6"/>
                <a:endCxn id="139" idx="1"/>
              </p:cNvCxnSpPr>
              <p:nvPr/>
            </p:nvCxnSpPr>
            <p:spPr>
              <a:xfrm>
                <a:off x="7175160" y="1371240"/>
                <a:ext cx="927720" cy="47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"/>
              <p:cNvCxnSpPr>
                <a:stCxn id="138" idx="6"/>
                <a:endCxn id="139" idx="3"/>
              </p:cNvCxnSpPr>
              <p:nvPr/>
            </p:nvCxnSpPr>
            <p:spPr>
              <a:xfrm flipV="1">
                <a:off x="7251480" y="2272680"/>
                <a:ext cx="851760" cy="470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5" name=""/>
            <p:cNvSpPr/>
            <p:nvPr/>
          </p:nvSpPr>
          <p:spPr>
            <a:xfrm>
              <a:off x="3213000" y="419040"/>
              <a:ext cx="2095560" cy="4381560"/>
            </a:xfrm>
            <a:custGeom>
              <a:avLst/>
              <a:gdLst/>
              <a:ahLst/>
              <a:rect l="l" t="t" r="r" b="b"/>
              <a:pathLst>
                <a:path w="1320" h="2760">
                  <a:moveTo>
                    <a:pt x="96" y="264"/>
                  </a:moveTo>
                  <a:cubicBezTo>
                    <a:pt x="64" y="384"/>
                    <a:pt x="0" y="536"/>
                    <a:pt x="48" y="744"/>
                  </a:cubicBezTo>
                  <a:cubicBezTo>
                    <a:pt x="96" y="952"/>
                    <a:pt x="320" y="1232"/>
                    <a:pt x="384" y="1512"/>
                  </a:cubicBezTo>
                  <a:cubicBezTo>
                    <a:pt x="448" y="1792"/>
                    <a:pt x="360" y="2224"/>
                    <a:pt x="432" y="2424"/>
                  </a:cubicBezTo>
                  <a:cubicBezTo>
                    <a:pt x="504" y="2624"/>
                    <a:pt x="680" y="2688"/>
                    <a:pt x="816" y="2712"/>
                  </a:cubicBezTo>
                  <a:cubicBezTo>
                    <a:pt x="952" y="2736"/>
                    <a:pt x="1176" y="2760"/>
                    <a:pt x="1248" y="2568"/>
                  </a:cubicBezTo>
                  <a:cubicBezTo>
                    <a:pt x="1320" y="2376"/>
                    <a:pt x="1296" y="1896"/>
                    <a:pt x="1248" y="1560"/>
                  </a:cubicBezTo>
                  <a:cubicBezTo>
                    <a:pt x="1200" y="1224"/>
                    <a:pt x="1064" y="792"/>
                    <a:pt x="960" y="552"/>
                  </a:cubicBezTo>
                  <a:cubicBezTo>
                    <a:pt x="856" y="312"/>
                    <a:pt x="744" y="208"/>
                    <a:pt x="624" y="120"/>
                  </a:cubicBezTo>
                  <a:cubicBezTo>
                    <a:pt x="504" y="32"/>
                    <a:pt x="328" y="0"/>
                    <a:pt x="240" y="24"/>
                  </a:cubicBezTo>
                  <a:cubicBezTo>
                    <a:pt x="152" y="48"/>
                    <a:pt x="128" y="144"/>
                    <a:pt x="96" y="264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495360"/>
              <a:ext cx="927000" cy="3200400"/>
            </a:xfrm>
            <a:custGeom>
              <a:avLst/>
              <a:gdLst/>
              <a:ahLst/>
              <a:rect l="l" t="t" r="r" b="b"/>
              <a:pathLst>
                <a:path w="584" h="2016">
                  <a:moveTo>
                    <a:pt x="104" y="72"/>
                  </a:moveTo>
                  <a:cubicBezTo>
                    <a:pt x="24" y="80"/>
                    <a:pt x="16" y="96"/>
                    <a:pt x="8" y="264"/>
                  </a:cubicBezTo>
                  <a:cubicBezTo>
                    <a:pt x="0" y="432"/>
                    <a:pt x="32" y="824"/>
                    <a:pt x="56" y="1080"/>
                  </a:cubicBezTo>
                  <a:cubicBezTo>
                    <a:pt x="80" y="1336"/>
                    <a:pt x="80" y="1656"/>
                    <a:pt x="152" y="1800"/>
                  </a:cubicBezTo>
                  <a:cubicBezTo>
                    <a:pt x="224" y="1944"/>
                    <a:pt x="416" y="2016"/>
                    <a:pt x="488" y="1944"/>
                  </a:cubicBezTo>
                  <a:cubicBezTo>
                    <a:pt x="560" y="1872"/>
                    <a:pt x="584" y="1656"/>
                    <a:pt x="584" y="1368"/>
                  </a:cubicBezTo>
                  <a:cubicBezTo>
                    <a:pt x="584" y="1080"/>
                    <a:pt x="568" y="432"/>
                    <a:pt x="488" y="216"/>
                  </a:cubicBezTo>
                  <a:cubicBezTo>
                    <a:pt x="408" y="0"/>
                    <a:pt x="184" y="64"/>
                    <a:pt x="104" y="7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75240" y="546120"/>
              <a:ext cx="2692440" cy="2781360"/>
            </a:xfrm>
            <a:custGeom>
              <a:avLst/>
              <a:gdLst/>
              <a:ahLst/>
              <a:rect l="l" t="t" r="r" b="b"/>
              <a:pathLst>
                <a:path w="1696" h="1752">
                  <a:moveTo>
                    <a:pt x="168" y="136"/>
                  </a:moveTo>
                  <a:cubicBezTo>
                    <a:pt x="88" y="176"/>
                    <a:pt x="48" y="216"/>
                    <a:pt x="24" y="328"/>
                  </a:cubicBezTo>
                  <a:cubicBezTo>
                    <a:pt x="0" y="440"/>
                    <a:pt x="16" y="608"/>
                    <a:pt x="24" y="808"/>
                  </a:cubicBezTo>
                  <a:cubicBezTo>
                    <a:pt x="32" y="1008"/>
                    <a:pt x="16" y="1376"/>
                    <a:pt x="72" y="1528"/>
                  </a:cubicBezTo>
                  <a:cubicBezTo>
                    <a:pt x="128" y="1680"/>
                    <a:pt x="192" y="1752"/>
                    <a:pt x="360" y="1720"/>
                  </a:cubicBezTo>
                  <a:cubicBezTo>
                    <a:pt x="528" y="1688"/>
                    <a:pt x="872" y="1456"/>
                    <a:pt x="1080" y="1336"/>
                  </a:cubicBezTo>
                  <a:cubicBezTo>
                    <a:pt x="1288" y="1216"/>
                    <a:pt x="1536" y="1112"/>
                    <a:pt x="1608" y="1000"/>
                  </a:cubicBezTo>
                  <a:cubicBezTo>
                    <a:pt x="1680" y="888"/>
                    <a:pt x="1696" y="816"/>
                    <a:pt x="1512" y="664"/>
                  </a:cubicBezTo>
                  <a:cubicBezTo>
                    <a:pt x="1328" y="512"/>
                    <a:pt x="728" y="176"/>
                    <a:pt x="504" y="88"/>
                  </a:cubicBezTo>
                  <a:cubicBezTo>
                    <a:pt x="280" y="0"/>
                    <a:pt x="248" y="96"/>
                    <a:pt x="168" y="136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3240" y="4343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08960" y="289548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1280" y="3429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28600" y="304920"/>
            <a:ext cx="1981080" cy="1752480"/>
            <a:chOff x="228600" y="304920"/>
            <a:chExt cx="1981080" cy="1752480"/>
          </a:xfrm>
        </p:grpSpPr>
        <p:sp>
          <p:nvSpPr>
            <p:cNvPr id="152" name=""/>
            <p:cNvSpPr/>
            <p:nvPr/>
          </p:nvSpPr>
          <p:spPr>
            <a:xfrm>
              <a:off x="228600" y="30492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30492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144792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0"/>
              <a:endCxn id="152" idx="5"/>
            </p:cNvCxnSpPr>
            <p:nvPr/>
          </p:nvCxnSpPr>
          <p:spPr>
            <a:xfrm flipH="1" flipV="1">
              <a:off x="748800" y="824760"/>
              <a:ext cx="470880" cy="62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56" name=""/>
            <p:cNvCxnSpPr>
              <a:stCxn id="153" idx="3"/>
              <a:endCxn id="154" idx="0"/>
            </p:cNvCxnSpPr>
            <p:nvPr/>
          </p:nvCxnSpPr>
          <p:spPr>
            <a:xfrm flipH="1">
              <a:off x="1218600" y="825120"/>
              <a:ext cx="470520" cy="62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380880" y="3352680"/>
            <a:ext cx="1905120" cy="1981440"/>
            <a:chOff x="380880" y="3352680"/>
            <a:chExt cx="1905120" cy="1981440"/>
          </a:xfrm>
        </p:grpSpPr>
        <p:sp>
          <p:nvSpPr>
            <p:cNvPr id="158" name=""/>
            <p:cNvSpPr/>
            <p:nvPr/>
          </p:nvSpPr>
          <p:spPr>
            <a:xfrm>
              <a:off x="380880" y="3352680"/>
              <a:ext cx="60948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724280"/>
              <a:ext cx="60948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4"/>
              <a:endCxn id="159" idx="0"/>
            </p:cNvCxnSpPr>
            <p:nvPr/>
          </p:nvCxnSpPr>
          <p:spPr>
            <a:xfrm>
              <a:off x="685440" y="3962520"/>
              <a:ext cx="766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1600200" y="3352680"/>
              <a:ext cx="60948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160" y="4724280"/>
              <a:ext cx="6098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9" idx="6"/>
              <a:endCxn id="162" idx="2"/>
            </p:cNvCxnSpPr>
            <p:nvPr/>
          </p:nvCxnSpPr>
          <p:spPr>
            <a:xfrm>
              <a:off x="1066320" y="502884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"/>
            <p:cNvCxnSpPr>
              <a:stCxn id="161" idx="4"/>
              <a:endCxn id="162" idx="0"/>
            </p:cNvCxnSpPr>
            <p:nvPr/>
          </p:nvCxnSpPr>
          <p:spPr>
            <a:xfrm>
              <a:off x="1904760" y="3962520"/>
              <a:ext cx="766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"/>
            <p:cNvCxnSpPr>
              <a:stCxn id="158" idx="6"/>
              <a:endCxn id="161" idx="2"/>
            </p:cNvCxnSpPr>
            <p:nvPr/>
          </p:nvCxnSpPr>
          <p:spPr>
            <a:xfrm>
              <a:off x="990360" y="3657240"/>
              <a:ext cx="610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4572000" y="990720"/>
            <a:ext cx="3886200" cy="4800600"/>
            <a:chOff x="4572000" y="990720"/>
            <a:chExt cx="3886200" cy="4800600"/>
          </a:xfrm>
        </p:grpSpPr>
        <p:sp>
          <p:nvSpPr>
            <p:cNvPr id="167" name=""/>
            <p:cNvSpPr/>
            <p:nvPr/>
          </p:nvSpPr>
          <p:spPr>
            <a:xfrm>
              <a:off x="5257800" y="182880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274320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7" idx="3"/>
              <a:endCxn id="168" idx="7"/>
            </p:cNvCxnSpPr>
            <p:nvPr/>
          </p:nvCxnSpPr>
          <p:spPr>
            <a:xfrm flipH="1">
              <a:off x="5092200" y="2349000"/>
              <a:ext cx="254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"/>
            <p:cNvSpPr/>
            <p:nvPr/>
          </p:nvSpPr>
          <p:spPr>
            <a:xfrm>
              <a:off x="6095880" y="990720"/>
              <a:ext cx="60984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1320" y="281952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7" idx="5"/>
              <a:endCxn id="171" idx="0"/>
            </p:cNvCxnSpPr>
            <p:nvPr/>
          </p:nvCxnSpPr>
          <p:spPr>
            <a:xfrm>
              <a:off x="5778360" y="2349360"/>
              <a:ext cx="317880" cy="4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7" idx="7"/>
              <a:endCxn id="170" idx="3"/>
            </p:cNvCxnSpPr>
            <p:nvPr/>
          </p:nvCxnSpPr>
          <p:spPr>
            <a:xfrm flipV="1">
              <a:off x="5778000" y="1510560"/>
              <a:ext cx="40716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7010280" y="1828800"/>
              <a:ext cx="60984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3800" y="2819520"/>
              <a:ext cx="60948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038480"/>
              <a:ext cx="6098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8720" y="4038480"/>
              <a:ext cx="60948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5181480"/>
              <a:ext cx="6098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5181480"/>
              <a:ext cx="6098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0" idx="5"/>
              <a:endCxn id="174" idx="1"/>
            </p:cNvCxnSpPr>
            <p:nvPr/>
          </p:nvCxnSpPr>
          <p:spPr>
            <a:xfrm>
              <a:off x="6616800" y="1510920"/>
              <a:ext cx="48312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75" idx="0"/>
              <a:endCxn id="174" idx="5"/>
            </p:cNvCxnSpPr>
            <p:nvPr/>
          </p:nvCxnSpPr>
          <p:spPr>
            <a:xfrm flipH="1" flipV="1">
              <a:off x="7531200" y="2349000"/>
              <a:ext cx="317880" cy="4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6" idx="0"/>
              <a:endCxn id="183" idx="4"/>
            </p:cNvCxnSpPr>
            <p:nvPr/>
          </p:nvCxnSpPr>
          <p:spPr>
            <a:xfrm flipV="1">
              <a:off x="6858000" y="3504600"/>
              <a:ext cx="766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6629400" y="2895480"/>
              <a:ext cx="60948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83" idx="0"/>
              <a:endCxn id="174" idx="3"/>
            </p:cNvCxnSpPr>
            <p:nvPr/>
          </p:nvCxnSpPr>
          <p:spPr>
            <a:xfrm flipV="1">
              <a:off x="6934320" y="2349000"/>
              <a:ext cx="16560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7" idx="0"/>
              <a:endCxn id="175" idx="4"/>
            </p:cNvCxnSpPr>
            <p:nvPr/>
          </p:nvCxnSpPr>
          <p:spPr>
            <a:xfrm flipH="1" flipV="1">
              <a:off x="7848360" y="3428280"/>
              <a:ext cx="3052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8" idx="0"/>
              <a:endCxn id="176" idx="4"/>
            </p:cNvCxnSpPr>
            <p:nvPr/>
          </p:nvCxnSpPr>
          <p:spPr>
            <a:xfrm flipV="1">
              <a:off x="6400800" y="4647600"/>
              <a:ext cx="45792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9" idx="0"/>
              <a:endCxn id="176" idx="4"/>
            </p:cNvCxnSpPr>
            <p:nvPr/>
          </p:nvCxnSpPr>
          <p:spPr>
            <a:xfrm flipH="1" flipV="1">
              <a:off x="6857640" y="4647600"/>
              <a:ext cx="45792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85640" y="1447920"/>
            <a:ext cx="5816880" cy="3454200"/>
            <a:chOff x="2285640" y="1447920"/>
            <a:chExt cx="5816880" cy="3454200"/>
          </a:xfrm>
        </p:grpSpPr>
        <p:sp>
          <p:nvSpPr>
            <p:cNvPr id="189" name=""/>
            <p:cNvSpPr/>
            <p:nvPr/>
          </p:nvSpPr>
          <p:spPr>
            <a:xfrm>
              <a:off x="3517920" y="24382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6720" y="2438280"/>
              <a:ext cx="609480" cy="60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3720" y="35812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1" idx="0"/>
              <a:endCxn id="189" idx="5"/>
            </p:cNvCxnSpPr>
            <p:nvPr/>
          </p:nvCxnSpPr>
          <p:spPr>
            <a:xfrm flipH="1" flipV="1">
              <a:off x="4038120" y="2958840"/>
              <a:ext cx="47088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90" idx="3"/>
              <a:endCxn id="191" idx="0"/>
            </p:cNvCxnSpPr>
            <p:nvPr/>
          </p:nvCxnSpPr>
          <p:spPr>
            <a:xfrm flipH="1">
              <a:off x="4507920" y="2959200"/>
              <a:ext cx="92772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"/>
            <p:cNvSpPr/>
            <p:nvPr/>
          </p:nvSpPr>
          <p:spPr>
            <a:xfrm>
              <a:off x="5423040" y="38098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0" idx="4"/>
              <a:endCxn id="194" idx="0"/>
            </p:cNvCxnSpPr>
            <p:nvPr/>
          </p:nvCxnSpPr>
          <p:spPr>
            <a:xfrm>
              <a:off x="5651280" y="3048120"/>
              <a:ext cx="766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>
              <a:stCxn id="191" idx="6"/>
              <a:endCxn id="194" idx="2"/>
            </p:cNvCxnSpPr>
            <p:nvPr/>
          </p:nvCxnSpPr>
          <p:spPr>
            <a:xfrm>
              <a:off x="4813200" y="3885840"/>
              <a:ext cx="610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>
              <a:stCxn id="189" idx="6"/>
              <a:endCxn id="190" idx="2"/>
            </p:cNvCxnSpPr>
            <p:nvPr/>
          </p:nvCxnSpPr>
          <p:spPr>
            <a:xfrm>
              <a:off x="4127040" y="274284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6566040" y="2438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laram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lara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4" idx="6"/>
            </p:cNvCxnSpPr>
            <p:nvPr/>
          </p:nvCxnSpPr>
          <p:spPr>
            <a:xfrm>
              <a:off x="6032160" y="411444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98" idx="4"/>
            </p:cNvCxnSpPr>
            <p:nvPr/>
          </p:nvCxnSpPr>
          <p:spPr>
            <a:xfrm>
              <a:off x="6870600" y="3048120"/>
              <a:ext cx="766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90" idx="6"/>
              <a:endCxn id="198" idx="2"/>
            </p:cNvCxnSpPr>
            <p:nvPr/>
          </p:nvCxnSpPr>
          <p:spPr>
            <a:xfrm>
              <a:off x="5956200" y="2742840"/>
              <a:ext cx="610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2" name=""/>
            <p:cNvCxnSpPr>
              <a:stCxn id="198" idx="6"/>
            </p:cNvCxnSpPr>
            <p:nvPr/>
          </p:nvCxnSpPr>
          <p:spPr>
            <a:xfrm>
              <a:off x="7175160" y="2742840"/>
              <a:ext cx="92772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3200400" y="2006640"/>
              <a:ext cx="3594240" cy="2895480"/>
            </a:xfrm>
            <a:custGeom>
              <a:avLst/>
              <a:gdLst/>
              <a:ahLst/>
              <a:rect l="l" t="t" r="r" b="b"/>
              <a:pathLst>
                <a:path w="2264" h="1824">
                  <a:moveTo>
                    <a:pt x="0" y="272"/>
                  </a:moveTo>
                  <a:cubicBezTo>
                    <a:pt x="84" y="580"/>
                    <a:pt x="168" y="888"/>
                    <a:pt x="384" y="1136"/>
                  </a:cubicBezTo>
                  <a:cubicBezTo>
                    <a:pt x="600" y="1384"/>
                    <a:pt x="1000" y="1696"/>
                    <a:pt x="1296" y="1760"/>
                  </a:cubicBezTo>
                  <a:cubicBezTo>
                    <a:pt x="1592" y="1824"/>
                    <a:pt x="2056" y="1624"/>
                    <a:pt x="2160" y="1520"/>
                  </a:cubicBezTo>
                  <a:cubicBezTo>
                    <a:pt x="2264" y="1416"/>
                    <a:pt x="2056" y="1224"/>
                    <a:pt x="1920" y="1136"/>
                  </a:cubicBezTo>
                  <a:cubicBezTo>
                    <a:pt x="1784" y="1048"/>
                    <a:pt x="1512" y="1032"/>
                    <a:pt x="1344" y="992"/>
                  </a:cubicBezTo>
                  <a:cubicBezTo>
                    <a:pt x="1176" y="952"/>
                    <a:pt x="1016" y="976"/>
                    <a:pt x="912" y="896"/>
                  </a:cubicBezTo>
                  <a:cubicBezTo>
                    <a:pt x="808" y="816"/>
                    <a:pt x="784" y="648"/>
                    <a:pt x="720" y="512"/>
                  </a:cubicBezTo>
                  <a:cubicBezTo>
                    <a:pt x="656" y="376"/>
                    <a:pt x="632" y="160"/>
                    <a:pt x="528" y="80"/>
                  </a:cubicBezTo>
                  <a:cubicBezTo>
                    <a:pt x="424" y="0"/>
                    <a:pt x="184" y="8"/>
                    <a:pt x="96" y="32"/>
                  </a:cubicBezTo>
                  <a:cubicBezTo>
                    <a:pt x="8" y="56"/>
                    <a:pt x="16" y="192"/>
                    <a:pt x="0" y="2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1447920"/>
                  <a:ext cx="5562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4495680" y="2362320"/>
                  <a:ext cx="6098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724280" y="3124080"/>
                  <a:ext cx="622440" cy="3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638680" y="3200400"/>
                  <a:ext cx="60984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 rot="10800000">
              <a:off x="2285640" y="1447560"/>
              <a:ext cx="5715000" cy="380880"/>
            </a:xfrm>
            <a:prstGeom prst="wedgeRectCallout">
              <a:avLst>
                <a:gd name="adj1" fmla="val -22694"/>
                <a:gd name="adj2" fmla="val -289583"/>
              </a:avLst>
            </a:prstGeom>
            <a:solidFill>
              <a:srgbClr val="00cc99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666880"/>
              <a:ext cx="838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572000" y="3048120"/>
              <a:ext cx="609480" cy="3808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5715000" y="3124080"/>
              <a:ext cx="76320" cy="6098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019920" y="2421000"/>
                  <a:ext cx="60948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6019920" y="2819520"/>
              <a:ext cx="53316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88440" y="304920"/>
            <a:ext cx="2171160" cy="2643480"/>
            <a:chOff x="388440" y="304920"/>
            <a:chExt cx="2171160" cy="2643480"/>
          </a:xfrm>
        </p:grpSpPr>
        <p:sp>
          <p:nvSpPr>
            <p:cNvPr id="215" name=""/>
            <p:cNvSpPr/>
            <p:nvPr/>
          </p:nvSpPr>
          <p:spPr>
            <a:xfrm>
              <a:off x="388440" y="2438280"/>
              <a:ext cx="35460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45600" y="2438280"/>
              <a:ext cx="41400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8136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9720" y="1233360"/>
              <a:ext cx="2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7600" y="24382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9880" y="129240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7080" y="304920"/>
              <a:ext cx="33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1" idx="2"/>
              <a:endCxn id="215" idx="0"/>
            </p:cNvCxnSpPr>
            <p:nvPr/>
          </p:nvCxnSpPr>
          <p:spPr>
            <a:xfrm flipH="1">
              <a:off x="566280" y="762120"/>
              <a:ext cx="897840" cy="167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21" idx="2"/>
              <a:endCxn id="216" idx="0"/>
            </p:cNvCxnSpPr>
            <p:nvPr/>
          </p:nvCxnSpPr>
          <p:spPr>
            <a:xfrm>
              <a:off x="1463400" y="762120"/>
              <a:ext cx="889560" cy="167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1862280" y="136836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01760" y="1981080"/>
              <a:ext cx="44280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1" idx="2"/>
              <a:endCxn id="225" idx="0"/>
            </p:cNvCxnSpPr>
            <p:nvPr/>
          </p:nvCxnSpPr>
          <p:spPr>
            <a:xfrm>
              <a:off x="1463400" y="762120"/>
              <a:ext cx="60840" cy="12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5" idx="2"/>
              <a:endCxn id="215" idx="3"/>
            </p:cNvCxnSpPr>
            <p:nvPr/>
          </p:nvCxnSpPr>
          <p:spPr>
            <a:xfrm flipH="1">
              <a:off x="750240" y="2437920"/>
              <a:ext cx="773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5" idx="2"/>
              <a:endCxn id="216" idx="1"/>
            </p:cNvCxnSpPr>
            <p:nvPr/>
          </p:nvCxnSpPr>
          <p:spPr>
            <a:xfrm>
              <a:off x="1523880" y="2437920"/>
              <a:ext cx="610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Ganesh Ramakrishnan</cp:lastModifiedBy>
  <dcterms:modified xsi:type="dcterms:W3CDTF">2008-09-07T09:53:43Z</dcterms:modified>
  <cp:revision>28</cp:revision>
  <dc:subject/>
  <dc:title>PowerPoint Presentation</dc:title>
</cp:coreProperties>
</file>