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28F-CCCC-491F-86BD-5A2C9ABB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287-2C50-4050-AB02-6C632980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8AA-381B-4E4A-9AE9-A3B12D35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32B-3D28-481A-BE5E-5C71489C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0D9-D253-4A56-83BB-A07AC509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C7F-1C2D-4DAD-AD4A-8DEE957F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AEE-71E3-4412-990C-02AB0D5E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BDB-7023-492A-9163-933D3E7F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C65-9AB0-48C8-8277-E6073553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5E8-F20F-4E10-94FB-B09A48D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9E2-66A3-43BE-95D1-966085E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CD5-95B2-46F9-9BB2-11E6E4F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0FAF-95F3-4897-A846-30057E563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640" y="144936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21932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840" y="81756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58896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80880"/>
            <a:ext cx="2666880" cy="1219320"/>
          </a:xfrm>
          <a:custGeom>
            <a:avLst/>
            <a:gdLst/>
            <a:ahLst/>
            <a:rect l="l" t="t" r="r" b="b"/>
            <a:pathLst>
              <a:path w="1680" h="768">
                <a:moveTo>
                  <a:pt x="0" y="0"/>
                </a:moveTo>
                <a:cubicBezTo>
                  <a:pt x="76" y="248"/>
                  <a:pt x="152" y="496"/>
                  <a:pt x="432" y="624"/>
                </a:cubicBezTo>
                <a:cubicBezTo>
                  <a:pt x="712" y="752"/>
                  <a:pt x="1472" y="744"/>
                  <a:pt x="1680" y="768"/>
                </a:cubicBezTo>
              </a:path>
            </a:pathLst>
          </a:custGeom>
          <a:noFill/>
          <a:ln cap="rnd" w="9360">
            <a:solidFill>
              <a:srgbClr val="800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867280" y="1143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790960" y="15238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135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553080" y="1015920"/>
                <a:ext cx="2286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H="1">
            <a:off x="5562720" y="1523880"/>
            <a:ext cx="304560" cy="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543640" y="2990880"/>
                <a:ext cx="2667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616800" y="2692440"/>
                <a:ext cx="39348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400800" y="2844720"/>
                <a:ext cx="393840" cy="1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091200" y="3284640"/>
                <a:ext cx="39384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872320" y="3581280"/>
                <a:ext cx="384120" cy="1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838920" y="1600200"/>
                <a:ext cx="609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640" y="144936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21932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840" y="81756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58896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80880"/>
            <a:ext cx="2666880" cy="1219320"/>
          </a:xfrm>
          <a:custGeom>
            <a:avLst/>
            <a:gdLst/>
            <a:ahLst/>
            <a:rect l="l" t="t" r="r" b="b"/>
            <a:pathLst>
              <a:path w="1680" h="768">
                <a:moveTo>
                  <a:pt x="0" y="0"/>
                </a:moveTo>
                <a:cubicBezTo>
                  <a:pt x="76" y="248"/>
                  <a:pt x="152" y="496"/>
                  <a:pt x="432" y="624"/>
                </a:cubicBezTo>
                <a:cubicBezTo>
                  <a:pt x="712" y="752"/>
                  <a:pt x="1472" y="744"/>
                  <a:pt x="1680" y="768"/>
                </a:cubicBezTo>
              </a:path>
            </a:pathLst>
          </a:custGeom>
          <a:noFill/>
          <a:ln cap="rnd" w="9360">
            <a:solidFill>
              <a:srgbClr val="800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24280" y="380880"/>
            <a:ext cx="91440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920" y="1046160"/>
            <a:ext cx="472320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135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638680" y="457200"/>
                <a:ext cx="2286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2666880"/>
                <a:ext cx="2667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616800" y="2692440"/>
                <a:ext cx="39348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00800" y="2844720"/>
                <a:ext cx="393840" cy="1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253200" y="3056040"/>
                <a:ext cx="38412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091200" y="3284640"/>
                <a:ext cx="39384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872320" y="3581280"/>
                <a:ext cx="384120" cy="1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38920" y="1600200"/>
                <a:ext cx="609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640" y="144936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21932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840" y="81756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588960"/>
            <a:ext cx="472392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80880"/>
            <a:ext cx="2666880" cy="1219320"/>
          </a:xfrm>
          <a:custGeom>
            <a:avLst/>
            <a:gdLst/>
            <a:ahLst/>
            <a:rect l="l" t="t" r="r" b="b"/>
            <a:pathLst>
              <a:path w="1680" h="768">
                <a:moveTo>
                  <a:pt x="0" y="0"/>
                </a:moveTo>
                <a:cubicBezTo>
                  <a:pt x="76" y="248"/>
                  <a:pt x="152" y="496"/>
                  <a:pt x="432" y="624"/>
                </a:cubicBezTo>
                <a:cubicBezTo>
                  <a:pt x="712" y="752"/>
                  <a:pt x="1472" y="744"/>
                  <a:pt x="1680" y="768"/>
                </a:cubicBezTo>
              </a:path>
            </a:pathLst>
          </a:custGeom>
          <a:solidFill>
            <a:srgbClr val="ffff99">
              <a:alpha val="47000"/>
            </a:srgbClr>
          </a:solidFill>
          <a:ln cap="rnd" w="9360">
            <a:solidFill>
              <a:srgbClr val="800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724280" y="380880"/>
            <a:ext cx="91440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920" y="1046160"/>
            <a:ext cx="472320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4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4535"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135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638680" y="457200"/>
                <a:ext cx="2286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72000" y="2666880"/>
                <a:ext cx="2667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616800" y="2692440"/>
                <a:ext cx="39348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400800" y="2844720"/>
                <a:ext cx="393840" cy="1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253200" y="3056040"/>
                <a:ext cx="38412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1200" y="3284640"/>
                <a:ext cx="39384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872320" y="3581280"/>
                <a:ext cx="384120" cy="1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838920" y="1600200"/>
                <a:ext cx="609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337440" y="1219320"/>
                <a:ext cx="5968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711840" y="1994040"/>
                <a:ext cx="6098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rot="1518600">
            <a:off x="4630320" y="151920"/>
            <a:ext cx="2913120" cy="914400"/>
          </a:xfrm>
          <a:prstGeom prst="rect">
            <a:avLst/>
          </a:prstGeom>
          <a:solidFill>
            <a:srgbClr val="ffff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114800" y="3048120"/>
            <a:ext cx="1219320" cy="2286000"/>
          </a:xfrm>
          <a:prstGeom prst="triangle">
            <a:avLst>
              <a:gd name="adj" fmla="val 50000"/>
            </a:avLst>
          </a:prstGeom>
          <a:solidFill>
            <a:srgbClr val="ffff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20766600">
            <a:off x="4505040" y="3090600"/>
            <a:ext cx="453960" cy="1784160"/>
          </a:xfrm>
          <a:prstGeom prst="rtTriangle">
            <a:avLst/>
          </a:prstGeom>
          <a:solidFill>
            <a:srgbClr val="00ff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72000" y="5029200"/>
                <a:ext cx="1522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76920" y="4724280"/>
                <a:ext cx="1522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952880" y="5334120"/>
                <a:ext cx="1144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105520" y="3962520"/>
                <a:ext cx="53316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114800" y="3505320"/>
                <a:ext cx="32400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267080" y="36576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11960" y="28195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9240" y="52578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8000" y="5257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35280" y="48006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45120" y="46483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3800" y="53341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19520" y="1828800"/>
            <a:ext cx="2286000" cy="2895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219320"/>
            <a:ext cx="12193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4876920" y="220932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821120" y="2590920"/>
                <a:ext cx="217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72200" y="2133720"/>
                <a:ext cx="20160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V="1">
            <a:off x="2057400" y="1447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51055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08760" y="-1931040"/>
            <a:ext cx="7650360" cy="7754040"/>
            <a:chOff x="1508760" y="-1931040"/>
            <a:chExt cx="7650360" cy="7754040"/>
          </a:xfrm>
        </p:grpSpPr>
        <p:sp>
          <p:nvSpPr>
            <p:cNvPr id="118" name=""/>
            <p:cNvSpPr/>
            <p:nvPr/>
          </p:nvSpPr>
          <p:spPr>
            <a:xfrm rot="19035000">
              <a:off x="3047760" y="-1219320"/>
              <a:ext cx="4572000" cy="63244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1174680"/>
              <a:ext cx="4267440" cy="4648320"/>
            </a:xfrm>
            <a:custGeom>
              <a:avLst/>
              <a:gdLst/>
              <a:ahLst/>
              <a:rect l="l" t="t" r="r" b="b"/>
              <a:pathLst>
                <a:path w="2688" h="2928">
                  <a:moveTo>
                    <a:pt x="0" y="0"/>
                  </a:moveTo>
                  <a:cubicBezTo>
                    <a:pt x="28" y="240"/>
                    <a:pt x="56" y="480"/>
                    <a:pt x="144" y="672"/>
                  </a:cubicBezTo>
                  <a:cubicBezTo>
                    <a:pt x="232" y="864"/>
                    <a:pt x="416" y="1000"/>
                    <a:pt x="528" y="1152"/>
                  </a:cubicBezTo>
                  <a:cubicBezTo>
                    <a:pt x="640" y="1304"/>
                    <a:pt x="752" y="1424"/>
                    <a:pt x="816" y="1584"/>
                  </a:cubicBezTo>
                  <a:cubicBezTo>
                    <a:pt x="880" y="1744"/>
                    <a:pt x="752" y="1984"/>
                    <a:pt x="912" y="2112"/>
                  </a:cubicBezTo>
                  <a:cubicBezTo>
                    <a:pt x="1072" y="2240"/>
                    <a:pt x="1552" y="2240"/>
                    <a:pt x="1776" y="2352"/>
                  </a:cubicBezTo>
                  <a:cubicBezTo>
                    <a:pt x="2000" y="2464"/>
                    <a:pt x="2104" y="2688"/>
                    <a:pt x="2256" y="2784"/>
                  </a:cubicBezTo>
                  <a:cubicBezTo>
                    <a:pt x="2408" y="2880"/>
                    <a:pt x="2548" y="2904"/>
                    <a:pt x="2688" y="2928"/>
                  </a:cubicBezTo>
                </a:path>
              </a:pathLst>
            </a:custGeom>
            <a:solidFill>
              <a:srgbClr val="ffff99">
                <a:alpha val="4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33680" y="28638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05320" y="3581280"/>
                <a:ext cx="350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38480" y="1905120"/>
                <a:ext cx="9525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51460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133720"/>
            <a:ext cx="914400" cy="106668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78240" y="3200400"/>
            <a:ext cx="36360" cy="3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181480" y="5029200"/>
                <a:ext cx="246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1600200"/>
                <a:ext cx="20808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990720" y="838080"/>
            <a:ext cx="243828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1066680"/>
            <a:ext cx="182880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52680" y="5257800"/>
                <a:ext cx="625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2057400" y="26668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765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25360" y="2992320"/>
                <a:ext cx="55116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295280" y="3352680"/>
                <a:ext cx="5842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V="1">
            <a:off x="1676520" y="31237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087720"/>
            <a:ext cx="36360" cy="36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2819520"/>
            <a:ext cx="36360" cy="36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90920" y="5181480"/>
                <a:ext cx="666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>
            <a:off x="2514240" y="213372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630520"/>
            <a:ext cx="36360" cy="3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25146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27240" y="2286000"/>
                <a:ext cx="5331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V="1">
            <a:off x="2209680" y="167616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133720" y="2666520"/>
            <a:ext cx="109440" cy="173160"/>
          </a:xfrm>
          <a:custGeom>
            <a:avLst/>
            <a:gdLst>
              <a:gd name="textAreaLeft" fmla="*/ 69840 w 109440"/>
              <a:gd name="textAreaRight" fmla="*/ 109800 w 109440"/>
              <a:gd name="textAreaTop" fmla="*/ 4320 h 173160"/>
              <a:gd name="textAreaBottom" fmla="*/ 168840 h 17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1523880"/>
            <a:ext cx="72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uality g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7400" y="1752480"/>
            <a:ext cx="91440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31840" y="1752480"/>
            <a:ext cx="177840" cy="1092240"/>
          </a:xfrm>
          <a:custGeom>
            <a:avLst/>
            <a:gdLst/>
            <a:ahLst/>
            <a:rect l="l" t="t" r="r" b="b"/>
            <a:pathLst>
              <a:path w="112" h="688">
                <a:moveTo>
                  <a:pt x="16" y="0"/>
                </a:moveTo>
                <a:cubicBezTo>
                  <a:pt x="8" y="232"/>
                  <a:pt x="0" y="464"/>
                  <a:pt x="16" y="576"/>
                </a:cubicBezTo>
                <a:cubicBezTo>
                  <a:pt x="32" y="688"/>
                  <a:pt x="96" y="656"/>
                  <a:pt x="112" y="672"/>
                </a:cubicBez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752480"/>
            <a:ext cx="3429000" cy="1067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1752480"/>
            <a:ext cx="1066680" cy="990720"/>
          </a:xfrm>
          <a:prstGeom prst="rtTriangl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057400" y="1447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51055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76720" y="1905120"/>
                <a:ext cx="350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38680" y="4876920"/>
                <a:ext cx="246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81080" y="1219320"/>
                <a:ext cx="20808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057400" y="17524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676520" y="2743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25360" y="2666880"/>
                <a:ext cx="55116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057400" y="2706840"/>
            <a:ext cx="36360" cy="36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752480"/>
            <a:ext cx="36360" cy="3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1752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066680" y="1849320"/>
                <a:ext cx="53352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2286000" y="167616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1523880"/>
            <a:ext cx="72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uality g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819520"/>
            <a:ext cx="2489400" cy="1440"/>
          </a:xfrm>
          <a:custGeom>
            <a:avLst/>
            <a:gdLst/>
            <a:ahLst/>
            <a:rect l="l" t="t" r="r" b="b"/>
            <a:pathLst>
              <a:path w="1568" h="1">
                <a:moveTo>
                  <a:pt x="0" y="0"/>
                </a:moveTo>
                <a:cubicBezTo>
                  <a:pt x="80" y="0"/>
                  <a:pt x="160" y="0"/>
                  <a:pt x="336" y="0"/>
                </a:cubicBezTo>
                <a:cubicBezTo>
                  <a:pt x="512" y="0"/>
                  <a:pt x="864" y="0"/>
                  <a:pt x="1056" y="0"/>
                </a:cubicBezTo>
                <a:cubicBezTo>
                  <a:pt x="1248" y="0"/>
                  <a:pt x="1408" y="0"/>
                  <a:pt x="1488" y="0"/>
                </a:cubicBezTo>
                <a:cubicBezTo>
                  <a:pt x="1568" y="0"/>
                  <a:pt x="1552" y="0"/>
                  <a:pt x="1536" y="0"/>
                </a:cubicBezTo>
              </a:path>
            </a:pathLst>
          </a:custGeom>
          <a:solidFill>
            <a:srgbClr val="ffcc99">
              <a:alpha val="68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447920"/>
            <a:ext cx="228600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7524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20587200">
            <a:off x="1980720" y="1066680"/>
            <a:ext cx="5791320" cy="3048120"/>
          </a:xfrm>
          <a:custGeom>
            <a:avLst/>
            <a:gdLst/>
            <a:ahLst/>
            <a:rect l="l" t="t" r="r" b="b"/>
            <a:pathLst>
              <a:path w="3648" h="1920">
                <a:moveTo>
                  <a:pt x="192" y="0"/>
                </a:moveTo>
                <a:cubicBezTo>
                  <a:pt x="96" y="392"/>
                  <a:pt x="0" y="784"/>
                  <a:pt x="576" y="1104"/>
                </a:cubicBezTo>
                <a:cubicBezTo>
                  <a:pt x="1152" y="1424"/>
                  <a:pt x="3136" y="1784"/>
                  <a:pt x="3648" y="1920"/>
                </a:cubicBez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51055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33720" y="2209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2438280"/>
                <a:ext cx="350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38680" y="4876920"/>
                <a:ext cx="246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057400" y="1981080"/>
                <a:ext cx="20808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V="1">
            <a:off x="16765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43000" y="2763720"/>
                <a:ext cx="5508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2097000" y="2782800"/>
            <a:ext cx="36720" cy="36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95280"/>
            <a:ext cx="281952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720600">
            <a:off x="2133720" y="779400"/>
            <a:ext cx="6159240" cy="1828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057400" y="1523880"/>
            <a:ext cx="4876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600200"/>
            <a:ext cx="4267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1676520"/>
            <a:ext cx="4038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752480"/>
            <a:ext cx="3733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1828800"/>
            <a:ext cx="34290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905120"/>
            <a:ext cx="29718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981080"/>
            <a:ext cx="26668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2971800"/>
            <a:ext cx="4876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3048120"/>
            <a:ext cx="42670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3124080"/>
            <a:ext cx="403848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200400"/>
            <a:ext cx="3733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276720"/>
            <a:ext cx="34290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3352680"/>
            <a:ext cx="29718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429000"/>
            <a:ext cx="26668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2320" y="3505320"/>
            <a:ext cx="63360" cy="63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1752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97180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18288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276720" y="18288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505320" y="18288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32320" y="2057400"/>
            <a:ext cx="63360" cy="63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4724280"/>
            <a:ext cx="4876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800600"/>
            <a:ext cx="4267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4876920"/>
            <a:ext cx="4038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4952880"/>
            <a:ext cx="3733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5029200"/>
            <a:ext cx="34290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5105520"/>
            <a:ext cx="29718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5181480"/>
            <a:ext cx="26668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952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971800" y="518112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1814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32320" y="5257800"/>
            <a:ext cx="63360" cy="63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1640" y="5257800"/>
            <a:ext cx="4561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78" y="18"/>
                </a:moveTo>
                <a:arcTo wR="10800" hR="10800" stAng="-5598113" swAng="5598113"/>
                <a:lnTo>
                  <a:pt x="10800" y="10800"/>
                </a:lnTo>
                <a:close/>
              </a:path>
              <a:path fill="none" w="21600" h="21600">
                <a:moveTo>
                  <a:pt x="10178" y="18"/>
                </a:moveTo>
                <a:arcTo wR="10800" hR="10800" stAng="-5598113" swAng="5598113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95480" y="4647960"/>
            <a:ext cx="763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441972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thogonal w.r.t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18288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657600" y="18288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18288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809880" y="18288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18288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962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18288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038480" y="205704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_USER</cp:lastModifiedBy>
  <dcterms:modified xsi:type="dcterms:W3CDTF">2008-03-22T13:33:14Z</dcterms:modified>
  <cp:revision>67</cp:revision>
  <dc:subject/>
  <dc:title>PowerPoint Presentation</dc:title>
</cp:coreProperties>
</file>