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B8F-48F6-48AC-85D0-D4AF5FB8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sary: v=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r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t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 baseline="30000">
                <a:solidFill>
                  <a:srgbClr val="ff33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D6C-0582-47A5-B72D-487C053F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CEC-01FE-4FDD-8F58-C31E29C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BA0-2904-4AA1-91F2-AC25C93C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FF6-D05C-4B12-93C8-C9478D24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3F3-8882-4C0A-96E7-CD528438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CE7-AA6C-47FD-9484-C9709C82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B39-ADF9-439D-B454-222F6E01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D4B-CE1F-468D-8F19-969BF54F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8B2-9B28-41AD-B1A6-6B9067B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BA7-71D0-4D1B-9916-2685738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A81-213F-4631-876E-9C79372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64B-F018-4342-858B-055AE6D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E040-D0AA-4704-BFAE-DB238E17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ig_O_notation" TargetMode="External"/><Relationship Id="rId2" Type="http://schemas.openxmlformats.org/officeDocument/2006/relationships/hyperlink" Target="http://en.wikipedia.org/wiki/String_%28computer_science%29" TargetMode="External"/><Relationship Id="rId3" Type="http://schemas.openxmlformats.org/officeDocument/2006/relationships/hyperlink" Target="http://en.wikipedia.org/wiki/Context-free_grammar" TargetMode="External"/><Relationship Id="rId4" Type="http://schemas.openxmlformats.org/officeDocument/2006/relationships/hyperlink" Target="http://en.wikipedia.org/wiki/Parsing" TargetMode="External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ig_O_notation" TargetMode="External"/><Relationship Id="rId2" Type="http://schemas.openxmlformats.org/officeDocument/2006/relationships/hyperlink" Target="http://en.wikipedia.org/wiki/Big_O_notation" TargetMode="External"/><Relationship Id="rId3" Type="http://schemas.openxmlformats.org/officeDocument/2006/relationships/hyperlink" Target="http://en.wikipedia.org/wiki/Big_O_notation" TargetMode="External"/><Relationship Id="rId4" Type="http://schemas.openxmlformats.org/officeDocument/2006/relationships/hyperlink" Target="http://en.wikipedia.org/wiki/Big_O_notation" TargetMode="Externa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71800" y="1752480"/>
            <a:ext cx="3656160" cy="365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30440" y="2133720"/>
            <a:ext cx="2741760" cy="2741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59092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048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8480" y="2819520"/>
            <a:ext cx="1524240" cy="144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ontext Free  Langu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6200" y="2438280"/>
            <a:ext cx="18288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uring Mach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1981080"/>
            <a:ext cx="190512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decid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819520" y="3581280"/>
            <a:ext cx="1981080" cy="1524240"/>
          </a:xfrm>
          <a:prstGeom prst="roundRect">
            <a:avLst>
              <a:gd name="adj" fmla="val 16667"/>
            </a:avLst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1676520"/>
            <a:ext cx="1904760" cy="1143000"/>
          </a:xfrm>
          <a:prstGeom prst="roundRect">
            <a:avLst>
              <a:gd name="adj" fmla="val 16667"/>
            </a:avLst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1752480"/>
            <a:ext cx="36504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251240" y="1789200"/>
            <a:ext cx="246240" cy="24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06960" y="230184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267080" y="2338560"/>
            <a:ext cx="246240" cy="24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91120" y="367344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251240" y="3710160"/>
            <a:ext cx="246240" cy="24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91120" y="413064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251240" y="4167360"/>
            <a:ext cx="246240" cy="24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206960" y="458784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67080" y="4624560"/>
            <a:ext cx="246240" cy="24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911320" y="4282920"/>
            <a:ext cx="36540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71800" y="213372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752480" y="3048120"/>
            <a:ext cx="36540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638680" y="28195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8591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3716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057400" y="2438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2057400" y="33526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39720" y="365760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39720" y="274320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572000" y="3429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4571640" y="33526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571640" y="32004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4571640" y="2514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571640" y="19051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083200" y="411480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06880" y="373392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954320" y="327672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954320" y="26668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954320" y="22096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533520" y="4745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473220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20760" y="482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8088200">
            <a:off x="609480" y="45558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43000" y="504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4960" y="441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19520" y="4745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63760" y="482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504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3413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990720" y="3946680"/>
            <a:ext cx="1295280" cy="85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 flipV="1">
            <a:off x="2590920" y="3946320"/>
            <a:ext cx="1371600" cy="100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47847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487680" y="486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29000" y="508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2593800">
            <a:off x="1248840" y="1348920"/>
            <a:ext cx="3897360" cy="436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11120" y="531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9480" y="478476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rot="18088200">
            <a:off x="3962520" y="46479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6856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96920" y="42670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654200" y="42670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4382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386160" y="199404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62480" y="203364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3048120" y="2278080"/>
            <a:ext cx="3380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3962520" y="2437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191120" y="2514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267080" y="13716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343400" y="141120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C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3886200" y="1752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34120" y="1371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7692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8088200">
            <a:off x="5410080" y="12189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35560" y="1082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21160800">
            <a:off x="4593960" y="24080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091400">
            <a:off x="4648680" y="22093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954320" y="1447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410080" y="14479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638680" y="25146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715000" y="255420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419720" y="1981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00600" y="1905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106960" y="2057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5638320" y="1981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697360" y="2133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11320" y="1752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03992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249440" y="2133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4419720" y="682560"/>
            <a:ext cx="1069920" cy="106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76720" y="2971800"/>
            <a:ext cx="1069920" cy="106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n-determini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ite 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334120" y="2971800"/>
            <a:ext cx="1069920" cy="106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ermin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ite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3434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19720" y="5178600"/>
            <a:ext cx="1069920" cy="106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09880" y="4038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5334120" y="403812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105160" y="1676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990720" y="5968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33720" y="5968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d # 1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19767600">
            <a:off x="824400" y="439560"/>
            <a:ext cx="18262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6" y="25"/>
                </a:moveTo>
                <a:arcTo wR="10800" hR="10800" stAng="-5633924" swAng="4285754"/>
                <a:lnTo>
                  <a:pt x="10800" y="10800"/>
                </a:lnTo>
                <a:close/>
              </a:path>
              <a:path fill="none" w="21600" h="21600">
                <a:moveTo>
                  <a:pt x="10066" y="25"/>
                </a:moveTo>
                <a:arcTo wR="10800" hR="10800" stAng="-5633924" swAng="4285754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 rot="184800">
            <a:off x="1172160" y="813960"/>
            <a:ext cx="1178640" cy="61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2" y="6235"/>
                </a:moveTo>
                <a:arcTo wR="10800" hR="10800" stAng="-9299847" swAng="8578047"/>
                <a:lnTo>
                  <a:pt x="10800" y="10800"/>
                </a:lnTo>
                <a:close/>
              </a:path>
              <a:path fill="none" w="21600" h="21600">
                <a:moveTo>
                  <a:pt x="1012" y="6235"/>
                </a:moveTo>
                <a:arcTo wR="10800" hR="10800" stAng="-9299847" swAng="8578047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01640" y="457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658880" y="14349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90920" y="5205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rot="15906000">
            <a:off x="914040" y="5202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92360" y="36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63560" y="444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762120" y="901440"/>
            <a:ext cx="2286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066680" y="636480"/>
            <a:ext cx="49392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 # 1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33520" y="294624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650960" y="293364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277640" y="3022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69920" y="3251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43000" y="321480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260440" y="3251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395440" y="30621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3658800">
            <a:off x="-2884320" y="-3520440"/>
            <a:ext cx="8283600" cy="66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291611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29161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652400" y="3736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19320" y="19954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914400" y="25290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915840" y="26049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143000" y="33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1676160" y="260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753560" y="26812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296720" y="3367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16120" y="298620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819520" y="29098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2949480"/>
            <a:ext cx="49392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828800" y="22240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287440" y="2376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048280" y="18669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191280" y="18543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92760" y="901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710240" y="11304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048280" y="8254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973400" y="152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267600" y="190656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257960" y="189216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1" idx="1"/>
            <a:endCxn id="955" idx="3"/>
          </p:cNvCxnSpPr>
          <p:nvPr/>
        </p:nvCxnSpPr>
        <p:spPr>
          <a:xfrm flipV="1">
            <a:off x="5136840" y="13456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5" idx="5"/>
            <a:endCxn id="951" idx="7"/>
          </p:cNvCxnSpPr>
          <p:nvPr/>
        </p:nvCxnSpPr>
        <p:spPr>
          <a:xfrm>
            <a:off x="5568480" y="134604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"/>
          <p:cNvSpPr/>
          <p:nvPr/>
        </p:nvSpPr>
        <p:spPr>
          <a:xfrm>
            <a:off x="5354640" y="1511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"/>
          <p:cNvCxnSpPr>
            <a:stCxn id="955" idx="6"/>
            <a:endCxn id="963" idx="2"/>
          </p:cNvCxnSpPr>
          <p:nvPr/>
        </p:nvCxnSpPr>
        <p:spPr>
          <a:xfrm>
            <a:off x="5657760" y="1130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52" idx="6"/>
          </p:cNvCxnSpPr>
          <p:nvPr/>
        </p:nvCxnSpPr>
        <p:spPr>
          <a:xfrm flipH="1" flipV="1">
            <a:off x="6800400" y="215856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6191280" y="8254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267600" y="87804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097320" y="153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"/>
          <p:cNvCxnSpPr>
            <a:stCxn id="952" idx="1"/>
            <a:endCxn id="963" idx="3"/>
          </p:cNvCxnSpPr>
          <p:nvPr/>
        </p:nvCxnSpPr>
        <p:spPr>
          <a:xfrm flipV="1">
            <a:off x="6279840" y="1345320"/>
            <a:ext cx="1080" cy="5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5"/>
            <a:endCxn id="952" idx="7"/>
          </p:cNvCxnSpPr>
          <p:nvPr/>
        </p:nvCxnSpPr>
        <p:spPr>
          <a:xfrm>
            <a:off x="6711480" y="1345680"/>
            <a:ext cx="1080" cy="5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6478560" y="1523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257960" y="82548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"/>
          <p:cNvCxnSpPr>
            <a:stCxn id="970" idx="2"/>
            <a:endCxn id="963" idx="6"/>
          </p:cNvCxnSpPr>
          <p:nvPr/>
        </p:nvCxnSpPr>
        <p:spPr>
          <a:xfrm flipH="1">
            <a:off x="6800400" y="113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2" name=""/>
          <p:cNvSpPr/>
          <p:nvPr/>
        </p:nvSpPr>
        <p:spPr>
          <a:xfrm>
            <a:off x="6935760" y="196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954840" y="901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"/>
          <p:cNvCxnSpPr>
            <a:stCxn id="963" idx="5"/>
            <a:endCxn id="958" idx="1"/>
          </p:cNvCxnSpPr>
          <p:nvPr/>
        </p:nvCxnSpPr>
        <p:spPr>
          <a:xfrm>
            <a:off x="6711840" y="1346040"/>
            <a:ext cx="63576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"/>
          <p:cNvCxnSpPr>
            <a:stCxn id="970" idx="3"/>
            <a:endCxn id="952" idx="7"/>
          </p:cNvCxnSpPr>
          <p:nvPr/>
        </p:nvCxnSpPr>
        <p:spPr>
          <a:xfrm flipH="1">
            <a:off x="6711480" y="1345680"/>
            <a:ext cx="635760" cy="5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76" name=""/>
          <p:cNvSpPr/>
          <p:nvPr/>
        </p:nvSpPr>
        <p:spPr>
          <a:xfrm>
            <a:off x="5792760" y="196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"/>
          <p:cNvCxnSpPr/>
          <p:nvPr/>
        </p:nvCxnSpPr>
        <p:spPr>
          <a:xfrm>
            <a:off x="5657760" y="219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"/>
          <p:cNvSpPr/>
          <p:nvPr/>
        </p:nvSpPr>
        <p:spPr>
          <a:xfrm>
            <a:off x="6802200" y="1359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802200" y="1739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240320" y="153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"/>
          <p:cNvCxnSpPr/>
          <p:nvPr/>
        </p:nvCxnSpPr>
        <p:spPr>
          <a:xfrm flipV="1">
            <a:off x="7410240" y="135828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2" name=""/>
          <p:cNvCxnSpPr/>
          <p:nvPr/>
        </p:nvCxnSpPr>
        <p:spPr>
          <a:xfrm>
            <a:off x="7778520" y="135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7621560" y="1523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49712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414600" y="486396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53000" y="45594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D,C,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7" name=""/>
          <p:cNvCxnSpPr>
            <a:stCxn id="986" idx="7"/>
            <a:endCxn id="988" idx="1"/>
          </p:cNvCxnSpPr>
          <p:nvPr/>
        </p:nvCxnSpPr>
        <p:spPr>
          <a:xfrm>
            <a:off x="4273560" y="465264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8" name=""/>
          <p:cNvSpPr/>
          <p:nvPr/>
        </p:nvSpPr>
        <p:spPr>
          <a:xfrm>
            <a:off x="4896000" y="45594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971960" y="4611600"/>
            <a:ext cx="493920" cy="52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,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"/>
          <p:cNvCxnSpPr>
            <a:stCxn id="988" idx="3"/>
            <a:endCxn id="986" idx="5"/>
          </p:cNvCxnSpPr>
          <p:nvPr/>
        </p:nvCxnSpPr>
        <p:spPr>
          <a:xfrm flipH="1">
            <a:off x="4273200" y="510804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1" name=""/>
          <p:cNvSpPr/>
          <p:nvPr/>
        </p:nvSpPr>
        <p:spPr>
          <a:xfrm>
            <a:off x="4497120" y="5105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5906000">
            <a:off x="3733560" y="44193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563640" y="4343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rot="20175000">
            <a:off x="5257440" y="4419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59240" y="4267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685800" y="609480"/>
            <a:ext cx="60948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5800" y="609480"/>
            <a:ext cx="121932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609480"/>
            <a:ext cx="182880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609480"/>
            <a:ext cx="243828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5800" y="609480"/>
            <a:ext cx="304812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23680" y="228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30640" y="2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40120" y="24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49960" y="228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5944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6720" y="700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74680" y="12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62080" y="1690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62080" y="214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8764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449720" y="68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4972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44972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278520" y="68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39880" y="11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668680" y="12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059200" y="1219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501480" y="533520"/>
            <a:ext cx="6098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01480" y="533520"/>
            <a:ext cx="121932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1480" y="533520"/>
            <a:ext cx="182880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01480" y="533520"/>
            <a:ext cx="243864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01480" y="533520"/>
            <a:ext cx="30481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39720" y="152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6320" y="1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56160" y="1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5640" y="15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075120" y="152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22400" y="6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90720" y="11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120" y="161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812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33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265400" y="609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65400" y="16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265400" y="19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094200" y="609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55920" y="10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484720" y="11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7488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202400" y="106524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F) [0]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29520" y="1523880"/>
            <a:ext cx="56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F)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21720" y="198108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 [1]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10560" y="153828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E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9712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753000" y="45594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,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"/>
          <p:cNvCxnSpPr>
            <a:stCxn id="1045" idx="7"/>
            <a:endCxn id="1047" idx="1"/>
          </p:cNvCxnSpPr>
          <p:nvPr/>
        </p:nvCxnSpPr>
        <p:spPr>
          <a:xfrm>
            <a:off x="4273560" y="465264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4896000" y="45594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71960" y="4611600"/>
            <a:ext cx="493920" cy="52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,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"/>
          <p:cNvCxnSpPr>
            <a:stCxn id="1047" idx="3"/>
            <a:endCxn id="1045" idx="5"/>
          </p:cNvCxnSpPr>
          <p:nvPr/>
        </p:nvCxnSpPr>
        <p:spPr>
          <a:xfrm flipH="1">
            <a:off x="4273200" y="510804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497120" y="5105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5906000">
            <a:off x="3733560" y="44193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563640" y="4343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20175000">
            <a:off x="5257440" y="4419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259240" y="4267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400800" y="45720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,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638680" y="327672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,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"/>
          <p:cNvCxnSpPr>
            <a:stCxn id="1056" idx="4"/>
            <a:endCxn id="1047" idx="7"/>
          </p:cNvCxnSpPr>
          <p:nvPr/>
        </p:nvCxnSpPr>
        <p:spPr>
          <a:xfrm flipH="1">
            <a:off x="5416200" y="3919320"/>
            <a:ext cx="52776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8" name=""/>
          <p:cNvCxnSpPr>
            <a:stCxn id="1056" idx="4"/>
            <a:endCxn id="1055" idx="1"/>
          </p:cNvCxnSpPr>
          <p:nvPr/>
        </p:nvCxnSpPr>
        <p:spPr>
          <a:xfrm>
            <a:off x="5943240" y="3919680"/>
            <a:ext cx="546480" cy="74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>
            <a:off x="5545080" y="403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078240" y="403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1" name=""/>
          <p:cNvCxnSpPr>
            <a:stCxn id="1055" idx="2"/>
            <a:endCxn id="1047" idx="6"/>
          </p:cNvCxnSpPr>
          <p:nvPr/>
        </p:nvCxnSpPr>
        <p:spPr>
          <a:xfrm flipH="1" flipV="1">
            <a:off x="5504760" y="4880880"/>
            <a:ext cx="89604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2" name=""/>
          <p:cNvSpPr/>
          <p:nvPr/>
        </p:nvSpPr>
        <p:spPr>
          <a:xfrm>
            <a:off x="5849640" y="4648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"/>
          <p:cNvCxnSpPr>
            <a:stCxn id="1056" idx="5"/>
            <a:endCxn id="1055" idx="0"/>
          </p:cNvCxnSpPr>
          <p:nvPr/>
        </p:nvCxnSpPr>
        <p:spPr>
          <a:xfrm>
            <a:off x="6159240" y="3825360"/>
            <a:ext cx="54648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64" name=""/>
          <p:cNvSpPr/>
          <p:nvPr/>
        </p:nvSpPr>
        <p:spPr>
          <a:xfrm>
            <a:off x="6383160" y="403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077320" y="563868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,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82440" y="5927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077320" y="335268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,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82440" y="3641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077320" y="487692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,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182440" y="516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077320" y="411480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,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182440" y="4403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495680" y="556272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,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00800" y="5851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257800" y="556272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,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362920" y="5851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019920" y="556272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,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125040" y="5851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81680" y="556272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,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886800" y="5851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648320" y="327672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,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"/>
          <p:cNvCxnSpPr>
            <a:stCxn id="1081" idx="4"/>
            <a:endCxn id="1047" idx="0"/>
          </p:cNvCxnSpPr>
          <p:nvPr/>
        </p:nvCxnSpPr>
        <p:spPr>
          <a:xfrm>
            <a:off x="4952880" y="3919320"/>
            <a:ext cx="24840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3" name=""/>
          <p:cNvSpPr/>
          <p:nvPr/>
        </p:nvSpPr>
        <p:spPr>
          <a:xfrm>
            <a:off x="4859280" y="4114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15906000">
            <a:off x="4571640" y="32000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402080" y="3124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733920" y="270972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743200" y="347184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,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7" idx="5"/>
            <a:endCxn id="1086" idx="3"/>
          </p:cNvCxnSpPr>
          <p:nvPr/>
        </p:nvCxnSpPr>
        <p:spPr>
          <a:xfrm flipV="1">
            <a:off x="3263400" y="3258360"/>
            <a:ext cx="5598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9" name=""/>
          <p:cNvSpPr/>
          <p:nvPr/>
        </p:nvSpPr>
        <p:spPr>
          <a:xfrm>
            <a:off x="3278160" y="3166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0" name=""/>
          <p:cNvCxnSpPr>
            <a:stCxn id="1087" idx="7"/>
            <a:endCxn id="1086" idx="1"/>
          </p:cNvCxnSpPr>
          <p:nvPr/>
        </p:nvCxnSpPr>
        <p:spPr>
          <a:xfrm flipV="1">
            <a:off x="3263400" y="2803320"/>
            <a:ext cx="559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91" name=""/>
          <p:cNvSpPr/>
          <p:nvPr/>
        </p:nvSpPr>
        <p:spPr>
          <a:xfrm>
            <a:off x="3563640" y="35481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2" name=""/>
          <p:cNvCxnSpPr>
            <a:stCxn id="1086" idx="5"/>
            <a:endCxn id="1047" idx="1"/>
          </p:cNvCxnSpPr>
          <p:nvPr/>
        </p:nvCxnSpPr>
        <p:spPr>
          <a:xfrm>
            <a:off x="4254120" y="3259080"/>
            <a:ext cx="731160" cy="139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stCxn id="1087" idx="5"/>
            <a:endCxn id="1047" idx="1"/>
          </p:cNvCxnSpPr>
          <p:nvPr/>
        </p:nvCxnSpPr>
        <p:spPr>
          <a:xfrm>
            <a:off x="3263400" y="4020840"/>
            <a:ext cx="17218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"/>
          <p:cNvSpPr/>
          <p:nvPr/>
        </p:nvSpPr>
        <p:spPr>
          <a:xfrm>
            <a:off x="4344840" y="3733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097160" y="419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523880" y="205740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"/>
          <p:cNvCxnSpPr>
            <a:stCxn id="1096" idx="7"/>
            <a:endCxn id="1098" idx="3"/>
          </p:cNvCxnSpPr>
          <p:nvPr/>
        </p:nvCxnSpPr>
        <p:spPr>
          <a:xfrm flipV="1">
            <a:off x="2044800" y="1615680"/>
            <a:ext cx="4831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9" name=""/>
          <p:cNvSpPr/>
          <p:nvPr/>
        </p:nvSpPr>
        <p:spPr>
          <a:xfrm>
            <a:off x="2685960" y="234936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762280" y="2401920"/>
            <a:ext cx="493560" cy="52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"/>
          <p:cNvCxnSpPr>
            <a:stCxn id="1099" idx="2"/>
            <a:endCxn id="1096" idx="5"/>
          </p:cNvCxnSpPr>
          <p:nvPr/>
        </p:nvCxnSpPr>
        <p:spPr>
          <a:xfrm flipH="1" flipV="1">
            <a:off x="2044080" y="2606400"/>
            <a:ext cx="64188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2" name=""/>
          <p:cNvSpPr/>
          <p:nvPr/>
        </p:nvSpPr>
        <p:spPr>
          <a:xfrm>
            <a:off x="2287440" y="2666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01680" y="198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0175000">
            <a:off x="3047760" y="22096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048840" y="20574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106668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3663000">
            <a:off x="2971440" y="14479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2040" y="914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523880" y="50004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33520" y="126216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0" name=""/>
          <p:cNvCxnSpPr>
            <a:stCxn id="1109" idx="7"/>
            <a:endCxn id="1108" idx="3"/>
          </p:cNvCxnSpPr>
          <p:nvPr/>
        </p:nvCxnSpPr>
        <p:spPr>
          <a:xfrm flipV="1">
            <a:off x="1054080" y="1049040"/>
            <a:ext cx="559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1" name=""/>
          <p:cNvSpPr/>
          <p:nvPr/>
        </p:nvSpPr>
        <p:spPr>
          <a:xfrm>
            <a:off x="1220760" y="1219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2" name=""/>
          <p:cNvCxnSpPr>
            <a:stCxn id="1108" idx="5"/>
            <a:endCxn id="1098" idx="1"/>
          </p:cNvCxnSpPr>
          <p:nvPr/>
        </p:nvCxnSpPr>
        <p:spPr>
          <a:xfrm>
            <a:off x="2044800" y="1049040"/>
            <a:ext cx="48312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3" name=""/>
          <p:cNvCxnSpPr>
            <a:stCxn id="1109" idx="5"/>
            <a:endCxn id="1096" idx="1"/>
          </p:cNvCxnSpPr>
          <p:nvPr/>
        </p:nvCxnSpPr>
        <p:spPr>
          <a:xfrm>
            <a:off x="1054080" y="1811160"/>
            <a:ext cx="55908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2135160" y="1676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95120" y="160020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50004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124080" y="552600"/>
            <a:ext cx="493920" cy="52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8" name=""/>
          <p:cNvCxnSpPr>
            <a:stCxn id="1108" idx="6"/>
            <a:endCxn id="1116" idx="2"/>
          </p:cNvCxnSpPr>
          <p:nvPr/>
        </p:nvCxnSpPr>
        <p:spPr>
          <a:xfrm>
            <a:off x="2133720" y="82188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"/>
          <p:cNvSpPr/>
          <p:nvPr/>
        </p:nvSpPr>
        <p:spPr>
          <a:xfrm rot="20175000">
            <a:off x="3428640" y="3808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430080" y="2286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420640" y="609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972880" y="16765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3886200"/>
            <a:ext cx="60948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3886200"/>
            <a:ext cx="121932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3886200"/>
            <a:ext cx="182880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85800" y="3886200"/>
            <a:ext cx="243828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" y="3886200"/>
            <a:ext cx="304812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3680" y="3505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430640" y="351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040120" y="351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64996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25944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6720" y="397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7468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62080" y="49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62080" y="542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8764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4497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449720" y="49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449720" y="5348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49720" y="4433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0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6392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63920" y="48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63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334120" y="685800"/>
            <a:ext cx="60948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334120" y="685800"/>
            <a:ext cx="121896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34120" y="685800"/>
            <a:ext cx="182880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334120" y="685800"/>
            <a:ext cx="243828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685800"/>
            <a:ext cx="304776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472000" y="304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078600" y="31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688440" y="318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297920" y="30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907400" y="304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54680" y="776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23000" y="13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10400" y="176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910400" y="22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935600" y="26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09768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97680" y="17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9768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097680" y="13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45652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11880" y="129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41188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411880" y="22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30480" y="12193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662160" y="16765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366880" y="12193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86400" y="4100400"/>
            <a:ext cx="60948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486400" y="4100400"/>
            <a:ext cx="121932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486400" y="4100400"/>
            <a:ext cx="182880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486400" y="4100400"/>
            <a:ext cx="243828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486400" y="4100400"/>
            <a:ext cx="304812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24280" y="37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23124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8407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450560" y="37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8060040" y="37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10732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075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06268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62680" y="563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088240" y="6081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250320" y="41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250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50320" y="56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250320" y="47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608800" y="41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64520" y="4710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56452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5645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782760" y="46339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814800" y="50911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519160" y="46339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437600" y="41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04708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29000" y="46483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21000" y="12333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173280" y="55627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021000" y="21337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859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335200" y="26049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459040" y="60339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335200" y="21337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443200" y="55627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85980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762120" y="914400"/>
            <a:ext cx="60948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914400"/>
            <a:ext cx="121896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2120" y="914400"/>
            <a:ext cx="182880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62120" y="914400"/>
            <a:ext cx="243828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62120" y="914400"/>
            <a:ext cx="304776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900000" y="533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50660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116440" y="547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25920" y="5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335400" y="53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2680" y="100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51000" y="15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40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38400" y="24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6360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525680" y="9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525680" y="19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25680" y="24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525680" y="15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84520" y="9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3988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839880" y="191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8398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058480" y="14479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90160" y="19051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D)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4880" y="144792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713320" y="9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322800" y="1004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404360" y="14619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449000" y="23763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135520" y="15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34400" y="28479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18560" y="2376360"/>
            <a:ext cx="5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,D) [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135520" y="20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135520" y="9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105520" y="541008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105520" y="415764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,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038480" y="4157640"/>
            <a:ext cx="60984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8" name=""/>
          <p:cNvCxnSpPr>
            <a:stCxn id="1247" idx="6"/>
            <a:endCxn id="1246" idx="2"/>
          </p:cNvCxnSpPr>
          <p:nvPr/>
        </p:nvCxnSpPr>
        <p:spPr>
          <a:xfrm>
            <a:off x="4648320" y="4479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9" name=""/>
          <p:cNvSpPr/>
          <p:nvPr/>
        </p:nvSpPr>
        <p:spPr>
          <a:xfrm>
            <a:off x="4649040" y="42670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0" name=""/>
          <p:cNvCxnSpPr>
            <a:stCxn id="1246" idx="4"/>
            <a:endCxn id="1245" idx="0"/>
          </p:cNvCxnSpPr>
          <p:nvPr/>
        </p:nvCxnSpPr>
        <p:spPr>
          <a:xfrm>
            <a:off x="54097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1" name=""/>
          <p:cNvSpPr/>
          <p:nvPr/>
        </p:nvSpPr>
        <p:spPr>
          <a:xfrm>
            <a:off x="5335560" y="4952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700440" y="44956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72200" y="4157640"/>
            <a:ext cx="609480" cy="642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248520" y="4210200"/>
            <a:ext cx="493560" cy="52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,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5" name=""/>
          <p:cNvCxnSpPr>
            <a:stCxn id="1246" idx="6"/>
            <a:endCxn id="1253" idx="2"/>
          </p:cNvCxnSpPr>
          <p:nvPr/>
        </p:nvCxnSpPr>
        <p:spPr>
          <a:xfrm>
            <a:off x="5715000" y="4479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 rot="20175000">
            <a:off x="6552720" y="40384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54160" y="38862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92760" y="4267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rot="15033000">
            <a:off x="5048280" y="53334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rot="20792400">
            <a:off x="4896720" y="51814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948120" y="1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40840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"/>
          <p:cNvCxnSpPr>
            <a:stCxn id="1261" idx="2"/>
            <a:endCxn id="1262" idx="0"/>
          </p:cNvCxnSpPr>
          <p:nvPr/>
        </p:nvCxnSpPr>
        <p:spPr>
          <a:xfrm flipH="1">
            <a:off x="2574360" y="493200"/>
            <a:ext cx="154044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"/>
          <p:cNvSpPr/>
          <p:nvPr/>
        </p:nvSpPr>
        <p:spPr>
          <a:xfrm>
            <a:off x="2408400" y="15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"/>
          <p:cNvCxnSpPr>
            <a:stCxn id="1262" idx="2"/>
            <a:endCxn id="1264" idx="0"/>
          </p:cNvCxnSpPr>
          <p:nvPr/>
        </p:nvCxnSpPr>
        <p:spPr>
          <a:xfrm>
            <a:off x="2574720" y="1233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"/>
          <p:cNvSpPr/>
          <p:nvPr/>
        </p:nvSpPr>
        <p:spPr>
          <a:xfrm>
            <a:off x="205920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74500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8" name=""/>
          <p:cNvCxnSpPr>
            <a:stCxn id="1262" idx="2"/>
            <a:endCxn id="1266" idx="0"/>
          </p:cNvCxnSpPr>
          <p:nvPr/>
        </p:nvCxnSpPr>
        <p:spPr>
          <a:xfrm flipH="1">
            <a:off x="2212920" y="123300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9" name=""/>
          <p:cNvCxnSpPr>
            <a:stCxn id="1262" idx="2"/>
            <a:endCxn id="1267" idx="0"/>
          </p:cNvCxnSpPr>
          <p:nvPr/>
        </p:nvCxnSpPr>
        <p:spPr>
          <a:xfrm>
            <a:off x="2574720" y="123300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0" name=""/>
          <p:cNvSpPr/>
          <p:nvPr/>
        </p:nvSpPr>
        <p:spPr>
          <a:xfrm>
            <a:off x="5983560" y="8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1" name=""/>
          <p:cNvCxnSpPr>
            <a:stCxn id="1261" idx="2"/>
            <a:endCxn id="1270" idx="0"/>
          </p:cNvCxnSpPr>
          <p:nvPr/>
        </p:nvCxnSpPr>
        <p:spPr>
          <a:xfrm>
            <a:off x="4114440" y="493200"/>
            <a:ext cx="2035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2" name=""/>
          <p:cNvSpPr/>
          <p:nvPr/>
        </p:nvSpPr>
        <p:spPr>
          <a:xfrm>
            <a:off x="5983560" y="147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3" name=""/>
          <p:cNvCxnSpPr>
            <a:stCxn id="1270" idx="2"/>
            <a:endCxn id="1272" idx="0"/>
          </p:cNvCxnSpPr>
          <p:nvPr/>
        </p:nvCxnSpPr>
        <p:spPr>
          <a:xfrm>
            <a:off x="6149520" y="11710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4" name=""/>
          <p:cNvSpPr/>
          <p:nvPr/>
        </p:nvSpPr>
        <p:spPr>
          <a:xfrm>
            <a:off x="563436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32016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6" name=""/>
          <p:cNvCxnSpPr>
            <a:stCxn id="1270" idx="2"/>
            <a:endCxn id="1274" idx="0"/>
          </p:cNvCxnSpPr>
          <p:nvPr/>
        </p:nvCxnSpPr>
        <p:spPr>
          <a:xfrm flipH="1">
            <a:off x="5787360" y="117108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270" idx="2"/>
            <a:endCxn id="1275" idx="0"/>
          </p:cNvCxnSpPr>
          <p:nvPr/>
        </p:nvCxnSpPr>
        <p:spPr>
          <a:xfrm>
            <a:off x="6149880" y="1171080"/>
            <a:ext cx="324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160200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64" idx="2"/>
            <a:endCxn id="1278" idx="0"/>
          </p:cNvCxnSpPr>
          <p:nvPr/>
        </p:nvCxnSpPr>
        <p:spPr>
          <a:xfrm flipH="1">
            <a:off x="1767600" y="1904760"/>
            <a:ext cx="807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170520" y="21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1" name=""/>
          <p:cNvCxnSpPr>
            <a:stCxn id="1264" idx="2"/>
            <a:endCxn id="1280" idx="0"/>
          </p:cNvCxnSpPr>
          <p:nvPr/>
        </p:nvCxnSpPr>
        <p:spPr>
          <a:xfrm>
            <a:off x="2575080" y="1905120"/>
            <a:ext cx="7624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2" name=""/>
          <p:cNvSpPr/>
          <p:nvPr/>
        </p:nvSpPr>
        <p:spPr>
          <a:xfrm>
            <a:off x="5983560" y="21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3" name=""/>
          <p:cNvCxnSpPr>
            <a:endCxn id="1282" idx="0"/>
          </p:cNvCxnSpPr>
          <p:nvPr/>
        </p:nvCxnSpPr>
        <p:spPr>
          <a:xfrm>
            <a:off x="6149520" y="184320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"/>
          <p:cNvSpPr/>
          <p:nvPr/>
        </p:nvSpPr>
        <p:spPr>
          <a:xfrm>
            <a:off x="56343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201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6" name=""/>
          <p:cNvCxnSpPr>
            <a:stCxn id="1272" idx="2"/>
            <a:endCxn id="1284" idx="0"/>
          </p:cNvCxnSpPr>
          <p:nvPr/>
        </p:nvCxnSpPr>
        <p:spPr>
          <a:xfrm flipH="1">
            <a:off x="5787360" y="1843200"/>
            <a:ext cx="36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7" name=""/>
          <p:cNvCxnSpPr>
            <a:endCxn id="1285" idx="0"/>
          </p:cNvCxnSpPr>
          <p:nvPr/>
        </p:nvCxnSpPr>
        <p:spPr>
          <a:xfrm>
            <a:off x="6149880" y="1843200"/>
            <a:ext cx="324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"/>
          <p:cNvSpPr/>
          <p:nvPr/>
        </p:nvSpPr>
        <p:spPr>
          <a:xfrm>
            <a:off x="157032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"/>
          <p:cNvCxnSpPr>
            <a:endCxn id="1288" idx="0"/>
          </p:cNvCxnSpPr>
          <p:nvPr/>
        </p:nvCxnSpPr>
        <p:spPr>
          <a:xfrm>
            <a:off x="1736280" y="24379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"/>
          <p:cNvSpPr/>
          <p:nvPr/>
        </p:nvSpPr>
        <p:spPr>
          <a:xfrm>
            <a:off x="12211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9069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2" name=""/>
          <p:cNvCxnSpPr>
            <a:endCxn id="1290" idx="0"/>
          </p:cNvCxnSpPr>
          <p:nvPr/>
        </p:nvCxnSpPr>
        <p:spPr>
          <a:xfrm flipH="1">
            <a:off x="1374120" y="243792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3" name=""/>
          <p:cNvCxnSpPr>
            <a:endCxn id="1291" idx="0"/>
          </p:cNvCxnSpPr>
          <p:nvPr/>
        </p:nvCxnSpPr>
        <p:spPr>
          <a:xfrm>
            <a:off x="1736640" y="2437920"/>
            <a:ext cx="324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4" name=""/>
          <p:cNvCxnSpPr>
            <a:stCxn id="1288" idx="2"/>
            <a:endCxn id="1295" idx="0"/>
          </p:cNvCxnSpPr>
          <p:nvPr/>
        </p:nvCxnSpPr>
        <p:spPr>
          <a:xfrm>
            <a:off x="1736640" y="3110040"/>
            <a:ext cx="136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5" name=""/>
          <p:cNvSpPr/>
          <p:nvPr/>
        </p:nvSpPr>
        <p:spPr>
          <a:xfrm>
            <a:off x="1594080" y="3352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516400" y="27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7" name=""/>
          <p:cNvCxnSpPr>
            <a:stCxn id="1280" idx="2"/>
            <a:endCxn id="1296" idx="0"/>
          </p:cNvCxnSpPr>
          <p:nvPr/>
        </p:nvCxnSpPr>
        <p:spPr>
          <a:xfrm flipH="1">
            <a:off x="2682000" y="2514240"/>
            <a:ext cx="6548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8" name=""/>
          <p:cNvCxnSpPr>
            <a:stCxn id="1280" idx="2"/>
            <a:endCxn id="1299" idx="0"/>
          </p:cNvCxnSpPr>
          <p:nvPr/>
        </p:nvCxnSpPr>
        <p:spPr>
          <a:xfrm>
            <a:off x="3336840" y="2514240"/>
            <a:ext cx="5342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9" name=""/>
          <p:cNvSpPr/>
          <p:nvPr/>
        </p:nvSpPr>
        <p:spPr>
          <a:xfrm>
            <a:off x="37036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54560" y="3457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1" name=""/>
          <p:cNvCxnSpPr>
            <a:stCxn id="1296" idx="2"/>
            <a:endCxn id="1300" idx="0"/>
          </p:cNvCxnSpPr>
          <p:nvPr/>
        </p:nvCxnSpPr>
        <p:spPr>
          <a:xfrm>
            <a:off x="2682720" y="312408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2" name=""/>
          <p:cNvSpPr/>
          <p:nvPr/>
        </p:nvSpPr>
        <p:spPr>
          <a:xfrm>
            <a:off x="2205360" y="345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891160" y="345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"/>
          <p:cNvCxnSpPr>
            <a:stCxn id="1296" idx="2"/>
            <a:endCxn id="1302" idx="0"/>
          </p:cNvCxnSpPr>
          <p:nvPr/>
        </p:nvCxnSpPr>
        <p:spPr>
          <a:xfrm flipH="1">
            <a:off x="2358360" y="312408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5" name=""/>
          <p:cNvCxnSpPr>
            <a:stCxn id="1296" idx="2"/>
            <a:endCxn id="1303" idx="0"/>
          </p:cNvCxnSpPr>
          <p:nvPr/>
        </p:nvCxnSpPr>
        <p:spPr>
          <a:xfrm>
            <a:off x="2682720" y="312408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6" name=""/>
          <p:cNvSpPr/>
          <p:nvPr/>
        </p:nvSpPr>
        <p:spPr>
          <a:xfrm>
            <a:off x="2554560" y="41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7" name=""/>
          <p:cNvCxnSpPr>
            <a:endCxn id="1306" idx="0"/>
          </p:cNvCxnSpPr>
          <p:nvPr/>
        </p:nvCxnSpPr>
        <p:spPr>
          <a:xfrm>
            <a:off x="2720520" y="38239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8" name=""/>
          <p:cNvSpPr/>
          <p:nvPr/>
        </p:nvSpPr>
        <p:spPr>
          <a:xfrm>
            <a:off x="2205360" y="41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891160" y="41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0" name=""/>
          <p:cNvCxnSpPr>
            <a:stCxn id="1300" idx="2"/>
            <a:endCxn id="1308" idx="0"/>
          </p:cNvCxnSpPr>
          <p:nvPr/>
        </p:nvCxnSpPr>
        <p:spPr>
          <a:xfrm flipH="1">
            <a:off x="2358360" y="382392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1" name=""/>
          <p:cNvCxnSpPr>
            <a:endCxn id="1309" idx="0"/>
          </p:cNvCxnSpPr>
          <p:nvPr/>
        </p:nvCxnSpPr>
        <p:spPr>
          <a:xfrm>
            <a:off x="2720880" y="3823920"/>
            <a:ext cx="324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"/>
          <p:cNvSpPr/>
          <p:nvPr/>
        </p:nvSpPr>
        <p:spPr>
          <a:xfrm>
            <a:off x="370368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"/>
          <p:cNvCxnSpPr>
            <a:endCxn id="1312" idx="0"/>
          </p:cNvCxnSpPr>
          <p:nvPr/>
        </p:nvCxnSpPr>
        <p:spPr>
          <a:xfrm>
            <a:off x="3870000" y="31237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4" name=""/>
          <p:cNvSpPr/>
          <p:nvPr/>
        </p:nvSpPr>
        <p:spPr>
          <a:xfrm>
            <a:off x="33548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"/>
          <p:cNvCxnSpPr>
            <a:endCxn id="1314" idx="0"/>
          </p:cNvCxnSpPr>
          <p:nvPr/>
        </p:nvCxnSpPr>
        <p:spPr>
          <a:xfrm flipH="1">
            <a:off x="3508200" y="312372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6" name=""/>
          <p:cNvCxnSpPr/>
          <p:nvPr/>
        </p:nvCxnSpPr>
        <p:spPr>
          <a:xfrm>
            <a:off x="3870000" y="312372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7" name=""/>
          <p:cNvCxnSpPr>
            <a:stCxn id="1312" idx="2"/>
            <a:endCxn id="1318" idx="0"/>
          </p:cNvCxnSpPr>
          <p:nvPr/>
        </p:nvCxnSpPr>
        <p:spPr>
          <a:xfrm>
            <a:off x="3870000" y="3795840"/>
            <a:ext cx="133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"/>
          <p:cNvSpPr/>
          <p:nvPr/>
        </p:nvSpPr>
        <p:spPr>
          <a:xfrm>
            <a:off x="3727800" y="4038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0341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0" name=""/>
          <p:cNvCxnSpPr>
            <a:stCxn id="1306" idx="2"/>
            <a:endCxn id="1321" idx="0"/>
          </p:cNvCxnSpPr>
          <p:nvPr/>
        </p:nvCxnSpPr>
        <p:spPr>
          <a:xfrm>
            <a:off x="2720520" y="4495320"/>
            <a:ext cx="19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1" name=""/>
          <p:cNvSpPr/>
          <p:nvPr/>
        </p:nvSpPr>
        <p:spPr>
          <a:xfrm>
            <a:off x="2584800" y="4800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"/>
          <p:cNvCxnSpPr>
            <a:stCxn id="1282" idx="2"/>
            <a:endCxn id="1323" idx="0"/>
          </p:cNvCxnSpPr>
          <p:nvPr/>
        </p:nvCxnSpPr>
        <p:spPr>
          <a:xfrm>
            <a:off x="6149520" y="2514240"/>
            <a:ext cx="27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3" name=""/>
          <p:cNvSpPr/>
          <p:nvPr/>
        </p:nvSpPr>
        <p:spPr>
          <a:xfrm>
            <a:off x="6021720" y="2743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3948120" y="1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63700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6" name=""/>
          <p:cNvCxnSpPr>
            <a:stCxn id="1324" idx="2"/>
            <a:endCxn id="1325" idx="0"/>
          </p:cNvCxnSpPr>
          <p:nvPr/>
        </p:nvCxnSpPr>
        <p:spPr>
          <a:xfrm flipH="1">
            <a:off x="2803680" y="493200"/>
            <a:ext cx="13114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7" name=""/>
          <p:cNvSpPr/>
          <p:nvPr/>
        </p:nvSpPr>
        <p:spPr>
          <a:xfrm>
            <a:off x="2637000" y="15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8" name=""/>
          <p:cNvCxnSpPr>
            <a:stCxn id="1325" idx="2"/>
            <a:endCxn id="1327" idx="0"/>
          </p:cNvCxnSpPr>
          <p:nvPr/>
        </p:nvCxnSpPr>
        <p:spPr>
          <a:xfrm>
            <a:off x="2803320" y="1233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9" name=""/>
          <p:cNvSpPr/>
          <p:nvPr/>
        </p:nvSpPr>
        <p:spPr>
          <a:xfrm>
            <a:off x="228780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97360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1" name=""/>
          <p:cNvCxnSpPr>
            <a:stCxn id="1325" idx="2"/>
            <a:endCxn id="1329" idx="0"/>
          </p:cNvCxnSpPr>
          <p:nvPr/>
        </p:nvCxnSpPr>
        <p:spPr>
          <a:xfrm flipH="1">
            <a:off x="2441520" y="123300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2" name=""/>
          <p:cNvCxnSpPr>
            <a:stCxn id="1325" idx="2"/>
            <a:endCxn id="1330" idx="0"/>
          </p:cNvCxnSpPr>
          <p:nvPr/>
        </p:nvCxnSpPr>
        <p:spPr>
          <a:xfrm>
            <a:off x="2803320" y="123300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380200" y="8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4" name=""/>
          <p:cNvCxnSpPr>
            <a:stCxn id="1324" idx="2"/>
            <a:endCxn id="1333" idx="0"/>
          </p:cNvCxnSpPr>
          <p:nvPr/>
        </p:nvCxnSpPr>
        <p:spPr>
          <a:xfrm>
            <a:off x="4114800" y="49320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"/>
          <p:cNvSpPr/>
          <p:nvPr/>
        </p:nvSpPr>
        <p:spPr>
          <a:xfrm>
            <a:off x="5380200" y="147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6" name=""/>
          <p:cNvCxnSpPr>
            <a:stCxn id="1333" idx="2"/>
            <a:endCxn id="1335" idx="0"/>
          </p:cNvCxnSpPr>
          <p:nvPr/>
        </p:nvCxnSpPr>
        <p:spPr>
          <a:xfrm>
            <a:off x="5546520" y="11710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7" name=""/>
          <p:cNvSpPr/>
          <p:nvPr/>
        </p:nvSpPr>
        <p:spPr>
          <a:xfrm>
            <a:off x="503100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71680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9" name=""/>
          <p:cNvCxnSpPr>
            <a:stCxn id="1333" idx="2"/>
            <a:endCxn id="1337" idx="0"/>
          </p:cNvCxnSpPr>
          <p:nvPr/>
        </p:nvCxnSpPr>
        <p:spPr>
          <a:xfrm flipH="1">
            <a:off x="5184720" y="117108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0" name=""/>
          <p:cNvCxnSpPr>
            <a:stCxn id="1333" idx="2"/>
            <a:endCxn id="1338" idx="0"/>
          </p:cNvCxnSpPr>
          <p:nvPr/>
        </p:nvCxnSpPr>
        <p:spPr>
          <a:xfrm>
            <a:off x="5546520" y="117108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1" name=""/>
          <p:cNvSpPr/>
          <p:nvPr/>
        </p:nvSpPr>
        <p:spPr>
          <a:xfrm>
            <a:off x="183060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2" name=""/>
          <p:cNvCxnSpPr>
            <a:stCxn id="1327" idx="2"/>
            <a:endCxn id="1341" idx="0"/>
          </p:cNvCxnSpPr>
          <p:nvPr/>
        </p:nvCxnSpPr>
        <p:spPr>
          <a:xfrm flipH="1">
            <a:off x="1996200" y="1904760"/>
            <a:ext cx="807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3" name=""/>
          <p:cNvSpPr/>
          <p:nvPr/>
        </p:nvSpPr>
        <p:spPr>
          <a:xfrm>
            <a:off x="3399120" y="21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4" name=""/>
          <p:cNvCxnSpPr>
            <a:stCxn id="1327" idx="2"/>
            <a:endCxn id="1343" idx="0"/>
          </p:cNvCxnSpPr>
          <p:nvPr/>
        </p:nvCxnSpPr>
        <p:spPr>
          <a:xfrm>
            <a:off x="2803680" y="1905120"/>
            <a:ext cx="7624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5" name=""/>
          <p:cNvSpPr/>
          <p:nvPr/>
        </p:nvSpPr>
        <p:spPr>
          <a:xfrm>
            <a:off x="5380200" y="21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6" name=""/>
          <p:cNvCxnSpPr>
            <a:endCxn id="1345" idx="0"/>
          </p:cNvCxnSpPr>
          <p:nvPr/>
        </p:nvCxnSpPr>
        <p:spPr>
          <a:xfrm>
            <a:off x="5546520" y="184320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7" name=""/>
          <p:cNvSpPr/>
          <p:nvPr/>
        </p:nvSpPr>
        <p:spPr>
          <a:xfrm>
            <a:off x="503100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71680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9" name=""/>
          <p:cNvCxnSpPr>
            <a:stCxn id="1335" idx="2"/>
            <a:endCxn id="1347" idx="0"/>
          </p:cNvCxnSpPr>
          <p:nvPr/>
        </p:nvCxnSpPr>
        <p:spPr>
          <a:xfrm flipH="1">
            <a:off x="5184720" y="1843200"/>
            <a:ext cx="36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0" name=""/>
          <p:cNvCxnSpPr>
            <a:endCxn id="1348" idx="0"/>
          </p:cNvCxnSpPr>
          <p:nvPr/>
        </p:nvCxnSpPr>
        <p:spPr>
          <a:xfrm>
            <a:off x="5546520" y="1843200"/>
            <a:ext cx="324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1" name=""/>
          <p:cNvSpPr/>
          <p:nvPr/>
        </p:nvSpPr>
        <p:spPr>
          <a:xfrm>
            <a:off x="339912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2" name=""/>
          <p:cNvCxnSpPr>
            <a:endCxn id="1351" idx="0"/>
          </p:cNvCxnSpPr>
          <p:nvPr/>
        </p:nvCxnSpPr>
        <p:spPr>
          <a:xfrm>
            <a:off x="3565080" y="2514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3" name=""/>
          <p:cNvSpPr/>
          <p:nvPr/>
        </p:nvSpPr>
        <p:spPr>
          <a:xfrm>
            <a:off x="30499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735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5" name=""/>
          <p:cNvCxnSpPr>
            <a:endCxn id="1353" idx="0"/>
          </p:cNvCxnSpPr>
          <p:nvPr/>
        </p:nvCxnSpPr>
        <p:spPr>
          <a:xfrm flipH="1">
            <a:off x="3202920" y="251424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endCxn id="1354" idx="0"/>
          </p:cNvCxnSpPr>
          <p:nvPr/>
        </p:nvCxnSpPr>
        <p:spPr>
          <a:xfrm>
            <a:off x="3565440" y="2514240"/>
            <a:ext cx="324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51" idx="2"/>
            <a:endCxn id="1358" idx="0"/>
          </p:cNvCxnSpPr>
          <p:nvPr/>
        </p:nvCxnSpPr>
        <p:spPr>
          <a:xfrm>
            <a:off x="3565440" y="3185640"/>
            <a:ext cx="216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3430800" y="3429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21120" y="27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0" name=""/>
          <p:cNvCxnSpPr>
            <a:stCxn id="1341" idx="2"/>
            <a:endCxn id="1359" idx="0"/>
          </p:cNvCxnSpPr>
          <p:nvPr/>
        </p:nvCxnSpPr>
        <p:spPr>
          <a:xfrm flipH="1">
            <a:off x="1386720" y="2499840"/>
            <a:ext cx="6102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1" name=""/>
          <p:cNvCxnSpPr>
            <a:stCxn id="1341" idx="2"/>
            <a:endCxn id="1362" idx="0"/>
          </p:cNvCxnSpPr>
          <p:nvPr/>
        </p:nvCxnSpPr>
        <p:spPr>
          <a:xfrm>
            <a:off x="1996920" y="2499840"/>
            <a:ext cx="5090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2" name=""/>
          <p:cNvSpPr/>
          <p:nvPr/>
        </p:nvSpPr>
        <p:spPr>
          <a:xfrm>
            <a:off x="233856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3208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4" name=""/>
          <p:cNvCxnSpPr>
            <a:stCxn id="1362" idx="2"/>
            <a:endCxn id="1363" idx="0"/>
          </p:cNvCxnSpPr>
          <p:nvPr/>
        </p:nvCxnSpPr>
        <p:spPr>
          <a:xfrm flipH="1">
            <a:off x="2498400" y="3110040"/>
            <a:ext cx="72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5" name=""/>
          <p:cNvSpPr/>
          <p:nvPr/>
        </p:nvSpPr>
        <p:spPr>
          <a:xfrm>
            <a:off x="1983240" y="33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669040" y="33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7" name=""/>
          <p:cNvCxnSpPr>
            <a:stCxn id="1362" idx="2"/>
            <a:endCxn id="1365" idx="0"/>
          </p:cNvCxnSpPr>
          <p:nvPr/>
        </p:nvCxnSpPr>
        <p:spPr>
          <a:xfrm flipH="1">
            <a:off x="2136240" y="3110040"/>
            <a:ext cx="3693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362" idx="2"/>
            <a:endCxn id="1366" idx="0"/>
          </p:cNvCxnSpPr>
          <p:nvPr/>
        </p:nvCxnSpPr>
        <p:spPr>
          <a:xfrm>
            <a:off x="2504880" y="3110040"/>
            <a:ext cx="3178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233208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0" name=""/>
          <p:cNvCxnSpPr>
            <a:endCxn id="1369" idx="0"/>
          </p:cNvCxnSpPr>
          <p:nvPr/>
        </p:nvCxnSpPr>
        <p:spPr>
          <a:xfrm>
            <a:off x="2498400" y="37476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1" name=""/>
          <p:cNvSpPr/>
          <p:nvPr/>
        </p:nvSpPr>
        <p:spPr>
          <a:xfrm>
            <a:off x="1983240" y="40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669040" y="40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3" name=""/>
          <p:cNvCxnSpPr>
            <a:stCxn id="1363" idx="2"/>
            <a:endCxn id="1371" idx="0"/>
          </p:cNvCxnSpPr>
          <p:nvPr/>
        </p:nvCxnSpPr>
        <p:spPr>
          <a:xfrm flipH="1">
            <a:off x="2136600" y="374760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endCxn id="1372" idx="0"/>
          </p:cNvCxnSpPr>
          <p:nvPr/>
        </p:nvCxnSpPr>
        <p:spPr>
          <a:xfrm>
            <a:off x="2498400" y="374760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5" name=""/>
          <p:cNvSpPr/>
          <p:nvPr/>
        </p:nvSpPr>
        <p:spPr>
          <a:xfrm>
            <a:off x="118908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6" name=""/>
          <p:cNvCxnSpPr>
            <a:stCxn id="1359" idx="2"/>
            <a:endCxn id="1375" idx="0"/>
          </p:cNvCxnSpPr>
          <p:nvPr/>
        </p:nvCxnSpPr>
        <p:spPr>
          <a:xfrm flipH="1">
            <a:off x="1355400" y="3123720"/>
            <a:ext cx="324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8402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8" name=""/>
          <p:cNvCxnSpPr>
            <a:stCxn id="1359" idx="2"/>
            <a:endCxn id="1377" idx="0"/>
          </p:cNvCxnSpPr>
          <p:nvPr/>
        </p:nvCxnSpPr>
        <p:spPr>
          <a:xfrm flipH="1">
            <a:off x="993240" y="3123720"/>
            <a:ext cx="394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9" name=""/>
          <p:cNvCxnSpPr>
            <a:stCxn id="1359" idx="2"/>
          </p:cNvCxnSpPr>
          <p:nvPr/>
        </p:nvCxnSpPr>
        <p:spPr>
          <a:xfrm>
            <a:off x="1387080" y="3123720"/>
            <a:ext cx="292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0" name=""/>
          <p:cNvCxnSpPr>
            <a:stCxn id="1375" idx="2"/>
            <a:endCxn id="1381" idx="0"/>
          </p:cNvCxnSpPr>
          <p:nvPr/>
        </p:nvCxnSpPr>
        <p:spPr>
          <a:xfrm>
            <a:off x="1355400" y="3795840"/>
            <a:ext cx="133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1" name=""/>
          <p:cNvSpPr/>
          <p:nvPr/>
        </p:nvSpPr>
        <p:spPr>
          <a:xfrm>
            <a:off x="1213200" y="4038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5195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3" name=""/>
          <p:cNvCxnSpPr>
            <a:stCxn id="1369" idx="2"/>
            <a:endCxn id="1384" idx="0"/>
          </p:cNvCxnSpPr>
          <p:nvPr/>
        </p:nvCxnSpPr>
        <p:spPr>
          <a:xfrm>
            <a:off x="2498400" y="4419360"/>
            <a:ext cx="198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4" name=""/>
          <p:cNvSpPr/>
          <p:nvPr/>
        </p:nvSpPr>
        <p:spPr>
          <a:xfrm>
            <a:off x="2362320" y="4648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5" name=""/>
          <p:cNvCxnSpPr>
            <a:stCxn id="1345" idx="2"/>
            <a:endCxn id="1386" idx="0"/>
          </p:cNvCxnSpPr>
          <p:nvPr/>
        </p:nvCxnSpPr>
        <p:spPr>
          <a:xfrm>
            <a:off x="5546520" y="2514240"/>
            <a:ext cx="27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6" name=""/>
          <p:cNvSpPr/>
          <p:nvPr/>
        </p:nvSpPr>
        <p:spPr>
          <a:xfrm>
            <a:off x="5418360" y="2743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25779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5779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d # 0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767600">
            <a:off x="824400" y="2420640"/>
            <a:ext cx="18262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6" y="25"/>
                </a:moveTo>
                <a:arcTo wR="10800" hR="10800" stAng="-5633924" swAng="4285754"/>
                <a:lnTo>
                  <a:pt x="10800" y="10800"/>
                </a:lnTo>
                <a:close/>
              </a:path>
              <a:path fill="none" w="21600" h="21600">
                <a:moveTo>
                  <a:pt x="10066" y="25"/>
                </a:moveTo>
                <a:arcTo wR="10800" hR="10800" stAng="-5633924" swAng="4285754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84800">
            <a:off x="1172160" y="2795400"/>
            <a:ext cx="1178640" cy="61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2" y="6235"/>
                </a:moveTo>
                <a:arcTo wR="10800" hR="10800" stAng="-9299847" swAng="8578047"/>
                <a:lnTo>
                  <a:pt x="10800" y="10800"/>
                </a:lnTo>
                <a:close/>
              </a:path>
              <a:path fill="none" w="21600" h="21600">
                <a:moveTo>
                  <a:pt x="1012" y="6235"/>
                </a:moveTo>
                <a:arcTo wR="10800" hR="10800" stAng="-9299847" swAng="8578047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1640" y="243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58880" y="3416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020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5906000">
            <a:off x="914040" y="25016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2360" y="2349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560" y="242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88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640" y="265428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art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6179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 # 0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86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286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1640" y="1371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33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0" y="30492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art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6820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447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o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o,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044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2076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972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6344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1640" y="1905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57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685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1640" y="228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164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24520" y="228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7520" y="228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88080" y="1371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15040" y="533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86800" y="30492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art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0840" y="26820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43840" y="1447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24520" y="1447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o,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0688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684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616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4988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768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172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0104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198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5804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5804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8080" y="1905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34000" y="457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58040" y="685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88080" y="228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8808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2520" y="14875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o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9625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9625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5105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960" y="403848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art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40021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5181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o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1814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90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936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832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20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024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0240" y="3962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0240" y="441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25360" y="52214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o,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4876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936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49920" y="5257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1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39080" y="4952880"/>
            <a:ext cx="84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art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64200" y="49165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-,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05680" y="5334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o,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88000" y="4876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1720" y="4876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6288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20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410080"/>
            <a:ext cx="1543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5181480"/>
            <a:ext cx="13906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49920" y="5791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38680" y="4343040"/>
            <a:ext cx="13906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4571640"/>
            <a:ext cx="1390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49920" y="4114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49920" y="4572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3948120" y="1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63700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9" name=""/>
          <p:cNvCxnSpPr>
            <a:stCxn id="1387" idx="2"/>
            <a:endCxn id="1388" idx="0"/>
          </p:cNvCxnSpPr>
          <p:nvPr/>
        </p:nvCxnSpPr>
        <p:spPr>
          <a:xfrm flipH="1">
            <a:off x="2803680" y="493200"/>
            <a:ext cx="13114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0" name=""/>
          <p:cNvSpPr/>
          <p:nvPr/>
        </p:nvSpPr>
        <p:spPr>
          <a:xfrm>
            <a:off x="5380200" y="8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1" name=""/>
          <p:cNvCxnSpPr>
            <a:stCxn id="1387" idx="2"/>
            <a:endCxn id="1390" idx="0"/>
          </p:cNvCxnSpPr>
          <p:nvPr/>
        </p:nvCxnSpPr>
        <p:spPr>
          <a:xfrm>
            <a:off x="4114800" y="49320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2" name=""/>
          <p:cNvSpPr/>
          <p:nvPr/>
        </p:nvSpPr>
        <p:spPr>
          <a:xfrm>
            <a:off x="5380200" y="147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3" name=""/>
          <p:cNvCxnSpPr>
            <a:stCxn id="1390" idx="2"/>
            <a:endCxn id="1392" idx="0"/>
          </p:cNvCxnSpPr>
          <p:nvPr/>
        </p:nvCxnSpPr>
        <p:spPr>
          <a:xfrm flipH="1">
            <a:off x="5514120" y="1171080"/>
            <a:ext cx="32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4" name=""/>
          <p:cNvSpPr/>
          <p:nvPr/>
        </p:nvSpPr>
        <p:spPr>
          <a:xfrm>
            <a:off x="503100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71680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6" name=""/>
          <p:cNvCxnSpPr>
            <a:stCxn id="1390" idx="2"/>
            <a:endCxn id="1394" idx="0"/>
          </p:cNvCxnSpPr>
          <p:nvPr/>
        </p:nvCxnSpPr>
        <p:spPr>
          <a:xfrm flipH="1">
            <a:off x="5184720" y="117108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7" name=""/>
          <p:cNvCxnSpPr>
            <a:stCxn id="1390" idx="2"/>
            <a:endCxn id="1395" idx="0"/>
          </p:cNvCxnSpPr>
          <p:nvPr/>
        </p:nvCxnSpPr>
        <p:spPr>
          <a:xfrm>
            <a:off x="5546520" y="117108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8" name=""/>
          <p:cNvSpPr/>
          <p:nvPr/>
        </p:nvSpPr>
        <p:spPr>
          <a:xfrm>
            <a:off x="3963600" y="838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9" name=""/>
          <p:cNvCxnSpPr>
            <a:stCxn id="1387" idx="2"/>
            <a:endCxn id="1398" idx="0"/>
          </p:cNvCxnSpPr>
          <p:nvPr/>
        </p:nvCxnSpPr>
        <p:spPr>
          <a:xfrm>
            <a:off x="4114800" y="493200"/>
            <a:ext cx="72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0" name=""/>
          <p:cNvSpPr/>
          <p:nvPr/>
        </p:nvSpPr>
        <p:spPr>
          <a:xfrm>
            <a:off x="4132440" y="244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821320" y="31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2" name=""/>
          <p:cNvCxnSpPr>
            <a:stCxn id="1400" idx="2"/>
            <a:endCxn id="1401" idx="0"/>
          </p:cNvCxnSpPr>
          <p:nvPr/>
        </p:nvCxnSpPr>
        <p:spPr>
          <a:xfrm flipH="1">
            <a:off x="2986920" y="2813040"/>
            <a:ext cx="131220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3" name=""/>
          <p:cNvSpPr/>
          <p:nvPr/>
        </p:nvSpPr>
        <p:spPr>
          <a:xfrm>
            <a:off x="55645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4" name=""/>
          <p:cNvCxnSpPr>
            <a:stCxn id="1400" idx="2"/>
            <a:endCxn id="1403" idx="0"/>
          </p:cNvCxnSpPr>
          <p:nvPr/>
        </p:nvCxnSpPr>
        <p:spPr>
          <a:xfrm>
            <a:off x="4298760" y="2813040"/>
            <a:ext cx="1432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5" name=""/>
          <p:cNvSpPr/>
          <p:nvPr/>
        </p:nvSpPr>
        <p:spPr>
          <a:xfrm>
            <a:off x="2820600" y="3948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6" name=""/>
          <p:cNvCxnSpPr>
            <a:stCxn id="1401" idx="2"/>
            <a:endCxn id="1405" idx="0"/>
          </p:cNvCxnSpPr>
          <p:nvPr/>
        </p:nvCxnSpPr>
        <p:spPr>
          <a:xfrm flipH="1">
            <a:off x="2977920" y="3552840"/>
            <a:ext cx="100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7" name=""/>
          <p:cNvSpPr/>
          <p:nvPr/>
        </p:nvSpPr>
        <p:spPr>
          <a:xfrm>
            <a:off x="2592720" y="39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049920" y="39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9" name=""/>
          <p:cNvCxnSpPr>
            <a:stCxn id="1401" idx="2"/>
            <a:endCxn id="1407" idx="0"/>
          </p:cNvCxnSpPr>
          <p:nvPr/>
        </p:nvCxnSpPr>
        <p:spPr>
          <a:xfrm flipH="1">
            <a:off x="2746080" y="3552840"/>
            <a:ext cx="24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0" name=""/>
          <p:cNvCxnSpPr>
            <a:stCxn id="1401" idx="2"/>
            <a:endCxn id="1408" idx="0"/>
          </p:cNvCxnSpPr>
          <p:nvPr/>
        </p:nvCxnSpPr>
        <p:spPr>
          <a:xfrm>
            <a:off x="2987640" y="3552840"/>
            <a:ext cx="2167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148280" y="31575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2" name=""/>
          <p:cNvCxnSpPr>
            <a:stCxn id="1400" idx="2"/>
            <a:endCxn id="1411" idx="0"/>
          </p:cNvCxnSpPr>
          <p:nvPr/>
        </p:nvCxnSpPr>
        <p:spPr>
          <a:xfrm flipH="1">
            <a:off x="4282200" y="2812680"/>
            <a:ext cx="169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3" name=""/>
          <p:cNvSpPr/>
          <p:nvPr/>
        </p:nvSpPr>
        <p:spPr>
          <a:xfrm>
            <a:off x="2656080" y="14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4" name=""/>
          <p:cNvCxnSpPr>
            <a:stCxn id="1388" idx="2"/>
            <a:endCxn id="1413" idx="0"/>
          </p:cNvCxnSpPr>
          <p:nvPr/>
        </p:nvCxnSpPr>
        <p:spPr>
          <a:xfrm>
            <a:off x="2803320" y="123300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5" name=""/>
          <p:cNvSpPr/>
          <p:nvPr/>
        </p:nvSpPr>
        <p:spPr>
          <a:xfrm>
            <a:off x="556452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6" name=""/>
          <p:cNvCxnSpPr>
            <a:stCxn id="1403" idx="2"/>
            <a:endCxn id="1415" idx="0"/>
          </p:cNvCxnSpPr>
          <p:nvPr/>
        </p:nvCxnSpPr>
        <p:spPr>
          <a:xfrm flipH="1">
            <a:off x="5717520" y="3490920"/>
            <a:ext cx="1332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948120" y="1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24648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9" name=""/>
          <p:cNvCxnSpPr>
            <a:endCxn id="1418" idx="0"/>
          </p:cNvCxnSpPr>
          <p:nvPr/>
        </p:nvCxnSpPr>
        <p:spPr>
          <a:xfrm flipH="1">
            <a:off x="3412440" y="533520"/>
            <a:ext cx="702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0" name=""/>
          <p:cNvSpPr/>
          <p:nvPr/>
        </p:nvSpPr>
        <p:spPr>
          <a:xfrm>
            <a:off x="4618080" y="8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1" name=""/>
          <p:cNvCxnSpPr>
            <a:stCxn id="1417" idx="2"/>
            <a:endCxn id="1420" idx="0"/>
          </p:cNvCxnSpPr>
          <p:nvPr/>
        </p:nvCxnSpPr>
        <p:spPr>
          <a:xfrm>
            <a:off x="4114440" y="533520"/>
            <a:ext cx="6706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2" name=""/>
          <p:cNvSpPr/>
          <p:nvPr/>
        </p:nvSpPr>
        <p:spPr>
          <a:xfrm>
            <a:off x="4618080" y="147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3" name=""/>
          <p:cNvCxnSpPr>
            <a:stCxn id="1420" idx="2"/>
            <a:endCxn id="1422" idx="0"/>
          </p:cNvCxnSpPr>
          <p:nvPr/>
        </p:nvCxnSpPr>
        <p:spPr>
          <a:xfrm flipH="1">
            <a:off x="4752720" y="1171080"/>
            <a:ext cx="324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4" name=""/>
          <p:cNvSpPr/>
          <p:nvPr/>
        </p:nvSpPr>
        <p:spPr>
          <a:xfrm>
            <a:off x="426924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955040" y="147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"/>
          <p:cNvCxnSpPr>
            <a:stCxn id="1420" idx="2"/>
            <a:endCxn id="1424" idx="0"/>
          </p:cNvCxnSpPr>
          <p:nvPr/>
        </p:nvCxnSpPr>
        <p:spPr>
          <a:xfrm flipH="1">
            <a:off x="4422600" y="1171080"/>
            <a:ext cx="36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7" name=""/>
          <p:cNvCxnSpPr>
            <a:stCxn id="1420" idx="2"/>
            <a:endCxn id="1425" idx="0"/>
          </p:cNvCxnSpPr>
          <p:nvPr/>
        </p:nvCxnSpPr>
        <p:spPr>
          <a:xfrm>
            <a:off x="4784400" y="1171080"/>
            <a:ext cx="324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8" name=""/>
          <p:cNvSpPr/>
          <p:nvPr/>
        </p:nvSpPr>
        <p:spPr>
          <a:xfrm>
            <a:off x="3963600" y="838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9" name=""/>
          <p:cNvCxnSpPr>
            <a:stCxn id="1417" idx="2"/>
            <a:endCxn id="1428" idx="0"/>
          </p:cNvCxnSpPr>
          <p:nvPr/>
        </p:nvCxnSpPr>
        <p:spPr>
          <a:xfrm>
            <a:off x="4114800" y="533520"/>
            <a:ext cx="72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0" name=""/>
          <p:cNvSpPr/>
          <p:nvPr/>
        </p:nvSpPr>
        <p:spPr>
          <a:xfrm>
            <a:off x="413244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348360" y="281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2" name=""/>
          <p:cNvCxnSpPr>
            <a:stCxn id="1430" idx="2"/>
            <a:endCxn id="1431" idx="0"/>
          </p:cNvCxnSpPr>
          <p:nvPr/>
        </p:nvCxnSpPr>
        <p:spPr>
          <a:xfrm flipH="1">
            <a:off x="3513960" y="2499840"/>
            <a:ext cx="78516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3" name=""/>
          <p:cNvSpPr/>
          <p:nvPr/>
        </p:nvSpPr>
        <p:spPr>
          <a:xfrm>
            <a:off x="4726080" y="281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4" name=""/>
          <p:cNvCxnSpPr>
            <a:stCxn id="1430" idx="2"/>
            <a:endCxn id="1433" idx="0"/>
          </p:cNvCxnSpPr>
          <p:nvPr/>
        </p:nvCxnSpPr>
        <p:spPr>
          <a:xfrm>
            <a:off x="4298760" y="2499840"/>
            <a:ext cx="59436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5" name=""/>
          <p:cNvSpPr/>
          <p:nvPr/>
        </p:nvSpPr>
        <p:spPr>
          <a:xfrm>
            <a:off x="3347640" y="357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6" name=""/>
          <p:cNvCxnSpPr>
            <a:stCxn id="1431" idx="2"/>
            <a:endCxn id="1435" idx="0"/>
          </p:cNvCxnSpPr>
          <p:nvPr/>
        </p:nvCxnSpPr>
        <p:spPr>
          <a:xfrm flipH="1">
            <a:off x="3504960" y="3178080"/>
            <a:ext cx="100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7" name=""/>
          <p:cNvSpPr/>
          <p:nvPr/>
        </p:nvSpPr>
        <p:spPr>
          <a:xfrm>
            <a:off x="31197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5769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9" name=""/>
          <p:cNvCxnSpPr>
            <a:stCxn id="1431" idx="2"/>
            <a:endCxn id="1437" idx="0"/>
          </p:cNvCxnSpPr>
          <p:nvPr/>
        </p:nvCxnSpPr>
        <p:spPr>
          <a:xfrm flipH="1">
            <a:off x="3273120" y="3178080"/>
            <a:ext cx="241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0" name=""/>
          <p:cNvCxnSpPr>
            <a:stCxn id="1431" idx="2"/>
            <a:endCxn id="1438" idx="0"/>
          </p:cNvCxnSpPr>
          <p:nvPr/>
        </p:nvCxnSpPr>
        <p:spPr>
          <a:xfrm>
            <a:off x="3514680" y="3178080"/>
            <a:ext cx="2167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1" name=""/>
          <p:cNvSpPr/>
          <p:nvPr/>
        </p:nvSpPr>
        <p:spPr>
          <a:xfrm>
            <a:off x="4148280" y="28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2" name=""/>
          <p:cNvCxnSpPr>
            <a:stCxn id="1430" idx="2"/>
            <a:endCxn id="1441" idx="0"/>
          </p:cNvCxnSpPr>
          <p:nvPr/>
        </p:nvCxnSpPr>
        <p:spPr>
          <a:xfrm flipH="1">
            <a:off x="4282200" y="2499840"/>
            <a:ext cx="169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3" name=""/>
          <p:cNvSpPr/>
          <p:nvPr/>
        </p:nvSpPr>
        <p:spPr>
          <a:xfrm>
            <a:off x="3265920" y="14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4" name=""/>
          <p:cNvCxnSpPr>
            <a:stCxn id="1418" idx="2"/>
            <a:endCxn id="1443" idx="0"/>
          </p:cNvCxnSpPr>
          <p:nvPr/>
        </p:nvCxnSpPr>
        <p:spPr>
          <a:xfrm>
            <a:off x="3413160" y="1233000"/>
            <a:ext cx="7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4726440" y="343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6" name=""/>
          <p:cNvCxnSpPr>
            <a:stCxn id="1433" idx="2"/>
            <a:endCxn id="1445" idx="0"/>
          </p:cNvCxnSpPr>
          <p:nvPr/>
        </p:nvCxnSpPr>
        <p:spPr>
          <a:xfrm flipH="1">
            <a:off x="4879440" y="3177720"/>
            <a:ext cx="136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7" name=""/>
          <p:cNvCxnSpPr>
            <a:endCxn id="1448" idx="0"/>
          </p:cNvCxnSpPr>
          <p:nvPr/>
        </p:nvCxnSpPr>
        <p:spPr>
          <a:xfrm flipH="1">
            <a:off x="2865240" y="533520"/>
            <a:ext cx="1249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9" name=""/>
          <p:cNvCxnSpPr>
            <a:stCxn id="1417" idx="2"/>
            <a:endCxn id="1450" idx="0"/>
          </p:cNvCxnSpPr>
          <p:nvPr/>
        </p:nvCxnSpPr>
        <p:spPr>
          <a:xfrm>
            <a:off x="4114440" y="533520"/>
            <a:ext cx="11898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8" name=""/>
          <p:cNvSpPr/>
          <p:nvPr/>
        </p:nvSpPr>
        <p:spPr>
          <a:xfrm>
            <a:off x="2744640" y="9144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182920" y="812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1" name=""/>
          <p:cNvCxnSpPr>
            <a:endCxn id="1452" idx="0"/>
          </p:cNvCxnSpPr>
          <p:nvPr/>
        </p:nvCxnSpPr>
        <p:spPr>
          <a:xfrm>
            <a:off x="4266720" y="2506680"/>
            <a:ext cx="11898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2" name=""/>
          <p:cNvSpPr/>
          <p:nvPr/>
        </p:nvSpPr>
        <p:spPr>
          <a:xfrm>
            <a:off x="5335200" y="27860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3" name=""/>
          <p:cNvCxnSpPr>
            <a:stCxn id="1430" idx="2"/>
            <a:endCxn id="1454" idx="0"/>
          </p:cNvCxnSpPr>
          <p:nvPr/>
        </p:nvCxnSpPr>
        <p:spPr>
          <a:xfrm flipH="1">
            <a:off x="3017520" y="2500200"/>
            <a:ext cx="128160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4" name=""/>
          <p:cNvSpPr/>
          <p:nvPr/>
        </p:nvSpPr>
        <p:spPr>
          <a:xfrm>
            <a:off x="2896920" y="28875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035880" y="5881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948120" y="1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63700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8" name=""/>
          <p:cNvCxnSpPr>
            <a:stCxn id="1456" idx="2"/>
            <a:endCxn id="1457" idx="0"/>
          </p:cNvCxnSpPr>
          <p:nvPr/>
        </p:nvCxnSpPr>
        <p:spPr>
          <a:xfrm flipH="1">
            <a:off x="2803680" y="493200"/>
            <a:ext cx="13114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9" name=""/>
          <p:cNvCxnSpPr>
            <a:stCxn id="1460" idx="2"/>
            <a:endCxn id="1461" idx="0"/>
          </p:cNvCxnSpPr>
          <p:nvPr/>
        </p:nvCxnSpPr>
        <p:spPr>
          <a:xfrm>
            <a:off x="4130640" y="1204920"/>
            <a:ext cx="16560" cy="3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2" name=""/>
          <p:cNvSpPr/>
          <p:nvPr/>
        </p:nvSpPr>
        <p:spPr>
          <a:xfrm>
            <a:off x="365328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33908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4" name=""/>
          <p:cNvCxnSpPr>
            <a:stCxn id="1460" idx="2"/>
            <a:endCxn id="1462" idx="0"/>
          </p:cNvCxnSpPr>
          <p:nvPr/>
        </p:nvCxnSpPr>
        <p:spPr>
          <a:xfrm flipH="1">
            <a:off x="3806280" y="120492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5" name=""/>
          <p:cNvCxnSpPr>
            <a:stCxn id="1460" idx="2"/>
            <a:endCxn id="1463" idx="0"/>
          </p:cNvCxnSpPr>
          <p:nvPr/>
        </p:nvCxnSpPr>
        <p:spPr>
          <a:xfrm>
            <a:off x="4130640" y="120492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6" name=""/>
          <p:cNvSpPr/>
          <p:nvPr/>
        </p:nvSpPr>
        <p:spPr>
          <a:xfrm>
            <a:off x="5380200" y="8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7" name=""/>
          <p:cNvCxnSpPr>
            <a:stCxn id="1456" idx="2"/>
            <a:endCxn id="1466" idx="0"/>
          </p:cNvCxnSpPr>
          <p:nvPr/>
        </p:nvCxnSpPr>
        <p:spPr>
          <a:xfrm>
            <a:off x="4114800" y="49320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8" name=""/>
          <p:cNvCxnSpPr>
            <a:stCxn id="1456" idx="2"/>
          </p:cNvCxnSpPr>
          <p:nvPr/>
        </p:nvCxnSpPr>
        <p:spPr>
          <a:xfrm>
            <a:off x="4114440" y="493200"/>
            <a:ext cx="108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0" name=""/>
          <p:cNvSpPr/>
          <p:nvPr/>
        </p:nvSpPr>
        <p:spPr>
          <a:xfrm>
            <a:off x="3964320" y="83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9" name=""/>
          <p:cNvCxnSpPr>
            <a:stCxn id="1466" idx="2"/>
            <a:endCxn id="1470" idx="0"/>
          </p:cNvCxnSpPr>
          <p:nvPr/>
        </p:nvCxnSpPr>
        <p:spPr>
          <a:xfrm>
            <a:off x="5546520" y="1171440"/>
            <a:ext cx="1332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0" name=""/>
          <p:cNvSpPr/>
          <p:nvPr/>
        </p:nvSpPr>
        <p:spPr>
          <a:xfrm>
            <a:off x="5403960" y="1447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1" name=""/>
          <p:cNvCxnSpPr>
            <a:stCxn id="1457" idx="2"/>
            <a:endCxn id="1472" idx="0"/>
          </p:cNvCxnSpPr>
          <p:nvPr/>
        </p:nvCxnSpPr>
        <p:spPr>
          <a:xfrm>
            <a:off x="2803320" y="1233000"/>
            <a:ext cx="13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2" name=""/>
          <p:cNvSpPr/>
          <p:nvPr/>
        </p:nvSpPr>
        <p:spPr>
          <a:xfrm>
            <a:off x="2660760" y="1523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98016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668680" y="2263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4" name=""/>
          <p:cNvCxnSpPr>
            <a:stCxn id="1461" idx="2"/>
            <a:endCxn id="1473" idx="0"/>
          </p:cNvCxnSpPr>
          <p:nvPr/>
        </p:nvCxnSpPr>
        <p:spPr>
          <a:xfrm flipH="1">
            <a:off x="2835360" y="1890720"/>
            <a:ext cx="13114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5" name=""/>
          <p:cNvSpPr/>
          <p:nvPr/>
        </p:nvSpPr>
        <p:spPr>
          <a:xfrm>
            <a:off x="4034160" y="293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6" name=""/>
          <p:cNvCxnSpPr>
            <a:stCxn id="1477" idx="2"/>
            <a:endCxn id="1475" idx="0"/>
          </p:cNvCxnSpPr>
          <p:nvPr/>
        </p:nvCxnSpPr>
        <p:spPr>
          <a:xfrm>
            <a:off x="4162320" y="260208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8" name=""/>
          <p:cNvSpPr/>
          <p:nvPr/>
        </p:nvSpPr>
        <p:spPr>
          <a:xfrm>
            <a:off x="3684960" y="293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370760" y="293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0" name=""/>
          <p:cNvCxnSpPr>
            <a:stCxn id="1477" idx="2"/>
            <a:endCxn id="1478" idx="0"/>
          </p:cNvCxnSpPr>
          <p:nvPr/>
        </p:nvCxnSpPr>
        <p:spPr>
          <a:xfrm flipH="1">
            <a:off x="3837960" y="260208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1" name=""/>
          <p:cNvCxnSpPr>
            <a:stCxn id="1477" idx="2"/>
            <a:endCxn id="1479" idx="0"/>
          </p:cNvCxnSpPr>
          <p:nvPr/>
        </p:nvCxnSpPr>
        <p:spPr>
          <a:xfrm>
            <a:off x="4162320" y="260208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2" name=""/>
          <p:cNvSpPr/>
          <p:nvPr/>
        </p:nvSpPr>
        <p:spPr>
          <a:xfrm>
            <a:off x="5411880" y="220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3" name=""/>
          <p:cNvCxnSpPr>
            <a:stCxn id="1461" idx="2"/>
            <a:endCxn id="1482" idx="0"/>
          </p:cNvCxnSpPr>
          <p:nvPr/>
        </p:nvCxnSpPr>
        <p:spPr>
          <a:xfrm>
            <a:off x="4146480" y="189072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4" name=""/>
          <p:cNvCxnSpPr>
            <a:stCxn id="1461" idx="2"/>
          </p:cNvCxnSpPr>
          <p:nvPr/>
        </p:nvCxnSpPr>
        <p:spPr>
          <a:xfrm>
            <a:off x="4146120" y="1890360"/>
            <a:ext cx="108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7" name=""/>
          <p:cNvSpPr/>
          <p:nvPr/>
        </p:nvSpPr>
        <p:spPr>
          <a:xfrm>
            <a:off x="3996000" y="223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5" name=""/>
          <p:cNvCxnSpPr>
            <a:stCxn id="1482" idx="2"/>
            <a:endCxn id="1486" idx="0"/>
          </p:cNvCxnSpPr>
          <p:nvPr/>
        </p:nvCxnSpPr>
        <p:spPr>
          <a:xfrm>
            <a:off x="5578200" y="2568240"/>
            <a:ext cx="133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6" name=""/>
          <p:cNvSpPr/>
          <p:nvPr/>
        </p:nvSpPr>
        <p:spPr>
          <a:xfrm>
            <a:off x="5435640" y="2844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7" name=""/>
          <p:cNvCxnSpPr>
            <a:stCxn id="1473" idx="2"/>
            <a:endCxn id="1488" idx="0"/>
          </p:cNvCxnSpPr>
          <p:nvPr/>
        </p:nvCxnSpPr>
        <p:spPr>
          <a:xfrm>
            <a:off x="2835000" y="2630160"/>
            <a:ext cx="13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8" name=""/>
          <p:cNvSpPr/>
          <p:nvPr/>
        </p:nvSpPr>
        <p:spPr>
          <a:xfrm>
            <a:off x="2692440" y="2921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745000" y="364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0" name=""/>
          <p:cNvCxnSpPr>
            <a:stCxn id="1475" idx="2"/>
            <a:endCxn id="1489" idx="0"/>
          </p:cNvCxnSpPr>
          <p:nvPr/>
        </p:nvCxnSpPr>
        <p:spPr>
          <a:xfrm flipH="1">
            <a:off x="2910600" y="3301920"/>
            <a:ext cx="12898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1" name=""/>
          <p:cNvSpPr/>
          <p:nvPr/>
        </p:nvSpPr>
        <p:spPr>
          <a:xfrm>
            <a:off x="4110120" y="432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2" name=""/>
          <p:cNvCxnSpPr>
            <a:stCxn id="1493" idx="2"/>
            <a:endCxn id="1491" idx="0"/>
          </p:cNvCxnSpPr>
          <p:nvPr/>
        </p:nvCxnSpPr>
        <p:spPr>
          <a:xfrm>
            <a:off x="4238640" y="398772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4" name=""/>
          <p:cNvSpPr/>
          <p:nvPr/>
        </p:nvSpPr>
        <p:spPr>
          <a:xfrm>
            <a:off x="3761280" y="43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447080" y="43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6" name=""/>
          <p:cNvCxnSpPr>
            <a:stCxn id="1493" idx="2"/>
            <a:endCxn id="1494" idx="0"/>
          </p:cNvCxnSpPr>
          <p:nvPr/>
        </p:nvCxnSpPr>
        <p:spPr>
          <a:xfrm flipH="1">
            <a:off x="3914280" y="3987720"/>
            <a:ext cx="3247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7" name=""/>
          <p:cNvCxnSpPr>
            <a:stCxn id="1493" idx="2"/>
            <a:endCxn id="1495" idx="0"/>
          </p:cNvCxnSpPr>
          <p:nvPr/>
        </p:nvCxnSpPr>
        <p:spPr>
          <a:xfrm>
            <a:off x="4238280" y="398772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8" name=""/>
          <p:cNvSpPr/>
          <p:nvPr/>
        </p:nvSpPr>
        <p:spPr>
          <a:xfrm>
            <a:off x="5488200" y="358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9" name=""/>
          <p:cNvCxnSpPr>
            <a:stCxn id="1475" idx="2"/>
            <a:endCxn id="1498" idx="0"/>
          </p:cNvCxnSpPr>
          <p:nvPr/>
        </p:nvCxnSpPr>
        <p:spPr>
          <a:xfrm>
            <a:off x="4200120" y="3301920"/>
            <a:ext cx="1454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0" name=""/>
          <p:cNvCxnSpPr>
            <a:stCxn id="1475" idx="2"/>
          </p:cNvCxnSpPr>
          <p:nvPr/>
        </p:nvCxnSpPr>
        <p:spPr>
          <a:xfrm>
            <a:off x="4200480" y="3301920"/>
            <a:ext cx="244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3" name=""/>
          <p:cNvSpPr/>
          <p:nvPr/>
        </p:nvSpPr>
        <p:spPr>
          <a:xfrm>
            <a:off x="4071960" y="3621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1" name=""/>
          <p:cNvCxnSpPr>
            <a:stCxn id="1489" idx="2"/>
            <a:endCxn id="1502" idx="0"/>
          </p:cNvCxnSpPr>
          <p:nvPr/>
        </p:nvCxnSpPr>
        <p:spPr>
          <a:xfrm>
            <a:off x="2911320" y="4016160"/>
            <a:ext cx="136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2" name=""/>
          <p:cNvSpPr/>
          <p:nvPr/>
        </p:nvSpPr>
        <p:spPr>
          <a:xfrm>
            <a:off x="2768760" y="4307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526360" y="42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4" name=""/>
          <p:cNvCxnSpPr>
            <a:endCxn id="1503" idx="0"/>
          </p:cNvCxnSpPr>
          <p:nvPr/>
        </p:nvCxnSpPr>
        <p:spPr>
          <a:xfrm>
            <a:off x="5654520" y="396252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5" name=""/>
          <p:cNvSpPr/>
          <p:nvPr/>
        </p:nvSpPr>
        <p:spPr>
          <a:xfrm>
            <a:off x="5177160" y="42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62960" y="42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7" name=""/>
          <p:cNvCxnSpPr>
            <a:endCxn id="1505" idx="0"/>
          </p:cNvCxnSpPr>
          <p:nvPr/>
        </p:nvCxnSpPr>
        <p:spPr>
          <a:xfrm flipH="1">
            <a:off x="5330160" y="396252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8" name=""/>
          <p:cNvCxnSpPr>
            <a:endCxn id="1506" idx="0"/>
          </p:cNvCxnSpPr>
          <p:nvPr/>
        </p:nvCxnSpPr>
        <p:spPr>
          <a:xfrm>
            <a:off x="5654520" y="396252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9" name=""/>
          <p:cNvCxnSpPr>
            <a:stCxn id="1491" idx="2"/>
            <a:endCxn id="1510" idx="0"/>
          </p:cNvCxnSpPr>
          <p:nvPr/>
        </p:nvCxnSpPr>
        <p:spPr>
          <a:xfrm flipH="1">
            <a:off x="4271400" y="4687920"/>
            <a:ext cx="54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0" name=""/>
          <p:cNvSpPr/>
          <p:nvPr/>
        </p:nvSpPr>
        <p:spPr>
          <a:xfrm>
            <a:off x="4116600" y="4952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1" name=""/>
          <p:cNvCxnSpPr>
            <a:stCxn id="1503" idx="2"/>
            <a:endCxn id="1512" idx="0"/>
          </p:cNvCxnSpPr>
          <p:nvPr/>
        </p:nvCxnSpPr>
        <p:spPr>
          <a:xfrm>
            <a:off x="5692320" y="4662000"/>
            <a:ext cx="19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2" name=""/>
          <p:cNvSpPr/>
          <p:nvPr/>
        </p:nvSpPr>
        <p:spPr>
          <a:xfrm>
            <a:off x="5556600" y="4952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3948120" y="1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37000" y="8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5" name=""/>
          <p:cNvCxnSpPr>
            <a:stCxn id="1513" idx="2"/>
            <a:endCxn id="1514" idx="0"/>
          </p:cNvCxnSpPr>
          <p:nvPr/>
        </p:nvCxnSpPr>
        <p:spPr>
          <a:xfrm flipH="1">
            <a:off x="2803680" y="493200"/>
            <a:ext cx="13114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6" name=""/>
          <p:cNvSpPr/>
          <p:nvPr/>
        </p:nvSpPr>
        <p:spPr>
          <a:xfrm>
            <a:off x="1297080" y="162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7" name=""/>
          <p:cNvCxnSpPr>
            <a:endCxn id="1516" idx="0"/>
          </p:cNvCxnSpPr>
          <p:nvPr/>
        </p:nvCxnSpPr>
        <p:spPr>
          <a:xfrm flipH="1">
            <a:off x="1463760" y="1255680"/>
            <a:ext cx="13114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8" name=""/>
          <p:cNvCxnSpPr>
            <a:stCxn id="1519" idx="2"/>
            <a:endCxn id="1520" idx="0"/>
          </p:cNvCxnSpPr>
          <p:nvPr/>
        </p:nvCxnSpPr>
        <p:spPr>
          <a:xfrm>
            <a:off x="2790720" y="1967040"/>
            <a:ext cx="16560" cy="3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1" name=""/>
          <p:cNvSpPr/>
          <p:nvPr/>
        </p:nvSpPr>
        <p:spPr>
          <a:xfrm>
            <a:off x="23133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9991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3" name=""/>
          <p:cNvCxnSpPr>
            <a:stCxn id="1519" idx="2"/>
            <a:endCxn id="1521" idx="0"/>
          </p:cNvCxnSpPr>
          <p:nvPr/>
        </p:nvCxnSpPr>
        <p:spPr>
          <a:xfrm flipH="1">
            <a:off x="2466360" y="196704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4" name=""/>
          <p:cNvCxnSpPr>
            <a:stCxn id="1519" idx="2"/>
            <a:endCxn id="1522" idx="0"/>
          </p:cNvCxnSpPr>
          <p:nvPr/>
        </p:nvCxnSpPr>
        <p:spPr>
          <a:xfrm>
            <a:off x="2790720" y="196704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5" name=""/>
          <p:cNvSpPr/>
          <p:nvPr/>
        </p:nvSpPr>
        <p:spPr>
          <a:xfrm>
            <a:off x="4040280" y="156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6" name=""/>
          <p:cNvCxnSpPr>
            <a:endCxn id="1525" idx="0"/>
          </p:cNvCxnSpPr>
          <p:nvPr/>
        </p:nvCxnSpPr>
        <p:spPr>
          <a:xfrm>
            <a:off x="2774880" y="125568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7" name=""/>
          <p:cNvCxnSpPr/>
          <p:nvPr/>
        </p:nvCxnSpPr>
        <p:spPr>
          <a:xfrm>
            <a:off x="2774520" y="1255320"/>
            <a:ext cx="108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9" name=""/>
          <p:cNvSpPr/>
          <p:nvPr/>
        </p:nvSpPr>
        <p:spPr>
          <a:xfrm>
            <a:off x="2624400" y="1600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8" name=""/>
          <p:cNvCxnSpPr>
            <a:stCxn id="1525" idx="2"/>
            <a:endCxn id="1529" idx="0"/>
          </p:cNvCxnSpPr>
          <p:nvPr/>
        </p:nvCxnSpPr>
        <p:spPr>
          <a:xfrm>
            <a:off x="4206600" y="1933200"/>
            <a:ext cx="133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9" name=""/>
          <p:cNvSpPr/>
          <p:nvPr/>
        </p:nvSpPr>
        <p:spPr>
          <a:xfrm>
            <a:off x="406404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0" name=""/>
          <p:cNvCxnSpPr>
            <a:stCxn id="1516" idx="2"/>
            <a:endCxn id="1531" idx="0"/>
          </p:cNvCxnSpPr>
          <p:nvPr/>
        </p:nvCxnSpPr>
        <p:spPr>
          <a:xfrm>
            <a:off x="1463400" y="1995120"/>
            <a:ext cx="13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1" name=""/>
          <p:cNvSpPr/>
          <p:nvPr/>
        </p:nvSpPr>
        <p:spPr>
          <a:xfrm>
            <a:off x="1320840" y="2286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64024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328760" y="302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3" name=""/>
          <p:cNvCxnSpPr>
            <a:stCxn id="1520" idx="2"/>
            <a:endCxn id="1532" idx="0"/>
          </p:cNvCxnSpPr>
          <p:nvPr/>
        </p:nvCxnSpPr>
        <p:spPr>
          <a:xfrm flipH="1">
            <a:off x="1495440" y="2652840"/>
            <a:ext cx="13114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4" name=""/>
          <p:cNvSpPr/>
          <p:nvPr/>
        </p:nvSpPr>
        <p:spPr>
          <a:xfrm>
            <a:off x="2694240" y="3697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"/>
          <p:cNvCxnSpPr>
            <a:stCxn id="1536" idx="2"/>
            <a:endCxn id="1534" idx="0"/>
          </p:cNvCxnSpPr>
          <p:nvPr/>
        </p:nvCxnSpPr>
        <p:spPr>
          <a:xfrm>
            <a:off x="2822400" y="336384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7" name=""/>
          <p:cNvSpPr/>
          <p:nvPr/>
        </p:nvSpPr>
        <p:spPr>
          <a:xfrm>
            <a:off x="2345040" y="369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030840" y="369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9" name=""/>
          <p:cNvCxnSpPr>
            <a:stCxn id="1536" idx="2"/>
            <a:endCxn id="1537" idx="0"/>
          </p:cNvCxnSpPr>
          <p:nvPr/>
        </p:nvCxnSpPr>
        <p:spPr>
          <a:xfrm flipH="1">
            <a:off x="2498040" y="336384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0" name=""/>
          <p:cNvCxnSpPr>
            <a:stCxn id="1536" idx="2"/>
            <a:endCxn id="1538" idx="0"/>
          </p:cNvCxnSpPr>
          <p:nvPr/>
        </p:nvCxnSpPr>
        <p:spPr>
          <a:xfrm>
            <a:off x="2822400" y="336384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4071960" y="296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2" name=""/>
          <p:cNvCxnSpPr>
            <a:stCxn id="1520" idx="2"/>
            <a:endCxn id="1541" idx="0"/>
          </p:cNvCxnSpPr>
          <p:nvPr/>
        </p:nvCxnSpPr>
        <p:spPr>
          <a:xfrm>
            <a:off x="2806560" y="2652840"/>
            <a:ext cx="14328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3" name=""/>
          <p:cNvCxnSpPr>
            <a:stCxn id="1520" idx="2"/>
          </p:cNvCxnSpPr>
          <p:nvPr/>
        </p:nvCxnSpPr>
        <p:spPr>
          <a:xfrm>
            <a:off x="2806200" y="2652840"/>
            <a:ext cx="1080" cy="42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6" name=""/>
          <p:cNvSpPr/>
          <p:nvPr/>
        </p:nvSpPr>
        <p:spPr>
          <a:xfrm>
            <a:off x="265608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4" name=""/>
          <p:cNvCxnSpPr>
            <a:stCxn id="1541" idx="2"/>
            <a:endCxn id="1545" idx="0"/>
          </p:cNvCxnSpPr>
          <p:nvPr/>
        </p:nvCxnSpPr>
        <p:spPr>
          <a:xfrm>
            <a:off x="4238280" y="3330360"/>
            <a:ext cx="1332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5" name=""/>
          <p:cNvSpPr/>
          <p:nvPr/>
        </p:nvSpPr>
        <p:spPr>
          <a:xfrm>
            <a:off x="4096080" y="3606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6" name=""/>
          <p:cNvCxnSpPr>
            <a:stCxn id="1532" idx="2"/>
            <a:endCxn id="1547" idx="0"/>
          </p:cNvCxnSpPr>
          <p:nvPr/>
        </p:nvCxnSpPr>
        <p:spPr>
          <a:xfrm>
            <a:off x="1495080" y="3392280"/>
            <a:ext cx="13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7" name=""/>
          <p:cNvSpPr/>
          <p:nvPr/>
        </p:nvSpPr>
        <p:spPr>
          <a:xfrm>
            <a:off x="1352880" y="3683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405080" y="441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9" name=""/>
          <p:cNvCxnSpPr>
            <a:stCxn id="1534" idx="2"/>
            <a:endCxn id="1548" idx="0"/>
          </p:cNvCxnSpPr>
          <p:nvPr/>
        </p:nvCxnSpPr>
        <p:spPr>
          <a:xfrm flipH="1">
            <a:off x="1571400" y="4064040"/>
            <a:ext cx="128952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0" name=""/>
          <p:cNvSpPr/>
          <p:nvPr/>
        </p:nvSpPr>
        <p:spPr>
          <a:xfrm>
            <a:off x="2770200" y="508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1" name=""/>
          <p:cNvCxnSpPr>
            <a:stCxn id="1552" idx="2"/>
            <a:endCxn id="1550" idx="0"/>
          </p:cNvCxnSpPr>
          <p:nvPr/>
        </p:nvCxnSpPr>
        <p:spPr>
          <a:xfrm>
            <a:off x="2898720" y="4749840"/>
            <a:ext cx="388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3" name=""/>
          <p:cNvSpPr/>
          <p:nvPr/>
        </p:nvSpPr>
        <p:spPr>
          <a:xfrm>
            <a:off x="242136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107160" y="508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5" name=""/>
          <p:cNvCxnSpPr>
            <a:stCxn id="1552" idx="2"/>
            <a:endCxn id="1553" idx="0"/>
          </p:cNvCxnSpPr>
          <p:nvPr/>
        </p:nvCxnSpPr>
        <p:spPr>
          <a:xfrm flipH="1">
            <a:off x="2574360" y="4749840"/>
            <a:ext cx="3243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6" name=""/>
          <p:cNvCxnSpPr>
            <a:stCxn id="1552" idx="2"/>
            <a:endCxn id="1554" idx="0"/>
          </p:cNvCxnSpPr>
          <p:nvPr/>
        </p:nvCxnSpPr>
        <p:spPr>
          <a:xfrm>
            <a:off x="2898720" y="474984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7" name=""/>
          <p:cNvSpPr/>
          <p:nvPr/>
        </p:nvSpPr>
        <p:spPr>
          <a:xfrm>
            <a:off x="4148280" y="434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8" name=""/>
          <p:cNvCxnSpPr>
            <a:stCxn id="1534" idx="2"/>
            <a:endCxn id="1557" idx="0"/>
          </p:cNvCxnSpPr>
          <p:nvPr/>
        </p:nvCxnSpPr>
        <p:spPr>
          <a:xfrm>
            <a:off x="2860560" y="4064040"/>
            <a:ext cx="14551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9" name=""/>
          <p:cNvCxnSpPr>
            <a:stCxn id="1534" idx="2"/>
          </p:cNvCxnSpPr>
          <p:nvPr/>
        </p:nvCxnSpPr>
        <p:spPr>
          <a:xfrm>
            <a:off x="2860560" y="4064040"/>
            <a:ext cx="244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2" name=""/>
          <p:cNvSpPr/>
          <p:nvPr/>
        </p:nvSpPr>
        <p:spPr>
          <a:xfrm>
            <a:off x="2732400" y="438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0" name=""/>
          <p:cNvCxnSpPr>
            <a:stCxn id="1548" idx="2"/>
            <a:endCxn id="1561" idx="0"/>
          </p:cNvCxnSpPr>
          <p:nvPr/>
        </p:nvCxnSpPr>
        <p:spPr>
          <a:xfrm>
            <a:off x="1571400" y="4777920"/>
            <a:ext cx="13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1" name=""/>
          <p:cNvSpPr/>
          <p:nvPr/>
        </p:nvSpPr>
        <p:spPr>
          <a:xfrm>
            <a:off x="1428840" y="5068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186440" y="5057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3" name=""/>
          <p:cNvCxnSpPr>
            <a:endCxn id="1562" idx="0"/>
          </p:cNvCxnSpPr>
          <p:nvPr/>
        </p:nvCxnSpPr>
        <p:spPr>
          <a:xfrm>
            <a:off x="4314600" y="4724280"/>
            <a:ext cx="38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4" name=""/>
          <p:cNvSpPr/>
          <p:nvPr/>
        </p:nvSpPr>
        <p:spPr>
          <a:xfrm>
            <a:off x="3837240" y="50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523040" y="50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6" name=""/>
          <p:cNvCxnSpPr>
            <a:endCxn id="1564" idx="0"/>
          </p:cNvCxnSpPr>
          <p:nvPr/>
        </p:nvCxnSpPr>
        <p:spPr>
          <a:xfrm flipH="1">
            <a:off x="3990600" y="4724280"/>
            <a:ext cx="3247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7" name=""/>
          <p:cNvCxnSpPr>
            <a:endCxn id="1565" idx="0"/>
          </p:cNvCxnSpPr>
          <p:nvPr/>
        </p:nvCxnSpPr>
        <p:spPr>
          <a:xfrm>
            <a:off x="4314600" y="4724280"/>
            <a:ext cx="36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8" name=""/>
          <p:cNvCxnSpPr>
            <a:stCxn id="1550" idx="2"/>
            <a:endCxn id="1569" idx="0"/>
          </p:cNvCxnSpPr>
          <p:nvPr/>
        </p:nvCxnSpPr>
        <p:spPr>
          <a:xfrm flipH="1">
            <a:off x="2931480" y="5450040"/>
            <a:ext cx="54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9" name=""/>
          <p:cNvSpPr/>
          <p:nvPr/>
        </p:nvSpPr>
        <p:spPr>
          <a:xfrm>
            <a:off x="2776680" y="571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0" name=""/>
          <p:cNvCxnSpPr>
            <a:stCxn id="1562" idx="2"/>
            <a:endCxn id="1571" idx="0"/>
          </p:cNvCxnSpPr>
          <p:nvPr/>
        </p:nvCxnSpPr>
        <p:spPr>
          <a:xfrm>
            <a:off x="4352400" y="5424120"/>
            <a:ext cx="19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1" name=""/>
          <p:cNvSpPr/>
          <p:nvPr/>
        </p:nvSpPr>
        <p:spPr>
          <a:xfrm>
            <a:off x="4216680" y="571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456520" y="72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3" name=""/>
          <p:cNvCxnSpPr>
            <a:stCxn id="1572" idx="2"/>
            <a:endCxn id="1574" idx="0"/>
          </p:cNvCxnSpPr>
          <p:nvPr/>
        </p:nvCxnSpPr>
        <p:spPr>
          <a:xfrm>
            <a:off x="5622840" y="1095120"/>
            <a:ext cx="136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548028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573800" y="72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6" name=""/>
          <p:cNvCxnSpPr>
            <a:stCxn id="1575" idx="2"/>
            <a:endCxn id="1577" idx="0"/>
          </p:cNvCxnSpPr>
          <p:nvPr/>
        </p:nvCxnSpPr>
        <p:spPr>
          <a:xfrm>
            <a:off x="4740120" y="1095120"/>
            <a:ext cx="136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459756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8" name=""/>
          <p:cNvCxnSpPr>
            <a:stCxn id="1513" idx="2"/>
            <a:endCxn id="1575" idx="0"/>
          </p:cNvCxnSpPr>
          <p:nvPr/>
        </p:nvCxnSpPr>
        <p:spPr>
          <a:xfrm>
            <a:off x="4114440" y="493200"/>
            <a:ext cx="62604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513" idx="2"/>
            <a:endCxn id="1572" idx="0"/>
          </p:cNvCxnSpPr>
          <p:nvPr/>
        </p:nvCxnSpPr>
        <p:spPr>
          <a:xfrm>
            <a:off x="4114440" y="493200"/>
            <a:ext cx="150876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2209680" y="495288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71800" y="37339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4038480" y="2971800"/>
            <a:ext cx="1676160" cy="228600"/>
            <a:chOff x="4038480" y="2971800"/>
            <a:chExt cx="1676160" cy="228600"/>
          </a:xfrm>
        </p:grpSpPr>
        <p:sp>
          <p:nvSpPr>
            <p:cNvPr id="1583" name=""/>
            <p:cNvSpPr/>
            <p:nvPr/>
          </p:nvSpPr>
          <p:spPr>
            <a:xfrm>
              <a:off x="4038480" y="2971800"/>
              <a:ext cx="1489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03848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1784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9720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87656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15592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35280" y="2971800"/>
              <a:ext cx="2793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 flipV="1">
            <a:off x="3734280" y="2361600"/>
            <a:ext cx="913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404240" y="265104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ta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287964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2304720" y="4704840"/>
            <a:ext cx="266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2304720" y="4438080"/>
            <a:ext cx="266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2304720" y="4171320"/>
            <a:ext cx="266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6" name=""/>
          <p:cNvCxnSpPr>
            <a:stCxn id="1581" idx="1"/>
            <a:endCxn id="1595" idx="3"/>
          </p:cNvCxnSpPr>
          <p:nvPr/>
        </p:nvCxnSpPr>
        <p:spPr>
          <a:xfrm flipV="1" rot="10800000">
            <a:off x="2437560" y="4037400"/>
            <a:ext cx="5342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7" name=""/>
          <p:cNvSpPr/>
          <p:nvPr/>
        </p:nvSpPr>
        <p:spPr>
          <a:xfrm rot="16200000">
            <a:off x="1849320" y="4688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9907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209680" y="51055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66880" y="50292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rot="15906000">
            <a:off x="914040" y="50288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80880" y="473724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Z, X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X, X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609480" y="5410080"/>
            <a:ext cx="3812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771640" y="4890960"/>
            <a:ext cx="7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X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5" name=""/>
          <p:cNvCxnSpPr>
            <a:stCxn id="1598" idx="6"/>
            <a:endCxn id="1599" idx="2"/>
          </p:cNvCxnSpPr>
          <p:nvPr/>
        </p:nvCxnSpPr>
        <p:spPr>
          <a:xfrm>
            <a:off x="159984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6" name=""/>
          <p:cNvSpPr/>
          <p:nvPr/>
        </p:nvSpPr>
        <p:spPr>
          <a:xfrm>
            <a:off x="1523880" y="5195880"/>
            <a:ext cx="73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X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4290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"/>
          <p:cNvCxnSpPr>
            <a:stCxn id="1599" idx="6"/>
            <a:endCxn id="1607" idx="2"/>
          </p:cNvCxnSpPr>
          <p:nvPr/>
        </p:nvCxnSpPr>
        <p:spPr>
          <a:xfrm>
            <a:off x="2819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9" name=""/>
          <p:cNvSpPr/>
          <p:nvPr/>
        </p:nvSpPr>
        <p:spPr>
          <a:xfrm>
            <a:off x="2743200" y="519588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532320" y="51814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914400" y="12826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33720" y="12826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590920" y="12063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rot="15906000">
            <a:off x="837720" y="12060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77000" y="609480"/>
            <a:ext cx="66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Z, 0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X, 0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Z, 1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X, 1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533520" y="158724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438280" y="914400"/>
            <a:ext cx="73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0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8" name=""/>
          <p:cNvCxnSpPr>
            <a:stCxn id="1611" idx="6"/>
            <a:endCxn id="1612" idx="2"/>
          </p:cNvCxnSpPr>
          <p:nvPr/>
        </p:nvCxnSpPr>
        <p:spPr>
          <a:xfrm>
            <a:off x="1523880" y="15872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9" name=""/>
          <p:cNvSpPr/>
          <p:nvPr/>
        </p:nvSpPr>
        <p:spPr>
          <a:xfrm>
            <a:off x="1447920" y="137304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2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352680" y="128268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1" name=""/>
          <p:cNvCxnSpPr>
            <a:stCxn id="1612" idx="6"/>
            <a:endCxn id="1620" idx="2"/>
          </p:cNvCxnSpPr>
          <p:nvPr/>
        </p:nvCxnSpPr>
        <p:spPr>
          <a:xfrm>
            <a:off x="2742840" y="1587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"/>
          <p:cNvSpPr/>
          <p:nvPr/>
        </p:nvSpPr>
        <p:spPr>
          <a:xfrm>
            <a:off x="2666880" y="137304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456000" y="13590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4771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934320" y="27432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rot="15906000">
            <a:off x="5181120" y="27428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20400" y="2209680"/>
            <a:ext cx="66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Z, 0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X, 0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Z, 1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X, 1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4876920" y="3124080"/>
            <a:ext cx="38088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781680" y="2451240"/>
            <a:ext cx="73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0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1" name=""/>
          <p:cNvCxnSpPr>
            <a:stCxn id="1624" idx="6"/>
            <a:endCxn id="1625" idx="2"/>
          </p:cNvCxnSpPr>
          <p:nvPr/>
        </p:nvCxnSpPr>
        <p:spPr>
          <a:xfrm>
            <a:off x="5867280" y="3123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2" name=""/>
          <p:cNvSpPr/>
          <p:nvPr/>
        </p:nvSpPr>
        <p:spPr>
          <a:xfrm>
            <a:off x="5791320" y="2909880"/>
            <a:ext cx="7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696080" y="28195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4" name=""/>
          <p:cNvCxnSpPr>
            <a:stCxn id="1625" idx="6"/>
            <a:endCxn id="1633" idx="2"/>
          </p:cNvCxnSpPr>
          <p:nvPr/>
        </p:nvCxnSpPr>
        <p:spPr>
          <a:xfrm>
            <a:off x="7086240" y="3123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5" name=""/>
          <p:cNvSpPr/>
          <p:nvPr/>
        </p:nvSpPr>
        <p:spPr>
          <a:xfrm>
            <a:off x="7010280" y="290988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799400" y="28954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819000" y="2971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038320" y="2971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495520" y="28954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rot="15906000">
            <a:off x="742680" y="28951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1600" y="2362320"/>
            <a:ext cx="66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Z, 0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X, 0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Z, 1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X, 1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438120" y="327636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343240" y="2603520"/>
            <a:ext cx="73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0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4" name=""/>
          <p:cNvCxnSpPr>
            <a:stCxn id="1637" idx="6"/>
            <a:endCxn id="1638" idx="2"/>
          </p:cNvCxnSpPr>
          <p:nvPr/>
        </p:nvCxnSpPr>
        <p:spPr>
          <a:xfrm>
            <a:off x="1428480" y="32763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5" name=""/>
          <p:cNvSpPr/>
          <p:nvPr/>
        </p:nvSpPr>
        <p:spPr>
          <a:xfrm>
            <a:off x="1352520" y="3062160"/>
            <a:ext cx="7333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0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1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257640" y="2971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7" name=""/>
          <p:cNvCxnSpPr>
            <a:stCxn id="1638" idx="6"/>
            <a:endCxn id="1646" idx="2"/>
          </p:cNvCxnSpPr>
          <p:nvPr/>
        </p:nvCxnSpPr>
        <p:spPr>
          <a:xfrm>
            <a:off x="2647800" y="32763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8" name=""/>
          <p:cNvSpPr/>
          <p:nvPr/>
        </p:nvSpPr>
        <p:spPr>
          <a:xfrm>
            <a:off x="2571840" y="306216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360600" y="3048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3886200" y="2514600"/>
            <a:ext cx="1828800" cy="182880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3048120"/>
            <a:ext cx="914400" cy="914400"/>
          </a:xfrm>
          <a:prstGeom prst="ellipse">
            <a:avLst/>
          </a:prstGeom>
          <a:solidFill>
            <a:srgbClr val="ffcc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PD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4267080" y="2895480"/>
            <a:ext cx="1190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PD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057400"/>
            <a:ext cx="2741760" cy="2741760"/>
          </a:xfrm>
          <a:prstGeom prst="ellipse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267080" y="2971800"/>
            <a:ext cx="1447920" cy="1523880"/>
          </a:xfrm>
          <a:prstGeom prst="ellipse">
            <a:avLst/>
          </a:prstGeom>
          <a:solidFill>
            <a:srgbClr val="ff99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 rot="282000">
            <a:off x="4043160" y="2286000"/>
            <a:ext cx="1523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 way + NPD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56" name=""/>
          <p:cNvSpPr txBox="1"/>
          <p:nvPr/>
        </p:nvSpPr>
        <p:spPr>
          <a:xfrm rot="8191800">
            <a:off x="5028480" y="3642840"/>
            <a:ext cx="52380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 way +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PDM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20574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76720" y="2057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273024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0" name=""/>
          <p:cNvCxnSpPr>
            <a:stCxn id="1657" idx="6"/>
            <a:endCxn id="1658" idx="2"/>
          </p:cNvCxnSpPr>
          <p:nvPr/>
        </p:nvCxnSpPr>
        <p:spPr>
          <a:xfrm flipV="1">
            <a:off x="2590560" y="2361960"/>
            <a:ext cx="686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1" name=""/>
          <p:cNvSpPr/>
          <p:nvPr/>
        </p:nvSpPr>
        <p:spPr>
          <a:xfrm rot="19802400">
            <a:off x="2514960" y="2285640"/>
            <a:ext cx="7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Z,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495680" y="2057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3" name=""/>
          <p:cNvCxnSpPr/>
          <p:nvPr/>
        </p:nvCxnSpPr>
        <p:spPr>
          <a:xfrm>
            <a:off x="3885840" y="2437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4" name=""/>
          <p:cNvSpPr/>
          <p:nvPr/>
        </p:nvSpPr>
        <p:spPr>
          <a:xfrm>
            <a:off x="3809880" y="213372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599000" y="2133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6" name=""/>
          <p:cNvCxnSpPr>
            <a:endCxn id="1658" idx="6"/>
          </p:cNvCxnSpPr>
          <p:nvPr/>
        </p:nvCxnSpPr>
        <p:spPr>
          <a:xfrm flipH="1">
            <a:off x="3885480" y="23619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7" name=""/>
          <p:cNvSpPr/>
          <p:nvPr/>
        </p:nvSpPr>
        <p:spPr>
          <a:xfrm>
            <a:off x="3809880" y="198108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809880" y="243828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38680" y="259092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0" name=""/>
          <p:cNvCxnSpPr>
            <a:endCxn id="1671" idx="2"/>
          </p:cNvCxnSpPr>
          <p:nvPr/>
        </p:nvCxnSpPr>
        <p:spPr>
          <a:xfrm>
            <a:off x="2514600" y="2895480"/>
            <a:ext cx="591120" cy="71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2" name=""/>
          <p:cNvSpPr/>
          <p:nvPr/>
        </p:nvSpPr>
        <p:spPr>
          <a:xfrm rot="2995800">
            <a:off x="2400480" y="299520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0,Z,Z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rot="3076200">
            <a:off x="2254320" y="310716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Z,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105000" y="3308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324320" y="3308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781520" y="32320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5906000">
            <a:off x="3028680" y="3231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985120" y="294012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0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1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4629240" y="294012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0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9" name=""/>
          <p:cNvCxnSpPr>
            <a:stCxn id="1671" idx="6"/>
            <a:endCxn id="1674" idx="2"/>
          </p:cNvCxnSpPr>
          <p:nvPr/>
        </p:nvCxnSpPr>
        <p:spPr>
          <a:xfrm>
            <a:off x="3714480" y="36129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0" name=""/>
          <p:cNvSpPr/>
          <p:nvPr/>
        </p:nvSpPr>
        <p:spPr>
          <a:xfrm>
            <a:off x="3638520" y="3398760"/>
            <a:ext cx="7333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0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1, X, 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543640" y="3308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lanc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2" name=""/>
          <p:cNvCxnSpPr>
            <a:stCxn id="1674" idx="6"/>
            <a:endCxn id="1681" idx="2"/>
          </p:cNvCxnSpPr>
          <p:nvPr/>
        </p:nvCxnSpPr>
        <p:spPr>
          <a:xfrm>
            <a:off x="4933800" y="36129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3" name=""/>
          <p:cNvSpPr/>
          <p:nvPr/>
        </p:nvSpPr>
        <p:spPr>
          <a:xfrm>
            <a:off x="4905360" y="35812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0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972040" y="32004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819760" y="290844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562720" y="4343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665680" y="4419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8" name=""/>
          <p:cNvCxnSpPr>
            <a:stCxn id="1681" idx="4"/>
            <a:endCxn id="1686" idx="0"/>
          </p:cNvCxnSpPr>
          <p:nvPr/>
        </p:nvCxnSpPr>
        <p:spPr>
          <a:xfrm>
            <a:off x="5847840" y="3917880"/>
            <a:ext cx="198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9" name=""/>
          <p:cNvSpPr/>
          <p:nvPr/>
        </p:nvSpPr>
        <p:spPr>
          <a:xfrm rot="5400000">
            <a:off x="5438160" y="4066920"/>
            <a:ext cx="7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Z,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349360" y="35053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a_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16400" y="3429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a_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968480" y="379692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3" name=""/>
          <p:cNvCxnSpPr>
            <a:stCxn id="1690" idx="6"/>
            <a:endCxn id="1691" idx="2"/>
          </p:cNvCxnSpPr>
          <p:nvPr/>
        </p:nvCxnSpPr>
        <p:spPr>
          <a:xfrm flipV="1">
            <a:off x="2882880" y="3733560"/>
            <a:ext cx="534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4" name=""/>
          <p:cNvSpPr/>
          <p:nvPr/>
        </p:nvSpPr>
        <p:spPr>
          <a:xfrm>
            <a:off x="4635360" y="34290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5" name=""/>
          <p:cNvCxnSpPr>
            <a:stCxn id="1691" idx="6"/>
            <a:endCxn id="1694" idx="2"/>
          </p:cNvCxnSpPr>
          <p:nvPr/>
        </p:nvCxnSpPr>
        <p:spPr>
          <a:xfrm>
            <a:off x="4025520" y="37335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6" name=""/>
          <p:cNvSpPr/>
          <p:nvPr/>
        </p:nvSpPr>
        <p:spPr>
          <a:xfrm>
            <a:off x="3949560" y="3519360"/>
            <a:ext cx="73368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1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0,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892520" y="312408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rot="18839400">
            <a:off x="2436840" y="3303360"/>
            <a:ext cx="30456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09080" y="342900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0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1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rot="20050200">
            <a:off x="3720960" y="32763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569040" y="29718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rot="18346800">
            <a:off x="4746600" y="3249360"/>
            <a:ext cx="297000" cy="2142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711680" y="2940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854680" y="3429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5" name=""/>
          <p:cNvCxnSpPr>
            <a:endCxn id="1704" idx="2"/>
          </p:cNvCxnSpPr>
          <p:nvPr/>
        </p:nvCxnSpPr>
        <p:spPr>
          <a:xfrm>
            <a:off x="5244840" y="37335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6" name=""/>
          <p:cNvSpPr/>
          <p:nvPr/>
        </p:nvSpPr>
        <p:spPr>
          <a:xfrm>
            <a:off x="5168880" y="351936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Z,Z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rot="18346800">
            <a:off x="5965560" y="3249000"/>
            <a:ext cx="297000" cy="21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931000" y="2940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931000" y="35053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429000" y="1905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1" name=""/>
          <p:cNvCxnSpPr>
            <a:stCxn id="1699" idx="1"/>
            <a:endCxn id="1710" idx="2"/>
          </p:cNvCxnSpPr>
          <p:nvPr/>
        </p:nvCxnSpPr>
        <p:spPr>
          <a:xfrm flipV="1">
            <a:off x="2808360" y="2209320"/>
            <a:ext cx="621000" cy="13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2" name=""/>
          <p:cNvSpPr/>
          <p:nvPr/>
        </p:nvSpPr>
        <p:spPr>
          <a:xfrm rot="17519400">
            <a:off x="2697120" y="2590560"/>
            <a:ext cx="7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Z,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648320" y="1905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4" name=""/>
          <p:cNvCxnSpPr/>
          <p:nvPr/>
        </p:nvCxnSpPr>
        <p:spPr>
          <a:xfrm>
            <a:off x="4038480" y="22856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5" name=""/>
          <p:cNvSpPr/>
          <p:nvPr/>
        </p:nvSpPr>
        <p:spPr>
          <a:xfrm>
            <a:off x="3962520" y="198108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751280" y="19810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7" name=""/>
          <p:cNvCxnSpPr>
            <a:endCxn id="1710" idx="6"/>
          </p:cNvCxnSpPr>
          <p:nvPr/>
        </p:nvCxnSpPr>
        <p:spPr>
          <a:xfrm flipH="1">
            <a:off x="4038120" y="22093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8" name=""/>
          <p:cNvSpPr/>
          <p:nvPr/>
        </p:nvSpPr>
        <p:spPr>
          <a:xfrm>
            <a:off x="3962520" y="182880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962520" y="228600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990960" y="243828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Z, Z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1905120" y="1079640"/>
            <a:ext cx="838080" cy="29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3656880" y="1079640"/>
            <a:ext cx="1676520" cy="291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572000" y="851040"/>
            <a:ext cx="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2692440" y="851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1924200" y="85716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6902280" y="863640"/>
                <a:ext cx="12708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105520" y="698400"/>
                <a:ext cx="368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4495680" y="45720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9" name=""/>
          <p:cNvSpPr/>
          <p:nvPr/>
        </p:nvSpPr>
        <p:spPr>
          <a:xfrm flipH="1">
            <a:off x="5334120" y="1079640"/>
            <a:ext cx="1676160" cy="291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743200" y="10666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666880" y="1066680"/>
            <a:ext cx="1526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257800" y="1066680"/>
            <a:ext cx="1522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25480" y="41148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-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28800" y="33526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ma-k=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444600" y="4406760"/>
            <a:ext cx="38088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6" name=""/>
          <p:cNvCxnSpPr>
            <a:stCxn id="1733" idx="6"/>
            <a:endCxn id="1734" idx="2"/>
          </p:cNvCxnSpPr>
          <p:nvPr/>
        </p:nvCxnSpPr>
        <p:spPr>
          <a:xfrm flipV="1">
            <a:off x="1358640" y="3656880"/>
            <a:ext cx="4705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7" name=""/>
          <p:cNvSpPr/>
          <p:nvPr/>
        </p:nvSpPr>
        <p:spPr>
          <a:xfrm>
            <a:off x="3048120" y="33526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-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8" name=""/>
          <p:cNvCxnSpPr>
            <a:stCxn id="1734" idx="6"/>
            <a:endCxn id="1737" idx="2"/>
          </p:cNvCxnSpPr>
          <p:nvPr/>
        </p:nvCxnSpPr>
        <p:spPr>
          <a:xfrm>
            <a:off x="2438280" y="36572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9" name=""/>
          <p:cNvSpPr/>
          <p:nvPr/>
        </p:nvSpPr>
        <p:spPr>
          <a:xfrm>
            <a:off x="368640" y="373392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18839400">
            <a:off x="912600" y="3912840"/>
            <a:ext cx="30492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rot="18368400">
            <a:off x="1281240" y="38419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0, -, 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18346800">
            <a:off x="3159000" y="3173040"/>
            <a:ext cx="297000" cy="2142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124080" y="2863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4" name=""/>
          <p:cNvCxnSpPr>
            <a:endCxn id="1745" idx="2"/>
          </p:cNvCxnSpPr>
          <p:nvPr/>
        </p:nvCxnSpPr>
        <p:spPr>
          <a:xfrm>
            <a:off x="3657600" y="36572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6" name=""/>
          <p:cNvSpPr/>
          <p:nvPr/>
        </p:nvSpPr>
        <p:spPr>
          <a:xfrm>
            <a:off x="3581280" y="344340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Z,Z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28800" y="48322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ma-k=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8" name=""/>
          <p:cNvCxnSpPr>
            <a:stCxn id="1733" idx="6"/>
            <a:endCxn id="1747" idx="2"/>
          </p:cNvCxnSpPr>
          <p:nvPr/>
        </p:nvCxnSpPr>
        <p:spPr>
          <a:xfrm>
            <a:off x="1358640" y="4381200"/>
            <a:ext cx="47052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9" name=""/>
          <p:cNvSpPr/>
          <p:nvPr/>
        </p:nvSpPr>
        <p:spPr>
          <a:xfrm>
            <a:off x="3048120" y="48322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-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0" name=""/>
          <p:cNvCxnSpPr>
            <a:stCxn id="1747" idx="6"/>
            <a:endCxn id="1749" idx="2"/>
          </p:cNvCxnSpPr>
          <p:nvPr/>
        </p:nvCxnSpPr>
        <p:spPr>
          <a:xfrm>
            <a:off x="2438280" y="51368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"/>
          <p:cNvSpPr/>
          <p:nvPr/>
        </p:nvSpPr>
        <p:spPr>
          <a:xfrm>
            <a:off x="2362320" y="4923000"/>
            <a:ext cx="73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-,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3711600">
            <a:off x="1196280" y="462096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1, -, 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18346800">
            <a:off x="3159000" y="4652640"/>
            <a:ext cx="297000" cy="2142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124080" y="43434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835760" y="42670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6" name=""/>
          <p:cNvCxnSpPr>
            <a:stCxn id="1749" idx="6"/>
            <a:endCxn id="1757" idx="2"/>
          </p:cNvCxnSpPr>
          <p:nvPr/>
        </p:nvCxnSpPr>
        <p:spPr>
          <a:xfrm>
            <a:off x="3657600" y="5136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8" name=""/>
          <p:cNvSpPr/>
          <p:nvPr/>
        </p:nvSpPr>
        <p:spPr>
          <a:xfrm>
            <a:off x="3581280" y="4923000"/>
            <a:ext cx="7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Z,Z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912080" y="43434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191120" y="48322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19292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rot="18839400">
            <a:off x="4305240" y="4630320"/>
            <a:ext cx="30492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191120" y="33526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192920" y="28638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rot="18839400">
            <a:off x="4305240" y="3150720"/>
            <a:ext cx="30492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362320" y="3429000"/>
            <a:ext cx="73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-,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410080" y="48322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rot="18346800">
            <a:off x="5521320" y="4652640"/>
            <a:ext cx="297000" cy="2142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486400" y="43434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8" name=""/>
          <p:cNvCxnSpPr>
            <a:stCxn id="1765" idx="6"/>
            <a:endCxn id="1769" idx="2"/>
          </p:cNvCxnSpPr>
          <p:nvPr/>
        </p:nvCxnSpPr>
        <p:spPr>
          <a:xfrm>
            <a:off x="6019560" y="5136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0" name=""/>
          <p:cNvSpPr/>
          <p:nvPr/>
        </p:nvSpPr>
        <p:spPr>
          <a:xfrm>
            <a:off x="5943600" y="492300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-, - 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553080" y="48322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55524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rot="18839400">
            <a:off x="6667560" y="4630320"/>
            <a:ext cx="30492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3" name=""/>
          <p:cNvCxnSpPr>
            <a:stCxn id="1757" idx="6"/>
            <a:endCxn id="1765" idx="2"/>
          </p:cNvCxnSpPr>
          <p:nvPr/>
        </p:nvCxnSpPr>
        <p:spPr>
          <a:xfrm>
            <a:off x="4800240" y="5136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4" name=""/>
          <p:cNvSpPr/>
          <p:nvPr/>
        </p:nvSpPr>
        <p:spPr>
          <a:xfrm>
            <a:off x="4753080" y="4937040"/>
            <a:ext cx="73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0, -,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69" idx="6"/>
            <a:endCxn id="1755" idx="2"/>
          </p:cNvCxnSpPr>
          <p:nvPr/>
        </p:nvCxnSpPr>
        <p:spPr>
          <a:xfrm flipV="1">
            <a:off x="7162560" y="4571640"/>
            <a:ext cx="6732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6" name=""/>
          <p:cNvSpPr/>
          <p:nvPr/>
        </p:nvSpPr>
        <p:spPr>
          <a:xfrm rot="19234200">
            <a:off x="7107840" y="46760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Z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5381640" y="33526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rot="18346800">
            <a:off x="5492520" y="3172680"/>
            <a:ext cx="297000" cy="21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457960" y="2863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7" idx="6"/>
            <a:endCxn id="1781" idx="2"/>
          </p:cNvCxnSpPr>
          <p:nvPr/>
        </p:nvCxnSpPr>
        <p:spPr>
          <a:xfrm>
            <a:off x="5991120" y="36572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2" name=""/>
          <p:cNvSpPr/>
          <p:nvPr/>
        </p:nvSpPr>
        <p:spPr>
          <a:xfrm>
            <a:off x="5915160" y="344340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- , - 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524640" y="33526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SH-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526440" y="28638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0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1, -, X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rot="18839400">
            <a:off x="6638760" y="3150720"/>
            <a:ext cx="30492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5" name=""/>
          <p:cNvCxnSpPr>
            <a:endCxn id="1777" idx="2"/>
          </p:cNvCxnSpPr>
          <p:nvPr/>
        </p:nvCxnSpPr>
        <p:spPr>
          <a:xfrm>
            <a:off x="4771800" y="36572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6" name=""/>
          <p:cNvSpPr/>
          <p:nvPr/>
        </p:nvSpPr>
        <p:spPr>
          <a:xfrm>
            <a:off x="4724280" y="3457440"/>
            <a:ext cx="73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0, -,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1" idx="6"/>
            <a:endCxn id="1755" idx="2"/>
          </p:cNvCxnSpPr>
          <p:nvPr/>
        </p:nvCxnSpPr>
        <p:spPr>
          <a:xfrm>
            <a:off x="7133760" y="3657600"/>
            <a:ext cx="7023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8" name=""/>
          <p:cNvSpPr/>
          <p:nvPr/>
        </p:nvSpPr>
        <p:spPr>
          <a:xfrm rot="3226800">
            <a:off x="7125120" y="37904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Z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609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5968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796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31240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914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5800" y="2984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09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6494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ond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096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1828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219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828440" y="1219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16080" y="1447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53960" y="1447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236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3224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0240" y="3313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088200">
            <a:off x="1219320" y="30477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541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54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4080" y="28195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236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32767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ond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3240" y="3313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354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8597400">
            <a:off x="1104840" y="221796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6" y="25"/>
                </a:moveTo>
                <a:arcTo wR="10800" hR="10800" stAng="-5633924" swAng="4842112"/>
                <a:lnTo>
                  <a:pt x="10800" y="10800"/>
                </a:lnTo>
                <a:close/>
              </a:path>
              <a:path fill="none" w="21600" h="21600">
                <a:moveTo>
                  <a:pt x="10066" y="25"/>
                </a:moveTo>
                <a:arcTo wR="10800" hR="10800" stAng="-5633924" swAng="484211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0240" y="3886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658800">
            <a:off x="-583560" y="283320"/>
            <a:ext cx="5336280" cy="34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8" y="6572"/>
                </a:moveTo>
                <a:arcTo wR="10800" hR="10800" stAng="-1382879" swAng="5090148"/>
                <a:lnTo>
                  <a:pt x="10800" y="10800"/>
                </a:lnTo>
                <a:close/>
              </a:path>
              <a:path fill="none" w="21600" h="21600">
                <a:moveTo>
                  <a:pt x="20738" y="6572"/>
                </a:moveTo>
                <a:arcTo wR="10800" hR="10800" stAng="-1382879" swAng="509014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49240" y="4267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32767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54212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92280" y="5281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55213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6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088200">
            <a:off x="685800" y="53449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1440" y="583884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920" y="5181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9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8597400">
            <a:off x="458640" y="449136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6" y="25"/>
                </a:moveTo>
                <a:arcTo wR="10800" hR="10800" stAng="-5633924" swAng="4842112"/>
                <a:lnTo>
                  <a:pt x="10800" y="10800"/>
                </a:lnTo>
                <a:close/>
              </a:path>
              <a:path fill="none" w="21600" h="21600">
                <a:moveTo>
                  <a:pt x="10066" y="25"/>
                </a:moveTo>
                <a:arcTo wR="10800" hR="10800" stAng="-5633924" swAng="484211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6248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5549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67360" y="55627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1160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3384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272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54500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34040" y="554976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77040" y="5562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2128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43880" y="5867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644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658800">
            <a:off x="-2265480" y="-2212920"/>
            <a:ext cx="9075240" cy="838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5" y="11887"/>
                </a:moveTo>
                <a:arcTo wR="10800" hR="10800" stAng="346638" swAng="2574356"/>
                <a:lnTo>
                  <a:pt x="10800" y="10800"/>
                </a:lnTo>
                <a:close/>
              </a:path>
              <a:path fill="none" w="21600" h="21600">
                <a:moveTo>
                  <a:pt x="21545" y="11887"/>
                </a:moveTo>
                <a:arcTo wR="10800" hR="10800" stAng="346638" swAng="257435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6324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4111400">
            <a:off x="-1195200" y="5056200"/>
            <a:ext cx="8790120" cy="88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7" y="12052"/>
                </a:moveTo>
                <a:arcTo wR="10800" hR="10800" stAng="399575" swAng="3386852"/>
                <a:lnTo>
                  <a:pt x="10800" y="10800"/>
                </a:lnTo>
                <a:close/>
              </a:path>
              <a:path fill="none" w="21600" h="21600">
                <a:moveTo>
                  <a:pt x="21527" y="12052"/>
                </a:moveTo>
                <a:arcTo wR="10800" hR="10800" stAng="399575" swAng="3386852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30480" y="5029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3658800">
            <a:off x="62280" y="-2233440"/>
            <a:ext cx="9075240" cy="83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6" y="12061"/>
                </a:moveTo>
                <a:arcTo wR="10800" hR="10800" stAng="402371" swAng="2518623"/>
                <a:lnTo>
                  <a:pt x="10800" y="10800"/>
                </a:lnTo>
                <a:close/>
              </a:path>
              <a:path fill="none" w="21600" h="21600">
                <a:moveTo>
                  <a:pt x="21526" y="12061"/>
                </a:moveTo>
                <a:arcTo wR="10800" hR="10800" stAng="402371" swAng="2518623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2960" y="6248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1280" y="53341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54800" y="56023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1650960" y="3016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806560" y="236232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1270080" y="330804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2" name=""/>
          <p:cNvCxnSpPr>
            <a:stCxn id="1789" idx="6"/>
            <a:endCxn id="1790" idx="2"/>
          </p:cNvCxnSpPr>
          <p:nvPr/>
        </p:nvCxnSpPr>
        <p:spPr>
          <a:xfrm flipV="1">
            <a:off x="2184480" y="3276000"/>
            <a:ext cx="6228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3" name=""/>
          <p:cNvSpPr/>
          <p:nvPr/>
        </p:nvSpPr>
        <p:spPr>
          <a:xfrm>
            <a:off x="2121120" y="3276720"/>
            <a:ext cx="72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Z,AZ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3366720" y="1929960"/>
            <a:ext cx="77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A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327480" y="1523880"/>
            <a:ext cx="164880" cy="165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6" name=""/>
          <p:cNvCxnSpPr>
            <a:stCxn id="1790" idx="0"/>
            <a:endCxn id="1795" idx="6"/>
          </p:cNvCxnSpPr>
          <p:nvPr/>
        </p:nvCxnSpPr>
        <p:spPr>
          <a:xfrm flipV="1" rot="16200000">
            <a:off x="3228120" y="1869480"/>
            <a:ext cx="75636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7" name=""/>
          <p:cNvCxnSpPr>
            <a:stCxn id="1795" idx="4"/>
          </p:cNvCxnSpPr>
          <p:nvPr/>
        </p:nvCxnSpPr>
        <p:spPr>
          <a:xfrm flipH="1" rot="16200000">
            <a:off x="3075480" y="2022120"/>
            <a:ext cx="749880" cy="8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8" name=""/>
          <p:cNvSpPr/>
          <p:nvPr/>
        </p:nvSpPr>
        <p:spPr>
          <a:xfrm rot="16021200">
            <a:off x="3164760" y="1965600"/>
            <a:ext cx="7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-, BC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9" name=""/>
          <p:cNvCxnSpPr>
            <a:stCxn id="1795" idx="2"/>
          </p:cNvCxnSpPr>
          <p:nvPr/>
        </p:nvCxnSpPr>
        <p:spPr>
          <a:xfrm flipV="1" rot="10800000">
            <a:off x="3233160" y="1605600"/>
            <a:ext cx="94320" cy="93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0" name=""/>
          <p:cNvSpPr/>
          <p:nvPr/>
        </p:nvSpPr>
        <p:spPr>
          <a:xfrm rot="16200000">
            <a:off x="2936160" y="1959120"/>
            <a:ext cx="7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-, AB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1" name=""/>
          <p:cNvCxnSpPr>
            <a:stCxn id="1795" idx="2"/>
          </p:cNvCxnSpPr>
          <p:nvPr/>
        </p:nvCxnSpPr>
        <p:spPr>
          <a:xfrm flipV="1" rot="10800000">
            <a:off x="3017160" y="1606320"/>
            <a:ext cx="310320" cy="108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2" name=""/>
          <p:cNvSpPr/>
          <p:nvPr/>
        </p:nvSpPr>
        <p:spPr>
          <a:xfrm rot="16200000">
            <a:off x="2678760" y="207720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1, -, 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7931000">
            <a:off x="4365000" y="2214720"/>
            <a:ext cx="77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B ,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4" name=""/>
          <p:cNvCxnSpPr>
            <a:stCxn id="1790" idx="7"/>
            <a:endCxn id="1805" idx="4"/>
          </p:cNvCxnSpPr>
          <p:nvPr/>
        </p:nvCxnSpPr>
        <p:spPr>
          <a:xfrm flipH="1" flipV="1" rot="5400000">
            <a:off x="4169160" y="1970280"/>
            <a:ext cx="857880" cy="462600"/>
          </a:xfrm>
          <a:prstGeom prst="curvedConnector5">
            <a:avLst>
              <a:gd name="adj1" fmla="val 24601"/>
              <a:gd name="adj2" fmla="val 50000"/>
              <a:gd name="adj3" fmla="val 24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6" name=""/>
          <p:cNvCxnSpPr/>
          <p:nvPr/>
        </p:nvCxnSpPr>
        <p:spPr>
          <a:xfrm flipV="1" rot="10800000">
            <a:off x="4263480" y="1756800"/>
            <a:ext cx="533880" cy="77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7" name=""/>
          <p:cNvSpPr/>
          <p:nvPr/>
        </p:nvSpPr>
        <p:spPr>
          <a:xfrm rot="18154200">
            <a:off x="4178880" y="2034000"/>
            <a:ext cx="7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-, AA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8" name=""/>
          <p:cNvCxnSpPr/>
          <p:nvPr/>
        </p:nvCxnSpPr>
        <p:spPr>
          <a:xfrm flipV="1" rot="10800000">
            <a:off x="4081320" y="1664640"/>
            <a:ext cx="797040" cy="80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9" name=""/>
          <p:cNvSpPr/>
          <p:nvPr/>
        </p:nvSpPr>
        <p:spPr>
          <a:xfrm rot="17931000">
            <a:off x="3981600" y="186624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0, -, 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731000">
            <a:off x="4787640" y="1619280"/>
            <a:ext cx="164880" cy="165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397480" y="3187800"/>
            <a:ext cx="165240" cy="164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"/>
          <p:cNvCxnSpPr>
            <a:endCxn id="1810" idx="0"/>
          </p:cNvCxnSpPr>
          <p:nvPr/>
        </p:nvCxnSpPr>
        <p:spPr>
          <a:xfrm>
            <a:off x="4635360" y="3112920"/>
            <a:ext cx="845280" cy="7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2" name=""/>
          <p:cNvSpPr/>
          <p:nvPr/>
        </p:nvSpPr>
        <p:spPr>
          <a:xfrm>
            <a:off x="4559040" y="2895480"/>
            <a:ext cx="77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C, Po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0" idx="4"/>
          </p:cNvCxnSpPr>
          <p:nvPr/>
        </p:nvCxnSpPr>
        <p:spPr>
          <a:xfrm rot="5400000">
            <a:off x="4675680" y="3083040"/>
            <a:ext cx="534240" cy="10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4" name=""/>
          <p:cNvCxnSpPr>
            <a:stCxn id="1810" idx="2"/>
          </p:cNvCxnSpPr>
          <p:nvPr/>
        </p:nvCxnSpPr>
        <p:spPr>
          <a:xfrm flipV="1" rot="10800000">
            <a:off x="4628520" y="3270240"/>
            <a:ext cx="768960" cy="306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5" name=""/>
          <p:cNvCxnSpPr>
            <a:stCxn id="1810" idx="3"/>
          </p:cNvCxnSpPr>
          <p:nvPr/>
        </p:nvCxnSpPr>
        <p:spPr>
          <a:xfrm rot="5400000">
            <a:off x="4863600" y="3024000"/>
            <a:ext cx="253080" cy="862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6" name=""/>
          <p:cNvSpPr/>
          <p:nvPr/>
        </p:nvSpPr>
        <p:spPr>
          <a:xfrm rot="21466200">
            <a:off x="4632480" y="3107880"/>
            <a:ext cx="7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-, CB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555800" y="3352680"/>
            <a:ext cx="58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, -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482720" y="3809880"/>
            <a:ext cx="58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, -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429000" y="4800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505320" y="48769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790" idx="4"/>
            <a:endCxn id="1819" idx="0"/>
          </p:cNvCxnSpPr>
          <p:nvPr/>
        </p:nvCxnSpPr>
        <p:spPr>
          <a:xfrm>
            <a:off x="3720960" y="4190760"/>
            <a:ext cx="13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2" name=""/>
          <p:cNvSpPr/>
          <p:nvPr/>
        </p:nvSpPr>
        <p:spPr>
          <a:xfrm>
            <a:off x="2276640" y="42512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1, Z,A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from CNF to P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ome flavor of right-most de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mping Lemma [Bar Hillel lemma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SMs we used a diagonalization tool called the 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rick for PDMs may no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1101001 is accepted by an FSM, then 1101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10010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should also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ame does not hold for PDMs, because the transitions are determined not only based on tape symbol but also based on symbol on top of th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ically, you look at pumping lemma for Context free languages through the grammars (CFGs) rather than the machine equivalents (PD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mping lemma and parse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gram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C |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 | 1 |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 |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str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1100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corresponding pars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9481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125880" y="2847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1" name=""/>
          <p:cNvCxnSpPr>
            <a:stCxn id="1829" idx="2"/>
            <a:endCxn id="1830" idx="0"/>
          </p:cNvCxnSpPr>
          <p:nvPr/>
        </p:nvCxnSpPr>
        <p:spPr>
          <a:xfrm flipH="1">
            <a:off x="3292200" y="2728440"/>
            <a:ext cx="8229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2" name=""/>
          <p:cNvSpPr/>
          <p:nvPr/>
        </p:nvSpPr>
        <p:spPr>
          <a:xfrm>
            <a:off x="480240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29" idx="2"/>
            <a:endCxn id="1832" idx="0"/>
          </p:cNvCxnSpPr>
          <p:nvPr/>
        </p:nvCxnSpPr>
        <p:spPr>
          <a:xfrm>
            <a:off x="4114800" y="2728800"/>
            <a:ext cx="8611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4" name=""/>
          <p:cNvSpPr/>
          <p:nvPr/>
        </p:nvSpPr>
        <p:spPr>
          <a:xfrm>
            <a:off x="4650120" y="34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5" name=""/>
          <p:cNvCxnSpPr>
            <a:stCxn id="1832" idx="2"/>
            <a:endCxn id="1834" idx="0"/>
          </p:cNvCxnSpPr>
          <p:nvPr/>
        </p:nvCxnSpPr>
        <p:spPr>
          <a:xfrm flipH="1">
            <a:off x="4815720" y="3185640"/>
            <a:ext cx="1594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6" name=""/>
          <p:cNvSpPr/>
          <p:nvPr/>
        </p:nvSpPr>
        <p:spPr>
          <a:xfrm>
            <a:off x="4986360" y="34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7" name=""/>
          <p:cNvCxnSpPr>
            <a:stCxn id="1832" idx="2"/>
            <a:endCxn id="1836" idx="0"/>
          </p:cNvCxnSpPr>
          <p:nvPr/>
        </p:nvCxnSpPr>
        <p:spPr>
          <a:xfrm>
            <a:off x="4975200" y="3185640"/>
            <a:ext cx="1782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8" name=""/>
          <p:cNvSpPr/>
          <p:nvPr/>
        </p:nvSpPr>
        <p:spPr>
          <a:xfrm>
            <a:off x="2440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9" name=""/>
          <p:cNvCxnSpPr>
            <a:stCxn id="1830" idx="2"/>
            <a:endCxn id="1838" idx="0"/>
          </p:cNvCxnSpPr>
          <p:nvPr/>
        </p:nvCxnSpPr>
        <p:spPr>
          <a:xfrm flipH="1">
            <a:off x="2606040" y="3214440"/>
            <a:ext cx="68652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0" name=""/>
          <p:cNvSpPr/>
          <p:nvPr/>
        </p:nvSpPr>
        <p:spPr>
          <a:xfrm>
            <a:off x="37036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1" name=""/>
          <p:cNvCxnSpPr>
            <a:stCxn id="1830" idx="2"/>
            <a:endCxn id="1840" idx="0"/>
          </p:cNvCxnSpPr>
          <p:nvPr/>
        </p:nvCxnSpPr>
        <p:spPr>
          <a:xfrm>
            <a:off x="3292200" y="3214440"/>
            <a:ext cx="57852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2" name=""/>
          <p:cNvSpPr/>
          <p:nvPr/>
        </p:nvSpPr>
        <p:spPr>
          <a:xfrm>
            <a:off x="32785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3" name=""/>
          <p:cNvCxnSpPr>
            <a:stCxn id="1840" idx="2"/>
            <a:endCxn id="1842" idx="0"/>
          </p:cNvCxnSpPr>
          <p:nvPr/>
        </p:nvCxnSpPr>
        <p:spPr>
          <a:xfrm flipH="1">
            <a:off x="3444480" y="3719160"/>
            <a:ext cx="4262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4" name=""/>
          <p:cNvSpPr/>
          <p:nvPr/>
        </p:nvSpPr>
        <p:spPr>
          <a:xfrm>
            <a:off x="4148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5" name=""/>
          <p:cNvCxnSpPr>
            <a:stCxn id="1840" idx="2"/>
            <a:endCxn id="1844" idx="0"/>
          </p:cNvCxnSpPr>
          <p:nvPr/>
        </p:nvCxnSpPr>
        <p:spPr>
          <a:xfrm>
            <a:off x="3870360" y="3719160"/>
            <a:ext cx="4514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6" name=""/>
          <p:cNvSpPr/>
          <p:nvPr/>
        </p:nvSpPr>
        <p:spPr>
          <a:xfrm>
            <a:off x="3811680" y="4586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7" name=""/>
          <p:cNvCxnSpPr>
            <a:stCxn id="1844" idx="2"/>
            <a:endCxn id="1846" idx="0"/>
          </p:cNvCxnSpPr>
          <p:nvPr/>
        </p:nvCxnSpPr>
        <p:spPr>
          <a:xfrm flipH="1">
            <a:off x="3978000" y="4328640"/>
            <a:ext cx="34344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8" name=""/>
          <p:cNvSpPr/>
          <p:nvPr/>
        </p:nvSpPr>
        <p:spPr>
          <a:xfrm>
            <a:off x="4542120" y="4586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9" name=""/>
          <p:cNvCxnSpPr>
            <a:stCxn id="1844" idx="2"/>
            <a:endCxn id="1848" idx="0"/>
          </p:cNvCxnSpPr>
          <p:nvPr/>
        </p:nvCxnSpPr>
        <p:spPr>
          <a:xfrm>
            <a:off x="4321080" y="4328640"/>
            <a:ext cx="3880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0" name=""/>
          <p:cNvCxnSpPr>
            <a:stCxn id="1838" idx="2"/>
            <a:endCxn id="1851" idx="0"/>
          </p:cNvCxnSpPr>
          <p:nvPr/>
        </p:nvCxnSpPr>
        <p:spPr>
          <a:xfrm flipH="1">
            <a:off x="2601360" y="3719160"/>
            <a:ext cx="54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1" name=""/>
          <p:cNvSpPr/>
          <p:nvPr/>
        </p:nvSpPr>
        <p:spPr>
          <a:xfrm>
            <a:off x="2462040" y="3962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2" name=""/>
          <p:cNvCxnSpPr>
            <a:stCxn id="1842" idx="2"/>
            <a:endCxn id="1853" idx="0"/>
          </p:cNvCxnSpPr>
          <p:nvPr/>
        </p:nvCxnSpPr>
        <p:spPr>
          <a:xfrm flipH="1">
            <a:off x="3439440" y="4328640"/>
            <a:ext cx="54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3" name=""/>
          <p:cNvSpPr/>
          <p:nvPr/>
        </p:nvSpPr>
        <p:spPr>
          <a:xfrm>
            <a:off x="3300120" y="457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35780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5" name=""/>
          <p:cNvCxnSpPr>
            <a:stCxn id="1848" idx="2"/>
            <a:endCxn id="1854" idx="0"/>
          </p:cNvCxnSpPr>
          <p:nvPr/>
        </p:nvCxnSpPr>
        <p:spPr>
          <a:xfrm flipH="1">
            <a:off x="4530600" y="4952520"/>
            <a:ext cx="1782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6" name=""/>
          <p:cNvSpPr/>
          <p:nvPr/>
        </p:nvSpPr>
        <p:spPr>
          <a:xfrm>
            <a:off x="469440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7" name=""/>
          <p:cNvCxnSpPr>
            <a:stCxn id="1848" idx="2"/>
            <a:endCxn id="1856" idx="0"/>
          </p:cNvCxnSpPr>
          <p:nvPr/>
        </p:nvCxnSpPr>
        <p:spPr>
          <a:xfrm>
            <a:off x="4708080" y="4952520"/>
            <a:ext cx="1594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8" name=""/>
          <p:cNvSpPr/>
          <p:nvPr/>
        </p:nvSpPr>
        <p:spPr>
          <a:xfrm>
            <a:off x="365940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9" name=""/>
          <p:cNvCxnSpPr>
            <a:stCxn id="1846" idx="2"/>
            <a:endCxn id="1858" idx="0"/>
          </p:cNvCxnSpPr>
          <p:nvPr/>
        </p:nvCxnSpPr>
        <p:spPr>
          <a:xfrm flipH="1">
            <a:off x="3825360" y="4952520"/>
            <a:ext cx="1533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0" name=""/>
          <p:cNvSpPr/>
          <p:nvPr/>
        </p:nvSpPr>
        <p:spPr>
          <a:xfrm>
            <a:off x="399600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46" idx="2"/>
            <a:endCxn id="1860" idx="0"/>
          </p:cNvCxnSpPr>
          <p:nvPr/>
        </p:nvCxnSpPr>
        <p:spPr>
          <a:xfrm>
            <a:off x="3978000" y="4952520"/>
            <a:ext cx="1911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2" name=""/>
          <p:cNvCxnSpPr>
            <a:stCxn id="1856" idx="2"/>
            <a:endCxn id="1863" idx="0"/>
          </p:cNvCxnSpPr>
          <p:nvPr/>
        </p:nvCxnSpPr>
        <p:spPr>
          <a:xfrm flipH="1">
            <a:off x="4865400" y="5562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3" name=""/>
          <p:cNvSpPr/>
          <p:nvPr/>
        </p:nvSpPr>
        <p:spPr>
          <a:xfrm>
            <a:off x="4725720" y="5791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4" name=""/>
          <p:cNvCxnSpPr>
            <a:stCxn id="1854" idx="2"/>
            <a:endCxn id="1865" idx="0"/>
          </p:cNvCxnSpPr>
          <p:nvPr/>
        </p:nvCxnSpPr>
        <p:spPr>
          <a:xfrm>
            <a:off x="4530600" y="5562360"/>
            <a:ext cx="30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5" name=""/>
          <p:cNvSpPr/>
          <p:nvPr/>
        </p:nvSpPr>
        <p:spPr>
          <a:xfrm>
            <a:off x="4421160" y="5791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6" name=""/>
          <p:cNvCxnSpPr>
            <a:stCxn id="1860" idx="2"/>
            <a:endCxn id="1867" idx="0"/>
          </p:cNvCxnSpPr>
          <p:nvPr/>
        </p:nvCxnSpPr>
        <p:spPr>
          <a:xfrm>
            <a:off x="4168440" y="556236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7" name=""/>
          <p:cNvSpPr/>
          <p:nvPr/>
        </p:nvSpPr>
        <p:spPr>
          <a:xfrm>
            <a:off x="4039920" y="5791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8" name=""/>
          <p:cNvCxnSpPr>
            <a:endCxn id="1869" idx="0"/>
          </p:cNvCxnSpPr>
          <p:nvPr/>
        </p:nvCxnSpPr>
        <p:spPr>
          <a:xfrm>
            <a:off x="3809520" y="556236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9" name=""/>
          <p:cNvSpPr/>
          <p:nvPr/>
        </p:nvSpPr>
        <p:spPr>
          <a:xfrm>
            <a:off x="3681360" y="5791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0" name=""/>
          <p:cNvCxnSpPr>
            <a:stCxn id="1836" idx="2"/>
            <a:endCxn id="1871" idx="0"/>
          </p:cNvCxnSpPr>
          <p:nvPr/>
        </p:nvCxnSpPr>
        <p:spPr>
          <a:xfrm>
            <a:off x="5153040" y="3809520"/>
            <a:ext cx="18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1" name=""/>
          <p:cNvSpPr/>
          <p:nvPr/>
        </p:nvSpPr>
        <p:spPr>
          <a:xfrm>
            <a:off x="5030640" y="4038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2" name=""/>
          <p:cNvCxnSpPr>
            <a:stCxn id="1834" idx="2"/>
            <a:endCxn id="1873" idx="0"/>
          </p:cNvCxnSpPr>
          <p:nvPr/>
        </p:nvCxnSpPr>
        <p:spPr>
          <a:xfrm flipH="1">
            <a:off x="4811040" y="38095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3" name=""/>
          <p:cNvSpPr/>
          <p:nvPr/>
        </p:nvSpPr>
        <p:spPr>
          <a:xfrm>
            <a:off x="4671720" y="4038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in the parse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re are only 3 non-terminals, if we find a path of length &gt;= 4 starting from a leaf, we will find a dupl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non-terminal that repeats itself on a path form a leaf to the root marks a duplicate (marked with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se tree be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94812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12588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8" name=""/>
          <p:cNvCxnSpPr>
            <a:stCxn id="1876" idx="2"/>
            <a:endCxn id="1877" idx="0"/>
          </p:cNvCxnSpPr>
          <p:nvPr/>
        </p:nvCxnSpPr>
        <p:spPr>
          <a:xfrm flipH="1">
            <a:off x="3292200" y="3261960"/>
            <a:ext cx="8229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9" name=""/>
          <p:cNvSpPr/>
          <p:nvPr/>
        </p:nvSpPr>
        <p:spPr>
          <a:xfrm>
            <a:off x="480240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0" name=""/>
          <p:cNvCxnSpPr>
            <a:stCxn id="1876" idx="2"/>
            <a:endCxn id="1879" idx="0"/>
          </p:cNvCxnSpPr>
          <p:nvPr/>
        </p:nvCxnSpPr>
        <p:spPr>
          <a:xfrm>
            <a:off x="4114800" y="3261960"/>
            <a:ext cx="86112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1" name=""/>
          <p:cNvSpPr/>
          <p:nvPr/>
        </p:nvSpPr>
        <p:spPr>
          <a:xfrm>
            <a:off x="4650120" y="397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2" name=""/>
          <p:cNvCxnSpPr>
            <a:stCxn id="1879" idx="2"/>
            <a:endCxn id="1881" idx="0"/>
          </p:cNvCxnSpPr>
          <p:nvPr/>
        </p:nvCxnSpPr>
        <p:spPr>
          <a:xfrm flipH="1">
            <a:off x="4815720" y="3719520"/>
            <a:ext cx="15948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3" name=""/>
          <p:cNvSpPr/>
          <p:nvPr/>
        </p:nvSpPr>
        <p:spPr>
          <a:xfrm>
            <a:off x="4986360" y="397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4" name=""/>
          <p:cNvCxnSpPr>
            <a:stCxn id="1879" idx="2"/>
            <a:endCxn id="1883" idx="0"/>
          </p:cNvCxnSpPr>
          <p:nvPr/>
        </p:nvCxnSpPr>
        <p:spPr>
          <a:xfrm>
            <a:off x="4975200" y="3719520"/>
            <a:ext cx="17820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5" name=""/>
          <p:cNvSpPr/>
          <p:nvPr/>
        </p:nvSpPr>
        <p:spPr>
          <a:xfrm>
            <a:off x="2440080" y="38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6" name=""/>
          <p:cNvCxnSpPr>
            <a:stCxn id="1877" idx="2"/>
            <a:endCxn id="1885" idx="0"/>
          </p:cNvCxnSpPr>
          <p:nvPr/>
        </p:nvCxnSpPr>
        <p:spPr>
          <a:xfrm flipH="1">
            <a:off x="2606040" y="3747960"/>
            <a:ext cx="68652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3703680" y="3886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8" name=""/>
          <p:cNvCxnSpPr>
            <a:stCxn id="1877" idx="2"/>
            <a:endCxn id="1887" idx="0"/>
          </p:cNvCxnSpPr>
          <p:nvPr/>
        </p:nvCxnSpPr>
        <p:spPr>
          <a:xfrm>
            <a:off x="3292560" y="3747960"/>
            <a:ext cx="62280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9" name=""/>
          <p:cNvSpPr/>
          <p:nvPr/>
        </p:nvSpPr>
        <p:spPr>
          <a:xfrm>
            <a:off x="327852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0" name=""/>
          <p:cNvCxnSpPr>
            <a:stCxn id="1887" idx="2"/>
            <a:endCxn id="1889" idx="0"/>
          </p:cNvCxnSpPr>
          <p:nvPr/>
        </p:nvCxnSpPr>
        <p:spPr>
          <a:xfrm flipH="1">
            <a:off x="3444120" y="4253040"/>
            <a:ext cx="470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1" name=""/>
          <p:cNvSpPr/>
          <p:nvPr/>
        </p:nvSpPr>
        <p:spPr>
          <a:xfrm>
            <a:off x="41482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2" name=""/>
          <p:cNvCxnSpPr>
            <a:stCxn id="1887" idx="2"/>
            <a:endCxn id="1891" idx="0"/>
          </p:cNvCxnSpPr>
          <p:nvPr/>
        </p:nvCxnSpPr>
        <p:spPr>
          <a:xfrm>
            <a:off x="3914280" y="4253040"/>
            <a:ext cx="40716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3" name=""/>
          <p:cNvSpPr/>
          <p:nvPr/>
        </p:nvSpPr>
        <p:spPr>
          <a:xfrm>
            <a:off x="3811680" y="511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4" name=""/>
          <p:cNvCxnSpPr>
            <a:stCxn id="1891" idx="2"/>
            <a:endCxn id="1893" idx="0"/>
          </p:cNvCxnSpPr>
          <p:nvPr/>
        </p:nvCxnSpPr>
        <p:spPr>
          <a:xfrm flipH="1">
            <a:off x="4021920" y="4862520"/>
            <a:ext cx="2991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5" name=""/>
          <p:cNvSpPr/>
          <p:nvPr/>
        </p:nvSpPr>
        <p:spPr>
          <a:xfrm>
            <a:off x="454212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6" name=""/>
          <p:cNvCxnSpPr>
            <a:stCxn id="1891" idx="2"/>
            <a:endCxn id="1895" idx="0"/>
          </p:cNvCxnSpPr>
          <p:nvPr/>
        </p:nvCxnSpPr>
        <p:spPr>
          <a:xfrm>
            <a:off x="4321080" y="4862520"/>
            <a:ext cx="38808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7" name=""/>
          <p:cNvCxnSpPr>
            <a:stCxn id="1885" idx="2"/>
            <a:endCxn id="1898" idx="0"/>
          </p:cNvCxnSpPr>
          <p:nvPr/>
        </p:nvCxnSpPr>
        <p:spPr>
          <a:xfrm flipH="1">
            <a:off x="2601360" y="4253040"/>
            <a:ext cx="540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8" name=""/>
          <p:cNvSpPr/>
          <p:nvPr/>
        </p:nvSpPr>
        <p:spPr>
          <a:xfrm>
            <a:off x="2462040" y="4495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9" name=""/>
          <p:cNvCxnSpPr>
            <a:stCxn id="1889" idx="2"/>
            <a:endCxn id="1900" idx="0"/>
          </p:cNvCxnSpPr>
          <p:nvPr/>
        </p:nvCxnSpPr>
        <p:spPr>
          <a:xfrm flipH="1">
            <a:off x="3439440" y="4862160"/>
            <a:ext cx="54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0" name=""/>
          <p:cNvSpPr/>
          <p:nvPr/>
        </p:nvSpPr>
        <p:spPr>
          <a:xfrm>
            <a:off x="330012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357800" y="5729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2" name=""/>
          <p:cNvCxnSpPr>
            <a:stCxn id="1895" idx="2"/>
            <a:endCxn id="1901" idx="0"/>
          </p:cNvCxnSpPr>
          <p:nvPr/>
        </p:nvCxnSpPr>
        <p:spPr>
          <a:xfrm flipH="1">
            <a:off x="4530600" y="5486040"/>
            <a:ext cx="1782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3" name=""/>
          <p:cNvSpPr/>
          <p:nvPr/>
        </p:nvSpPr>
        <p:spPr>
          <a:xfrm>
            <a:off x="4694400" y="5729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4" name=""/>
          <p:cNvCxnSpPr>
            <a:stCxn id="1895" idx="2"/>
            <a:endCxn id="1903" idx="0"/>
          </p:cNvCxnSpPr>
          <p:nvPr/>
        </p:nvCxnSpPr>
        <p:spPr>
          <a:xfrm>
            <a:off x="4708080" y="5486040"/>
            <a:ext cx="1594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5" name=""/>
          <p:cNvSpPr/>
          <p:nvPr/>
        </p:nvSpPr>
        <p:spPr>
          <a:xfrm>
            <a:off x="3659400" y="572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6" name=""/>
          <p:cNvCxnSpPr>
            <a:stCxn id="1893" idx="2"/>
            <a:endCxn id="1905" idx="0"/>
          </p:cNvCxnSpPr>
          <p:nvPr/>
        </p:nvCxnSpPr>
        <p:spPr>
          <a:xfrm flipH="1">
            <a:off x="3825000" y="5486040"/>
            <a:ext cx="1976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7" name=""/>
          <p:cNvSpPr/>
          <p:nvPr/>
        </p:nvSpPr>
        <p:spPr>
          <a:xfrm>
            <a:off x="3996000" y="5729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8" name=""/>
          <p:cNvCxnSpPr>
            <a:stCxn id="1893" idx="2"/>
            <a:endCxn id="1907" idx="0"/>
          </p:cNvCxnSpPr>
          <p:nvPr/>
        </p:nvCxnSpPr>
        <p:spPr>
          <a:xfrm>
            <a:off x="4022640" y="5486040"/>
            <a:ext cx="1468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9" name=""/>
          <p:cNvCxnSpPr>
            <a:stCxn id="1903" idx="2"/>
            <a:endCxn id="1910" idx="0"/>
          </p:cNvCxnSpPr>
          <p:nvPr/>
        </p:nvCxnSpPr>
        <p:spPr>
          <a:xfrm flipH="1">
            <a:off x="4865400" y="60955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0" name=""/>
          <p:cNvSpPr/>
          <p:nvPr/>
        </p:nvSpPr>
        <p:spPr>
          <a:xfrm>
            <a:off x="472572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1" name=""/>
          <p:cNvCxnSpPr>
            <a:stCxn id="1901" idx="2"/>
            <a:endCxn id="1912" idx="0"/>
          </p:cNvCxnSpPr>
          <p:nvPr/>
        </p:nvCxnSpPr>
        <p:spPr>
          <a:xfrm>
            <a:off x="4530600" y="6095520"/>
            <a:ext cx="30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2" name=""/>
          <p:cNvSpPr/>
          <p:nvPr/>
        </p:nvSpPr>
        <p:spPr>
          <a:xfrm>
            <a:off x="442116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3" name=""/>
          <p:cNvCxnSpPr>
            <a:stCxn id="1907" idx="2"/>
            <a:endCxn id="1914" idx="0"/>
          </p:cNvCxnSpPr>
          <p:nvPr/>
        </p:nvCxnSpPr>
        <p:spPr>
          <a:xfrm>
            <a:off x="4168440" y="609552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4" name=""/>
          <p:cNvSpPr/>
          <p:nvPr/>
        </p:nvSpPr>
        <p:spPr>
          <a:xfrm>
            <a:off x="403992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5" name=""/>
          <p:cNvCxnSpPr>
            <a:endCxn id="1916" idx="0"/>
          </p:cNvCxnSpPr>
          <p:nvPr/>
        </p:nvCxnSpPr>
        <p:spPr>
          <a:xfrm>
            <a:off x="3809520" y="609552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6" name=""/>
          <p:cNvSpPr/>
          <p:nvPr/>
        </p:nvSpPr>
        <p:spPr>
          <a:xfrm>
            <a:off x="368136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7" name=""/>
          <p:cNvCxnSpPr>
            <a:stCxn id="1883" idx="2"/>
            <a:endCxn id="1918" idx="0"/>
          </p:cNvCxnSpPr>
          <p:nvPr/>
        </p:nvCxnSpPr>
        <p:spPr>
          <a:xfrm>
            <a:off x="5153040" y="4343040"/>
            <a:ext cx="18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8" name=""/>
          <p:cNvSpPr/>
          <p:nvPr/>
        </p:nvSpPr>
        <p:spPr>
          <a:xfrm>
            <a:off x="5030640" y="457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881" idx="2"/>
            <a:endCxn id="1920" idx="0"/>
          </p:cNvCxnSpPr>
          <p:nvPr/>
        </p:nvCxnSpPr>
        <p:spPr>
          <a:xfrm flipH="1">
            <a:off x="4811040" y="434304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0" name=""/>
          <p:cNvSpPr/>
          <p:nvPr/>
        </p:nvSpPr>
        <p:spPr>
          <a:xfrm>
            <a:off x="4671720" y="457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in parse t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should the string be to ensure duplic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mmar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n-terminals, the string should be at least of exponential length (arou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ensure a duplicate in some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hide thi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by asking the adversary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ork directly with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insist that instead of the following sub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in parse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3572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58308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2"/>
            <a:endCxn id="1926" idx="0"/>
          </p:cNvCxnSpPr>
          <p:nvPr/>
        </p:nvCxnSpPr>
        <p:spPr>
          <a:xfrm flipH="1">
            <a:off x="3749040" y="2652840"/>
            <a:ext cx="19764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8" name=""/>
          <p:cNvSpPr/>
          <p:nvPr/>
        </p:nvSpPr>
        <p:spPr>
          <a:xfrm>
            <a:off x="391968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9" name=""/>
          <p:cNvCxnSpPr>
            <a:stCxn id="1925" idx="2"/>
            <a:endCxn id="1928" idx="0"/>
          </p:cNvCxnSpPr>
          <p:nvPr/>
        </p:nvCxnSpPr>
        <p:spPr>
          <a:xfrm>
            <a:off x="3946320" y="2652840"/>
            <a:ext cx="146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0" name=""/>
          <p:cNvCxnSpPr>
            <a:stCxn id="1928" idx="2"/>
            <a:endCxn id="1931" idx="0"/>
          </p:cNvCxnSpPr>
          <p:nvPr/>
        </p:nvCxnSpPr>
        <p:spPr>
          <a:xfrm>
            <a:off x="4092120" y="326196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1" name=""/>
          <p:cNvSpPr/>
          <p:nvPr/>
        </p:nvSpPr>
        <p:spPr>
          <a:xfrm>
            <a:off x="3963960" y="349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2" name=""/>
          <p:cNvCxnSpPr>
            <a:endCxn id="1933" idx="0"/>
          </p:cNvCxnSpPr>
          <p:nvPr/>
        </p:nvCxnSpPr>
        <p:spPr>
          <a:xfrm>
            <a:off x="3733560" y="326196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3" name=""/>
          <p:cNvSpPr/>
          <p:nvPr/>
        </p:nvSpPr>
        <p:spPr>
          <a:xfrm>
            <a:off x="3605040" y="349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703680" y="3962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2785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6" name=""/>
          <p:cNvCxnSpPr>
            <a:stCxn id="1934" idx="2"/>
            <a:endCxn id="1935" idx="0"/>
          </p:cNvCxnSpPr>
          <p:nvPr/>
        </p:nvCxnSpPr>
        <p:spPr>
          <a:xfrm flipH="1">
            <a:off x="3444120" y="4328640"/>
            <a:ext cx="47052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7" name=""/>
          <p:cNvSpPr/>
          <p:nvPr/>
        </p:nvSpPr>
        <p:spPr>
          <a:xfrm>
            <a:off x="4148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8" name=""/>
          <p:cNvCxnSpPr>
            <a:stCxn id="1934" idx="2"/>
            <a:endCxn id="1937" idx="0"/>
          </p:cNvCxnSpPr>
          <p:nvPr/>
        </p:nvCxnSpPr>
        <p:spPr>
          <a:xfrm>
            <a:off x="3914280" y="4328640"/>
            <a:ext cx="4071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3811680" y="5195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0" name=""/>
          <p:cNvCxnSpPr>
            <a:stCxn id="1937" idx="2"/>
            <a:endCxn id="1939" idx="0"/>
          </p:cNvCxnSpPr>
          <p:nvPr/>
        </p:nvCxnSpPr>
        <p:spPr>
          <a:xfrm flipH="1">
            <a:off x="4021920" y="4938840"/>
            <a:ext cx="2991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1" name=""/>
          <p:cNvSpPr/>
          <p:nvPr/>
        </p:nvSpPr>
        <p:spPr>
          <a:xfrm>
            <a:off x="454212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2" name=""/>
          <p:cNvCxnSpPr>
            <a:stCxn id="1937" idx="2"/>
            <a:endCxn id="1941" idx="0"/>
          </p:cNvCxnSpPr>
          <p:nvPr/>
        </p:nvCxnSpPr>
        <p:spPr>
          <a:xfrm>
            <a:off x="4321080" y="4938840"/>
            <a:ext cx="38808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3" name=""/>
          <p:cNvCxnSpPr>
            <a:stCxn id="1935" idx="2"/>
            <a:endCxn id="1944" idx="0"/>
          </p:cNvCxnSpPr>
          <p:nvPr/>
        </p:nvCxnSpPr>
        <p:spPr>
          <a:xfrm flipH="1">
            <a:off x="3439440" y="4938840"/>
            <a:ext cx="540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3300120" y="5181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357800" y="580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6" name=""/>
          <p:cNvCxnSpPr>
            <a:stCxn id="1941" idx="2"/>
            <a:endCxn id="1945" idx="0"/>
          </p:cNvCxnSpPr>
          <p:nvPr/>
        </p:nvCxnSpPr>
        <p:spPr>
          <a:xfrm flipH="1">
            <a:off x="4530600" y="5562720"/>
            <a:ext cx="17820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7" name=""/>
          <p:cNvSpPr/>
          <p:nvPr/>
        </p:nvSpPr>
        <p:spPr>
          <a:xfrm>
            <a:off x="4694400" y="580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8" name=""/>
          <p:cNvCxnSpPr>
            <a:stCxn id="1941" idx="2"/>
            <a:endCxn id="1947" idx="0"/>
          </p:cNvCxnSpPr>
          <p:nvPr/>
        </p:nvCxnSpPr>
        <p:spPr>
          <a:xfrm>
            <a:off x="4708080" y="5562720"/>
            <a:ext cx="1594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9" name=""/>
          <p:cNvSpPr/>
          <p:nvPr/>
        </p:nvSpPr>
        <p:spPr>
          <a:xfrm>
            <a:off x="365940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0" name=""/>
          <p:cNvCxnSpPr>
            <a:stCxn id="1939" idx="2"/>
            <a:endCxn id="1949" idx="0"/>
          </p:cNvCxnSpPr>
          <p:nvPr/>
        </p:nvCxnSpPr>
        <p:spPr>
          <a:xfrm flipH="1">
            <a:off x="3825000" y="5562720"/>
            <a:ext cx="19764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1" name=""/>
          <p:cNvSpPr/>
          <p:nvPr/>
        </p:nvSpPr>
        <p:spPr>
          <a:xfrm>
            <a:off x="3996000" y="580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2" name=""/>
          <p:cNvCxnSpPr>
            <a:stCxn id="1939" idx="2"/>
            <a:endCxn id="1951" idx="0"/>
          </p:cNvCxnSpPr>
          <p:nvPr/>
        </p:nvCxnSpPr>
        <p:spPr>
          <a:xfrm>
            <a:off x="4022640" y="5562720"/>
            <a:ext cx="146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3" name=""/>
          <p:cNvCxnSpPr>
            <a:stCxn id="1947" idx="2"/>
            <a:endCxn id="1954" idx="0"/>
          </p:cNvCxnSpPr>
          <p:nvPr/>
        </p:nvCxnSpPr>
        <p:spPr>
          <a:xfrm flipH="1">
            <a:off x="4865400" y="617184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4" name=""/>
          <p:cNvSpPr/>
          <p:nvPr/>
        </p:nvSpPr>
        <p:spPr>
          <a:xfrm>
            <a:off x="4725720" y="6400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5" name=""/>
          <p:cNvCxnSpPr>
            <a:stCxn id="1945" idx="2"/>
            <a:endCxn id="1956" idx="0"/>
          </p:cNvCxnSpPr>
          <p:nvPr/>
        </p:nvCxnSpPr>
        <p:spPr>
          <a:xfrm>
            <a:off x="4530600" y="6171840"/>
            <a:ext cx="30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6" name=""/>
          <p:cNvSpPr/>
          <p:nvPr/>
        </p:nvSpPr>
        <p:spPr>
          <a:xfrm>
            <a:off x="4421160" y="6400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7" name=""/>
          <p:cNvCxnSpPr>
            <a:stCxn id="1951" idx="2"/>
            <a:endCxn id="1958" idx="0"/>
          </p:cNvCxnSpPr>
          <p:nvPr/>
        </p:nvCxnSpPr>
        <p:spPr>
          <a:xfrm>
            <a:off x="4168440" y="617184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8" name=""/>
          <p:cNvSpPr/>
          <p:nvPr/>
        </p:nvSpPr>
        <p:spPr>
          <a:xfrm>
            <a:off x="4039920" y="6400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9" name=""/>
          <p:cNvCxnSpPr>
            <a:endCxn id="1960" idx="0"/>
          </p:cNvCxnSpPr>
          <p:nvPr/>
        </p:nvCxnSpPr>
        <p:spPr>
          <a:xfrm>
            <a:off x="3809520" y="617184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0" name=""/>
          <p:cNvSpPr/>
          <p:nvPr/>
        </p:nvSpPr>
        <p:spPr>
          <a:xfrm>
            <a:off x="3681360" y="6400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a parse tree for another valid 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00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gainst the original str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ing that got doubled is marked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948120" y="152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125880" y="6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4" name=""/>
          <p:cNvCxnSpPr>
            <a:stCxn id="1962" idx="2"/>
            <a:endCxn id="1963" idx="0"/>
          </p:cNvCxnSpPr>
          <p:nvPr/>
        </p:nvCxnSpPr>
        <p:spPr>
          <a:xfrm flipH="1">
            <a:off x="3292200" y="518760"/>
            <a:ext cx="8229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5" name=""/>
          <p:cNvSpPr/>
          <p:nvPr/>
        </p:nvSpPr>
        <p:spPr>
          <a:xfrm>
            <a:off x="480240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6" name=""/>
          <p:cNvCxnSpPr>
            <a:stCxn id="1962" idx="2"/>
            <a:endCxn id="1965" idx="0"/>
          </p:cNvCxnSpPr>
          <p:nvPr/>
        </p:nvCxnSpPr>
        <p:spPr>
          <a:xfrm>
            <a:off x="4114800" y="518760"/>
            <a:ext cx="86112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7" name=""/>
          <p:cNvSpPr/>
          <p:nvPr/>
        </p:nvSpPr>
        <p:spPr>
          <a:xfrm>
            <a:off x="4650120" y="12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8" name=""/>
          <p:cNvCxnSpPr>
            <a:stCxn id="1965" idx="2"/>
            <a:endCxn id="1967" idx="0"/>
          </p:cNvCxnSpPr>
          <p:nvPr/>
        </p:nvCxnSpPr>
        <p:spPr>
          <a:xfrm flipH="1">
            <a:off x="4815720" y="976320"/>
            <a:ext cx="15948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9" name=""/>
          <p:cNvSpPr/>
          <p:nvPr/>
        </p:nvSpPr>
        <p:spPr>
          <a:xfrm>
            <a:off x="4986360" y="123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5" idx="2"/>
            <a:endCxn id="1969" idx="0"/>
          </p:cNvCxnSpPr>
          <p:nvPr/>
        </p:nvCxnSpPr>
        <p:spPr>
          <a:xfrm>
            <a:off x="4975200" y="976320"/>
            <a:ext cx="17820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1" name=""/>
          <p:cNvSpPr/>
          <p:nvPr/>
        </p:nvSpPr>
        <p:spPr>
          <a:xfrm>
            <a:off x="244008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2" name=""/>
          <p:cNvCxnSpPr>
            <a:stCxn id="1963" idx="2"/>
            <a:endCxn id="1971" idx="0"/>
          </p:cNvCxnSpPr>
          <p:nvPr/>
        </p:nvCxnSpPr>
        <p:spPr>
          <a:xfrm flipH="1">
            <a:off x="2606040" y="1004760"/>
            <a:ext cx="68652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3" name=""/>
          <p:cNvSpPr/>
          <p:nvPr/>
        </p:nvSpPr>
        <p:spPr>
          <a:xfrm>
            <a:off x="3703680" y="1143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63" idx="2"/>
            <a:endCxn id="1973" idx="0"/>
          </p:cNvCxnSpPr>
          <p:nvPr/>
        </p:nvCxnSpPr>
        <p:spPr>
          <a:xfrm>
            <a:off x="3292560" y="1004760"/>
            <a:ext cx="62280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5" name=""/>
          <p:cNvSpPr/>
          <p:nvPr/>
        </p:nvSpPr>
        <p:spPr>
          <a:xfrm>
            <a:off x="327852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6" name=""/>
          <p:cNvCxnSpPr>
            <a:stCxn id="1973" idx="2"/>
            <a:endCxn id="1975" idx="0"/>
          </p:cNvCxnSpPr>
          <p:nvPr/>
        </p:nvCxnSpPr>
        <p:spPr>
          <a:xfrm flipH="1">
            <a:off x="3444120" y="1509840"/>
            <a:ext cx="470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7" name=""/>
          <p:cNvSpPr/>
          <p:nvPr/>
        </p:nvSpPr>
        <p:spPr>
          <a:xfrm>
            <a:off x="414828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8" name=""/>
          <p:cNvCxnSpPr>
            <a:stCxn id="1973" idx="2"/>
            <a:endCxn id="1977" idx="0"/>
          </p:cNvCxnSpPr>
          <p:nvPr/>
        </p:nvCxnSpPr>
        <p:spPr>
          <a:xfrm>
            <a:off x="3914280" y="1509840"/>
            <a:ext cx="40716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9" name=""/>
          <p:cNvSpPr/>
          <p:nvPr/>
        </p:nvSpPr>
        <p:spPr>
          <a:xfrm>
            <a:off x="3735720" y="2376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0" name=""/>
          <p:cNvCxnSpPr>
            <a:stCxn id="1977" idx="2"/>
            <a:endCxn id="1979" idx="0"/>
          </p:cNvCxnSpPr>
          <p:nvPr/>
        </p:nvCxnSpPr>
        <p:spPr>
          <a:xfrm flipH="1">
            <a:off x="3946320" y="2119320"/>
            <a:ext cx="37512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1" name=""/>
          <p:cNvSpPr/>
          <p:nvPr/>
        </p:nvSpPr>
        <p:spPr>
          <a:xfrm>
            <a:off x="5367600" y="2604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77" idx="2"/>
            <a:endCxn id="1981" idx="0"/>
          </p:cNvCxnSpPr>
          <p:nvPr/>
        </p:nvCxnSpPr>
        <p:spPr>
          <a:xfrm>
            <a:off x="4320720" y="2118960"/>
            <a:ext cx="121356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3" name=""/>
          <p:cNvCxnSpPr>
            <a:stCxn id="1971" idx="2"/>
            <a:endCxn id="1984" idx="0"/>
          </p:cNvCxnSpPr>
          <p:nvPr/>
        </p:nvCxnSpPr>
        <p:spPr>
          <a:xfrm flipH="1">
            <a:off x="2601360" y="1509840"/>
            <a:ext cx="540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4" name=""/>
          <p:cNvSpPr/>
          <p:nvPr/>
        </p:nvSpPr>
        <p:spPr>
          <a:xfrm>
            <a:off x="2462040" y="1752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5" name=""/>
          <p:cNvCxnSpPr>
            <a:stCxn id="1975" idx="2"/>
            <a:endCxn id="1986" idx="0"/>
          </p:cNvCxnSpPr>
          <p:nvPr/>
        </p:nvCxnSpPr>
        <p:spPr>
          <a:xfrm flipH="1">
            <a:off x="3439440" y="2118960"/>
            <a:ext cx="54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6" name=""/>
          <p:cNvSpPr/>
          <p:nvPr/>
        </p:nvSpPr>
        <p:spPr>
          <a:xfrm>
            <a:off x="3300120" y="2362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183280" y="32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1" idx="2"/>
            <a:endCxn id="1987" idx="0"/>
          </p:cNvCxnSpPr>
          <p:nvPr/>
        </p:nvCxnSpPr>
        <p:spPr>
          <a:xfrm flipH="1">
            <a:off x="5356080" y="2971440"/>
            <a:ext cx="1782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9" name=""/>
          <p:cNvSpPr/>
          <p:nvPr/>
        </p:nvSpPr>
        <p:spPr>
          <a:xfrm>
            <a:off x="5519880" y="32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0" name=""/>
          <p:cNvCxnSpPr>
            <a:stCxn id="1981" idx="2"/>
            <a:endCxn id="1989" idx="0"/>
          </p:cNvCxnSpPr>
          <p:nvPr/>
        </p:nvCxnSpPr>
        <p:spPr>
          <a:xfrm>
            <a:off x="5533560" y="2971440"/>
            <a:ext cx="1594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1" name=""/>
          <p:cNvCxnSpPr>
            <a:stCxn id="1989" idx="2"/>
            <a:endCxn id="1992" idx="0"/>
          </p:cNvCxnSpPr>
          <p:nvPr/>
        </p:nvCxnSpPr>
        <p:spPr>
          <a:xfrm flipH="1">
            <a:off x="5690880" y="35809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2" name=""/>
          <p:cNvSpPr/>
          <p:nvPr/>
        </p:nvSpPr>
        <p:spPr>
          <a:xfrm>
            <a:off x="555120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3" name=""/>
          <p:cNvCxnSpPr>
            <a:stCxn id="1987" idx="2"/>
            <a:endCxn id="1994" idx="0"/>
          </p:cNvCxnSpPr>
          <p:nvPr/>
        </p:nvCxnSpPr>
        <p:spPr>
          <a:xfrm>
            <a:off x="5356080" y="3580920"/>
            <a:ext cx="30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4" name=""/>
          <p:cNvSpPr/>
          <p:nvPr/>
        </p:nvSpPr>
        <p:spPr>
          <a:xfrm>
            <a:off x="5246640" y="3809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5" name=""/>
          <p:cNvCxnSpPr>
            <a:stCxn id="1969" idx="2"/>
            <a:endCxn id="1996" idx="0"/>
          </p:cNvCxnSpPr>
          <p:nvPr/>
        </p:nvCxnSpPr>
        <p:spPr>
          <a:xfrm>
            <a:off x="5153040" y="1599840"/>
            <a:ext cx="18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6" name=""/>
          <p:cNvSpPr/>
          <p:nvPr/>
        </p:nvSpPr>
        <p:spPr>
          <a:xfrm>
            <a:off x="5030640" y="182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7" name=""/>
          <p:cNvCxnSpPr>
            <a:stCxn id="1967" idx="2"/>
            <a:endCxn id="1998" idx="0"/>
          </p:cNvCxnSpPr>
          <p:nvPr/>
        </p:nvCxnSpPr>
        <p:spPr>
          <a:xfrm flipH="1">
            <a:off x="4811040" y="159984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8" name=""/>
          <p:cNvSpPr/>
          <p:nvPr/>
        </p:nvSpPr>
        <p:spPr>
          <a:xfrm>
            <a:off x="4671720" y="182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27852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0" name=""/>
          <p:cNvCxnSpPr>
            <a:stCxn id="1979" idx="2"/>
            <a:endCxn id="1999" idx="0"/>
          </p:cNvCxnSpPr>
          <p:nvPr/>
        </p:nvCxnSpPr>
        <p:spPr>
          <a:xfrm flipH="1">
            <a:off x="3444480" y="2742840"/>
            <a:ext cx="5025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1" name=""/>
          <p:cNvSpPr/>
          <p:nvPr/>
        </p:nvSpPr>
        <p:spPr>
          <a:xfrm>
            <a:off x="4148280" y="29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2" name=""/>
          <p:cNvCxnSpPr>
            <a:stCxn id="1979" idx="2"/>
            <a:endCxn id="2001" idx="0"/>
          </p:cNvCxnSpPr>
          <p:nvPr/>
        </p:nvCxnSpPr>
        <p:spPr>
          <a:xfrm>
            <a:off x="3946680" y="2742840"/>
            <a:ext cx="37512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3" name=""/>
          <p:cNvSpPr/>
          <p:nvPr/>
        </p:nvSpPr>
        <p:spPr>
          <a:xfrm>
            <a:off x="3811680" y="3610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4" name=""/>
          <p:cNvCxnSpPr>
            <a:stCxn id="2001" idx="2"/>
            <a:endCxn id="2003" idx="0"/>
          </p:cNvCxnSpPr>
          <p:nvPr/>
        </p:nvCxnSpPr>
        <p:spPr>
          <a:xfrm flipH="1">
            <a:off x="4021920" y="3352320"/>
            <a:ext cx="29916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5" name=""/>
          <p:cNvSpPr/>
          <p:nvPr/>
        </p:nvSpPr>
        <p:spPr>
          <a:xfrm>
            <a:off x="4542120" y="36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1" idx="2"/>
            <a:endCxn id="2005" idx="0"/>
          </p:cNvCxnSpPr>
          <p:nvPr/>
        </p:nvCxnSpPr>
        <p:spPr>
          <a:xfrm>
            <a:off x="4321080" y="3352320"/>
            <a:ext cx="3880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99" idx="2"/>
            <a:endCxn id="2008" idx="0"/>
          </p:cNvCxnSpPr>
          <p:nvPr/>
        </p:nvCxnSpPr>
        <p:spPr>
          <a:xfrm flipH="1">
            <a:off x="3439440" y="3352320"/>
            <a:ext cx="54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8" name=""/>
          <p:cNvSpPr/>
          <p:nvPr/>
        </p:nvSpPr>
        <p:spPr>
          <a:xfrm>
            <a:off x="3300120" y="3595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357800" y="421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0" name=""/>
          <p:cNvCxnSpPr>
            <a:stCxn id="2005" idx="2"/>
            <a:endCxn id="2009" idx="0"/>
          </p:cNvCxnSpPr>
          <p:nvPr/>
        </p:nvCxnSpPr>
        <p:spPr>
          <a:xfrm flipH="1">
            <a:off x="4530600" y="3976200"/>
            <a:ext cx="1782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1" name=""/>
          <p:cNvSpPr/>
          <p:nvPr/>
        </p:nvSpPr>
        <p:spPr>
          <a:xfrm>
            <a:off x="4694400" y="421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"/>
          <p:cNvCxnSpPr>
            <a:stCxn id="2005" idx="2"/>
            <a:endCxn id="2011" idx="0"/>
          </p:cNvCxnSpPr>
          <p:nvPr/>
        </p:nvCxnSpPr>
        <p:spPr>
          <a:xfrm>
            <a:off x="4708080" y="3976200"/>
            <a:ext cx="1594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3659400" y="42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03" idx="2"/>
            <a:endCxn id="2013" idx="0"/>
          </p:cNvCxnSpPr>
          <p:nvPr/>
        </p:nvCxnSpPr>
        <p:spPr>
          <a:xfrm flipH="1">
            <a:off x="3825000" y="3976200"/>
            <a:ext cx="1976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5" name=""/>
          <p:cNvSpPr/>
          <p:nvPr/>
        </p:nvSpPr>
        <p:spPr>
          <a:xfrm>
            <a:off x="3996000" y="421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6" name=""/>
          <p:cNvCxnSpPr>
            <a:stCxn id="2003" idx="2"/>
            <a:endCxn id="2015" idx="0"/>
          </p:cNvCxnSpPr>
          <p:nvPr/>
        </p:nvCxnSpPr>
        <p:spPr>
          <a:xfrm>
            <a:off x="4022640" y="3976200"/>
            <a:ext cx="14688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7" name=""/>
          <p:cNvCxnSpPr>
            <a:stCxn id="2011" idx="2"/>
            <a:endCxn id="2018" idx="0"/>
          </p:cNvCxnSpPr>
          <p:nvPr/>
        </p:nvCxnSpPr>
        <p:spPr>
          <a:xfrm flipH="1">
            <a:off x="4865400" y="458604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8" name=""/>
          <p:cNvSpPr/>
          <p:nvPr/>
        </p:nvSpPr>
        <p:spPr>
          <a:xfrm>
            <a:off x="472572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9" name=""/>
          <p:cNvCxnSpPr>
            <a:stCxn id="2009" idx="2"/>
            <a:endCxn id="2020" idx="0"/>
          </p:cNvCxnSpPr>
          <p:nvPr/>
        </p:nvCxnSpPr>
        <p:spPr>
          <a:xfrm>
            <a:off x="4530600" y="4586040"/>
            <a:ext cx="30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0" name=""/>
          <p:cNvSpPr/>
          <p:nvPr/>
        </p:nvSpPr>
        <p:spPr>
          <a:xfrm>
            <a:off x="442116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1" name=""/>
          <p:cNvCxnSpPr>
            <a:stCxn id="2015" idx="2"/>
            <a:endCxn id="2022" idx="0"/>
          </p:cNvCxnSpPr>
          <p:nvPr/>
        </p:nvCxnSpPr>
        <p:spPr>
          <a:xfrm>
            <a:off x="4168440" y="458604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2" name=""/>
          <p:cNvSpPr/>
          <p:nvPr/>
        </p:nvSpPr>
        <p:spPr>
          <a:xfrm>
            <a:off x="403992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"/>
          <p:cNvCxnSpPr>
            <a:endCxn id="2024" idx="0"/>
          </p:cNvCxnSpPr>
          <p:nvPr/>
        </p:nvCxnSpPr>
        <p:spPr>
          <a:xfrm>
            <a:off x="3809520" y="4586040"/>
            <a:ext cx="1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4" name=""/>
          <p:cNvSpPr/>
          <p:nvPr/>
        </p:nvSpPr>
        <p:spPr>
          <a:xfrm>
            <a:off x="368136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mping at multiple pl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peat this, we will find that two loops on either side of the center get pumped up an arbitrary number of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ring is long enough, there will be some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some repeated substitution of some larger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ring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w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wx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get pumped up a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x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k: Identify the parts of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wx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non-CFL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mping Lemma: Formal statement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Not a characterization, it is an implic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langu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finite and context-free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exists some integ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[generally, exponential in number of states k]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≥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umping lengt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exists a decomposi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vwx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tring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that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w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≥ 1, (Note that both v and x cannot be empty)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integ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314880" y="54212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92280" y="5281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5213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088200">
            <a:off x="685800" y="53449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848360" y="5867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0920" y="5181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9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597400">
            <a:off x="458640" y="449136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6" y="25"/>
                </a:moveTo>
                <a:arcTo wR="10800" hR="10800" stAng="-5633924" swAng="4842112"/>
                <a:lnTo>
                  <a:pt x="10800" y="10800"/>
                </a:lnTo>
                <a:close/>
              </a:path>
              <a:path fill="none" w="21600" h="21600">
                <a:moveTo>
                  <a:pt x="10066" y="25"/>
                </a:moveTo>
                <a:arcTo wR="10800" hR="10800" stAng="-5633924" swAng="4842112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2160" y="6248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24360" y="5549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67360" y="55627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1160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3384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272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54500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34040" y="554976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77040" y="5562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128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43880" y="5867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644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3658800">
            <a:off x="-2265480" y="-2212920"/>
            <a:ext cx="9075240" cy="838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5" y="11887"/>
                </a:moveTo>
                <a:arcTo wR="10800" hR="10800" stAng="346638" swAng="2574356"/>
                <a:lnTo>
                  <a:pt x="10800" y="10800"/>
                </a:lnTo>
                <a:close/>
              </a:path>
              <a:path fill="none" w="21600" h="21600">
                <a:moveTo>
                  <a:pt x="21545" y="11887"/>
                </a:moveTo>
                <a:arcTo wR="10800" hR="10800" stAng="346638" swAng="257435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3920" y="6324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111400">
            <a:off x="-1195200" y="5056200"/>
            <a:ext cx="8790120" cy="88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7" y="12052"/>
                </a:moveTo>
                <a:arcTo wR="10800" hR="10800" stAng="399575" swAng="3386852"/>
                <a:lnTo>
                  <a:pt x="10800" y="10800"/>
                </a:lnTo>
                <a:close/>
              </a:path>
              <a:path fill="none" w="21600" h="21600">
                <a:moveTo>
                  <a:pt x="21527" y="12052"/>
                </a:moveTo>
                <a:arcTo wR="10800" hR="10800" stAng="399575" swAng="338685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30480" y="5029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658800">
            <a:off x="62280" y="-2233440"/>
            <a:ext cx="9075240" cy="83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6" y="12061"/>
                </a:moveTo>
                <a:arcTo wR="10800" hR="10800" stAng="402371" swAng="2518623"/>
                <a:lnTo>
                  <a:pt x="10800" y="10800"/>
                </a:lnTo>
                <a:close/>
              </a:path>
              <a:path fill="none" w="21600" h="21600">
                <a:moveTo>
                  <a:pt x="21526" y="12061"/>
                </a:moveTo>
                <a:arcTo wR="10800" hR="10800" stAng="402371" swAng="251862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2960" y="6248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1280" y="53341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6023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236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3224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20760" y="3313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8088200">
            <a:off x="609480" y="30477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5416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354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4960" y="2819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3236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3760" y="3313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4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1905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981080" y="24379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590920" y="24379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32767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088200">
            <a:off x="2209680" y="17521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4440" y="15238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876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6560" y="2666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25560" y="2666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593800">
            <a:off x="1249200" y="-158040"/>
            <a:ext cx="3897360" cy="436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1120" y="3809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31308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30048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40120" y="3389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088200">
            <a:off x="5029200" y="3123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36180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3618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4320" y="2895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331308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3120" y="3389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3618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19810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400800" y="25142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7010280" y="25146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088200">
            <a:off x="6629400" y="18284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54160" y="16002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5920" y="2743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145280" y="2743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02240" y="4114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2593800">
            <a:off x="4677840" y="-82800"/>
            <a:ext cx="3897360" cy="436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92840" y="335268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32767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331632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088200">
            <a:off x="3962520" y="3123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87640" y="2895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4000" spc="-1" strike="noStrike" baseline="30000">
                <a:solidFill>
                  <a:srgbClr val="ff3300"/>
                </a:solidFill>
                <a:latin typeface="Arial"/>
              </a:rPr>
              <a:t>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 baseline="30000">
                <a:solidFill>
                  <a:srgbClr val="ff3300"/>
                </a:solidFill>
                <a:latin typeface="Arial"/>
              </a:rPr>
              <a:t>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4000" spc="-1" strike="noStrike" baseline="30000">
                <a:solidFill>
                  <a:srgbClr val="ff3300"/>
                </a:solidFill>
                <a:latin typeface="Arial"/>
              </a:rPr>
              <a:t>n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not CF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y: I have a CFG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ly pumping length=p=0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r: Consider the 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y: v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q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t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+s+t+b ≤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+b ≥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-q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q*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b*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-b-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in 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for other choices of v, w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i="1" lang="en-US" sz="4000" spc="-1" strike="noStrike" baseline="30000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not CF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y: I have a CFG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ly pumping length=p=0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r: Consider the 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y: v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q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t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+s+t+b ≤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+b ≥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-q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q*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b*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-b-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in 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for other choices of v, w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 fails for CF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or palindrom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ary: I have a CFG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ly pumping length=p=0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r can consider the 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ny thing else! In each case, you can pum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: I have a CF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ly pumping length=p=0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: Consider th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: v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b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+b+c ≤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+c ≥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30000">
                <a:solidFill>
                  <a:srgbClr val="ff3300"/>
                </a:solidFill>
                <a:latin typeface="Arial"/>
              </a:rPr>
              <a:t>p^2-(i-1)*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in L for so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uring machines for these languages and others such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Arial"/>
              </a:rPr>
              <a:t>pri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6095880" y="304920"/>
                <a:ext cx="838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5257800" y="25909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mping property may hold for non-CF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30000">
                <a:solidFill>
                  <a:srgbClr val="ff3300"/>
                </a:solidFill>
                <a:latin typeface="Arial"/>
              </a:rPr>
              <a:t>compos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ies 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 actually not contex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closure to prove non-CF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Free Languages are closed under intersection with regular se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not have one stack simulate two stacks, but you can have one state simulate two states (one from an FSM and another from a PD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example: Let L consist of all strings of a's and b's with equal numbers of a's and b's but containing no substring abaa or babb. Then L is context-free, since it is the intersection of the language accepted a the pushdown automaton with the regular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PDMs are closed under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3" name=""/>
              <p:cNvSpPr txBox="1"/>
              <p:nvPr/>
            </p:nvSpPr>
            <p:spPr>
              <a:xfrm>
                <a:off x="1295280" y="2441520"/>
                <a:ext cx="3048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qual</m:t>
                    </m:r>
                    <m:r>
                      <m:t xml:space="preserve">(</m:t>
                    </m:r>
                    <m:r>
                      <m:t xml:space="preserve">0,1,2</m:t>
                    </m:r>
                    <m:r>
                      <m:t xml:space="preserve">)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0</m:t>
                        </m:r>
                      </m:e>
                      <m:sup/>
                    </m:sSup>
                    <m:sSup>
                      <m:e>
                        <m:r>
                          <m:t xml:space="preserve">1</m:t>
                        </m:r>
                      </m:e>
                      <m:sup/>
                    </m:sSup>
                    <m:sSup>
                      <m:e>
                        <m:r>
                          <m:t xml:space="preserve">2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4" name=""/>
              <p:cNvSpPr txBox="1"/>
              <p:nvPr/>
            </p:nvSpPr>
            <p:spPr>
              <a:xfrm>
                <a:off x="2438280" y="5022720"/>
                <a:ext cx="3505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 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* </m:t>
                    </m:r>
                    <m:r>
                      <m:rPr>
                        <m:lit/>
                        <m:nor/>
                      </m:rPr>
                      <m:t xml:space="preserve">-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 b</m:t>
                        </m:r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aa 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babb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 b</m:t>
                        </m:r>
                      </m:e>
                    </m:d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5" name="" descr=""/>
          <p:cNvPicPr/>
          <p:nvPr/>
        </p:nvPicPr>
        <p:blipFill>
          <a:blip r:embed="rId1"/>
          <a:stretch/>
        </p:blipFill>
        <p:spPr>
          <a:xfrm>
            <a:off x="1042920" y="473040"/>
            <a:ext cx="7056360" cy="5851440"/>
          </a:xfrm>
          <a:prstGeom prst="rect">
            <a:avLst/>
          </a:prstGeom>
          <a:ln w="0">
            <a:noFill/>
          </a:ln>
        </p:spPr>
      </p:pic>
      <p:sp>
        <p:nvSpPr>
          <p:cNvPr id="2046" name=""/>
          <p:cNvSpPr/>
          <p:nvPr/>
        </p:nvSpPr>
        <p:spPr>
          <a:xfrm>
            <a:off x="2057400" y="609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K Algorithm for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ing a string of length n takes 2n-1 productions using C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 that generate strings of length 2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e force: Given a string of length n, try al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n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ees! Impractical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K: efficient algorithm that runs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s whethe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generated by a give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text-free gram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, if so, how it can be generated. This is known as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ar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tring. Uses concept of dynamic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repeated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K Stands for the autho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ke-Younger-Kas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ed practically – there are more efficient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parsing for LRK, or any form of CFGs – not restricted to deterministic subsets of CF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have the grammar in C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description of grammar cons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K: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C | AB |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 |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B | 1 |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string: 11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dea: Determine what parts of the string can be generated by what non-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rot="18088200">
            <a:off x="1447920" y="5331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3040" y="36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6858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6858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6858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057040" y="914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42864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8088200">
            <a:off x="4114800" y="5331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9920" y="36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0676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744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7440" y="1143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3640" y="1143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19810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962520" y="13712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123720" y="13712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40640" y="167652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920" y="166068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7621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55213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96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8088200">
            <a:off x="685800" y="53449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1440" y="583884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0560" y="51814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553392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9720" y="56102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62320" y="5838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5497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67360" y="55627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1160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3384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272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34040" y="554976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77040" y="5562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2128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43880" y="5867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16440" y="563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54800" y="560232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K: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uild all substrings of the string and determine which non-terminal can gener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[i,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non-terminals that generate j symbols of the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arting from symb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: V[4,1]: All non-terminals that can generate the string of length 1, starting with posit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NF, this is easy to determine; it is {A,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V[3,1] = {B,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harder a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gets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[i,j] will be based on smaller ca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s big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K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dynamic programm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smaller values of j and build V[i,j] for larger j’s success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ntries to be computed =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of each cell requires n computations in worst case and is therefor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tal time is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of LRK grammars (which are equivalent to deterministic PDMs) take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)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whether a given CFG is LRK is mechanical but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01480" y="2362320"/>
            <a:ext cx="11750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01480" y="2362320"/>
            <a:ext cx="186084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01480" y="2362320"/>
            <a:ext cx="247032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01480" y="2362320"/>
            <a:ext cx="307980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01480" y="2362320"/>
            <a:ext cx="36133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22112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8561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224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4796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22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34600" y="2514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1905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71640" y="2068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3920" y="18288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01480" y="2362320"/>
            <a:ext cx="565200" cy="289548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8760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51028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04992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65328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54440" y="33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54440" y="38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154440" y="47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34600" y="29862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34600" y="35053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34600" y="39765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34600" y="43578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34600" y="48909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380520" y="5333760"/>
            <a:ext cx="861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[1,2] depends on two values of V; V[1,1] and V[2,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way you can have a non-terminal from {A,C} followed by a non-terminal from {A,C} is B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any value in the second column depends on two adjacent values from the previous colu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some cells can be empty, corresponding to impossible p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01480" y="1523880"/>
            <a:ext cx="1175040" cy="23623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01480" y="1523880"/>
            <a:ext cx="1860840" cy="19051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01480" y="1523880"/>
            <a:ext cx="2470320" cy="14479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01480" y="1523880"/>
            <a:ext cx="3079800" cy="99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01480" y="1523880"/>
            <a:ext cx="3613320" cy="5335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1221120" y="11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56160" y="11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22400" y="16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4796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224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34600" y="16765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1066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71640" y="1230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23920" y="990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01480" y="1523880"/>
            <a:ext cx="565200" cy="289584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876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51028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04992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65328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54440" y="25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54440" y="29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54440" y="39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34600" y="2147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534600" y="266688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534600" y="313848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346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34600" y="405288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201680" y="167652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220400" y="2147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220760" y="268128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220400" y="30621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2204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[1,3] depends on two values only [because of CNF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[1,1] and V[2,2]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[1,2] and V[3,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V[i,j] depend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[i,k] and V[i+k,j-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how we are using Dynamic Programming to save compu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computing V[1,1] only once, but using it tw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01480" y="1905120"/>
            <a:ext cx="11750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501480" y="1905120"/>
            <a:ext cx="186084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501480" y="1905120"/>
            <a:ext cx="247032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1480" y="1905120"/>
            <a:ext cx="307980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01480" y="1905120"/>
            <a:ext cx="36133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22112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85616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2240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4796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2240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534600" y="2057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71640" y="161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23920" y="137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501480" y="1905120"/>
            <a:ext cx="565200" cy="289548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6876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2510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04992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653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5444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54440" y="33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54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346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34600" y="30481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346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346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34600" y="4433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1220760" y="20574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12204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220760" y="306216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220400" y="3443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2204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810800" y="20718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830240" y="2529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830240" y="29862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753200" y="3443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01480" y="1905120"/>
            <a:ext cx="11750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01480" y="1905120"/>
            <a:ext cx="186084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01480" y="1905120"/>
            <a:ext cx="247032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01480" y="1905120"/>
            <a:ext cx="307980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01480" y="1905120"/>
            <a:ext cx="36133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22112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85616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12240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4796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2240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34600" y="2057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71640" y="161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23920" y="137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01480" y="1905120"/>
            <a:ext cx="565200" cy="289548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876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2510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04992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653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444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54440" y="33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54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346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34600" y="30481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346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346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34600" y="4433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1220760" y="20574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2204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220760" y="306216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1220400" y="3443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12204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810800" y="20718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1830240" y="2529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830240" y="29862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829520" y="3443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9000" y="2071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43936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2439000" y="29862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01480" y="1905120"/>
            <a:ext cx="11750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01480" y="1905120"/>
            <a:ext cx="186084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1480" y="1905120"/>
            <a:ext cx="247032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01480" y="1905120"/>
            <a:ext cx="307980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01480" y="1905120"/>
            <a:ext cx="36133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122112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85616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2240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4796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2240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34600" y="2057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1640" y="161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23920" y="137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01480" y="1905120"/>
            <a:ext cx="565200" cy="289548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876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510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04992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653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5444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54440" y="33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54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346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34600" y="30481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346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346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34600" y="4433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220760" y="20574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2204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220760" y="306216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220400" y="3443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2204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10800" y="20718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30240" y="2529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830240" y="29862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829520" y="3443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439000" y="2071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439000" y="2529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2979000" y="2057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439000" y="29862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972520" y="2529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01480" y="1905120"/>
            <a:ext cx="1175040" cy="23619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01480" y="1905120"/>
            <a:ext cx="1860840" cy="19047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01480" y="1905120"/>
            <a:ext cx="2470320" cy="14475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01480" y="1905120"/>
            <a:ext cx="3079800" cy="9903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01480" y="1905120"/>
            <a:ext cx="3613320" cy="53316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22112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85616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2240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4796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12240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34600" y="2057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71640" y="161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23920" y="137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501480" y="1905120"/>
            <a:ext cx="565200" cy="289548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876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510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04992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65328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5444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154440" y="33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54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346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34600" y="304812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34600" y="35193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346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34600" y="443376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220760" y="20574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20400" y="25290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220760" y="306216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1220400" y="34434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1220400" y="39006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810800" y="2071800"/>
            <a:ext cx="4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1830240" y="2529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1830240" y="29862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829520" y="3443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,A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2439000" y="2071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439000" y="2529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B,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2979000" y="20574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2439000" y="29862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2972520" y="2529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,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582000" y="2071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A,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80520" y="5333760"/>
            <a:ext cx="861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[1,6] contains A and hence, we can conclude that the grammar generates the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ure + Decision Algorithms for Context Free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termining decidability as well as for determining languages that are not context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anguage given by a left linear grammar regular? (trivially y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anguage given by a context free grammar context free? (trivially y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mplement of a given regular language regular? (trivially y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mplement of a given context sensitive language context sensitive? (it turns out to be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mplement of a given context free language context free? (not trivial, since context free languages are not closed under complement – it might be, it might not b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properties of CF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Free Languages are closed under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grammars for the two CFLs, with start symbols S1 and S2, create a new grammar with all the rules of the two grammars along with a new rule, 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1 |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Free Languages are also closed under string re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 is context free then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w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,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verse of w} is also context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a CFG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CFG G for L by reversing the order of symbols on the right hand side of every production in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42960" y="34941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2960" y="3716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2960" y="394020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4760" y="4187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4760" y="44355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49" idx="4"/>
            <a:endCxn id="350" idx="0"/>
          </p:cNvCxnSpPr>
          <p:nvPr/>
        </p:nvCxnSpPr>
        <p:spPr>
          <a:xfrm>
            <a:off x="1569600" y="3617640"/>
            <a:ext cx="10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50" idx="4"/>
            <a:endCxn id="351" idx="0"/>
          </p:cNvCxnSpPr>
          <p:nvPr/>
        </p:nvCxnSpPr>
        <p:spPr>
          <a:xfrm>
            <a:off x="1569600" y="384012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51" idx="4"/>
            <a:endCxn id="352" idx="0"/>
          </p:cNvCxnSpPr>
          <p:nvPr/>
        </p:nvCxnSpPr>
        <p:spPr>
          <a:xfrm>
            <a:off x="1569600" y="4064040"/>
            <a:ext cx="252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2" idx="4"/>
            <a:endCxn id="353" idx="0"/>
          </p:cNvCxnSpPr>
          <p:nvPr/>
        </p:nvCxnSpPr>
        <p:spPr>
          <a:xfrm>
            <a:off x="1571400" y="4311720"/>
            <a:ext cx="10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1544760" y="46576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44760" y="49053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endCxn id="358" idx="0"/>
          </p:cNvCxnSpPr>
          <p:nvPr/>
        </p:nvCxnSpPr>
        <p:spPr>
          <a:xfrm>
            <a:off x="1571400" y="4559040"/>
            <a:ext cx="10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8" idx="4"/>
            <a:endCxn id="359" idx="0"/>
          </p:cNvCxnSpPr>
          <p:nvPr/>
        </p:nvCxnSpPr>
        <p:spPr>
          <a:xfrm>
            <a:off x="1571400" y="4781520"/>
            <a:ext cx="10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5102280" y="299736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53000" y="33577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84560" y="3905280"/>
            <a:ext cx="55440" cy="12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90800" y="43401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2" idx="4"/>
            <a:endCxn id="363" idx="0"/>
          </p:cNvCxnSpPr>
          <p:nvPr/>
        </p:nvCxnSpPr>
        <p:spPr>
          <a:xfrm flipH="1">
            <a:off x="3779640" y="3120840"/>
            <a:ext cx="13500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4"/>
            <a:endCxn id="364" idx="0"/>
          </p:cNvCxnSpPr>
          <p:nvPr/>
        </p:nvCxnSpPr>
        <p:spPr>
          <a:xfrm flipH="1">
            <a:off x="3211200" y="3481200"/>
            <a:ext cx="56880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4" idx="4"/>
            <a:endCxn id="365" idx="0"/>
          </p:cNvCxnSpPr>
          <p:nvPr/>
        </p:nvCxnSpPr>
        <p:spPr>
          <a:xfrm flipH="1">
            <a:off x="2917440" y="4026960"/>
            <a:ext cx="2944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2747880" y="461160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81280" y="4835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37000" y="5056200"/>
            <a:ext cx="536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65" idx="4"/>
            <a:endCxn id="369" idx="0"/>
          </p:cNvCxnSpPr>
          <p:nvPr/>
        </p:nvCxnSpPr>
        <p:spPr>
          <a:xfrm flipH="1">
            <a:off x="2774160" y="4464000"/>
            <a:ext cx="1436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69" idx="4"/>
            <a:endCxn id="370" idx="0"/>
          </p:cNvCxnSpPr>
          <p:nvPr/>
        </p:nvCxnSpPr>
        <p:spPr>
          <a:xfrm flipH="1">
            <a:off x="2707560" y="473544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70" idx="4"/>
            <a:endCxn id="371" idx="0"/>
          </p:cNvCxnSpPr>
          <p:nvPr/>
        </p:nvCxnSpPr>
        <p:spPr>
          <a:xfrm flipH="1">
            <a:off x="2663280" y="4959000"/>
            <a:ext cx="4500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730600" y="5056200"/>
            <a:ext cx="554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70" idx="4"/>
            <a:endCxn id="375" idx="0"/>
          </p:cNvCxnSpPr>
          <p:nvPr/>
        </p:nvCxnSpPr>
        <p:spPr>
          <a:xfrm>
            <a:off x="2707920" y="4959000"/>
            <a:ext cx="500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841480" y="48117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9720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69" idx="4"/>
            <a:endCxn id="377" idx="0"/>
          </p:cNvCxnSpPr>
          <p:nvPr/>
        </p:nvCxnSpPr>
        <p:spPr>
          <a:xfrm>
            <a:off x="2774880" y="4735440"/>
            <a:ext cx="94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7" idx="4"/>
            <a:endCxn id="378" idx="0"/>
          </p:cNvCxnSpPr>
          <p:nvPr/>
        </p:nvCxnSpPr>
        <p:spPr>
          <a:xfrm flipH="1">
            <a:off x="2823480" y="4935240"/>
            <a:ext cx="4500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289080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"/>
          <p:cNvCxnSpPr>
            <a:stCxn id="377" idx="4"/>
            <a:endCxn id="381" idx="0"/>
          </p:cNvCxnSpPr>
          <p:nvPr/>
        </p:nvCxnSpPr>
        <p:spPr>
          <a:xfrm>
            <a:off x="2868120" y="4935240"/>
            <a:ext cx="5004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068640" y="458784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2040" y="48117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5740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65" idx="4"/>
            <a:endCxn id="383" idx="0"/>
          </p:cNvCxnSpPr>
          <p:nvPr/>
        </p:nvCxnSpPr>
        <p:spPr>
          <a:xfrm>
            <a:off x="2917800" y="446400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3" idx="4"/>
            <a:endCxn id="384" idx="0"/>
          </p:cNvCxnSpPr>
          <p:nvPr/>
        </p:nvCxnSpPr>
        <p:spPr>
          <a:xfrm flipH="1">
            <a:off x="3028320" y="471168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4" idx="4"/>
            <a:endCxn id="385" idx="0"/>
          </p:cNvCxnSpPr>
          <p:nvPr/>
        </p:nvCxnSpPr>
        <p:spPr>
          <a:xfrm flipH="1">
            <a:off x="2984040" y="4935240"/>
            <a:ext cx="453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3052800" y="50338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4"/>
            <a:endCxn id="389" idx="0"/>
          </p:cNvCxnSpPr>
          <p:nvPr/>
        </p:nvCxnSpPr>
        <p:spPr>
          <a:xfrm>
            <a:off x="3028680" y="4935240"/>
            <a:ext cx="514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162240" y="4786200"/>
            <a:ext cx="572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17960" y="5008680"/>
            <a:ext cx="5688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83" idx="4"/>
            <a:endCxn id="391" idx="0"/>
          </p:cNvCxnSpPr>
          <p:nvPr/>
        </p:nvCxnSpPr>
        <p:spPr>
          <a:xfrm>
            <a:off x="3095280" y="4711320"/>
            <a:ext cx="961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91" idx="4"/>
            <a:endCxn id="392" idx="0"/>
          </p:cNvCxnSpPr>
          <p:nvPr/>
        </p:nvCxnSpPr>
        <p:spPr>
          <a:xfrm flipH="1">
            <a:off x="3146040" y="4910040"/>
            <a:ext cx="453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3213000" y="50086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1" idx="4"/>
            <a:endCxn id="395" idx="0"/>
          </p:cNvCxnSpPr>
          <p:nvPr/>
        </p:nvCxnSpPr>
        <p:spPr>
          <a:xfrm>
            <a:off x="3191040" y="4910040"/>
            <a:ext cx="4968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3541680" y="430200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64" idx="5"/>
            <a:endCxn id="397" idx="0"/>
          </p:cNvCxnSpPr>
          <p:nvPr/>
        </p:nvCxnSpPr>
        <p:spPr>
          <a:xfrm>
            <a:off x="3230280" y="4008240"/>
            <a:ext cx="3387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3397320" y="457524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30720" y="47973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86080" y="50212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397" idx="4"/>
            <a:endCxn id="399" idx="0"/>
          </p:cNvCxnSpPr>
          <p:nvPr/>
        </p:nvCxnSpPr>
        <p:spPr>
          <a:xfrm flipH="1">
            <a:off x="3423960" y="4425480"/>
            <a:ext cx="1447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9" idx="4"/>
            <a:endCxn id="400" idx="0"/>
          </p:cNvCxnSpPr>
          <p:nvPr/>
        </p:nvCxnSpPr>
        <p:spPr>
          <a:xfrm flipH="1">
            <a:off x="3357000" y="4698720"/>
            <a:ext cx="673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0" idx="4"/>
            <a:endCxn id="401" idx="0"/>
          </p:cNvCxnSpPr>
          <p:nvPr/>
        </p:nvCxnSpPr>
        <p:spPr>
          <a:xfrm flipH="1">
            <a:off x="3312720" y="4921200"/>
            <a:ext cx="453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79680" y="5021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0" idx="4"/>
            <a:endCxn id="405" idx="0"/>
          </p:cNvCxnSpPr>
          <p:nvPr/>
        </p:nvCxnSpPr>
        <p:spPr>
          <a:xfrm>
            <a:off x="3357720" y="4921200"/>
            <a:ext cx="496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3490920" y="47736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808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399" idx="4"/>
            <a:endCxn id="407" idx="0"/>
          </p:cNvCxnSpPr>
          <p:nvPr/>
        </p:nvCxnSpPr>
        <p:spPr>
          <a:xfrm>
            <a:off x="3424320" y="469872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7" idx="4"/>
            <a:endCxn id="408" idx="0"/>
          </p:cNvCxnSpPr>
          <p:nvPr/>
        </p:nvCxnSpPr>
        <p:spPr>
          <a:xfrm flipH="1">
            <a:off x="3474360" y="4897440"/>
            <a:ext cx="435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354168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7" idx="4"/>
            <a:endCxn id="411" idx="0"/>
          </p:cNvCxnSpPr>
          <p:nvPr/>
        </p:nvCxnSpPr>
        <p:spPr>
          <a:xfrm>
            <a:off x="3517560" y="4897440"/>
            <a:ext cx="514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719520" y="45496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52920" y="477360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08280" y="499752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stCxn id="397" idx="4"/>
            <a:endCxn id="413" idx="0"/>
          </p:cNvCxnSpPr>
          <p:nvPr/>
        </p:nvCxnSpPr>
        <p:spPr>
          <a:xfrm>
            <a:off x="3568680" y="442584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3" idx="4"/>
            <a:endCxn id="414" idx="0"/>
          </p:cNvCxnSpPr>
          <p:nvPr/>
        </p:nvCxnSpPr>
        <p:spPr>
          <a:xfrm flipH="1">
            <a:off x="3679200" y="467352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4" idx="4"/>
            <a:endCxn id="415" idx="0"/>
          </p:cNvCxnSpPr>
          <p:nvPr/>
        </p:nvCxnSpPr>
        <p:spPr>
          <a:xfrm flipH="1">
            <a:off x="3634920" y="4897440"/>
            <a:ext cx="453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3701880" y="499752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4" idx="4"/>
            <a:endCxn id="419" idx="0"/>
          </p:cNvCxnSpPr>
          <p:nvPr/>
        </p:nvCxnSpPr>
        <p:spPr>
          <a:xfrm>
            <a:off x="3679920" y="4897440"/>
            <a:ext cx="496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3813120" y="4748040"/>
            <a:ext cx="554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6884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13" idx="4"/>
            <a:endCxn id="421" idx="0"/>
          </p:cNvCxnSpPr>
          <p:nvPr/>
        </p:nvCxnSpPr>
        <p:spPr>
          <a:xfrm>
            <a:off x="3746520" y="467316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21" idx="4"/>
            <a:endCxn id="422" idx="0"/>
          </p:cNvCxnSpPr>
          <p:nvPr/>
        </p:nvCxnSpPr>
        <p:spPr>
          <a:xfrm flipH="1">
            <a:off x="3795120" y="4870440"/>
            <a:ext cx="4500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86244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1" idx="4"/>
            <a:endCxn id="425" idx="0"/>
          </p:cNvCxnSpPr>
          <p:nvPr/>
        </p:nvCxnSpPr>
        <p:spPr>
          <a:xfrm>
            <a:off x="3839760" y="4870440"/>
            <a:ext cx="5004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522680" y="390672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29280" y="43401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"/>
          <p:cNvCxnSpPr>
            <a:stCxn id="363" idx="4"/>
            <a:endCxn id="427" idx="0"/>
          </p:cNvCxnSpPr>
          <p:nvPr/>
        </p:nvCxnSpPr>
        <p:spPr>
          <a:xfrm>
            <a:off x="3780000" y="3481200"/>
            <a:ext cx="7704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7" idx="4"/>
            <a:endCxn id="428" idx="0"/>
          </p:cNvCxnSpPr>
          <p:nvPr/>
        </p:nvCxnSpPr>
        <p:spPr>
          <a:xfrm flipH="1">
            <a:off x="4255560" y="4030560"/>
            <a:ext cx="2944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084560" y="4611600"/>
            <a:ext cx="572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19400" y="4835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75120" y="5056200"/>
            <a:ext cx="5400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>
            <a:stCxn id="428" idx="4"/>
            <a:endCxn id="431" idx="0"/>
          </p:cNvCxnSpPr>
          <p:nvPr/>
        </p:nvCxnSpPr>
        <p:spPr>
          <a:xfrm flipH="1">
            <a:off x="4113000" y="4464000"/>
            <a:ext cx="1432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1" idx="4"/>
            <a:endCxn id="432" idx="0"/>
          </p:cNvCxnSpPr>
          <p:nvPr/>
        </p:nvCxnSpPr>
        <p:spPr>
          <a:xfrm flipH="1">
            <a:off x="4046040" y="4734000"/>
            <a:ext cx="6768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2" idx="4"/>
            <a:endCxn id="433" idx="0"/>
          </p:cNvCxnSpPr>
          <p:nvPr/>
        </p:nvCxnSpPr>
        <p:spPr>
          <a:xfrm flipH="1">
            <a:off x="4001400" y="4959000"/>
            <a:ext cx="4500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068720" y="5056200"/>
            <a:ext cx="554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32" idx="4"/>
            <a:endCxn id="437" idx="0"/>
          </p:cNvCxnSpPr>
          <p:nvPr/>
        </p:nvCxnSpPr>
        <p:spPr>
          <a:xfrm>
            <a:off x="4046040" y="4959000"/>
            <a:ext cx="500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4179960" y="48117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1" idx="4"/>
            <a:endCxn id="439" idx="0"/>
          </p:cNvCxnSpPr>
          <p:nvPr/>
        </p:nvCxnSpPr>
        <p:spPr>
          <a:xfrm>
            <a:off x="4113360" y="4734000"/>
            <a:ext cx="9432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9" idx="4"/>
            <a:endCxn id="440" idx="0"/>
          </p:cNvCxnSpPr>
          <p:nvPr/>
        </p:nvCxnSpPr>
        <p:spPr>
          <a:xfrm flipH="1">
            <a:off x="4161960" y="4935240"/>
            <a:ext cx="453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422928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9" idx="4"/>
            <a:endCxn id="443" idx="0"/>
          </p:cNvCxnSpPr>
          <p:nvPr/>
        </p:nvCxnSpPr>
        <p:spPr>
          <a:xfrm>
            <a:off x="4206960" y="4935240"/>
            <a:ext cx="496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4406760" y="458784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40160" y="48117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9588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28" idx="4"/>
            <a:endCxn id="445" idx="0"/>
          </p:cNvCxnSpPr>
          <p:nvPr/>
        </p:nvCxnSpPr>
        <p:spPr>
          <a:xfrm>
            <a:off x="4255920" y="446400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5" idx="4"/>
            <a:endCxn id="446" idx="0"/>
          </p:cNvCxnSpPr>
          <p:nvPr/>
        </p:nvCxnSpPr>
        <p:spPr>
          <a:xfrm flipH="1">
            <a:off x="4366440" y="471168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6" idx="4"/>
            <a:endCxn id="447" idx="0"/>
          </p:cNvCxnSpPr>
          <p:nvPr/>
        </p:nvCxnSpPr>
        <p:spPr>
          <a:xfrm flipH="1">
            <a:off x="4322160" y="4935240"/>
            <a:ext cx="4500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4390920" y="50338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6" idx="4"/>
            <a:endCxn id="451" idx="0"/>
          </p:cNvCxnSpPr>
          <p:nvPr/>
        </p:nvCxnSpPr>
        <p:spPr>
          <a:xfrm>
            <a:off x="4366800" y="4935240"/>
            <a:ext cx="514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4500720" y="47862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56080" y="50086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45" idx="4"/>
            <a:endCxn id="453" idx="0"/>
          </p:cNvCxnSpPr>
          <p:nvPr/>
        </p:nvCxnSpPr>
        <p:spPr>
          <a:xfrm>
            <a:off x="4433400" y="4711320"/>
            <a:ext cx="946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3" idx="4"/>
            <a:endCxn id="454" idx="0"/>
          </p:cNvCxnSpPr>
          <p:nvPr/>
        </p:nvCxnSpPr>
        <p:spPr>
          <a:xfrm flipH="1">
            <a:off x="4482720" y="4910040"/>
            <a:ext cx="453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4551480" y="50086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"/>
          <p:cNvCxnSpPr>
            <a:stCxn id="453" idx="4"/>
            <a:endCxn id="457" idx="0"/>
          </p:cNvCxnSpPr>
          <p:nvPr/>
        </p:nvCxnSpPr>
        <p:spPr>
          <a:xfrm>
            <a:off x="4527360" y="4910040"/>
            <a:ext cx="5148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879800" y="4300560"/>
            <a:ext cx="5400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27" idx="5"/>
            <a:endCxn id="459" idx="0"/>
          </p:cNvCxnSpPr>
          <p:nvPr/>
        </p:nvCxnSpPr>
        <p:spPr>
          <a:xfrm>
            <a:off x="4568400" y="4011120"/>
            <a:ext cx="3387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4735440" y="457524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68840" y="4797360"/>
            <a:ext cx="554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24560" y="50212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4"/>
            <a:endCxn id="461" idx="0"/>
          </p:cNvCxnSpPr>
          <p:nvPr/>
        </p:nvCxnSpPr>
        <p:spPr>
          <a:xfrm flipH="1">
            <a:off x="4762080" y="4425480"/>
            <a:ext cx="1447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4"/>
            <a:endCxn id="462" idx="0"/>
          </p:cNvCxnSpPr>
          <p:nvPr/>
        </p:nvCxnSpPr>
        <p:spPr>
          <a:xfrm flipH="1">
            <a:off x="4695120" y="4698720"/>
            <a:ext cx="673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2" idx="4"/>
            <a:endCxn id="463" idx="0"/>
          </p:cNvCxnSpPr>
          <p:nvPr/>
        </p:nvCxnSpPr>
        <p:spPr>
          <a:xfrm flipH="1">
            <a:off x="4650840" y="4919760"/>
            <a:ext cx="453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4718160" y="50212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2" idx="4"/>
            <a:endCxn id="467" idx="0"/>
          </p:cNvCxnSpPr>
          <p:nvPr/>
        </p:nvCxnSpPr>
        <p:spPr>
          <a:xfrm>
            <a:off x="4695480" y="4919760"/>
            <a:ext cx="5004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4829040" y="477360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8476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1" idx="4"/>
            <a:endCxn id="469" idx="0"/>
          </p:cNvCxnSpPr>
          <p:nvPr/>
        </p:nvCxnSpPr>
        <p:spPr>
          <a:xfrm>
            <a:off x="4762440" y="469872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9" idx="4"/>
            <a:endCxn id="470" idx="0"/>
          </p:cNvCxnSpPr>
          <p:nvPr/>
        </p:nvCxnSpPr>
        <p:spPr>
          <a:xfrm flipH="1">
            <a:off x="4811040" y="4897440"/>
            <a:ext cx="4500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87980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69" idx="4"/>
            <a:endCxn id="473" idx="0"/>
          </p:cNvCxnSpPr>
          <p:nvPr/>
        </p:nvCxnSpPr>
        <p:spPr>
          <a:xfrm>
            <a:off x="4855680" y="4897440"/>
            <a:ext cx="514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5057640" y="45496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89600" y="47736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4676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59" idx="4"/>
            <a:endCxn id="475" idx="0"/>
          </p:cNvCxnSpPr>
          <p:nvPr/>
        </p:nvCxnSpPr>
        <p:spPr>
          <a:xfrm>
            <a:off x="4906800" y="442584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5" idx="4"/>
            <a:endCxn id="476" idx="0"/>
          </p:cNvCxnSpPr>
          <p:nvPr/>
        </p:nvCxnSpPr>
        <p:spPr>
          <a:xfrm flipH="1">
            <a:off x="5015880" y="4673520"/>
            <a:ext cx="687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4"/>
            <a:endCxn id="477" idx="0"/>
          </p:cNvCxnSpPr>
          <p:nvPr/>
        </p:nvCxnSpPr>
        <p:spPr>
          <a:xfrm flipH="1">
            <a:off x="4973040" y="4897440"/>
            <a:ext cx="435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504036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>
            <a:stCxn id="476" idx="4"/>
            <a:endCxn id="481" idx="0"/>
          </p:cNvCxnSpPr>
          <p:nvPr/>
        </p:nvCxnSpPr>
        <p:spPr>
          <a:xfrm>
            <a:off x="5016240" y="4897440"/>
            <a:ext cx="514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5151600" y="4748040"/>
            <a:ext cx="554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0696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"/>
          <p:cNvCxnSpPr>
            <a:stCxn id="475" idx="4"/>
            <a:endCxn id="483" idx="0"/>
          </p:cNvCxnSpPr>
          <p:nvPr/>
        </p:nvCxnSpPr>
        <p:spPr>
          <a:xfrm>
            <a:off x="5084280" y="4673160"/>
            <a:ext cx="946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4"/>
            <a:endCxn id="484" idx="0"/>
          </p:cNvCxnSpPr>
          <p:nvPr/>
        </p:nvCxnSpPr>
        <p:spPr>
          <a:xfrm flipH="1">
            <a:off x="5133600" y="4870440"/>
            <a:ext cx="453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5200560" y="497052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3" idx="4"/>
            <a:endCxn id="487" idx="0"/>
          </p:cNvCxnSpPr>
          <p:nvPr/>
        </p:nvCxnSpPr>
        <p:spPr>
          <a:xfrm>
            <a:off x="5178600" y="4870440"/>
            <a:ext cx="496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73960" y="33577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05520" y="3905280"/>
            <a:ext cx="55440" cy="12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1760" y="43401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"/>
          <p:cNvCxnSpPr>
            <a:stCxn id="362" idx="4"/>
            <a:endCxn id="489" idx="0"/>
          </p:cNvCxnSpPr>
          <p:nvPr/>
        </p:nvCxnSpPr>
        <p:spPr>
          <a:xfrm>
            <a:off x="5129280" y="3120840"/>
            <a:ext cx="14724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9" idx="4"/>
            <a:endCxn id="490" idx="0"/>
          </p:cNvCxnSpPr>
          <p:nvPr/>
        </p:nvCxnSpPr>
        <p:spPr>
          <a:xfrm flipH="1">
            <a:off x="6032160" y="3481200"/>
            <a:ext cx="56880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0" idx="4"/>
            <a:endCxn id="491" idx="0"/>
          </p:cNvCxnSpPr>
          <p:nvPr/>
        </p:nvCxnSpPr>
        <p:spPr>
          <a:xfrm flipH="1">
            <a:off x="5738400" y="4026960"/>
            <a:ext cx="2944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5568840" y="461160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02240" y="4835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57960" y="5056200"/>
            <a:ext cx="5400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1" idx="4"/>
            <a:endCxn id="495" idx="0"/>
          </p:cNvCxnSpPr>
          <p:nvPr/>
        </p:nvCxnSpPr>
        <p:spPr>
          <a:xfrm flipH="1">
            <a:off x="5595120" y="4464000"/>
            <a:ext cx="1436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95" idx="4"/>
            <a:endCxn id="496" idx="0"/>
          </p:cNvCxnSpPr>
          <p:nvPr/>
        </p:nvCxnSpPr>
        <p:spPr>
          <a:xfrm flipH="1">
            <a:off x="5528520" y="473544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6" idx="4"/>
            <a:endCxn id="497" idx="0"/>
          </p:cNvCxnSpPr>
          <p:nvPr/>
        </p:nvCxnSpPr>
        <p:spPr>
          <a:xfrm flipH="1">
            <a:off x="5484240" y="4959000"/>
            <a:ext cx="4500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5551560" y="5056200"/>
            <a:ext cx="554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6" idx="4"/>
            <a:endCxn id="501" idx="0"/>
          </p:cNvCxnSpPr>
          <p:nvPr/>
        </p:nvCxnSpPr>
        <p:spPr>
          <a:xfrm>
            <a:off x="5528880" y="4959000"/>
            <a:ext cx="500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5662440" y="48117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1816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495" idx="4"/>
            <a:endCxn id="503" idx="0"/>
          </p:cNvCxnSpPr>
          <p:nvPr/>
        </p:nvCxnSpPr>
        <p:spPr>
          <a:xfrm>
            <a:off x="5595840" y="4735440"/>
            <a:ext cx="94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3" idx="4"/>
            <a:endCxn id="504" idx="0"/>
          </p:cNvCxnSpPr>
          <p:nvPr/>
        </p:nvCxnSpPr>
        <p:spPr>
          <a:xfrm flipH="1">
            <a:off x="5644440" y="4935240"/>
            <a:ext cx="4500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71176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503" idx="4"/>
            <a:endCxn id="507" idx="0"/>
          </p:cNvCxnSpPr>
          <p:nvPr/>
        </p:nvCxnSpPr>
        <p:spPr>
          <a:xfrm>
            <a:off x="5689080" y="4935240"/>
            <a:ext cx="5004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5889600" y="458784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23000" y="48117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7836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491" idx="4"/>
            <a:endCxn id="509" idx="0"/>
          </p:cNvCxnSpPr>
          <p:nvPr/>
        </p:nvCxnSpPr>
        <p:spPr>
          <a:xfrm>
            <a:off x="5738760" y="446400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9" idx="4"/>
            <a:endCxn id="510" idx="0"/>
          </p:cNvCxnSpPr>
          <p:nvPr/>
        </p:nvCxnSpPr>
        <p:spPr>
          <a:xfrm flipH="1">
            <a:off x="5849280" y="471168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0" idx="4"/>
            <a:endCxn id="511" idx="0"/>
          </p:cNvCxnSpPr>
          <p:nvPr/>
        </p:nvCxnSpPr>
        <p:spPr>
          <a:xfrm flipH="1">
            <a:off x="5805000" y="4935240"/>
            <a:ext cx="453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5873760" y="50338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10" idx="4"/>
            <a:endCxn id="515" idx="0"/>
          </p:cNvCxnSpPr>
          <p:nvPr/>
        </p:nvCxnSpPr>
        <p:spPr>
          <a:xfrm>
            <a:off x="5849640" y="4935240"/>
            <a:ext cx="514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5983200" y="4786200"/>
            <a:ext cx="572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38920" y="5008680"/>
            <a:ext cx="572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509" idx="4"/>
            <a:endCxn id="517" idx="0"/>
          </p:cNvCxnSpPr>
          <p:nvPr/>
        </p:nvCxnSpPr>
        <p:spPr>
          <a:xfrm>
            <a:off x="5916240" y="4711320"/>
            <a:ext cx="961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17" idx="4"/>
            <a:endCxn id="518" idx="0"/>
          </p:cNvCxnSpPr>
          <p:nvPr/>
        </p:nvCxnSpPr>
        <p:spPr>
          <a:xfrm flipH="1">
            <a:off x="5967000" y="4910040"/>
            <a:ext cx="453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6033960" y="50086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"/>
          <p:cNvCxnSpPr>
            <a:stCxn id="517" idx="4"/>
            <a:endCxn id="521" idx="0"/>
          </p:cNvCxnSpPr>
          <p:nvPr/>
        </p:nvCxnSpPr>
        <p:spPr>
          <a:xfrm>
            <a:off x="6012000" y="4910040"/>
            <a:ext cx="4968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6362640" y="430200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"/>
          <p:cNvCxnSpPr>
            <a:stCxn id="490" idx="5"/>
            <a:endCxn id="523" idx="0"/>
          </p:cNvCxnSpPr>
          <p:nvPr/>
        </p:nvCxnSpPr>
        <p:spPr>
          <a:xfrm>
            <a:off x="6051240" y="4008240"/>
            <a:ext cx="3387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6218280" y="457524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51680" y="47973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07040" y="5021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3" idx="4"/>
            <a:endCxn id="525" idx="0"/>
          </p:cNvCxnSpPr>
          <p:nvPr/>
        </p:nvCxnSpPr>
        <p:spPr>
          <a:xfrm flipH="1">
            <a:off x="6244920" y="4425480"/>
            <a:ext cx="1447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5" idx="4"/>
            <a:endCxn id="526" idx="0"/>
          </p:cNvCxnSpPr>
          <p:nvPr/>
        </p:nvCxnSpPr>
        <p:spPr>
          <a:xfrm flipH="1">
            <a:off x="6177960" y="4698720"/>
            <a:ext cx="673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6" idx="4"/>
            <a:endCxn id="527" idx="0"/>
          </p:cNvCxnSpPr>
          <p:nvPr/>
        </p:nvCxnSpPr>
        <p:spPr>
          <a:xfrm flipH="1">
            <a:off x="6133680" y="4921200"/>
            <a:ext cx="453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6200640" y="5021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26" idx="4"/>
            <a:endCxn id="531" idx="0"/>
          </p:cNvCxnSpPr>
          <p:nvPr/>
        </p:nvCxnSpPr>
        <p:spPr>
          <a:xfrm>
            <a:off x="6178680" y="4921200"/>
            <a:ext cx="496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6311880" y="47736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6904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"/>
          <p:cNvCxnSpPr>
            <a:stCxn id="525" idx="4"/>
            <a:endCxn id="533" idx="0"/>
          </p:cNvCxnSpPr>
          <p:nvPr/>
        </p:nvCxnSpPr>
        <p:spPr>
          <a:xfrm>
            <a:off x="6245280" y="469872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4"/>
            <a:endCxn id="534" idx="0"/>
          </p:cNvCxnSpPr>
          <p:nvPr/>
        </p:nvCxnSpPr>
        <p:spPr>
          <a:xfrm flipH="1">
            <a:off x="6295320" y="4897440"/>
            <a:ext cx="435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636264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3" idx="4"/>
            <a:endCxn id="537" idx="0"/>
          </p:cNvCxnSpPr>
          <p:nvPr/>
        </p:nvCxnSpPr>
        <p:spPr>
          <a:xfrm>
            <a:off x="6338520" y="4897440"/>
            <a:ext cx="514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540480" y="45496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477360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29240" y="499752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"/>
          <p:cNvCxnSpPr>
            <a:stCxn id="523" idx="4"/>
            <a:endCxn id="539" idx="0"/>
          </p:cNvCxnSpPr>
          <p:nvPr/>
        </p:nvCxnSpPr>
        <p:spPr>
          <a:xfrm>
            <a:off x="6389640" y="442584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9" idx="4"/>
            <a:endCxn id="540" idx="0"/>
          </p:cNvCxnSpPr>
          <p:nvPr/>
        </p:nvCxnSpPr>
        <p:spPr>
          <a:xfrm flipH="1">
            <a:off x="6500160" y="467352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4"/>
            <a:endCxn id="541" idx="0"/>
          </p:cNvCxnSpPr>
          <p:nvPr/>
        </p:nvCxnSpPr>
        <p:spPr>
          <a:xfrm flipH="1">
            <a:off x="6455880" y="4897440"/>
            <a:ext cx="453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652320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"/>
          <p:cNvCxnSpPr>
            <a:stCxn id="540" idx="4"/>
            <a:endCxn id="545" idx="0"/>
          </p:cNvCxnSpPr>
          <p:nvPr/>
        </p:nvCxnSpPr>
        <p:spPr>
          <a:xfrm>
            <a:off x="6500520" y="4897440"/>
            <a:ext cx="5004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6634080" y="4748040"/>
            <a:ext cx="5580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8980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9" idx="4"/>
            <a:endCxn id="547" idx="0"/>
          </p:cNvCxnSpPr>
          <p:nvPr/>
        </p:nvCxnSpPr>
        <p:spPr>
          <a:xfrm>
            <a:off x="6567480" y="467316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7" idx="4"/>
            <a:endCxn id="548" idx="0"/>
          </p:cNvCxnSpPr>
          <p:nvPr/>
        </p:nvCxnSpPr>
        <p:spPr>
          <a:xfrm flipH="1">
            <a:off x="6616080" y="4870440"/>
            <a:ext cx="4500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68340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"/>
          <p:cNvCxnSpPr>
            <a:stCxn id="547" idx="4"/>
            <a:endCxn id="551" idx="0"/>
          </p:cNvCxnSpPr>
          <p:nvPr/>
        </p:nvCxnSpPr>
        <p:spPr>
          <a:xfrm>
            <a:off x="6660720" y="4870440"/>
            <a:ext cx="5004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7419960" y="39067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126200" y="434016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489" idx="4"/>
            <a:endCxn id="553" idx="0"/>
          </p:cNvCxnSpPr>
          <p:nvPr/>
        </p:nvCxnSpPr>
        <p:spPr>
          <a:xfrm>
            <a:off x="6600960" y="3481200"/>
            <a:ext cx="8467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"/>
          <p:cNvCxnSpPr>
            <a:stCxn id="553" idx="4"/>
            <a:endCxn id="554" idx="0"/>
          </p:cNvCxnSpPr>
          <p:nvPr/>
        </p:nvCxnSpPr>
        <p:spPr>
          <a:xfrm flipH="1">
            <a:off x="7152840" y="4030560"/>
            <a:ext cx="2944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6981840" y="4611600"/>
            <a:ext cx="572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916680" y="4835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72400" y="5056200"/>
            <a:ext cx="5400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4"/>
            <a:endCxn id="557" idx="0"/>
          </p:cNvCxnSpPr>
          <p:nvPr/>
        </p:nvCxnSpPr>
        <p:spPr>
          <a:xfrm flipH="1">
            <a:off x="7009560" y="4464000"/>
            <a:ext cx="1436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4"/>
            <a:endCxn id="558" idx="0"/>
          </p:cNvCxnSpPr>
          <p:nvPr/>
        </p:nvCxnSpPr>
        <p:spPr>
          <a:xfrm flipH="1">
            <a:off x="6942960" y="4734000"/>
            <a:ext cx="6732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8" idx="4"/>
            <a:endCxn id="559" idx="0"/>
          </p:cNvCxnSpPr>
          <p:nvPr/>
        </p:nvCxnSpPr>
        <p:spPr>
          <a:xfrm flipH="1">
            <a:off x="6898680" y="4959000"/>
            <a:ext cx="4500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6966000" y="5056200"/>
            <a:ext cx="554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"/>
          <p:cNvCxnSpPr>
            <a:stCxn id="558" idx="4"/>
            <a:endCxn id="563" idx="0"/>
          </p:cNvCxnSpPr>
          <p:nvPr/>
        </p:nvCxnSpPr>
        <p:spPr>
          <a:xfrm>
            <a:off x="6943320" y="4959000"/>
            <a:ext cx="500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7077240" y="48117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32600" y="50338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57" idx="4"/>
            <a:endCxn id="565" idx="0"/>
          </p:cNvCxnSpPr>
          <p:nvPr/>
        </p:nvCxnSpPr>
        <p:spPr>
          <a:xfrm>
            <a:off x="7009920" y="4734000"/>
            <a:ext cx="946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5" idx="4"/>
            <a:endCxn id="566" idx="0"/>
          </p:cNvCxnSpPr>
          <p:nvPr/>
        </p:nvCxnSpPr>
        <p:spPr>
          <a:xfrm flipH="1">
            <a:off x="7059240" y="4935240"/>
            <a:ext cx="453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12620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"/>
          <p:cNvCxnSpPr>
            <a:stCxn id="565" idx="4"/>
            <a:endCxn id="569" idx="0"/>
          </p:cNvCxnSpPr>
          <p:nvPr/>
        </p:nvCxnSpPr>
        <p:spPr>
          <a:xfrm>
            <a:off x="7104240" y="4935240"/>
            <a:ext cx="496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7304040" y="458784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37440" y="481176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92800" y="50338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54" idx="4"/>
            <a:endCxn id="571" idx="0"/>
          </p:cNvCxnSpPr>
          <p:nvPr/>
        </p:nvCxnSpPr>
        <p:spPr>
          <a:xfrm>
            <a:off x="7153200" y="446400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71" idx="4"/>
            <a:endCxn id="572" idx="0"/>
          </p:cNvCxnSpPr>
          <p:nvPr/>
        </p:nvCxnSpPr>
        <p:spPr>
          <a:xfrm flipH="1">
            <a:off x="7263720" y="4711680"/>
            <a:ext cx="673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2" idx="4"/>
            <a:endCxn id="573" idx="0"/>
          </p:cNvCxnSpPr>
          <p:nvPr/>
        </p:nvCxnSpPr>
        <p:spPr>
          <a:xfrm flipH="1">
            <a:off x="7219440" y="4935240"/>
            <a:ext cx="453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7288200" y="50338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>
            <a:stCxn id="572" idx="4"/>
            <a:endCxn id="577" idx="0"/>
          </p:cNvCxnSpPr>
          <p:nvPr/>
        </p:nvCxnSpPr>
        <p:spPr>
          <a:xfrm>
            <a:off x="7264080" y="4935240"/>
            <a:ext cx="5148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7397640" y="478620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53360" y="500868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1" idx="4"/>
            <a:endCxn id="579" idx="0"/>
          </p:cNvCxnSpPr>
          <p:nvPr/>
        </p:nvCxnSpPr>
        <p:spPr>
          <a:xfrm>
            <a:off x="7331040" y="471132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9" idx="4"/>
            <a:endCxn id="580" idx="0"/>
          </p:cNvCxnSpPr>
          <p:nvPr/>
        </p:nvCxnSpPr>
        <p:spPr>
          <a:xfrm flipH="1">
            <a:off x="7379640" y="4910040"/>
            <a:ext cx="4500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7448400" y="50086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"/>
          <p:cNvCxnSpPr>
            <a:stCxn id="579" idx="4"/>
            <a:endCxn id="583" idx="0"/>
          </p:cNvCxnSpPr>
          <p:nvPr/>
        </p:nvCxnSpPr>
        <p:spPr>
          <a:xfrm>
            <a:off x="7424280" y="4910040"/>
            <a:ext cx="5148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7777080" y="4300560"/>
            <a:ext cx="5400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"/>
          <p:cNvCxnSpPr>
            <a:stCxn id="553" idx="5"/>
            <a:endCxn id="585" idx="0"/>
          </p:cNvCxnSpPr>
          <p:nvPr/>
        </p:nvCxnSpPr>
        <p:spPr>
          <a:xfrm>
            <a:off x="7465680" y="4011120"/>
            <a:ext cx="3387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7632720" y="457524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566120" y="4797360"/>
            <a:ext cx="554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521480" y="5021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"/>
          <p:cNvCxnSpPr>
            <a:stCxn id="585" idx="4"/>
            <a:endCxn id="587" idx="0"/>
          </p:cNvCxnSpPr>
          <p:nvPr/>
        </p:nvCxnSpPr>
        <p:spPr>
          <a:xfrm flipH="1">
            <a:off x="7659360" y="4425480"/>
            <a:ext cx="1447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87" idx="4"/>
            <a:endCxn id="588" idx="0"/>
          </p:cNvCxnSpPr>
          <p:nvPr/>
        </p:nvCxnSpPr>
        <p:spPr>
          <a:xfrm flipH="1">
            <a:off x="7592400" y="4698720"/>
            <a:ext cx="673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4"/>
            <a:endCxn id="589" idx="0"/>
          </p:cNvCxnSpPr>
          <p:nvPr/>
        </p:nvCxnSpPr>
        <p:spPr>
          <a:xfrm flipH="1">
            <a:off x="7548120" y="4919760"/>
            <a:ext cx="453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7615080" y="5021280"/>
            <a:ext cx="558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"/>
          <p:cNvCxnSpPr>
            <a:stCxn id="588" idx="4"/>
            <a:endCxn id="593" idx="0"/>
          </p:cNvCxnSpPr>
          <p:nvPr/>
        </p:nvCxnSpPr>
        <p:spPr>
          <a:xfrm>
            <a:off x="7593120" y="4919760"/>
            <a:ext cx="4968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7726320" y="47736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8204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"/>
          <p:cNvCxnSpPr>
            <a:stCxn id="587" idx="4"/>
            <a:endCxn id="595" idx="0"/>
          </p:cNvCxnSpPr>
          <p:nvPr/>
        </p:nvCxnSpPr>
        <p:spPr>
          <a:xfrm>
            <a:off x="7659720" y="469872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5" idx="4"/>
            <a:endCxn id="596" idx="0"/>
          </p:cNvCxnSpPr>
          <p:nvPr/>
        </p:nvCxnSpPr>
        <p:spPr>
          <a:xfrm flipH="1">
            <a:off x="7708320" y="4897440"/>
            <a:ext cx="4500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777708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595" idx="4"/>
            <a:endCxn id="599" idx="0"/>
          </p:cNvCxnSpPr>
          <p:nvPr/>
        </p:nvCxnSpPr>
        <p:spPr>
          <a:xfrm>
            <a:off x="7752960" y="4897440"/>
            <a:ext cx="514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7954920" y="454968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886880" y="477360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843680" y="4997520"/>
            <a:ext cx="5400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"/>
          <p:cNvCxnSpPr>
            <a:stCxn id="585" idx="4"/>
            <a:endCxn id="601" idx="0"/>
          </p:cNvCxnSpPr>
          <p:nvPr/>
        </p:nvCxnSpPr>
        <p:spPr>
          <a:xfrm>
            <a:off x="7804080" y="4425840"/>
            <a:ext cx="1782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1" idx="4"/>
            <a:endCxn id="602" idx="0"/>
          </p:cNvCxnSpPr>
          <p:nvPr/>
        </p:nvCxnSpPr>
        <p:spPr>
          <a:xfrm flipH="1">
            <a:off x="7913160" y="4673520"/>
            <a:ext cx="691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7869960" y="4897440"/>
            <a:ext cx="4356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7937640" y="4997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602" idx="4"/>
            <a:endCxn id="607" idx="0"/>
          </p:cNvCxnSpPr>
          <p:nvPr/>
        </p:nvCxnSpPr>
        <p:spPr>
          <a:xfrm>
            <a:off x="7913520" y="4897440"/>
            <a:ext cx="5184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8048520" y="4748040"/>
            <a:ext cx="5580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00424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"/>
          <p:cNvCxnSpPr>
            <a:stCxn id="601" idx="4"/>
            <a:endCxn id="609" idx="0"/>
          </p:cNvCxnSpPr>
          <p:nvPr/>
        </p:nvCxnSpPr>
        <p:spPr>
          <a:xfrm>
            <a:off x="7981920" y="4673160"/>
            <a:ext cx="9432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9" idx="4"/>
            <a:endCxn id="610" idx="0"/>
          </p:cNvCxnSpPr>
          <p:nvPr/>
        </p:nvCxnSpPr>
        <p:spPr>
          <a:xfrm flipH="1">
            <a:off x="8030520" y="4870440"/>
            <a:ext cx="4500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8097840" y="4970520"/>
            <a:ext cx="55440" cy="12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09" idx="4"/>
            <a:endCxn id="613" idx="0"/>
          </p:cNvCxnSpPr>
          <p:nvPr/>
        </p:nvCxnSpPr>
        <p:spPr>
          <a:xfrm>
            <a:off x="8075160" y="4870440"/>
            <a:ext cx="5004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Property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Fre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stic context fre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r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r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oggle final and non-final states of corresponding deterministic PD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417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40464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30240" y="493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8088200">
            <a:off x="1219320" y="2282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722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752480" y="722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29000" y="4176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05320" y="45720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73240" y="493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722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25000" y="763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1523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33720" y="15112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77960" y="1600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8088200">
            <a:off x="1066680" y="13348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828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15638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20960" y="1600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7432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73080" y="1182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2593800">
            <a:off x="646200" y="-1837080"/>
            <a:ext cx="4038120" cy="43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2064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8597400">
            <a:off x="915480" y="529920"/>
            <a:ext cx="18273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6" y="74"/>
                </a:moveTo>
                <a:arcTo wR="10800" hR="10800" stAng="-5803182" swAng="5011370"/>
                <a:lnTo>
                  <a:pt x="10800" y="10800"/>
                </a:lnTo>
                <a:close/>
              </a:path>
              <a:path fill="none" w="21600" h="21600">
                <a:moveTo>
                  <a:pt x="9536" y="74"/>
                </a:moveTo>
                <a:arcTo wR="10800" hR="10800" stAng="-5803182" swAng="501137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53960" y="2286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52880" y="184140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1828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40120" y="1917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8088200">
            <a:off x="5029200" y="16524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214632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62720" y="2146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54320" y="14241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184140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83120" y="1917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705720" y="2146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53080" y="50976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400800" y="104256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7010280" y="104256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8088200">
            <a:off x="6629400" y="3567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54160" y="1285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25920" y="1271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145280" y="1271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02240" y="2643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2593800">
            <a:off x="4678200" y="-1553400"/>
            <a:ext cx="3897360" cy="436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992840" y="188136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4745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76520" y="473220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20760" y="482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8088200">
            <a:off x="609480" y="45558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495320" y="510552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43000" y="504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4960" y="441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19520" y="4745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63760" y="482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286000" y="504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34131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981080" y="394668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2590920" y="394668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47847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8088200">
            <a:off x="2209680" y="32605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134440" y="30322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87680" y="486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29000" y="508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06560" y="4175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25560" y="4175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2593800">
            <a:off x="1248840" y="1348920"/>
            <a:ext cx="3897360" cy="436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8" y="14385"/>
                </a:moveTo>
                <a:arcTo wR="10800" hR="10800" stAng="1163170" swAng="3696595"/>
                <a:lnTo>
                  <a:pt x="10800" y="10800"/>
                </a:lnTo>
                <a:close/>
              </a:path>
              <a:path fill="none" w="21600" h="21600">
                <a:moveTo>
                  <a:pt x="20988" y="14385"/>
                </a:moveTo>
                <a:arcTo wR="10800" hR="10800" stAng="1163170" swAng="369659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11120" y="5318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09480" y="478476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8088200">
            <a:off x="3962520" y="46479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6856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63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38040" y="546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5080" y="533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25280" y="449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18088200">
            <a:off x="414360" y="3567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71560" y="67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9480" y="220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947880" y="906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14360" y="58572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53040" y="1231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29360" y="127152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715000" y="1515960"/>
            <a:ext cx="3380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629040" y="1676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752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34320" y="609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010280" y="6494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C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552720" y="990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01000" y="609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8088200">
            <a:off x="8077320" y="4568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02440" y="320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21160800">
            <a:off x="7260840" y="16459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91400">
            <a:off x="7315920" y="144756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621560" y="685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77320" y="68580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B,C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05920" y="17524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17924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,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086600" y="12189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67480" y="11430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773840" y="1295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8305560" y="12189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364240" y="1371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78560" y="990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07160" y="1600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16680" y="1371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0" y="830160"/>
            <a:ext cx="3380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8088200">
            <a:off x="1481040" y="3726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06520" y="236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25280" y="906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36800" y="21621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14200" y="2022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568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98680" y="2273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04292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18088200">
            <a:off x="431640" y="20966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640" y="259092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6516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7120" y="1933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4168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25260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0816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51160" y="261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242800" y="2314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49640" y="220176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32040" y="231444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3658800">
            <a:off x="-3036240" y="-4180680"/>
            <a:ext cx="8284320" cy="66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291611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29161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500120" y="3076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164840" y="200988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235440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89080" y="49417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66840" y="48020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07960" y="50655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50960" y="50529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95200" y="5141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9920" y="53704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17440" y="5370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93960" y="50655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404880" y="5141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60440" y="5370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03440" y="5398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95440" y="5181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02280" y="49816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84680" y="509436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3658800">
            <a:off x="-2884320" y="-1401120"/>
            <a:ext cx="8283600" cy="66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291611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29161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52400" y="5856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317840" y="4789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914400" y="4648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158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99072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4114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87480" y="419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19520" y="40384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20960" y="403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505320" y="4114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06440" y="419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00600" y="47242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419720" y="5181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478040" y="5334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14595600">
            <a:off x="-937800" y="4438800"/>
            <a:ext cx="8102880" cy="684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163349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16334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592360" y="3733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125360" y="4876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554360" y="49528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343400" y="51051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76880" y="464832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92440" y="4456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40200" y="476424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2546280" y="32036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24040" y="30639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65160" y="33274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08160" y="33148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652400" y="3403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27120" y="363204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74640" y="3632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51160" y="332748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862080" y="3403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17640" y="3632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60640" y="36608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52640" y="3443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659480" y="324324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241880" y="3355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3658800">
            <a:off x="-2427120" y="-3139560"/>
            <a:ext cx="8284320" cy="66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291611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29161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109600" y="41180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775040" y="3051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76520" y="23763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371600" y="2909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373040" y="2986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447920" y="29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23763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0" y="26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44680" y="24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0040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78160" y="2300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237636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26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63640" y="24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257800" y="29862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876920" y="3443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35240" y="35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14595600">
            <a:off x="-480240" y="2700720"/>
            <a:ext cx="8102160" cy="684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6" y="11660"/>
                </a:moveTo>
                <a:arcTo wR="10800" hR="10800" stAng="274141" swAng="2163349"/>
                <a:lnTo>
                  <a:pt x="10800" y="10800"/>
                </a:lnTo>
                <a:close/>
              </a:path>
              <a:path fill="none" w="21600" h="21600">
                <a:moveTo>
                  <a:pt x="21566" y="11660"/>
                </a:moveTo>
                <a:arcTo wR="10800" hR="10800" stAng="274141" swAng="216334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49560" y="1995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582560" y="31384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011560" y="32148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800600" y="336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34080" y="2909880"/>
            <a:ext cx="228600" cy="22860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44" y="64"/>
                  <a:pt x="144" y="96"/>
                </a:cubicBezTo>
                <a:cubicBezTo>
                  <a:pt x="144" y="128"/>
                  <a:pt x="9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849640" y="2717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97400" y="3025800"/>
            <a:ext cx="49392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2438280"/>
            <a:ext cx="49392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Z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7040" y="339264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B,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73320" y="3352680"/>
            <a:ext cx="493560" cy="49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030320" y="3392640"/>
            <a:ext cx="493560" cy="49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,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4:35:42Z</dcterms:created>
  <dc:creator>IBM_USER</dc:creator>
  <dc:description/>
  <dc:language>en-US</dc:language>
  <cp:lastModifiedBy>IBM_USER</cp:lastModifiedBy>
  <dcterms:modified xsi:type="dcterms:W3CDTF">2007-10-27T08:40:52Z</dcterms:modified>
  <cp:revision>341</cp:revision>
  <dc:subject/>
  <dc:title>Slide 1</dc:title>
</cp:coreProperties>
</file>