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80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QSplat :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 Multiresolution Point Rendering System for Large Data Meshes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39800" y="1773000"/>
            <a:ext cx="87724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per Presentation, Advanced Computer Graphics (CS685)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sented By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nish Chandak (02005004)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hushabh Goradia (04405002)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nil Kumar (05305805)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aper Appeared : SIGGRAPH 2000</a:t>
            </a:r>
            <a:endParaRPr b="0" lang="en-US" sz="1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uthors : Szymon Rusinklewicz, Marc Levoy</a:t>
            </a:r>
            <a:endParaRPr b="0" lang="en-US" sz="1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6240" y="2286000"/>
            <a:ext cx="1776600" cy="158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828800" y="2779560"/>
            <a:ext cx="1515960" cy="1562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792840" y="2741760"/>
            <a:ext cx="144000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l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511280"/>
            <a:ext cx="9072360" cy="57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lat Sha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OpenGL point (rendered as a squ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Opaque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Fuzzy spot which decays radially as Gaussian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pha ble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order to render points as fuzzy spots we need to make sure splats are drawn in the correct order. We can accomplish this with multi-pass rende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 Offset depth values by some amount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 Render only into the depth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 Unset depth offset and render addi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o the color buffer using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ison but not depth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665760" y="190656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602160" y="2286000"/>
            <a:ext cx="441360" cy="380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814920" y="3027240"/>
            <a:ext cx="457200" cy="3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2920" y="83880"/>
            <a:ext cx="90723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l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1092240"/>
            <a:ext cx="8400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ison of splats with a constan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611520" y="1763640"/>
            <a:ext cx="2889360" cy="288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804000" y="1763640"/>
            <a:ext cx="2889360" cy="2889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7980480" y="4871880"/>
            <a:ext cx="504720" cy="403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19040" y="1763640"/>
            <a:ext cx="2889360" cy="2898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1427040" y="4865760"/>
            <a:ext cx="505080" cy="419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4788000" y="4871880"/>
            <a:ext cx="487440" cy="420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71400" y="5796000"/>
            <a:ext cx="89042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ussian kernel exhibits less al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ve rendering times for square, circle, and Gaussian are 1, 2, and 4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ant threshold of 2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2920" y="83880"/>
            <a:ext cx="90723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l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2920" y="5796000"/>
            <a:ext cx="91566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rendering time the square is the best splat shape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 that results will be hardware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79400" y="4699080"/>
            <a:ext cx="546120" cy="420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52360" y="1008000"/>
            <a:ext cx="9491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ison of splats with constant rendering tim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980480" y="4703760"/>
            <a:ext cx="504720" cy="403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871880" y="4703760"/>
            <a:ext cx="487440" cy="4208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804000" y="1679400"/>
            <a:ext cx="2901960" cy="2911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3695760" y="16794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587520" y="1679400"/>
            <a:ext cx="288108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l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2920" y="1600200"/>
            <a:ext cx="907236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other consideration is whether the splats are always round or if they can be elliptical (perspectively corr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use the node normal to determine eccentricity of el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ing ellipses can cause holes to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ual Comparison between circular and elliptical spl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692360" y="3873600"/>
            <a:ext cx="3132000" cy="3116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5173560" y="3873600"/>
            <a:ext cx="3108600" cy="31161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2873520" y="7097760"/>
            <a:ext cx="411120" cy="360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6539040" y="7062840"/>
            <a:ext cx="31896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630360" y="2435400"/>
            <a:ext cx="8821440" cy="4803480"/>
            <a:chOff x="630360" y="2435400"/>
            <a:chExt cx="8821440" cy="4803480"/>
          </a:xfrm>
        </p:grpSpPr>
        <p:sp>
          <p:nvSpPr>
            <p:cNvPr id="302" name=""/>
            <p:cNvSpPr/>
            <p:nvPr/>
          </p:nvSpPr>
          <p:spPr>
            <a:xfrm>
              <a:off x="5040360" y="3024360"/>
              <a:ext cx="4410000" cy="42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0360" y="3024360"/>
              <a:ext cx="4410000" cy="42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40360" y="2435400"/>
              <a:ext cx="4410000" cy="58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d5b776"/>
                  </a:solidFill>
                  <a:latin typeface="Arial"/>
                </a:rPr>
                <a:t>QSpl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360" y="2435400"/>
              <a:ext cx="4410000" cy="58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d5b776"/>
                  </a:solidFill>
                  <a:latin typeface="Arial"/>
                </a:rPr>
                <a:t>Polyg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0360" y="2435400"/>
              <a:ext cx="44100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0360" y="7237440"/>
              <a:ext cx="44100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0360" y="2435400"/>
              <a:ext cx="1440" cy="58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450360" y="2435400"/>
              <a:ext cx="1440" cy="58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40360" y="2435400"/>
              <a:ext cx="44100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450360" y="3024360"/>
              <a:ext cx="1440" cy="4214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0360" y="3024360"/>
              <a:ext cx="1440" cy="4214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40360" y="2435400"/>
              <a:ext cx="1440" cy="4802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0360" y="3024360"/>
              <a:ext cx="8820000" cy="14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40360" y="7237440"/>
              <a:ext cx="44100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25056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arison between Polygons and Qsp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87520" y="1932120"/>
            <a:ext cx="89042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3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rendering large 3D models, what are the tradeoff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415160" y="3276720"/>
            <a:ext cx="7280280" cy="709560"/>
            <a:chOff x="1415160" y="3276720"/>
            <a:chExt cx="7280280" cy="709560"/>
          </a:xfrm>
        </p:grpSpPr>
        <p:sp>
          <p:nvSpPr>
            <p:cNvPr id="319" name=""/>
            <p:cNvSpPr/>
            <p:nvPr/>
          </p:nvSpPr>
          <p:spPr>
            <a:xfrm>
              <a:off x="1415160" y="3276720"/>
              <a:ext cx="2769840" cy="70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Verdana"/>
                </a:rPr>
                <a:t>Good for large, flat or</a:t>
              </a:r>
              <a:br>
                <a:rPr sz="2000"/>
              </a:br>
              <a:r>
                <a:rPr b="0" lang="en-GB" sz="2000" spc="-1" strike="noStrike">
                  <a:solidFill>
                    <a:srgbClr val="ffffff"/>
                  </a:solidFill>
                  <a:latin typeface="Verdana"/>
                </a:rPr>
                <a:t>subtly curved reg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28480" y="3276720"/>
              <a:ext cx="2766960" cy="70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Good for models with</a:t>
              </a:r>
              <a:br>
                <a:rPr sz="2000"/>
              </a:b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detail everyw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019520" y="4570560"/>
            <a:ext cx="7898400" cy="1017360"/>
            <a:chOff x="1019520" y="4570560"/>
            <a:chExt cx="7898400" cy="1017360"/>
          </a:xfrm>
        </p:grpSpPr>
        <p:sp>
          <p:nvSpPr>
            <p:cNvPr id="322" name=""/>
            <p:cNvSpPr/>
            <p:nvPr/>
          </p:nvSpPr>
          <p:spPr>
            <a:xfrm>
              <a:off x="1019520" y="4721400"/>
              <a:ext cx="3561120" cy="70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Highly-efficient rasterization</a:t>
              </a:r>
              <a:br>
                <a:rPr sz="2000"/>
              </a:b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with 3D graphics hard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07440" y="4570560"/>
              <a:ext cx="3210480" cy="101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Higher per-pixel cost, but</a:t>
              </a:r>
              <a:br>
                <a:rPr sz="2000"/>
              </a:b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less slowdown in</a:t>
              </a:r>
              <a:br>
                <a:rPr sz="2000"/>
              </a:b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absence of 3D hard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340640" y="5961240"/>
            <a:ext cx="7195680" cy="1017360"/>
            <a:chOff x="1340640" y="5961240"/>
            <a:chExt cx="7195680" cy="1017360"/>
          </a:xfrm>
        </p:grpSpPr>
        <p:sp>
          <p:nvSpPr>
            <p:cNvPr id="325" name=""/>
            <p:cNvSpPr/>
            <p:nvPr/>
          </p:nvSpPr>
          <p:spPr>
            <a:xfrm>
              <a:off x="1340640" y="5961240"/>
              <a:ext cx="2921040" cy="101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Decimation or crea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LOD data struct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is often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0840" y="6383160"/>
              <a:ext cx="2445480" cy="40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8f8f8"/>
                  </a:solidFill>
                  <a:latin typeface="Verdana"/>
                </a:rPr>
                <a:t>Fast pre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2920" y="167760"/>
            <a:ext cx="90723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Splat accomplishes its goal of interactive rendering of very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Splat’s performance both in preprocessing and rendering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itive with the fastest progressive display algorithm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sh simplification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ometric compression achieved by QSplat is close to tha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urrent geometric compress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Splat can be implemented independent of 3D graphics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124760" y="22860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838760" y="22860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Garamond-Regular"/>
              </a:rPr>
              <a:t>[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Garamond-Semibold"/>
              </a:rPr>
              <a:t>Levoy 8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Garamond-Regular"/>
              </a:rPr>
              <a:t>] Levoy, M. and Whitted, T. “The Use of Points as a Display Primitive,”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AGaramond-Italic"/>
              </a:rPr>
              <a:t>Technical Report TR 85-02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Garamond-Regular"/>
              </a:rPr>
              <a:t>, University of North Carolina at Chapel Hill, 19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699560" y="2971800"/>
            <a:ext cx="66150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Verdana"/>
              </a:rPr>
              <a:t>THANK</a:t>
            </a:r>
            <a:r>
              <a:rPr b="0" lang="en-GB" sz="8800" spc="-1" strike="noStrike">
                <a:solidFill>
                  <a:srgbClr val="ff0000"/>
                </a:solidFill>
                <a:latin typeface="Arial"/>
              </a:rPr>
              <a:t> YO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629400" y="914400"/>
            <a:ext cx="1828800" cy="1666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647720" y="914400"/>
            <a:ext cx="2009880" cy="16668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4838760" y="914400"/>
            <a:ext cx="647640" cy="1666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>
            <a:off x="2552760" y="4572000"/>
            <a:ext cx="17906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800" y="2811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oint Based Rendering Paradigm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9800" y="1733400"/>
            <a:ext cx="877248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>
              <a:lnSpc>
                <a:spcPct val="101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ndering time is proportional to complexity of the scene. 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101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es rendering algorithms exist for which this is not true ? 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101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is complexity relevant ?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-215640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Current model sizes varies from 100 million polygons to a billion polygons per model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-215640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State of art graphics processors have processing speed of few million triangles/second (nVidia Quadro at 17 million tri/sec)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-215640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The screen resolution is not increasing that fast. A whole primitive gets mapped to one pixel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630840" y="2898720"/>
            <a:ext cx="13525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45240" y="349200"/>
            <a:ext cx="161928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30640" y="2870280"/>
            <a:ext cx="1171800" cy="12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800" y="2811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oint Based Rendering Paradigm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9800" y="1520640"/>
            <a:ext cx="87724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0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2"/>
              </a:rPr>
              <a:t>endering massive datasets leads to triangle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0"/>
              </a:rPr>
              <a:t>whose projected area is less than one pixel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2"/>
              </a:rPr>
              <a:t>The traditional 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0"/>
              </a:rPr>
              <a:t>asterization methods become inefficient due to expensive triangle setup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2"/>
              </a:rPr>
              <a:t>Point-based geometry representation is sampling of 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2"/>
              </a:rPr>
              <a:t>continuous surface. Each point primitive ha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CMR12"/>
              </a:rPr>
              <a:t>3D posi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2"/>
              </a:rPr>
              <a:t>, (optionally)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CMR12"/>
              </a:rPr>
              <a:t>normal vector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2"/>
              </a:rPr>
              <a:t> and material properties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0"/>
              </a:rPr>
              <a:t>Point primitives need NOT store nor maintain globally consistent topological information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0"/>
              </a:rPr>
              <a:t>... thu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CMR10"/>
              </a:rPr>
              <a:t>points qualify as a better rendering primit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CMR10"/>
              </a:rPr>
              <a:t> for complex models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91240" y="228600"/>
            <a:ext cx="234180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80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Qsplat ?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02240" y="3198960"/>
            <a:ext cx="3449880" cy="358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04240" y="228600"/>
            <a:ext cx="13446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84520" y="528480"/>
            <a:ext cx="1476360" cy="1905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39800" y="1530000"/>
            <a:ext cx="87724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QSpl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is a point-based rendering system that uses the visibility culling, LOD control, and geometric compression to render very large triangular meshes. 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341280" indent="-3412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int samples (obtained from triangular meshes) are organized in a hierarchical fashion using bounding spheres, facilitating easy visibility culling, LOD control, &amp; rendering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341280" indent="-3412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341280" indent="-3412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The algorithm has two main components :-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2" marL="863640" indent="-28728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e-processing ste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: bounding sphere hierarchy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2" marL="863640" indent="-28728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ndering ste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: traverse tree and render splat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80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-processing Step : Building hierarchy tree</a:t>
            </a:r>
            <a:br>
              <a:rPr sz="28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Creating QSplat Data Structure)</a:t>
            </a:r>
            <a:endParaRPr b="1" i="1" lang="en-US" sz="2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39800" y="1961640"/>
            <a:ext cx="87724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rt with a triangle mesh produced by aligning and integrating scans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430440" y="3656160"/>
            <a:ext cx="2820960" cy="2133360"/>
            <a:chOff x="3430440" y="3656160"/>
            <a:chExt cx="2820960" cy="2133360"/>
          </a:xfrm>
        </p:grpSpPr>
        <p:sp>
          <p:nvSpPr>
            <p:cNvPr id="99" name=""/>
            <p:cNvSpPr/>
            <p:nvPr/>
          </p:nvSpPr>
          <p:spPr>
            <a:xfrm>
              <a:off x="3430440" y="43419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4840" y="43419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02040" y="36561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7640" y="36561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7640" y="50277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02040" y="50277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4840" y="57135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3640" y="4341960"/>
              <a:ext cx="7776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6440" y="36561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6440" y="50277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59240" y="43419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30440" y="57135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3640" y="5713560"/>
              <a:ext cx="7776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9240" y="5713560"/>
              <a:ext cx="76320" cy="75960"/>
            </a:xfrm>
            <a:prstGeom prst="ellipse">
              <a:avLst/>
            </a:prstGeom>
            <a:solidFill>
              <a:srgbClr val="d5b776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0" idx="3"/>
              <a:endCxn id="109" idx="1"/>
            </p:cNvCxnSpPr>
            <p:nvPr/>
          </p:nvCxnSpPr>
          <p:spPr>
            <a:xfrm>
              <a:off x="4420800" y="4379400"/>
              <a:ext cx="840600" cy="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14" name=""/>
            <p:cNvCxnSpPr>
              <a:stCxn id="100" idx="3"/>
              <a:endCxn id="104" idx="1"/>
            </p:cNvCxnSpPr>
            <p:nvPr/>
          </p:nvCxnSpPr>
          <p:spPr>
            <a:xfrm>
              <a:off x="4410000" y="440496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15" name=""/>
            <p:cNvCxnSpPr>
              <a:stCxn id="104" idx="0"/>
              <a:endCxn id="109" idx="1"/>
            </p:cNvCxnSpPr>
            <p:nvPr/>
          </p:nvCxnSpPr>
          <p:spPr>
            <a:xfrm flipV="1">
              <a:off x="4867200" y="44046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16" name=""/>
            <p:cNvCxnSpPr>
              <a:stCxn id="112" idx="0"/>
            </p:cNvCxnSpPr>
            <p:nvPr/>
          </p:nvCxnSpPr>
          <p:spPr>
            <a:xfrm flipV="1">
              <a:off x="5324040" y="5103360"/>
              <a:ext cx="415080" cy="6199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17" name=""/>
            <p:cNvCxnSpPr>
              <a:stCxn id="105" idx="0"/>
              <a:endCxn id="104" idx="1"/>
            </p:cNvCxnSpPr>
            <p:nvPr/>
          </p:nvCxnSpPr>
          <p:spPr>
            <a:xfrm flipV="1">
              <a:off x="4410000" y="50904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18" name=""/>
            <p:cNvCxnSpPr>
              <a:stCxn id="112" idx="1"/>
              <a:endCxn id="104" idx="3"/>
            </p:cNvCxnSpPr>
            <p:nvPr/>
          </p:nvCxnSpPr>
          <p:spPr>
            <a:xfrm flipH="1" flipV="1">
              <a:off x="4866840" y="50904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19" name=""/>
            <p:cNvCxnSpPr>
              <a:stCxn id="104" idx="3"/>
              <a:endCxn id="108" idx="1"/>
            </p:cNvCxnSpPr>
            <p:nvPr/>
          </p:nvCxnSpPr>
          <p:spPr>
            <a:xfrm>
              <a:off x="4878000" y="5065200"/>
              <a:ext cx="840600" cy="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0" name=""/>
            <p:cNvCxnSpPr>
              <a:stCxn id="109" idx="3"/>
              <a:endCxn id="108" idx="0"/>
            </p:cNvCxnSpPr>
            <p:nvPr/>
          </p:nvCxnSpPr>
          <p:spPr>
            <a:xfrm>
              <a:off x="5324040" y="4404960"/>
              <a:ext cx="430920" cy="62316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1" name=""/>
            <p:cNvCxnSpPr>
              <a:stCxn id="99" idx="3"/>
              <a:endCxn id="103" idx="1"/>
            </p:cNvCxnSpPr>
            <p:nvPr/>
          </p:nvCxnSpPr>
          <p:spPr>
            <a:xfrm>
              <a:off x="3494160" y="440496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2" name=""/>
            <p:cNvCxnSpPr>
              <a:stCxn id="105" idx="1"/>
              <a:endCxn id="103" idx="3"/>
            </p:cNvCxnSpPr>
            <p:nvPr/>
          </p:nvCxnSpPr>
          <p:spPr>
            <a:xfrm flipH="1" flipV="1">
              <a:off x="3951000" y="50904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3" name=""/>
            <p:cNvCxnSpPr>
              <a:stCxn id="103" idx="3"/>
              <a:endCxn id="104" idx="1"/>
            </p:cNvCxnSpPr>
            <p:nvPr/>
          </p:nvCxnSpPr>
          <p:spPr>
            <a:xfrm>
              <a:off x="3963600" y="5065200"/>
              <a:ext cx="840600" cy="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4" name=""/>
            <p:cNvCxnSpPr>
              <a:stCxn id="103" idx="0"/>
              <a:endCxn id="100" idx="1"/>
            </p:cNvCxnSpPr>
            <p:nvPr/>
          </p:nvCxnSpPr>
          <p:spPr>
            <a:xfrm flipV="1">
              <a:off x="3951360" y="44046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5" name=""/>
            <p:cNvCxnSpPr>
              <a:stCxn id="99" idx="3"/>
              <a:endCxn id="100" idx="1"/>
            </p:cNvCxnSpPr>
            <p:nvPr/>
          </p:nvCxnSpPr>
          <p:spPr>
            <a:xfrm>
              <a:off x="3506400" y="4379400"/>
              <a:ext cx="840600" cy="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6" name=""/>
            <p:cNvCxnSpPr>
              <a:stCxn id="103" idx="1"/>
              <a:endCxn id="110" idx="0"/>
            </p:cNvCxnSpPr>
            <p:nvPr/>
          </p:nvCxnSpPr>
          <p:spPr>
            <a:xfrm flipH="1">
              <a:off x="3493800" y="509076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7" name=""/>
            <p:cNvCxnSpPr>
              <a:stCxn id="110" idx="3"/>
              <a:endCxn id="105" idx="1"/>
            </p:cNvCxnSpPr>
            <p:nvPr/>
          </p:nvCxnSpPr>
          <p:spPr>
            <a:xfrm>
              <a:off x="3506400" y="5749920"/>
              <a:ext cx="840600" cy="216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8" name=""/>
            <p:cNvCxnSpPr>
              <a:stCxn id="105" idx="3"/>
              <a:endCxn id="112" idx="1"/>
            </p:cNvCxnSpPr>
            <p:nvPr/>
          </p:nvCxnSpPr>
          <p:spPr>
            <a:xfrm>
              <a:off x="4420800" y="5749920"/>
              <a:ext cx="840600" cy="216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29" name=""/>
            <p:cNvCxnSpPr>
              <a:stCxn id="112" idx="3"/>
              <a:endCxn id="111" idx="1"/>
            </p:cNvCxnSpPr>
            <p:nvPr/>
          </p:nvCxnSpPr>
          <p:spPr>
            <a:xfrm>
              <a:off x="5335560" y="5749920"/>
              <a:ext cx="838800" cy="216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0" name=""/>
            <p:cNvCxnSpPr>
              <a:stCxn id="111" idx="1"/>
              <a:endCxn id="108" idx="3"/>
            </p:cNvCxnSpPr>
            <p:nvPr/>
          </p:nvCxnSpPr>
          <p:spPr>
            <a:xfrm flipH="1" flipV="1">
              <a:off x="5781240" y="50904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1" name=""/>
            <p:cNvCxnSpPr>
              <a:stCxn id="108" idx="0"/>
              <a:endCxn id="106" idx="1"/>
            </p:cNvCxnSpPr>
            <p:nvPr/>
          </p:nvCxnSpPr>
          <p:spPr>
            <a:xfrm flipV="1">
              <a:off x="5781600" y="44046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2" name=""/>
            <p:cNvCxnSpPr>
              <a:stCxn id="109" idx="3"/>
              <a:endCxn id="106" idx="1"/>
            </p:cNvCxnSpPr>
            <p:nvPr/>
          </p:nvCxnSpPr>
          <p:spPr>
            <a:xfrm>
              <a:off x="5335560" y="4379400"/>
              <a:ext cx="838800" cy="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3" name=""/>
            <p:cNvCxnSpPr>
              <a:stCxn id="100" idx="0"/>
              <a:endCxn id="101" idx="1"/>
            </p:cNvCxnSpPr>
            <p:nvPr/>
          </p:nvCxnSpPr>
          <p:spPr>
            <a:xfrm flipV="1">
              <a:off x="4410000" y="372024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4" name=""/>
            <p:cNvCxnSpPr>
              <a:stCxn id="101" idx="3"/>
              <a:endCxn id="109" idx="1"/>
            </p:cNvCxnSpPr>
            <p:nvPr/>
          </p:nvCxnSpPr>
          <p:spPr>
            <a:xfrm>
              <a:off x="4867200" y="37206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5" name=""/>
            <p:cNvCxnSpPr>
              <a:stCxn id="109" idx="0"/>
              <a:endCxn id="107" idx="1"/>
            </p:cNvCxnSpPr>
            <p:nvPr/>
          </p:nvCxnSpPr>
          <p:spPr>
            <a:xfrm flipV="1">
              <a:off x="5324400" y="372024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6" name=""/>
            <p:cNvCxnSpPr>
              <a:stCxn id="107" idx="3"/>
              <a:endCxn id="106" idx="1"/>
            </p:cNvCxnSpPr>
            <p:nvPr/>
          </p:nvCxnSpPr>
          <p:spPr>
            <a:xfrm>
              <a:off x="5781600" y="37206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7" name=""/>
            <p:cNvCxnSpPr>
              <a:stCxn id="107" idx="1"/>
              <a:endCxn id="101" idx="3"/>
            </p:cNvCxnSpPr>
            <p:nvPr/>
          </p:nvCxnSpPr>
          <p:spPr>
            <a:xfrm flipH="1">
              <a:off x="4878000" y="3693600"/>
              <a:ext cx="838800" cy="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8" name=""/>
            <p:cNvCxnSpPr>
              <a:stCxn id="99" idx="0"/>
              <a:endCxn id="102" idx="1"/>
            </p:cNvCxnSpPr>
            <p:nvPr/>
          </p:nvCxnSpPr>
          <p:spPr>
            <a:xfrm flipV="1">
              <a:off x="3494160" y="372024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39" name=""/>
            <p:cNvCxnSpPr>
              <a:stCxn id="102" idx="3"/>
              <a:endCxn id="100" idx="1"/>
            </p:cNvCxnSpPr>
            <p:nvPr/>
          </p:nvCxnSpPr>
          <p:spPr>
            <a:xfrm>
              <a:off x="3951360" y="3720600"/>
              <a:ext cx="403920" cy="63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  <p:cxnSp>
          <p:nvCxnSpPr>
            <p:cNvPr id="140" name=""/>
            <p:cNvCxnSpPr>
              <a:stCxn id="102" idx="3"/>
              <a:endCxn id="101" idx="1"/>
            </p:cNvCxnSpPr>
            <p:nvPr/>
          </p:nvCxnSpPr>
          <p:spPr>
            <a:xfrm>
              <a:off x="3963600" y="3693600"/>
              <a:ext cx="840600" cy="2520"/>
            </a:xfrm>
            <a:prstGeom prst="straightConnector1">
              <a:avLst/>
            </a:prstGeom>
            <a:ln w="12600">
              <a:solidFill>
                <a:srgbClr val="b2b2b2"/>
              </a:solidFill>
              <a:miter/>
            </a:ln>
          </p:spPr>
        </p:cxn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80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-processing Step : Building hierarchy tree</a:t>
            </a:r>
            <a:br>
              <a:rPr sz="28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Creating QSplat Data Structure)</a:t>
            </a:r>
            <a:endParaRPr b="1" i="1" lang="en-US" sz="2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39800" y="1961640"/>
            <a:ext cx="87724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323640">
              <a:lnSpc>
                <a:spcPct val="101000"/>
              </a:lnSpc>
              <a:spcBef>
                <a:spcPts val="15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lace a sphere at each node, large enough to touch neighbor spheres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101000"/>
              </a:lnSpc>
              <a:spcBef>
                <a:spcPts val="15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101000"/>
              </a:lnSpc>
              <a:spcBef>
                <a:spcPts val="15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101000"/>
              </a:lnSpc>
              <a:spcBef>
                <a:spcPts val="15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101000"/>
              </a:lnSpc>
              <a:spcBef>
                <a:spcPts val="15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101000"/>
              </a:lnSpc>
              <a:spcBef>
                <a:spcPts val="15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101000"/>
              </a:lnSpc>
              <a:spcBef>
                <a:spcPts val="15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101000"/>
              </a:lnSpc>
              <a:spcBef>
                <a:spcPts val="15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971800" y="3341520"/>
            <a:ext cx="3774960" cy="3057840"/>
            <a:chOff x="2971800" y="3341520"/>
            <a:chExt cx="3774960" cy="3057840"/>
          </a:xfrm>
        </p:grpSpPr>
        <p:grpSp>
          <p:nvGrpSpPr>
            <p:cNvPr id="144" name=""/>
            <p:cNvGrpSpPr/>
            <p:nvPr/>
          </p:nvGrpSpPr>
          <p:grpSpPr>
            <a:xfrm>
              <a:off x="2971800" y="3341520"/>
              <a:ext cx="3774960" cy="3057840"/>
              <a:chOff x="2971800" y="3341520"/>
              <a:chExt cx="3774960" cy="3057840"/>
            </a:xfrm>
          </p:grpSpPr>
          <p:sp>
            <p:nvSpPr>
              <p:cNvPr id="145" name=""/>
              <p:cNvSpPr/>
              <p:nvPr/>
            </p:nvSpPr>
            <p:spPr>
              <a:xfrm>
                <a:off x="3429000" y="3341520"/>
                <a:ext cx="100476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71800" y="4032360"/>
                <a:ext cx="1004760" cy="100476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54560" y="3341520"/>
                <a:ext cx="100656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98800" y="4022640"/>
                <a:ext cx="100512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44840" y="4713120"/>
                <a:ext cx="100476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6480" y="5394240"/>
                <a:ext cx="100656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73640" y="3341520"/>
                <a:ext cx="100476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18240" y="4027320"/>
                <a:ext cx="1004760" cy="1005120"/>
              </a:xfrm>
              <a:prstGeom prst="ellipse">
                <a:avLst/>
              </a:prstGeom>
              <a:gradFill rotWithShape="0">
                <a:gsLst>
                  <a:gs pos="0">
                    <a:srgbClr val="525252"/>
                  </a:gs>
                  <a:gs pos="100000">
                    <a:srgbClr val="b2b2b2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5520" y="4022640"/>
                <a:ext cx="100512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708440"/>
                <a:ext cx="1004760" cy="1005120"/>
              </a:xfrm>
              <a:prstGeom prst="ellipse">
                <a:avLst/>
              </a:prstGeom>
              <a:gradFill rotWithShape="0">
                <a:gsLst>
                  <a:gs pos="0">
                    <a:srgbClr val="525252"/>
                  </a:gs>
                  <a:gs pos="100000">
                    <a:srgbClr val="b2b2b2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11760" y="5394240"/>
                <a:ext cx="100620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78320" y="4708440"/>
                <a:ext cx="100512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16440" y="5394240"/>
                <a:ext cx="100476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40560" y="5394240"/>
                <a:ext cx="1006200" cy="1005120"/>
              </a:xfrm>
              <a:prstGeom prst="ellipse">
                <a:avLst/>
              </a:pr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452760" y="3803760"/>
              <a:ext cx="2820960" cy="2133360"/>
              <a:chOff x="3452760" y="3803760"/>
              <a:chExt cx="2820960" cy="2133360"/>
            </a:xfrm>
          </p:grpSpPr>
          <p:sp>
            <p:nvSpPr>
              <p:cNvPr id="160" name=""/>
              <p:cNvSpPr/>
              <p:nvPr/>
            </p:nvSpPr>
            <p:spPr>
              <a:xfrm>
                <a:off x="3452760" y="4489560"/>
                <a:ext cx="777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68960" y="44895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26160" y="38037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11760" y="38037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11760" y="51753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26160" y="51753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68960" y="58611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97760" y="44895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40560" y="3803760"/>
                <a:ext cx="777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40560" y="5175360"/>
                <a:ext cx="777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83360" y="44895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52760" y="5861160"/>
                <a:ext cx="777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7760" y="58611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83360" y="5861160"/>
                <a:ext cx="75960" cy="75960"/>
              </a:xfrm>
              <a:prstGeom prst="ellipse">
                <a:avLst/>
              </a:prstGeom>
              <a:solidFill>
                <a:srgbClr val="d5b776"/>
              </a:solidFill>
              <a:ln w="1260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4" name=""/>
              <p:cNvCxnSpPr>
                <a:stCxn id="161" idx="3"/>
                <a:endCxn id="170" idx="1"/>
              </p:cNvCxnSpPr>
              <p:nvPr/>
            </p:nvCxnSpPr>
            <p:spPr>
              <a:xfrm>
                <a:off x="4443120" y="4527720"/>
                <a:ext cx="84060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75" name=""/>
              <p:cNvCxnSpPr>
                <a:stCxn id="161" idx="3"/>
                <a:endCxn id="165" idx="0"/>
              </p:cNvCxnSpPr>
              <p:nvPr/>
            </p:nvCxnSpPr>
            <p:spPr>
              <a:xfrm>
                <a:off x="4432320" y="455436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76" name=""/>
              <p:cNvCxnSpPr>
                <a:stCxn id="165" idx="0"/>
                <a:endCxn id="170" idx="1"/>
              </p:cNvCxnSpPr>
              <p:nvPr/>
            </p:nvCxnSpPr>
            <p:spPr>
              <a:xfrm flipV="1">
                <a:off x="4890960" y="45540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77" name=""/>
              <p:cNvCxnSpPr>
                <a:stCxn id="173" idx="0"/>
              </p:cNvCxnSpPr>
              <p:nvPr/>
            </p:nvCxnSpPr>
            <p:spPr>
              <a:xfrm flipV="1">
                <a:off x="5347800" y="5250600"/>
                <a:ext cx="415080" cy="62172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78" name=""/>
              <p:cNvCxnSpPr>
                <a:stCxn id="166" idx="0"/>
                <a:endCxn id="165" idx="1"/>
              </p:cNvCxnSpPr>
              <p:nvPr/>
            </p:nvCxnSpPr>
            <p:spPr>
              <a:xfrm flipV="1">
                <a:off x="4432320" y="52398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79" name=""/>
              <p:cNvCxnSpPr>
                <a:stCxn id="173" idx="1"/>
                <a:endCxn id="165" idx="2"/>
              </p:cNvCxnSpPr>
              <p:nvPr/>
            </p:nvCxnSpPr>
            <p:spPr>
              <a:xfrm flipH="1" flipV="1">
                <a:off x="4890600" y="52398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0" name=""/>
              <p:cNvCxnSpPr>
                <a:stCxn id="165" idx="3"/>
                <a:endCxn id="169" idx="1"/>
              </p:cNvCxnSpPr>
              <p:nvPr/>
            </p:nvCxnSpPr>
            <p:spPr>
              <a:xfrm>
                <a:off x="4901760" y="5213520"/>
                <a:ext cx="83916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1" name=""/>
              <p:cNvCxnSpPr>
                <a:stCxn id="170" idx="3"/>
                <a:endCxn id="169" idx="0"/>
              </p:cNvCxnSpPr>
              <p:nvPr/>
            </p:nvCxnSpPr>
            <p:spPr>
              <a:xfrm>
                <a:off x="5347800" y="4554000"/>
                <a:ext cx="430920" cy="623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2" name=""/>
              <p:cNvCxnSpPr>
                <a:stCxn id="160" idx="3"/>
                <a:endCxn id="164" idx="0"/>
              </p:cNvCxnSpPr>
              <p:nvPr/>
            </p:nvCxnSpPr>
            <p:spPr>
              <a:xfrm>
                <a:off x="3517920" y="455436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3" name=""/>
              <p:cNvCxnSpPr>
                <a:stCxn id="166" idx="1"/>
                <a:endCxn id="164" idx="2"/>
              </p:cNvCxnSpPr>
              <p:nvPr/>
            </p:nvCxnSpPr>
            <p:spPr>
              <a:xfrm flipH="1" flipV="1">
                <a:off x="3974760" y="52398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4" name=""/>
              <p:cNvCxnSpPr>
                <a:stCxn id="164" idx="3"/>
                <a:endCxn id="165" idx="1"/>
              </p:cNvCxnSpPr>
              <p:nvPr/>
            </p:nvCxnSpPr>
            <p:spPr>
              <a:xfrm>
                <a:off x="3985920" y="5213520"/>
                <a:ext cx="84060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5" name=""/>
              <p:cNvCxnSpPr>
                <a:stCxn id="164" idx="0"/>
                <a:endCxn id="161" idx="1"/>
              </p:cNvCxnSpPr>
              <p:nvPr/>
            </p:nvCxnSpPr>
            <p:spPr>
              <a:xfrm flipV="1">
                <a:off x="3975120" y="45540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6" name=""/>
              <p:cNvCxnSpPr>
                <a:stCxn id="160" idx="3"/>
                <a:endCxn id="161" idx="1"/>
              </p:cNvCxnSpPr>
              <p:nvPr/>
            </p:nvCxnSpPr>
            <p:spPr>
              <a:xfrm>
                <a:off x="3530160" y="4527720"/>
                <a:ext cx="83916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7" name=""/>
              <p:cNvCxnSpPr>
                <a:stCxn id="164" idx="1"/>
                <a:endCxn id="171" idx="0"/>
              </p:cNvCxnSpPr>
              <p:nvPr/>
            </p:nvCxnSpPr>
            <p:spPr>
              <a:xfrm flipH="1">
                <a:off x="3517560" y="524016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8" name=""/>
              <p:cNvCxnSpPr>
                <a:stCxn id="171" idx="3"/>
                <a:endCxn id="166" idx="1"/>
              </p:cNvCxnSpPr>
              <p:nvPr/>
            </p:nvCxnSpPr>
            <p:spPr>
              <a:xfrm>
                <a:off x="3530160" y="5899320"/>
                <a:ext cx="83916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89" name=""/>
              <p:cNvCxnSpPr>
                <a:stCxn id="166" idx="3"/>
                <a:endCxn id="173" idx="1"/>
              </p:cNvCxnSpPr>
              <p:nvPr/>
            </p:nvCxnSpPr>
            <p:spPr>
              <a:xfrm>
                <a:off x="4443120" y="5899320"/>
                <a:ext cx="84060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0" name=""/>
              <p:cNvCxnSpPr>
                <a:stCxn id="173" idx="3"/>
                <a:endCxn id="172" idx="1"/>
              </p:cNvCxnSpPr>
              <p:nvPr/>
            </p:nvCxnSpPr>
            <p:spPr>
              <a:xfrm>
                <a:off x="5358960" y="5899320"/>
                <a:ext cx="84060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1" name=""/>
              <p:cNvCxnSpPr>
                <a:stCxn id="172" idx="1"/>
                <a:endCxn id="169" idx="3"/>
              </p:cNvCxnSpPr>
              <p:nvPr/>
            </p:nvCxnSpPr>
            <p:spPr>
              <a:xfrm flipH="1" flipV="1">
                <a:off x="5805000" y="52398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2" name=""/>
              <p:cNvCxnSpPr>
                <a:stCxn id="169" idx="0"/>
                <a:endCxn id="167" idx="1"/>
              </p:cNvCxnSpPr>
              <p:nvPr/>
            </p:nvCxnSpPr>
            <p:spPr>
              <a:xfrm flipV="1">
                <a:off x="5805360" y="45540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3" name=""/>
              <p:cNvCxnSpPr>
                <a:stCxn id="170" idx="3"/>
                <a:endCxn id="167" idx="1"/>
              </p:cNvCxnSpPr>
              <p:nvPr/>
            </p:nvCxnSpPr>
            <p:spPr>
              <a:xfrm>
                <a:off x="5358960" y="4527720"/>
                <a:ext cx="84060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4" name=""/>
              <p:cNvCxnSpPr>
                <a:stCxn id="161" idx="0"/>
                <a:endCxn id="162" idx="1"/>
              </p:cNvCxnSpPr>
              <p:nvPr/>
            </p:nvCxnSpPr>
            <p:spPr>
              <a:xfrm flipV="1">
                <a:off x="4432320" y="38682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5" name=""/>
              <p:cNvCxnSpPr>
                <a:stCxn id="162" idx="3"/>
                <a:endCxn id="170" idx="1"/>
              </p:cNvCxnSpPr>
              <p:nvPr/>
            </p:nvCxnSpPr>
            <p:spPr>
              <a:xfrm>
                <a:off x="4890960" y="386856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6" name=""/>
              <p:cNvCxnSpPr>
                <a:stCxn id="170" idx="0"/>
                <a:endCxn id="168" idx="1"/>
              </p:cNvCxnSpPr>
              <p:nvPr/>
            </p:nvCxnSpPr>
            <p:spPr>
              <a:xfrm flipV="1">
                <a:off x="5348160" y="38682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7" name=""/>
              <p:cNvCxnSpPr>
                <a:stCxn id="168" idx="3"/>
                <a:endCxn id="167" idx="1"/>
              </p:cNvCxnSpPr>
              <p:nvPr/>
            </p:nvCxnSpPr>
            <p:spPr>
              <a:xfrm>
                <a:off x="5805360" y="386856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8" name=""/>
              <p:cNvCxnSpPr>
                <a:stCxn id="168" idx="1"/>
                <a:endCxn id="162" idx="3"/>
              </p:cNvCxnSpPr>
              <p:nvPr/>
            </p:nvCxnSpPr>
            <p:spPr>
              <a:xfrm flipH="1">
                <a:off x="4901400" y="3841920"/>
                <a:ext cx="83916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199" name=""/>
              <p:cNvCxnSpPr>
                <a:stCxn id="160" idx="0"/>
                <a:endCxn id="163" idx="1"/>
              </p:cNvCxnSpPr>
              <p:nvPr/>
            </p:nvCxnSpPr>
            <p:spPr>
              <a:xfrm flipV="1">
                <a:off x="3517920" y="386820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200" name=""/>
              <p:cNvCxnSpPr>
                <a:stCxn id="163" idx="3"/>
                <a:endCxn id="161" idx="1"/>
              </p:cNvCxnSpPr>
              <p:nvPr/>
            </p:nvCxnSpPr>
            <p:spPr>
              <a:xfrm>
                <a:off x="3975120" y="3868560"/>
                <a:ext cx="403920" cy="63288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  <p:cxnSp>
            <p:nvCxnSpPr>
              <p:cNvPr id="201" name=""/>
              <p:cNvCxnSpPr>
                <a:stCxn id="163" idx="3"/>
                <a:endCxn id="162" idx="1"/>
              </p:cNvCxnSpPr>
              <p:nvPr/>
            </p:nvCxnSpPr>
            <p:spPr>
              <a:xfrm>
                <a:off x="3985920" y="3841920"/>
                <a:ext cx="840600" cy="2160"/>
              </a:xfrm>
              <a:prstGeom prst="straightConnector1">
                <a:avLst/>
              </a:prstGeom>
              <a:ln w="12600">
                <a:solidFill>
                  <a:srgbClr val="b2b2b2"/>
                </a:solidFill>
                <a:miter/>
              </a:ln>
            </p:spPr>
          </p:cxn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955960" y="3030480"/>
            <a:ext cx="4157640" cy="3370320"/>
            <a:chOff x="2955960" y="3030480"/>
            <a:chExt cx="4157640" cy="3370320"/>
          </a:xfrm>
        </p:grpSpPr>
        <p:sp>
          <p:nvSpPr>
            <p:cNvPr id="203" name=""/>
            <p:cNvSpPr/>
            <p:nvPr/>
          </p:nvSpPr>
          <p:spPr>
            <a:xfrm>
              <a:off x="3459240" y="30304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55960" y="379080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78400" y="30304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75120" y="378144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75080" y="454176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60640" y="52927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91080" y="30304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89600" y="37861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00840" y="378144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83080" y="45370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89520" y="52927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95760" y="45370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86360" y="52927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5520" y="52927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773080" y="2867040"/>
            <a:ext cx="4451400" cy="3695760"/>
            <a:chOff x="2773080" y="2867040"/>
            <a:chExt cx="4451400" cy="3695760"/>
          </a:xfrm>
        </p:grpSpPr>
        <p:sp>
          <p:nvSpPr>
            <p:cNvPr id="218" name=""/>
            <p:cNvSpPr/>
            <p:nvPr/>
          </p:nvSpPr>
          <p:spPr>
            <a:xfrm>
              <a:off x="4956120" y="2867040"/>
              <a:ext cx="84240" cy="36957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4957200" y="2531880"/>
              <a:ext cx="82800" cy="44514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955960" y="3030480"/>
            <a:ext cx="4157640" cy="3370320"/>
            <a:chOff x="2955960" y="3030480"/>
            <a:chExt cx="4157640" cy="3370320"/>
          </a:xfrm>
        </p:grpSpPr>
        <p:sp>
          <p:nvSpPr>
            <p:cNvPr id="221" name=""/>
            <p:cNvSpPr/>
            <p:nvPr/>
          </p:nvSpPr>
          <p:spPr>
            <a:xfrm>
              <a:off x="3459240" y="30304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55960" y="379080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78400" y="30304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5120" y="378144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75080" y="454176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60640" y="52927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91080" y="30304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625436"/>
                </a:gs>
                <a:gs pos="100000">
                  <a:srgbClr val="d5b77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89600" y="37861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625436"/>
                </a:gs>
                <a:gs pos="100000">
                  <a:srgbClr val="d5b77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00840" y="378144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625436"/>
                </a:gs>
                <a:gs pos="100000">
                  <a:srgbClr val="d5b77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83080" y="45370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1e1e2d"/>
                </a:gs>
                <a:gs pos="100000">
                  <a:srgbClr val="424262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89520" y="52927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95760" y="453708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1e1e2d"/>
                </a:gs>
                <a:gs pos="100000">
                  <a:srgbClr val="424262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86360" y="52927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1e1e2d"/>
                </a:gs>
                <a:gs pos="100000">
                  <a:srgbClr val="424262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05520" y="5292720"/>
              <a:ext cx="1108080" cy="1108080"/>
            </a:xfrm>
            <a:prstGeom prst="ellipse">
              <a:avLst/>
            </a:prstGeom>
            <a:gradFill rotWithShape="0">
              <a:gsLst>
                <a:gs pos="0">
                  <a:srgbClr val="1e1e2d"/>
                </a:gs>
                <a:gs pos="100000">
                  <a:srgbClr val="424262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779560" y="2573280"/>
            <a:ext cx="4367520" cy="4348080"/>
            <a:chOff x="2779560" y="2573280"/>
            <a:chExt cx="4367520" cy="4348080"/>
          </a:xfrm>
        </p:grpSpPr>
        <p:sp>
          <p:nvSpPr>
            <p:cNvPr id="236" name=""/>
            <p:cNvSpPr/>
            <p:nvPr/>
          </p:nvSpPr>
          <p:spPr>
            <a:xfrm>
              <a:off x="2779560" y="2573280"/>
              <a:ext cx="2856240" cy="2855880"/>
            </a:xfrm>
            <a:prstGeom prst="ellipse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42000" y="3009960"/>
              <a:ext cx="2268360" cy="2268360"/>
            </a:xfrm>
            <a:prstGeom prst="ellipse">
              <a:avLst/>
            </a:prstGeom>
            <a:gradFill rotWithShape="0">
              <a:gsLst>
                <a:gs pos="0">
                  <a:srgbClr val="625436"/>
                </a:gs>
                <a:gs pos="100000">
                  <a:srgbClr val="d5b77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20960" y="4516560"/>
              <a:ext cx="2268720" cy="2268360"/>
            </a:xfrm>
            <a:prstGeom prst="ellipse">
              <a:avLst/>
            </a:pr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90840" y="4065480"/>
              <a:ext cx="2856240" cy="2855880"/>
            </a:xfrm>
            <a:prstGeom prst="ellipse">
              <a:avLst/>
            </a:prstGeom>
            <a:gradFill rotWithShape="0">
              <a:gsLst>
                <a:gs pos="0">
                  <a:srgbClr val="1e1e2d"/>
                </a:gs>
                <a:gs pos="100000">
                  <a:srgbClr val="424262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23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-processing Step : Building hierarchy tree</a:t>
            </a:r>
            <a:br>
              <a:rPr sz="28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Creating QSplat Data Struc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43320" y="2216160"/>
            <a:ext cx="5040000" cy="5038560"/>
          </a:xfrm>
          <a:prstGeom prst="ellipse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>
              <a:lnSpc>
                <a:spcPct val="101000"/>
              </a:lnSpc>
              <a:buClr>
                <a:srgbClr val="f8f8f8"/>
              </a:buClr>
              <a:buSzPct val="110000"/>
              <a:buFont typeface="Garamond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Building up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dur="indefinite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dur="indefinite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-processing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8120" y="1763280"/>
            <a:ext cx="90727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-processing issues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ensure that there are no holes in the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 set the leaf node spheres to be a certa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two vertices are joined by an edge, th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heres for those vertices are made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ough to touc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so, the size of a sphere at a vertex is se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ize of the maximum spher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ertices which make up that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to decrease the size of the tree, nodes are combin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the average branching factor to ~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after the tree is created the properties of the nod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91520" y="3432240"/>
            <a:ext cx="504720" cy="504720"/>
          </a:xfrm>
          <a:prstGeom prst="ellipse">
            <a:avLst/>
          </a:prstGeom>
          <a:solidFill>
            <a:srgbClr val="33cc33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91520" y="3935520"/>
            <a:ext cx="504720" cy="504720"/>
          </a:xfrm>
          <a:prstGeom prst="ellipse">
            <a:avLst/>
          </a:prstGeom>
          <a:solidFill>
            <a:srgbClr val="33cc33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43880" y="368460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712360" y="3684600"/>
            <a:ext cx="504720" cy="504720"/>
          </a:xfrm>
          <a:prstGeom prst="ellipse">
            <a:avLst/>
          </a:prstGeom>
          <a:solidFill>
            <a:srgbClr val="33cc33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43880" y="3684600"/>
            <a:ext cx="41904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543880" y="3933720"/>
            <a:ext cx="4190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486400" y="428760"/>
            <a:ext cx="704880" cy="140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343400" y="419040"/>
            <a:ext cx="704880" cy="1409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7772400" y="457200"/>
            <a:ext cx="704880" cy="1419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610320" y="457200"/>
            <a:ext cx="70488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25056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Splat Render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5280" y="1932120"/>
            <a:ext cx="85676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lnSpc>
                <a:spcPct val="101000"/>
              </a:lnSpc>
              <a:spcBef>
                <a:spcPts val="15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raverse hierarchy recursiv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79360" y="2550960"/>
            <a:ext cx="7485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66920" y="3108240"/>
            <a:ext cx="5538960" cy="344016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17819" dir="2700000" blurRad="0" rotWithShape="0">
              <a:srgbClr val="1e1e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8f8f8"/>
                </a:solidFill>
                <a:latin typeface="Arial"/>
              </a:rPr>
              <a:t>if </a:t>
            </a:r>
            <a:r>
              <a:rPr b="0" lang="en-GB" sz="2700" spc="-1" strike="noStrike">
                <a:solidFill>
                  <a:srgbClr val="f8f8f8"/>
                </a:solidFill>
                <a:latin typeface="Arial"/>
              </a:rPr>
              <a:t>(node not visi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d5b776"/>
                </a:solidFill>
                <a:latin typeface="Arial"/>
              </a:rPr>
              <a:t>Skip this bra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8f8f8"/>
                </a:solidFill>
                <a:latin typeface="Arial"/>
              </a:rPr>
              <a:t>else if</a:t>
            </a:r>
            <a:r>
              <a:rPr b="0" lang="en-GB" sz="2700" spc="-1" strike="noStrike">
                <a:solidFill>
                  <a:srgbClr val="f8f8f8"/>
                </a:solidFill>
                <a:latin typeface="Arial"/>
              </a:rPr>
              <a:t> (leaf nod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d5b776"/>
                </a:solidFill>
                <a:latin typeface="Arial"/>
              </a:rPr>
              <a:t>Draw a spl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8f8f8"/>
                </a:solidFill>
                <a:latin typeface="Arial"/>
              </a:rPr>
              <a:t>else if</a:t>
            </a:r>
            <a:r>
              <a:rPr b="0" lang="en-GB" sz="2700" spc="-1" strike="noStrike">
                <a:solidFill>
                  <a:srgbClr val="f8f8f8"/>
                </a:solidFill>
                <a:latin typeface="Arial"/>
              </a:rPr>
              <a:t> (size on screen &lt; threshol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d5b776"/>
                </a:solidFill>
                <a:latin typeface="Arial"/>
              </a:rPr>
              <a:t>Draw a spl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8f8f8"/>
                </a:solidFill>
                <a:latin typeface="Arial"/>
              </a:rPr>
              <a:t>el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d5b776"/>
                </a:solidFill>
                <a:latin typeface="Arial"/>
              </a:rPr>
              <a:t>Travers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457960" y="2351160"/>
            <a:ext cx="4511160" cy="923760"/>
            <a:chOff x="5457960" y="2351160"/>
            <a:chExt cx="4511160" cy="923760"/>
          </a:xfrm>
        </p:grpSpPr>
        <p:sp>
          <p:nvSpPr>
            <p:cNvPr id="260" name=""/>
            <p:cNvSpPr/>
            <p:nvPr/>
          </p:nvSpPr>
          <p:spPr>
            <a:xfrm>
              <a:off x="7869600" y="2351160"/>
              <a:ext cx="20995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d5b776"/>
                  </a:solidFill>
                  <a:latin typeface="Arial"/>
                </a:rPr>
                <a:t>Hierarchical frustum 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d5b776"/>
                  </a:solidFill>
                  <a:latin typeface="Arial"/>
                </a:rPr>
                <a:t>backface cu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457960" y="2687760"/>
              <a:ext cx="2271600" cy="587160"/>
            </a:xfrm>
            <a:prstGeom prst="line">
              <a:avLst/>
            </a:prstGeom>
            <a:ln w="25560">
              <a:solidFill>
                <a:srgbClr val="d5b77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65960" y="4079880"/>
            <a:ext cx="2255040" cy="1463760"/>
            <a:chOff x="165960" y="4079880"/>
            <a:chExt cx="2255040" cy="1463760"/>
          </a:xfrm>
        </p:grpSpPr>
        <p:sp>
          <p:nvSpPr>
            <p:cNvPr id="263" name=""/>
            <p:cNvSpPr/>
            <p:nvPr/>
          </p:nvSpPr>
          <p:spPr>
            <a:xfrm>
              <a:off x="165960" y="4079880"/>
              <a:ext cx="1557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d5b776"/>
                  </a:solidFill>
                  <a:latin typeface="Arial"/>
                </a:rPr>
                <a:t>Point rend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88920" y="4535640"/>
              <a:ext cx="1432080" cy="1008000"/>
            </a:xfrm>
            <a:prstGeom prst="line">
              <a:avLst/>
            </a:prstGeom>
            <a:ln w="25560">
              <a:solidFill>
                <a:srgbClr val="d5b77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88920" y="4535640"/>
              <a:ext cx="1432080" cy="252360"/>
            </a:xfrm>
            <a:prstGeom prst="line">
              <a:avLst/>
            </a:prstGeom>
            <a:ln w="25560">
              <a:solidFill>
                <a:srgbClr val="d5b77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550200" y="5457960"/>
            <a:ext cx="3454560" cy="1865160"/>
            <a:chOff x="6550200" y="5457960"/>
            <a:chExt cx="3454560" cy="1865160"/>
          </a:xfrm>
        </p:grpSpPr>
        <p:sp>
          <p:nvSpPr>
            <p:cNvPr id="267" name=""/>
            <p:cNvSpPr/>
            <p:nvPr/>
          </p:nvSpPr>
          <p:spPr>
            <a:xfrm>
              <a:off x="7983000" y="6777000"/>
              <a:ext cx="2021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d5b776"/>
                  </a:solidFill>
                  <a:latin typeface="Arial"/>
                </a:rPr>
                <a:t>Adjusted to maint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d5b776"/>
                  </a:solidFill>
                  <a:latin typeface="Arial"/>
                </a:rPr>
                <a:t>desired frame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550200" y="5457960"/>
              <a:ext cx="1033200" cy="1371600"/>
            </a:xfrm>
            <a:prstGeom prst="line">
              <a:avLst/>
            </a:prstGeom>
            <a:ln w="25560">
              <a:solidFill>
                <a:srgbClr val="d5b77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130800" y="3780000"/>
            <a:ext cx="3525840" cy="1091880"/>
            <a:chOff x="6130800" y="3780000"/>
            <a:chExt cx="3525840" cy="1091880"/>
          </a:xfrm>
        </p:grpSpPr>
        <p:sp>
          <p:nvSpPr>
            <p:cNvPr id="270" name=""/>
            <p:cNvSpPr/>
            <p:nvPr/>
          </p:nvSpPr>
          <p:spPr>
            <a:xfrm>
              <a:off x="8221680" y="3780000"/>
              <a:ext cx="1434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d5b776"/>
                  </a:solidFill>
                  <a:latin typeface="Arial"/>
                </a:rPr>
                <a:t>Level of det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d5b776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130800" y="4116240"/>
              <a:ext cx="2019600" cy="755640"/>
            </a:xfrm>
            <a:prstGeom prst="line">
              <a:avLst/>
            </a:prstGeom>
            <a:ln w="25560">
              <a:solidFill>
                <a:srgbClr val="d5b77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